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3812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4604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34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38120" y="8534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DA88-90BC-4E95-AC76-998A60B8F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are the costs – the sour grapes -- of collaboration (as I see or have experienced them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ALITY -- NEW RELATIONSHIPS WITH COLLEA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L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THER OR TO WHAT EXTENT WE ARE REALLY USER FOC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VIRT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ABILITY TO CHANGE OURSELVES &amp; lead or manage others to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goes without saying that benefits ought to exceed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….this isn’t always the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projects wis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projects will have some whining &amp; some cheeseless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eselessness indicates a need for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’t talk our way out of problems that we behave ourselves 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en there are signs of cheeselessness, offer ch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FORT &amp; SATISTFACTION CAN BE INCREA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partner’s potential or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oduction Capabi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ew their weaknesses with compassion, not accu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lize that they VOLUNTEER their hearts &amp; mi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you can’t afford to 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ping partners feel that they have direct or at least indirect control over their lives – set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ve direct control problems (our behavior) by changing our hab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ve indirect control problems (other people’s behavior) by changing our methods of infl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 no control problems (beyond our scope) with peaceful accep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ARING INFORMATION &amp; LIST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ear expectations lead to misunderstanding, disappointment &amp; withdrawal of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pictu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has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jects WILL CHANGE because of the gap between vision &amp;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ge will bring discomfort &amp; probably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eople ar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hange, train them in the new skill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y are able bu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will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hange, motivate them -- strong leadership &amp; management are required to apply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nsatisfied needs motivate peo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respond to CONSEQUENCES, not rheto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must change yourself first 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“inside-out” approa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personal &amp; interpersonal effectivenes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way we see the problem,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the problem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 see the world not as it is, but as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ar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key to valuing mental, emotional, psychological dif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 victories precede public victories of effective collabora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growth of Abundance Menta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decide how circumstances affect us. If feelings control our actions, we’ve abdicated responsibility to make decisions and empowered our emo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 is a function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bert Einstein: “The significant problems we face cannot be solved at the same level of thinking we were at when we created them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ERSHIP is value-driven, perspective expanding, well-informed sanctioning of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itor the environment &amp; provide the force necessary to organize resources in the right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als with the top line – what do we want to accomplish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rst things first -- Decide what “first things”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ment follows leadership ; Management is discipline, carrying it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als with the bottom line – how can we best accomplish certain things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ts first things first – daily b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ey to effective COMMUNICATION = seek first to understand, then to be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ARE communicates more eloquently than anything we 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ENING requires emotional strength, patience, openness and a willingness to understand – builds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phatic listening is not agreement, but emotional &amp; intellectual understanding of the other person’s frame of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ing that you need to listen &amp; how to listen is not enough.  You must WANT to li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ild TRUST with courtesy, kindness, honesty &amp; keeping commitments – trust brings out the best in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esty = conforming words to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ity = conforming reality 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ing everyone by the same set of principles – treat diff people the same by treating them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 the tal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loyal to those not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 positive, focused, flexible, organized &amp; proa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and sh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eloping the digital library and your Self means mapping blind alleys &amp; dead ends, as well as the path out of the maz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ing people develop their potential and grow requir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tience, nurturance &amp; encour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erson who is truly effective ha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umility &amp; rev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recognize” personal limit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 to appreciate the rich resources available through interaction with the hearts &amp; minds of other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of key points to remember about the benefits of collaboration &amp; how to reap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ember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ese is what we all w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t people like different kinds of ch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e is a metaphor for the benefits &amp; costs of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benefits are the sweet grap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enjoyable wine of li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osts are the sour grap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not so enjoyable whine of lif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“h” is silent but not in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stic mice look better on the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not to say that projects are rat race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en you have cheese, someone may try to take it from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’s better to give the cheese away than to have it sto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you give cheese, you get che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your cheese is stolen, you’re left cheesel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, moldy cheese is not good for you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will not comfort or satisfy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ve old cheese behind and go in search of new che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ge your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stand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T IMPORTANT LE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’t eat or be sour grap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’ll suffer the conseque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key to effective COMMUNICATION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ek first to understand, then to be underst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ember that how you behave communicates more eloquently than anything you S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lationship between project partners is one of the “parts” in the synergistic who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ther the most catalytic, empowering, unifying &amp; exciting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 the most damaging &amp; demoraliz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hat are you contribut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 you respecting differences, building on strengths, compensating for weakn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nge will happen because of the gap between vision &amp; re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leaders &amp; managers feed opportunities &amp; starve probl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’t become a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 prepared for change, to find comfort in new places &amp; relationshi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ge yourself first before you try to change a situ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ating people the same (integrity) means treating people differently – because they enjoy different che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a metaphor for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fort &amp; satisf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ived when all goes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eselessn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the metaphor for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comfort &amp; dissatisf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ived when things do not got so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from the dictionary &amp; from training on confli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ffective collaboration requires interdepende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turity Continu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ce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d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ce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d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dependence --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 combine our efforts &amp; abilities to create something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dependence requires independent people, leadership ability &amp; an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bundance Mental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there’s enough for everyone – share prestige, recognition, decision m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ink Win/Win – belief in a third altern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t’s not your way or my way but a better w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crease possibilities, options, alternatives, cre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S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have to CHANGE TO FIND CHE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y does collaboration involve chan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cause there’s a gap between the vision of a project &amp; the reality of implementing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y is there a gap between vision &amp; real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cause project proposals don’t foresee or articulate the implications of trying to get people with different backgrounds, habits &amp; cultures to collab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ill be unforeseen technical &amp; financial implications that require changing or fine-tuning the vision – which requires 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ople with different backgrounds, from different disciplines, cultures &amp; organizations, &amp; with different personalities &amp; habits are comfortable with different thing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y enjoy different ch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, detail, structure, thought process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 books talk abou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ER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the whole is greater than the sum of the p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lationship project partners have with each other is one of the “parts” in the who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ther the most catalytic, empowering, unifying &amp; exciting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 the most damaging &amp; demoraliz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ccess depends on SYNERGY.  The essence of SYNERGY = valuing differen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respect them, build on strengths, compensate for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 what are the benefits  -- the sweet grapes -- of collabor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as beauty is in the eye of the beholder, cheese is in the mouth of the e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 what I see as a benefit may not be what you see as a bene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it’s my talk &amp; I had to make some 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tried to choose wis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COLLEA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TER DECISIONS &amp; DELIVE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CHNOLOGY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HANCED APPRECIATION OF OTHER CUL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PORTUNITIES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VANCE THE DIGITAL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OVE OUR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ERCISE VIRT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OLVE AS A HUMAN BE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3E4-A1F5-4D22-8C2D-582620DC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31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731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770-3D51-40F1-A25A-3D01C58C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588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2C4-1705-4C96-8B49-B56EA294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0400" y="205740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03600" y="205740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0400" y="396792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03600" y="396792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E2D-39C6-4A26-B346-5E212259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891-E0FD-4842-B190-D3282DE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73F-541E-4BAB-B9CA-36511E3B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D70-1ECB-47EE-BDC6-8E7DB444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155-1980-4D6B-AC96-0FA7B190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2A7-6F66-4FC5-A140-DF209793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7B6-A81F-4664-94D8-77D7659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588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B8D-3B93-476A-B6B5-F966535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731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06C-C535-4D8B-B273-A5559C3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April 1, 2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Digital Library Federation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D102-B757-4D66-947E-6FED6AFE7C65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Denise A. Troll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ssistant University Librarian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Library Information Technology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Carnegie Mellon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troll@andrew.cmu.edu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2590920" cy="260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66680" y="914400"/>
            <a:ext cx="7134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af00db"/>
                    </a:gs>
                  </a:gsLst>
                  <a:lin ang="5400000"/>
                </a:gradFill>
                <a:latin typeface="Arial Black"/>
              </a:rPr>
              <a:t>Wine and Chees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af00d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001520" y="2286000"/>
            <a:ext cx="71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e Benefits and Costs of Collabora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Costs of Collaboration 1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omentary panic over who or how to spend the $$$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orale problems if team members aren’t team player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ower struggl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ersonality clash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ulture clash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908840" y="5029200"/>
          <a:ext cx="777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8840" y="5029200"/>
                    <a:ext cx="777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54680" y="76212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hining &amp; cheeselessnes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043-481F-494D-BD05-C8A74A471B2D}" type="slidenum">
              <a:t>10</a:t>
            </a:fld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Costs of Collaboration 2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ests of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whether user needs really drive the project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eadership, management &amp; rhetorical skill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atience, humility &amp; char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bility to chang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1880" y="76212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hining &amp; cheeselessnes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908840" y="5029200"/>
          <a:ext cx="777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8840" y="5029200"/>
                    <a:ext cx="777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824-A4B8-4B67-98EE-A66ED8FD0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Trade-offs 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828800"/>
          <a:ext cx="38084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3808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ome projects hav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ood benefits at low cost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reat benefits at great cost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reat cost for little benefit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ll have ambiguiti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hoose wisel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252-43B1-4ADD-8C4C-ECC09019B50A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igns of Cheeselessnes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7240" y="2057040"/>
            <a:ext cx="416412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oor communication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oor decision mak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Reduced trust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Reduced risk taking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creased effectiveness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vert block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vert undermin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57400"/>
            <a:ext cx="2819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rrit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nflic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utburst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ow moral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path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bsenteeism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15200" y="5372280"/>
          <a:ext cx="137160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5372280"/>
                    <a:ext cx="13716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47F-295F-4B49-B327-7DD8B7A79968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Offers of Chees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reat partners as best customer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eet the need to control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liminate surprises &amp; ambiguiti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stablish realistic expect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velop a complete pictur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idestep negativ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53352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Orchestrate Chan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B69-4FFA-4CAE-98B2-F46ACE8E93DA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Managing Chang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hange inevitably means discomfort &amp; resistance                                                      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esistance is a deficiency of either ability or willingness                                 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ck of ability can be remedied with training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ck of willingness can be remedied with consequences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o change a situation, we need to change ourselv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617-8D43-4D0A-807A-4608888D05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 1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rovide strong leadership &amp; management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Management deals with efficiency in climbing the ladder of success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eadership determines whether the ladder is leaning against the right wall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fficient management without effective leadership is like “straightening deck chairs on the Titanic”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057400"/>
            <a:ext cx="96228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DC4-7889-4AB9-93AC-7658804B7BF1}" type="slidenum">
              <a:t>16</a:t>
            </a:fld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 2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mmunicate effectivel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isten actively &amp; empathiz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Generate trust &amp; credibil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lay negative judgment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olerate ambiguity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Value divers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DDB-14AF-45FF-BB39-77D9D59EBAE9}" type="slidenum">
              <a:t>17</a:t>
            </a:fld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 3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Understand that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delivering everything proposed does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mean that the project failed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rack projects so that others can learn                       from publications &amp; present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elebrate milestones achieved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 patient, humble &amp; charitabl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287-C924-462A-AF62-7F743CDE859A}" type="slidenum">
              <a:t>18</a:t>
            </a:fld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heese is comfort food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91800" y="5257440"/>
            <a:ext cx="5357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ating cheese makes us happy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7" name="mice102" descr=""/>
          <p:cNvPicPr/>
          <p:nvPr/>
        </p:nvPicPr>
        <p:blipFill>
          <a:blip r:embed="rId1"/>
          <a:stretch/>
        </p:blipFill>
        <p:spPr>
          <a:xfrm>
            <a:off x="2778120" y="1828800"/>
            <a:ext cx="3586320" cy="334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16200" y="5335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B76-F225-482F-9BC2-746A98DD15DB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WINE -- a.k.a.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Benefits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   &amp;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osts of collaboration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WEET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OUR grap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Wine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Whine of lif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429000"/>
            <a:ext cx="485640" cy="824040"/>
          </a:xfrm>
          <a:prstGeom prst="downArrow">
            <a:avLst>
              <a:gd name="adj1" fmla="val 50000"/>
              <a:gd name="adj2" fmla="val 42420"/>
            </a:avLst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3429000"/>
            <a:ext cx="486000" cy="824040"/>
          </a:xfrm>
          <a:prstGeom prst="downArrow">
            <a:avLst>
              <a:gd name="adj1" fmla="val 50000"/>
              <a:gd name="adj2" fmla="val 42389"/>
            </a:avLst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4800600"/>
            <a:ext cx="97956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979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1905120"/>
            <a:ext cx="2362320" cy="4343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905120"/>
            <a:ext cx="4572000" cy="43434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B5E-F785-4615-BD27-BC3DB9F93751}" type="slidenum">
              <a:t>2</a:t>
            </a:fld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Give cheese to get chees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9520" y="4114800"/>
            <a:ext cx="8724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more cheese we give,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more cheese we get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heeselessness is the discomfort zon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1" name="miceStealingCheese" descr=""/>
          <p:cNvPicPr/>
          <p:nvPr/>
        </p:nvPicPr>
        <p:blipFill>
          <a:blip r:embed="rId1"/>
          <a:stretch/>
        </p:blipFill>
        <p:spPr>
          <a:xfrm>
            <a:off x="1428840" y="2438280"/>
            <a:ext cx="628632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F9E-37CB-44D9-9AA0-8EFBE0BB02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mell the cheese often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4800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Let go of old cheese to find new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beliefs do not lead to new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4" name="miceSMELLcheese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179-D51B-42B0-8AB2-5EB1E65B87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4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When you hear yourself saying: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Who moved my cheese?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’m entitled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to have my cheese moved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’m afraid to look for new cheese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’m going to wait here until they put the cheese back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Stop whining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861320" y="4952880"/>
          <a:ext cx="8254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1320" y="4952880"/>
                    <a:ext cx="825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5F7-09CE-4B8C-AF0D-7AAC9DE7F248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heck Your Attitud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124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eek first to understand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Value differenc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cept that change happe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12240" y="4800600"/>
            <a:ext cx="56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imes New Roman"/>
              </a:rPr>
              <a:t>The cheese WILL mov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57B-A0DC-43F0-B50E-6F3274696FAB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Look for new chees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14360" y="4266720"/>
            <a:ext cx="6515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t’s safer to move with the cheese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an remain in a cheeseless situation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6" name="miceHoboCheeseless" descr=""/>
          <p:cNvPicPr/>
          <p:nvPr/>
        </p:nvPicPr>
        <p:blipFill>
          <a:blip r:embed="rId1"/>
          <a:stretch/>
        </p:blipFill>
        <p:spPr>
          <a:xfrm>
            <a:off x="3755880" y="2133720"/>
            <a:ext cx="1632240" cy="18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AF5-155F-4F54-9D5B-C60CF4D27A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ONCLUSION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67000" y="4191120"/>
            <a:ext cx="621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e prepared for the cheese to mov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ove with the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ive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9" name="miceUpdown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94E-3C25-48CC-AD47-B090A1F67E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OURCE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ryl R. Conner. 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Managing at the Speed of Change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 Random House, Inc., 1992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tephen R. Covey. 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The 7 Habits of Highly Effective People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  Simon &amp; Schuster, 1990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pencer Johnson. 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Who Moved My Cheese?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G.P. Putnam’s Sons, 1998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Kenneth W. Thomas &amp; Ralph H. Kilmann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. Thomas-Kilmann Conflict Mode Instrument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  Xicom, Inc., 1974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2" name="miceTINYcheeseStick" descr=""/>
          <p:cNvPicPr/>
          <p:nvPr/>
        </p:nvPicPr>
        <p:blipFill>
          <a:blip r:embed="rId1"/>
          <a:stretch/>
        </p:blipFill>
        <p:spPr>
          <a:xfrm>
            <a:off x="8321760" y="5951520"/>
            <a:ext cx="365040" cy="2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942-9EB4-4FA8-9158-7C24C83E8AC6}" type="slidenum">
              <a:t>26</a:t>
            </a:fld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HEESE -- a.k.a.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200400"/>
            <a:ext cx="485640" cy="824040"/>
          </a:xfrm>
          <a:prstGeom prst="downArrow">
            <a:avLst>
              <a:gd name="adj1" fmla="val 50000"/>
              <a:gd name="adj2" fmla="val 42420"/>
            </a:avLst>
          </a:prstGeom>
          <a:solidFill>
            <a:srgbClr val="9900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200400"/>
            <a:ext cx="485640" cy="824040"/>
          </a:xfrm>
          <a:prstGeom prst="downArrow">
            <a:avLst>
              <a:gd name="adj1" fmla="val 50000"/>
              <a:gd name="adj2" fmla="val 42420"/>
            </a:avLst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Benefits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COMFORT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2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Times New Roman"/>
              </a:rPr>
              <a:t>Cheese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057400"/>
            <a:ext cx="4495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osts of Collaboration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DISCOMFORT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Times New Roman"/>
              </a:rPr>
              <a:t>Cheeselessness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905120"/>
            <a:ext cx="2743200" cy="403848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905120"/>
            <a:ext cx="4572000" cy="40384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30800" y="19810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&amp;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512-2F12-41DB-AFE4-742FC60143DA}" type="slidenum">
              <a:t>3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ollaboration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05740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orking together              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o accomplish intellectual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y finding solutions that ar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utually beneficial &amp; satisfying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7640" y="5002200"/>
            <a:ext cx="53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CHANGE to find cheese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050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Observation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roject proposals are typically apparitions of wine &amp; cheese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 reality, they entail some whining &amp; cheeselessness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7238880" y="4800600"/>
          <a:ext cx="15242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800600"/>
                    <a:ext cx="1524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E17-56BA-4AE2-8348-04B560B91F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Partner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mputer scientist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rchivist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ademic libraria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useum librarians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xhibit designer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For-profit organiz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Not for-profit organizations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7238880" y="4800600"/>
          <a:ext cx="15242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800600"/>
                    <a:ext cx="1524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39B-E7B3-4545-914A-FF6D75BC4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artners                             like different cheese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5334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Vocabular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evel of detail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Need for structur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olerance for ambigu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cision-making process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liefs, assumptions, percep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7238880" y="4800600"/>
          <a:ext cx="15242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800600"/>
                    <a:ext cx="1524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2F6-903E-402C-A603-D49E3518A6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Benefits of Collaboration 1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creased opportunities for fund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Relationships with new colleagu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tter decisions &amp; deliverabl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creased likelihood of technology transfer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nhanced appreciation of other cultur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7621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ine &amp; chees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877-2210-4EA0-9580-8668FCE31745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Benefits of Collaboration 2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pportunities to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earn &amp; develop new technologi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eet or exceed user needs &amp; expect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mprove leadership, management &amp; rhetorical skill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xercise virtu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hang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5760" y="7621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ine &amp; chees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CB4-C3F4-4CF5-A3E4-C6AB108C6D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00:29:35Z</dcterms:created>
  <dc:creator>Denise A. Troll</dc:creator>
  <dc:description/>
  <dc:language>en-US</dc:language>
  <cp:lastModifiedBy>Denise Troll</cp:lastModifiedBy>
  <cp:lastPrinted>2000-02-18T15:16:24Z</cp:lastPrinted>
  <dcterms:modified xsi:type="dcterms:W3CDTF">2000-04-01T01:57:00Z</dcterms:modified>
  <cp:revision>121</cp:revision>
  <dc:subject/>
  <dc:title>Sweet &amp; Sour Grapes</dc:title>
</cp:coreProperties>
</file>