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17.jpeg" ContentType="image/jpeg"/>
  <Override PartName="/ppt/media/image8.wmf" ContentType="image/x-wmf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E348-1B62-4F0E-BF67-3AB1AB82C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6 follow-up calls or ema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 copyrighted titles / 1106 = 30% of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3/326 = 16% foreign tit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ed owners of 218 titles  218/3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4 permission granted / 326 = 44% titles overall permission gra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4 permission granted / 218 = 66% titles overall permission gra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 / 114 copyright holders = 34% granted per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per print status – random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ose responding, equally like to get permission to digitize in-print or out-of-print boo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likely not to locate the publisher or get a response with out-of-print boo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ights management for use &amp; master co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available for harvesting &amp; available as separat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canner, two shifts daily = 16 books per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50 work days per y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n do project in 5 years                                                       even with de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 DPI TIFF (v5)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Fix post-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by Fine Reader OCR – English &amp; some fore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developing OCR – native languages &amp; 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, infrastructure, and conne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lin Core; digital registry; administrative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ing with Amaz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ing; generating &amp; approving lists of ti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A archiving is a path of equal value and greater convenience.   -- Peter Suber, May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y, graduate students, &amp; undergr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library loan is slow &amp; inconven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ck of speedy access affects graduate stud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ion of topics, work quality, &amp; gr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% of surface web information is appropriate for course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search engine indexes more than 16% of the surface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rch engine results are ranked by sponsor f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 they turn  to professors or classmates slightly more o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tize knowledge &amp; empower citizen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old, new, east, west, technical &amp; human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 research are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distribution, management, &amp; sustain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, copyright, &amp; digital rights man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of optical character recognition (OC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R of non-Romanic languages &amp; 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c creation of structural meta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c summ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t inde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hine 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age form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 eng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L = 50,000 titles; 5600 publishers x 78 = $436,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24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664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28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5752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2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28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5752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664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664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24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664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664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664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lobal Cooperation for Global Access:</a:t>
            </a: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Million Book Proje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5105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Librarian for Special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S 2004 – Antwerp, 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81480" y="3200400"/>
            <a:ext cx="38102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Permission Request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du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want to find information online, but use p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ine access increases use, even use of older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access does not decrease &amp; can increase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no revenue                                                                   from out-of-print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29200" y="4041720"/>
            <a:ext cx="38862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 &amp; Incen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n-exclu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ermission to digit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ut of print, in copyright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prior to a date of their choo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 #  or more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titles they pro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preservation standards &amp; copyrigh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&amp; save only one page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images, metadata, &amp; OC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$$$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– Preliminary – Statistic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1371600"/>
          <a:ext cx="5715000" cy="3548160"/>
        </p:xfrm>
        <a:graphic>
          <a:graphicData uri="http://schemas.openxmlformats.org/drawingml/2006/table">
            <a:tbl>
              <a:tblPr/>
              <a:tblGrid>
                <a:gridCol w="3657600"/>
                <a:gridCol w="2057400"/>
              </a:tblGrid>
              <a:tr h="91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ion Book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yright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wners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Owners respo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.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ccess - Respon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ccess - Conta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886200" y="2895480"/>
            <a:ext cx="485640" cy="914400"/>
          </a:xfrm>
          <a:prstGeom prst="upArrow">
            <a:avLst>
              <a:gd name="adj1" fmla="val 49676"/>
              <a:gd name="adj2" fmla="val 745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350532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2971800"/>
            <a:ext cx="486000" cy="1752480"/>
          </a:xfrm>
          <a:prstGeom prst="upArrow">
            <a:avLst>
              <a:gd name="adj1" fmla="val 49676"/>
              <a:gd name="adj2" fmla="val 14273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400800" y="1371600"/>
          <a:ext cx="2057400" cy="354816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n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yright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3661200" y="495288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 2003 – Ma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3200" y="5486400"/>
            <a:ext cx="6738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Many more follow up negotiations to b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on’t yet know number of ti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Rate Comparis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666880" y="1154160"/>
          <a:ext cx="6553440" cy="57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154160"/>
                    <a:ext cx="6553440" cy="57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28600" y="1295280"/>
          <a:ext cx="2438280" cy="514980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ased on respon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olarly associ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p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al publis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hors/Est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590920" y="53020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4640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354960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62404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5987880"/>
            <a:ext cx="228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Reg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gistry of reproductions of books &amp; journals                   digitized or queued for dig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educe du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More access for less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gistry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ntent to preserve &amp; make accessible in entir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mpliance with standards &amp; best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ofessionally managed storage &amp; main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Use copy available for public a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48520" y="219240"/>
            <a:ext cx="2685960" cy="39024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6858000" y="685800"/>
            <a:ext cx="2133720" cy="685800"/>
            <a:chOff x="6858000" y="685800"/>
            <a:chExt cx="2133720" cy="685800"/>
          </a:xfrm>
        </p:grpSpPr>
        <p:sp>
          <p:nvSpPr>
            <p:cNvPr id="123" name=""/>
            <p:cNvSpPr/>
            <p:nvPr/>
          </p:nvSpPr>
          <p:spPr>
            <a:xfrm>
              <a:off x="7086600" y="685800"/>
              <a:ext cx="1828800" cy="685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6858000" y="761760"/>
              <a:ext cx="2133720" cy="50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6936840" y="297180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31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quisitions &amp; Shi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s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righted books – OCLC locating in partner libra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copyright – weeding; depositories;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ons learned from pilot shipment to I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cost to $1 per boo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trip by changing p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time by distributed shipp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knowing cus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ons learned working with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 &amp; content issues initially prohibited shipp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ning centers declared free enterprise zones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248520" y="228600"/>
          <a:ext cx="2666880" cy="17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28600"/>
                    <a:ext cx="266688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data &amp; Digit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s scan &amp; post-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ve average 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0 books per year per scann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wo shifts per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,000 books per year with 100 scan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ians capture meta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ographic: MARC or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ve: copyright permission                                                            &amp; source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997600" y="1371600"/>
            <a:ext cx="2917800" cy="1943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553080" y="4710240"/>
            <a:ext cx="236232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stain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standards will enable mi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s committed to host the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Arch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OC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to have ten mirror sit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d cost is one million dolla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d size is 20 tera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1600200"/>
            <a:ext cx="6096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ersity of California at Mer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L of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939000" y="3429000"/>
            <a:ext cx="1976400" cy="2830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980040" y="62625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wster Kah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&amp; 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ng with Amazon.com for print on dem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ing workflow &amp; processing the backlo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ing acquisition &amp; ship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ng the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ing the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right permission 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57800" y="4471920"/>
            <a:ext cx="36576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4800" y="380880"/>
            <a:ext cx="6134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95560" y="182880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95400" y="5943600"/>
            <a:ext cx="71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se Troll Covey – troll@andrew.cmu.e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267080"/>
            <a:ext cx="9144000" cy="20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llion Book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ize &amp; provide open access to a million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on, leadership, &amp; research – Carnegie Mell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$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Equipment &amp; travel – NS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$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Labor &amp; research – India &amp;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2560" y="4267080"/>
            <a:ext cx="6139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mpt to understand &amp; sol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echnical, economic, &amp; social poli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sues of providing online acc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all creative works of the human race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904080" y="3886200"/>
            <a:ext cx="2011320" cy="2395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240680" y="62625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j Red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Surveys of Students &amp; Facul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want convenient, speedy, easy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thing they want mor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1% want remote access to full-text e-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wer than half think                                                              the library meets these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8% start with Google                                               or other Internet search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2160" y="3505320"/>
            <a:ext cx="207324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77800" y="626256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riana St. Cl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Surveys of Undergradu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6% believe surface web information is adequ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% use an Internet search eng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8% believe library web site information is inf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6% use online resources                                                     all or most of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iciency is more important                                            than relev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792840" y="3581280"/>
            <a:ext cx="212256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942240" y="626256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ael Sh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negie Mellon Graduate Stud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2% start with an Internet search eng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information from the web is at least twice as easy as getting it from library e-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library e-resources is about as convenient as getting information from professors or classmates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% often can’t get information                                         when they need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print books &amp; old jou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248520" y="462924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Signific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meet the need for convenient, speedy, easy, remote access to quality academic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disparity in library size &amp; accessi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cratize &amp; facilitate new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digital library resea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e herit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943600" y="4649760"/>
            <a:ext cx="29718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 of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librarians select &amp; partners w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oks for College Libraries (BC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ltural arti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ernment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e can acqui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, cheap, f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480" y="2895480"/>
            <a:ext cx="229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 2001 – NS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78800" y="626256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ael L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234120" y="3697200"/>
            <a:ext cx="2681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ing Copyright Permission                            for Open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388584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success: improved request letter, prompt   follow up, nature of collection, &amp; ability to 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ersity presses, scholarly associations, &amp; estates are more likely than commercial presses to grant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cost of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$78 per vol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oo expens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04920" y="1676520"/>
          <a:ext cx="8686800" cy="1949400"/>
        </p:xfrm>
        <a:graphic>
          <a:graphicData uri="http://schemas.openxmlformats.org/drawingml/2006/table">
            <a:tbl>
              <a:tblPr/>
              <a:tblGrid>
                <a:gridCol w="2743200"/>
                <a:gridCol w="2057400"/>
                <a:gridCol w="2057400"/>
                <a:gridCol w="1828800"/>
              </a:tblGrid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se rate per conta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cess rate per respon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cess rate per conta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dom boo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ner fine books </a:t>
                      </a: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*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ift from Per Title to Per Publis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92200" y="4572000"/>
            <a:ext cx="3574080" cy="1739880"/>
            <a:chOff x="592200" y="4572000"/>
            <a:chExt cx="3574080" cy="1739880"/>
          </a:xfrm>
        </p:grpSpPr>
        <p:grpSp>
          <p:nvGrpSpPr>
            <p:cNvPr id="78" name=""/>
            <p:cNvGrpSpPr/>
            <p:nvPr/>
          </p:nvGrpSpPr>
          <p:grpSpPr>
            <a:xfrm>
              <a:off x="592200" y="5791320"/>
              <a:ext cx="3574080" cy="520560"/>
              <a:chOff x="592200" y="5791320"/>
              <a:chExt cx="3574080" cy="520560"/>
            </a:xfrm>
          </p:grpSpPr>
          <p:sp>
            <p:nvSpPr>
              <p:cNvPr id="79" name=""/>
              <p:cNvSpPr/>
              <p:nvPr/>
            </p:nvSpPr>
            <p:spPr>
              <a:xfrm>
                <a:off x="592200" y="586764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972720" y="5791320"/>
                <a:ext cx="3193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digenous Material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92200" y="5181840"/>
              <a:ext cx="2705400" cy="520560"/>
              <a:chOff x="592200" y="5181840"/>
              <a:chExt cx="2705400" cy="520560"/>
            </a:xfrm>
          </p:grpSpPr>
          <p:sp>
            <p:nvSpPr>
              <p:cNvPr id="82" name=""/>
              <p:cNvSpPr/>
              <p:nvPr/>
            </p:nvSpPr>
            <p:spPr>
              <a:xfrm>
                <a:off x="592200" y="525816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2f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74160" y="5181840"/>
                <a:ext cx="232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Public Domai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592200" y="4572000"/>
              <a:ext cx="2391840" cy="520560"/>
              <a:chOff x="592200" y="4572000"/>
              <a:chExt cx="2391840" cy="520560"/>
            </a:xfrm>
          </p:grpSpPr>
          <p:sp>
            <p:nvSpPr>
              <p:cNvPr id="85" name=""/>
              <p:cNvSpPr/>
              <p:nvPr/>
            </p:nvSpPr>
            <p:spPr>
              <a:xfrm>
                <a:off x="592200" y="4647960"/>
                <a:ext cx="380880" cy="381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973080" y="4572000"/>
                <a:ext cx="201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 Copyrigh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398520" y="1295280"/>
            <a:ext cx="3716280" cy="3498840"/>
            <a:chOff x="398520" y="1295280"/>
            <a:chExt cx="3716280" cy="3498840"/>
          </a:xfrm>
        </p:grpSpPr>
        <p:graphicFrame>
          <p:nvGraphicFramePr>
            <p:cNvPr id="88" name=""/>
            <p:cNvGraphicFramePr/>
            <p:nvPr/>
          </p:nvGraphicFramePr>
          <p:xfrm>
            <a:off x="398520" y="1509840"/>
            <a:ext cx="3716280" cy="32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8520" y="1509840"/>
                      <a:ext cx="3716280" cy="32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"/>
            <p:cNvSpPr/>
            <p:nvPr/>
          </p:nvSpPr>
          <p:spPr>
            <a:xfrm>
              <a:off x="1635840" y="1295280"/>
              <a:ext cx="12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86000" y="1322280"/>
            <a:ext cx="8381880" cy="5589360"/>
            <a:chOff x="2286000" y="1322280"/>
            <a:chExt cx="8381880" cy="5589360"/>
          </a:xfrm>
        </p:grpSpPr>
        <p:grpSp>
          <p:nvGrpSpPr>
            <p:cNvPr id="92" name=""/>
            <p:cNvGrpSpPr/>
            <p:nvPr/>
          </p:nvGrpSpPr>
          <p:grpSpPr>
            <a:xfrm>
              <a:off x="2286000" y="1322280"/>
              <a:ext cx="8381880" cy="5589360"/>
              <a:chOff x="2286000" y="1322280"/>
              <a:chExt cx="8381880" cy="5589360"/>
            </a:xfrm>
          </p:grpSpPr>
          <p:graphicFrame>
            <p:nvGraphicFramePr>
              <p:cNvPr id="93" name=""/>
              <p:cNvGraphicFramePr/>
              <p:nvPr/>
            </p:nvGraphicFramePr>
            <p:xfrm>
              <a:off x="2286000" y="1392840"/>
              <a:ext cx="8381880" cy="5518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0" y="1392840"/>
                        <a:ext cx="8381880" cy="551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5" name=""/>
              <p:cNvSpPr/>
              <p:nvPr/>
            </p:nvSpPr>
            <p:spPr>
              <a:xfrm>
                <a:off x="5673960" y="1322280"/>
                <a:ext cx="1605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Curren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4484160" y="4267080"/>
              <a:ext cx="404712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quires 18% success rat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ith BCL publisher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 500 books ea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05:05:19Z</dcterms:created>
  <dc:creator>covey</dc:creator>
  <dc:description/>
  <dc:language>en-US</dc:language>
  <cp:lastModifiedBy>covey</cp:lastModifiedBy>
  <dcterms:modified xsi:type="dcterms:W3CDTF">2004-05-03T17:26:59Z</dcterms:modified>
  <cp:revision>71</cp:revision>
  <dc:subject/>
  <dc:title>Slide 1</dc:title>
</cp:coreProperties>
</file>