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93C8-9854-49E5-903C-ADCF40225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6 follow-up calls or em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 copyrighted titles / 1106 = 30% of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/326 = 16% foreign ti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ed owners of 218 titles  218/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 permission granted / 326 = 44% titles overall permission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4 permission granted / 218 = 66% titles overall permission gra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 / 114 copyright holders = 34% granted per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ights management for use &amp; master 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available for harvesting &amp; available as separat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canner, two shifts daily = 16 book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0 work days per y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do project in 5 years                                                       even with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 DPI TIFF (v5)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Fix 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y Fine Reader OCR – English &amp; some fo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veloping OCR – native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, infrastructure,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; digital registry; administrative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ing with Amaz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; generating &amp; approving lists of ti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 archiving is a path of equal value and greater convenience.   -- Peter Suber, Ma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, graduate students, &amp; undergr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library loan is slow &amp; inconven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k of speedy access affects graduate stud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ion of topics, work quality, &amp; gr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% of surface web information is appropriate for cours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search engine indexes more than 16% of the surfac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 engine results are ranked by sponsor f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 they turn  to professors or classmates slightly mor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ize knowledge &amp; empower citizen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old, new, east, west, technical &amp; human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 research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distribution, management, &amp; 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, copyright, &amp; digital right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optical character recognition (O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R of non-Romanic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creation of structural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inde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L = 50,000 titles; 5600 publishers x 78 = $436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66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752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752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664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64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lobal Cooperation for Global Access: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Million Book Proj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 2004 – Antwerp, 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Permission Request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want to find information online, but use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access increases use, even use of old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ccess does not decrease &amp; can increas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no revenue                                                                   from out-of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4041720"/>
            <a:ext cx="3886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ermission to digit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ut of print, in 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servation standards &amp;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&amp; save only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mages, metadata, &amp; OC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– Preliminary – Statist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371600"/>
          <a:ext cx="5715000" cy="3548160"/>
        </p:xfrm>
        <a:graphic>
          <a:graphicData uri="http://schemas.openxmlformats.org/drawingml/2006/table">
            <a:tbl>
              <a:tblPr/>
              <a:tblGrid>
                <a:gridCol w="3657600"/>
                <a:gridCol w="2057400"/>
              </a:tblGrid>
              <a:tr h="91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 Book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- Respon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- Conta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886200" y="2895480"/>
            <a:ext cx="485640" cy="914400"/>
          </a:xfrm>
          <a:prstGeom prst="upArrow">
            <a:avLst>
              <a:gd name="adj1" fmla="val 49676"/>
              <a:gd name="adj2" fmla="val 745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5053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2971800"/>
            <a:ext cx="486000" cy="1752480"/>
          </a:xfrm>
          <a:prstGeom prst="upArrow">
            <a:avLst>
              <a:gd name="adj1" fmla="val 49676"/>
              <a:gd name="adj2" fmla="val 1427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00800" y="1371600"/>
          <a:ext cx="2057400" cy="35481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661200" y="4952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 2003 – Ma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3200" y="5486400"/>
            <a:ext cx="6738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any more follow up negotiations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on’t yet know number of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Rate Comparis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666880" y="1154160"/>
          <a:ext cx="6553440" cy="57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154160"/>
                    <a:ext cx="6553440" cy="57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8600" y="1295280"/>
          <a:ext cx="2438280" cy="51498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sed on respon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s/E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590920" y="53020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4640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5496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62404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98788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gistry of reproductions of books &amp; journals                   digitized or queued for dig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duce du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ore access for less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gistry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tent to preserve &amp; make accessible in entir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mpliance with standards &amp; bes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fessionally managed storage &amp;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se copy available for public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219240"/>
            <a:ext cx="2685960" cy="39024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6858000" y="685800"/>
            <a:ext cx="2133720" cy="685800"/>
            <a:chOff x="6858000" y="685800"/>
            <a:chExt cx="2133720" cy="685800"/>
          </a:xfrm>
        </p:grpSpPr>
        <p:sp>
          <p:nvSpPr>
            <p:cNvPr id="123" name=""/>
            <p:cNvSpPr/>
            <p:nvPr/>
          </p:nvSpPr>
          <p:spPr>
            <a:xfrm>
              <a:off x="7086600" y="685800"/>
              <a:ext cx="1828800" cy="685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858000" y="761760"/>
              <a:ext cx="2133720" cy="5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6936840" y="29718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31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quisitions &amp; Shi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ed books – OCLC locating in partner libra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copyright – weeding; depositories; dupl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 learned from pilot shipment to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cost to $1 per boo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trip by changing 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ime by distributed shipp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knowing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 learned working with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 &amp; content issues initially prohibited shi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centers declared free enterprise zones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248520" y="228600"/>
          <a:ext cx="2666880" cy="17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28600"/>
                    <a:ext cx="266688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 &amp; Digi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scan &amp; post-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average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 books per year per scan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wo shifts pe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,000 books per year with 100 sc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ans capture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phic: MARC or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: copyright permission                                                            &amp; sourc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97600" y="1371600"/>
            <a:ext cx="291780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553080" y="4710240"/>
            <a:ext cx="23623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tai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standards will enable mi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s committed to host th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OC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have ten mirror sit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cost is one million dolla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size is 20 ter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1600200"/>
            <a:ext cx="6096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of California at Me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L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939000" y="3429000"/>
            <a:ext cx="1976400" cy="283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980040" y="62625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wster Kah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&amp; 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ng with Amazon.com for print on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workflow &amp; processing the back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ng acquisition &amp; ship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ng th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permission 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4471920"/>
            <a:ext cx="36576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95400" y="5943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267080"/>
            <a:ext cx="91440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ize &amp; provide open access to a million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on, leadership, &amp; research – Carnegie Mel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quipment &amp; travel – N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abor &amp; research – India &amp;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2560" y="4267080"/>
            <a:ext cx="6139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 to understand &amp; sol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echnical, economic, &amp; social poli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of providing online ac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all creative works of the human rac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904080" y="3886200"/>
            <a:ext cx="2011320" cy="239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240680" y="62625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 Red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Surveys of Students &amp; Facu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want convenient, speedy, easy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thing they want mor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1% want remote access to full-text e-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wer than half think                                                              the library meets thes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% start with Google                                               or other Internet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2160" y="3505320"/>
            <a:ext cx="207324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77800" y="62625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riana St. C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Surveys of Undergradu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believe surface web information is 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% use an Internet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% believe library web site information is inf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% use online resources                                                     all or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 is more important                                            than 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92840" y="3581280"/>
            <a:ext cx="21225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42240" y="62625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Sh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negie Mellon 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% start with an Internet search eng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from the web is at least twice as easy as getting it from library e-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library e-resources is about as convenient as getting information from professors or classmates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% often can’t get information                                         when they need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print books &amp; old 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meet the need for convenient, speedy, easy, remote access to quality academic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disparity in library size &amp; acces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atize &amp; facilitate new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digital library re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heri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43600" y="4649760"/>
            <a:ext cx="29718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ibrarians select &amp; partners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 (B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al arti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can acqu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, cheap, f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480" y="28954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 2001 – NS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78800" y="62625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L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34120" y="3697200"/>
            <a:ext cx="2681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ing Copyright Permission                            for Open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38858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success: improved request letter, prompt   follow up, nature of collection, &amp; ability to 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ity presses, scholarly associations, &amp; estates are more likely than commercial presses to grant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cost of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$78 per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o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1676520"/>
          <a:ext cx="8686800" cy="1949400"/>
        </p:xfrm>
        <a:graphic>
          <a:graphicData uri="http://schemas.openxmlformats.org/drawingml/2006/table">
            <a:tbl>
              <a:tblPr/>
              <a:tblGrid>
                <a:gridCol w="2743200"/>
                <a:gridCol w="2057400"/>
                <a:gridCol w="2057400"/>
                <a:gridCol w="1828800"/>
              </a:tblGrid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 rate per conta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 rate per respon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 rate per conta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 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fine books </a:t>
                      </a: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*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 from Per Title to Per Publis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92200" y="4572000"/>
            <a:ext cx="3574080" cy="1739880"/>
            <a:chOff x="592200" y="4572000"/>
            <a:chExt cx="3574080" cy="1739880"/>
          </a:xfrm>
        </p:grpSpPr>
        <p:grpSp>
          <p:nvGrpSpPr>
            <p:cNvPr id="78" name=""/>
            <p:cNvGrpSpPr/>
            <p:nvPr/>
          </p:nvGrpSpPr>
          <p:grpSpPr>
            <a:xfrm>
              <a:off x="592200" y="5791320"/>
              <a:ext cx="3574080" cy="520560"/>
              <a:chOff x="592200" y="5791320"/>
              <a:chExt cx="3574080" cy="520560"/>
            </a:xfrm>
          </p:grpSpPr>
          <p:sp>
            <p:nvSpPr>
              <p:cNvPr id="79" name=""/>
              <p:cNvSpPr/>
              <p:nvPr/>
            </p:nvSpPr>
            <p:spPr>
              <a:xfrm>
                <a:off x="592200" y="58676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72720" y="579132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92200" y="5181840"/>
              <a:ext cx="2705400" cy="520560"/>
              <a:chOff x="592200" y="5181840"/>
              <a:chExt cx="2705400" cy="520560"/>
            </a:xfrm>
          </p:grpSpPr>
          <p:sp>
            <p:nvSpPr>
              <p:cNvPr id="82" name=""/>
              <p:cNvSpPr/>
              <p:nvPr/>
            </p:nvSpPr>
            <p:spPr>
              <a:xfrm>
                <a:off x="59220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74160" y="518184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92200" y="4572000"/>
              <a:ext cx="2391840" cy="520560"/>
              <a:chOff x="592200" y="4572000"/>
              <a:chExt cx="2391840" cy="520560"/>
            </a:xfrm>
          </p:grpSpPr>
          <p:sp>
            <p:nvSpPr>
              <p:cNvPr id="85" name=""/>
              <p:cNvSpPr/>
              <p:nvPr/>
            </p:nvSpPr>
            <p:spPr>
              <a:xfrm>
                <a:off x="592200" y="464796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73080" y="457200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398520" y="1295280"/>
            <a:ext cx="3716280" cy="3498840"/>
            <a:chOff x="398520" y="1295280"/>
            <a:chExt cx="3716280" cy="3498840"/>
          </a:xfrm>
        </p:grpSpPr>
        <p:graphicFrame>
          <p:nvGraphicFramePr>
            <p:cNvPr id="88" name=""/>
            <p:cNvGraphicFramePr/>
            <p:nvPr/>
          </p:nvGraphicFramePr>
          <p:xfrm>
            <a:off x="398520" y="150984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50984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1635840" y="129528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0" y="1322280"/>
            <a:ext cx="8381880" cy="5589360"/>
            <a:chOff x="2286000" y="1322280"/>
            <a:chExt cx="8381880" cy="5589360"/>
          </a:xfrm>
        </p:grpSpPr>
        <p:grpSp>
          <p:nvGrpSpPr>
            <p:cNvPr id="92" name=""/>
            <p:cNvGrpSpPr/>
            <p:nvPr/>
          </p:nvGrpSpPr>
          <p:grpSpPr>
            <a:xfrm>
              <a:off x="2286000" y="1322280"/>
              <a:ext cx="8381880" cy="5589360"/>
              <a:chOff x="2286000" y="1322280"/>
              <a:chExt cx="8381880" cy="5589360"/>
            </a:xfrm>
          </p:grpSpPr>
          <p:graphicFrame>
            <p:nvGraphicFramePr>
              <p:cNvPr id="93" name=""/>
              <p:cNvGraphicFramePr/>
              <p:nvPr/>
            </p:nvGraphicFramePr>
            <p:xfrm>
              <a:off x="2286000" y="1392840"/>
              <a:ext cx="8381880" cy="551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0" y="1392840"/>
                        <a:ext cx="8381880" cy="551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5" name=""/>
              <p:cNvSpPr/>
              <p:nvPr/>
            </p:nvSpPr>
            <p:spPr>
              <a:xfrm>
                <a:off x="5673960" y="1322280"/>
                <a:ext cx="160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urren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484160" y="4267080"/>
              <a:ext cx="404712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quires 18% success rat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ith BCL publisher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 500 books ea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5:05:19Z</dcterms:created>
  <dc:creator>covey</dc:creator>
  <dc:description/>
  <dc:language>en-US</dc:language>
  <cp:lastModifiedBy>covey</cp:lastModifiedBy>
  <dcterms:modified xsi:type="dcterms:W3CDTF">2004-05-03T17:26:59Z</dcterms:modified>
  <cp:revision>71</cp:revision>
  <dc:subject/>
  <dc:title>Slide 1</dc:title>
</cp:coreProperties>
</file>