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58840" y="690120"/>
            <a:ext cx="46022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2D18-063C-459F-A6EA-7B27C7D61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work of innovative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work of innovative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6 departments + Pitt peo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y want to archive courses in BlackBoard &amp; e-learning ob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table discussion with invited faculty, Libraries, &amp; Computing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cost: avoid multimedia, data sets, &amp; legacy (at risk) form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lay between deployment strategies (focus) &amp; incentives for adoption (e.g., overlay journ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ize initial investment by avoiding multimedia, large data sets, &amp; legacy (at risk) form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publisher prohibits archiving journal article, ancillary materials must be preserved in 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of 45 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access, use, &amp;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&amp; hardware indepe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ctivity that reduces research &amp; writ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 clerical responsi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faculty have the right to self–archive, many don’t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do not distinguish distractions from prolonged attemp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metadata entry &amp; submission of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ype of content to be depo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metadata fields appropriate for type of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providing mandatory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 multi–session deposits &amp; ed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 multiple auth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ive Commons or click–through licen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h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ston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a Digital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sland University of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with early adopters to design user interfaces &amp; tools tha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 value &amp; sav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from them to their collea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targets: research centers, retiring faculty, faculty with many publications, particular publications (e.g., gray literatur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y &amp; administrators need different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ing, harvesting, training, support, &amp; p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a Digital Libr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ston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ston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sland University of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system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submission procedu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-text searc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fficient commitment of institutional resources – human &amp; finan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&amp; inter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ULD IT T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nce of responsibility &amp; commitment of re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on, infrastructure, standards, &amp; poli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barrier to 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&amp; inter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ULD IT T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nce of responsibility &amp; commitment of re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on, infrastructure, standards, &amp; poli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barrier to 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repository will be a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focus on provost’s conc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ervices: software &amp; infra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: metadata, information architecture, &amp; support for content providers &amp;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work of innovative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work of innovative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stures of Persuasion: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ding Facult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an Institutional Reposi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42720" y="495252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Librarian for Special Projects, Carnegie Me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 Conference – Chicago, ILL – June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87560" y="2895480"/>
            <a:ext cx="336888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 2004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alk Honestl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it cos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art up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$10,000–$50,000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for servers &amp;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: $285,000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LY NEW $$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full–time programmer @ $70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staff can digitize materials; convert files; provide system management, training &amp; support;   design metadata &amp; interfaces – maybe service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s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culty / staff newspa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562720" y="4714920"/>
            <a:ext cx="3429000" cy="1990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029200" y="3505320"/>
            <a:ext cx="3962520" cy="3124080"/>
          </a:xfrm>
          <a:prstGeom prst="wedgeRectCallout">
            <a:avLst>
              <a:gd name="adj1" fmla="val -79689"/>
              <a:gd name="adj2" fmla="val -66615"/>
            </a:avLst>
          </a:prstGeom>
          <a:solidFill>
            <a:srgbClr val="ff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ts have an incredible sense of smell.         Here’s where they    might have first sniffed       the scent of competition for provost doll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 2004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eware of Mood Swing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ce, curiosity, inte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y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holarly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ate will co–sponsor                                                                 Open Town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enate in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32600" y="3733920"/>
            <a:ext cx="285912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029200" y="1143000"/>
            <a:ext cx="3962520" cy="3048120"/>
          </a:xfrm>
          <a:prstGeom prst="wedgeRectCallout">
            <a:avLst>
              <a:gd name="adj1" fmla="val -65703"/>
              <a:gd name="adj2" fmla="val 75259"/>
            </a:avLst>
          </a:prstGeom>
          <a:solidFill>
            <a:srgbClr val="ff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ough a solitary species, cats can &amp; do                      live in groups,                     where they are subject  to territorial &amp; protective agg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r 2004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rge Herd, Long Tr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own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, interests, definition, benefits, software, costs, work, barriers, self–archi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o should steward assets?  What prio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out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attendance &amp; varying level of inte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novativ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ages &amp; multi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ed 5 year vision of 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715000" y="4788000"/>
            <a:ext cx="3276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l–Aug 2004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am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nterprise system meets our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333300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tical plans must align with strategic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division of lab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ing Services: software &amp;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ies: info architecture, metadata, &amp;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repository 2005–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couple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4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engaging v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58080" y="630864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uting Servi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15000" y="4422600"/>
            <a:ext cx="32767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410160" y="2286000"/>
            <a:ext cx="2581560" cy="1506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g 2004–present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the Trail Agai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us–wide Web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management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campus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us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– di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&amp;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76920" y="3875040"/>
            <a:ext cx="411480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86600" y="380988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ct 2004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the Trai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Cliff Lync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scussion with invited facul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services, not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 wisely &amp; meet real n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ied understanding of challenges                                &amp; financial impact of strategic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ghts &amp; copyright infri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ndards &amp;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urpose, functionality, &amp; relationship between IR, content management, &amp; cours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96160" y="1905120"/>
            <a:ext cx="20955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n 2005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huck Wagon Gets A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$90,000 for IR in 2005–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0,000 for servers &amp;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70,000 for permanent, full–time progra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: Provost says “N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 faculty problems would be addressed by an 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 faculty are requesting an 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Decide to pilot IR                                                   with existing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562720" y="4754520"/>
            <a:ext cx="3429000" cy="1951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4120" y="1600200"/>
            <a:ext cx="3657600" cy="1600200"/>
          </a:xfrm>
          <a:prstGeom prst="wedgeRectCallout">
            <a:avLst>
              <a:gd name="adj1" fmla="val -37370"/>
              <a:gd name="adj2" fmla="val 84523"/>
            </a:avLst>
          </a:prstGeom>
          <a:solidFill>
            <a:srgbClr val="ff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inant cats      prefer not to confront subordinate c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anchers’ Round–U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success = content searched &amp; c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IRs are small, cost per item is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1,250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IR (4000 documents): $71 per doc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&amp; services                                                      of IR are not aligned                                                 with faculty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19720" y="4079880"/>
            <a:ext cx="457200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nd Set of the He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ed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, contractual agreements, &amp;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required to self–arch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support for how they find, use, organize, create, &amp; disseminate digital schola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for authoring, collaborating,                            &amp; managing content &amp;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wardship &amp; pre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400800" y="4727520"/>
            <a:ext cx="259092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ak the Language of the He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their concerns without jar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intain ownership,” “No worries about backups,” “Easier than maintaining a web site,” “It’s like Google,” “No broken UR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about creating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ers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ositories               &amp; empowering scholarly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commun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case them                                                         &amp; thei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them to create                                                       &amp; name coll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562720" y="4613400"/>
            <a:ext cx="3429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attempts to herd fa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that got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ranchers’ round-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attempts to herd fa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4381560"/>
            <a:ext cx="40388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unk Myth of Self–Arch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ercep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rden outweighs the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alit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tive researchers spend 40 minutes       a year entering meta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per article: 5 minutes, 37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per article: 10 minutes, 40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hrinks as user deposits more mater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% authors have problems depositing 1st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% have problems with subsequent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OI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0% increase in c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de Incen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facul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wn &amp; control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asy deposit &amp; ac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&amp; promot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sefu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a colleague,” “Notify me,” “Paper of the d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 by collection, department, center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s for authors &amp;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, backups, &amp; pre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tracking &amp; l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text sear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705720" y="4664160"/>
            <a:ext cx="2286000" cy="2041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4120" y="228600"/>
            <a:ext cx="3657600" cy="2514600"/>
          </a:xfrm>
          <a:prstGeom prst="wedgeRectCallout">
            <a:avLst>
              <a:gd name="adj1" fmla="val 564"/>
              <a:gd name="adj2" fmla="val 65657"/>
            </a:avLst>
          </a:prstGeom>
          <a:solidFill>
            <a:srgbClr val="ff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ts can                              hear 3 times better, see 10 times better,     &amp; smell 14 times better than mere hum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5–06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actical Pilot 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on, requirements, workflow, &amp; business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 DSpace +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0+ Carnegie Mellon technical repo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from any facu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 experiment with e–portfol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awareness: 36% are unaware of self–archi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 development to needs &amp; wants of early adop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retiring faculty, faculty with “green” publications,     &amp; open–access friendly constit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1828800"/>
            <a:ext cx="3657600" cy="2514600"/>
          </a:xfrm>
          <a:prstGeom prst="wedgeRectCallout">
            <a:avLst>
              <a:gd name="adj1" fmla="val -87805"/>
              <a:gd name="adj2" fmla="val -24620"/>
            </a:avLst>
          </a:prstGeom>
          <a:solidFill>
            <a:srgbClr val="ff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rds will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uch more readily &amp; eagerly than they will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r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with a lot less           energy expen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06–07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rategic Production 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arner institutio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teward intellectual ass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oli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elf–archi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faculty reward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self–archi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ard innovative wor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prise softwar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105520" y="4375080"/>
            <a:ext cx="388620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51051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Librarian for Speci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egie Me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ll@andrew.cm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353040" cy="2847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3520" y="2133720"/>
            <a:ext cx="4343400" cy="2590560"/>
          </a:xfrm>
          <a:prstGeom prst="wedgeRectCallout">
            <a:avLst>
              <a:gd name="adj1" fmla="val 85819"/>
              <a:gd name="adj2" fmla="val -28861"/>
            </a:avLst>
          </a:prstGeom>
          <a:solidFill>
            <a:srgbClr val="ff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est way to move           a herd is patiently &amp; slowly. If they move too slowly,           get closer, but beware             of entering their flight zo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p–Oct 2003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ngage the Herd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ians contact academic depar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concepts, services &amp; benefits of 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cit feedback to gauge faculty issues &amp;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e about content &amp; user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departments respon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content types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minimu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92800" y="3886200"/>
            <a:ext cx="2698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v 2003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rt to Move the He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o we need an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institutional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reposi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IR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to store, organize, preserve, &amp; provide access                                to scholarly (digital)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stitutionall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, cumulative &amp; perpetual,                      open &amp; interop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visibility of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stit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use of faculty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might we need on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sis in scholarly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tive work not val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t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00760" y="6308640"/>
            <a:ext cx="25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vost’s Counci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950160" y="3657600"/>
            <a:ext cx="20415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v 2003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rt to Move the He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it t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ment, collaboration, standards &amp;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submission &amp; permission to self–arch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next steps – contingent on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faculty &amp; evaluate softw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need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L “jaws of death”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on open archives                                              practices &amp;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81720" y="6308640"/>
            <a:ext cx="24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vost’s Counc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15000" y="3990960"/>
            <a:ext cx="3276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minant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 – department head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ed, some enthusi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cern: easy sub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e conducting an assessment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to provost in 18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ost’s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 NOT propose creating an 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level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osts &amp;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4865760"/>
            <a:ext cx="3124440" cy="1839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4120" y="1371600"/>
            <a:ext cx="3657600" cy="2590920"/>
          </a:xfrm>
          <a:prstGeom prst="wedgeRectCallout">
            <a:avLst>
              <a:gd name="adj1" fmla="val -48523"/>
              <a:gd name="adj2" fmla="val 68995"/>
            </a:avLst>
          </a:prstGeom>
          <a:solidFill>
            <a:srgbClr val="ff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sign that            we might have burst  the lead cat’s bubble   of security &amp; entered his flight z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n 2004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enterprise system that integrates content management, search, &amp;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vision, definition, &amp; policies for 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broad data gath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it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paper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Se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Town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952880" y="3990960"/>
            <a:ext cx="4038840" cy="2357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600880" y="630864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ut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1295280"/>
            <a:ext cx="3657600" cy="2057400"/>
          </a:xfrm>
          <a:prstGeom prst="wedgeRectCallout">
            <a:avLst>
              <a:gd name="adj1" fmla="val 6856"/>
              <a:gd name="adj2" fmla="val 85337"/>
            </a:avLst>
          </a:prstGeom>
          <a:solidFill>
            <a:srgbClr val="ff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people                        can move a large herd more efficiently              than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 2004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Next Round U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o we need an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institutional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reposi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IR &amp; why should you c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, organize, preserve, &amp; provide access to scholarly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stitutionally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, cumulative &amp; perpetual, open &amp; interop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visibility of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stitu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use of facult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it t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ment, collaboration, standards &amp;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submission &amp; permission to self–arch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19400" y="6004080"/>
            <a:ext cx="49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ec. 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ull Faculty Se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795680" y="2620800"/>
            <a:ext cx="7196040" cy="3200040"/>
            <a:chOff x="1795680" y="2620800"/>
            <a:chExt cx="7196040" cy="3200040"/>
          </a:xfrm>
        </p:grpSpPr>
        <p:sp>
          <p:nvSpPr>
            <p:cNvPr id="75" name=""/>
            <p:cNvSpPr/>
            <p:nvPr/>
          </p:nvSpPr>
          <p:spPr>
            <a:xfrm>
              <a:off x="5334120" y="2620800"/>
              <a:ext cx="3657600" cy="1067040"/>
            </a:xfrm>
            <a:prstGeom prst="wedgeRectCallout">
              <a:avLst>
                <a:gd name="adj1" fmla="val 5944"/>
                <a:gd name="adj2" fmla="val 96578"/>
              </a:avLst>
            </a:prstGeom>
            <a:solidFill>
              <a:srgbClr val="ffff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alk about taking them to new pastur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95680" y="4191120"/>
              <a:ext cx="7195320" cy="1629720"/>
            </a:xfrm>
            <a:prstGeom prst="rect">
              <a:avLst/>
            </a:prstGeom>
            <a:solidFill>
              <a:srgbClr val="fff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ddress crisis in scholarly communic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ncrease use &amp; impact of faculty wor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ncourage work of innovative facul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 2004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alk to Gain Trus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riers to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–term preservation of multime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ding faculty &amp; acquiring per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faculty &amp; publishing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% of faculty use open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8% of faculty self–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% of publishers allow self–archi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will permit if as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&amp; 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assess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own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1143000"/>
            <a:ext cx="3657600" cy="2590920"/>
          </a:xfrm>
          <a:prstGeom prst="wedgeRectCallout">
            <a:avLst>
              <a:gd name="adj1" fmla="val -48523"/>
              <a:gd name="adj2" fmla="val 69671"/>
            </a:avLst>
          </a:prstGeom>
          <a:solidFill>
            <a:srgbClr val="ff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rds will move miles  up steep mountains       &amp; through cold streams to get to the next pas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4120" y="4587840"/>
            <a:ext cx="365760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8:24:25Z</dcterms:created>
  <dc:creator>covey</dc:creator>
  <dc:description/>
  <dc:language>en-US</dc:language>
  <cp:lastModifiedBy>covey</cp:lastModifiedBy>
  <dcterms:modified xsi:type="dcterms:W3CDTF">2005-06-29T11:15:16Z</dcterms:modified>
  <cp:revision>153</cp:revision>
  <dc:subject/>
  <dc:title>Pastures of Persuasion  Herding Faculty for an Institutional Repository </dc:title>
</cp:coreProperties>
</file>