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919913" cy="9205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919200" cy="920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973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919320" y="-360"/>
            <a:ext cx="29970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58840" y="690120"/>
            <a:ext cx="4602240" cy="345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8741880"/>
            <a:ext cx="29973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919320" y="8741880"/>
            <a:ext cx="29970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54654-4F6C-4E52-AA8A-4CF43A49E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ourage work of innovative facul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ourage work of innovative facul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6 departments + Pitt peopl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ulty want to archive courses in BlackBoard &amp; e-learning obje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ndtable discussion with invited faculty, Libraries, &amp; Computing Serv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r cost: avoid multimedia, data sets, &amp; legacy (at risk) forma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play between deployment strategies (focus) &amp; incentives for adoption (e.g., overlay journa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imize initial investment by avoiding multimedia, large data sets, &amp; legacy (at risk) form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if publisher prohibits archiving journal article, ancillary materials must be preserved in 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vey of 45 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y access, use, &amp; disse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&amp; hardware independ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activity that reduces research &amp; writing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st clerical responsi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when faculty have the right to self–archive, many don’t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do not distinguish distractions from prolonged attemp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fy metadata entry &amp; submission of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 type of content to be depos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 metadata fields appropriate for type of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providing mandatory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able multi–session deposits &amp; ed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le multiple auth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ative Commons or click–through licens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che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ston Colle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fornia Digital Libr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ensland University of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 with early adopters to design user interfaces &amp; tools that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 value &amp; sav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from them to their colleag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targets: research centers, retiring faculty, faculty with many publications, particular publications (e.g., gray literatur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ulty &amp; administrators need different serv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ing, harvesting, training, support, &amp; pre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fornia Digital Libra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ston Colle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m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ston Colle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ensland University of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IMUM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lity system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y submission procedur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l-text search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fficient commitment of institutional resources – human &amp; finan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sues &amp; inter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WOULD IT TAK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ptance of responsibility &amp; commitment of resour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aboration, infrastructure, standards, &amp; polic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barrier to sub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sues &amp; inter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WOULD IT TAK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ptance of responsibility &amp; commitment of resour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aboration, infrastructure, standards, &amp; polic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barrier to sub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al repository will be a 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focus on provost’s conc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ing Services: software &amp; infrastruc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raries: metadata, information architecture, &amp; support for content providers &amp; u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ourage work of innovative facul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ourage work of innovative facul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28600" y="40809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2949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40809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0000" y="40809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65840" y="12949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02720" y="12949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28600" y="40809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65840" y="40809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02720" y="40809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2860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0000" y="12949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12949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28600" y="40809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949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0000" y="40809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2949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40809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astures of Persuasion: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rding Facult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 an Institutional Repositor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42720" y="4952520"/>
            <a:ext cx="84582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ise Troll Co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cipal Librarian for Special Projects, Carnegie Mell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A Conference – Chicago, ILL – June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887560" y="2895480"/>
            <a:ext cx="3368880" cy="19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 2004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alk Honestl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ould it cos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tart up: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$10,000–$50,000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for servers &amp; 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: $285,000 annu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NLY NEW $$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= full–time programmer @ $70,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ing staff can digitize materials; convert files; provide system management, training &amp; support;   design metadata &amp; interfaces – maybe service f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o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Point sli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culty / staff newspa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t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562720" y="4714920"/>
            <a:ext cx="3429000" cy="19908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029200" y="3505320"/>
            <a:ext cx="3962520" cy="3124080"/>
          </a:xfrm>
          <a:prstGeom prst="wedgeRectCallout">
            <a:avLst>
              <a:gd name="adj1" fmla="val -79689"/>
              <a:gd name="adj2" fmla="val -66615"/>
            </a:avLst>
          </a:prstGeom>
          <a:solidFill>
            <a:srgbClr val="ff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ts have an incredible sense of smell.         Here’s where they    might have first sniffed       the scent of competition for provost doll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 2004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Beware of Mood Swings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co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istance, curiosity, intere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c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py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cholarly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ate will co–sponsor                                                                 Open Town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Senate in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132600" y="3733920"/>
            <a:ext cx="2859120" cy="29718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029200" y="1143000"/>
            <a:ext cx="3962520" cy="3048120"/>
          </a:xfrm>
          <a:prstGeom prst="wedgeRectCallout">
            <a:avLst>
              <a:gd name="adj1" fmla="val -65703"/>
              <a:gd name="adj2" fmla="val 75259"/>
            </a:avLst>
          </a:prstGeom>
          <a:solidFill>
            <a:srgbClr val="ff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ough a solitary species, cats can &amp; do                      live in groups,                     where they are subject  to territorial &amp; protective aggr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r 2004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Large Herd, Long Tr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town mee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ground, interests, definition, benefits, software, costs, work, barriers, self–archi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Who should steward assets?  What prior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out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Point sl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co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or attendance &amp; varying level of intere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c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novativ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mages &amp; multi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eed 5 year vision of 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715000" y="4788000"/>
            <a:ext cx="327672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ul–Aug 2004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amp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14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enterprise system meets our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9"/>
              </a:spcBef>
              <a:buNone/>
              <a:tabLst>
                <a:tab algn="l" pos="0"/>
                <a:tab algn="l" pos="714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333300"/>
                </a:solidFill>
                <a:latin typeface="Arial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14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ctical plans must align with strategic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9"/>
              </a:spcBef>
              <a:buNone/>
              <a:tabLst>
                <a:tab algn="l" pos="0"/>
                <a:tab algn="l" pos="71452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14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 division of lab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14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ing Services: software &amp;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14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braries: info architecture, metadata, &amp;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9"/>
              </a:spcBef>
              <a:buNone/>
              <a:tabLst>
                <a:tab algn="l" pos="0"/>
                <a:tab algn="l" pos="71452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14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lot repository 2005–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14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couple depar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9"/>
              </a:spcBef>
              <a:buNone/>
              <a:tabLst>
                <a:tab algn="l" pos="0"/>
                <a:tab algn="l" pos="71452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14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engaging vi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58080" y="6308640"/>
            <a:ext cx="266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uting Servic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715000" y="4422600"/>
            <a:ext cx="327672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410160" y="2286000"/>
            <a:ext cx="2581560" cy="15066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g 2004–present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n the Trail Agai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pus–wide Web Fo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management syst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ss campus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e user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rch – dit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s &amp;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876920" y="3875040"/>
            <a:ext cx="411480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086600" y="3809880"/>
            <a:ext cx="1905120" cy="1943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ct 2004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n the Trail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th Cliff Lync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Discussion with invited facult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on services, not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 wisely &amp; meet real nee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rified understanding of challenges                                &amp; financial impact of strategic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c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ights &amp; copyright infrin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tandards &amp; interoper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urpose, functionality, &amp; relationship between IR, content management, &amp; cours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896160" y="1905120"/>
            <a:ext cx="209556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an 2005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huck Wagon Gets A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est $90,000 for IR in 2005–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20,000 for servers &amp; 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70,000 for permanent, full–time progra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come: Provost says “N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o faculty problems would be addressed by an 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o faculty are requesting an 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Decide to pilot IR                                                   with existing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562720" y="4754520"/>
            <a:ext cx="3429000" cy="19512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334120" y="1600200"/>
            <a:ext cx="3657600" cy="1600200"/>
          </a:xfrm>
          <a:prstGeom prst="wedgeRectCallout">
            <a:avLst>
              <a:gd name="adj1" fmla="val -37370"/>
              <a:gd name="adj2" fmla="val 84523"/>
            </a:avLst>
          </a:prstGeom>
          <a:solidFill>
            <a:srgbClr val="ff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minant cats      prefer not to confront subordinate c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Ranchers’ Round–Up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 success = content searched &amp; c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IRs are small, cost per item is l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1,250 doc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IR (4000 documents): $71 per doc per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efits &amp; services                                                      of IR are not aligned                                                 with faculty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419720" y="4079880"/>
            <a:ext cx="457200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ind Set of the He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rned ab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yright, contractual agreements, &amp;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required to self–arch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support for how they find, use, organize, create, &amp; disseminate digital schola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ls for authoring, collaborating,                            &amp; managing content &amp;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mless sub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wardship &amp; preser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400800" y="4727520"/>
            <a:ext cx="259092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ak the Language of the He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ress their concerns without jarg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maintain ownership,” “No worries about backups,” “Easier than maintaining a web site,” “It’s like Google,” “No broken URL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1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about creating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person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positories               &amp; empowering scholarly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communit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case them                                                         &amp; their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e them to create                                                       &amp; name colle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562720" y="4613400"/>
            <a:ext cx="342900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ly attempts to herd facul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se that got a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ranchers’ round-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attempts to herd facul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952880" y="4381560"/>
            <a:ext cx="403884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bunk Myth of Self–Archi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ercep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urden outweighs the bene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Reality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tive researchers spend 40 minutes       a year entering meta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n per article: 5 minutes, 37 sec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per article: 10 minutes, 40 sec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shrinks as user deposits more materi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% authors have problems depositing 1st art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% have problems with subsequent depos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ROI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00% increase in ci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vide Incen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hasize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facul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wn &amp; control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able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easy deposit &amp; acce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&amp; promote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useful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 a colleague,” “Notify me,” “Paper of the da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wse by collection, department, center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stics for authors &amp; depar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ty, backups, &amp; preser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tracking &amp; l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l text sear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705720" y="4664160"/>
            <a:ext cx="2286000" cy="2041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334120" y="228600"/>
            <a:ext cx="3657600" cy="2514600"/>
          </a:xfrm>
          <a:prstGeom prst="wedgeRectCallout">
            <a:avLst>
              <a:gd name="adj1" fmla="val 564"/>
              <a:gd name="adj2" fmla="val 65657"/>
            </a:avLst>
          </a:prstGeom>
          <a:solidFill>
            <a:srgbClr val="ff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ts can                              hear 3 times better, see 10 times better,     &amp; smell 14 times better than mere hum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005–06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actical Pilot 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on, requirements, workflow, &amp; business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e DSpace +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00+ Carnegie Mellon technical repo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s from any facul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ly experiment with e–portfol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se awareness: 36% are unaware of self–archiv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e development to needs &amp; wants of early adop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retiring faculty, faculty with “green” publications,     &amp; open–access friendly constit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34120" y="1828800"/>
            <a:ext cx="3657600" cy="2514600"/>
          </a:xfrm>
          <a:prstGeom prst="wedgeRectCallout">
            <a:avLst>
              <a:gd name="adj1" fmla="val -87805"/>
              <a:gd name="adj2" fmla="val -24620"/>
            </a:avLst>
          </a:prstGeom>
          <a:solidFill>
            <a:srgbClr val="ff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rds will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follow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uch more readily &amp; eagerly than they will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driv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with a lot less           energy expen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006–07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Strategic Production 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Garner institutiona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is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steward intellectual asse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olic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self–archi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ract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faculty reward syst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knowledge self–archiv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ward innovative work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prise software?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105520" y="4375080"/>
            <a:ext cx="388620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510516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ise Troll Co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cipal Librarian for Special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negie Mell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oll@andrew.cmu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3353040" cy="28479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33520" y="2133720"/>
            <a:ext cx="4343400" cy="2590560"/>
          </a:xfrm>
          <a:prstGeom prst="wedgeRectCallout">
            <a:avLst>
              <a:gd name="adj1" fmla="val 85819"/>
              <a:gd name="adj2" fmla="val -28861"/>
            </a:avLst>
          </a:prstGeom>
          <a:solidFill>
            <a:srgbClr val="ff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best way to move           a herd is patiently &amp; slowly. If they move too slowly,           get closer, but beware             of entering their flight zon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p–Oct 2003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Engage the Herd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brarians contact academic depart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 concepts, services &amp; benefits of 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cit feedback to gauge faculty issues &amp;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quire about content &amp; user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departments respond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 content types recomme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minimum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292800" y="3886200"/>
            <a:ext cx="26989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v 2003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rt to Move the Her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o we need an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institutional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reposito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an IR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to store, organize, preserve, &amp; provide access                                to scholarly (digital)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nstitutionally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d, cumulative &amp; perpetual,                      open &amp; interope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visibility of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nstitu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use of faculty wo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might we need on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sis in scholarly commun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novative work not val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t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00760" y="6308640"/>
            <a:ext cx="25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ovost’s Counci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950160" y="3657600"/>
            <a:ext cx="204156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v 2003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rt to Move the Her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ould it ta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itment, collaboration, standards &amp;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submission &amp; permission to self–arch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ed next steps – contingent on inte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e faculty &amp; evaluate softw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uct needs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o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Point sl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L “jaws of death”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on open archives                                              practices &amp;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81720" y="6308640"/>
            <a:ext cx="247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ovost’s Counci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715000" y="3990960"/>
            <a:ext cx="32767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minant C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comes – department head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ted, some enthusia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cern: easy sub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ve conducting an assessment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 to provost in 18 mon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ost’s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O NOT propose creating an I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e 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 level of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costs &amp; conc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867280" y="4865760"/>
            <a:ext cx="3124440" cy="18399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334120" y="1371600"/>
            <a:ext cx="3657600" cy="2590920"/>
          </a:xfrm>
          <a:prstGeom prst="wedgeRectCallout">
            <a:avLst>
              <a:gd name="adj1" fmla="val -48523"/>
              <a:gd name="adj2" fmla="val 68995"/>
            </a:avLst>
          </a:prstGeom>
          <a:solidFill>
            <a:srgbClr val="ff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rst sign that            we might have burst  the lead cat’s bubble   of security &amp; entered his flight z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an 2004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a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enterprise system that integrates content management, search, &amp; collab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vision, definition, &amp; policies for 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broad data gath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itu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spaper art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ulty Se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Town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urv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952880" y="3990960"/>
            <a:ext cx="4038840" cy="23572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600880" y="630864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uting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34120" y="1295280"/>
            <a:ext cx="3657600" cy="2057400"/>
          </a:xfrm>
          <a:prstGeom prst="wedgeRectCallout">
            <a:avLst>
              <a:gd name="adj1" fmla="val 6856"/>
              <a:gd name="adj2" fmla="val 85337"/>
            </a:avLst>
          </a:prstGeom>
          <a:solidFill>
            <a:srgbClr val="ff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wo people                        can move a large herd more efficiently              than 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 2004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e Next Round U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Do we need an </a:t>
            </a: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institutional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repositor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an IR &amp; why should you ca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e, organize, preserve, &amp; provide access to scholarly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nstitutionally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, cumulative &amp; perpetual, open &amp; interoper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 visibility of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nstitu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amp; use of faculty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ould it ta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itment, collaboration, standards &amp; poli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submission &amp; permission to self–arch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19400" y="6004080"/>
            <a:ext cx="497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xec. Committe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ull Faculty Sen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1795680" y="2620800"/>
            <a:ext cx="7196040" cy="3200040"/>
            <a:chOff x="1795680" y="2620800"/>
            <a:chExt cx="7196040" cy="3200040"/>
          </a:xfrm>
        </p:grpSpPr>
        <p:sp>
          <p:nvSpPr>
            <p:cNvPr id="75" name=""/>
            <p:cNvSpPr/>
            <p:nvPr/>
          </p:nvSpPr>
          <p:spPr>
            <a:xfrm>
              <a:off x="5334120" y="2620800"/>
              <a:ext cx="3657600" cy="1067040"/>
            </a:xfrm>
            <a:prstGeom prst="wedgeRectCallout">
              <a:avLst>
                <a:gd name="adj1" fmla="val 5944"/>
                <a:gd name="adj2" fmla="val 96578"/>
              </a:avLst>
            </a:prstGeom>
            <a:solidFill>
              <a:srgbClr val="ffffb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alk about taking them to new pastur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795680" y="4191120"/>
              <a:ext cx="7195320" cy="1629720"/>
            </a:xfrm>
            <a:prstGeom prst="rect">
              <a:avLst/>
            </a:prstGeom>
            <a:solidFill>
              <a:srgbClr val="ffff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ddress crisis in scholarly communic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Increase use &amp; impact of faculty wor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Encourage work of innovative facult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 2004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alk to Gain Trust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riers to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–term preservation of multimed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uading faculty &amp; acquiring per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faculty &amp; publishing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% of faculty use open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8% of faculty self–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5% of publishers allow self–archiv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s will permit if as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&amp; next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s assess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ware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Town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34120" y="1143000"/>
            <a:ext cx="3657600" cy="2590920"/>
          </a:xfrm>
          <a:prstGeom prst="wedgeRectCallout">
            <a:avLst>
              <a:gd name="adj1" fmla="val -48523"/>
              <a:gd name="adj2" fmla="val 69671"/>
            </a:avLst>
          </a:prstGeom>
          <a:solidFill>
            <a:srgbClr val="ff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rds will move miles  up steep mountains       &amp; through cold streams to get to the next pas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4120" y="4587840"/>
            <a:ext cx="3657600" cy="21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8:24:25Z</dcterms:created>
  <dc:creator>covey</dc:creator>
  <dc:description/>
  <dc:language>en-US</dc:language>
  <cp:lastModifiedBy>covey</cp:lastModifiedBy>
  <dcterms:modified xsi:type="dcterms:W3CDTF">2005-06-29T11:15:16Z</dcterms:modified>
  <cp:revision>153</cp:revision>
  <dc:subject/>
  <dc:title>Pastures of Persuasion  Herding Faculty for an Institutional Repository </dc:title>
</cp:coreProperties>
</file>