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815E-C5CE-4AAB-9DD2-0E175592A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a breakdown in a process that should flow seamlessly from decision about needing the info, to data collection, analysis, interpretation, and use in plan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 &amp; funding the appropriate resources &amp; balance to serve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 or bolster support for our initi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&amp; fund the appropriate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 &amp; funding the appropriate resources &amp; balance to serve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344-4A81-488E-8312-3EEF97E0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3CC-F22E-49F9-A111-E465A16E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93F-27B4-42B0-8077-32569931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D68-653B-4ECD-B2E1-40234AD5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F76-851B-40BC-AFEB-3E8952E6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F07-443B-4AB1-8571-8305C8FC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8115-A50C-4EF1-BFA9-83D77871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F16-BE72-4DDC-BF2B-46DBD678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D19-64EA-43B6-B978-87847D81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A59-88F1-4EC3-9CCF-882AB6EC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0EC-C158-46A3-A3F9-48FF56E5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186-2503-402B-AF52-234D896D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ccec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5266-2E62-4F02-B759-FD91279ECE5E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Changes</a:t>
            </a: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 in Library 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Usage, Usability, &amp; User Supp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33360" y="3504960"/>
            <a:ext cx="6553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enise A. Trol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stinguished Fellow, Digital Library Federa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ssociate University Librarian, Carnegie Mell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003399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Northumbria International Conferenc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ugust 12-16, 200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52" name="NA02321_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ssues That Cross Method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ampling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– cost-benefit analysi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ermission &amp; Privacy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– informed consent                   &amp; working with the Institutional Review Boar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bservational research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– what to observe,              how to record it, &amp; training the observ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udy design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– start early, use multiple methods to identify problems, figure out how to solve them,                            &amp; verify they’ve been solv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Assessment Challeng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fining &amp; measuring things that are changing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llecting meaningful, purposeful dat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cquiring the requisite knowledge &amp; skill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naging the data cost effective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rganizing the library appropriate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85" name="BD19847_" descr=""/>
          <p:cNvPicPr/>
          <p:nvPr/>
        </p:nvPicPr>
        <p:blipFill>
          <a:blip r:embed="rId1"/>
          <a:stretch/>
        </p:blipFill>
        <p:spPr>
          <a:xfrm>
            <a:off x="6781680" y="4521240"/>
            <a:ext cx="221004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ritical Problem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seless data collec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dividually, libraries aren’t organized internally to collect, analyze, or use data strategically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uplicated effor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llectively, libraries haven’t developed the methods, standard definitions, &amp; guidelines needed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88" name="NA02321_" descr=""/>
          <p:cNvPicPr/>
          <p:nvPr/>
        </p:nvPicPr>
        <p:blipFill>
          <a:blip r:embed="rId1"/>
          <a:stretch/>
        </p:blipFill>
        <p:spPr>
          <a:xfrm>
            <a:off x="212760" y="1600200"/>
            <a:ext cx="3292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438280" y="4876920"/>
            <a:ext cx="7620120" cy="727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urvey aims, audiences, &amp; method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dentify highest priorit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esign &amp; facilitate research to fill gap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40000"/>
                </a:solidFill>
                <a:latin typeface="Times New Roman"/>
              </a:rPr>
              <a:t>Assessment Priorities</a:t>
            </a:r>
            <a:endParaRPr b="0" lang="en-US" sz="4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92" name="j0198700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2307960" cy="2438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57600" y="5410080"/>
            <a:ext cx="5257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cademic Library Director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Colleges, mid-size &amp; large universitie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Assessment Aims 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 meet user needs &amp; expecta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 allocate expenditures to meet user needs     &amp; expectations cost-effective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 validate expenditures of existing funds        &amp; strategic planning requests for more fund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 recruit &amp; retain competent librarians &amp; staff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867280"/>
            <a:ext cx="7620120" cy="7277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Many audienc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Top Priority Assessme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udy information use in a broader context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at resources do students &amp; faculty use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ow do they locate, evaluate, &amp; use them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o the resources &amp; activities differ across                  user groups, disciplines, or type of institution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at needs are not being met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arget for report – February 200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0" name="AG00162_" descr=""/>
          <p:cNvPicPr/>
          <p:nvPr/>
        </p:nvPicPr>
        <p:blipFill>
          <a:blip r:embed="rId1"/>
          <a:stretch/>
        </p:blipFill>
        <p:spPr>
          <a:xfrm>
            <a:off x="6934320" y="4724280"/>
            <a:ext cx="1920600" cy="1981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38080" y="586728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DLF &amp; Outsell, Inc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Purpose of the Study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ovide context for interpreting usage trend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valuate the library’s current role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cus efforts appropriate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mprove plann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rategi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rganiz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uman resource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inancial resour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010280" y="4419720"/>
            <a:ext cx="177984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40000"/>
                </a:solidFill>
                <a:latin typeface="Times New Roman"/>
              </a:rPr>
              <a:t>Tentative Plan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urvey aims, audiences, &amp; methods of librarians in different departments &amp; different levels          of the organizational hierarch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mmonalities may suggest areas                                               for collective effor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iscrepancies may suggest areas                                      for improved communication,                             coordination, &amp; plann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7" name="BD09061_" descr=""/>
          <p:cNvPicPr/>
          <p:nvPr/>
        </p:nvPicPr>
        <p:blipFill>
          <a:blip r:embed="rId1"/>
          <a:stretch/>
        </p:blipFill>
        <p:spPr>
          <a:xfrm>
            <a:off x="6095880" y="3990960"/>
            <a:ext cx="28958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38360" y="3808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moother Sailing 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On the Sea of Chang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9" name="j0265250" descr=""/>
          <p:cNvPicPr/>
          <p:nvPr/>
        </p:nvPicPr>
        <p:blipFill>
          <a:blip r:embed="rId1"/>
          <a:stretch/>
        </p:blipFill>
        <p:spPr>
          <a:xfrm>
            <a:off x="1181160" y="2038320"/>
            <a:ext cx="67816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The Assessment Problem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3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ibraries are changing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2120" indent="-312120">
              <a:lnSpc>
                <a:spcPct val="13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ow &amp; why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2120" indent="-312120">
              <a:lnSpc>
                <a:spcPct val="13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raditional measures are inadequate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2120" indent="-312120">
              <a:lnSpc>
                <a:spcPct val="13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ssessing HOW library use is changing,                     will not explain WHY library use is changing, or HOW libraries are or should be changing    in response to changes in library use       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Like a Ship on the Sea of Chang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experience,  but do not control,                     the changing      sea &amp; weather around us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derstanding      is crucial                      to navigating                 the changes                 &amp; staying afloat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57" name="j0265126" descr=""/>
          <p:cNvPicPr/>
          <p:nvPr/>
        </p:nvPicPr>
        <p:blipFill>
          <a:blip r:embed="rId1"/>
          <a:stretch/>
        </p:blipFill>
        <p:spPr>
          <a:xfrm>
            <a:off x="4168800" y="1600200"/>
            <a:ext cx="475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udy usage &amp; usability assessmen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udy assessment prioriti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acilitate future researc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The DLF Initiative  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60" name="j0203482" descr=""/>
          <p:cNvPicPr/>
          <p:nvPr/>
        </p:nvPicPr>
        <p:blipFill>
          <a:blip r:embed="rId1"/>
          <a:stretch/>
        </p:blipFill>
        <p:spPr>
          <a:xfrm>
            <a:off x="5106960" y="2743200"/>
            <a:ext cx="3772080" cy="379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33720" y="3276720"/>
            <a:ext cx="1019160" cy="1523880"/>
          </a:xfrm>
          <a:prstGeom prst="downArrow">
            <a:avLst>
              <a:gd name="adj1" fmla="val 50000"/>
              <a:gd name="adj2" fmla="val 37381"/>
            </a:avLst>
          </a:prstGeom>
          <a:solidFill>
            <a:srgbClr val="ffff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560" y="35049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at data are being gathered &amp; analyzed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y, how, &amp; by whom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o uses the results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y, how, &amp; to what effect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at are the issues, problems, &amp; lessons learned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40000"/>
                </a:solidFill>
                <a:latin typeface="Times New Roman"/>
              </a:rPr>
              <a:t>Usage &amp; Usability Assessments</a:t>
            </a:r>
            <a:endParaRPr b="0" lang="en-US" sz="48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4920" y="1600200"/>
          <a:ext cx="6781680" cy="1676520"/>
        </p:xfrm>
        <a:graphic>
          <a:graphicData uri="http://schemas.openxmlformats.org/drawingml/2006/table">
            <a:tbl>
              <a:tblPr/>
              <a:tblGrid>
                <a:gridCol w="1981080"/>
                <a:gridCol w="1752840"/>
                <a:gridCol w="2133360"/>
                <a:gridCol w="914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URVEY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Contacted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Participated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Rate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Institution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92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Individual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86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D09061_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3886200" cy="3643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29000" y="5029200"/>
            <a:ext cx="6019920" cy="552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Purpose of the Study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o identify trends in leading digital libraries that are likely to inform library practice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56386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ot to be exhaustive,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presentative, or predictive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Full Report – Sept / Oct 2001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6019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Common groun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Why to conduct assessmen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structions to use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popular metho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Issues, problems,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&amp; lessons learn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ibliography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ppendi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ample instrumen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ther methods &amp; measur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72" name="j0203482" descr=""/>
          <p:cNvPicPr/>
          <p:nvPr/>
        </p:nvPicPr>
        <p:blipFill>
          <a:blip r:embed="rId1"/>
          <a:stretch/>
        </p:blipFill>
        <p:spPr>
          <a:xfrm>
            <a:off x="5791320" y="3352680"/>
            <a:ext cx="32414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mon Ground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57040" y="17521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cus on (diverse) user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seful &amp; usable Web user interfa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uidance for undergraduat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ntinuous marketing of library resour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cus on assessm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puts,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outputs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 &amp; composite measur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rvice quality &amp; user satisfac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Usability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 outcomes, &amp;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impac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st effectiveness &amp; cost benefi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752480"/>
            <a:ext cx="1676520" cy="289584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518400 h 2895840"/>
              <a:gd name="textAreaBottom" fmla="*/ 204048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37" stAng="-5400000" swAng="-5400000"/>
                <a:lnTo>
                  <a:pt x="0" y="11351"/>
                </a:lnTo>
                <a:arcTo wR="21600" hR="7737" stAng="10800000" swAng="-2722305"/>
                <a:lnTo>
                  <a:pt x="14400" y="21158"/>
                </a:lnTo>
                <a:lnTo>
                  <a:pt x="21600" y="17280"/>
                </a:lnTo>
                <a:lnTo>
                  <a:pt x="14400" y="12518"/>
                </a:lnTo>
                <a:lnTo>
                  <a:pt x="14400" y="15031"/>
                </a:lnTo>
                <a:arcTo wR="21600" hR="7737" stAng="8077695" swAng="2427258"/>
                <a:lnTo>
                  <a:pt x="597" y="9544"/>
                </a:lnTo>
                <a:arcTo wR="21600" hR="7737" stAng="-10504953" swAng="5104953"/>
                <a:close/>
              </a:path>
              <a:path fill="darkenLess" w="21600" h="21600">
                <a:moveTo>
                  <a:pt x="21600" y="0"/>
                </a:moveTo>
                <a:arcTo wR="21600" hR="7737" stAng="-5400000" swAng="-5400000"/>
                <a:lnTo>
                  <a:pt x="0" y="7737"/>
                </a:lnTo>
                <a:arcTo wR="21600" hR="7737" stAng="10800000" swAng="-295047"/>
                <a:lnTo>
                  <a:pt x="597" y="9544"/>
                </a:lnTo>
                <a:arcTo wR="21600" hR="7737" stAng="-10504953" swAng="5104953"/>
                <a:close/>
              </a:path>
            </a:pathLst>
          </a:cu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971800" y="4038480"/>
            <a:ext cx="6781680" cy="651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How &amp; Why to Conduct . . . 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8765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urvey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cus group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sability tes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ransaction log analysi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4800600"/>
            <a:ext cx="48769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What the methods are good for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What they’re not good for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What to look out for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80" name="SL00746_" descr=""/>
          <p:cNvPicPr/>
          <p:nvPr/>
        </p:nvPicPr>
        <p:blipFill>
          <a:blip r:embed="rId1"/>
          <a:stretch/>
        </p:blipFill>
        <p:spPr>
          <a:xfrm>
            <a:off x="533520" y="439092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4:45:34Z</dcterms:created>
  <dc:creator>Denise Troll</dc:creator>
  <dc:description/>
  <dc:language>en-US</dc:language>
  <cp:lastModifiedBy>Denise Troll</cp:lastModifiedBy>
  <dcterms:modified xsi:type="dcterms:W3CDTF">2001-08-13T10:34:47Z</dcterms:modified>
  <cp:revision>60</cp:revision>
  <dc:subject/>
  <dc:title>Use &amp; Usability Assessment: What Do We Know, What Do We Need?</dc:title>
</cp:coreProperties>
</file>