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gif" ContentType="image/gi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02444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8BD2-4D8D-4919-BF98-1487CF7E8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a breakdown in a process that should flow seamlessly from decision about needing the info, to data collection, analysis, interpretation, and use in plann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ing &amp; funding the appropriate resources &amp; balance to serve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 or bolster support for our initi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&amp; fund the appropriate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ing &amp; funding the appropriate resources &amp; balance to serve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B710-349A-452B-9870-8BADF620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F4FC-63B7-4117-9F57-C05C818C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398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9637-FC36-4B9C-B746-EFE6E851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52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128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52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128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4558-7D9C-4111-AE17-239D1D92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F23F-1D1E-4784-AFA6-14F61928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9F39-77F4-45DD-984E-78E18876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AFDC-C81E-4806-8FB8-79228614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2249-4710-499F-9C58-E18A4274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89FB-E378-4AF4-9B15-60871714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0630-AE12-479E-BA0D-08348068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398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DC30-3FDC-4D39-8F90-E4DE703E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0385-7F4A-43FC-86FE-DBF748D5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ccec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A5C5-A8CC-48A4-978D-2ADE7C3FAA1A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Changes</a:t>
            </a: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 in Library </a:t>
            </a: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Usage, Usability, &amp; User Suppor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33360" y="3504960"/>
            <a:ext cx="6553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enise A. Trol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stinguished Fellow, Digital Library Federati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ssociate University Librarian, Carnegie Mell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0" lang="en-US" sz="2000" spc="-1" strike="noStrike" baseline="30000">
                <a:solidFill>
                  <a:srgbClr val="003399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Northumbria International Conferenc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ugust 12-16, 200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52" name="NA02321_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4114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Issues That Cross Method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ampling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– cost-benefit analysi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ermission &amp; Privacy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– informed consent                   &amp; working with the Institutional Review Boar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bservational research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– what to observe,              how to record it, &amp; training the observer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tudy design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– start early, use multiple methods to identify problems, figure out how to solve them,                            &amp; verify they’ve been solve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Assessment Challenge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efining &amp; measuring things that are changing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llecting meaningful, purposeful data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cquiring the requisite knowledge &amp; skills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anaging the data cost effectivel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rganizing the library appropriatel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85" name="BD19847_" descr=""/>
          <p:cNvPicPr/>
          <p:nvPr/>
        </p:nvPicPr>
        <p:blipFill>
          <a:blip r:embed="rId1"/>
          <a:stretch/>
        </p:blipFill>
        <p:spPr>
          <a:xfrm>
            <a:off x="6781680" y="4521240"/>
            <a:ext cx="221004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ritical Problem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352320" y="1600200"/>
            <a:ext cx="5791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seless data collectio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dividually, libraries aren’t organized internally to collect, analyze, or use data strategically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uplicated effort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ollectively, libraries haven’t developed the methods, standard definitions, &amp; guidelines needed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88" name="NA02321_" descr=""/>
          <p:cNvPicPr/>
          <p:nvPr/>
        </p:nvPicPr>
        <p:blipFill>
          <a:blip r:embed="rId1"/>
          <a:stretch/>
        </p:blipFill>
        <p:spPr>
          <a:xfrm>
            <a:off x="212760" y="1600200"/>
            <a:ext cx="3292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438280" y="4876920"/>
            <a:ext cx="7620120" cy="727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urvey aims, audiences, &amp; method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dentify highest priorit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esign &amp; facilitate research to fill gap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049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40000"/>
                </a:solidFill>
                <a:latin typeface="Times New Roman"/>
              </a:rPr>
              <a:t>Assessment Priorities</a:t>
            </a:r>
            <a:endParaRPr b="0" lang="en-US" sz="48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92" name="j0198700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2307960" cy="2438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657600" y="5410080"/>
            <a:ext cx="5257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Academic Library Director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Colleges, mid-size &amp; large universities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Assessment Aims 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o meet user needs &amp; expectation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o allocate expenditures to meet user needs     &amp; expectations cost-effectivel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o validate expenditures of existing funds        &amp; strategic planning requests for more fund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o recruit &amp; retain competent librarians &amp; staff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5867280"/>
            <a:ext cx="7620120" cy="7277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6095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Many audience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Top Priority Assessmen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tudy information use in a broader context</a:t>
            </a: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hat resources do students &amp; faculty use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How do they locate, evaluate, &amp; use them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Do the resources &amp; activities differ across                  user groups, disciplines, or type of institution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hat needs are not being met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arget for report – February 2002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00" name="AG00162_" descr=""/>
          <p:cNvPicPr/>
          <p:nvPr/>
        </p:nvPicPr>
        <p:blipFill>
          <a:blip r:embed="rId1"/>
          <a:stretch/>
        </p:blipFill>
        <p:spPr>
          <a:xfrm>
            <a:off x="6934320" y="4724280"/>
            <a:ext cx="1920600" cy="1981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38080" y="586728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DLF &amp; Outsell, Inc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Purpose of the Study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rovide context for interpreting usage trend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valuate the library’s current role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cus efforts appropriatel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mprove planning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trategi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rganizatio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Human resources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inancial resourc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010280" y="4419720"/>
            <a:ext cx="177984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40000"/>
                </a:solidFill>
                <a:latin typeface="Times New Roman"/>
              </a:rPr>
              <a:t>Tentative Plan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urvey aims, audiences, &amp; methods of librarians in different departments &amp; different levels          of the organizational hierarch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ommonalities may suggest areas                                               for collective effor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Discrepancies may suggest areas                                      for improved communication,                             coordination, &amp; plann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07" name="BD09061_" descr=""/>
          <p:cNvPicPr/>
          <p:nvPr/>
        </p:nvPicPr>
        <p:blipFill>
          <a:blip r:embed="rId1"/>
          <a:stretch/>
        </p:blipFill>
        <p:spPr>
          <a:xfrm>
            <a:off x="6095880" y="3990960"/>
            <a:ext cx="28958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38360" y="38088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moother Sailing </a:t>
            </a:r>
            <a:br>
              <a:rPr sz="4400"/>
            </a:b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On the Sea of Chang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09" name="j0265250" descr=""/>
          <p:cNvPicPr/>
          <p:nvPr/>
        </p:nvPicPr>
        <p:blipFill>
          <a:blip r:embed="rId1"/>
          <a:stretch/>
        </p:blipFill>
        <p:spPr>
          <a:xfrm>
            <a:off x="1181160" y="2038320"/>
            <a:ext cx="678168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The Assessment Problem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3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ibraries are changing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12120" indent="-312120">
              <a:lnSpc>
                <a:spcPct val="13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How &amp; why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12120" indent="-312120">
              <a:lnSpc>
                <a:spcPct val="13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raditional measures are inadequate 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12120" indent="-312120">
              <a:lnSpc>
                <a:spcPct val="13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ssessing HOW library use is changing,                     will not explain WHY library use is changing, or HOW libraries are or should be changing    in response to changes in library use        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Like a Ship on the Sea of Chang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733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experience,  but do not control,                     the changing      sea &amp; weather around us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nderstanding      is crucial                      to navigating                 the changes                 &amp; staying afloat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57" name="j0265126" descr=""/>
          <p:cNvPicPr/>
          <p:nvPr/>
        </p:nvPicPr>
        <p:blipFill>
          <a:blip r:embed="rId1"/>
          <a:stretch/>
        </p:blipFill>
        <p:spPr>
          <a:xfrm>
            <a:off x="4168800" y="1600200"/>
            <a:ext cx="475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tudy usage &amp; usability assessment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tudy assessment prioriti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acilitate future research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049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The DLF Initiative  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60" name="j0203482" descr=""/>
          <p:cNvPicPr/>
          <p:nvPr/>
        </p:nvPicPr>
        <p:blipFill>
          <a:blip r:embed="rId1"/>
          <a:stretch/>
        </p:blipFill>
        <p:spPr>
          <a:xfrm>
            <a:off x="5106960" y="2743200"/>
            <a:ext cx="3772080" cy="379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33720" y="3276720"/>
            <a:ext cx="1019160" cy="1523880"/>
          </a:xfrm>
          <a:prstGeom prst="downArrow">
            <a:avLst>
              <a:gd name="adj1" fmla="val 50000"/>
              <a:gd name="adj2" fmla="val 37381"/>
            </a:avLst>
          </a:prstGeom>
          <a:solidFill>
            <a:srgbClr val="ffff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4560" y="350496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hat data are being gathered &amp; analyzed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hy, how, &amp; by whom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ho uses the results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hy, how, &amp; to what effect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hat are the issues, problems, &amp; lessons learned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40000"/>
                </a:solidFill>
                <a:latin typeface="Times New Roman"/>
              </a:rPr>
              <a:t>Usage &amp; Usability Assessments</a:t>
            </a:r>
            <a:endParaRPr b="0" lang="en-US" sz="48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04920" y="1600200"/>
          <a:ext cx="6781680" cy="1676520"/>
        </p:xfrm>
        <a:graphic>
          <a:graphicData uri="http://schemas.openxmlformats.org/drawingml/2006/table">
            <a:tbl>
              <a:tblPr/>
              <a:tblGrid>
                <a:gridCol w="1981080"/>
                <a:gridCol w="1752840"/>
                <a:gridCol w="2133360"/>
                <a:gridCol w="9144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SURVEY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Contacted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Participated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Rate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1368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Institutions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92%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Individuals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83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71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86%</a:t>
                      </a:r>
                      <a:endParaRPr b="0" lang="en-US" sz="28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368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3680">
                      <a:solidFill>
                        <a:srgbClr val="6633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BD09061_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3886200" cy="3643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429000" y="5029200"/>
            <a:ext cx="6019920" cy="552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Purpose of the Study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o identify trends in leading digital libraries that are likely to inform library practice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56386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ot to be exhaustive,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presentative, or predictive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Full Report – Sept / Oct 2001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6019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Common groun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Why to conduct assessment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structions to use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popular method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Issues, problems,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&amp; lessons learne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ibliography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ppendic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ample instrument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ther methods &amp; measur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72" name="j0203482" descr=""/>
          <p:cNvPicPr/>
          <p:nvPr/>
        </p:nvPicPr>
        <p:blipFill>
          <a:blip r:embed="rId1"/>
          <a:stretch/>
        </p:blipFill>
        <p:spPr>
          <a:xfrm>
            <a:off x="5791320" y="3352680"/>
            <a:ext cx="32414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mmon Ground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057040" y="175212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cus on (diverse) user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Useful &amp; usable Web user interfac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Guidance for undergraduat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ontinuous marketing of library resourc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cus on assessmen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puts,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outputs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, &amp; composite measur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rvice quality &amp; user satisfactio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Usability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, outcomes, &amp;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impact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ost effectiveness &amp; cost benefit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752480"/>
            <a:ext cx="1676520" cy="2895840"/>
          </a:xfrm>
          <a:custGeom>
            <a:avLst/>
            <a:gdLst>
              <a:gd name="textAreaLeft" fmla="*/ 224640 w 1676520"/>
              <a:gd name="textAreaRight" fmla="*/ 1451880 w 1676520"/>
              <a:gd name="textAreaTop" fmla="*/ 518400 h 2895840"/>
              <a:gd name="textAreaBottom" fmla="*/ 204048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37" stAng="-5400000" swAng="-5400000"/>
                <a:lnTo>
                  <a:pt x="0" y="11351"/>
                </a:lnTo>
                <a:arcTo wR="21600" hR="7737" stAng="10800000" swAng="-2722305"/>
                <a:lnTo>
                  <a:pt x="14400" y="21158"/>
                </a:lnTo>
                <a:lnTo>
                  <a:pt x="21600" y="17280"/>
                </a:lnTo>
                <a:lnTo>
                  <a:pt x="14400" y="12518"/>
                </a:lnTo>
                <a:lnTo>
                  <a:pt x="14400" y="15031"/>
                </a:lnTo>
                <a:arcTo wR="21600" hR="7737" stAng="8077695" swAng="2427258"/>
                <a:lnTo>
                  <a:pt x="597" y="9544"/>
                </a:lnTo>
                <a:arcTo wR="21600" hR="7737" stAng="-10504953" swAng="5104953"/>
                <a:close/>
              </a:path>
              <a:path fill="darkenLess" w="21600" h="21600">
                <a:moveTo>
                  <a:pt x="21600" y="0"/>
                </a:moveTo>
                <a:arcTo wR="21600" hR="7737" stAng="-5400000" swAng="-5400000"/>
                <a:lnTo>
                  <a:pt x="0" y="7737"/>
                </a:lnTo>
                <a:arcTo wR="21600" hR="7737" stAng="10800000" swAng="-295047"/>
                <a:lnTo>
                  <a:pt x="597" y="9544"/>
                </a:lnTo>
                <a:arcTo wR="21600" hR="7737" stAng="-10504953" swAng="5104953"/>
                <a:close/>
              </a:path>
            </a:pathLst>
          </a:cu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971800" y="4038480"/>
            <a:ext cx="6781680" cy="651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How &amp; Why to Conduct . . . 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8765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urveys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cus groups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sability test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ransaction log analysi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4800600"/>
            <a:ext cx="48769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What the methods are good for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What they’re not good for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What to look out for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80" name="SL00746_" descr=""/>
          <p:cNvPicPr/>
          <p:nvPr/>
        </p:nvPicPr>
        <p:blipFill>
          <a:blip r:embed="rId1"/>
          <a:stretch/>
        </p:blipFill>
        <p:spPr>
          <a:xfrm>
            <a:off x="533520" y="439092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14:45:34Z</dcterms:created>
  <dc:creator>Denise Troll</dc:creator>
  <dc:description/>
  <dc:language>en-US</dc:language>
  <cp:lastModifiedBy>Denise Troll</cp:lastModifiedBy>
  <dcterms:modified xsi:type="dcterms:W3CDTF">2001-08-13T10:34:47Z</dcterms:modified>
  <cp:revision>60</cp:revision>
  <dc:subject/>
  <dc:title>Use &amp; Usability Assessment: What Do We Know, What Do We Need?</dc:title>
</cp:coreProperties>
</file>