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6.wmf" ContentType="image/x-wmf"/>
  <Override PartName="/ppt/media/image11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8.png" ContentType="image/png"/>
  <Override PartName="/ppt/media/image16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4.wmf" ContentType="image/x-wmf"/>
  <Override PartName="/ppt/media/image23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7.wmf" ContentType="image/x-wmf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88E-F7E6-4CAC-BE15-165228F5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copyright owners by providing no way for them to signal that their work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pha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at’s “reasonable”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users by providing only a defense    in li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ot scale to accommodate the needs of libraries, archives, &amp; museu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unauthorized use based on “reasonable efforts” will only encourage laziness &amp; offer an excuse for infri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reciation of ©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ection of the boat that doesn’t sink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other reclamation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reciation of ©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o check regist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unlikely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phrase Sprigman, Berkeley transcript, p. 2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: Carroll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brary Connect news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2 (4):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could unleash an extraordinary range   of commercial &amp; noncommercial 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law burdens this creativity with insanely complex &amp; vague rules &amp; the threat of obscenely severe penalties” (Lessig 2004, 1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oll, Steve (December 2004). Librarians and Copyrigh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brary Connect newslet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2, No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for past or ongoing us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mission often given for fre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prov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able royalty could be less than c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could be defacto / compulsory licen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w cap could constitute immunity for refusing to p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 only what copyright owners can do or recover in cases of infringement, not their exclusive copyrigh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ing the remedies available to copyright owners is consistent with international treaties &amp; gives copyright owners some recourse in cases of infrin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cides what users qualify &amp; what remedies should be availabl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cessarily retains some uncertain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putes &amp; litigation will happe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stablishing objective criteria for reasonableness is impos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es that create de facto compulsory licenses for unauthorized use of orphan works could be compatible with international trea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ing value will be arbit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the ca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den of proof in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termin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able / unchangeable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at to inves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 harbor period for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owners should pay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U effort to create sector guidelines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certain defense of infringement won’t solve probl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es not restore bal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 only what copyright owners can do or recover in cases of infringement, not their exclusive copyrigh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iting the remedies available to copyright owners is consistent with international treaties &amp; gives copyright owners some recourse in cases of infrin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cides what users qualify &amp; what remedies should be availabl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cessarily retains some uncertain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putes &amp; litigation will happe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stablishing objective criteria for reasonableness is impos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es that create de facto compulsory licenses for unauthorized use of orphan works could be compatible with international trea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ing value will be arbit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 the ca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rden of proof in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o determines (un)reasonableness?  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J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able / unchangeable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at to inves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 harbor period for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s a public good – public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fee based on type of work or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 ends at point of reliance o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 of attributing creator &amp; initial 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mments due March 25, received 7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y comments due May 9, received 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ors Orrin Hatch &amp; Patrick Lea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o the Senate Judiciary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infringement - Infringe exclusive rights of creators &amp; take away their control of thei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 corpo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mine the economy - Threaten the livelihood of photographers &amp; illust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 “free culture”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mments – 90% 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enjoyment &amp; exercise of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not to respond to request for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knowledge or denial of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1907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1907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907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0" y="655308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77216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0" y="655308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144792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76520"/>
            <a:ext cx="9144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ghts, Registries &amp; Remedies</a:t>
            </a:r>
            <a:br>
              <a:rPr sz="51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alysis of Responses 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Office Notice of Inqui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ar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phan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72428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– Oc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3808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© owner cannot be found or does not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n we assume owner abandoned the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– might want to be f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ight not have conducted a sufficient 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– might choose not to be found or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a legitimate exercise of 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n we assume owner wants to be paid for u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– compensation is the purpose of 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– permission is often given for fre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0" y="655308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562720"/>
            <a:ext cx="9144000" cy="6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–by–Case Reasonable 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reasonableness vary bas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use?  Amount of work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, publication status, or age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’s skill &amp;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of developing sector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defense of infrin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risk contingent on reme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–censorship &amp; gat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&amp; risk prohibitive for larg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491240" y="5181480"/>
            <a:ext cx="1424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y of Orpha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certain threshold requirements = orp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f work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t statu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profit use on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ration to opt ou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1523880"/>
            <a:ext cx="8686800" cy="685800"/>
            <a:chOff x="228600" y="1523880"/>
            <a:chExt cx="8686800" cy="685800"/>
          </a:xfrm>
        </p:grpSpPr>
        <p:sp>
          <p:nvSpPr>
            <p:cNvPr id="122" name=""/>
            <p:cNvSpPr/>
            <p:nvPr/>
          </p:nvSpPr>
          <p:spPr>
            <a:xfrm>
              <a:off x="228600" y="220968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0760" y="152388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7200" y="152388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ybr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0360" y="15238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705720" y="1371600"/>
            <a:ext cx="23619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7880" y="3429000"/>
            <a:ext cx="8687520" cy="3200400"/>
            <a:chOff x="227880" y="3429000"/>
            <a:chExt cx="8687520" cy="3200400"/>
          </a:xfrm>
        </p:grpSpPr>
        <p:sp>
          <p:nvSpPr>
            <p:cNvPr id="128" name=""/>
            <p:cNvSpPr/>
            <p:nvPr/>
          </p:nvSpPr>
          <p:spPr>
            <a:xfrm>
              <a:off x="227880" y="5105520"/>
              <a:ext cx="7221600" cy="12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Don’t embroider the existing situation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Do something to benefit the citizenry.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340760" y="3429000"/>
              <a:ext cx="1574640" cy="320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tions &amp; Default Licens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eshold requirements are content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r print status of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deter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–profit use onl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disallowing for–profi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ration to opt out of orphan works reg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den on ©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© owner loses control &amp; adequate compen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ull enjoyment &amp;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use or low–fe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3360" y="39600"/>
          <a:ext cx="902988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39600"/>
                    <a:ext cx="902988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754640" y="2438280"/>
            <a:ext cx="4393080" cy="11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s based on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random sample feasibility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ed at Carnegie Mel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phan Design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does an orphan designation app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– exemptions &amp; default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– reasonable effort 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an orphan designation end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the © owner steps up or claims infri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erpet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use does an orphan designation e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cular use by a particular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 by an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867280"/>
            <a:ext cx="914400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Works &amp; Ow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ssue of form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censing = orp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= keep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regis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medies =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urrently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© ow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791320"/>
            <a:ext cx="914400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Searches &amp;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/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scope, &amp; ease of use / piggyb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quences of regi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user to reg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effort approach = helpful in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ncentive for © owner to check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sers &amp; deny or grant per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ensatio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rden on user &amp; ©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 for preservation, access, &amp;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s of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2743200"/>
          <a:ext cx="904392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3200"/>
                    <a:ext cx="90439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" y="1676520"/>
            <a:ext cx="8686800" cy="685800"/>
            <a:chOff x="228600" y="1676520"/>
            <a:chExt cx="8686800" cy="685800"/>
          </a:xfrm>
        </p:grpSpPr>
        <p:sp>
          <p:nvSpPr>
            <p:cNvPr id="148" name=""/>
            <p:cNvSpPr/>
            <p:nvPr/>
          </p:nvSpPr>
          <p:spPr>
            <a:xfrm>
              <a:off x="228600" y="236232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1120" y="167652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8720" y="1676520"/>
              <a:ext cx="289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imited remed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37160" y="1676520"/>
              <a:ext cx="24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ublic dom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 on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0" y="1600200"/>
          <a:ext cx="90522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600200"/>
                    <a:ext cx="90522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6440" y="1828800"/>
            <a:ext cx="268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% with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6440" y="3886200"/>
            <a:ext cx="268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% with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72080" y="2514600"/>
            <a:ext cx="533160" cy="38088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4572000"/>
            <a:ext cx="533520" cy="38088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as chang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conomics                   of how we can grow culture &amp; create knowle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rtunity for unprecedented crea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right law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hould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way that both respects © owners &amp; leverages this opport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 is complex, vague, &amp; threat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9 percent of librarians agree:                                     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pyright is one of the major challenges                              to building the digital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0280" y="4572000"/>
            <a:ext cx="136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aiming: How Limit Reme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 remedies for different users &amp; u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–down option for non–profit online acc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injunctions for other users &amp; u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ensating the © ow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reasonable effort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proves unreasonablenes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attorney fees?  No statutory damag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? Reasonable royalty? Who determines fee? H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budget for large projec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Issues with default licens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fee could be too low – </a:t>
            </a: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incentive to regis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15200" y="2819520"/>
            <a:ext cx="1581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fair, the solution m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 to recognize the value                               of using or making orphan work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 for © owners to become loc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at users have rights &amp; invest time                  &amp; money in pursuing permission &amp; using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at © owners can appreciate use                                      &amp; free ride on users’ creation of mar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5043600"/>
            <a:ext cx="16765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succeed, the solution m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heap &amp;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easonable effort is expensive &amp; h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ifficult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likely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have the most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xemptions &amp; default licensing are cheap &amp; 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s will solve some aspects of the problem                             &amp; seem to have so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censing could solve the entire problem,                 but seems to have littl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© owners want to negotiate permission        &amp; to be paid for each use of thei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© term &amp; permission practice                     are appropriate for all © 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" y="3809880"/>
            <a:ext cx="8915400" cy="2945160"/>
            <a:chOff x="228600" y="3809880"/>
            <a:chExt cx="8915400" cy="294516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7315200" y="3817800"/>
              <a:ext cx="160020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28600" y="3809880"/>
              <a:ext cx="891540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ermission is often given for f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Increasing use of Creative Commons licen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tember 29, 2004 –  Use of CC licensing has increased              by 50% every fiscal quarter for the past year.  (&gt; 4 million sites)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3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mmer 2005 – 53 million CC licenses &amp; Yahoo CC sear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62520" y="2615760"/>
            <a:ext cx="4042440" cy="1523880"/>
            <a:chOff x="3962520" y="2615760"/>
            <a:chExt cx="4042440" cy="1523880"/>
          </a:xfrm>
        </p:grpSpPr>
        <p:sp>
          <p:nvSpPr>
            <p:cNvPr id="177" name=""/>
            <p:cNvSpPr/>
            <p:nvPr/>
          </p:nvSpPr>
          <p:spPr>
            <a:xfrm rot="10800000">
              <a:off x="3962520" y="2615760"/>
              <a:ext cx="2057040" cy="15238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12120" y="3019320"/>
              <a:ext cx="229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ed 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7960" y="3629160"/>
            <a:ext cx="3074400" cy="537840"/>
            <a:chOff x="4647960" y="3629160"/>
            <a:chExt cx="3074400" cy="537840"/>
          </a:xfrm>
        </p:grpSpPr>
        <p:sp>
          <p:nvSpPr>
            <p:cNvPr id="180" name=""/>
            <p:cNvSpPr/>
            <p:nvPr/>
          </p:nvSpPr>
          <p:spPr>
            <a:xfrm rot="10800000">
              <a:off x="4647960" y="3682800"/>
              <a:ext cx="685800" cy="4842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0160" y="3629160"/>
              <a:ext cx="23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phan works 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41720" y="4086360"/>
            <a:ext cx="3382920" cy="405360"/>
            <a:chOff x="4941720" y="4086360"/>
            <a:chExt cx="3382920" cy="405360"/>
          </a:xfrm>
        </p:grpSpPr>
        <p:sp>
          <p:nvSpPr>
            <p:cNvPr id="183" name=""/>
            <p:cNvSpPr/>
            <p:nvPr/>
          </p:nvSpPr>
          <p:spPr>
            <a:xfrm>
              <a:off x="4941720" y="4086360"/>
              <a:ext cx="98280" cy="282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2760" y="4092840"/>
              <a:ext cx="30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yright owners su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" y="261612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side down pyramid on a funne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3848040"/>
            <a:ext cx="9144000" cy="2171520"/>
            <a:chOff x="0" y="3848040"/>
            <a:chExt cx="9144000" cy="217152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228600" y="4076640"/>
              <a:ext cx="2590920" cy="194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0" y="3848040"/>
              <a:ext cx="9144000" cy="990360"/>
              <a:chOff x="0" y="3848040"/>
              <a:chExt cx="9144000" cy="99036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3848040"/>
                <a:ext cx="30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48120" y="384804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48120" y="483840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893320" y="5035320"/>
              <a:ext cx="58669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f many chickens come home to roost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solution was poorly designed.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from comments &amp; public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demographics from public hea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ercentage of participants engaged in conver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772160" cy="571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3808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reation by compensa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reation &amp;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goal for orphan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preservation, access, &amp;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non–profit cultural custodianship &amp; persona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users loc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&amp; ask per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 of that, approximate reasonable bar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to signal what they w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ore ba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467480" y="5259240"/>
            <a:ext cx="1447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or Must the User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search, use, or intent to use?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den &amp; loss of competitive advan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e use of orphan work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ite false claims of © ownershi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 © ownership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(often only presumption of owners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prior to use?  Who determines fee?  How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fair for real orphan &amp; public domain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cheaper than reasonable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ssion often given for f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cale for large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2560" y="1198440"/>
          <a:ext cx="912636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198440"/>
                    <a:ext cx="912636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8280" y="6019920"/>
            <a:ext cx="216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phan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6880" y="6019920"/>
            <a:ext cx="1637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2560" y="1198440"/>
          <a:ext cx="912636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198440"/>
                    <a:ext cx="912636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75120" y="6019920"/>
            <a:ext cx="2329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phan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04160" y="6019920"/>
            <a:ext cx="1607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la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right Office Notice of 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the problem of orphan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ative definition: copyright owner can’t be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law impose “inappropriate burdens” on us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orphan works “being needlessly removed                  from access &amp; their dissemination inhibited”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784760"/>
            <a:ext cx="8534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ice of Inquiry posted to the Federal Register January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Initial comments due March 25 – Reply comments due May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ublic hearings July –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port due by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876920" y="152388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ment &amp; exercise of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must apply           to foreign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ship often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relationsh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/ moral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practice                can differ from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law applies only               in the U.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emograph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0" y="1212840"/>
          <a:ext cx="557064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12840"/>
                    <a:ext cx="557064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s &amp; Public Hea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1 initial comments &amp; 146 reply com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hear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hington DC (38) &amp; Berkeley, CA (2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ics of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orphan works &amp; use of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an orphan works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iming orpha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8440" y="1371600"/>
          <a:ext cx="8634600" cy="552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371600"/>
                    <a:ext cx="86346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2600" y="685800"/>
            <a:ext cx="5029920" cy="113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xtensive is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something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Sample Initial Comments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9560"/>
          <a:ext cx="6156360" cy="52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9560"/>
                    <a:ext cx="6156360" cy="52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1400" y="1628640"/>
            <a:ext cx="182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138640" y="131760"/>
            <a:ext cx="4005360" cy="6726240"/>
            <a:chOff x="5138640" y="131760"/>
            <a:chExt cx="4005360" cy="6726240"/>
          </a:xfrm>
        </p:grpSpPr>
        <p:grpSp>
          <p:nvGrpSpPr>
            <p:cNvPr id="75" name=""/>
            <p:cNvGrpSpPr/>
            <p:nvPr/>
          </p:nvGrpSpPr>
          <p:grpSpPr>
            <a:xfrm>
              <a:off x="5138640" y="131760"/>
              <a:ext cx="4005360" cy="6726240"/>
              <a:chOff x="5138640" y="131760"/>
              <a:chExt cx="4005360" cy="6726240"/>
            </a:xfrm>
          </p:grpSpPr>
          <p:graphicFrame>
            <p:nvGraphicFramePr>
              <p:cNvPr id="76" name=""/>
              <p:cNvGraphicFramePr/>
              <p:nvPr/>
            </p:nvGraphicFramePr>
            <p:xfrm>
              <a:off x="5138640" y="131760"/>
              <a:ext cx="4005360" cy="672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38640" y="131760"/>
                        <a:ext cx="4005360" cy="672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48520" y="5029200"/>
                <a:ext cx="93348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238880" y="1828800"/>
                <a:ext cx="952560" cy="97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"/>
            <p:cNvSpPr/>
            <p:nvPr/>
          </p:nvSpPr>
          <p:spPr>
            <a:xfrm>
              <a:off x="6248160" y="485640"/>
              <a:ext cx="2096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One to Man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4280" y="1281240"/>
          <a:ext cx="9069480" cy="55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" y="1281240"/>
                    <a:ext cx="9069480" cy="55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Hearing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320" y="16002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920" y="2057400"/>
            <a:ext cx="320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es not include Copyright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30800" y="1600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83520" y="2743200"/>
            <a:ext cx="73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3962520"/>
            <a:ext cx="8610480" cy="2438280"/>
            <a:chOff x="228600" y="3962520"/>
            <a:chExt cx="8610480" cy="2438280"/>
          </a:xfrm>
        </p:grpSpPr>
        <p:sp>
          <p:nvSpPr>
            <p:cNvPr id="90" name=""/>
            <p:cNvSpPr/>
            <p:nvPr/>
          </p:nvSpPr>
          <p:spPr>
            <a:xfrm>
              <a:off x="228600" y="3962520"/>
              <a:ext cx="861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solution drive defini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962520"/>
              <a:ext cx="6705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 approach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Default licensing (Creative Commons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Exemptions for cultural heritage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&amp;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1040" y="1523880"/>
            <a:ext cx="8465760" cy="2362320"/>
            <a:chOff x="221040" y="1523880"/>
            <a:chExt cx="8465760" cy="2362320"/>
          </a:xfrm>
        </p:grpSpPr>
        <p:sp>
          <p:nvSpPr>
            <p:cNvPr id="94" name=""/>
            <p:cNvSpPr/>
            <p:nvPr/>
          </p:nvSpPr>
          <p:spPr>
            <a:xfrm>
              <a:off x="221040" y="1523880"/>
              <a:ext cx="74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Criteria of viable definition drive solu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400" y="2057400"/>
              <a:ext cx="66294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1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 approach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pulsory licens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10000"/>
                </a:lnSpc>
                <a:spcBef>
                  <a:spcPts val="64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Arial"/>
                </a:rPr>
                <a:t>Reasonable effort accommod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505320"/>
            <a:ext cx="8686800" cy="3124080"/>
            <a:chOff x="228600" y="3505320"/>
            <a:chExt cx="8686800" cy="312408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724280" y="4538520"/>
              <a:ext cx="411480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28600" y="3505320"/>
              <a:ext cx="8686800" cy="3124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520" y="5181480"/>
              <a:ext cx="4446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009999"/>
                  </a:solidFill>
                  <a:latin typeface="Arial"/>
                </a:rPr>
                <a:t>Overloading the boat?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ty of Orpha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0880" y="1676520"/>
            <a:ext cx="8686800" cy="685800"/>
            <a:chOff x="380880" y="1676520"/>
            <a:chExt cx="8686800" cy="685800"/>
          </a:xfrm>
        </p:grpSpPr>
        <p:sp>
          <p:nvSpPr>
            <p:cNvPr id="102" name=""/>
            <p:cNvSpPr/>
            <p:nvPr/>
          </p:nvSpPr>
          <p:spPr>
            <a:xfrm>
              <a:off x="380880" y="236232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3040" y="167652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se–by–c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29480" y="1676520"/>
              <a:ext cx="138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ybr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2640" y="167652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ego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280" y="1523880"/>
            <a:ext cx="297180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canno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cannot be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does not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© owner uncertain of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nts or denies permission anyw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0" y="137160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7:50:28Z</dcterms:created>
  <dc:creator>covey</dc:creator>
  <dc:description/>
  <dc:language>en-US</dc:language>
  <cp:lastModifiedBy>covey</cp:lastModifiedBy>
  <dcterms:modified xsi:type="dcterms:W3CDTF">2005-10-11T17:28:50Z</dcterms:modified>
  <cp:revision>264</cp:revision>
  <dc:subject/>
  <dc:title>Rights, Registries &amp; Remedies An Analysis of Responses to the Copyright Office Notice of Inquiry Regarding Orphan Works</dc:title>
</cp:coreProperties>
</file>