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wmf" ContentType="image/x-wmf"/>
  <Override PartName="/ppt/media/image24.wmf" ContentType="image/x-wmf"/>
  <Override PartName="/ppt/media/image23.wmf" ContentType="image/x-wmf"/>
  <Override PartName="/ppt/media/image21.jpeg" ContentType="image/jpeg"/>
  <Override PartName="/ppt/media/image32.wmf" ContentType="image/x-wmf"/>
  <Override PartName="/ppt/media/image20.jpeg" ContentType="image/jpeg"/>
  <Override PartName="/ppt/media/image19.wmf" ContentType="image/x-wmf"/>
  <Override PartName="/ppt/media/image18.wmf" ContentType="image/x-wmf"/>
  <Override PartName="/ppt/media/image2.jpeg" ContentType="image/jpeg"/>
  <Override PartName="/ppt/media/image16.wmf" ContentType="image/x-wmf"/>
  <Override PartName="/ppt/media/image17.wmf" ContentType="image/x-wmf"/>
  <Override PartName="/ppt/media/image12.wmf" ContentType="image/x-wmf"/>
  <Override PartName="/ppt/media/image30.wmf" ContentType="image/x-wmf"/>
  <Override PartName="/ppt/media/image31.wmf" ContentType="image/x-wmf"/>
  <Override PartName="/ppt/media/image6.wmf" ContentType="image/x-wmf"/>
  <Override PartName="/ppt/media/image29.wmf" ContentType="image/x-wmf"/>
  <Override PartName="/ppt/media/image33.wmf" ContentType="image/x-wmf"/>
  <Override PartName="/ppt/media/image34.wmf" ContentType="image/x-wmf"/>
  <Override PartName="/ppt/media/image37.png" ContentType="image/png"/>
  <Override PartName="/ppt/media/image7.png" ContentType="image/png"/>
  <Override PartName="/ppt/media/image9.png" ContentType="image/png"/>
  <Override PartName="/ppt/media/image22.jpeg" ContentType="image/jpeg"/>
  <Override PartName="/ppt/media/image10.png" ContentType="image/png"/>
  <Override PartName="/ppt/media/image1.jpeg" ContentType="image/jpeg"/>
  <Override PartName="/ppt/media/image11.wmf" ContentType="image/x-wmf"/>
  <Override PartName="/ppt/media/image36.png" ContentType="image/png"/>
  <Override PartName="/ppt/media/image13.wmf" ContentType="image/x-wmf"/>
  <Override PartName="/ppt/media/image38.png" ContentType="image/png"/>
  <Override PartName="/ppt/media/image39.jpeg" ContentType="image/jpeg"/>
  <Override PartName="/ppt/media/image5.wmf" ContentType="image/x-wmf"/>
  <Override PartName="/ppt/media/image35.wmf" ContentType="image/x-wmf"/>
  <Override PartName="/ppt/media/image28.wmf" ContentType="image/x-wmf"/>
  <Override PartName="/ppt/media/image3.jpeg" ContentType="image/jpeg"/>
  <Override PartName="/ppt/media/image8.wmf" ContentType="image/x-wmf"/>
  <Override PartName="/ppt/media/image4.jpeg" ContentType="image/jpeg"/>
  <Override PartName="/ppt/media/image14.wmf" ContentType="image/x-wmf"/>
  <Override PartName="/ppt/media/image25.wmf" ContentType="image/x-wmf"/>
  <Override PartName="/ppt/media/image15.jpeg" ContentType="image/jpeg"/>
  <Override PartName="/ppt/media/image26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919913" cy="9205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919200" cy="920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97360" cy="4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919320" y="-360"/>
            <a:ext cx="2997000" cy="4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57400" y="690120"/>
            <a:ext cx="4603680" cy="3451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92280" y="4371480"/>
            <a:ext cx="5533920" cy="41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0" y="8741880"/>
            <a:ext cx="2997360" cy="460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919320" y="8741880"/>
            <a:ext cx="2997000" cy="460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A7D3D-FCA6-490F-9EB0-448443E57F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57400" y="690480"/>
            <a:ext cx="4603680" cy="345132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92280" y="4371480"/>
            <a:ext cx="5533920" cy="41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ience Commons - Our long term vision is to provide more than just useful contracts. We will combine our publishing, data, and licensing approaches to develop solutions for a truly integrated and streamlined research proce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57400" y="690480"/>
            <a:ext cx="4603680" cy="345132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92280" y="4371480"/>
            <a:ext cx="5533920" cy="41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Faculty in all tracks &amp; all  but one college said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© is   not important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ly business school faculty did NOT say copyright transfer terms were not import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likeliest to think not important: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nure track, especially associate professors with or without ten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st likely to be influenced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enure track: those without tenure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search track: associate                     &amp; full professor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ges 30-39 and 60 &amp; old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e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st likely to say © not important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search track, especially assistant professor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ges 40-49 and 50-59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e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57400" y="690480"/>
            <a:ext cx="4603680" cy="345132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92280" y="4371480"/>
            <a:ext cx="5533920" cy="41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–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st likely not to keep copies: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sociate &amp; full research prof; Assoc &amp; full prof with ten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uter science, engineering, busi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es 40-4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st likely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to keep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copies      &amp;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not know where they ar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brary &amp; teaching track;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[check]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ssistant research professo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umanities &amp; social 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ome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57400" y="690480"/>
            <a:ext cx="4603680" cy="345132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92280" y="4371480"/>
            <a:ext cx="5533920" cy="41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ulty ages 40-49 most likely to try to negotiate boo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 – archive =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– of equal interest with the issue of exclusive transfer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t least half of the faculty in each college &amp; age range have NOT tried     to negotiate © transfer terms for artic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nly business school faculty did NOT say copyright transfer terms were not importa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likeliest to think not important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nure track, especially associate professors with or without ten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likely to have trie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90000"/>
              </a:lnSpc>
              <a:spcBef>
                <a:spcPts val="488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enure track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90000"/>
              </a:lnSpc>
              <a:spcBef>
                <a:spcPts val="488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aculty ages 30-39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90000"/>
              </a:lnSpc>
              <a:spcBef>
                <a:spcPts val="488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0000"/>
                </a:solidFill>
                <a:latin typeface="Arial"/>
              </a:rPr>
              <a:t>Men [CHECK]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[FIX]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50+% in each college  &amp; age range have NOT tri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likely not to have trie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90000"/>
              </a:lnSpc>
              <a:spcBef>
                <a:spcPts val="488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Library track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90000"/>
              </a:lnSpc>
              <a:spcBef>
                <a:spcPts val="488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ssistant research professors  </a:t>
            </a:r>
            <a:r>
              <a:rPr b="1" lang="en-US" sz="1300" spc="-1" strike="noStrike">
                <a:solidFill>
                  <a:srgbClr val="ff0000"/>
                </a:solidFill>
                <a:latin typeface="Arial"/>
              </a:rPr>
              <a:t>[CHECK]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90000"/>
              </a:lnSpc>
              <a:spcBef>
                <a:spcPts val="488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Wome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57400" y="690480"/>
            <a:ext cx="4603680" cy="345132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92280" y="4371480"/>
            <a:ext cx="5533920" cy="41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44% would negotiat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73% research track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25% would not negotiat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16% would change               or avoid the publishe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50% library track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8% would ignore                      the agreemen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10% tenure track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9% research track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 = of library track facul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44% would negotiate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– most likely: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search 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25% would not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– most likely: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es 40-49 &amp; 60 and old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16% would change or avoid the publisher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– most likely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brary trac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8% would ignore the agreement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– most likely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nure &amp; research 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es 40-49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57400" y="690480"/>
            <a:ext cx="4603680" cy="345132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92280" y="4371480"/>
            <a:ext cx="5533920" cy="41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; few mentioned financial benefi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61% control or flexibilit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&gt;35% each colleg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24% (faculty in all tracks     &amp; colleges) said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little if any value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in retaining copyright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– most likely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search 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es 40-49, followed by 50-5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n far more than wome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Some tenure &amp; teaching track faculty didn’t know any benefits to retaining ©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ASONS FOR TRANSFERR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faculty in fine arts &amp; public policy said transfer was benefic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faculty in all other colleges &amp; on all faculty tracks said transfer was required or traditio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faculty in the libraries had not transferred copy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57400" y="690480"/>
            <a:ext cx="4603680" cy="345132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92280" y="4371480"/>
            <a:ext cx="5533920" cy="41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; few mentioned financial benefi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61% control or flexibilit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&gt;35% each colleg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24% (faculty in all tracks     &amp; colleges) said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little if any value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in retaining copyright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– most likely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search 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es 40-49, followed by 50-5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n far more than wome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Some tenure &amp; teaching track faculty didn’t know any benefits to retaining ©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ASONS FOR TRANSFERR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faculty in fine arts &amp; public policy said transfer was benefic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faculty in all other colleges &amp; on all faculty tracks said transfer was required or traditio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faculty in the libraries had not transferred copy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57400" y="690480"/>
            <a:ext cx="4603680" cy="345132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92280" y="4371480"/>
            <a:ext cx="5533920" cy="41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 = of library track facul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With exception of library, fewer than half the faculty on each track said they understand the rights in their agreement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15% do not read their agreements carefully or worry about their right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1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stly research                           and tenure track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1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nly men ages 30-39               and 40-4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57400" y="690480"/>
            <a:ext cx="4603680" cy="345132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92280" y="4371480"/>
            <a:ext cx="5533920" cy="41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Over half of the associate professors with tenure said they don’t read their agreements or worry about their righ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57400" y="690480"/>
            <a:ext cx="4603680" cy="345132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92280" y="4371480"/>
            <a:ext cx="5533920" cy="41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(women are more likely to consult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57400" y="690480"/>
            <a:ext cx="4603680" cy="345132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92280" y="4371480"/>
            <a:ext cx="5533920" cy="41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es 40-49 and 60+ most likely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negotiate the right to self-archive if publisher forbid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draw an article if publisher refused term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d withdraw an article if publisher refused te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or avoid publisher who refused their te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re already OA [published in OA journal?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esting since 37% don’t keep copies &amp; 20% keep copies but don’t know where they 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faculty on all tracks said they would consult                             their agreements, publishers, colleagues, or legal couns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57400" y="690480"/>
            <a:ext cx="4603680" cy="345132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92280" y="4371480"/>
            <a:ext cx="5533920" cy="41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36% WOULD be influenced</a:t>
            </a:r>
            <a:r>
              <a:rPr b="1" lang="en-US" sz="1100" spc="-1" strike="noStrike">
                <a:solidFill>
                  <a:srgbClr val="ff0000"/>
                </a:solidFill>
                <a:latin typeface="Arial"/>
              </a:rPr>
              <a:t>, at least under certain conditions</a:t>
            </a:r>
            <a:r>
              <a:rPr b="1" lang="en-US" sz="13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– most likely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eaching track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ublic polic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ges 60 &amp; old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41% would NOT be influenced</a:t>
            </a:r>
            <a:r>
              <a:rPr b="1" lang="en-US" sz="13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– most likely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Research track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omputer science, engineering, busines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ges 30-39 &amp; 50-59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e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57400" y="690480"/>
            <a:ext cx="4603680" cy="345132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92280" y="4371480"/>
            <a:ext cx="5533920" cy="41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0000"/>
                </a:solidFill>
                <a:latin typeface="Arial"/>
              </a:rPr>
              <a:t>49% WOULD be influenced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– most likely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brary &amp; teaching tr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blic poli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es 50-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0000"/>
                </a:solidFill>
                <a:latin typeface="Arial"/>
              </a:rPr>
              <a:t>22% would NOT be influence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– most likely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ghly 25% of tenure                             &amp; research track facult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, enginee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es 30-39 and 40-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57400" y="690480"/>
            <a:ext cx="4603680" cy="345132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92280" y="4371480"/>
            <a:ext cx="5533920" cy="41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53% WOULD be influenced</a:t>
            </a: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, at least under certain conditions</a:t>
            </a:r>
            <a:r>
              <a:rPr b="1" lang="en-US" sz="11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– most likely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ching track, library tr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uter science, physical science, enginee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er half the faculty                under age 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24% would NOT be influenced</a:t>
            </a:r>
            <a:r>
              <a:rPr b="1" lang="en-US" sz="11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– most likely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earch tr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uter science, physical science, enginee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es 30-39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57400" y="690480"/>
            <a:ext cx="4603680" cy="345132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92280" y="4371480"/>
            <a:ext cx="5533920" cy="41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0000"/>
                </a:solidFill>
                <a:latin typeface="Arial"/>
              </a:rPr>
              <a:t>53% WOULD be influenced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– most likely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library &amp; research facul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public policy facult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er half of the faculty in all colleges except enginee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likely to say yes: ages 30-39 and 50-59; Wo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0000"/>
                </a:solidFill>
                <a:latin typeface="Arial"/>
              </a:rPr>
              <a:t>11%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would NOT be influence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– most likely:  </a:t>
            </a: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[FIX]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25% in humanities &amp; social sciences, physical sci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likely to say no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es 40-49 and 60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57400" y="690480"/>
            <a:ext cx="4603680" cy="345132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92280" y="4371480"/>
            <a:ext cx="5533920" cy="41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5% resist president/provos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1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L 25%,   Tepper 14%,  CIT 8%,   SCS 6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1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l age ran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1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17% resist promotion                 &amp; tenure committe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1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einz 33%,   MCS 33%, Tepper 29%,   H&amp;SS 24%, SCS 11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1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l age ran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1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nly m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57400" y="690480"/>
            <a:ext cx="4603680" cy="345132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92280" y="4371480"/>
            <a:ext cx="5533920" cy="41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st concerned: public policy &amp; computer sci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st likely NOT to have PP influen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oice of publisher: CS, engineer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ight to self-archive: business, engineer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st likely NOT to have P&amp;T committees influen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oice of publisher: CS, engineering, physical scien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ight to self-archive: H&amp;SS, physical scien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st concerned about OA =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stly public policy &amp; computer science [FIX-CHECK]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lready self-archiving or OA -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uter science, public policy, engineering, business, physical scien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&amp;T com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all tracks concer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Greatest concerns: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Quality &amp; prestige                             of OA journa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– 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CHEC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pical suitabilit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57400" y="690480"/>
            <a:ext cx="4603680" cy="345132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92280" y="4371480"/>
            <a:ext cx="5533920" cy="41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st concerned: public policy &amp; computer sci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st likely NOT to have PP influen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oice of publisher: CS, engineer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ight to self-archive: business, engineer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st likely NOT to have P&amp;T committees influen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oice of publisher: CS, engineering, physical scien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ight to self-archive: H&amp;SS, physical scien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st concerned about OA =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stly public policy &amp; computer science [FIX-CHECK]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lready self-archiving or OA -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uter science, public policy, engineering, business, physical scien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&amp;T com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all tracks concer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Greatest concerns: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Quality &amp; prestige                             of OA journa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– 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CHEC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pical suitabilit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57400" y="690480"/>
            <a:ext cx="4603680" cy="345132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92280" y="4371480"/>
            <a:ext cx="5533920" cy="41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st concerned: public policy &amp; computer sci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st likely NOT to have PP influen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oice of publisher: CS, engineer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ight to self-archive: business, engineer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st likely NOT to have P&amp;T committees influen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oice of publisher: CS, engineering, physical scien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ight to self-archive: H&amp;SS, physical scien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st concerned about OA =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stly public policy &amp; computer science [FIX-CHECK]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lready self-archiving or OA -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uter science, public policy, engineering, business, physical scien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&amp;T com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all tracks concer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Greatest concerns: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Quality &amp; prestige                             of OA journa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– 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CHEC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pical suitabilit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57400" y="690480"/>
            <a:ext cx="4603680" cy="345132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92280" y="4371480"/>
            <a:ext cx="5533920" cy="41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n the research track, appreciation of web as vehicle of dissemination increases with ran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n far more than women value web as dissemin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one age 50+ valued    the web for preservation         or other efficienci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57400" y="690480"/>
            <a:ext cx="4603680" cy="345132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92280" y="4371480"/>
            <a:ext cx="5533920" cy="41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70+% all tracks, colleges, ages did not know prior to guessing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st likely to kno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nure track:                     faculty without tenur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ther tracks: as get promoted through ran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st likely to guess wro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search track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e 50 &amp; ol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57400" y="690480"/>
            <a:ext cx="4603680" cy="345132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92280" y="4371480"/>
            <a:ext cx="5533920" cy="41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Users ca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r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ad, download, copy, distribute, print, search, or link to the full texts, crawl them for indexing, pass them as data to software, or use them for any other lawful purpose without financial, legal, or technical barrier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74680"/>
            <a:ext cx="8686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228600" y="41176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274680"/>
            <a:ext cx="8686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0000" y="13712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28600" y="41176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0000" y="41176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28600" y="274680"/>
            <a:ext cx="8686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165840" y="13712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02720" y="13712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28600" y="41176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165840" y="41176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02720" y="41176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28600" y="274680"/>
            <a:ext cx="8686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228600" y="13712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28600" y="274680"/>
            <a:ext cx="8686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74680"/>
            <a:ext cx="8686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0000" y="13712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274680"/>
            <a:ext cx="8686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228600" y="274680"/>
            <a:ext cx="868680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74680"/>
            <a:ext cx="8686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0000" y="13712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228600" y="41176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74680"/>
            <a:ext cx="8686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3712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0000" y="41176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74680"/>
            <a:ext cx="8686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3712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228600" y="41176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274680"/>
            <a:ext cx="8686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3712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1.wmf"/><Relationship Id="rId5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hyperlink" Target="mailto:troll@andrew.cmu.edu" TargetMode="External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696080" cy="29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aculty Righ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d Other Scholarly Communication Practice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228240" y="4038480"/>
            <a:ext cx="487692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Denise Troll Cove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incipal Librarian for Special Proje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rnegie Mell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igital Library Colloquiu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January 200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410080" y="4000680"/>
            <a:ext cx="3505320" cy="26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276200" y="984240"/>
            <a:ext cx="6724800" cy="587376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274680"/>
            <a:ext cx="8686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* The open access impact advantage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Heard of the Creative Commons?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9840" y="2251080"/>
          <a:ext cx="9004320" cy="455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840" y="2251080"/>
                    <a:ext cx="9004320" cy="455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" name=""/>
          <p:cNvSpPr/>
          <p:nvPr/>
        </p:nvSpPr>
        <p:spPr>
          <a:xfrm>
            <a:off x="228600" y="1219320"/>
            <a:ext cx="89154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33% have heard of the Creative Commons (C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Some incorrectly think CC means no copyrigh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274680"/>
            <a:ext cx="8686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* Meaning of Creative Commons (CC)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Non-profit organization that provides free tools for authors     </a:t>
            </a:r>
            <a:r>
              <a:rPr b="0" lang="en-US" sz="2600" spc="-1" strike="noStrike">
                <a:solidFill>
                  <a:srgbClr val="ff0000"/>
                </a:solidFill>
                <a:latin typeface="Times New Roman"/>
              </a:rPr>
              <a:t>to change </a:t>
            </a:r>
            <a:r>
              <a:rPr b="0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© </a:t>
            </a:r>
            <a:r>
              <a:rPr b="0" lang="en-US" sz="2600" spc="-1" strike="noStrike">
                <a:solidFill>
                  <a:srgbClr val="ff0000"/>
                </a:solidFill>
                <a:latin typeface="Times New Roman"/>
              </a:rPr>
              <a:t>terms legally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ff0000"/>
                </a:solidFill>
                <a:latin typeface="Times New Roman"/>
              </a:rPr>
              <a:t>from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All Rights Reserved</a:t>
            </a:r>
            <a:r>
              <a:rPr b="0" lang="en-US" sz="2600" spc="-1" strike="noStrike">
                <a:solidFill>
                  <a:srgbClr val="ff0000"/>
                </a:solidFill>
                <a:latin typeface="Times New Roman"/>
              </a:rPr>
              <a:t>                        to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Some Rights Reserve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Science Common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= Creative Commons working with the Scholarly Publishing &amp; Academic Resources Coalition (SPARC) to accelerate the movement of information, tools  and data through the scientific research cycle by identifying and removing unnecessary legal and technical barrier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7010280" y="5959440"/>
            <a:ext cx="1905120" cy="66996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4267080" y="5943600"/>
            <a:ext cx="26863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240" y="759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Do © terms affect choice of publisher?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58680" y="2316240"/>
          <a:ext cx="9055080" cy="4541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680" y="2316240"/>
                    <a:ext cx="9055080" cy="454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"/>
          <p:cNvSpPr/>
          <p:nvPr/>
        </p:nvSpPr>
        <p:spPr>
          <a:xfrm>
            <a:off x="228600" y="1219320"/>
            <a:ext cx="853452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77% are NOT influenced by © transfer term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4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34% said © terms are not importa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Keep copies of signed agreements?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0" y="3132000"/>
          <a:ext cx="9074160" cy="3710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132000"/>
                    <a:ext cx="9074160" cy="371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30% do NOT keep copi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22% keep copies, </a:t>
            </a:r>
            <a:r>
              <a:rPr b="1" lang="en-US" sz="2600" spc="-1" strike="noStrike">
                <a:solidFill>
                  <a:srgbClr val="008000"/>
                </a:solidFill>
                <a:latin typeface="Times New Roman"/>
              </a:rPr>
              <a:t>but don’t know where they ar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8000"/>
                </a:solidFill>
                <a:latin typeface="Times New Roman"/>
              </a:rPr>
              <a:t>6% appear not to realize that “click through” agreements carry the force of law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ried to negotiate ©  transfer terms?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28240" y="1219320"/>
            <a:ext cx="8915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% have tried to negotiat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©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rms for an articl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f those who tried to negoti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–use of their work was top prio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he right to self-archive w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649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Times New Roman"/>
              </a:rPr>
              <a:t>Of interest to only 3% of the facult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649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Times New Roman"/>
              </a:rPr>
              <a:t>Of interest only to tenure track                                                   assistant &amp; full professors                                                                    in SCS &amp; H&amp;S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649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Times New Roman"/>
              </a:rPr>
              <a:t>Of interest to women slightly more than me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649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Times New Roman"/>
              </a:rPr>
              <a:t>Not of interest to faculty ages 40-49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5943600" y="1828800"/>
          <a:ext cx="3092400" cy="2859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43600" y="1828800"/>
                    <a:ext cx="3092400" cy="285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240" y="759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Negotiate if not allowed to self-archive?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30240" y="2809800"/>
          <a:ext cx="9053280" cy="399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240" y="2809800"/>
                    <a:ext cx="9053280" cy="399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240" y="1219320"/>
            <a:ext cx="8915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4% would negotiate, 25% would NOT, 20% not 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16% would change or avoid the publis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8% would ignore the agreemen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lected Copyright Question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2457360" y="2438280"/>
            <a:ext cx="4229280" cy="31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Benefits to retaining copyright?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240" y="1218960"/>
            <a:ext cx="8915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1% said control or flexibility;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8% didn’t know any benefit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24% said little if any value in retaining copyright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5% appeared to think U.S. 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© law includes moral righ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4680" y="2759040"/>
          <a:ext cx="9088560" cy="4083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0" y="2759040"/>
                    <a:ext cx="908856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hy transfer copyright?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686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6% said because it is required or tradit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3% said because it is beneficial – 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publishers are better at disseminating their work than they a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6480" y="2716200"/>
          <a:ext cx="9088200" cy="415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80" y="2716200"/>
                    <a:ext cx="9088200" cy="415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e Study: March – June 2006 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6868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rp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scertain faculty practices &amp; understanding                regarding publishing &amp; disseminating their work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Enable the Libraries to target education, tools &amp; servic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dentify triggers likely to change faculty behavio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ilot for a larger, multi-institution stud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tratified random sampl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vited more than need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urned away 24 facul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nterviews averaged 30 minut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019920" y="4457880"/>
            <a:ext cx="2895480" cy="21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Understand rights in agreements?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25560" y="2362320"/>
          <a:ext cx="9047160" cy="440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560" y="2362320"/>
                    <a:ext cx="9047160" cy="440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240" y="1219320"/>
            <a:ext cx="8915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2% understand, 41% do NOT, 15% aren’t sur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24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8000"/>
                </a:solidFill>
                <a:latin typeface="Times New Roman"/>
              </a:rPr>
              <a:t>15% don’t read agreements carefully or worry about rights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resumption if rights are unclear?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46080" y="2751120"/>
          <a:ext cx="9082080" cy="406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080" y="2751120"/>
                    <a:ext cx="908208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"/>
          <p:cNvSpPr/>
          <p:nvPr/>
        </p:nvSpPr>
        <p:spPr>
          <a:xfrm>
            <a:off x="228600" y="1219320"/>
            <a:ext cx="89154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3% said they would consult their agreements,   publishers, colleagues, or legal couns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36% said what they would do without permi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enure-track trend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61048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Times New Roman"/>
              </a:rPr>
              <a:t>Faculty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without</a:t>
            </a:r>
            <a:r>
              <a:rPr b="0" lang="en-US" sz="2600" spc="-1" strike="noStrike">
                <a:solidFill>
                  <a:srgbClr val="ff0000"/>
                </a:solidFill>
                <a:latin typeface="Times New Roman"/>
              </a:rPr>
              <a:t> tenure are more likely t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now the meaning of open ac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id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©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fer terms when choosing a publi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stand their rights &amp; keep copies of their agre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istant professors would ignore the agreement                   rather than try to negotiate the right to self arch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Times New Roman"/>
              </a:rPr>
              <a:t>Faculty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with</a:t>
            </a:r>
            <a:r>
              <a:rPr b="0" lang="en-US" sz="2600" spc="-1" strike="noStrike">
                <a:solidFill>
                  <a:srgbClr val="ff0000"/>
                </a:solidFill>
                <a:latin typeface="Times New Roman"/>
              </a:rPr>
              <a:t> tenure are more likely t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e little if any value in retaining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 read their agreements or worry about their r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Times New Roman"/>
              </a:rPr>
              <a:t>Regardless of rank or tenure status,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ff0000"/>
                </a:solidFill>
                <a:latin typeface="Times New Roman"/>
              </a:rPr>
              <a:t>most likely (47%) to act                        without permission if they don’t understand their right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eaching-track trend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24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Times New Roman"/>
              </a:rPr>
              <a:t>Only assistant teaching professor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id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©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fer terms when choosing a publi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ve tried to negotiat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©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fer terms for an artic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n’t read their agreements or worry about their righ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n’t sure if they understand their rights in their agreemen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uld ignore their agreements with publish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e financial benefits to retaining thei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Times New Roman"/>
              </a:rPr>
              <a:t>Only full professors </a:t>
            </a:r>
            <a:r>
              <a:rPr b="0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will ask permission                                                 if they don’t understand their right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6248520" y="4629240"/>
            <a:ext cx="266688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Research-track trend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28240" y="1218960"/>
            <a:ext cx="8915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Times New Roman"/>
              </a:rPr>
              <a:t>Behavior in regard to </a:t>
            </a:r>
            <a:r>
              <a:rPr b="0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©</a:t>
            </a:r>
            <a:r>
              <a:rPr b="0" lang="en-US" sz="2600" spc="-1" strike="noStrike">
                <a:solidFill>
                  <a:srgbClr val="ff0000"/>
                </a:solidFill>
                <a:latin typeface="Times New Roman"/>
              </a:rPr>
              <a:t> transfer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faculty would change publishers because of thei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© term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full professors have tried to negotiat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©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rms for an artic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associate professors would ignore the agreement                   rather than try to negotiate the right to self arch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Times New Roman"/>
              </a:rPr>
              <a:t>Assistant research professor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think they understand their rights in their agreemen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keep copies of their agreements, but don’t know w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Times New Roman"/>
              </a:rPr>
              <a:t>The following appear to increase with rank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reciation of the web as a vehicle of dissem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ortance of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© transfer terms in choosing a publish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ception that there is little if any value in retaining 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ng without permission (overall 27%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8600" y="274680"/>
            <a:ext cx="8686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llege trends – Most likely to …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228600" y="1219320"/>
          <a:ext cx="8229600" cy="4276440"/>
        </p:xfrm>
        <a:graphic>
          <a:graphicData uri="http://schemas.openxmlformats.org/drawingml/2006/table">
            <a:tbl>
              <a:tblPr/>
              <a:tblGrid>
                <a:gridCol w="4267080"/>
                <a:gridCol w="1067040"/>
                <a:gridCol w="1828800"/>
                <a:gridCol w="1066680"/>
              </a:tblGrid>
              <a:tr h="429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4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t be influenced by © term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CIT </a:t>
                      </a: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92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H&amp;SS       </a:t>
                      </a: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88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epper </a:t>
                      </a: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86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4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t keep copies of © agreemen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SCS </a:t>
                      </a: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61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pper  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3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IT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2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t understand their rights                      in their agreemen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epper </a:t>
                      </a: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57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SCS &amp; Heinz </a:t>
                      </a: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5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&amp;SS 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7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t negotiate the right                        to self-archive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CS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4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CS    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3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pper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4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e benefit to transferring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I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42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FA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36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einz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33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8600" y="274680"/>
            <a:ext cx="8686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llege trends – Most likely to …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28600" y="1219320"/>
          <a:ext cx="8229600" cy="3636720"/>
        </p:xfrm>
        <a:graphic>
          <a:graphicData uri="http://schemas.openxmlformats.org/drawingml/2006/table">
            <a:tbl>
              <a:tblPr/>
              <a:tblGrid>
                <a:gridCol w="3886200"/>
                <a:gridCol w="1219320"/>
                <a:gridCol w="1295280"/>
                <a:gridCol w="1828800"/>
              </a:tblGrid>
              <a:tr h="429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See little if any value                  in retaining ©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epper </a:t>
                      </a: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57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CIT    </a:t>
                      </a: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5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L       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Change or avoid publisher             if don’t like </a:t>
                      </a:r>
                      <a:r>
                        <a:rPr b="0" lang="en-US" sz="2400" spc="-1" strike="noStrike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© </a:t>
                      </a:r>
                      <a:r>
                        <a:rPr b="0" lang="en-US" sz="24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term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UL    </a:t>
                      </a: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5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pper   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3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CS    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Not read agreements carefully  or worry about their righ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IT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33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&amp;SS 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18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CS &amp; SCS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17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Ignore their agreemen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CS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FA         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IT &amp; MCS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Gender trend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28240" y="1218960"/>
            <a:ext cx="8915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Times New Roman"/>
              </a:rPr>
              <a:t>Men are more likely than women t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the web as a vehicle of dissem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 influenced by © transfer terms when choosing a publi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y to negotiate © transfer term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try to negotiate the right to self-archive if publisher forbid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keep copies of their © transfer agreemen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gnore the terms of their agreemen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 without permiss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e little if any value in retaining 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nk © is not import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Times New Roman"/>
              </a:rPr>
              <a:t>Only men said they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n’t understand their © transfer agre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n’t read their agreements or worry about their right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ge trend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240" y="1218960"/>
            <a:ext cx="8915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Times New Roman"/>
              </a:rPr>
              <a:t>When rights are unclea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lder faculty are more likely to consult the agreement, etc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nger faculty are more likely to act without permi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Times New Roman"/>
              </a:rPr>
              <a:t>Ages 30-39 most likely t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y to negotiate © transfer te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Times New Roman"/>
              </a:rPr>
              <a:t>Ages 40-49 most likely t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 influenced by © transfer terms when choosing a publi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e little if any value in retaining 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nk © is not import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keep copies of agreemen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553080" y="4896000"/>
            <a:ext cx="2362320" cy="173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lected Influence Question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2457360" y="2362320"/>
            <a:ext cx="4229280" cy="31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114480" y="279360"/>
          <a:ext cx="8915400" cy="6299280"/>
        </p:xfrm>
        <a:graphic>
          <a:graphicData uri="http://schemas.openxmlformats.org/drawingml/2006/table">
            <a:tbl>
              <a:tblPr/>
              <a:tblGrid>
                <a:gridCol w="1371600"/>
                <a:gridCol w="533160"/>
                <a:gridCol w="533520"/>
                <a:gridCol w="685800"/>
                <a:gridCol w="609480"/>
                <a:gridCol w="685800"/>
                <a:gridCol w="609840"/>
                <a:gridCol w="609480"/>
                <a:gridCol w="563400"/>
                <a:gridCol w="884520"/>
                <a:gridCol w="990360"/>
                <a:gridCol w="838440"/>
              </a:tblGrid>
              <a:tr h="49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nur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achin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brary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ota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Targe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9900"/>
                          </a:solidFill>
                          <a:latin typeface="Times New Roman"/>
                        </a:rPr>
                        <a:t>Turned awa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F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99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I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9900"/>
                          </a:solidFill>
                          <a:latin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einz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99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&amp;S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9900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C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99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C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9900"/>
                          </a:solidFill>
                          <a:latin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ppe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99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brarie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99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6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ot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37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4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4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7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4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87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6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Targe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26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12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15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5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9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3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72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6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9900"/>
                          </a:solidFill>
                          <a:latin typeface="Times New Roman"/>
                        </a:rPr>
                        <a:t>Turned awa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9900"/>
                          </a:solidFill>
                          <a:latin typeface="Times New Roman"/>
                        </a:rPr>
                        <a:t>19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9900"/>
                          </a:solidFill>
                          <a:latin typeface="Times New Roman"/>
                        </a:rPr>
                        <a:t>2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9900"/>
                          </a:solidFill>
                          <a:latin typeface="Times New Roman"/>
                        </a:rPr>
                        <a:t>3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9900"/>
                          </a:solidFill>
                          <a:latin typeface="Times New Roman"/>
                        </a:rPr>
                        <a:t>24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nfluence where you choose to publish?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23760" y="2637000"/>
          <a:ext cx="9066240" cy="4219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60" y="2637000"/>
                    <a:ext cx="9066240" cy="421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7" name=""/>
          <p:cNvSpPr/>
          <p:nvPr/>
        </p:nvSpPr>
        <p:spPr>
          <a:xfrm>
            <a:off x="228600" y="228600"/>
            <a:ext cx="891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president &amp; provost encouraged publishing in OA journ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" y="1523880"/>
            <a:ext cx="8915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6% WOULD be influenced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least under certain condition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1% would NOT be influenced –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junior faculty / me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28600" y="228600"/>
            <a:ext cx="891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president &amp; provost encouraged publishing in OA journ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28240" y="609120"/>
            <a:ext cx="8915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nfluence negotiate right to self-archive?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14400" y="2682720"/>
          <a:ext cx="9053280" cy="418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00" y="2682720"/>
                    <a:ext cx="9053280" cy="418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3" name=""/>
          <p:cNvSpPr/>
          <p:nvPr/>
        </p:nvSpPr>
        <p:spPr>
          <a:xfrm>
            <a:off x="228600" y="1523880"/>
            <a:ext cx="8915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% WOULD be influenc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2% would NOT be influenc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28600" y="762120"/>
            <a:ext cx="8686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nfluence where you choose to publish?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28600" y="76320"/>
            <a:ext cx="891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promotion &amp; tenure committees valued OA journals                                                    as highly as or more highly than traditional journ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20520" y="2744640"/>
          <a:ext cx="9118800" cy="4111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2744640"/>
                    <a:ext cx="9118800" cy="411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8" name=""/>
          <p:cNvSpPr/>
          <p:nvPr/>
        </p:nvSpPr>
        <p:spPr>
          <a:xfrm>
            <a:off x="228600" y="1523880"/>
            <a:ext cx="8915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3% WOULD be influenced –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17% more than pres/provo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4% would NOT be influenced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– 17% less than pres/provo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28240" y="762120"/>
            <a:ext cx="8915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nfluence negotiate right to self-archive?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49320" y="2743200"/>
          <a:ext cx="9120240" cy="413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320" y="2743200"/>
                    <a:ext cx="9120240" cy="413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2" name=""/>
          <p:cNvSpPr/>
          <p:nvPr/>
        </p:nvSpPr>
        <p:spPr>
          <a:xfrm>
            <a:off x="228600" y="76320"/>
            <a:ext cx="891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promotion &amp; tenure committees valued OA journals                                                  as highly as or more highly than traditional journ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28600" y="1523880"/>
            <a:ext cx="8915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3% WOULD be influenced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– 4% more than pres/provo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1% would NOT be influenced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– 11% less than pres/provo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Times New Roman"/>
              </a:rPr>
              <a:t>Resist influence peddling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0" y="1239840"/>
          <a:ext cx="4846680" cy="559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39840"/>
                    <a:ext cx="4846680" cy="559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7" name=""/>
          <p:cNvSpPr/>
          <p:nvPr/>
        </p:nvSpPr>
        <p:spPr>
          <a:xfrm>
            <a:off x="4876920" y="1219320"/>
            <a:ext cx="426708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Times New Roman"/>
              </a:rPr>
              <a:t>5% resist president/provos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age ra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Times New Roman"/>
              </a:rPr>
              <a:t>17% resist promotion                 &amp; tenure committe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age ra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1296720" y="2819520"/>
            <a:ext cx="3615480" cy="2590200"/>
            <a:chOff x="1296720" y="2819520"/>
            <a:chExt cx="3615480" cy="2590200"/>
          </a:xfrm>
        </p:grpSpPr>
        <p:sp>
          <p:nvSpPr>
            <p:cNvPr id="159" name=""/>
            <p:cNvSpPr/>
            <p:nvPr/>
          </p:nvSpPr>
          <p:spPr>
            <a:xfrm>
              <a:off x="1296720" y="2819520"/>
              <a:ext cx="1438200" cy="64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nly faculty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ith tenu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1828800" y="3428640"/>
              <a:ext cx="76320" cy="190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981080" y="3504960"/>
              <a:ext cx="76320" cy="137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590920" y="4647960"/>
              <a:ext cx="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135880" y="4267080"/>
              <a:ext cx="1614960" cy="64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nly assista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rofesso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234960" y="3200040"/>
              <a:ext cx="1677240" cy="64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nly associa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rofesso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3428640" y="3885840"/>
              <a:ext cx="609480" cy="137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3657600" y="3885840"/>
              <a:ext cx="38088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28240" y="759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22% would speculate about motives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0" y="3089160"/>
          <a:ext cx="4489560" cy="383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089160"/>
                    <a:ext cx="4489560" cy="383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0" name=""/>
          <p:cNvSpPr/>
          <p:nvPr/>
        </p:nvSpPr>
        <p:spPr>
          <a:xfrm>
            <a:off x="4876920" y="1219320"/>
            <a:ext cx="426708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4654440" y="3089160"/>
          <a:ext cx="4489560" cy="3845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54440" y="3089160"/>
                    <a:ext cx="4489560" cy="384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3" name=""/>
          <p:cNvSpPr/>
          <p:nvPr/>
        </p:nvSpPr>
        <p:spPr>
          <a:xfrm>
            <a:off x="228600" y="1219320"/>
            <a:ext cx="43434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0% speculate about president &amp; provos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ver half (11%) assume driven by economic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800600" y="1219320"/>
            <a:ext cx="43434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1% speculate about          P&amp;T committe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ver half (7%) assume driven by something el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llege trends  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228600" y="1219320"/>
          <a:ext cx="8839080" cy="2860560"/>
        </p:xfrm>
        <a:graphic>
          <a:graphicData uri="http://schemas.openxmlformats.org/drawingml/2006/table">
            <a:tbl>
              <a:tblPr/>
              <a:tblGrid>
                <a:gridCol w="2133720"/>
                <a:gridCol w="990360"/>
                <a:gridCol w="762120"/>
                <a:gridCol w="990720"/>
                <a:gridCol w="1981080"/>
                <a:gridCol w="990720"/>
                <a:gridCol w="990360"/>
              </a:tblGrid>
              <a:tr h="4597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Most likely to NOT </a:t>
                      </a:r>
                      <a:r>
                        <a:rPr b="1" i="1" lang="en-US" sz="2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be influenc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sident &amp; provo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motion &amp; tenure committee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60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lvl="1" marL="11448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oice of publish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SCS </a:t>
                      </a: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61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CIT </a:t>
                      </a: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58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pper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3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IT, MCS, SCS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3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pper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FA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lvl="1" marL="11448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ight to self-arch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pper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3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IT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3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CS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CS      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&amp;SS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pper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7" name=""/>
          <p:cNvGraphicFramePr/>
          <p:nvPr/>
        </p:nvGraphicFramePr>
        <p:xfrm>
          <a:off x="228600" y="4191120"/>
          <a:ext cx="8839080" cy="2528640"/>
        </p:xfrm>
        <a:graphic>
          <a:graphicData uri="http://schemas.openxmlformats.org/drawingml/2006/table">
            <a:tbl>
              <a:tblPr/>
              <a:tblGrid>
                <a:gridCol w="2133360"/>
                <a:gridCol w="914400"/>
                <a:gridCol w="990720"/>
                <a:gridCol w="838080"/>
                <a:gridCol w="1905120"/>
                <a:gridCol w="1143000"/>
                <a:gridCol w="914400"/>
              </a:tblGrid>
              <a:tr h="4597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Most likely t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sident &amp; provo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motion &amp; tenure committee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4120">
                <a:tc>
                  <a:txBody>
                    <a:bodyPr lIns="90000" rIns="90000" tIns="46800" bIns="46800" anchor="ctr">
                      <a:noAutofit/>
                    </a:bodyPr>
                    <a:p>
                      <a:pPr lvl="1" marL="11448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si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L 25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ppe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IT 8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einz &amp; MCS 33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pper 29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&amp;SS 24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lvl="1" marL="11448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flect on motiv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UL </a:t>
                      </a: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7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Heinz </a:t>
                      </a: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67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MCS </a:t>
                      </a: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58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UL &amp; Heinz </a:t>
                      </a: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5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CS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2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&amp;SS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1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22% self-archive or publish O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235080" y="1219320"/>
          <a:ext cx="4821120" cy="344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5080" y="1219320"/>
                    <a:ext cx="4821120" cy="344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" name=""/>
          <p:cNvGraphicFramePr/>
          <p:nvPr/>
        </p:nvGraphicFramePr>
        <p:xfrm>
          <a:off x="304920" y="4627440"/>
          <a:ext cx="8589960" cy="2257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4627440"/>
                    <a:ext cx="8589960" cy="225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29200" y="1219320"/>
            <a:ext cx="41148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Mostly me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ll age rang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enure – all rank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eaching – only assistant &amp; associate professor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esearch – only associate &amp; full professor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28240" y="759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Times New Roman"/>
              </a:rPr>
              <a:t>63% are concerned about OA journals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39600" y="2181240"/>
          <a:ext cx="9063000" cy="459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600" y="2181240"/>
                    <a:ext cx="9063000" cy="459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7" name=""/>
          <p:cNvSpPr/>
          <p:nvPr/>
        </p:nvSpPr>
        <p:spPr>
          <a:xfrm>
            <a:off x="4876920" y="1219320"/>
            <a:ext cx="426708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28600" y="1219320"/>
            <a:ext cx="8915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colleges, tracks, ranks &amp; gende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cern decreases slightly with 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ncentive to negotiate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ight to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self-archive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127080" y="1289160"/>
          <a:ext cx="8932680" cy="551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7080" y="1289160"/>
                    <a:ext cx="8932680" cy="551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/>
          <p:cNvSpPr/>
          <p:nvPr/>
        </p:nvSpPr>
        <p:spPr>
          <a:xfrm>
            <a:off x="608760" y="1219320"/>
            <a:ext cx="4390920" cy="184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Overall, 6% will NOT negot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6% of the tenure tr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18% of the research tr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Most likely CIT &amp; Tep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dditional demographic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647640" y="1219320"/>
          <a:ext cx="7848720" cy="4678200"/>
        </p:xfrm>
        <a:graphic>
          <a:graphicData uri="http://schemas.openxmlformats.org/drawingml/2006/table">
            <a:tbl>
              <a:tblPr/>
              <a:tblGrid>
                <a:gridCol w="1295640"/>
                <a:gridCol w="1447560"/>
                <a:gridCol w="1143000"/>
                <a:gridCol w="1447920"/>
                <a:gridCol w="1371600"/>
                <a:gridCol w="1143000"/>
              </a:tblGrid>
              <a:tr h="505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7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Age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All track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nur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achin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brary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-39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29%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%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%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%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%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-49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30%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%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%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5%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-59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28%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%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%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%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%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 +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14%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%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%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7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Gender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All track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nur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achin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brary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le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70%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3%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7%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1%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4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emale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30%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%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3%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%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%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Incentives to self-archive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209520" y="1219320"/>
          <a:ext cx="8724960" cy="4244760"/>
        </p:xfrm>
        <a:graphic>
          <a:graphicData uri="http://schemas.openxmlformats.org/drawingml/2006/table">
            <a:tbl>
              <a:tblPr/>
              <a:tblGrid>
                <a:gridCol w="3371760"/>
                <a:gridCol w="1249560"/>
                <a:gridCol w="4103640"/>
              </a:tblGrid>
              <a:tr h="4291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lvl="1" marL="114480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ols &amp; suppor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2" rowSpan="3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rst or second priority for tenure- and teaching-track faculty and for all colleges, genders, &amp; age ranges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xcept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60 and olde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91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lvl="1" marL="114480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ublisher behavio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lvl="1" marL="114480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er behavio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114480"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ols &amp; suppor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2" rowSpan="3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rst or second priority for research-trac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114480"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er behavio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114480"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niversity negotiate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lvl="1" marL="11448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91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lvl="1" marL="114480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thers mandate or reques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rst priority for faculty              ages 60 and olde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lvl="1" marL="114480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etter understanding of open acces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Additional incentives per college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228600" y="1219320"/>
          <a:ext cx="6858000" cy="5257800"/>
        </p:xfrm>
        <a:graphic>
          <a:graphicData uri="http://schemas.openxmlformats.org/drawingml/2006/table">
            <a:tbl>
              <a:tblPr/>
              <a:tblGrid>
                <a:gridCol w="3352680"/>
                <a:gridCol w="3505320"/>
              </a:tblGrid>
              <a:tr h="83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niversity negotiates or does collective bargainin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rst priority for SCS                 and Teppe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vidence of access proble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rst or second priority            for Tepper, Heinz, and MC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etter understanding                           of open acces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cond or third priority           for CFA, CIT, and SC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and confidenc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cond priority for CIT, H&amp;SS, and U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niversity reques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rst, second or third priority                for Tepper, Heinz and CI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thers mandate or reques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cond priority for CFA            and Heinz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8240" y="75960"/>
            <a:ext cx="8915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Times New Roman"/>
              </a:rPr>
              <a:t>Concern about open access exceeds concern about problems in scholarly communication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50760" y="1662120"/>
          <a:ext cx="9042480" cy="511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760" y="1662120"/>
                    <a:ext cx="9042480" cy="511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0" name=""/>
          <p:cNvSpPr/>
          <p:nvPr/>
        </p:nvSpPr>
        <p:spPr>
          <a:xfrm>
            <a:off x="1068120" y="1981080"/>
            <a:ext cx="225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Open ac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069920" y="4114800"/>
            <a:ext cx="413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cholarly commun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228600" y="2315880"/>
            <a:ext cx="4191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ira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s prices go up, subscriptions go down, which drives prices up and subscriptions dow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equenc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ewer people have access to your wor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title"/>
          </p:nvPr>
        </p:nvSpPr>
        <p:spPr>
          <a:xfrm>
            <a:off x="228240" y="304560"/>
            <a:ext cx="3962520" cy="19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* The economics           of scholarly communication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4137120" y="0"/>
            <a:ext cx="5006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28600" y="274680"/>
            <a:ext cx="8686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* Auxiliary concern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library loan is likely to 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e U.S. Copyright Office is investigating the implications                 of digital technologies for Title 17 Section 10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journal publishers merge, journal prices go 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hn Wiley &amp; Sons plans to purchase Blackwell Publis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f Wiley raises the prices of Blackwell journals to the company norm, prices will increase significantl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cholarly societies currently publishing with Blackwell are considering exiting if the merger occurs – concerned about price increases and termination of their agreement with Blackwell to never charge a copyright fee for journal articles used in classroom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588120" y="5943600"/>
            <a:ext cx="533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onicle of Higher Education, December 15,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28600" y="274680"/>
            <a:ext cx="8686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* Compelling reasons to self-archive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28240" y="1219320"/>
            <a:ext cx="8915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Open access impact advant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YOU COULD ALREADY HAVE THE RIG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838080" y="2438280"/>
          <a:ext cx="8001000" cy="3411360"/>
        </p:xfrm>
        <a:graphic>
          <a:graphicData uri="http://schemas.openxmlformats.org/drawingml/2006/table">
            <a:tbl>
              <a:tblPr/>
              <a:tblGrid>
                <a:gridCol w="3048120"/>
                <a:gridCol w="1295280"/>
                <a:gridCol w="1066680"/>
                <a:gridCol w="1600200"/>
                <a:gridCol w="990720"/>
              </a:tblGrid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urnal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%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ublisher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%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print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,253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%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%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stprint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772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%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%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print &amp; Postprint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,855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%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%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otal self archiving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8,88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83%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5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58%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 self-archiving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793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%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7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2%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tal in study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,673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%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8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%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1" name=""/>
          <p:cNvSpPr/>
          <p:nvPr/>
        </p:nvSpPr>
        <p:spPr>
          <a:xfrm>
            <a:off x="1458720" y="6019920"/>
            <a:ext cx="744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om Stevan Harnad &amp; Tim Brody, “Comparing the Impact of Open Access (OA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s. Non-OA Articles in the Same Journals,”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D-Lib magazin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10 (6), June 2004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28600" y="274680"/>
            <a:ext cx="8686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http://www.sherpa.ac.uk/romeo.php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923760" y="1162080"/>
            <a:ext cx="7296480" cy="569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Other tool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228600" y="1219320"/>
            <a:ext cx="4334040" cy="338292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231120" y="4572000"/>
            <a:ext cx="39891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rectory of Open Access Journ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://www.doaj.org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4195800" y="2362320"/>
            <a:ext cx="4719600" cy="34225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4573440" y="5791320"/>
            <a:ext cx="409284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reative Commons licen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://creativecommons.org/license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uthors’ Rights and Wrong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686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ducational program spring semester 2007                             for Carnegie Mellon faculty and graduate stud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Mark your calenda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– events scheduled to d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649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Times New Roman"/>
              </a:rPr>
              <a:t>January 31, 4:30-6:30, Posner Center –  Kick-off by Provost Mark Kamlet, includes recep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649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Times New Roman"/>
              </a:rPr>
              <a:t>February 20 and 21, 4:30-6:00, Posner Center –  Workshop on copyright &amp; open access (offered twice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649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Times New Roman"/>
              </a:rPr>
              <a:t>March 19, 4:30-6:00, Adamson Wing – Julia Blixrud, Scholarly Publishing and Academic Resources Coalition (SPARC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174920" y="5807160"/>
            <a:ext cx="473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onsored by University Libr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university legal couns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28600" y="762120"/>
            <a:ext cx="86868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914040" y="3047760"/>
            <a:ext cx="350532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nise Troll Cov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rincipal Librarian                                     for Special Project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arnegie Mellon                         University Librari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troll@andrew.cmu.edu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4572000" y="3048120"/>
            <a:ext cx="3886200" cy="29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nterview Q&amp;A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66688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es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cc"/>
                </a:solidFill>
                <a:latin typeface="Times New Roman"/>
              </a:rPr>
              <a:t>Acces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cc"/>
                </a:solidFill>
                <a:latin typeface="Times New Roman"/>
              </a:rPr>
              <a:t>Publish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cc"/>
                </a:solidFill>
                <a:latin typeface="Times New Roman"/>
              </a:rPr>
              <a:t>Copyrigh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514600" y="1219320"/>
            <a:ext cx="266688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00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cc"/>
                </a:solidFill>
                <a:latin typeface="Times New Roman"/>
              </a:rPr>
              <a:t>Influ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rv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esearc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8600" y="3276720"/>
            <a:ext cx="502920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008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8000"/>
                </a:solidFill>
                <a:latin typeface="Times New Roman"/>
              </a:rPr>
              <a:t>Faculty sometimes talked around the ques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Based on previous answers, some questions weren’t ask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Data indicate percentage               of all faculty in catego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238720" y="1828800"/>
            <a:ext cx="360036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lected Access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&amp; Publishing Question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457360" y="2590920"/>
            <a:ext cx="4229280" cy="31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Value of web?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60480" y="2287440"/>
          <a:ext cx="9083520" cy="4508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480" y="2287440"/>
                    <a:ext cx="9083520" cy="450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240" y="1218960"/>
            <a:ext cx="8534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culty value the web more as a tool for access                       than a vehicle of dissemin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hat does “open access” mean?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76320" y="2303640"/>
          <a:ext cx="9021600" cy="4506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2303640"/>
                    <a:ext cx="9021600" cy="450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240" y="1219320"/>
            <a:ext cx="8915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or to guessing, 16% knew the meaning of open acces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After guessing, 52% kn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600" y="274680"/>
            <a:ext cx="8686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* Meaning of open acces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Materials are freely available on the public interne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uthors retain control over the integrity of their work           and the right to be properly acknowledged and cit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Users ca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ead, download, copy, distribute, print, search, or link to the full texts, crawl them for indexing, pass them as data to software, or use them for any other lawful purpose without financial, legal, or technical barrier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Venues of open acces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elf-archiving by auth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Open access journal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573440" y="4952880"/>
            <a:ext cx="4428000" cy="9651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uthors must retain the right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 self-archive their work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0T12:44:26Z</dcterms:created>
  <dc:creator>Denise Troll Covey</dc:creator>
  <dc:description/>
  <dc:language>en-US</dc:language>
  <cp:lastModifiedBy>Denise Troll Covey</cp:lastModifiedBy>
  <dcterms:modified xsi:type="dcterms:W3CDTF">2007-01-17T16:18:21Z</dcterms:modified>
  <cp:revision>375</cp:revision>
  <dc:subject/>
  <dc:title>Slide 1</dc:title>
</cp:coreProperties>
</file>