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7.wmf" ContentType="image/x-wmf"/>
  <Override PartName="/ppt/media/image12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3.wmf" ContentType="image/x-wmf"/>
  <Override PartName="/ppt/media/image34.wmf" ContentType="image/x-wmf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11.wmf" ContentType="image/x-wmf"/>
  <Override PartName="/ppt/media/image36.png" ContentType="image/png"/>
  <Override PartName="/ppt/media/image13.wmf" ContentType="image/x-wmf"/>
  <Override PartName="/ppt/media/image38.png" ContentType="image/png"/>
  <Override PartName="/ppt/media/image39.jpeg" ContentType="image/jpe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8.wmf" ContentType="image/x-wmf"/>
  <Override PartName="/ppt/media/image4.jpeg" ContentType="image/jpeg"/>
  <Override PartName="/ppt/media/image14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7400" y="690120"/>
            <a:ext cx="460368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296F-EB2E-4B08-B734-FEED89001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Commons - Our long term vision is to provide more than just useful contracts. We will combine our publishing, data, and licensing approaches to develop solutions for a truly integrated and streamlined research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ulty in all tracks &amp; all  but one college sai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is   not importa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business school faculty did NOT say copyright transfer terms were not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keliest to think not importan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nure track, especially associate professors with or without ten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likely to be influenc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nure track: those without tenu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track: associate                     &amp; full profess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es 30-39 and 60 &amp; 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likely to say © not impor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track, especially assistant profess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es 40-49 and 50-5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likely not to keep copie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ociate &amp; full research prof; Assoc &amp; full prof with ten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, engineering,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likely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 kee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pies      &amp;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t know where they 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&amp; teaching track;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check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istant research profess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ities &amp; social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ages 40-49 most likely to try to negotiat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archive =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 of equal interest with the issue of exclusive transf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least half of the faculty in each college &amp; age range have NOT tried     to negotiate © transfer terms for artic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business school faculty did NOT say copyright transfer terms were not impor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ikeliest to think not importa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ure track, especially associate professors with or without ten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have tr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nure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ulty ages 30-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Men [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[FIX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50+% in each college  &amp; age range have NOT tr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not to have tr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brary track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stant research professors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[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4% would negoti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3% research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% would not negoti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% would change               or avoid the publish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% library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% would ignore                      the agre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% tenure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% research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 = of library track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4% would negotiat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5% would no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 &amp; 60 and ol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% would change or avoid the publishe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tra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 would ignore the agre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ure &amp; 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 few mentioned financi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1% control or flex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gt;35% each colle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% (faculty in all tracks     &amp; colleges) sai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ttle if any valu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 retaining copyrigh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, followed by 50-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me tenure &amp; teaching track faculty didn’t know any benefits to retaining 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S FOR TRANSFER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fine arts &amp; public policy said transfer was benef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all other colleges &amp; on all faculty tracks said transfer was required or 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the libraries had not transferred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 few mentioned financi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1% control or flex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gt;35% each colle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% (faculty in all tracks     &amp; colleges) sai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ttle if any valu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 retaining copyrigh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, followed by 50-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me tenure &amp; teaching track faculty didn’t know any benefits to retaining 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S FOR TRANSFER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fine arts &amp; public policy said transfer was benef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all other colleges &amp; on all faculty tracks said transfer was required or 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the libraries had not transferred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 = of library track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exception of library, fewer than half the faculty on each track said they understand the rights in their agre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% do not read their agreements carefully or worry about their righ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ly research                           and tenure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men ages 30-39               and 40-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ver half of the associate professors with tenure said they don’t read their agreements or worry about their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women are more likely to consul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40-49 and 60+ most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gotiate the right to self-archive if publisher forbi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 an article if publisher refused 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ithdraw an article if publisher refuse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r avoid publisher who refused their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already OA [published in OA journal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ince 37% don’t keep copies &amp; 20% keep copies but don’t know wher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on all tracks said they would consult                             their agreements, publishers, colleagues, or legal coun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6% WOULD be influenced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, at least under certain conditions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aching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es 60 &amp; ol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1% would NOT be influenced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uter science, engineering, 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es 30-39 &amp; 50-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49% WOULD be influenc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&amp; teaching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50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22% would NOT be influenc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25% of tenure                             &amp; research track facul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30-39 and 40-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3% WOULD be influenced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, at least under certain conditions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track, library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, physical science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the faculty                under age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4% would NOT be influenced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, physical science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30-3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53% WOULD be influenc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brary &amp; research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ublic policy facul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of the faculty in all colleges except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say yes: ages 30-39 and 50-59;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ould NOT be influenc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[FIX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25% in humanities &amp; social sciences, physical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say n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40-49 and 60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5% resist president/prov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 25%,   Tepper 14%,  CIT 8%,   SCS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age r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7% resist promotion                 &amp; tenure committ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nz 33%,   MCS 33%, Tepper 29%,   H&amp;SS 24%, SCS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age r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: public policy &amp; computer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P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busines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&amp;T committees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H&amp;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 about OA =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ly public policy &amp; computer science [FIX-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self-archiving or OA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science, public policy, engineering, busine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&amp;T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l tracks 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atest concern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&amp; prestige                             of OA jour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E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al sui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: public policy &amp; computer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P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busines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&amp;T committees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H&amp;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 about OA =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ly public policy &amp; computer science [FIX-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self-archiving or OA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science, public policy, engineering, busine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&amp;T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l tracks 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atest concern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&amp; prestige                             of OA jour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E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al sui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: public policy &amp; computer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P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busines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&amp;T committees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H&amp;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 about OA =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ly public policy &amp; computer science [FIX-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self-archiving or OA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science, public policy, engineering, busine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&amp;T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l tracks 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atest concern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&amp; prestige                             of OA jour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E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al sui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research track, appreciation of web as vehicle of dissemination increases with r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value web as disse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ne age 50+ valued    the web for preservation         or other efficien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0+% all tracks, colleges, ages did not know prior to gue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likely to 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ure track:                     faculty without ten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cks: as get promoted through r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likely to guess w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 50 &amp; 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s c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ad, download, copy, distribute, print, search, or link to the full texts, crawl them for indexing, pass them as data to software, or use them for any other lawful purpose without financial, legal, or technical barri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ulty Righ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Other Scholarly Communication Practic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40384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cipal Librarian for Special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negie Mel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gital Library Colloqu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nuary 2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10080" y="40006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76200" y="984240"/>
            <a:ext cx="6724800" cy="5873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The open access impact advant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rd of the Creative Common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840" y="2251080"/>
          <a:ext cx="900432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2251080"/>
                    <a:ext cx="900432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2860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3% have heard of the Creative Commons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me incorrectly think CC means no copy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Meaning of Creative Commons (CC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n-profit organization that provides free tools for authors   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o chang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©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erms legall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ll Rights Reserved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                       to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 Rights Reserv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cience Comm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Creative Commons working with the Scholarly Publishing &amp; Academic Resources Coalition (SPARC) to accelerate the movement of information, tools  and data through the scientific research cycle by identifying and removing unnecessary legal and technical barri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10280" y="5959440"/>
            <a:ext cx="1905120" cy="669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5943600"/>
            <a:ext cx="2686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© terms affect choice of publishe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8680" y="2316240"/>
          <a:ext cx="9055080" cy="45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2316240"/>
                    <a:ext cx="905508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28600" y="1219320"/>
            <a:ext cx="8534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7% are NOT influenced by © transfer t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4% said © terms are not impor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ep copies of signed agreement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3132000"/>
          <a:ext cx="9074160" cy="37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32000"/>
                    <a:ext cx="907416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0% do NOT keep cop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2% keep copies, 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but don’t know where they 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6% appear not to realize that “click through” agreements carry the force of la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ed to negotiate ©  transfer term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have tried to negoti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s for an arti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ose who tried to negot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–use of their work was top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right to self-archive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f interest to only 3% of the facul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f interest only to tenure track                                                   assistant &amp; full professors                                                                    in SCS &amp; H&amp;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f interest to women slightly more than 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Not of interest to faculty ages 40-4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943600" y="1828800"/>
          <a:ext cx="309240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828800"/>
                    <a:ext cx="309240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gotiate if not allowed to self-archiv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240" y="2809800"/>
          <a:ext cx="905328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2809800"/>
                    <a:ext cx="90532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% would negotiate, 25% would NOT, 20% not 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6% would change or avoid the 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8% would ignore the agre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Copyright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57360" y="243828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to retaining copyright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1% said control or flexibility;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% didn’t know any benef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4% said little if any value in retaining copyrigh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% appeared to think U.S.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© law includes moral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0" y="2759040"/>
          <a:ext cx="9088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759040"/>
                    <a:ext cx="9088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transfer copyright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6% said because it is required or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% said because it is beneficial –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ublishers are better at disseminating their work than they 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480" y="2716200"/>
          <a:ext cx="9088200" cy="41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2716200"/>
                    <a:ext cx="908820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tudy: March – June 2006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certain faculty practices &amp; understanding                regarding publishing &amp; disseminating their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 the Libraries to target education, tools &amp;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dentify triggers likely to change faculty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lot for a larger, multi-institution stu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atified random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ted more than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away 24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views averaged 30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445788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rights in agreement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560" y="2362320"/>
          <a:ext cx="904716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2362320"/>
                    <a:ext cx="904716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% understand, 41% do NOT, 15% aren’t su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Times New Roman"/>
              </a:rPr>
              <a:t>15% don’t read agreements carefully or worry about righ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umption if rights are unclea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080" y="2751120"/>
          <a:ext cx="90820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751120"/>
                    <a:ext cx="90820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28600" y="121932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said they would consult their agreements,   publishers, colleagues, or legal coun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6% said what they would do without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nure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aculty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enure are more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meaning of ope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ir rights &amp; keep copies of their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ant professors would ignore the agreement                   rather than try to negotiate the right to self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aculty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enure are more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ad their agreements or worry about their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gardless of rank or tenure status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ost likely (47%) to act                        without permission if they don’t understand their r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ing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assistant teaching profess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ried to negot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their agreements or worry about their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n’t sure if they understand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ignore their agreements with publis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financial benefits to retaining thei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full professors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ask permission                                                 if they don’t understand their r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48520" y="462924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ehavior in regard to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©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ransfer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aculty would change publishers because of thei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te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ull professors have tried to negot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ssociate professors would ignore the agreement                   rather than try to negotiate the right to self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ssistant research profess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ink they understand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eep copies of their agreements, but don’t know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he following appear to increase with r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ciation of the web as a vehicle of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transfer terms in choosing a publis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 that there is little if any value in retaining 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g without permission (overall 2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ge trends – Most likely to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1219320"/>
          <a:ext cx="8229600" cy="4276440"/>
        </p:xfrm>
        <a:graphic>
          <a:graphicData uri="http://schemas.openxmlformats.org/drawingml/2006/table">
            <a:tbl>
              <a:tblPr/>
              <a:tblGrid>
                <a:gridCol w="4267080"/>
                <a:gridCol w="1067040"/>
                <a:gridCol w="1828800"/>
                <a:gridCol w="10666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be influenced by ©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&amp;SS   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keep copies of © agre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CS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understand their rights                      in their agre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CS &amp; Heinz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negotiate the right                        to self-arch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benefit to transferr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A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n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ge trends – Most likely to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219320"/>
          <a:ext cx="8229600" cy="3636720"/>
        </p:xfrm>
        <a:graphic>
          <a:graphicData uri="http://schemas.openxmlformats.org/drawingml/2006/table">
            <a:tbl>
              <a:tblPr/>
              <a:tblGrid>
                <a:gridCol w="3886200"/>
                <a:gridCol w="1219320"/>
                <a:gridCol w="1295280"/>
                <a:gridCol w="182880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See little if any value                  in retaining 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IT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Change or avoid publisher             if don’t like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©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term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L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Not read agreements carefully  or worry about their r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&amp; SC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Ignore their agre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S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A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&amp; MC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en are more likely than women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the web as a vehicle of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influenced by © 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negotiate © transfer te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ry to negotiate the right to self-archive if publisher forbi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keep copies of their © transfe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the terms of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without per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©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men said th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nderstand their © transfer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their agreements or worry about their righ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en rights are uncl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er faculty are more likely to consult the agreemen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er faculty are more likely to act without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ges 30-39 most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negotiate © transfer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ges 40-49 most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influenced by © 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©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keep copies of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53080" y="4896000"/>
            <a:ext cx="23623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Influence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57360" y="23623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4480" y="279360"/>
          <a:ext cx="8915400" cy="6299280"/>
        </p:xfrm>
        <a:graphic>
          <a:graphicData uri="http://schemas.openxmlformats.org/drawingml/2006/table">
            <a:tbl>
              <a:tblPr/>
              <a:tblGrid>
                <a:gridCol w="1371600"/>
                <a:gridCol w="533160"/>
                <a:gridCol w="533520"/>
                <a:gridCol w="685800"/>
                <a:gridCol w="609480"/>
                <a:gridCol w="685800"/>
                <a:gridCol w="609840"/>
                <a:gridCol w="609480"/>
                <a:gridCol w="563400"/>
                <a:gridCol w="884520"/>
                <a:gridCol w="990360"/>
                <a:gridCol w="83844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arg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Turned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n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Turned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where you choose to pub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760" y="2637000"/>
          <a:ext cx="90662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2637000"/>
                    <a:ext cx="90662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sident &amp; provost encouraged publishing in OA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38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WOULD be influenc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under certain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% would NOT be influenced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junior faculty / m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sident &amp; provost encouraged publishing in OA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negotiate right to self-archiv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400" y="2682720"/>
          <a:ext cx="905328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" y="2682720"/>
                    <a:ext cx="905328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28600" y="15238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% WOULD be influen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 would NOT be influ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where you choose to pub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motion &amp; tenure committees valued OA journals                                                    as highly as or more highly than traditional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520" y="2744640"/>
          <a:ext cx="9118800" cy="41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2744640"/>
                    <a:ext cx="911880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28600" y="1523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WOULD be influenced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7% more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% would NOT be influenc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17% less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negotiate right to self-archiv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9320" y="2743200"/>
          <a:ext cx="912024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2743200"/>
                    <a:ext cx="91202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2860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motion &amp; tenure committees valued OA journals                                                  as highly as or more highly than traditional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23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WOULD be influenc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4% more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 would NOT be influenc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11% less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sist influence pedd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39840"/>
          <a:ext cx="4846680" cy="55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9840"/>
                    <a:ext cx="484668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5% resist president/provo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7% resist promotion                 &amp; tenure committ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6720" y="2819520"/>
            <a:ext cx="3615480" cy="2590200"/>
            <a:chOff x="1296720" y="2819520"/>
            <a:chExt cx="3615480" cy="2590200"/>
          </a:xfrm>
        </p:grpSpPr>
        <p:sp>
          <p:nvSpPr>
            <p:cNvPr id="159" name=""/>
            <p:cNvSpPr/>
            <p:nvPr/>
          </p:nvSpPr>
          <p:spPr>
            <a:xfrm>
              <a:off x="1296720" y="2819520"/>
              <a:ext cx="14382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y facul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ten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828800" y="342864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1080" y="3504960"/>
              <a:ext cx="7632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46479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5880" y="4267080"/>
              <a:ext cx="16149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y assis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fess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34960" y="3200040"/>
              <a:ext cx="16772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y associ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fess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428640" y="3885840"/>
              <a:ext cx="60948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657600" y="388584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2% would speculate about motiv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3089160"/>
          <a:ext cx="448956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89160"/>
                    <a:ext cx="448956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54440" y="3089160"/>
          <a:ext cx="4489560" cy="384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4440" y="3089160"/>
                    <a:ext cx="448956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28600" y="121932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% speculate about president &amp; prov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half (11%) assume driven by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21932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 speculate about          P&amp;T committ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half (7%) assume driven by something 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ge trends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1219320"/>
          <a:ext cx="8839080" cy="2860560"/>
        </p:xfrm>
        <a:graphic>
          <a:graphicData uri="http://schemas.openxmlformats.org/drawingml/2006/table">
            <a:tbl>
              <a:tblPr/>
              <a:tblGrid>
                <a:gridCol w="2133720"/>
                <a:gridCol w="990360"/>
                <a:gridCol w="762120"/>
                <a:gridCol w="990720"/>
                <a:gridCol w="1981080"/>
                <a:gridCol w="990720"/>
                <a:gridCol w="99036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st likely to NOT </a:t>
                      </a: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e influenc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 &amp; prov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otion &amp; tenure committe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ice of publis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CS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, MCS, SC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 to self-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28600" y="4191120"/>
          <a:ext cx="8839080" cy="2528640"/>
        </p:xfrm>
        <a:graphic>
          <a:graphicData uri="http://schemas.openxmlformats.org/drawingml/2006/table">
            <a:tbl>
              <a:tblPr/>
              <a:tblGrid>
                <a:gridCol w="2133360"/>
                <a:gridCol w="914400"/>
                <a:gridCol w="990720"/>
                <a:gridCol w="838080"/>
                <a:gridCol w="1905120"/>
                <a:gridCol w="1143000"/>
                <a:gridCol w="91440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st likely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 &amp; prov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otion &amp; tenure committe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 2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nz &amp; MCS 3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2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2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lect on mo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L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inz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CS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L &amp; Heinz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22% self-archive or publish O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35080" y="1219320"/>
          <a:ext cx="482112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219320"/>
                    <a:ext cx="482112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04920" y="4627440"/>
          <a:ext cx="8589960" cy="22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27440"/>
                    <a:ext cx="85899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0" y="12193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ly 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nure – all r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ching – only assistant &amp; associate profess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earch – only associate &amp; full profess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63% are concerned about OA journa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600" y="2181240"/>
          <a:ext cx="90630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00" y="2181240"/>
                    <a:ext cx="9063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2193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lleges, tracks, ranks &amp; gen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 decreases slightly with 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entive to negotiat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ght t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elf-arch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7080" y="1289160"/>
          <a:ext cx="8932680" cy="55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289160"/>
                    <a:ext cx="893268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608760" y="1219320"/>
            <a:ext cx="4390920" cy="18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verall, 6% will NOT nego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6% of the tenu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8% of the research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st likely CIT &amp; T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ditional demograph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47640" y="1219320"/>
          <a:ext cx="7848720" cy="467820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  <a:gridCol w="1143000"/>
                <a:gridCol w="1447920"/>
                <a:gridCol w="1371600"/>
                <a:gridCol w="114300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g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ll track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3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5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nde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ll track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ncentives to self-archiv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09520" y="1219320"/>
          <a:ext cx="8724960" cy="4244760"/>
        </p:xfrm>
        <a:graphic>
          <a:graphicData uri="http://schemas.openxmlformats.org/drawingml/2006/table">
            <a:tbl>
              <a:tblPr/>
              <a:tblGrid>
                <a:gridCol w="3371760"/>
                <a:gridCol w="1249560"/>
                <a:gridCol w="41036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ls &amp; suppo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or second priority for tenure- and teaching-track faculty and for all colleges, genders, &amp; age ranges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60 and ol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sher behav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r behav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ls &amp; suppo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or second priority for research-tra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r behav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negotia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 mandate or requ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priority for faculty              ages 60 and ol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er understanding of open acc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dditional incentives per colleg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219320"/>
          <a:ext cx="6858000" cy="5257800"/>
        </p:xfrm>
        <a:graphic>
          <a:graphicData uri="http://schemas.openxmlformats.org/drawingml/2006/table">
            <a:tbl>
              <a:tblPr/>
              <a:tblGrid>
                <a:gridCol w="3352680"/>
                <a:gridCol w="3505320"/>
              </a:tblGrid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negotiates or does collective bargai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priority for SCS                 and Tepp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idence of access probl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or second priority            for Tepper, Heinz, and M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er understanding                           of open acc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or third priority           for CFA, CIT, and S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and confid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priority for CIT, H&amp;SS, and 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req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, second or third priority                for Tepper, Heinz and C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 mandate or requ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priority for CFA            and Hein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oncern about open access exceeds concern about problems in scholarly communi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0760" y="1662120"/>
          <a:ext cx="90424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1662120"/>
                    <a:ext cx="90424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068120" y="198108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e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9920" y="4114800"/>
            <a:ext cx="41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cholarl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231588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prices go up, subscriptions go down, which drives prices up and subscriptions 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wer people have access to your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39625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The economics           of scholarly commun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13712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Auxiliary concer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ibrary loan is likely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.S. Copyright Office is investigating the implications                 of digital technologies for Title 17 Section 1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journal publishers merge, journal prices g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Wiley &amp; Sons plans to purchase Blackwell 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Wiley raises the prices of Blackwell journals to the company norm, prices will increase significan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olarly societies currently publishing with Blackwell are considering exiting if the merger occurs – concerned about price increases and termination of their agreement with Blackwell to never charge a copyright fee for journal articles used in classroo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8120" y="59436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nicle of Higher Education, December 15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Compelling reasons to self-arch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en access impact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OU COULD ALREADY HAVE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38080" y="2438280"/>
          <a:ext cx="8001000" cy="3411360"/>
        </p:xfrm>
        <a:graphic>
          <a:graphicData uri="http://schemas.openxmlformats.org/drawingml/2006/table">
            <a:tbl>
              <a:tblPr/>
              <a:tblGrid>
                <a:gridCol w="3048120"/>
                <a:gridCol w="1295280"/>
                <a:gridCol w="1066680"/>
                <a:gridCol w="1600200"/>
                <a:gridCol w="990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urna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sh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ri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25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pri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rint &amp; Postpri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 self archiv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,8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3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elf-archiv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9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n stud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7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458720" y="6019920"/>
            <a:ext cx="744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Stevan Harnad &amp; Tim Brody, “Comparing the Impact of Open Access (O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. Non-OA Articles in the Same Journals,”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-Lib magaz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 (6), June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ttp://www.sherpa.ac.uk/romeo.ph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23760" y="1162080"/>
            <a:ext cx="72964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tool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334040" cy="338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1120" y="4572000"/>
            <a:ext cx="3989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 of Open Access Jou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doaj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195800" y="2362320"/>
            <a:ext cx="4719600" cy="3422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3440" y="5791320"/>
            <a:ext cx="4092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ve Commons lic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creativecommons.org/licens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hors’ Rights and Wrong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al program spring semester 2007                             for Carnegie Mellon faculty and graduate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rk your calend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events scheduled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January 31, 4:30-6:30, Posner Center –  Kick-off by Provost Mark Kamlet, includes rece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ebruary 20 and 21, 4:30-6:00, Posner Center –  Workshop on copyright &amp; open access (offered tw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arch 19, 4:30-6:00, Adamson Wing – Julia Blixrud, Scholarly Publishing and Academic Resources Coalition (SPAR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74920" y="5807160"/>
            <a:ext cx="47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 University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university legal coun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30477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ncipal Librarian                                     for Special Pro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rnegie Mellon                         University Libr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roll@andrew.cmu.edu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view Q&amp;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666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cces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Publis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opy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1219320"/>
            <a:ext cx="2666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Infl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27672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Faculty sometimes talked around the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previous answers, some questions weren’t as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indicate percentage               of all faculty in 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38720" y="182880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Acces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Publishing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57360" y="25909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lue of web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480" y="2287440"/>
          <a:ext cx="908352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2287440"/>
                    <a:ext cx="908352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y value the web more as a tool for access                       than a vehicle of disse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“open access” mea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320" y="2303640"/>
          <a:ext cx="90216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303640"/>
                    <a:ext cx="90216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guessing, 16% knew the meaning of 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fter guessing, 52%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Meaning of open acc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terials are freely available on the public inter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hors retain control over the integrity of their work           and the right to be properly acknowledged and c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rs 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d, download, copy, distribute, print, search, or link to the full texts, crawl them for indexing, pass them as data to software, or use them for any other lawful purpose without financial, legal, or technical barri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Venues of open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lf-archiving by aut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pen access jour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3440" y="4952880"/>
            <a:ext cx="4428000" cy="9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ors must retain the righ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elf-archive their 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44:26Z</dcterms:created>
  <dc:creator>Denise Troll Covey</dc:creator>
  <dc:description/>
  <dc:language>en-US</dc:language>
  <cp:lastModifiedBy>Denise Troll Covey</cp:lastModifiedBy>
  <dcterms:modified xsi:type="dcterms:W3CDTF">2007-01-17T16:18:21Z</dcterms:modified>
  <cp:revision>375</cp:revision>
  <dc:subject/>
  <dc:title>Slide 1</dc:title>
</cp:coreProperties>
</file>