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png" ContentType="image/png"/>
  <Override PartName="/ppt/media/image17.wmf" ContentType="image/x-wmf"/>
  <Override PartName="/ppt/media/image8.wmf" ContentType="image/x-wmf"/>
  <Override PartName="/ppt/media/image12.jpeg" ContentType="image/jpeg"/>
  <Override PartName="/ppt/media/image7.gif" ContentType="image/gif"/>
  <Override PartName="/ppt/media/image20.jpeg" ContentType="image/jpeg"/>
  <Override PartName="/ppt/media/image19.gif" ContentType="image/gif"/>
  <Override PartName="/ppt/media/image1.jpeg" ContentType="image/jpeg"/>
  <Override PartName="/ppt/media/image4.wmf" ContentType="image/x-wmf"/>
  <Override PartName="/ppt/media/image18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E9E2-819C-43D2-9181-5D6C63604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ed 17 e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granted permission = 3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denied permission = 2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idn’t respond = 18% -- 82% response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% of content – of titles published by copyright holders cont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know their r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know what they pu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s use of older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s use of older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 letters to correct addr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Academy Press – Rand McNally, Inc. – Brookings Institution Pr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3 = 20% per month x 15 months = 6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,400 per year salary &amp;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4 letters = 68.00 postage (U.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5 paper/pr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Statistic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95% of books are still in copy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% are in copyright, but out of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than 15% were renewed when requir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Constitution 17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stration is not required (since 1976), but encoura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quired in law suits over infring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ation are subject to mandatory deposit with the Library of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1710 British Statute of 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protection for consumers  of copyrighted works to prevent monopoly by booksel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d that authors should be primary beneficia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should have limited duration, after which works pass into the public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duration set at 2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s about third-party copyright ownershi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cent books will never be declared out of print because of print-on-demand contra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&amp; impact on users –what they did with the books &amp; why, what difference the books made, assessment of the quality of the Collection &amp; the delivery system, and their estimation of the significance of the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hold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 small fee ($1.00) 50 years after publication     &amp; every 10 years thereafter to retain copy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contact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opyright Off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financial transactions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publicly accessible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ed June 2003 by Representative Lofg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hold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 small fee ($1.00) 50 years after publication     &amp; every 10 years thereafter to retain copy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contact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opyright Off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financial transactions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publicly accessible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ed June 2003 by Representative Lofg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420800"/>
            <a:ext cx="5029200" cy="419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NE STATE –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KE –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MU –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ital environment might reduce transaction costs but will not affect cost of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owners don’t know what to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ff Lynch reference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ullet – “The Battle to Define the Future of the Book in the Digital World” -- FirstMon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 FOR RESERVES -- Wayne State Univers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d Burningham, “Copyright Permissions: A Pilot Project to Determine Costs, Procedures, &amp; Staffing Requirements,”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Journal of Interlibrary Loan, Document Delivery &amp; Information Supp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11 (2), 2000.  Pay staff $10 per hour (library assistant FTE @1750 hours) &amp; students $7.00 per hour(1000 ho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S -- Duke University – ads published 1910-19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tcher, Lynn, “Ad*Access: Seeking Copyright Permissions for a Digital Age,”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-LIB Magaz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6 (2), February 2000.  &lt; http://www.dlib.org/dlib/february00/pritcher/02pritcher.html 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S -- Carnegie Mell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ssion equally likely with in-print or out-of-print books, but more likely not to find publisher or get response with out-of-print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opyright permissions projects will track cost of seeking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row of percentages = percentage of previous row, e.g., 88% of the 9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even to 2nd le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ission gran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NOT in parentheses is percentage of responses that granted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IN parentheses is percentage of copyright protected items in the sample for which permission was gra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ss per publisher type (respon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% scholarly associ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7% university pre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1% museums, art gall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% commercial publis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ss per print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ose responding, equally like to get permission to digitize in-print or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re likely not to locate the publisher or get a response with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6 copyrighted titles / 1106 = 30% of 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3/326 = 16% foreign tit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acted owners of 218 titles  218/3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4 permission granted / 326 = 44% titles overall permission gra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4 permission granted / 218 = 66% titles overall permission gra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9 / 114 copyright holders = 34% granted per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ss per print status – random s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ose responding, equally like to get permission to digitize in-print or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re likely not to locate the publisher or get a response with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 copyright holders assumed denied (3 contacts igno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8%) publishers are fore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 access restriction (14 books, 11 publis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% time duration restriction (9 books, 1 publish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22064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Million Book Project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fronting Copyright Absurdity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eating Copyright H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48765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 Dean, Carnegie Mellon University 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USE Mid-Atlantic Regional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uary 2004 – Baltimore, Mary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IBRARYmillionBKs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8102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228600" y="1284120"/>
          <a:ext cx="3657600" cy="5421600"/>
        </p:xfrm>
        <a:graphic>
          <a:graphicData uri="http://schemas.openxmlformats.org/drawingml/2006/table">
            <a:tbl>
              <a:tblPr/>
              <a:tblGrid>
                <a:gridCol w="2133720"/>
                <a:gridCol w="15238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ccess R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olarly associ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pr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eums    &amp; gall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rcial publish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TES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Copyright Holder Typ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811680" y="2109960"/>
          <a:ext cx="517680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1680" y="2109960"/>
                    <a:ext cx="517680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286000" y="55627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840" y="1360440"/>
            <a:ext cx="116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6313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637160"/>
            <a:ext cx="228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3646440"/>
            <a:ext cx="22860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732040"/>
            <a:ext cx="2286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8600" y="2158920"/>
          <a:ext cx="6095880" cy="2565360"/>
        </p:xfrm>
        <a:graphic>
          <a:graphicData uri="http://schemas.openxmlformats.org/drawingml/2006/table">
            <a:tbl>
              <a:tblPr/>
              <a:tblGrid>
                <a:gridCol w="1447920"/>
                <a:gridCol w="4647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0,8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TE 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3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 c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 &amp; po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1,2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304920" y="3886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320" y="4800600"/>
            <a:ext cx="4841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03 – October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include legal fe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time, or cost of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or database cre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5360" y="1447920"/>
            <a:ext cx="38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78 per book/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osnerSearch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4648320" cy="3378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724280" y="502920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67 letters &amp; 159 follow-up calls or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Seeking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ing &amp; locating copyright 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timely respo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rs can’t find contr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copyright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r f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ac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reven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copyright" descr=""/>
          <p:cNvPicPr/>
          <p:nvPr/>
        </p:nvPicPr>
        <p:blipFill>
          <a:blip r:embed="rId1"/>
          <a:stretch/>
        </p:blipFill>
        <p:spPr>
          <a:xfrm>
            <a:off x="5899320" y="2819520"/>
            <a:ext cx="3092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lion Book Project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national Digitization Proj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99920" y="22096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2 – 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ScannerManyBooks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486400" cy="3656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162240" y="457200"/>
            <a:ext cx="281952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ucate Publis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 want to find information online,                             but use it in 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access increases use,                                        even use of older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access does not decrease                                         &amp; can increase 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no revenue                                                        from out-of-print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ScannerMan" descr=""/>
          <p:cNvPicPr/>
          <p:nvPr/>
        </p:nvPicPr>
        <p:blipFill>
          <a:blip r:embed="rId1"/>
          <a:stretch/>
        </p:blipFill>
        <p:spPr>
          <a:xfrm>
            <a:off x="5867280" y="4624560"/>
            <a:ext cx="31244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est &amp; Incen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exclu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mission                                      to digitize &amp; provide open ac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&amp; Save one page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servation-quality images,                  metadata &amp; OCR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$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ed-value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$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nt on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$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y but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annerBooks2" descr=""/>
          <p:cNvPicPr/>
          <p:nvPr/>
        </p:nvPicPr>
        <p:blipFill>
          <a:blip r:embed="rId1"/>
          <a:stretch/>
        </p:blipFill>
        <p:spPr>
          <a:xfrm>
            <a:off x="5257800" y="4218120"/>
            <a:ext cx="37339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phany &amp; Ne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ublis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quality boo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oks for College Libra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5600 publis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for permission to digit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l out-of-print, in-copyright ti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itles published prior to a date of their choo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itles published  #  or more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titles THEY pro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pt follow-up phone call or e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r database created &amp; data mi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labor June 2002 – August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n’t locate 30 publisher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% permission granted – 4,400 tit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% permission den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TE November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Scanner" descr=""/>
          <p:cNvPicPr/>
          <p:nvPr/>
        </p:nvPicPr>
        <p:blipFill>
          <a:blip r:embed="rId1"/>
          <a:stretch/>
        </p:blipFill>
        <p:spPr>
          <a:xfrm>
            <a:off x="5638680" y="4471920"/>
            <a:ext cx="33530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stimat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ansaction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2158920"/>
          <a:ext cx="6095880" cy="2565360"/>
        </p:xfrm>
        <a:graphic>
          <a:graphicData uri="http://schemas.openxmlformats.org/drawingml/2006/table">
            <a:tbl>
              <a:tblPr/>
              <a:tblGrid>
                <a:gridCol w="1447920"/>
                <a:gridCol w="4647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6,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llow-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 &amp; po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6,5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04920" y="3886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320" y="4800600"/>
            <a:ext cx="4841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002 – August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include legal fe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time, or cost of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or database cre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1000" y="1447920"/>
            <a:ext cx="37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1.48  per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UL_FullText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4476600" cy="365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24280" y="525780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7 letters &amp; 57  follow-up calls or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ng for the Bu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92200" y="4572000"/>
            <a:ext cx="3574080" cy="1739880"/>
            <a:chOff x="592200" y="4572000"/>
            <a:chExt cx="3574080" cy="1739880"/>
          </a:xfrm>
        </p:grpSpPr>
        <p:grpSp>
          <p:nvGrpSpPr>
            <p:cNvPr id="138" name=""/>
            <p:cNvGrpSpPr/>
            <p:nvPr/>
          </p:nvGrpSpPr>
          <p:grpSpPr>
            <a:xfrm>
              <a:off x="592200" y="5791320"/>
              <a:ext cx="3574080" cy="520560"/>
              <a:chOff x="592200" y="5791320"/>
              <a:chExt cx="3574080" cy="520560"/>
            </a:xfrm>
          </p:grpSpPr>
          <p:sp>
            <p:nvSpPr>
              <p:cNvPr id="139" name=""/>
              <p:cNvSpPr/>
              <p:nvPr/>
            </p:nvSpPr>
            <p:spPr>
              <a:xfrm>
                <a:off x="592200" y="586764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972720" y="5791320"/>
                <a:ext cx="3193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digenous Material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92200" y="5181840"/>
              <a:ext cx="2705400" cy="520560"/>
              <a:chOff x="592200" y="5181840"/>
              <a:chExt cx="2705400" cy="520560"/>
            </a:xfrm>
          </p:grpSpPr>
          <p:sp>
            <p:nvSpPr>
              <p:cNvPr id="142" name=""/>
              <p:cNvSpPr/>
              <p:nvPr/>
            </p:nvSpPr>
            <p:spPr>
              <a:xfrm>
                <a:off x="592200" y="525816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2f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74160" y="5181840"/>
                <a:ext cx="232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Public Domai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92200" y="4572000"/>
              <a:ext cx="2391840" cy="520560"/>
              <a:chOff x="592200" y="4572000"/>
              <a:chExt cx="2391840" cy="520560"/>
            </a:xfrm>
          </p:grpSpPr>
          <p:sp>
            <p:nvSpPr>
              <p:cNvPr id="145" name=""/>
              <p:cNvSpPr/>
              <p:nvPr/>
            </p:nvSpPr>
            <p:spPr>
              <a:xfrm>
                <a:off x="592200" y="4647960"/>
                <a:ext cx="380880" cy="381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73080" y="4572000"/>
                <a:ext cx="201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 Copyrigh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398520" y="1295280"/>
            <a:ext cx="3716280" cy="3498840"/>
            <a:chOff x="398520" y="1295280"/>
            <a:chExt cx="3716280" cy="3498840"/>
          </a:xfrm>
        </p:grpSpPr>
        <p:graphicFrame>
          <p:nvGraphicFramePr>
            <p:cNvPr id="148" name=""/>
            <p:cNvGraphicFramePr/>
            <p:nvPr/>
          </p:nvGraphicFramePr>
          <p:xfrm>
            <a:off x="398520" y="1509840"/>
            <a:ext cx="3716280" cy="32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8520" y="1509840"/>
                      <a:ext cx="3716280" cy="32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1635840" y="1295280"/>
              <a:ext cx="12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286000" y="1322280"/>
            <a:ext cx="8381880" cy="5589360"/>
            <a:chOff x="2286000" y="1322280"/>
            <a:chExt cx="8381880" cy="5589360"/>
          </a:xfrm>
        </p:grpSpPr>
        <p:graphicFrame>
          <p:nvGraphicFramePr>
            <p:cNvPr id="152" name=""/>
            <p:cNvGraphicFramePr/>
            <p:nvPr/>
          </p:nvGraphicFramePr>
          <p:xfrm>
            <a:off x="2286000" y="1392840"/>
            <a:ext cx="8381880" cy="5518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0" y="1392840"/>
                      <a:ext cx="8381880" cy="551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" name=""/>
            <p:cNvSpPr/>
            <p:nvPr/>
          </p:nvSpPr>
          <p:spPr>
            <a:xfrm>
              <a:off x="5673960" y="1322280"/>
              <a:ext cx="16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573440" y="4267080"/>
            <a:ext cx="38689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6% success 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BCL publish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1500 books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urp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romote progress of science &amp;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95 years or life of author + 7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atistic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92% of books ever published                   are still in copyright, but out of 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mpa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research, teaching,                                  learning, preservation,                                                    &amp; creating digital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tateLibrary" descr=""/>
          <p:cNvPicPr/>
          <p:nvPr/>
        </p:nvPicPr>
        <p:blipFill>
          <a:blip r:embed="rId1"/>
          <a:stretch/>
        </p:blipFill>
        <p:spPr>
          <a:xfrm>
            <a:off x="5715000" y="4522680"/>
            <a:ext cx="327672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gs with University P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right often reverts to the author              when books go out of 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recent books will never go out of print because of print-on-demand contra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-party copyright ownership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ll consider specific titles that WE sel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d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ublisher 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itle or author approach a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costs?  Need to identify titles,                               copyright status &amp; ownership, &amp; print status                         either before or after negotiate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increased success?  35% estate success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search 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partner with U.S. Copyright Offi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y accessibility of out-of-print books &amp; transaction costs of large scale copyright permission efforts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cost-effective IT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Assessments – 200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308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copyrighted books in the coll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 rate of permission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by copyright holder typ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of time &amp; co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participating publish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isfaction with quality of cop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y did or plan to do with the co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on revenue &amp; view of open ac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seminate, Educate, &amp; Lob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of copyright assess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ful negotiation strateg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 pract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&amp; proposed                     copyright law . . 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ooksToBeScanned" descr=""/>
          <p:cNvPicPr/>
          <p:nvPr/>
        </p:nvPicPr>
        <p:blipFill>
          <a:blip r:embed="rId1"/>
          <a:stretch/>
        </p:blipFill>
        <p:spPr>
          <a:xfrm>
            <a:off x="4191120" y="3508200"/>
            <a:ext cx="480060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lic Domain Enhancement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right hold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 small fee ($1.00) 50 years after publication     &amp; every 10 years thereafter to retain copy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contact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S. Copyright Off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s financial transactions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s publicly accessibl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8840" y="6175440"/>
            <a:ext cx="6414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ed June 2003 by Representative Lofg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086600" y="4800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4800" y="380880"/>
            <a:ext cx="6134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ScannerWomanCropped" descr=""/>
          <p:cNvPicPr/>
          <p:nvPr/>
        </p:nvPicPr>
        <p:blipFill>
          <a:blip r:embed="rId1"/>
          <a:stretch/>
        </p:blipFill>
        <p:spPr>
          <a:xfrm>
            <a:off x="2095560" y="1828800"/>
            <a:ext cx="4952880" cy="3886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95400" y="5943600"/>
            <a:ext cx="71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se Troll Covey – troll@andrew.cmu.e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1495440"/>
          <a:ext cx="4375080" cy="3182760"/>
        </p:xfrm>
        <a:graphic>
          <a:graphicData uri="http://schemas.openxmlformats.org/drawingml/2006/table">
            <a:tbl>
              <a:tblPr/>
              <a:tblGrid>
                <a:gridCol w="2021040"/>
                <a:gridCol w="2354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0       Art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ans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4,500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49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ermi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6,000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51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50,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yne State        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886200" y="4876920"/>
          <a:ext cx="4647960" cy="1619280"/>
        </p:xfrm>
        <a:graphic>
          <a:graphicData uri="http://schemas.openxmlformats.org/drawingml/2006/table">
            <a:tbl>
              <a:tblPr/>
              <a:tblGrid>
                <a:gridCol w="2057400"/>
                <a:gridCol w="2590560"/>
              </a:tblGrid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00 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Libra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$85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st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$127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751280" y="1495440"/>
          <a:ext cx="3783240" cy="3168720"/>
        </p:xfrm>
        <a:graphic>
          <a:graphicData uri="http://schemas.openxmlformats.org/drawingml/2006/table">
            <a:tbl>
              <a:tblPr/>
              <a:tblGrid>
                <a:gridCol w="1905120"/>
                <a:gridCol w="187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307    A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     Im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,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,1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,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4,2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ke University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negie Mellon 19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Access Feasibility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ndom Sample of Library Catalo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999 –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inolta1scanner" descr=""/>
          <p:cNvPicPr/>
          <p:nvPr/>
        </p:nvPicPr>
        <p:blipFill>
          <a:blip r:embed="rId1"/>
          <a:stretch/>
        </p:blipFill>
        <p:spPr>
          <a:xfrm>
            <a:off x="2076480" y="2971800"/>
            <a:ext cx="4991040" cy="3613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62240" y="457200"/>
            <a:ext cx="281952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of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" y="1523880"/>
          <a:ext cx="5587920" cy="3760920"/>
        </p:xfrm>
        <a:graphic>
          <a:graphicData uri="http://schemas.openxmlformats.org/drawingml/2006/table">
            <a:tbl>
              <a:tblPr/>
              <a:tblGrid>
                <a:gridCol w="3848040"/>
                <a:gridCol w="17398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i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Copyright prote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Publishers conta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Publishers respo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Permission gr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 success rat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270680" y="5334120"/>
            <a:ext cx="1269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e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9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74320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327672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380988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2743200"/>
            <a:ext cx="485640" cy="2347920"/>
          </a:xfrm>
          <a:prstGeom prst="upArrow">
            <a:avLst>
              <a:gd name="adj1" fmla="val 50000"/>
              <a:gd name="adj2" fmla="val 1208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943600" y="1523880"/>
          <a:ext cx="2819520" cy="374832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% not locate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9% no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1% restri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6777360" y="5334120"/>
            <a:ext cx="9169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019920" y="1523880"/>
          <a:ext cx="2437920" cy="3748320"/>
        </p:xfrm>
        <a:graphic>
          <a:graphicData uri="http://schemas.openxmlformats.org/drawingml/2006/table">
            <a:tbl>
              <a:tblPr/>
              <a:tblGrid>
                <a:gridCol w="2437920"/>
              </a:tblGrid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28600" y="1523880"/>
          <a:ext cx="3657600" cy="4843440"/>
        </p:xfrm>
        <a:graphic>
          <a:graphicData uri="http://schemas.openxmlformats.org/drawingml/2006/table">
            <a:tbl>
              <a:tblPr/>
              <a:tblGrid>
                <a:gridCol w="2133720"/>
                <a:gridCol w="15238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ccess R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olarly associ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pr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eums   &amp; gall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rcial publish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Publisher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811680" y="2044800"/>
          <a:ext cx="517680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1680" y="2044800"/>
                    <a:ext cx="517680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2286000" y="57913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886200"/>
            <a:ext cx="22860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876920"/>
            <a:ext cx="228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2971800"/>
            <a:ext cx="2286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840" y="1600200"/>
            <a:ext cx="116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e &amp; Rare Books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ner Memorial Col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Zeutschel5" descr=""/>
          <p:cNvPicPr/>
          <p:nvPr/>
        </p:nvPicPr>
        <p:blipFill>
          <a:blip r:embed="rId1"/>
          <a:stretch/>
        </p:blipFill>
        <p:spPr>
          <a:xfrm>
            <a:off x="2038320" y="2971800"/>
            <a:ext cx="5067360" cy="3659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162240" y="457200"/>
            <a:ext cx="281952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of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" y="1523880"/>
          <a:ext cx="5562720" cy="4111920"/>
        </p:xfrm>
        <a:graphic>
          <a:graphicData uri="http://schemas.openxmlformats.org/drawingml/2006/table">
            <a:tbl>
              <a:tblPr/>
              <a:tblGrid>
                <a:gridCol w="3657600"/>
                <a:gridCol w="1905120"/>
              </a:tblGrid>
              <a:tr h="90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ner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yright 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Copyright prote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Owners conta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Owners respo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Permission gr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 success rat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3886200" y="2819520"/>
            <a:ext cx="485640" cy="914400"/>
          </a:xfrm>
          <a:prstGeom prst="upArrow">
            <a:avLst>
              <a:gd name="adj1" fmla="val 49676"/>
              <a:gd name="adj2" fmla="val 745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358128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411480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3352680"/>
            <a:ext cx="485640" cy="2057400"/>
          </a:xfrm>
          <a:prstGeom prst="upArrow">
            <a:avLst>
              <a:gd name="adj1" fmla="val 50000"/>
              <a:gd name="adj2" fmla="val 10591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867280" y="1523880"/>
          <a:ext cx="2743200" cy="411480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90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% not loc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% no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% restri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943600" y="1523880"/>
          <a:ext cx="2438280" cy="411156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dom Sampl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o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867280" y="1523880"/>
          <a:ext cx="2514600" cy="41119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90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ner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o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  (30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4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Title / Vol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7162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4% permission gr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restricted Carnegie Mellon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% restricted limited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% permission den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6% success rate U.S. tit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5% success rate foreign tit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sner_175px" descr=""/>
          <p:cNvPicPr/>
          <p:nvPr/>
        </p:nvPicPr>
        <p:blipFill>
          <a:blip r:embed="rId1"/>
          <a:stretch/>
        </p:blipFill>
        <p:spPr>
          <a:xfrm>
            <a:off x="6458040" y="4172040"/>
            <a:ext cx="2533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13:08:31Z</dcterms:created>
  <dc:creator>covey</dc:creator>
  <dc:description/>
  <dc:language>en-US</dc:language>
  <cp:lastModifiedBy>covey</cp:lastModifiedBy>
  <dcterms:modified xsi:type="dcterms:W3CDTF">2004-01-13T15:00:19Z</dcterms:modified>
  <cp:revision>226</cp:revision>
  <dc:subject/>
  <dc:title>PowerPoint Presentation</dc:title>
</cp:coreProperties>
</file>