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wmf" ContentType="image/x-wmf"/>
  <Override PartName="/ppt/media/image6.gif" ContentType="image/gif"/>
  <Override PartName="/ppt/media/image5.gif" ContentType="image/gif"/>
  <Override PartName="/ppt/media/image14.jpeg" ContentType="image/jpeg"/>
  <Override PartName="/ppt/media/image28.gif" ContentType="image/gif"/>
  <Override PartName="/ppt/media/image4.jpeg" ContentType="image/jpeg"/>
  <Override PartName="/ppt/media/image3.gif" ContentType="image/gif"/>
  <Override PartName="/ppt/media/image12.jpeg" ContentType="image/jpeg"/>
  <Override PartName="/ppt/media/image1.png" ContentType="image/png"/>
  <Override PartName="/ppt/media/image24.wmf" ContentType="image/x-wmf"/>
  <Override PartName="/ppt/media/image17.jpeg" ContentType="image/jpeg"/>
  <Override PartName="/ppt/media/image25.wmf" ContentType="image/x-wmf"/>
  <Override PartName="/ppt/media/image23.jpeg" ContentType="image/jpeg"/>
  <Override PartName="/ppt/media/image22.jpeg" ContentType="image/jpeg"/>
  <Override PartName="/ppt/media/image27.gif" ContentType="image/gif"/>
  <Override PartName="/ppt/media/image19.png" ContentType="image/png"/>
  <Override PartName="/ppt/media/image21.wmf" ContentType="image/x-wmf"/>
  <Override PartName="/ppt/media/image20.wmf" ContentType="image/x-wmf"/>
  <Override PartName="/ppt/media/image18.png" ContentType="image/png"/>
  <Override PartName="/ppt/media/image16.jpeg" ContentType="image/jpeg"/>
  <Override PartName="/ppt/media/image15.jpeg" ContentType="image/jpeg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41F2-ADCE-41EA-B03E-5EDCA43D2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18 scanne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,000 books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Minolta, two shifts daily,   = 4000 books per ye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100 scanners  = 400,000 books per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cademy Press – Rand McNally, Inc. – Brookings Institution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’Reilly &amp; Associates – Harvard University Press – Indiana University 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likely not to locate the publisher                                    or get a response with out-of-print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ow of percentages = percentage of previous row, e.g., 88% of the 9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ission gran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NOT in parentheses is percentage of responses that granted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parentheses is percentage of copyright protected items in the sample for which permission was g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ublisher type (respo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% scholarly associ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% university p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% museums, art gall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% commercial publis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ff Lynch extimates copyright permissions co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times more than cost of digit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Library, which spent somewhere on the order of $85 million to digitize 40,000 titles, and Questia, which spent half again as much to digitize roughly the same number of boo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$10K transaction cost to digitize 7000 slides – unknown permission cost or labor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871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871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871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871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871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871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871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871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871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wm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2895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Times New Roman"/>
              </a:rPr>
              <a:t>Turning to Dust or Digi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1800" y="4495680"/>
            <a:ext cx="8420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Associate University Librarian, Carnegie Mell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Future of the Book Conference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airns, Australia – April 2003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7400" y="914400"/>
            <a:ext cx="7907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pyright Permission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-to-Read 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Digitize 1,000,000 books in 5 year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NSF - $3.6 million for equipment &amp; travel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India - $1.5 million for labor (1000 people for 5 years)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Led by Carnegie Mellon Libraries &amp; Computer Scienc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U.S. Partners – Internet Archives, OCLC, &amp; librari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96" name="Gloriana2" descr=""/>
          <p:cNvPicPr/>
          <p:nvPr/>
        </p:nvPicPr>
        <p:blipFill>
          <a:blip r:embed="rId2"/>
          <a:stretch/>
        </p:blipFill>
        <p:spPr>
          <a:xfrm>
            <a:off x="2725560" y="4495680"/>
            <a:ext cx="1617840" cy="2141640"/>
          </a:xfrm>
          <a:prstGeom prst="rect">
            <a:avLst/>
          </a:prstGeom>
          <a:ln w="0">
            <a:noFill/>
          </a:ln>
        </p:spPr>
      </p:pic>
      <p:pic>
        <p:nvPicPr>
          <p:cNvPr id="97" name="Raj" descr=""/>
          <p:cNvPicPr/>
          <p:nvPr/>
        </p:nvPicPr>
        <p:blipFill>
          <a:blip r:embed="rId3"/>
          <a:stretch/>
        </p:blipFill>
        <p:spPr>
          <a:xfrm>
            <a:off x="495360" y="4495680"/>
            <a:ext cx="179064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Brewster" descr=""/>
          <p:cNvPicPr/>
          <p:nvPr/>
        </p:nvPicPr>
        <p:blipFill>
          <a:blip r:embed="rId4"/>
          <a:stretch/>
        </p:blipFill>
        <p:spPr>
          <a:xfrm>
            <a:off x="6934320" y="4495680"/>
            <a:ext cx="148896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MichaelLeskCloseup" descr=""/>
          <p:cNvPicPr/>
          <p:nvPr/>
        </p:nvPicPr>
        <p:blipFill>
          <a:blip r:embed="rId5"/>
          <a:stretch/>
        </p:blipFill>
        <p:spPr>
          <a:xfrm>
            <a:off x="4800600" y="4495680"/>
            <a:ext cx="1684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9219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November 2001 (NSF)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Collection of collection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200,000 indigenous Indian works</a:t>
            </a:r>
            <a:endParaRPr b="0" lang="en-US" sz="26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4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700,000 public domain works</a:t>
            </a:r>
            <a:endParaRPr b="0" lang="en-US" sz="26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100,000 copyrighted works –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Books for College Libraries</a:t>
            </a:r>
            <a:endParaRPr b="0" lang="en-US" sz="2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November 2003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Select more bibliographi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Strategize logistic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2" name="LIBRARYmillionBKs" descr=""/>
          <p:cNvPicPr/>
          <p:nvPr/>
        </p:nvPicPr>
        <p:blipFill>
          <a:blip r:embed="rId3"/>
          <a:stretch/>
        </p:blipFill>
        <p:spPr>
          <a:xfrm>
            <a:off x="5791320" y="4724280"/>
            <a:ext cx="32004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 Underway in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Labor cheaper than in U.S., but high paid in Indi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Each scanner,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 shifts a day = 4000 books a yea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00 scanners – 400,000 books per yea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5" name="ScannerManyBooks" descr=""/>
          <p:cNvPicPr/>
          <p:nvPr/>
        </p:nvPicPr>
        <p:blipFill>
          <a:blip r:embed="rId4"/>
          <a:stretch/>
        </p:blipFill>
        <p:spPr>
          <a:xfrm>
            <a:off x="380880" y="373536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106" name="ScannerWomanCropped" descr=""/>
          <p:cNvPicPr/>
          <p:nvPr/>
        </p:nvPicPr>
        <p:blipFill>
          <a:blip r:embed="rId5"/>
          <a:stretch/>
        </p:blipFill>
        <p:spPr>
          <a:xfrm>
            <a:off x="5105520" y="372420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4724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ducat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Find online, but use print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Online access increases use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Open access doesn’t decrease, &amp; can increase sal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opyright absurdit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Non-exclusive permission             to digitize &amp; offer free-to-read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Minimal system functionalit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Focus on out-of-print book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Preservation-quality copi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Metadata &amp; OCR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tivat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Use in added-value,    fee-based services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Print on demand                              for out-of-print titl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Buy button                                 for in-print titl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Copyright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o not pay permission cos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cus on out-of-print, in-copyrigh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has 50,000 titl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Begin with scholarly associations &amp; university press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ransaction cos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 title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is prohibitiv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dentifying &amp; inserting titles in letter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egotiating &amp; tracking permission per titl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467480" y="4267080"/>
            <a:ext cx="1600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 &amp;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cus 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blishers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of quality book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reat bibliographies as approval plan of publishers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has 5600 publisher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sk for permission to digitiz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out-of-print, in-copyright titl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st of titles they choo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llow-up with phone call or visi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83280" y="5105520"/>
            <a:ext cx="10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9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stimate transaction costs remain the sam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hift $$ from clerical to administration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ut acquire more books for $$ spe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ational Academy Press – 99% increa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26 titles in </a:t>
            </a:r>
            <a:r>
              <a:rPr b="0" i="1" lang="en-US" sz="2400" spc="-1" strike="noStrike">
                <a:solidFill>
                  <a:srgbClr val="663300"/>
                </a:solidFill>
                <a:latin typeface="Times New Roman"/>
              </a:rPr>
              <a:t>Books for College Librari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Permission for 3046 titles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Brookings Institution – 96% increa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and McNally – 60% increas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553080" y="4754520"/>
          <a:ext cx="2438640" cy="19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754520"/>
                    <a:ext cx="243864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ng for the Bu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92200" y="4952880"/>
            <a:ext cx="3142440" cy="1739880"/>
            <a:chOff x="592200" y="4952880"/>
            <a:chExt cx="3142440" cy="1739880"/>
          </a:xfrm>
        </p:grpSpPr>
        <p:grpSp>
          <p:nvGrpSpPr>
            <p:cNvPr id="122" name=""/>
            <p:cNvGrpSpPr/>
            <p:nvPr/>
          </p:nvGrpSpPr>
          <p:grpSpPr>
            <a:xfrm>
              <a:off x="592200" y="6172200"/>
              <a:ext cx="3142440" cy="520560"/>
              <a:chOff x="592200" y="6172200"/>
              <a:chExt cx="3142440" cy="520560"/>
            </a:xfrm>
          </p:grpSpPr>
          <p:sp>
            <p:nvSpPr>
              <p:cNvPr id="123" name=""/>
              <p:cNvSpPr/>
              <p:nvPr/>
            </p:nvSpPr>
            <p:spPr>
              <a:xfrm>
                <a:off x="592200" y="624852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f46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72360" y="6172200"/>
                <a:ext cx="276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3300"/>
                    </a:solidFill>
                    <a:latin typeface="Times New Roman"/>
                  </a:rPr>
                  <a:t>Indigenous Indian</a:t>
                </a:r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92200" y="5562360"/>
              <a:ext cx="2705400" cy="520560"/>
              <a:chOff x="592200" y="5562360"/>
              <a:chExt cx="2705400" cy="520560"/>
            </a:xfrm>
          </p:grpSpPr>
          <p:sp>
            <p:nvSpPr>
              <p:cNvPr id="126" name=""/>
              <p:cNvSpPr/>
              <p:nvPr/>
            </p:nvSpPr>
            <p:spPr>
              <a:xfrm>
                <a:off x="592200" y="563868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74160" y="556236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33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92200" y="4952880"/>
              <a:ext cx="2391840" cy="520560"/>
              <a:chOff x="592200" y="4952880"/>
              <a:chExt cx="2391840" cy="520560"/>
            </a:xfrm>
          </p:grpSpPr>
          <p:sp>
            <p:nvSpPr>
              <p:cNvPr id="129" name=""/>
              <p:cNvSpPr/>
              <p:nvPr/>
            </p:nvSpPr>
            <p:spPr>
              <a:xfrm>
                <a:off x="592200" y="502884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3080" y="495288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33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44280" y="1447920"/>
            <a:ext cx="3721320" cy="3727440"/>
            <a:chOff x="44280" y="1447920"/>
            <a:chExt cx="3721320" cy="3727440"/>
          </a:xfrm>
        </p:grpSpPr>
        <p:graphicFrame>
          <p:nvGraphicFramePr>
            <p:cNvPr id="132" name=""/>
            <p:cNvGraphicFramePr/>
            <p:nvPr/>
          </p:nvGraphicFramePr>
          <p:xfrm>
            <a:off x="44280" y="1676520"/>
            <a:ext cx="372132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80" y="1676520"/>
                      <a:ext cx="372132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1283400" y="144792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0" y="1477800"/>
            <a:ext cx="8381880" cy="5664240"/>
            <a:chOff x="2286000" y="1477800"/>
            <a:chExt cx="8381880" cy="5664240"/>
          </a:xfrm>
        </p:grpSpPr>
        <p:graphicFrame>
          <p:nvGraphicFramePr>
            <p:cNvPr id="136" name=""/>
            <p:cNvGraphicFramePr/>
            <p:nvPr/>
          </p:nvGraphicFramePr>
          <p:xfrm>
            <a:off x="2286000" y="1549440"/>
            <a:ext cx="8381880" cy="559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1549440"/>
                      <a:ext cx="8381880" cy="559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5673960" y="147780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32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1447920"/>
          <a:ext cx="8076960" cy="2819160"/>
        </p:xfrm>
        <a:graphic>
          <a:graphicData uri="http://schemas.openxmlformats.org/drawingml/2006/table">
            <a:tbl>
              <a:tblPr/>
              <a:tblGrid>
                <a:gridCol w="3123720"/>
                <a:gridCol w="2438640"/>
                <a:gridCol w="251460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Success rate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(# BCL publishers)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# of books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per publisher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Million Book Collection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3%  (168)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52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5%  (280)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2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0%  (1,120)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,68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1" name="slingshot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666880" cy="2401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65440" y="4459320"/>
            <a:ext cx="48654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e could need to negotiat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 India for more labor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100 letters se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41911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iring full-time staff &amp; distributing negotiation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057400"/>
            <a:ext cx="4800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% permission grant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% permission deni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21% negotiations underway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52% no follow-up or response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05740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5% copyright reverted to author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1% no electronic right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4% incorrect addres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48" name="idea2ACCEPTED" descr=""/>
          <p:cNvPicPr/>
          <p:nvPr/>
        </p:nvPicPr>
        <p:blipFill>
          <a:blip r:embed="rId3"/>
          <a:stretch/>
        </p:blipFill>
        <p:spPr>
          <a:xfrm>
            <a:off x="1752480" y="5029200"/>
            <a:ext cx="5639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lous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ooks are turning to dust on library shelv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ven if digitized, books can disappear or go dark, &amp; licenses &amp; technologies can trump legal us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tewardship of our heritage is endangere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quitable access is becoming a platitud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ducation &amp; scholarship are in peril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85720" y="5257800"/>
            <a:ext cx="72540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80880" y="3809880"/>
            <a:ext cx="9795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Workflow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-1752480" y="1955880"/>
          <a:ext cx="1059156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1955880"/>
                    <a:ext cx="105915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380880" y="5257800"/>
            <a:ext cx="2959560" cy="1130040"/>
            <a:chOff x="380880" y="5257800"/>
            <a:chExt cx="2959560" cy="1130040"/>
          </a:xfrm>
        </p:grpSpPr>
        <p:sp>
          <p:nvSpPr>
            <p:cNvPr id="153" name=""/>
            <p:cNvSpPr/>
            <p:nvPr/>
          </p:nvSpPr>
          <p:spPr>
            <a:xfrm>
              <a:off x="380880" y="59432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2840" y="586728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India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880" y="5333760"/>
              <a:ext cx="380880" cy="380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480" y="5257800"/>
              <a:ext cx="257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Carnegie Mellon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Workflow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-600120" y="1312920"/>
          <a:ext cx="9667800" cy="54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0120" y="1312920"/>
                    <a:ext cx="9667800" cy="54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5791320" y="2133720"/>
            <a:ext cx="2959560" cy="1130040"/>
            <a:chOff x="5791320" y="2133720"/>
            <a:chExt cx="2959560" cy="1130040"/>
          </a:xfrm>
        </p:grpSpPr>
        <p:sp>
          <p:nvSpPr>
            <p:cNvPr id="161" name=""/>
            <p:cNvSpPr/>
            <p:nvPr/>
          </p:nvSpPr>
          <p:spPr>
            <a:xfrm>
              <a:off x="5791320" y="281916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3280" y="274320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India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91320" y="2209680"/>
              <a:ext cx="380880" cy="380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2920" y="2133720"/>
              <a:ext cx="257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Times New Roman"/>
                </a:rPr>
                <a:t>Carnegie Mellon</a:t>
              </a:r>
              <a:endParaRPr b="0" lang="en-US" sz="28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ibliographic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- for delivery system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MARC record or Dublin Cor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dministrative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- for reporting system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Bibliographic metadata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ource library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Return requested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pyright statu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heck renewal record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ermission statu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by delivery system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pies sent to publishers, libraries, &amp; mirror sit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31000" y="4572000"/>
            <a:ext cx="10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9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ing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6095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Foundation proposals not funde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UC Merced – $35,000 pending 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ＭＳ Ｐゴシック"/>
              </a:rPr>
              <a:t>IMLS – pending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38080" y="3186000"/>
          <a:ext cx="8153640" cy="3581640"/>
        </p:xfrm>
        <a:graphic>
          <a:graphicData uri="http://schemas.openxmlformats.org/drawingml/2006/table">
            <a:tbl>
              <a:tblPr/>
              <a:tblGrid>
                <a:gridCol w="4572000"/>
                <a:gridCol w="1752840"/>
                <a:gridCol w="1828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ML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Copyright, collection development, &amp; project management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$234,7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$445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cquisitions, shipping,                  &amp; survey software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265,3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Outcomes assessment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78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50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523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238880" y="3276720"/>
            <a:ext cx="1676520" cy="315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984000" y="233208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st share 51%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of total project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28600" y="4726080"/>
            <a:ext cx="19810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Assess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Number of copyrighted books in the Collection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uccess rate of permission requests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endParaRPr b="0" lang="en-US" sz="5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Participating publisher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Overall satisfaction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Quality of the copie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781680" y="3276720"/>
            <a:ext cx="17528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pyright Absur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800" y="14475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95% of books ever printed are still in copyrigh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 3% are still in prin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92% of the world’s books are neither generating revenue for the copyright owner nor easily accessible                          to potential reader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4" name="copyright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3699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Permission for Open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743200" cy="259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2971800"/>
            <a:ext cx="2666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otecting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ivate interes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286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romoting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ublic goo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Free-to-Read Feasibility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3300"/>
                </a:solidFill>
                <a:uFillTx/>
                <a:latin typeface="Times New Roman"/>
              </a:rPr>
              <a:t>Statistically valid random sampl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uldn’t locate publisher for over 10% book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f located publisher, half didn’t respond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f got response, fewer than half gave permission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f got permission, fees or other restrictions applied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Overall success rate 22%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400800" y="5486400"/>
            <a:ext cx="2438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76520"/>
          <a:ext cx="5376960" cy="3747960"/>
        </p:xfrm>
        <a:graphic>
          <a:graphicData uri="http://schemas.openxmlformats.org/drawingml/2006/table">
            <a:tbl>
              <a:tblPr/>
              <a:tblGrid>
                <a:gridCol w="3584520"/>
                <a:gridCol w="17924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663300"/>
                      </a:solidFill>
                    </a:lnR>
                    <a:lnT>
                      <a:noFill/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Permission gran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6707520" y="5486400"/>
            <a:ext cx="916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Wayne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7000" y="5486400"/>
            <a:ext cx="126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arnegie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Mellon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999-2001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9718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5053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66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40384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971800"/>
            <a:ext cx="485640" cy="2347920"/>
          </a:xfrm>
          <a:prstGeom prst="upArrow">
            <a:avLst>
              <a:gd name="adj1" fmla="val 50000"/>
              <a:gd name="adj2" fmla="val 120867"/>
            </a:avLst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324480" y="1676520"/>
          <a:ext cx="1710000" cy="3747960"/>
        </p:xfrm>
        <a:graphic>
          <a:graphicData uri="http://schemas.openxmlformats.org/drawingml/2006/table">
            <a:tbl>
              <a:tblPr/>
              <a:tblGrid>
                <a:gridCol w="171000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rticle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70% 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90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1600200"/>
          <a:ext cx="3809880" cy="4843440"/>
        </p:xfrm>
        <a:graphic>
          <a:graphicData uri="http://schemas.openxmlformats.org/drawingml/2006/table">
            <a:tbl>
              <a:tblPr/>
              <a:tblGrid>
                <a:gridCol w="2133720"/>
                <a:gridCol w="16761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Museums   &amp; gallerie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mission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038480" y="2122560"/>
          <a:ext cx="51818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22560"/>
                    <a:ext cx="51818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286000" y="57150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8862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800600"/>
            <a:ext cx="228600" cy="228600"/>
          </a:xfrm>
          <a:prstGeom prst="rect">
            <a:avLst/>
          </a:prstGeom>
          <a:solidFill>
            <a:srgbClr val="6699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89548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abor Co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Digitize 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$25 - $150 per book  in the United Stat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Digitization, OCR, metadata capture, &amp; initial storage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ot hardware, software, or catalog link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ntingent on characteristics of book &amp; scanner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6320" y="4267080"/>
            <a:ext cx="3162240" cy="2422080"/>
            <a:chOff x="76320" y="4267080"/>
            <a:chExt cx="3162240" cy="2422080"/>
          </a:xfrm>
        </p:grpSpPr>
        <p:pic>
          <p:nvPicPr>
            <p:cNvPr id="82" name="fujitsu13scanner" descr=""/>
            <p:cNvPicPr/>
            <p:nvPr/>
          </p:nvPicPr>
          <p:blipFill>
            <a:blip r:embed="rId2"/>
            <a:stretch/>
          </p:blipFill>
          <p:spPr>
            <a:xfrm>
              <a:off x="76320" y="4267080"/>
              <a:ext cx="316224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11280" y="6229440"/>
              <a:ext cx="20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bound book</a:t>
              </a: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352680" y="4267080"/>
            <a:ext cx="2743200" cy="2441160"/>
            <a:chOff x="3352680" y="4267080"/>
            <a:chExt cx="2743200" cy="2441160"/>
          </a:xfrm>
        </p:grpSpPr>
        <p:pic>
          <p:nvPicPr>
            <p:cNvPr id="85" name="minolta1scanner" descr=""/>
            <p:cNvPicPr/>
            <p:nvPr/>
          </p:nvPicPr>
          <p:blipFill>
            <a:blip r:embed="rId3"/>
            <a:stretch/>
          </p:blipFill>
          <p:spPr>
            <a:xfrm>
              <a:off x="3352680" y="4267080"/>
              <a:ext cx="2743200" cy="19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84760" y="6248520"/>
              <a:ext cx="167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book</a:t>
              </a: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172200" y="4265640"/>
            <a:ext cx="2895480" cy="2442600"/>
            <a:chOff x="6172200" y="4265640"/>
            <a:chExt cx="2895480" cy="2442600"/>
          </a:xfrm>
        </p:grpSpPr>
        <p:pic>
          <p:nvPicPr>
            <p:cNvPr id="88" name="Zeutschel1scanner" descr=""/>
            <p:cNvPicPr/>
            <p:nvPr/>
          </p:nvPicPr>
          <p:blipFill>
            <a:blip r:embed="rId4"/>
            <a:stretch/>
          </p:blipFill>
          <p:spPr>
            <a:xfrm>
              <a:off x="6172200" y="4265640"/>
              <a:ext cx="28954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898320" y="62485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re book</a:t>
              </a:r>
              <a:endParaRPr b="0" lang="en-US" sz="2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pyright Permiss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Permission cost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– Fee for permission itself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Hundreds of dollars per book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Transaction cost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– Labor &amp; related cost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Hundreds of dollars per request                                                                        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419720" y="4191120"/>
          <a:ext cx="4572000" cy="2527200"/>
        </p:xfrm>
        <a:graphic>
          <a:graphicData uri="http://schemas.openxmlformats.org/drawingml/2006/table">
            <a:tbl>
              <a:tblPr/>
              <a:tblGrid>
                <a:gridCol w="2092320"/>
                <a:gridCol w="2479680"/>
              </a:tblGrid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Wayne State</a:t>
                      </a:r>
                      <a:endParaRPr b="0" lang="en-US" sz="1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663300"/>
                      </a:solidFill>
                    </a:lnR>
                    <a:lnT>
                      <a:noFill/>
                    </a:lnT>
                    <a:lnB w="1368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,000       Article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rmission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26,000 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51%)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nsaction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24,500 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49%)</a:t>
                      </a: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,500</a:t>
                      </a:r>
                      <a:endParaRPr b="0" lang="en-US" sz="3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343400" y="4191120"/>
          <a:ext cx="4648320" cy="2514600"/>
        </p:xfrm>
        <a:graphic>
          <a:graphicData uri="http://schemas.openxmlformats.org/drawingml/2006/table">
            <a:tbl>
              <a:tblPr/>
              <a:tblGrid>
                <a:gridCol w="1879560"/>
                <a:gridCol w="1549440"/>
                <a:gridCol w="1219320"/>
              </a:tblGrid>
              <a:tr h="77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Million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netLibrary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85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Questia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$127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0,000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0:08:43Z</dcterms:created>
  <dc:creator>Denise Troll</dc:creator>
  <dc:description/>
  <dc:language>en-US</dc:language>
  <cp:lastModifiedBy>Denise Troll</cp:lastModifiedBy>
  <dcterms:modified xsi:type="dcterms:W3CDTF">2003-04-13T10:47:05Z</dcterms:modified>
  <cp:revision>156</cp:revision>
  <dc:subject/>
  <dc:title>Turning to Dust or Digital</dc:title>
</cp:coreProperties>
</file>