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3.wmf" ContentType="image/x-wmf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2.jpeg" ContentType="image/jpeg"/>
  <Override PartName="/ppt/media/image5.wmf" ContentType="image/x-wmf"/>
  <Override PartName="/ppt/media/image12.jpeg" ContentType="image/jpeg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57400" y="690120"/>
            <a:ext cx="460368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BB0-200B-4409-9FB6-55B866B3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&amp; access problems will increase if Section 108  interlibrary loan laws change as advocated by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service to library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 of scholarly journal articles receive no benef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 non-bundled journ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journal prices go up, subscriptions go down, which drives prices up and subscriptions d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acquisitions increased 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, bilateral rhetoric with publishers leads                        to alternative pricing models that sustain scholarly societies            &amp; other publishers of reasonably priced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ublisher compensation for green O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, bilateral rhetoric with publishers leads                        to alternative pricing models that sustain scholarly societies            &amp; other publishers of reasonably priced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y”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ation of new ideas v. fear of being sco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on for f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urnal lag time &amp; OA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journals make articles available OA in 6 months or release electronic before print, reducing the importance  of access to manuscrip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Belief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values &amp;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Behavio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bservabl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rationale for continuing beliefs and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ll study of non-use of 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don’t consider access to be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publishers do the best job of disseminating their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lf-archiving considered to be publis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publishing in prestigious journals &amp; procee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e OA content to be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benefits can an institutional repository prov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backups, preservation / format 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6600"/>
                </a:solidFill>
                <a:latin typeface="Arial"/>
              </a:rPr>
              <a:t>Gold O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OA through a jour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Immediate with pub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Published ver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6600"/>
                </a:solidFill>
                <a:latin typeface="Arial"/>
              </a:rPr>
              <a:t>Fee-based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r those who don’t already have the tools &amp; know-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y to avoid conflicts with University Lecture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ten more people attend via the webcast than in p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–  Kick-off by Provost Mark Kam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–  Workshop on copyright and open access       with legal counsel Mary Jo Dively and Jonathan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– Julia Blixrud, Scholarly Publishing and Academic Resources Coalition (SPAR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– Panel discussion with Carnegie Mellon humanities               &amp; social sciences faculty who self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.g., who can self-archive what?  When delete content?  What happens when author dies or leaves the university? 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y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– creators &amp; consumers of research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onference proceed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pen access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igital schola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ew who do try to negotiate are more interested in right to re-use their work than in right to self-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nk publishers are better at disseminating their work than they (the authors)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% do NOT consider © terms when choosing a publis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% transfer copyright because it is required or tradi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% are concerned about open access journ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% know the meaning of open access (16% prior to guess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% do NOT understand their rights in their © agre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% will act without permission if their rights are uncl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% have heard of the Creative Commons (C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% do NOT keep copies of their © agre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% see little if any value in retaining copy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% are concerned about problems in scholarly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% think publishers do a better job of disseminating their work than they could do themselv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% do NOT read their agreements or worry about their righ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 had tried to negoti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s for an arti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–use of their work was top prio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3% were interested in the right to self-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tenure track assistant &amp; full professors                                                                    in computer science &amp; humanities &amp; social sci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interest to women slightly more than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of interest to faculty ages 40-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 when asked, if the publisher prohibited self archiving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44% would try to negotiate the right to self arch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25% would NOT try to negot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% would change or avoid the publis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% would ignore the agre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uspect it means no copy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% are concerned about open access 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 colleges, tracks, ranks &amp; gend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cern decreases slightly with 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-funded OA will reduce $$ available to conduct research             &amp; eventually yield substandard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Intentional mis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Ignores consu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argeted to defeat the FRPA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nts =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cholarly Information Strateg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self-archiving within 6 months “will   undermine the subscription-based peer review journ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Full report not available at PRC or consultant’s webs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ublishers.org.uk/prcweb/prcweb.nsf/homepages/Research+Reports!OpenDocu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eports available (most recent 2005) – current report not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+ presentations available (most recent Feb 2006) – one on 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says “As from 31st January 2007 Scholarly Information Strategies will cease trading.” – What does that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 are already cancelling jour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l 2006 ARL report indicates that 60% of libra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ed journals in 2 out of the 3 preceding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1176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86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1176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176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roll@andrew.cmu.edu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en &amp; Restricted Acces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rving Communit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Librarian for Special Projects, Carnegie Me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pyright Utopia – May 22,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24160" y="2133720"/>
            <a:ext cx="44956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 posi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Force authors who want green OA to buy gold O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Get paid to deposit green OA in PubM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allowed immediate self-archiving                               on personal website or institutional repos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deal eliminates the self-archiving embargo on one journal title, but introduces a six-month embargo on other 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r selection &amp; self-promo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this load (skew) PubMed                                                         with this publisher’s cont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48520" y="4600440"/>
            <a:ext cx="2705040" cy="2028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48320" y="5105520"/>
            <a:ext cx="2341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ublis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mpen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or green 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 – Facul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and care about copyr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ke informed decisions about copyright transfer &amp; ret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and reap the benefits of ope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ppropriate Creative Commons licenses                                                          to their advantage and to the advantage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archive in compliance with laws,                                     policies &amp; negotiated agre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ise the impact factor of OA journ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OA or reasonably priced journ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eral Research Public Access Act (FRPAA)                  becomes law and model for other funding agenc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nding models are developed &amp; tested to enable OA,                           preserve peer review, and sustain scholarly societie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ti-trust laws prevent publisher mergers that create veritable monopolies and inflate pr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pyright balance is restor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ols are provided to help determine                                       copyright status and ownershi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dia messaging does not replace intellectual debate                   and quality research about scholarly commun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ponsible research is conducted to assess and address        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 and concerns of scholarly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ffecting OA practice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green OA on subscri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act of journal pricing on sub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motion and tenure system                                                                  and other evaluators adopt                                                                  new measures of qual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49150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 we go gree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culty cul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cultural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cul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rify goals and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and implement strategic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5040" y="5241960"/>
            <a:ext cx="729936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n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porter of a social and political mo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spouses global environmental protection, bioregionalis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responsibility, and nonviole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en building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stainable construction an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7800" y="1600200"/>
            <a:ext cx="27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faculty cul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cademic discipline has its own culture          that determines the risks &amp; benefits of ope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06440" y="2641680"/>
          <a:ext cx="853452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641680"/>
                    <a:ext cx="85345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48520" y="5667480"/>
            <a:ext cx="2274840" cy="42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107120" y="4038480"/>
            <a:ext cx="14274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cultural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f there is a gap between the current culture                                         and strategic objectives, the current culture will w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tia maintains the status quo with 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ultural change happens after people                                      experience </a:t>
            </a: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sustained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 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eople must be both willing and able to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enables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motiv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 is incentive to adopt new 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is incentive to abandon status q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232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ryl R. Conne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at the Speed of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199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61440" y="4038480"/>
            <a:ext cx="1353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derstand facul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dvancement and stature – promotion and tenure – are more important than making work publicly avail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Believe traditional journals will preserve their lega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ure about copyright and publisher self-archiving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ed about OA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Loyal to their discipline &amp; community of pe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who self-archive use personal or department websites              or discipline repositories – control organization &amp;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Rs are redundant, have a learning curve &amp; little communit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 for peers to self-archive or publish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ulty incentives to self-archi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72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Easy-to-use tools &amp;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Publisher behavi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Peer behavior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Time &amp; confi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a50021"/>
                </a:solidFill>
                <a:latin typeface="Times New Roman"/>
              </a:rPr>
              <a:t>Better understanding of O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andate or requ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vidence of access probl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al reque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54040" y="4924440"/>
            <a:ext cx="5658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ill not nego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commend collective barg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nt the university to negotiate for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000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centive to abandon status quo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urrently many faculty don’t perceive an access proble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ften circulates among peers prior to 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ublication, either the library subscribes to the journal, the article has been self-archived, or faculty use interlibrary loan (ILL) or contact the author for a cop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This may change if publishers succeed                                                   in ending ILL of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©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journal artic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ILL with document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cannot absorb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faculty pay $30+ per art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629400" y="5159520"/>
            <a:ext cx="2286000" cy="1469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2860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4381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0184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ing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57200"/>
            <a:ext cx="419076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809880"/>
            <a:ext cx="4190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Green OA (self-archiv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A through a repository or personal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mmediate or de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uld be any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ify goals &amp; objecti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al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Facilitate self-archiving becoming the institutional n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&amp; help shape public &amp; institution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&amp; support alternative journals, preferably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about copyright, OA and publisher OA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raining &amp; tools to help facu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 the right to self-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archive thei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1981080"/>
            <a:ext cx="609840" cy="1905120"/>
          </a:xfrm>
          <a:custGeom>
            <a:avLst/>
            <a:gdLst>
              <a:gd name="textAreaLeft" fmla="*/ 81720 w 609840"/>
              <a:gd name="textAreaRight" fmla="*/ 528120 w 60984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53080" y="4303800"/>
            <a:ext cx="2362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hors’ Rights and Wrongs Progr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Ongoing educational program started spring 2007                             for Carnegie Mellon faculty and graduate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ed by University Libraries &amp; Office of Legal Coun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ing faculty to help pla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for 2 to 4 events per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during free time, 4:30-6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erson, live webcast, video-reco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eople attend webcast than in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available OA on library web 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ily public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lasting longer than planned                                                   because of lively Q&amp;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08760" y="4191120"/>
            <a:ext cx="2006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action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Easy-to-use tools &amp;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Time &amp;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ementing hosting of the authors’ addendum generator developed by SPARC and Creative Comm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ing with Computing Services and faculty to design                             self-archiving drag-and-drop tool and related polic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ng open access / scholarly communication webs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0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Publisher behavior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paring list of journal titles and OA policies                                per department (requested by facult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91320" y="228600"/>
            <a:ext cx="1355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action i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a5002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Peer behavior</a:t>
            </a:r>
            <a:r>
              <a:rPr b="0" lang="en-US" sz="2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ning study of faculty self-archiving pract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self-archiving practice per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self-archive per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ining support for OA resolution to be presented                       to Faculty Senate Fall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faculty to retain the right and to self arch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university to provide easy-to-us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799"/>
              </a:spcBef>
              <a:buClr>
                <a:srgbClr val="a5002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imes New Roman"/>
              </a:rPr>
              <a:t>Better understanding of 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4572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anning program focus &amp; events for 2007-08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of OA,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1320" y="228600"/>
            <a:ext cx="1355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6172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se Troll Co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Librarian for Special Projects, Carnegie M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troll@andrew.cmu.edu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2666880"/>
            <a:ext cx="5867280" cy="1752840"/>
            <a:chOff x="228600" y="2666880"/>
            <a:chExt cx="5867280" cy="175284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228600" y="2666880"/>
              <a:ext cx="585360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28600" y="2688840"/>
              <a:ext cx="5867280" cy="173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86600" y="4803840"/>
            <a:ext cx="175248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324480" y="266688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90720" y="4724280"/>
            <a:ext cx="79246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Old ne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romotion &amp; tenur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volume problem that led to commercial pu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publishing in prestigious traditional jour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Economics of traditional scholarly communic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ies &amp; tax payers subsidize faculty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 give copyright away to publish                                                  in prestigious traditiona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&amp; tax payers must purchase research find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Fiscal reality of libra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 prices up 167% from 1986 t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flat acquisitions budge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urnal cance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roble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ute for graduat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on’t understand or care about copyr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know th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bundle of rights                                  that can be manag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sider copyright terms when choosing a 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y to negotiate copyright transfer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read copyright transfer agreements carefully if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nderstand or care about their rights in their agre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hey want to exercise a right they sign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hink they have any choice but to sign away                          the entire bundle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4200" y="6232680"/>
            <a:ext cx="57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stratified random sample of 87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ost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Value the web as tool for access, not disse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Don’t know what </a:t>
            </a:r>
            <a:r>
              <a:rPr b="1" i="1" lang="en-US" sz="2600" spc="-1" strike="noStrike">
                <a:solidFill>
                  <a:srgbClr val="a50021"/>
                </a:solidFill>
                <a:latin typeface="Times New Roman"/>
              </a:rPr>
              <a:t>open access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 me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know abou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act advan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blishers are best at disseminating their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3200400"/>
          <a:ext cx="75070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00400"/>
                    <a:ext cx="75070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571500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e (2006) and Hess, Wigand, Mann, &amp; von Walter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similar results: Most authors are ignorant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ndifferent to the potential benefits of self-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perceive a problem with access to their wor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have the time, tools or know-how to self-archiv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know if they have the right to self-arch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self-archive their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6400" y="3352680"/>
          <a:ext cx="43689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3352680"/>
                    <a:ext cx="43689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640560" y="620064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1520" y="3657600"/>
            <a:ext cx="2027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Self-arch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96120" y="4495680"/>
            <a:ext cx="3416040" cy="14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culty 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rchiving threat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cholarly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Many faculty 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understand the impact of journal prices on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Are more concerned about OA journals &amp; what their peers   are doing than dysfunctions in scholarly communic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, quality, subject matter, &amp; sustainability of OA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3352680"/>
          <a:ext cx="840420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840420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640560" y="5410080"/>
            <a:ext cx="2274840" cy="42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5320" y="5877000"/>
            <a:ext cx="3515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findings in Hess, Wiga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n, &amp; von Walter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s’ pit bul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it bull media mess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publishing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d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A = socialized sc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duce $$ available for research &amp; undermine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selection &amp; self-promotion (censorshi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A does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mean no pe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A will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the efficiency of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accessibility &amp; efficiency would be worth millions of dollar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by “cherry picking” what is affordable means researchers potentially miss important &amp; releva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4952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52578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ghton, Steele, &amp; Sheehan (Sept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63547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dy (May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utop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Publishers’ resea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Publishing consortium hires consultants to identify how mandatory self-archiving can co-exist with subscrip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argo of 12+ months for green O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nsorship of pay-to-publish gold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libraries will cancel jour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Questionable publisher sponsore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ulation about what if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port not available; summary does not describ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formation available about the consul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Libraries will cancel journals regardless of OA because of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n issue with commercial publis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54720" y="2286000"/>
            <a:ext cx="1660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44:26Z</dcterms:created>
  <dc:creator>Denise Troll Covey</dc:creator>
  <dc:description/>
  <dc:language>en-US</dc:language>
  <cp:lastModifiedBy>Denise Troll Covey</cp:lastModifiedBy>
  <dcterms:modified xsi:type="dcterms:W3CDTF">2007-05-04T13:46:18Z</dcterms:modified>
  <cp:revision>611</cp:revision>
  <dc:subject/>
  <dc:title>Slide 1</dc:title>
</cp:coreProperties>
</file>