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20.wmf" ContentType="image/x-wmf"/>
  <Override PartName="/ppt/media/image6.wmf" ContentType="image/x-wmf"/>
  <Override PartName="/ppt/media/image30.jpeg" ContentType="image/jpeg"/>
  <Override PartName="/ppt/media/image7.wmf" ContentType="image/x-wmf"/>
  <Override PartName="/ppt/media/image12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17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11.jpeg" ContentType="image/jpeg"/>
  <Override PartName="/ppt/media/image24.png" ContentType="image/png"/>
  <Override PartName="/ppt/media/image15.jpeg" ContentType="image/jpeg"/>
  <Override PartName="/ppt/media/image25.wmf" ContentType="image/x-wmf"/>
  <Override PartName="/ppt/media/image13.wmf" ContentType="image/x-wmf"/>
  <Override PartName="/ppt/media/image27.jpeg" ContentType="image/jpeg"/>
  <Override PartName="/ppt/media/image23.wmf" ContentType="image/x-wmf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9FBF6D-0F0F-4F92-BED2-CBAED92C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hyperlink" Target="http://www.educause.edu/ir/library/pdf/erm0632.pdf" TargetMode="External"/><Relationship Id="rId2" Type="http://schemas.openxmlformats.org/officeDocument/2006/relationships/slide" Target="../slides/slide45.xml"/><Relationship Id="rId3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hyperlink" Target="http://www.educause.edu/ir/library/pdf/erm0632.pdf" TargetMode="External"/><Relationship Id="rId2" Type="http://schemas.openxmlformats.org/officeDocument/2006/relationships/slide" Target="../slides/slide46.xml"/><Relationship Id="rId3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hyperlink" Target="http://cameo.library.cmu.edu/uhtbin/cgisirsi/toBGk6KoCs/HUNT/253270107/18/X245/XTITLE/The+new+rhetoric:" TargetMode="External"/><Relationship Id="rId2" Type="http://schemas.openxmlformats.org/officeDocument/2006/relationships/hyperlink" Target="http://cameo.library.cmu.edu/uhtbin/cgisirsi/toBGk6KoCs/HUNT/253270107/18/X245/XTITLE/The+new+rhetoric:" TargetMode="External"/><Relationship Id="rId3" Type="http://schemas.openxmlformats.org/officeDocument/2006/relationships/hyperlink" Target="http://cameo.library.cmu.edu/uhtbin/cgisirsi/toBGk6KoCs/HUNT/253270107/18/X245/XTITLE/The+new+rhetoric:" TargetMode="External"/><Relationship Id="rId4" Type="http://schemas.openxmlformats.org/officeDocument/2006/relationships/slide" Target="../slides/slide47.xml"/><Relationship Id="rId5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NAD: Supplement traditional publishing - Traditional publication pres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CH: expand, enrich, &amp; extend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 = digitize, submit,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an Harnad – “Faustian bar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ress needs growingin scope, scale, &amp; urgencyto preserve &amp; leverage intellectual ass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&amp; 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 (policies &amp; proced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ward (commitment          to assign &amp; assume responsibi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 (including rights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&amp; provid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 IP rights associated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minate (search &amp; deliv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O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: U.S. repositories count items differ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R data – “Clear blue water” – Richard Poynder – same data in Lynch – Sept 2005 – “IR deployment in the U.S. as of early 200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% of doctoral granting institutions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% of those that don’t have one plan to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survey – Foster and Gibbons – “Understanding faculty to improve content recruitment for 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erred repository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 national, subject based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% institu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% department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lign participation with reward &amp; promotion sys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lign technology with faculty practice &amp; improve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ust myths &amp; preconceptions about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beth Gadd, Charles Oppenheim, and Steve Probets.  RoMEO studies 1: The impact of copyright ownership on academic author self-archiving – publish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Documentation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 (3), 2003, 243-2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finely grained &amp; endure &amp; evolv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vary for different types of users &amp; u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anie Bates, Steve Loddington, Sue Manuel, Charles Oppenhe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&amp; Rewards in Blended Institution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aching &amp; learning materials; survey of 88 institu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someone else to check their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lf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re less concer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an non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ORE INCENTIVE: Support, management &amp; preservation, include teaching &amp; research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anie Bates, Steve Loddington, Sue Manuel, Charles Oppenhe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&amp; Rewards in Blended Institution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aching &amp; learning materials; survey of 88 institu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.2. IPR &amp; Copyrigh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ING UK REPOSITO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nd organisational models t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-oriented services across institutional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digit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PING STUDY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ma Swa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ey Perspectives 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 Aw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niversity of H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C - June 10, 2004 – “Digital rights management study interim report” – Charles Duncan, Ed Barker, Peter Doug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fee–based DRM systems are not suitable for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metadata – means to represent rights information in metadata, e.g., XrML, OD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McCord, “Institutional Repositories: Enhancing Teaching, Learning, and Research,” EDUCAUSE Evolving Technologies Committee, October 16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e Commons licenses address on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fee–based DRM systems are not suitable for higher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might try to understand the meaning and significance of r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lf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re less restri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an non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ion, disaggregation, reuse,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s must endure &amp; evolv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license – requires attaching rights to content, n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ulty own the copyright, can contribute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ulty transferred copyright, can contribute content                   if the publisher allows &amp; only the version 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601880" cy="345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, including terms &amp; con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reate a new or competing 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rights are granted if not explicitly denied,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 assume rights are denied unless explicitly gra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offered by copyright law exceeds protection required by most acade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e commons – “some rights reserved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ility arising from unwarranted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 – identify right to make a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public domain, section 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– capture metadata &amp; bundle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copyright, license terms &amp; conditions,           who is asserting rights, whom to contact about r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rights to us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ify groups to whom restrictions appl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ign users to all relevant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h rights to digital objects /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d if content leaves controlled local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lock up works in perpet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rcumvention is ill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as self–help for rights 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like overly protected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failure of the ebook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rs are remarkably effective at defeating D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rights holders do not want airtigh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iTunes–style restrictions would reduce hardware competition by making it impossible to enter the hardware market without simultaneously also entering the relevant conten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lock up works in perpet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rcumvention is ill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as self–help for rights 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like overly protected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failure of the ebook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rs are remarkably effective at defeating D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rights holders do not want airtigh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iTunes–style restrictions would reduce hardware competition by making it impossible to enter the hardware market without simultaneously also entering the relevant conten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er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resenting costly research about orphan wor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ins, Brian L.  May / June 2006.  “Advancing Scholarship and Intellectual Productivity: An Interview with Clifford A. Lynch (Part 2).”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ume 41 (3): 44-5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cause.edu/ir/library/pdf/erm0632.pd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ins, Brian L.  May / June 2006.  “Advancing Scholarship and Intellectual Productivity: An Interview with Clifford A. Lynch (Part 2).”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ume 41 (3): 44-5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cause.edu/ir/library/pdf/erm0632.pd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wareness of rights &amp; their significance (S. Res. 43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wareness of non–commercial content &amp; use (§ 1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Enable use, including © exceptions &amp; limitations,  while respecting rights holders’ rights </a:t>
            </a: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new rhetoric: a treatise on argumentation [by] Ch. Perelman and L.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brechts-Tyteca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 Translated by John Wilkinson and Purcell Weaver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ublication info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re Dame, [Ind.] University of Notre Dame Press [1969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. Res. 438  Introduced April 7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, Leahy, Hatch, Nels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ter 24 Whereas’s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lved that colleges &amp; universities continue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 leadership role in educating students regarding the detrimental consequences of online infringe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 all practicable steps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 &amp; eliminate unauthorized peer–to–peer use           on their computer systems by adopting or continuing policies to educate &amp; warn students about the ri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 students about the intrinsic value of                       &amp; need to protect intellectual prope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s and Permissions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upply Chain:</a:t>
            </a:r>
            <a:br>
              <a:rPr sz="4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ying the Knots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Institutional Reposito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86200" y="39625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 – June 2006 – New Orleans,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36576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eposi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soluti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 of right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16920" y="4114800"/>
            <a:ext cx="1698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the reposi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:  Self–archive published wor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tevan Harna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impact via fre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 Re–shape scholarly publish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ym Cr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affordability problem &amp; regain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 Advance, support, &amp; legitimize new forms     of scholarly communic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liff Lyn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&amp; provide access to institution’s asse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5460840"/>
            <a:ext cx="30481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380988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 open–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llection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ublished by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7080" y="3809880"/>
            <a:ext cx="43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digital libr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ultural &amp; intellectu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819520"/>
            <a:ext cx="8686800" cy="914400"/>
          </a:xfrm>
          <a:prstGeom prst="rightArrow">
            <a:avLst>
              <a:gd name="adj1" fmla="val 44269"/>
              <a:gd name="adj2" fmla="val 154683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urpose(s) does the repository ser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ontent does it conta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715000"/>
            <a:ext cx="8610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0560" y="579132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s get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cont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7760" y="1109520"/>
          <a:ext cx="9004320" cy="56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109520"/>
                    <a:ext cx="900432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04920" y="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 survey of 97 U.S.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2895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– &amp; post–pr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cont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520" y="1158840"/>
          <a:ext cx="9031320" cy="56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1158840"/>
                    <a:ext cx="90313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4920" y="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 survey of 97 U.S.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as digital libr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19560" y="1371240"/>
            <a:ext cx="2895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w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e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&amp; leverage as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impact (O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howcase qua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 &amp; introduce efficiencies in steward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urage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cu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 change                                            in scholarly publ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aculty practices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187880" y="3128400"/>
            <a:ext cx="36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86600" y="5719680"/>
            <a:ext cx="182880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of repository con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6600" y="1306440"/>
          <a:ext cx="89931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306440"/>
                    <a:ext cx="89931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6720" y="0"/>
            <a:ext cx="4719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, JISC &amp; SURF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little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4: survey of 45 reposi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1250 items; median 290 i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5: survey of 97 U.S.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% archive (9% plan to archive) pre– &amp; post–pr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mparable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6: 400 OA reposi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% average 40 items; 25% are emp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50% of contents are NOT full tex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715000"/>
            <a:ext cx="4800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3% of journals allow self–archiv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little time to self–arch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43640" y="4114800"/>
            <a:ext cx="1571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o few contribu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5: Rochester IMLS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match of vocabulary, incentives, &amp;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yright concer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6: UK rights &amp; rewards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16% prefer institutional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wareness &amp; workings of repositor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time, reward or incen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al poli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itudes of pe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yright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5230800"/>
            <a:ext cx="34290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 owns the copy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2743200"/>
                <a:gridCol w="1981080"/>
                <a:gridCol w="1905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eaching mate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search pap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 ow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n’t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467960" y="4724280"/>
            <a:ext cx="2494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Blended 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6560" y="4724280"/>
            <a:ext cx="13467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M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udies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019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about archival &amp; other materia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&amp; permi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granted by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right is right to reproduce, distribute, perform      &amp; display publicly, &amp; make deriv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eptions &amp; limitations for libr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use / dealing exception for the publ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miss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granted by rights h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ssions specify rights, e.g., display, print, sa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&amp; conditions may apply,                                     e.g., use with attribution, use by certain groups, use for certain purposes, use for a limited period of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copyright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their work be safe &amp; attributed to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deposit work with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 cont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&amp; how will people be able to use their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2% concerned won’t get published if self–arch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% concerned self–archiving will break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% ignore agreements &amp; self–arch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9440" y="5950080"/>
            <a:ext cx="31921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MEO Studies 1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8720" y="3429000"/>
            <a:ext cx="4266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, 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8880" y="5581800"/>
            <a:ext cx="1676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en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106640"/>
          <a:ext cx="915984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6640"/>
                    <a:ext cx="91598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600200" y="5638680"/>
            <a:ext cx="2895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7080" y="0"/>
            <a:ext cx="2494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19920"/>
            <a:ext cx="441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 motiv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rovements in rights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 barrier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are more likely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a repository, but if they use repository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0% are unclear about their right to use or mod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30% had difficulty locating copyright inform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6160" y="3809880"/>
            <a:ext cx="426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600" y="5105520"/>
            <a:ext cx="5562720" cy="1447560"/>
            <a:chOff x="228600" y="5105520"/>
            <a:chExt cx="5562720" cy="1447560"/>
          </a:xfrm>
        </p:grpSpPr>
        <p:sp>
          <p:nvSpPr>
            <p:cNvPr id="187" name=""/>
            <p:cNvSpPr/>
            <p:nvPr/>
          </p:nvSpPr>
          <p:spPr>
            <a:xfrm>
              <a:off x="234000" y="5105520"/>
              <a:ext cx="55328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8% self–archive research pa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8% use open–access research pa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RoMEO Studies 2 &amp; 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5105520"/>
              <a:ext cx="556272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67280" y="5181480"/>
            <a:ext cx="3048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nagement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ard copyright problems for repository manag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s are ignorant of copyright &amp; wary of depos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rd party content, learning objects, &amp; im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 faculty don’t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if they own or transferred copy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, read, keep or carefully file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what the agreements s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he time or confidence to negot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value of open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6560" y="2895480"/>
            <a:ext cx="493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inking UK Reposito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June 5,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3160" y="6202440"/>
            <a:ext cx="60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liminary results Carnegie Mellon stud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ights management                       i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e most significa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repository policy issue                                 &amp; implementation 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43800" y="5867280"/>
            <a:ext cx="76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cCord,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IR: Enhancing Teaching, Learning, &amp; Research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UCAUSE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9920" y="4237200"/>
            <a:ext cx="28954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solu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to be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holders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mediators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514600" cy="1697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876920" y="3505320"/>
            <a:ext cx="4038480" cy="3124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3733920"/>
            <a:ext cx="3428640" cy="2666880"/>
            <a:chOff x="5181480" y="3733920"/>
            <a:chExt cx="3428640" cy="2666880"/>
          </a:xfrm>
        </p:grpSpPr>
        <p:sp>
          <p:nvSpPr>
            <p:cNvPr id="203" name=""/>
            <p:cNvSpPr/>
            <p:nvPr/>
          </p:nvSpPr>
          <p:spPr>
            <a:xfrm>
              <a:off x="6569280" y="3733920"/>
              <a:ext cx="2040840" cy="20955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70160" y="3973680"/>
              <a:ext cx="1621080" cy="16534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4000" y="4248360"/>
              <a:ext cx="1229400" cy="12769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0240" y="4552920"/>
              <a:ext cx="916920" cy="8380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10600" y="4857840"/>
              <a:ext cx="376920" cy="383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181480" y="3733920"/>
              <a:ext cx="1452600" cy="2666880"/>
              <a:chOff x="5181480" y="3733920"/>
              <a:chExt cx="1452600" cy="26668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81480" y="3733920"/>
                <a:ext cx="772200" cy="819000"/>
                <a:chOff x="5181480" y="3733920"/>
                <a:chExt cx="772200" cy="819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181480" y="3911040"/>
                  <a:ext cx="447120" cy="48672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43840" y="3733920"/>
                  <a:ext cx="447120" cy="48708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06560" y="3911040"/>
                  <a:ext cx="447120" cy="486720"/>
                </a:xfrm>
                <a:prstGeom prst="ellipse">
                  <a:avLst/>
                </a:prstGeom>
                <a:solidFill>
                  <a:srgbClr val="99ff33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43840" y="4065840"/>
                  <a:ext cx="447120" cy="487080"/>
                </a:xfrm>
                <a:prstGeom prst="ellipse">
                  <a:avLst/>
                </a:prstGeom>
                <a:solidFill>
                  <a:srgbClr val="ff99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199840" y="5143680"/>
                <a:ext cx="735480" cy="1257120"/>
                <a:chOff x="5199840" y="5143680"/>
                <a:chExt cx="735480" cy="1257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199840" y="5143680"/>
                  <a:ext cx="735480" cy="76176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ibra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199840" y="5639040"/>
                  <a:ext cx="735480" cy="761760"/>
                </a:xfrm>
                <a:prstGeom prst="ellipse">
                  <a:avLst/>
                </a:prstGeom>
                <a:solidFill>
                  <a:srgbClr val="99ff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 flipV="1">
                <a:off x="5935320" y="5334120"/>
                <a:ext cx="698760" cy="419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35320" y="4305240"/>
                <a:ext cx="588240" cy="342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604120" y="4648320"/>
                <a:ext cx="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118920" y="5448240"/>
              <a:ext cx="514800" cy="4953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84000" y="4838760"/>
              <a:ext cx="588240" cy="571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1295280"/>
          <a:ext cx="886464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86464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teach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3040" y="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match with faculty pre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positories are 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7% would allow open access                        to their teaching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positories                                                                have 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pped to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want different                                                                access for different                                   teaching materi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99480" y="1676520"/>
            <a:ext cx="1015920" cy="228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6480" y="2590920"/>
            <a:ext cx="4228920" cy="419076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2280" y="307008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45080" y="361944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9080" y="4229280"/>
            <a:ext cx="1900080" cy="16761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9240" y="4838760"/>
            <a:ext cx="781200" cy="76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0600" y="480060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restrictions on 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61040" y="1568520"/>
          <a:ext cx="477036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1040" y="1568520"/>
                    <a:ext cx="477036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442600" y="121932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7560" y="1219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840" y="1566720"/>
          <a:ext cx="5813640" cy="522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40" y="1566720"/>
                    <a:ext cx="581364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restrictions on 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357800" y="1565280"/>
          <a:ext cx="477828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1565280"/>
                    <a:ext cx="47782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899800" y="121932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2193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600200"/>
          <a:ext cx="5813280" cy="522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00200"/>
                    <a:ext cx="581328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in the supply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medi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reators &amp; enforc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definers &amp; interpr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5557680"/>
            <a:ext cx="505584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can play multipl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66080" y="1295280"/>
            <a:ext cx="184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5680" y="1135080"/>
          <a:ext cx="900432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35080"/>
                    <a:ext cx="90043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tri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76320" y="1230480"/>
          <a:ext cx="870912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230480"/>
                    <a:ext cx="87091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holder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ilit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ssign different rights to different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nage rights inherited from multiple sources                   as content is aggregated, repurposed, redistrib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identifiers for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tracking &amp;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&amp;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mpens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mediator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rights holders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ally defensible, [machine actionable], persistent,                    standardized rights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ilit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nvey rights to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[Control] who can do what, how, when, &amp;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y to enable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am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lay of rights gra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py for personal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cer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notate for personal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ggregate &amp; disaggreg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are with colleagu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pply accessibility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022720" y="1219320"/>
            <a:ext cx="4008960" cy="329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the excep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sharing &amp; excerp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earch material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 50% of faculty woul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ow unrestricted copying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erpting, annotating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gregating or sha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requirements fo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" y="1339920"/>
          <a:ext cx="6248520" cy="528948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S requ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ERS requ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(option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r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r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rep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rep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ertain purposes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ertain purposes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708600" y="6202440"/>
            <a:ext cx="218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EO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9240" y="1523880"/>
            <a:ext cx="2757960" cy="369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s li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commer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Deriv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ssues &amp; requir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apture human– &amp; machine–readable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rights to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pply appropriate permissions, not LCD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d or inherit rights as content                                                     moves through the supply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bine licenses &amp;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&amp; track 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invade priv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operate with other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238880" y="4573440"/>
            <a:ext cx="1676520" cy="1132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 &amp; compli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meta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aren Coyle, Sharon Fa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holders, dates, contac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gran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&amp; conditions, e.g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ompl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–through licenses for users &amp; contributo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of rights hold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can self–archive without having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on’t keep or can’t find transfer agre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248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for rights 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3080" y="1355760"/>
          <a:ext cx="90295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355760"/>
                    <a:ext cx="90295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510600" y="6202440"/>
            <a:ext cx="24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L survey 200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ng with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73080" y="1355760"/>
          <a:ext cx="90295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355760"/>
                    <a:ext cx="90295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82680" y="6202440"/>
            <a:ext cx="24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L survey 200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n the rights             or are empowered              to grant rights                  to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different philosophies, motivations, concerns,                      &amp; prior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438280"/>
            <a:ext cx="2895840" cy="2819520"/>
          </a:xfrm>
          <a:prstGeom prst="ellipse">
            <a:avLst/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371600"/>
            <a:ext cx="2895480" cy="28195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2438280"/>
            <a:ext cx="2895480" cy="2819520"/>
          </a:xfrm>
          <a:prstGeom prst="ellipse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809880"/>
            <a:ext cx="2895480" cy="2819520"/>
          </a:xfrm>
          <a:prstGeom prst="ellipse">
            <a:avLst/>
          </a:prstGeom>
          <a:solidFill>
            <a:srgbClr val="ff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rights with DL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dentify right to make a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pture metadata &amp; bundle wit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tent &amp; metadata bun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liant with copyright &amp;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 &amp; re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tent &amp; metadata 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0640" y="6095880"/>
            <a:ext cx="583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DL Rights &amp; Digital Library Work Fl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010280" y="4981680"/>
            <a:ext cx="19051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idge implementation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ights to us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rights to digital objects /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if content leaves controlled local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expression languages                                             &amp; enforcement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72200" y="5516640"/>
            <a:ext cx="27432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cce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must move through the supply chain                with the efficiency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e &amp; sustain the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act &amp; retain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must be expressed &amp; managed                             at an unprecedented level of granularity &amp;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users who have access to a resource                         need not have the same rights                                               to use the resour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324480" y="5519880"/>
            <a:ext cx="2590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Rights Management” (DRM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manage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chnologically enforces  or tries to enforce restrictions on use throughout                                    the supply cha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43240" y="3143160"/>
            <a:ext cx="4772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M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gives rights holders complet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are denied unless explicitly gran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s with discoverability of copyrighted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es inappropriate permissions (LC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vade privacy &amp; prohibit or deter preservation, fair or innovative use, &amp; access to the public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n’t work very w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s don’t lik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ckers defeat i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19920" y="4871880"/>
            <a:ext cx="2895480" cy="1757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758480" y="4800600"/>
            <a:ext cx="4149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MCA gives DRM force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uine Rights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vise way to accomplish constitutional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solve the retrospective lack of documentation,   but “badly needed going forwar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&amp; identity managem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anage rights with copyright law &amp; licen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 record &amp; displa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58120" y="4114800"/>
            <a:ext cx="595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 with Cliff Lynch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64800" y="6095880"/>
            <a:ext cx="704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ren Coyle, Symposium on Copyright at a Cross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 of rights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rm “digital rights management” is tai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a new vocabulary to talk                               about managing rights in highe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RM arguments are based on an assumed            structure of reality: commercialization &amp; pi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99360" y="3200400"/>
            <a:ext cx="431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ff Lynch comments at me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mass digitization projec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6, Chicago, 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a new structure of re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wareness of rights &amp; their significanc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(S. Res. 43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wareness of non–commercial content &amp; us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s holders, mediators &amp; users                                 can assert their 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nable use, including © exceptions &amp; limitations,  while respecting rights holders’ right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ghts are granted unless explicitly den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ue added based on rights, e.g., CC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73360" y="6202440"/>
            <a:ext cx="623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elman &amp; Olbrechts-Tyteca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New Rheto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58000" y="5622840"/>
            <a:ext cx="205740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ll@andrew.cmu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lides &amp; bibliography availab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cc"/>
                </a:solidFill>
                <a:uFillTx/>
                <a:latin typeface="Arial"/>
              </a:rPr>
              <a:t>http://www.library.cmu.edu/People/troll/TrollWebSite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medi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y rights                   in compliance                    with the law                        &amp; license terms set  by rights hold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143000"/>
            <a:ext cx="2895480" cy="2819520"/>
          </a:xfrm>
          <a:prstGeom prst="ellipse">
            <a:avLst/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br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895480"/>
            <a:ext cx="2895480" cy="2819520"/>
          </a:xfrm>
          <a:prstGeom prst="ellipse">
            <a:avLst/>
          </a:pr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60" y="4797360"/>
            <a:ext cx="3276000" cy="18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nited Stat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brary is responsi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80% of IR op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2005 CNI surv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533520"/>
            <a:ext cx="1676160" cy="16761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2286000"/>
            <a:ext cx="1676160" cy="1676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4038480"/>
            <a:ext cx="1676160" cy="1676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50480" y="580716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2000" y="580716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 rights granted (or not) to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mpt (or not)                 to interpret righ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6480" y="2438280"/>
            <a:ext cx="4228920" cy="41911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2280" y="291780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5080" y="346716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9080" y="4076640"/>
            <a:ext cx="1900080" cy="1676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29240" y="4686480"/>
            <a:ext cx="781200" cy="76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10600" y="464832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pository supply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6480" y="1295280"/>
            <a:ext cx="4228920" cy="41911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2280" y="177480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45080" y="232416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9080" y="2933640"/>
            <a:ext cx="1900080" cy="1676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9240" y="3543480"/>
            <a:ext cx="781200" cy="76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809720" y="1295280"/>
            <a:ext cx="3009960" cy="5334120"/>
            <a:chOff x="1809720" y="1295280"/>
            <a:chExt cx="3009960" cy="5334120"/>
          </a:xfrm>
        </p:grpSpPr>
        <p:grpSp>
          <p:nvGrpSpPr>
            <p:cNvPr id="87" name=""/>
            <p:cNvGrpSpPr/>
            <p:nvPr/>
          </p:nvGrpSpPr>
          <p:grpSpPr>
            <a:xfrm>
              <a:off x="1809720" y="1295280"/>
              <a:ext cx="1599840" cy="1638360"/>
              <a:chOff x="1809720" y="1295280"/>
              <a:chExt cx="1599840" cy="1638360"/>
            </a:xfrm>
          </p:grpSpPr>
          <p:sp>
            <p:nvSpPr>
              <p:cNvPr id="88" name=""/>
              <p:cNvSpPr/>
              <p:nvPr/>
            </p:nvSpPr>
            <p:spPr>
              <a:xfrm>
                <a:off x="1809720" y="1649520"/>
                <a:ext cx="926280" cy="973800"/>
              </a:xfrm>
              <a:prstGeom prst="ellipse">
                <a:avLst/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udent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6320" y="1295280"/>
                <a:ext cx="926280" cy="97416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acul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3280" y="1649520"/>
                <a:ext cx="926280" cy="973800"/>
              </a:xfrm>
              <a:prstGeom prst="ellipse">
                <a:avLst/>
              </a:prstGeom>
              <a:solidFill>
                <a:srgbClr val="99ff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stit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46320" y="1959480"/>
                <a:ext cx="926280" cy="974160"/>
              </a:xfrm>
              <a:prstGeom prst="ellipse">
                <a:avLst/>
              </a:prstGeom>
              <a:solidFill>
                <a:srgbClr val="ff99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Par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847880" y="4114800"/>
              <a:ext cx="1523880" cy="2514600"/>
              <a:chOff x="1847880" y="4114800"/>
              <a:chExt cx="1523880" cy="2514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47880" y="4114800"/>
                <a:ext cx="1523880" cy="1523880"/>
              </a:xfrm>
              <a:prstGeom prst="ellipse">
                <a:avLst/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bra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7880" y="5105520"/>
                <a:ext cx="1523880" cy="1523880"/>
              </a:xfrm>
              <a:prstGeom prst="ellipse">
                <a:avLst/>
              </a:prstGeom>
              <a:solidFill>
                <a:srgbClr val="99ff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V="1">
              <a:off x="3371760" y="4495320"/>
              <a:ext cx="1447920" cy="83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760" y="2438280"/>
              <a:ext cx="121932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685960" y="312408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753000" y="4648320"/>
            <a:ext cx="1066680" cy="9903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10600" y="350532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ulatory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reators                   &amp; e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rights                  &amp; compel obe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definers                    &amp; interpr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 the meaning      &amp; significance of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371600"/>
            <a:ext cx="449568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 &amp; 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f–arch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 must uphol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ure right to copy, distribute &amp; preserve con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sit license between © holder &amp; institu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ct distribution &amp; use of con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tribution license between © holder &amp; us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tional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essional 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267080"/>
            <a:ext cx="3200400" cy="2362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19920" y="4419720"/>
            <a:ext cx="2590560" cy="1981080"/>
            <a:chOff x="6019920" y="4419720"/>
            <a:chExt cx="2590560" cy="1981080"/>
          </a:xfrm>
        </p:grpSpPr>
        <p:sp>
          <p:nvSpPr>
            <p:cNvPr id="107" name=""/>
            <p:cNvSpPr/>
            <p:nvPr/>
          </p:nvSpPr>
          <p:spPr>
            <a:xfrm>
              <a:off x="7068600" y="4419720"/>
              <a:ext cx="1541880" cy="15566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20160" y="4597560"/>
              <a:ext cx="1224720" cy="122832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81800" y="4801680"/>
              <a:ext cx="928800" cy="9486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99520" y="5028120"/>
              <a:ext cx="6926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000" y="5254560"/>
              <a:ext cx="284760" cy="28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019920" y="4419720"/>
              <a:ext cx="1097280" cy="1981080"/>
              <a:chOff x="6019920" y="4419720"/>
              <a:chExt cx="1097280" cy="19810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019920" y="4419720"/>
                <a:ext cx="583200" cy="608400"/>
                <a:chOff x="6019920" y="4419720"/>
                <a:chExt cx="583200" cy="608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19920" y="4551120"/>
                  <a:ext cx="337680" cy="36180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142680" y="4419720"/>
                  <a:ext cx="337680" cy="36180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65440" y="4551120"/>
                  <a:ext cx="337680" cy="361800"/>
                </a:xfrm>
                <a:prstGeom prst="ellipse">
                  <a:avLst/>
                </a:prstGeom>
                <a:solidFill>
                  <a:srgbClr val="99ff33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42680" y="4666320"/>
                  <a:ext cx="337680" cy="361800"/>
                </a:xfrm>
                <a:prstGeom prst="ellipse">
                  <a:avLst/>
                </a:prstGeom>
                <a:solidFill>
                  <a:srgbClr val="ff99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33600" y="5466960"/>
                <a:ext cx="555480" cy="933840"/>
                <a:chOff x="6033600" y="5466960"/>
                <a:chExt cx="555480" cy="9338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33600" y="5466960"/>
                  <a:ext cx="555480" cy="56592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ibra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33600" y="5834880"/>
                  <a:ext cx="555480" cy="565920"/>
                </a:xfrm>
                <a:prstGeom prst="ellipse">
                  <a:avLst/>
                </a:prstGeom>
                <a:solidFill>
                  <a:srgbClr val="99ff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flipV="1">
                <a:off x="6589440" y="5608080"/>
                <a:ext cx="527760" cy="311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89440" y="4844160"/>
                <a:ext cx="444240" cy="254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339240" y="5098320"/>
                <a:ext cx="0" cy="33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728040" y="5693040"/>
              <a:ext cx="388800" cy="36792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1840" y="5240520"/>
              <a:ext cx="444240" cy="424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24:12Z</dcterms:created>
  <dc:creator>Denise Troll Covey</dc:creator>
  <dc:description/>
  <dc:language>en-US</dc:language>
  <cp:lastModifiedBy>Denise Troll Covey</cp:lastModifiedBy>
  <dcterms:modified xsi:type="dcterms:W3CDTF">2006-06-19T12:10:31Z</dcterms:modified>
  <cp:revision>394</cp:revision>
  <dc:subject/>
  <dc:title>Slide 1</dc:title>
</cp:coreProperties>
</file>