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4.jpeg" ContentType="image/jpeg"/>
  <Override PartName="/ppt/media/image2.png" ContentType="image/png"/>
  <Override PartName="/ppt/media/image3.jpeg" ContentType="image/jpeg"/>
  <Override PartName="/ppt/media/image18.wmf" ContentType="image/x-wmf"/>
  <Override PartName="/ppt/media/image5.jpeg" ContentType="image/jpeg"/>
  <Override PartName="/ppt/media/image20.wmf" ContentType="image/x-wmf"/>
  <Override PartName="/ppt/media/image6.wmf" ContentType="image/x-wmf"/>
  <Override PartName="/ppt/media/image30.jpeg" ContentType="image/jpeg"/>
  <Override PartName="/ppt/media/image7.wmf" ContentType="image/x-wmf"/>
  <Override PartName="/ppt/media/image12.jpeg" ContentType="image/jpeg"/>
  <Override PartName="/ppt/media/image9.wmf" ContentType="image/x-wmf"/>
  <Override PartName="/ppt/media/image10.jpeg" ContentType="image/jpeg"/>
  <Override PartName="/ppt/media/image8.jpeg" ContentType="image/jpeg"/>
  <Override PartName="/ppt/media/image1.jpeg" ContentType="image/jpeg"/>
  <Override PartName="/ppt/media/image14.jpeg" ContentType="image/jpeg"/>
  <Override PartName="/ppt/media/image16.wmf" ContentType="image/x-wmf"/>
  <Override PartName="/ppt/media/image26.wmf" ContentType="image/x-wmf"/>
  <Override PartName="/ppt/media/image17.jpeg" ContentType="image/jpeg"/>
  <Override PartName="/ppt/media/image19.wmf" ContentType="image/x-wmf"/>
  <Override PartName="/ppt/media/image21.wmf" ContentType="image/x-wmf"/>
  <Override PartName="/ppt/media/image22.wmf" ContentType="image/x-wmf"/>
  <Override PartName="/ppt/media/image11.jpeg" ContentType="image/jpeg"/>
  <Override PartName="/ppt/media/image24.png" ContentType="image/png"/>
  <Override PartName="/ppt/media/image15.jpeg" ContentType="image/jpeg"/>
  <Override PartName="/ppt/media/image25.wmf" ContentType="image/x-wmf"/>
  <Override PartName="/ppt/media/image13.wmf" ContentType="image/x-wmf"/>
  <Override PartName="/ppt/media/image27.jpeg" ContentType="image/jpeg"/>
  <Override PartName="/ppt/media/image23.wmf" ContentType="image/x-wmf"/>
  <Override PartName="/ppt/media/image2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9192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919320" y="-36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58840" y="690120"/>
            <a:ext cx="460224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874188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919320" y="874188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DCCF014-C403-4A10-BB25-9238ED008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hyperlink" Target="http://www.educause.edu/ir/library/pdf/erm0632.pdf" TargetMode="External"/><Relationship Id="rId2" Type="http://schemas.openxmlformats.org/officeDocument/2006/relationships/slide" Target="../slides/slide45.xml"/><Relationship Id="rId3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hyperlink" Target="http://www.educause.edu/ir/library/pdf/erm0632.pdf" TargetMode="External"/><Relationship Id="rId2" Type="http://schemas.openxmlformats.org/officeDocument/2006/relationships/slide" Target="../slides/slide46.xml"/><Relationship Id="rId3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hyperlink" Target="http://cameo.library.cmu.edu/uhtbin/cgisirsi/toBGk6KoCs/HUNT/253270107/18/X245/XTITLE/The+new+rhetoric:" TargetMode="External"/><Relationship Id="rId2" Type="http://schemas.openxmlformats.org/officeDocument/2006/relationships/hyperlink" Target="http://cameo.library.cmu.edu/uhtbin/cgisirsi/toBGk6KoCs/HUNT/253270107/18/X245/XTITLE/The+new+rhetoric:" TargetMode="External"/><Relationship Id="rId3" Type="http://schemas.openxmlformats.org/officeDocument/2006/relationships/hyperlink" Target="http://cameo.library.cmu.edu/uhtbin/cgisirsi/toBGk6KoCs/HUNT/253270107/18/X245/XTITLE/The+new+rhetoric:" TargetMode="External"/><Relationship Id="rId4" Type="http://schemas.openxmlformats.org/officeDocument/2006/relationships/slide" Target="../slides/slide47.xml"/><Relationship Id="rId5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NAD: Supplement traditional publishing - Traditional publication preser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CH: expand, enrich, &amp; extend the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 = digitize, submit, harv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van Harnad – “Faustian bargai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dress needs growingin scope, scale, &amp; urgencyto preserve &amp; leverage intellectual asse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e &amp; cu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 (policies &amp; proced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ward (commitment          to assign &amp; assume responsibil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rve (including rights inform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&amp; provid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er IP rights associated with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eminate (search &amp; deliv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O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: U.S. repositories count items differ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AR data – “Clear blue water” – Richard Poynder – same data in Lynch – Sept 2005 – “IR deployment in the U.S. as of early 200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% of doctoral granting institutions have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8% of those that don’t have one plan to have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4 survey – Foster and Gibbons – “Understanding faculty to improve content recruitment for I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ferred repository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% national, subject based repos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% institu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% department repos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align participation with reward &amp; promotion syste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align technology with faculty practice &amp; improve us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bust myths &amp; preconceptions about 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beth Gadd, Charles Oppenheim, and Steve Probets.  RoMEO studies 1: The impact of copyright ownership on academic author self-archiving – publishe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Journal of Documentation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9 (3), 2003, 243-2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finely grained &amp; endure &amp; evolve ove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vary for different types of users &amp; u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anie Bates, Steve Loddington, Sue Manuel, Charles Oppenhe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s &amp; Rewards in Blended Institutional Reposi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eaching &amp; learning materials; survey of 88 institu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page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someone else to check their agre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elf–arch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re less concern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han non–arch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MORE INCENTIVE: Support, management &amp; preservation, include teaching &amp; research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anie Bates, Steve Loddington, Sue Manuel, Charles Oppenhe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s &amp; Rewards in Blended Institutional Reposi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eaching &amp; learning materials; survey of 88 institu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2.2. IPR &amp; Copyrigh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KING UK REPOSITOR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ical and organisational models to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-oriented services across institutional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her digital reposi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OPING STUDY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ma Swa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Key Perspectives Lt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ris Aw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niversity of H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e 5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C - June 10, 2004 – “Digital rights management study interim report” – Charles Duncan, Ed Barker, Peter Doug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rietary fee–based DRM systems are not suitable for highe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s metadata – means to represent rights information in metadata, e.g., XrML, OD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n McCord, “Institutional Repositories: Enhancing Teaching, Learning, and Research,” EDUCAUSE Evolving Technologies Committee, October 16,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ve Commons licenses address one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rietary fee–based DRM systems are not suitable for higher educ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keep control - Concern about misuse of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keep control - Concern about misuse of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keep control - Concern about misuse of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s might try to understand the meaning and significance of righ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keep control - Concern about misuse of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elf–arch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re less restric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han non–arch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keep control - Concern about misuse of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ion, disaggregation, reuse, collab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ssions must endure &amp; evolve ove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license – requires attaching rights to content, n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aculty own the copyright, can contribute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aculty transferred copyright, can contribute content                   if the publisher allows &amp; only the version allo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60640" y="690480"/>
            <a:ext cx="4601880" cy="34513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, including terms &amp; condi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create a new or competing 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rights are granted if not explicitly denied,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ot assume rights are denied unless explicitly gra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cen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on offered by copyright law exceeds protection required by most academ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ve commons – “some rights reserved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ulnerability arising from unwarranted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ize – identify right to make a 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public domain, section 1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kage – capture metadata &amp; bundle with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copyright, license terms &amp; conditions,           who is asserting rights, whom to contact about righ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ign rights to user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dentify groups to whom restrictions appl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ssign users to all relevant group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ach rights to digital objects /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quired if content leaves controlled local netwo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n lock up works in perpetu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rcumvention is illeg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M as self–help for rights 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mers don’t like overly protected 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ated failure of the ebook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ckers are remarkably effective at defeating D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rights holders do not want airtight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spread iTunes–style restrictions would reduce hardware competition by making it impossible to enter the hardware market without simultaneously also entering the relevant content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n lock up works in perpetu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rcumvention is illeg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M as self–help for rights 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mers don’t like overly protected 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ated failure of the ebook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ckers are remarkably effective at defeating D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rights holders do not want airtight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spread iTunes–style restrictions would reduce hardware competition by making it impossible to enter the hardware market without simultaneously also entering the relevant content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ewer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presenting costly research about orphan work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wkins, Brian L.  May / June 2006.  “Advancing Scholarship and Intellectual Productivity: An Interview with Clifford A. Lynch (Part 2).”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DUCAUSE Revi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olume 41 (3): 44-5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ducause.edu/ir/library/pdf/erm0632.pdf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wkins, Brian L.  May / June 2006.  “Advancing Scholarship and Intellectual Productivity: An Interview with Clifford A. Lynch (Part 2).”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DUCAUSE Revi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olume 41 (3): 44-5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ducause.edu/ir/library/pdf/erm0632.pdf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2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Awareness of rights &amp; their significance (S. Res. 43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Awareness of non–commercial content &amp; use (§ 1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Enable use, including © exceptions &amp; limitations,  while respecting rights holders’ rights </a:t>
            </a:r>
            <a:r>
              <a:rPr b="0" i="1" lang="en-US" sz="900" spc="-1" strike="noStrike">
                <a:solidFill>
                  <a:srgbClr val="ff0000"/>
                </a:solidFill>
                <a:latin typeface="Arial"/>
              </a:rPr>
              <a:t>(§ 1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he new rhetoric: a treatise on argumentation [by] Ch. Perelman and L. 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lbrechts-Tyteca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 Translated by John Wilkinson and Purcell Weaver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Publication info: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re Dame, [Ind.] University of Notre Dame Press [1969]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. Res. 438  Introduced April 7, 20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exander, Leahy, Hatch, Nels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fter 24 Whereas’s 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lved that colleges &amp; universities continue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ake leadership role in educating students regarding the detrimental consequences of online infringemen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ake all practicable steps t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ter &amp; eliminate unauthorized peer–to–peer use           on their computer systems by adopting or continuing policies to educate &amp; warn students about the ris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ucate students about the intrinsic value of                       &amp; need to protect intellectual proper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600" y="41540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41540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0000" y="41540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600" y="41540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65840" y="41540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02720" y="41540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600" y="41540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0000" y="41540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41540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ghts and Permissions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the Supply Chain:</a:t>
            </a:r>
            <a:br>
              <a:rPr sz="40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tying the Knots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Institutional Repositor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86200" y="39625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ise Troll Co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cipal Librarian for Special Pro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rnegie Mell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A – June 2006 – New Orleans, 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4038480"/>
            <a:ext cx="3657600" cy="17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ng the reposit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rns about copy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ing solution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etoric of right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216920" y="4114800"/>
            <a:ext cx="16984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ng the reposito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4:  Self–archive published work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Stevan Harna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ximize impact via free ac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2:  Re–shape scholarly publishing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Raym Crow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ress affordability problem &amp; regain contro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3:  Advance, support, &amp; legitimize new forms     of scholarly communicatio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Cliff Lync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rve &amp; provide access to institution’s asset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867280" y="5460840"/>
            <a:ext cx="304812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u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320" y="3809880"/>
            <a:ext cx="361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n open–ac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ollection of 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published by facu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17080" y="3809880"/>
            <a:ext cx="43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 digital libr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of the community’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ultural &amp; intellectual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819520"/>
            <a:ext cx="8686800" cy="914400"/>
          </a:xfrm>
          <a:prstGeom prst="rightArrow">
            <a:avLst>
              <a:gd name="adj1" fmla="val 44269"/>
              <a:gd name="adj2" fmla="val 154683"/>
            </a:avLst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purpose(s) does the repository serv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content does it contai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5715000"/>
            <a:ext cx="86104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50560" y="5791320"/>
            <a:ext cx="505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ights get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1295280"/>
            <a:ext cx="9144000" cy="457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ository conten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77760" y="1109520"/>
          <a:ext cx="9004320" cy="568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60" y="1109520"/>
                    <a:ext cx="9004320" cy="56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304920" y="0"/>
            <a:ext cx="7696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005 CNI survey of 97 U.S. institu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295280"/>
            <a:ext cx="28954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– &amp; post–pri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ository conten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7520" y="1158840"/>
          <a:ext cx="9031320" cy="56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1158840"/>
                    <a:ext cx="9031320" cy="56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304920" y="0"/>
            <a:ext cx="7696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005 CNI survey of 97 U.S. institu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ository as digital libra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19560" y="1371240"/>
            <a:ext cx="2895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gani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ag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war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semi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ope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28240" y="1371600"/>
            <a:ext cx="5257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tionale(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rve &amp; leverage ass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crease impact (OA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howcase qual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entralize &amp; introduce efficiencies in stewardshi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ncourage collabor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scu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ilitate change                                            in scholarly publish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 faculty practices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4187880" y="3128400"/>
            <a:ext cx="36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RIGHT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086600" y="5719680"/>
            <a:ext cx="182880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lume of repository cont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6600" y="1306440"/>
          <a:ext cx="8993160" cy="550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00" y="1306440"/>
                    <a:ext cx="8993160" cy="55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06720" y="0"/>
            <a:ext cx="4719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005 CNI, JISC &amp; SURF surve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status: little 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04: survey of 45 reposito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verage 1250 items; median 290 i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05: survey of 97 U.S. instit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5% archive (9% plan to archive) pre– &amp; post–pri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comparable dat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06: 400 OA repositor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0% average 40 items; 25% are emp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least 50% of contents are NOT full tex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5715000"/>
            <a:ext cx="4800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3% of journals allow self–archiv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s little time to self–archiv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343640" y="4114800"/>
            <a:ext cx="15717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so few contribu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05: Rochester IMLS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smatch of vocabulary, incentives, &amp; workfl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pyright concer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06: UK rights &amp; rewards stu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y 16% prefer institutional reposi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wareness &amp; workings of repository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ck of time, reward or incen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titutional polic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itudes of pee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pyright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486400" y="5230800"/>
            <a:ext cx="342900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right a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rier to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n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o owns the copyr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905120" y="2133720"/>
          <a:ext cx="6629400" cy="2590560"/>
        </p:xfrm>
        <a:graphic>
          <a:graphicData uri="http://schemas.openxmlformats.org/drawingml/2006/table">
            <a:tbl>
              <a:tblPr/>
              <a:tblGrid>
                <a:gridCol w="2743200"/>
                <a:gridCol w="1981080"/>
                <a:gridCol w="190512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Teaching materi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Research pap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ademics ow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tion ow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on’t kn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4467960" y="4724280"/>
            <a:ext cx="249408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ights &amp; Reward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n Blended I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uary 200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46560" y="4724280"/>
            <a:ext cx="13467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oME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tudies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003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6019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hat about archival &amp; other material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ghts &amp; permis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igh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e granted by la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pyright is right to reproduce, distribute, perform      &amp; display publicly, &amp; make derivativ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ceptions &amp; limitations for librari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air use / dealing exception for the publ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ermiss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e granted by rights hold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missions specify rights, e.g., display, print, sav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trictions &amp; conditions may apply,                                     e.g., use with attribution, use by certain groups, use for certain purposes, use for a limited period of tim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ulty copyright conc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5665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ching materi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5665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ll their work be safe &amp; attributed to the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5665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they deposit work with 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arty conten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5665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o &amp; how will people be able to use their work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5665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5665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earch materi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5665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2% concerned won’t get published if self–archiv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5665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0% concerned self–archiving will break agre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5665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% ignore agreements &amp; self–archiv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89440" y="5950080"/>
            <a:ext cx="319212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oMEO Studies 1, 20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88720" y="3429000"/>
            <a:ext cx="426672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ights &amp; Rewards, January 200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38880" y="5581800"/>
            <a:ext cx="167652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5638680"/>
            <a:ext cx="9144000" cy="457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entiv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0" y="1106640"/>
          <a:ext cx="9159840" cy="57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6640"/>
                    <a:ext cx="9159840" cy="57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1600200" y="5638680"/>
            <a:ext cx="28954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rt copy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7080" y="0"/>
            <a:ext cx="24940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ights &amp; Reward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6019920"/>
            <a:ext cx="4419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ther motivat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mprovements in rights awar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right as barrier to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ulty are more likely 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n 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to a repository, but if they use repository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40% are unclear about their right to use or modif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30% had difficulty locating copyright inform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46160" y="3809880"/>
            <a:ext cx="426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ights &amp; Rewards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uary 200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28600" y="5105520"/>
            <a:ext cx="5562720" cy="1447560"/>
            <a:chOff x="228600" y="5105520"/>
            <a:chExt cx="5562720" cy="1447560"/>
          </a:xfrm>
        </p:grpSpPr>
        <p:sp>
          <p:nvSpPr>
            <p:cNvPr id="187" name=""/>
            <p:cNvSpPr/>
            <p:nvPr/>
          </p:nvSpPr>
          <p:spPr>
            <a:xfrm>
              <a:off x="234000" y="5105520"/>
              <a:ext cx="5532840" cy="14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8% self–archive research pap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8% use open–access research pap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RoMEO Studies 2 &amp; 3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28600" y="5105520"/>
              <a:ext cx="556272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867280" y="5181480"/>
            <a:ext cx="304812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right a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nagement 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Hard copyright problems for repository manager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hors are ignorant of copyright &amp; wary of deposi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rd party content, learning objects, &amp; imag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ome faculty don’t 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 if they own or transferred copyr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, read, keep or carefully file agre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re what the agreements s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he time or confidence to negoti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 the value of open ac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76560" y="2895480"/>
            <a:ext cx="4937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Linking UK Repositor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June 5, 200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73160" y="6202440"/>
            <a:ext cx="603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liminary results Carnegie Mellon study 200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28600" y="4572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Rights management                       is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the most significant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repository policy issue                                 &amp; implementation challen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43800" y="5867280"/>
            <a:ext cx="766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cCord,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IR: Enhancing Teaching, Learning, &amp; Research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DUCAUSE, 20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019920" y="4237200"/>
            <a:ext cx="2895480" cy="14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solution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s to be manag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ghts holders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ghts mediators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r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400800" y="1600200"/>
            <a:ext cx="2514600" cy="1697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876920" y="3505320"/>
            <a:ext cx="4038480" cy="3124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181480" y="3733920"/>
            <a:ext cx="3428640" cy="2666880"/>
            <a:chOff x="5181480" y="3733920"/>
            <a:chExt cx="3428640" cy="2666880"/>
          </a:xfrm>
        </p:grpSpPr>
        <p:sp>
          <p:nvSpPr>
            <p:cNvPr id="203" name=""/>
            <p:cNvSpPr/>
            <p:nvPr/>
          </p:nvSpPr>
          <p:spPr>
            <a:xfrm>
              <a:off x="6569280" y="3733920"/>
              <a:ext cx="2040840" cy="209556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70160" y="3973680"/>
              <a:ext cx="1621080" cy="1653480"/>
            </a:xfrm>
            <a:prstGeom prst="ellipse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984000" y="4248360"/>
              <a:ext cx="1229400" cy="12769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40240" y="4552920"/>
              <a:ext cx="916920" cy="83808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10600" y="4857840"/>
              <a:ext cx="376920" cy="383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5181480" y="3733920"/>
              <a:ext cx="1452600" cy="2666880"/>
              <a:chOff x="5181480" y="3733920"/>
              <a:chExt cx="1452600" cy="266688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81480" y="3733920"/>
                <a:ext cx="772200" cy="819000"/>
                <a:chOff x="5181480" y="3733920"/>
                <a:chExt cx="772200" cy="81900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5181480" y="3911040"/>
                  <a:ext cx="447120" cy="486720"/>
                </a:xfrm>
                <a:prstGeom prst="ellipse">
                  <a:avLst/>
                </a:prstGeom>
                <a:solidFill>
                  <a:srgbClr val="66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      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343840" y="3733920"/>
                  <a:ext cx="447120" cy="487080"/>
                </a:xfrm>
                <a:prstGeom prst="ellipse">
                  <a:avLst/>
                </a:prstGeom>
                <a:solidFill>
                  <a:srgbClr val="ffff00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506560" y="3911040"/>
                  <a:ext cx="447120" cy="486720"/>
                </a:xfrm>
                <a:prstGeom prst="ellipse">
                  <a:avLst/>
                </a:prstGeom>
                <a:solidFill>
                  <a:srgbClr val="99ff33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     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343840" y="4065840"/>
                  <a:ext cx="447120" cy="487080"/>
                </a:xfrm>
                <a:prstGeom prst="ellipse">
                  <a:avLst/>
                </a:prstGeom>
                <a:solidFill>
                  <a:srgbClr val="ff9999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5199840" y="5143680"/>
                <a:ext cx="735480" cy="1257120"/>
                <a:chOff x="5199840" y="5143680"/>
                <a:chExt cx="735480" cy="12571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5199840" y="5143680"/>
                  <a:ext cx="735480" cy="761760"/>
                </a:xfrm>
                <a:prstGeom prst="ellipse">
                  <a:avLst/>
                </a:prstGeom>
                <a:solidFill>
                  <a:srgbClr val="66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ibrary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199840" y="5639040"/>
                  <a:ext cx="735480" cy="761760"/>
                </a:xfrm>
                <a:prstGeom prst="ellipse">
                  <a:avLst/>
                </a:prstGeom>
                <a:solidFill>
                  <a:srgbClr val="99ff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"/>
              <p:cNvSpPr/>
              <p:nvPr/>
            </p:nvSpPr>
            <p:spPr>
              <a:xfrm flipV="1">
                <a:off x="5935320" y="5334120"/>
                <a:ext cx="698760" cy="4190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935320" y="4305240"/>
                <a:ext cx="588240" cy="3427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5604120" y="4648320"/>
                <a:ext cx="0" cy="4572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6118920" y="5448240"/>
              <a:ext cx="514800" cy="495360"/>
            </a:xfrm>
            <a:prstGeom prst="ellipse">
              <a:avLst/>
            </a:prstGeom>
            <a:solidFill>
              <a:srgbClr val="ffff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884000" y="4838760"/>
              <a:ext cx="588240" cy="5713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228600" y="1295280"/>
          <a:ext cx="8864640" cy="549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95280"/>
                    <a:ext cx="8864640" cy="549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to teaching materia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3040" y="0"/>
            <a:ext cx="2416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ights &amp; Rewa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match with faculty preferenc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repositories are open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y 27% would allow open access                        to their teaching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repositories                                                                have access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pped to grou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% want different                                                                access for different                                   teaching material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899480" y="1676520"/>
            <a:ext cx="1015920" cy="2286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686480" y="2590920"/>
            <a:ext cx="4228920" cy="4190760"/>
          </a:xfrm>
          <a:prstGeom prst="ellipse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102280" y="3070080"/>
            <a:ext cx="3359160" cy="330696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545080" y="3619440"/>
            <a:ext cx="2548080" cy="2554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869080" y="4229280"/>
            <a:ext cx="1900080" cy="16761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429240" y="4838760"/>
            <a:ext cx="781200" cy="766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10600" y="4800600"/>
            <a:ext cx="1218960" cy="11430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ulty restrictions on u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361040" y="1568520"/>
          <a:ext cx="4770360" cy="528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1040" y="1568520"/>
                    <a:ext cx="4770360" cy="52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2442600" y="1219320"/>
            <a:ext cx="27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47560" y="121932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pa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5840" y="1566720"/>
          <a:ext cx="5813640" cy="522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840" y="1566720"/>
                    <a:ext cx="5813640" cy="52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ulty restrictions on u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357800" y="1565280"/>
          <a:ext cx="4778280" cy="52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7800" y="1565280"/>
                    <a:ext cx="4778280" cy="52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2899800" y="1219320"/>
            <a:ext cx="27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95880" y="121932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pa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228600" y="1600200"/>
          <a:ext cx="5813280" cy="522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00200"/>
                    <a:ext cx="5813280" cy="52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es in the supply ch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s hol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s mediat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s creators &amp; enforc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s definers &amp; interpre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16240" y="5807160"/>
            <a:ext cx="292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SO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2005 – Denver, 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9760" y="5557680"/>
            <a:ext cx="5055840" cy="11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keholders can play multiple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s are cha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1143000" cy="441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066080" y="1295280"/>
            <a:ext cx="18493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85680" y="1135080"/>
          <a:ext cx="9004320" cy="56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680" y="1135080"/>
                    <a:ext cx="900432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restri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-76320" y="1230480"/>
          <a:ext cx="8709120" cy="56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1230480"/>
                    <a:ext cx="870912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condi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ghts holders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t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bility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Assign different rights to different us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Manage rights inherited from multiple sources                   as content is aggregated, repurposed, redistribu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identifiers for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ge tracking &amp;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&amp; interop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Compensatio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916240" y="5807160"/>
            <a:ext cx="292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SO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2005 – Denver, 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114300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ghts mediators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as rights holders 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egally defensible, [machine actionable], persistent,                    standardized rights expre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bility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onvey rights to us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[Control] who can do what, how, when, &amp; w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iguity to enable negoti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916240" y="5807160"/>
            <a:ext cx="292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SO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2005 – Denver, 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114300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r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5638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amless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play of rights gran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ight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opy for personal 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xcerp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Annotate for personal 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Aggregate &amp; disaggreg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hare with colleagu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Apply accessibility techn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916240" y="5807160"/>
            <a:ext cx="292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SO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2005 – Denver, 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6477120" y="5791320"/>
            <a:ext cx="1143000" cy="4413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5022720" y="1219320"/>
            <a:ext cx="4008960" cy="329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ith the excep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f sharing &amp; excerpting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search material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 50% of faculty woul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low unrestricted copying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cerpting, annotating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ggregating or shar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ghts requirements for resear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228600" y="1339920"/>
          <a:ext cx="6248520" cy="5289480"/>
        </p:xfrm>
        <a:graphic>
          <a:graphicData uri="http://schemas.openxmlformats.org/drawingml/2006/table">
            <a:tbl>
              <a:tblPr/>
              <a:tblGrid>
                <a:gridCol w="3124080"/>
                <a:gridCol w="3124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UTHORS requi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SERS requi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ISS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ve (option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rp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rp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gregate (op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gregate (op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RIC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ct repl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ct repl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certain purposes (op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certain purposes (op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I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ib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ib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"/>
          <p:cNvSpPr/>
          <p:nvPr/>
        </p:nvSpPr>
        <p:spPr>
          <a:xfrm>
            <a:off x="6708600" y="6202440"/>
            <a:ext cx="2181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MEO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59240" y="1523880"/>
            <a:ext cx="2757960" cy="3697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unds lik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iv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ribu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–commerci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Derivativ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issues &amp; requireme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47400" indent="-34740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96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Capture human– &amp; machine–readable righ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2782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496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play rights to us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0">
              <a:spcBef>
                <a:spcPts val="249"/>
              </a:spcBef>
              <a:buNone/>
              <a:tabLst>
                <a:tab algn="l" pos="0"/>
                <a:tab algn="l" pos="496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96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pply appropriate permissions, not LCD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2782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496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end or inherit rights as content                                                     moves through the supply ch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496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96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Combine licenses &amp; techn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278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496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itor &amp; track u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278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496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n’t invade privac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96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96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Interoperate with other syst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7238880" y="4573440"/>
            <a:ext cx="1676520" cy="11322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5916240" y="5807160"/>
            <a:ext cx="292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SO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2005 – Denver, 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6477120" y="5791320"/>
            <a:ext cx="114300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ture &amp; complian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pyright metad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Karen Coyle, Sharon Fa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ghts holders, dates, contact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s gran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trictions &amp; conditions, e.g.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s compli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–through licenses for users &amp; contributor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ification of rights holder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ulty can self–archive without having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don’t keep or can’t find transfer agree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5638680" y="2819520"/>
            <a:ext cx="22482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ing for rights compli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3080" y="1355760"/>
          <a:ext cx="9029520" cy="546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355760"/>
                    <a:ext cx="9029520" cy="54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6510600" y="6202440"/>
            <a:ext cx="240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L survey 2006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gotiating with publis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73080" y="1355760"/>
          <a:ext cx="9029520" cy="546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355760"/>
                    <a:ext cx="9029520" cy="54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"/>
          <p:cNvSpPr/>
          <p:nvPr/>
        </p:nvSpPr>
        <p:spPr>
          <a:xfrm>
            <a:off x="382680" y="6202440"/>
            <a:ext cx="240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L survey 2006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ghts hol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3962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wn the rights             or are empowered              to grant rights                  to oth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different philosophies, motivations, concerns,                      &amp; prioriti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2438280"/>
            <a:ext cx="2895840" cy="2819520"/>
          </a:xfrm>
          <a:prstGeom prst="ellipse">
            <a:avLst/>
          </a:prstGeom>
          <a:solidFill>
            <a:srgbClr val="66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00600" y="1371600"/>
            <a:ext cx="2895480" cy="281952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ul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9920" y="2438280"/>
            <a:ext cx="2895480" cy="2819520"/>
          </a:xfrm>
          <a:prstGeom prst="ellipse">
            <a:avLst/>
          </a:prstGeom>
          <a:solidFill>
            <a:srgbClr val="99ff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tit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00600" y="3809880"/>
            <a:ext cx="2895480" cy="2819520"/>
          </a:xfrm>
          <a:prstGeom prst="ellipse">
            <a:avLst/>
          </a:prstGeom>
          <a:solidFill>
            <a:srgbClr val="ff99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ar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grate rights with DL work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giti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dentify right to make a c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ck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apture metadata &amp; bundle with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ontent &amp; metadata bund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 ac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ompliant with copyright &amp; lice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chive &amp; rest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ontent &amp; metadata bun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050640" y="6095880"/>
            <a:ext cx="58348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DL Rights &amp; Digital Library Work Flow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7010280" y="4981680"/>
            <a:ext cx="190512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ridge implementation strate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rights to user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h rights to digital objects / pac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d if content leaves controlled local net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ghts expression languages                                             &amp; enforcement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siness ru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cens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172200" y="5516640"/>
            <a:ext cx="274320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succe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must move through the supply chain                with the efficiency required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pulate &amp; sustain the reposi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ract &amp; retain us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s must be expressed &amp; managed                             at an unprecedented level of granularity &amp; 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users who have access to a resource                         need not have the same rights                                               to use the resour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6324480" y="5519880"/>
            <a:ext cx="259092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gital Rights Management” (DRM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5257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Does </a:t>
            </a: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manage righ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Technologically enforces  or tries to enforce restrictions on use throughout                                    the supply chai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4143240" y="3143160"/>
            <a:ext cx="47721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M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chnology gives rights holders complete contr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ghts are denied unless explicitly grant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feres with discoverability of copyrighted wor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es inappropriate permissions (LC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invade privacy &amp; prohibit or deter preservation, fair or innovative use, &amp; access to the public dom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esn’t work very we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umers don’t like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ckers defeat i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019920" y="4871880"/>
            <a:ext cx="2895480" cy="17575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758480" y="4800600"/>
            <a:ext cx="414936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DMCA gives DRM force of la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uine Rights Manage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Devise way to accomplish constitutional righ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s docum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’t solve the retrospective lack of documentation,   but “badly needed going forward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&amp; identity management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Manage rights with copyright law &amp; licens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raries record &amp; display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58120" y="4114800"/>
            <a:ext cx="595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view with Cliff Lynch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DUCAUSE Re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864800" y="6095880"/>
            <a:ext cx="704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ren Coyle, Symposium on Copyright at a Crossr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4876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etoric of rights manage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term “digital rights management” is tain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a new vocabulary to talk                               about managing rights in higher edu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DRM arguments are based on an assumed            structure of reality: commercialization &amp; pir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599360" y="3200400"/>
            <a:ext cx="4312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ff Lynch comments at meet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 mass digitization project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ril 2006, Chicago, 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blish a new structure of rea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wareness of rights &amp; their significance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(S. Res. 438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wareness of non–commercial content &amp; use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(§ 108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ights holders, mediators &amp; users                                 can assert their righ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nable use, including © exceptions &amp; limitations,  while respecting rights holders’ rights </a:t>
            </a:r>
            <a:r>
              <a:rPr b="0" i="1" lang="en-US" sz="2600" spc="-1" strike="noStrike">
                <a:solidFill>
                  <a:srgbClr val="ff0000"/>
                </a:solidFill>
                <a:latin typeface="Arial"/>
              </a:rPr>
              <a:t>(§ 108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Rights are granted unless explicitly deni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Value added based on rights, e.g., CC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673360" y="6202440"/>
            <a:ext cx="6237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elman &amp; Olbrechts-Tyteca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he New Rhetor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6858000" y="5622840"/>
            <a:ext cx="2057400" cy="100656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23619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nise Troll Cov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oll@andrew.cmu.ed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lides &amp; bibliography availab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cc"/>
                </a:solidFill>
                <a:uFillTx/>
                <a:latin typeface="Arial"/>
              </a:rPr>
              <a:t>http://www.library.cmu.edu/People/troll/TrollWebSite.htm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ghts medi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vey rights                   in compliance                    with the law                        &amp; license terms set  by rights hold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14800" y="1143000"/>
            <a:ext cx="2895480" cy="2819520"/>
          </a:xfrm>
          <a:prstGeom prst="ellipse">
            <a:avLst/>
          </a:prstGeom>
          <a:solidFill>
            <a:srgbClr val="66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brar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2895480"/>
            <a:ext cx="2895480" cy="2819520"/>
          </a:xfrm>
          <a:prstGeom prst="ellipse">
            <a:avLst/>
          </a:prstGeom>
          <a:solidFill>
            <a:srgbClr val="99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4360" y="4797360"/>
            <a:ext cx="3276000" cy="183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e United States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ibrary is responsib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80% of IR opera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2005 CNI surve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62920" y="533520"/>
            <a:ext cx="1676160" cy="1676160"/>
          </a:xfrm>
          <a:prstGeom prst="ellipse">
            <a:avLst/>
          </a:pr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r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162920" y="2286000"/>
            <a:ext cx="1676160" cy="1676520"/>
          </a:xfrm>
          <a:prstGeom prst="ellipse">
            <a:avLst/>
          </a:pr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162920" y="4038480"/>
            <a:ext cx="1676160" cy="1676520"/>
          </a:xfrm>
          <a:prstGeom prst="ellipse">
            <a:avLst/>
          </a:pr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50480" y="5807160"/>
            <a:ext cx="17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182000" y="5807160"/>
            <a:ext cx="163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572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ercise rights granted (or not) to th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tempt (or not)                 to interpret righ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6480" y="2438280"/>
            <a:ext cx="4228920" cy="4191120"/>
          </a:xfrm>
          <a:prstGeom prst="ellipse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2280" y="2917800"/>
            <a:ext cx="3359160" cy="330696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45080" y="3467160"/>
            <a:ext cx="2548080" cy="2554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69080" y="4076640"/>
            <a:ext cx="1900080" cy="16765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29240" y="4686480"/>
            <a:ext cx="781200" cy="766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10600" y="4648320"/>
            <a:ext cx="1218960" cy="11430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pository supply ch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6480" y="1295280"/>
            <a:ext cx="4228920" cy="4191120"/>
          </a:xfrm>
          <a:prstGeom prst="ellipse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02280" y="1774800"/>
            <a:ext cx="3359160" cy="330696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45080" y="2324160"/>
            <a:ext cx="2548080" cy="2554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9080" y="2933640"/>
            <a:ext cx="1900080" cy="16765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29240" y="3543480"/>
            <a:ext cx="781200" cy="766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809720" y="1295280"/>
            <a:ext cx="3009960" cy="5334120"/>
            <a:chOff x="1809720" y="1295280"/>
            <a:chExt cx="3009960" cy="5334120"/>
          </a:xfrm>
        </p:grpSpPr>
        <p:grpSp>
          <p:nvGrpSpPr>
            <p:cNvPr id="87" name=""/>
            <p:cNvGrpSpPr/>
            <p:nvPr/>
          </p:nvGrpSpPr>
          <p:grpSpPr>
            <a:xfrm>
              <a:off x="1809720" y="1295280"/>
              <a:ext cx="1599840" cy="1638360"/>
              <a:chOff x="1809720" y="1295280"/>
              <a:chExt cx="1599840" cy="1638360"/>
            </a:xfrm>
          </p:grpSpPr>
          <p:sp>
            <p:nvSpPr>
              <p:cNvPr id="88" name=""/>
              <p:cNvSpPr/>
              <p:nvPr/>
            </p:nvSpPr>
            <p:spPr>
              <a:xfrm>
                <a:off x="1809720" y="1649520"/>
                <a:ext cx="926280" cy="973800"/>
              </a:xfrm>
              <a:prstGeom prst="ellipse">
                <a:avLst/>
              </a:prstGeom>
              <a:solidFill>
                <a:srgbClr val="66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udent                    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146320" y="1295280"/>
                <a:ext cx="926280" cy="974160"/>
              </a:xfrm>
              <a:prstGeom prst="ellipse">
                <a:avLst/>
              </a:prstGeom>
              <a:solidFill>
                <a:srgbClr val="ffff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Facult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483280" y="1649520"/>
                <a:ext cx="926280" cy="973800"/>
              </a:xfrm>
              <a:prstGeom prst="ellipse">
                <a:avLst/>
              </a:prstGeom>
              <a:solidFill>
                <a:srgbClr val="99ff33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Institu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146320" y="1959480"/>
                <a:ext cx="926280" cy="974160"/>
              </a:xfrm>
              <a:prstGeom prst="ellipse">
                <a:avLst/>
              </a:prstGeom>
              <a:solidFill>
                <a:srgbClr val="ff99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n-US" sz="1600" spc="-1" strike="noStrike" baseline="30000">
                    <a:solidFill>
                      <a:srgbClr val="000000"/>
                    </a:solidFill>
                    <a:latin typeface="Arial"/>
                  </a:rPr>
                  <a:t>rd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Part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1847880" y="4114800"/>
              <a:ext cx="1523880" cy="2514600"/>
              <a:chOff x="1847880" y="4114800"/>
              <a:chExt cx="1523880" cy="2514600"/>
            </a:xfrm>
          </p:grpSpPr>
          <p:sp>
            <p:nvSpPr>
              <p:cNvPr id="93" name=""/>
              <p:cNvSpPr/>
              <p:nvPr/>
            </p:nvSpPr>
            <p:spPr>
              <a:xfrm>
                <a:off x="1847880" y="4114800"/>
                <a:ext cx="1523880" cy="1523880"/>
              </a:xfrm>
              <a:prstGeom prst="ellipse">
                <a:avLst/>
              </a:prstGeom>
              <a:solidFill>
                <a:srgbClr val="66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ibrar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47880" y="5105520"/>
                <a:ext cx="1523880" cy="1523880"/>
              </a:xfrm>
              <a:prstGeom prst="ellipse">
                <a:avLst/>
              </a:prstGeom>
              <a:solidFill>
                <a:srgbClr val="99ff6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th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 flipV="1">
              <a:off x="3371760" y="4495320"/>
              <a:ext cx="1447920" cy="838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71760" y="2438280"/>
              <a:ext cx="1219320" cy="68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2685960" y="3124080"/>
              <a:ext cx="0" cy="914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3753000" y="4648320"/>
            <a:ext cx="1066680" cy="990360"/>
          </a:xfrm>
          <a:prstGeom prst="ellipse">
            <a:avLst/>
          </a:pr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ato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410600" y="3505320"/>
            <a:ext cx="1218960" cy="11430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gulatory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s creators                   &amp; enforc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 rights                  &amp; compel obedi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s definers                    &amp; interpre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ain the meaning      &amp; significance of righ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1371600"/>
            <a:ext cx="4495680" cy="5181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w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pyr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cen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ic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llectual proper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hentic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vacy &amp; confidentia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f–archi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braries must uphold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a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ure right to copy, distribute &amp; preserve cont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posit license between © holder &amp; institu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ct distribution &amp; use of cont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stribution license between © holder &amp; us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stitutional polic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fessional eth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4267080"/>
            <a:ext cx="3200400" cy="23623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019920" y="4419720"/>
            <a:ext cx="2590560" cy="1981080"/>
            <a:chOff x="6019920" y="4419720"/>
            <a:chExt cx="2590560" cy="1981080"/>
          </a:xfrm>
        </p:grpSpPr>
        <p:sp>
          <p:nvSpPr>
            <p:cNvPr id="107" name=""/>
            <p:cNvSpPr/>
            <p:nvPr/>
          </p:nvSpPr>
          <p:spPr>
            <a:xfrm>
              <a:off x="7068600" y="4419720"/>
              <a:ext cx="1541880" cy="155664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20160" y="4597560"/>
              <a:ext cx="1224720" cy="1228320"/>
            </a:xfrm>
            <a:prstGeom prst="ellipse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81800" y="4801680"/>
              <a:ext cx="928800" cy="94860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99520" y="5028120"/>
              <a:ext cx="692640" cy="62244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04000" y="5254560"/>
              <a:ext cx="284760" cy="284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6019920" y="4419720"/>
              <a:ext cx="1097280" cy="1981080"/>
              <a:chOff x="6019920" y="4419720"/>
              <a:chExt cx="1097280" cy="198108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019920" y="4419720"/>
                <a:ext cx="583200" cy="608400"/>
                <a:chOff x="6019920" y="4419720"/>
                <a:chExt cx="583200" cy="60840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019920" y="4551120"/>
                  <a:ext cx="337680" cy="361800"/>
                </a:xfrm>
                <a:prstGeom prst="ellipse">
                  <a:avLst/>
                </a:prstGeom>
                <a:solidFill>
                  <a:srgbClr val="66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      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6142680" y="4419720"/>
                  <a:ext cx="337680" cy="361800"/>
                </a:xfrm>
                <a:prstGeom prst="ellipse">
                  <a:avLst/>
                </a:prstGeom>
                <a:solidFill>
                  <a:srgbClr val="ffff00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265440" y="4551120"/>
                  <a:ext cx="337680" cy="361800"/>
                </a:xfrm>
                <a:prstGeom prst="ellipse">
                  <a:avLst/>
                </a:prstGeom>
                <a:solidFill>
                  <a:srgbClr val="99ff33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     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142680" y="4666320"/>
                  <a:ext cx="337680" cy="361800"/>
                </a:xfrm>
                <a:prstGeom prst="ellipse">
                  <a:avLst/>
                </a:prstGeom>
                <a:solidFill>
                  <a:srgbClr val="ff9999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6033600" y="5466960"/>
                <a:ext cx="555480" cy="933840"/>
                <a:chOff x="6033600" y="5466960"/>
                <a:chExt cx="555480" cy="93384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6033600" y="5466960"/>
                  <a:ext cx="555480" cy="565920"/>
                </a:xfrm>
                <a:prstGeom prst="ellipse">
                  <a:avLst/>
                </a:prstGeom>
                <a:solidFill>
                  <a:srgbClr val="66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ibrary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033600" y="5834880"/>
                  <a:ext cx="555480" cy="565920"/>
                </a:xfrm>
                <a:prstGeom prst="ellipse">
                  <a:avLst/>
                </a:prstGeom>
                <a:solidFill>
                  <a:srgbClr val="99ff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"/>
              <p:cNvSpPr/>
              <p:nvPr/>
            </p:nvSpPr>
            <p:spPr>
              <a:xfrm flipV="1">
                <a:off x="6589440" y="5608080"/>
                <a:ext cx="527760" cy="3114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589440" y="4844160"/>
                <a:ext cx="444240" cy="2545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6339240" y="5098320"/>
                <a:ext cx="0" cy="339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6728040" y="5693040"/>
              <a:ext cx="388800" cy="367920"/>
            </a:xfrm>
            <a:prstGeom prst="ellipse">
              <a:avLst/>
            </a:prstGeom>
            <a:solidFill>
              <a:srgbClr val="ffff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061840" y="5240520"/>
              <a:ext cx="444240" cy="4244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4:24:12Z</dcterms:created>
  <dc:creator>Denise Troll Covey</dc:creator>
  <dc:description/>
  <dc:language>en-US</dc:language>
  <cp:lastModifiedBy>Denise Troll Covey</cp:lastModifiedBy>
  <dcterms:modified xsi:type="dcterms:W3CDTF">2006-06-19T12:10:31Z</dcterms:modified>
  <cp:revision>394</cp:revision>
  <dc:subject/>
  <dc:title>Slide 1</dc:title>
</cp:coreProperties>
</file>