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8ECF-2EEA-401D-8722-F234ECE2E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% find out within hours of problem occur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% indicate time to problem report 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ximately 75% find out via email from users  or phone calls from users or librar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10% find out via an automatic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ind out via Help Desk calls from central IT or colle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60% said spend &lt; 1 day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% - 19% spend 1 to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% - 5% said more than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% - 47% said spent &lt; 1 day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3% said 1 to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60% said spend &lt; 1 day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% - 19% spend 1 to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% - 5% said more than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% - 47% said spent &lt; 1 day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3% said 1 to 3 days per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= problems are minor and tempo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proxy – 46% daily or weekly problems, but 88% always or usually satis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mote, convenient, easy acc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LC white paper on the information habits of college students -- (21% ask librarians, but no more satisfied with librarian assistance than with help from friends or classma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 completed surv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9C1-0B3B-4685-A328-DA4AA5ED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06C-1D99-4023-8026-7FB0F70B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C77-8132-4ED9-B8CB-D884D721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D2D-B27E-4007-A7CE-0B174BC8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A98-F027-41F4-AC2E-7EBC0386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495-28A3-4421-AAE4-3C3E02ED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A0A-D4D1-46FD-9991-A3600B6A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A67-26D3-44C4-90BD-82EB87F9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C60-1752-4B17-B2FB-02C59D5D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1D3-E33D-4770-B06D-83D74D6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D35-ED8A-41C6-991A-23EB99A7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0E7-38BF-479A-9240-17AF2767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1117440" y="287280"/>
            <a:ext cx="802656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5840" y="355680"/>
            <a:ext cx="7958160" cy="6495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295200"/>
            <a:ext cx="73080" cy="656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8800"/>
            <a:ext cx="407880" cy="0"/>
          </a:xfrm>
          <a:prstGeom prst="line">
            <a:avLst/>
          </a:prstGeom>
          <a:ln w="28440">
            <a:solidFill>
              <a:srgbClr val="333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654120"/>
            <a:ext cx="447840" cy="0"/>
          </a:xfrm>
          <a:prstGeom prst="line">
            <a:avLst/>
          </a:prstGeom>
          <a:ln w="28440">
            <a:solidFill>
              <a:srgbClr val="333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428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46FA-0C4D-4E56-84B5-7C6715F72919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7000" y="7920"/>
            <a:ext cx="9167760" cy="6843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3240" y="0"/>
            <a:ext cx="1179720" cy="6880320"/>
          </a:xfrm>
          <a:prstGeom prst="rect">
            <a:avLst/>
          </a:prstGeom>
          <a:gradFill rotWithShape="0">
            <a:gsLst>
              <a:gs pos="0">
                <a:srgbClr val="6a6954"/>
              </a:gs>
              <a:gs pos="50000">
                <a:srgbClr val="303026"/>
              </a:gs>
              <a:gs pos="100000">
                <a:srgbClr val="6a69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00160" y="0"/>
            <a:ext cx="79200" cy="692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4920" y="0"/>
            <a:ext cx="74520" cy="689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3429000"/>
            <a:ext cx="9147240" cy="864720"/>
            <a:chOff x="0" y="3429000"/>
            <a:chExt cx="9147240" cy="864720"/>
          </a:xfrm>
        </p:grpSpPr>
        <p:pic>
          <p:nvPicPr>
            <p:cNvPr id="56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3503520"/>
              <a:ext cx="9144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5400000">
              <a:off x="5086080" y="167760"/>
              <a:ext cx="7416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400000">
              <a:off x="5087160" y="-556200"/>
              <a:ext cx="74520" cy="804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415908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4155480"/>
              <a:ext cx="365040" cy="108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5000" y="4154400"/>
              <a:ext cx="102960" cy="13608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4159080"/>
              <a:ext cx="112680" cy="13284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illing the Gap</a:t>
            </a:r>
            <a:br>
              <a:rPr sz="6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tween Vendor &amp; User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3880" y="472428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Denise Troll Cove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ssociate University Librarian, Carnegie Mell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LF Forum, November 200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dor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st frequent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I Web of Scienc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sevier Science Dir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Que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st difficult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exis Nex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tLibrary                            &amp; Proque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Reporting &amp;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ver 50% is not very well organiz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7% said downright haphazar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41480" y="2819520"/>
          <a:ext cx="8102520" cy="38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819520"/>
                    <a:ext cx="810252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 Des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886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ime to problem discovery var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nly 13% said find out within hou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mail or phone calls from users or libraria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nly 10% said find out via automatic messag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5257800"/>
            <a:ext cx="7886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5% said spend 20% - 40% of help desk ti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4% proxy sites spend 70% - 90% of ti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Reporting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Explaining to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73% said spend &lt; 5 hour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4% spend 1 to 3 day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spend &gt; 3 day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95280" y="3352680"/>
          <a:ext cx="8021880" cy="33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802188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y Server Staff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60% said spend  &lt; 1 day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5% T - 19% NT spend 1 to 3 day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% T - 5% NT spend &gt; 3 day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14400" y="3581280"/>
          <a:ext cx="8499600" cy="37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581280"/>
                    <a:ext cx="849960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N Staff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60% T - 47% NT said spend  &lt; 1 day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3% spend 1 to 3 days per mon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bstantial library time for IT implement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19320" y="3581280"/>
          <a:ext cx="76946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81280"/>
                    <a:ext cx="76946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ual Staff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5% said spend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&lt;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$5000 per yea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% said spend &gt; $5000 per yea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7% said spend &gt; $10,000 per yea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6% said spend &gt; $15,000 per yea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36760" y="3914640"/>
          <a:ext cx="590724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6760" y="3914640"/>
                    <a:ext cx="590724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371600" y="4419720"/>
            <a:ext cx="2062080" cy="97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13% said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staff cost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1440" y="3040200"/>
            <a:ext cx="44197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1440" y="3573360"/>
            <a:ext cx="441972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Imp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1440" y="4564080"/>
            <a:ext cx="4419720" cy="91440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79360" y="1905120"/>
          <a:ext cx="796464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905120"/>
                    <a:ext cx="796464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211840" y="5943600"/>
            <a:ext cx="16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centage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Imp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79360" y="1905120"/>
          <a:ext cx="796464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905120"/>
                    <a:ext cx="796464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549880" y="5935680"/>
            <a:ext cx="16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centage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64% proxy always or usually satisfi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7% proxy dissatisfied or seldom satisfi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4% VPN always or usually satisfi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45% VPN dissatisfied or seldom satisfi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828800" y="3894120"/>
          <a:ext cx="685332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94120"/>
                    <a:ext cx="685332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32400" y="5486400"/>
            <a:ext cx="66852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re satisfied with proxy serv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ssatisfaction is more intense with proxy serv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endors restrict access to licensed resources by institutional IP addres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any institutional affiliated users use computers without an institutional IP addres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971800"/>
            <a:ext cx="91440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Libraries are providing proxy servers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or virtual private networks to fill the gap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952880" y="3733920"/>
            <a:ext cx="3886200" cy="243828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 to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19320" y="1752480"/>
          <a:ext cx="786420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786420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135520" y="6248520"/>
            <a:ext cx="16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centage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724280" y="4419720"/>
            <a:ext cx="4496040" cy="175248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 to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724280" y="3505320"/>
            <a:ext cx="4495680" cy="2666880"/>
            <a:chOff x="4724280" y="3505320"/>
            <a:chExt cx="4495680" cy="2666880"/>
          </a:xfrm>
        </p:grpSpPr>
        <p:sp>
          <p:nvSpPr>
            <p:cNvPr id="194" name=""/>
            <p:cNvSpPr/>
            <p:nvPr/>
          </p:nvSpPr>
          <p:spPr>
            <a:xfrm>
              <a:off x="4724280" y="5715000"/>
              <a:ext cx="4495680" cy="457200"/>
            </a:xfrm>
            <a:prstGeom prst="rect">
              <a:avLst/>
            </a:prstGeom>
            <a:solidFill>
              <a:srgbClr val="f4f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24280" y="4419720"/>
              <a:ext cx="4495680" cy="457200"/>
            </a:xfrm>
            <a:prstGeom prst="rect">
              <a:avLst/>
            </a:prstGeom>
            <a:solidFill>
              <a:srgbClr val="f4f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280" y="3505320"/>
              <a:ext cx="4495680" cy="457200"/>
            </a:xfrm>
            <a:prstGeom prst="rect">
              <a:avLst/>
            </a:prstGeom>
            <a:solidFill>
              <a:srgbClr val="f4f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1300320" y="2133720"/>
          <a:ext cx="746280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0320" y="2133720"/>
                    <a:ext cx="746280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592720" y="6095880"/>
            <a:ext cx="16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centage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 user training, client installation,                       or browser or machine configur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asy set-up &amp; mainten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egration with campus authentication         &amp; authorization servi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liable online support or support by central I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upport by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vend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sensus from us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2362320"/>
          <a:ext cx="866772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866772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29528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80% have or are working on LDAP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38080" y="2513160"/>
          <a:ext cx="8380440" cy="43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3160"/>
                    <a:ext cx="838044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295280" y="16002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72% have or are working on S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xy server &amp; VPN support                             are problematic &amp; expens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vertheless, many libraries are satisfi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ange will require a robust, widely adopted technology that takes little effort to implement, maintain, &amp; u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y are libraries satisfied with investing  in remote access services that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er user satisfa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er service qual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ause delays in other projec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ead to less effective                                      allocation of resource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y are libraries satisfied                                                when users are not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781680" y="3505320"/>
            <a:ext cx="22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5257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LF Forum audi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anna Marcum &amp; CL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ter Brantle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le Fleck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gap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rs want personal control, self-sufficiency,     &amp; remote, easy, convenient acces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 least half of academic work is remote u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 service adequacy gap (perceived – minimum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service superiority gap (desired – perceiv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rs perceive licensing restrictions as barrier                            to successful use of library resour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6369120"/>
            <a:ext cx="3276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Outsell, OCLC. LibQual+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ly 2002 CLIR Surve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of Proxy Server &amp; VPN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LF, ULG, &amp; Oberlin librar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5% response rat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92% run a proxy serv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0% run or are testing VP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743200" y="4019400"/>
          <a:ext cx="6324480" cy="2762280"/>
        </p:xfrm>
        <a:graphic>
          <a:graphicData uri="http://schemas.openxmlformats.org/drawingml/2006/table">
            <a:tbl>
              <a:tblPr/>
              <a:tblGrid>
                <a:gridCol w="3846600"/>
                <a:gridCol w="1195200"/>
                <a:gridCol w="1282680"/>
              </a:tblGrid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33"/>
                      </a:solidFill>
                    </a:lnR>
                    <a:lnT>
                      <a:noFill/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oxy Server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46%  Liberal arts colleges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85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0%  Private universities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8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3%  Public universities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31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6%  Other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5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5%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y Server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5562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65 implementations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62% implemented by librarie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54% implemented by central I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2% outsourc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1 different produc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37% run Ezprox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11% run Squid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9% run Innovativ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8 others named, each               with 1-5 implement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3429000"/>
          <a:ext cx="449568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429000"/>
                    <a:ext cx="449568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N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6 implementations + 5 implementing or test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14% implemented by librar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95% implemented by central IT organiz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 different produc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43% Cisc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4 others named, each                                                   with 1 imple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343400" y="3379680"/>
          <a:ext cx="480060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379680"/>
                    <a:ext cx="480060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47% weekly or daily proxy server problem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7% weekly or daily VPN problems –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ution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8560" y="2895480"/>
          <a:ext cx="7405920" cy="39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8560" y="2895480"/>
                    <a:ext cx="74059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29200" y="4189320"/>
            <a:ext cx="4114800" cy="1295640"/>
          </a:xfrm>
          <a:prstGeom prst="rect">
            <a:avLst/>
          </a:prstGeom>
          <a:solidFill>
            <a:srgbClr val="f4f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029200" y="2741760"/>
            <a:ext cx="4114800" cy="2743200"/>
            <a:chOff x="5029200" y="2741760"/>
            <a:chExt cx="4114800" cy="2743200"/>
          </a:xfrm>
        </p:grpSpPr>
        <p:sp>
          <p:nvSpPr>
            <p:cNvPr id="134" name=""/>
            <p:cNvSpPr/>
            <p:nvPr/>
          </p:nvSpPr>
          <p:spPr>
            <a:xfrm>
              <a:off x="5029200" y="2741760"/>
              <a:ext cx="4114800" cy="533160"/>
            </a:xfrm>
            <a:prstGeom prst="rect">
              <a:avLst/>
            </a:prstGeom>
            <a:solidFill>
              <a:srgbClr val="f4f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9200" y="4646520"/>
              <a:ext cx="4114800" cy="838440"/>
            </a:xfrm>
            <a:prstGeom prst="rect">
              <a:avLst/>
            </a:prstGeom>
            <a:solidFill>
              <a:srgbClr val="f4f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36" name=""/>
          <p:cNvGraphicFramePr/>
          <p:nvPr/>
        </p:nvGraphicFramePr>
        <p:xfrm>
          <a:off x="1257480" y="1752480"/>
          <a:ext cx="7886520" cy="42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752480"/>
                    <a:ext cx="788652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822760" y="5789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ercent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xy serv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r errors – 15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xy configuration – 11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endor changes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rewalls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Ps – 2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mplexity – 2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P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SPs – 13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dministration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r errors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eting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st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intosh – 6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8:05:09Z</dcterms:created>
  <dc:creator>Denise Troll</dc:creator>
  <dc:description/>
  <dc:language>en-US</dc:language>
  <cp:lastModifiedBy>Denise Troll</cp:lastModifiedBy>
  <dcterms:modified xsi:type="dcterms:W3CDTF">2003-01-31T15:47:13Z</dcterms:modified>
  <cp:revision>66</cp:revision>
  <dc:subject/>
  <dc:title>Filling the Gap Between  Vendor &amp; User Practice</dc:title>
</cp:coreProperties>
</file>