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3.jpeg" ContentType="image/jpeg"/>
  <Override PartName="/ppt/media/image24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wmf" ContentType="image/x-wmf"/>
  <Override PartName="/ppt/media/image2.jpeg" ContentType="image/jpeg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7400" y="690120"/>
            <a:ext cx="460368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AECB-27A4-455F-B010-16CCB89AC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ages 40-49 most likely to try to negotiat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archive =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 of equal interest with the issue of exclusive transf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least half of the faculty in each college &amp; age range have NOT tried     to negotiate © transfer terms for artic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business school faculty did NOT say copyright transfer terms were not impor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ikeliest to think not importa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ure track, especially associate professors with or without ten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have tr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nure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ulty ages 30-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Men [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[FIX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50+% in each college  &amp; age range have NOT tr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not to have tr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brary track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stant research professors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[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4% would negoti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3% research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% would not negoti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% would change               or avoid the publish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% library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% would ignore                      the agre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% tenure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% research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 = of library track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4% would negotiat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5% would no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 &amp; 60 and ol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% would change or avoid the publishe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tra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 would ignore the agre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ure &amp; 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 few mentioned financi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1% control or flex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gt;35% each colle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% (faculty in all tracks     &amp; colleges) sai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ttle if any valu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 retaining copyrigh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, followed by 50-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me tenure &amp; teaching track faculty didn’t know any benefits to retaining 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S FOR TRANSFER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fine arts &amp; public policy said transfer was benef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all other colleges &amp; on all faculty tracks said transfer was required or 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the libraries had not transferred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 = of library track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exception of library, fewer than half the faculty on each track said they understand the rights in their agre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% do not read their agreements carefully or worry about their righ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ly research                           and tenure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men ages 30-39               and 40-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ver half of the associate professors with tenure said they don’t read their agreements or worry about their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women are more likely to consul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40-49 and 60+ most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gotiate the right to self-archive if publisher forbi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 an article if publisher refused 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ithdraw an article if publisher refuse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r avoid publisher who refused their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already OA [published in OA journal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ince 37% don’t keep copies &amp; 20% keep copies but don’t know wher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on all tracks said they would consult                             their agreements, publishers, colleagues, or legal coun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6% WOULD be influenced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, at least under certain conditions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aching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es 60 &amp; ol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1% would NOT be influenced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uter science, engineering, 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es 30-39 &amp; 50-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3% WOULD be influenced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, at least under certain conditions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track, library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, physical science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the faculty                under age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4% would NOT be influenced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, physical science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30-3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49% WOULD be influenc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&amp; teaching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50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22% would NOT be influenc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25% of tenure                             &amp; research track facul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30-39 and 40-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53% WOULD be influenc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brary &amp; research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ublic policy facul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of the faculty in all colleges except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say yes: ages 30-39 and 50-59;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ould NOT be influenc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[FIX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25% in humanities &amp; social sciences, physical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say n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40-49 and 60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: public policy &amp; computer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P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busines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&amp;T committees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H&amp;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 about OA =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ly public policy &amp; computer science [FIX-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self-archiving or OA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science, public policy, engineering, busine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&amp;T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l tracks 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atest concern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&amp; prestige                             of OA jour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E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al sui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research track, appreciation of web as vehicle of dissemination increases with r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value web as disse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ne age 50+ valued    the web for preservation         or other efficien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0+% all tracks, colleges, ages did not know prior to gue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likely to 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ure track:                     faculty without ten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cks: as get promoted through r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likely to guess w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 50 &amp; 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ulty in all tracks &amp; all  but one college sai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is   not importa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business school faculty did NOT say copyright transfer terms were not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keliest to think not importan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nure track, especially associate professors with or without ten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likely to be influenc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nure track: those without tenu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track: associate                     &amp; full profess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es 30-39 and 60 &amp; 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likely to say © not impor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track, especially assistant profess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es 40-49 and 50-5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likely not to keep copie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ociate &amp; full research prof; Assoc &amp; full prof with ten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, engineering,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likely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 kee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pies      &amp;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t know where they 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&amp; teaching track;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check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istant research profess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ities &amp; social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ulty Righ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Other Scholarly Communication Practic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40384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al Librarian for Special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F Forum – Boston,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10080" y="40006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ed to negotiate ©  transfer term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have tried to negoti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s for an arti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ose who tried to negot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–use of their work was top prior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The right to self–archive w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interest to only 3% of the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interest only to tenure track                                                   assistant &amp; full professors                                                                    in computer science, humanities &amp; soci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f interest to women slightly more than 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of interest to faculty ages 40-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1720" y="1828800"/>
          <a:ext cx="301644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1720" y="1828800"/>
                    <a:ext cx="301644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gotiate if not allowed to self-archiv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240" y="2805120"/>
          <a:ext cx="90532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2805120"/>
                    <a:ext cx="90532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44% wou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, 25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% would NO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16% would change or avoid the publish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8% would ignore the agre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Copyright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57360" y="243828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to retaining copyright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1% said control or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% didn’t know of any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4% said little if any value in retaining copy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0" y="2759040"/>
          <a:ext cx="9088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759040"/>
                    <a:ext cx="9088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rights in agreement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520" y="2362320"/>
          <a:ext cx="905688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2362320"/>
                    <a:ext cx="905688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% understand, 41% do NOT, 15% aren’t 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5% don’t read agreements carefully or worry about righ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umption if rights are unclea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080" y="2751120"/>
          <a:ext cx="90820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751120"/>
                    <a:ext cx="90820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28600" y="121932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said they would consult their agreements,   publishers, colleagues, or legal coun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6% volunteered what they would do without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nure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aculty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enure are more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meaning of ope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ir rights &amp; keep copies of their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ant professors would ignore the agreement                   rather than try to negotiate the right to self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aculty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enure are more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ad their agreements or worry about their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gardless of rank or tenure status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ost likely (47%) to act                        without permission if they don’t understand their r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ing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assistant teaching profess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ried to negot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their agreements or worry about their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n’t sure if they understand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ignore their agreements with publis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financial benefits to retaining thei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full professors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ask permission                                                 if they don’t understand their r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48520" y="462924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ehavior in regard to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©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ransfer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aculty would change publishers because of thei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te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ull professors have tried to negot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ssociate professors would ignore the agreement                   rather than try to negotiate the right to self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ssistant research profess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ink they understand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eep copies of their agreements, but don’t know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he following appear to increase with r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ciation of the web as a vehicle of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transfer terms in choosing a publis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 that there is little if any value in retaining 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g without permission (overall 2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en are more likely than women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the web as a vehicle of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influenced by © 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negotiate © transfer te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ry to negotiate the right to self-archive if publisher forbi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keep copies of their © transfe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the terms of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without per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©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men said th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nderstand their © transfer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their agreements or worry about their righ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tudy: March – June 2006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certain faculty practices &amp; understanding                regarding publishing &amp; disseminating their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dentify triggers likely to change faculty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 the Libraries to target education, tools &amp;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lot for a larger, multi-institution stu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atified random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ted more than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away 23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views averaged 30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445788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ges 30-39 most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negotiate © transfer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ges 40-49 most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influenced by © 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©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keep copies of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en rights are uncl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er faculty are more likely to consult the agreemen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er faculty are more likely to act without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Influence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57360" y="23623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where you choose to pub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2637000"/>
          <a:ext cx="911376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91137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sident &amp; provost encouraged publishing in OA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5238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WOULD be influenc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under certain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% would NOT be influenced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junior faculty / m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where you choose to pub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motion &amp; tenure committees valued OA journals                                                    as highly or more highly than traditional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840" y="2744640"/>
          <a:ext cx="9128160" cy="41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2744640"/>
                    <a:ext cx="912816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28600" y="1523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WOULD be influenced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7% more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% would NOT be influenc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17% less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sident &amp; provost encouraged publishing in OA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negotiate right to self-archiv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2682720"/>
          <a:ext cx="908352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82720"/>
                    <a:ext cx="908352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28600" y="15238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% WOULD be influen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 would NOT be influ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negotiate right to self-archiv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9320" y="2743200"/>
          <a:ext cx="912024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2743200"/>
                    <a:ext cx="91202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2860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motion &amp; tenure committees valued OA journals                                                  as highly or more highly than traditional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523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WOULD be influenc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4% more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 would NOT be influenc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11% less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 influence pedd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235160"/>
          <a:ext cx="48466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48466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% resist president/provo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, engineering,        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7% resist promotion                 &amp; tenure committ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, humanities &amp; social science, computer science, science &amp; math,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6720" y="2971800"/>
            <a:ext cx="1438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facu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en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828800" y="3581280"/>
            <a:ext cx="763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65760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5880" y="4419720"/>
            <a:ext cx="1614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34960" y="3352680"/>
            <a:ext cx="167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28640" y="403848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657600" y="4038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3% are concerned about open acce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240" y="2179800"/>
          <a:ext cx="908208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2179800"/>
                    <a:ext cx="908208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219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genders &amp; all age ranges are concerned about 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 decreases slightly with 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% Self-archive, 15% O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culty tr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ure: all 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: assistant &amp;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: associate &amp;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ciplin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cience,                          public policy, engineering, business, science &amp;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men than wo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187280"/>
          <a:ext cx="44496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187280"/>
                    <a:ext cx="44496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entive to negotiat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ght t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elf-arch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0760" y="4264200"/>
          <a:ext cx="9042480" cy="25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4264200"/>
                    <a:ext cx="9042480" cy="25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2560" y="990720"/>
          <a:ext cx="902304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" y="990720"/>
                    <a:ext cx="90230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2438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22860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43200" y="4876920"/>
            <a:ext cx="4267080" cy="685800"/>
            <a:chOff x="2743200" y="4876920"/>
            <a:chExt cx="4267080" cy="685800"/>
          </a:xfrm>
        </p:grpSpPr>
        <p:sp>
          <p:nvSpPr>
            <p:cNvPr id="161" name=""/>
            <p:cNvSpPr/>
            <p:nvPr/>
          </p:nvSpPr>
          <p:spPr>
            <a:xfrm>
              <a:off x="4800600" y="49528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49528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3200" y="487692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10280" y="49528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819520" y="22096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1905120"/>
            <a:ext cx="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80880" y="403200"/>
          <a:ext cx="8381880" cy="6051600"/>
        </p:xfrm>
        <a:graphic>
          <a:graphicData uri="http://schemas.openxmlformats.org/drawingml/2006/table">
            <a:tbl>
              <a:tblPr/>
              <a:tblGrid>
                <a:gridCol w="2666880"/>
                <a:gridCol w="533520"/>
                <a:gridCol w="533520"/>
                <a:gridCol w="533160"/>
                <a:gridCol w="762120"/>
                <a:gridCol w="609480"/>
                <a:gridCol w="685800"/>
                <a:gridCol w="609840"/>
                <a:gridCol w="533160"/>
                <a:gridCol w="9144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aculty trac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llege / Gend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e ar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ine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 poli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ities                          &amp; social sc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 &amp; m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uter Sc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in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Librar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 interview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arget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048120" y="5410080"/>
            <a:ext cx="53316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ucational Progr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Rights and Open Acc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udience: Carnegie Mellon faculty and graduate stu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Sponsors: University Libraries and legal couns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onent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aker s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Provost Mark Kamlet, Kenny Crews,                open access in science &amp; technology (SPARC),                                   open access in the humanities &amp; social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sen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esident’s Council (deans), Provost’s Council (department heads), Faculty S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pyright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rnegie Mellon authors’ addend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cumentation &amp; publ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324480" y="4727520"/>
            <a:ext cx="2590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view Q&amp;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666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cces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Publis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opy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1219320"/>
            <a:ext cx="2666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Infl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culty sometimes talked around the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previous answers, some questions weren’t as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indicate percentage               of all faculty in 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38720" y="182880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Acces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Publishing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57360" y="25909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lue of web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480" y="2287440"/>
          <a:ext cx="908352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2287440"/>
                    <a:ext cx="908352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y value the web more as a tool for access                       than a vehicle of disse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“open access” mea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320" y="2303640"/>
          <a:ext cx="90216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303640"/>
                    <a:ext cx="90216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guessing, 16% knew the meaning of 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guessing, 52%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© terms affect choice of publishe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8680" y="2316240"/>
          <a:ext cx="9055080" cy="45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2316240"/>
                    <a:ext cx="905508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28600" y="1219320"/>
            <a:ext cx="8534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7% are NOT influenced by © transfer t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% said © terms are not impor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ep copies of signed agreement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301840"/>
          <a:ext cx="91137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01840"/>
                    <a:ext cx="91137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% do NOT keep co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 keep copies, but don’t know where they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44:26Z</dcterms:created>
  <dc:creator>Denise Troll Covey</dc:creator>
  <dc:description/>
  <dc:language>en-US</dc:language>
  <cp:lastModifiedBy>Denise Troll Covey</cp:lastModifiedBy>
  <dcterms:modified xsi:type="dcterms:W3CDTF">2006-11-13T15:29:55Z</dcterms:modified>
  <cp:revision>253</cp:revision>
  <dc:subject/>
  <dc:title>Slide 1</dc:title>
</cp:coreProperties>
</file>