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23.wmf" ContentType="image/x-wmf"/>
  <Override PartName="/ppt/media/image7.wmf" ContentType="image/x-wmf"/>
  <Override PartName="/ppt/media/image6.wmf" ContentType="image/x-wmf"/>
  <Override PartName="/ppt/media/image10.wmf" ContentType="image/x-wmf"/>
  <Override PartName="/ppt/media/image4.jpeg" ContentType="image/jpeg"/>
  <Override PartName="/ppt/media/image5.wmf" ContentType="image/x-wmf"/>
  <Override PartName="/ppt/media/image3.jpeg" ContentType="image/jpeg"/>
  <Override PartName="/ppt/media/image24.wmf" ContentType="image/x-wmf"/>
  <Override PartName="/ppt/media/image22.wmf" ContentType="image/x-wmf"/>
  <Override PartName="/ppt/media/image1.jpeg" ContentType="image/jpeg"/>
  <Override PartName="/ppt/media/image21.wmf" ContentType="image/x-wmf"/>
  <Override PartName="/ppt/media/image19.wmf" ContentType="image/x-wmf"/>
  <Override PartName="/ppt/media/image26.jpeg" ContentType="image/jpeg"/>
  <Override PartName="/ppt/media/image18.wmf" ContentType="image/x-wmf"/>
  <Override PartName="/ppt/media/image20.wmf" ContentType="image/x-wmf"/>
  <Override PartName="/ppt/media/image17.wmf" ContentType="image/x-wmf"/>
  <Override PartName="/ppt/media/image15.jpeg" ContentType="image/jpeg"/>
  <Override PartName="/ppt/media/image16.jpeg" ContentType="image/jpeg"/>
  <Override PartName="/ppt/media/image14.wmf" ContentType="image/x-wmf"/>
  <Override PartName="/ppt/media/image2.jpeg" ContentType="image/jpeg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9192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919320" y="-36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57400" y="690120"/>
            <a:ext cx="460368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874188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919320" y="874188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DA20-F836-4DBD-A8F3-1912572AE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ulty ages 40-49 most likely to try to negotiate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archive =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– of equal interest with the issue of exclusive transfer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t least half of the faculty in each college &amp; age range have NOT tried     to negotiate © transfer terms for artic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ly business school faculty did NOT say copyright transfer terms were not impor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likeliest to think not importan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ure track, especially associate professors with or without ten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likely to have tri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nure trac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culty ages 30-3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Arial"/>
              </a:rPr>
              <a:t>Men [CHECK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[FIX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50+% in each college  &amp; age range have NOT tr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likely not to have tri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ibrary track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istant research professors  </a:t>
            </a: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[CHECK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ome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4% would negoti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3% research trac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5% would not negoti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6% would change               or avoid the publish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0% library trac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% would ignore                      the agree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% tenure trac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9% research trac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 = of library track facu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4% would negotiate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– most likely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arch 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5% would not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– most likely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s 40-49 &amp; 60 and old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6% would change or avoid the publisher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– most likely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rary trac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% would ignore the agreement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– most likely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nure &amp; research 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s 40-4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; few mentioned financial 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1% control or flexibil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gt;35% each colleg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4% (faculty in all tracks     &amp; colleges) said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ittle if any value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 retaining copyright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– most likely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arch 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s 40-49, followed by 50-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 far more than wom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ome tenure &amp; teaching track faculty didn’t know any benefits to retaining 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ASONS FOR TRANSFER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aculty in fine arts &amp; public policy said transfer was benefi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aculty in all other colleges &amp; on all faculty tracks said transfer was required or tradi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aculty in the libraries had not transferred copy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 = of library track facu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th exception of library, fewer than half the faculty on each track said they understand the rights in their agreem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5% do not read their agreements carefully or worry about their righ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ly research                           and tenure trac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ly men ages 30-39               and 40-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ver half of the associate professors with tenure said they don’t read their agreements or worry about their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women are more likely to consul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s 40-49 and 60+ most likel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negotiate the right to self-archive if publisher forbid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draw an article if publisher refused te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withdraw an article if publisher refused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or avoid publisher who refused their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re already OA [published in OA journal?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since 37% don’t keep copies &amp; 20% keep copies but don’t know where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aculty on all tracks said they would consult                             their agreements, publishers, colleagues, or legal couns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6% WOULD be influenced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, at least under certain conditions</a:t>
            </a: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– most likely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aching trac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ublic polic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ges 60 &amp; old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1% would NOT be influenced</a:t>
            </a: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– most likely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search trac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uter science, engineering, busin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ges 30-39 &amp; 50-5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53% WOULD be influenced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, at least under certain conditions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– most likel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ing track, library tr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science, physical science,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half the faculty                under age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24% would NOT be influenced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– most likel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tr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science, physical science,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s 30-3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49% WOULD be influenced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– most likel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y &amp; teaching tr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s 50-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22% would NOT be influenc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– most likel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ly 25% of tenure                             &amp; research track facul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,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s 30-39 and 40-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53% WOULD be influenced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– most likel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library &amp; research facu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public policy facul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half of the faculty in all colleges except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likely to say yes: ages 30-39 and 50-59;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11%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would NOT be influenc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– most likely: 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[FIX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25% in humanities &amp; social sciences, physical sc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likely to say n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s 40-49 and 60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concerned: public policy &amp; computer sci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likely NOT to have PP influe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oice of publisher: CS, engine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ght to self-archive: business, engine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likely NOT to have P&amp;T committees influe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oice of publisher: CS, engineering, physical sc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ght to self-archive: H&amp;SS, physical sc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concerned about OA =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stly public policy &amp; computer science [FIX-CHECK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ready self-archiving or OA -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uter science, public policy, engineering, business, physical sc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&amp;T com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ll tracks concer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reatest concerns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 &amp; prestige                             of OA journ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–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HE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ical suit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 the research track, appreciation of web as vehicle of dissemination increases with r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 far more than women value web as disse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one age 50+ valued    the web for preservation         or other efficienc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70+% all tracks, colleges, ages did not know prior to guess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 likely to k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nure track:                     faculty without tenu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tracks: as get promoted through r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 likely to guess w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arch trac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 50 &amp; ol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aculty in all tracks &amp; all  but one college sai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is   not importan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business school faculty did NOT say copyright transfer terms were not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ikeliest to think not important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nure track, especially associate professors with or without ten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t likely to be influence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nure track: those without tenur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earch track: associate                     &amp; full profess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ges 30-39 and 60 &amp; 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t likely to say © not importa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earch track, especially assistant profess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ges 40-49 and 50-5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st likely not to keep copies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ociate &amp; full research prof; Assoc &amp; full prof with ten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, engineering,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s 40-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st likely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 keep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copies      &amp;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ot know where they a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rary &amp; teaching track;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[check]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ssistant research professo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umanities &amp; social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m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600" y="41176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41176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0000" y="41176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600" y="41176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65840" y="41176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02720" y="41176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600" y="274680"/>
            <a:ext cx="86868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600" y="41176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0000" y="41176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41176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69608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ulty Righ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Other Scholarly Communication Practic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240" y="4038480"/>
            <a:ext cx="48769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nise Troll Cove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cipal Librarian for Special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LF Forum – Boston, 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ember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410080" y="4000680"/>
            <a:ext cx="35053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ied to negotiate ©  transfer terms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% have tried to negotiat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s for an artic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those who tried to negoti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Re–use of their work was top priorit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The right to self–archive wa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f interest to only 3% of the facu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f interest only to tenure track                                                   assistant &amp; full professors                                                                    in computer science, humanities &amp; social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f interest to women slightly more than 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of interest to faculty ages 40-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111720" y="1828800"/>
          <a:ext cx="3016440" cy="27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1720" y="1828800"/>
                    <a:ext cx="3016440" cy="27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egotiate if not allowed to self-archive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0240" y="2805120"/>
          <a:ext cx="905328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40" y="2805120"/>
                    <a:ext cx="905328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44% wou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te, 25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% would NOT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Times New Roman"/>
              </a:rPr>
              <a:t>16% would change or avoid the publish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Times New Roman"/>
              </a:rPr>
              <a:t>8% would ignore the agreeme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lected Copyright Ques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457360" y="2438280"/>
            <a:ext cx="422928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enefits to retaining copyright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1% said control or flex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% didn’t know of any 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4% said little if any value in retaining copyr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680" y="2759040"/>
          <a:ext cx="9088560" cy="40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0" y="2759040"/>
                    <a:ext cx="908856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derstand rights in agreements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0520" y="2362320"/>
          <a:ext cx="9056880" cy="44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2362320"/>
                    <a:ext cx="9056880" cy="44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2% understand, 41% do NOT, 15% aren’t s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5% don’t read agreements carefully or worry about righ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esumption if rights are unclear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6080" y="2751120"/>
          <a:ext cx="90820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0" y="2751120"/>
                    <a:ext cx="90820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228600" y="1219320"/>
            <a:ext cx="8915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3% said they would consult their agreements,   publishers, colleagues, or legal coun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6% volunteered what they would do without per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nure-track tren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Faculty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without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tenure are more likely 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e meaning of open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terms when choosing a 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 their rights &amp; keep copies of their agre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stant professors would ignore the agreement                   rather than try to negotiate the right to self arch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Faculty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with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tenure are more likely 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little if any value in retain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read their agreements or worry about their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Regardless of rank or tenure status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most likely (47%) to act                        without permission if they don’t understand their righ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aching-track tren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Only assistant teaching professor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terms when choosing a 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tried to negoti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terms for an art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read their agreements or worry about their righ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n’t sure if they understand their rights in their agre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ignore their agreements with publis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financial benefits to retaining thei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Only full professors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ill ask permission                                                 if they don’t understand their righ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248520" y="4629240"/>
            <a:ext cx="26668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search-track tren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Behavior in regard to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©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transfer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faculty would change publishers because of thei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ter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full professors have tried to negoti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s for an art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associate professors would ignore the agreement                   rather than try to negotiate the right to self arch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Assistant research professor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hink they understand their rights in their agre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eep copies of their agreements, but don’t know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The following appear to increase with ran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ciation of the web as a vehicle of disse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ce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transfer terms in choosing a publis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eption that there is little if any value in retaining 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ng without permission (overall 27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ender tren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Men are more likely than women 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the web as a vehicle of disse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influenced by © transfer terms when choosing a 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negotiate © transfer ter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try to negotiate the right to self-archive if publisher forbi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keep copies of their © transfer agre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nore the terms of their agre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 without permi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little if any value in retaining 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k © is not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Only men said the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understand their © transfer agre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read their agreements or worry about their righ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Study: March – June 2006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scertain faculty practices &amp; understanding                regarding publishing &amp; disseminating their wor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dentify triggers likely to change faculty behavi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able the Libraries to target education, tools &amp; servi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ilot for a larger, multi-institution stud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atified random samp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ited more than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ned away 23 facu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rviews averaged 30 minu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19920" y="445788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ge tren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Ages 30-39 most likely 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negotiate © transfer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Ages 40-49 most likely 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influenced by © transfer terms when choosing a 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little if any value in retaining 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k © is not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keep copies of agre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When rights are uncle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er faculty are more likely to consult the agreement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nger faculty are more likely to act without per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lected Influence Ques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457360" y="2362320"/>
            <a:ext cx="422928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fluence where you choose to publish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2637000"/>
          <a:ext cx="9113760" cy="42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37000"/>
                    <a:ext cx="911376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28600" y="2286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resident &amp; provost encouraged publishing in OA jour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1523880"/>
            <a:ext cx="8915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% WOULD be influenced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 under certain condi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1% would NOT be influenced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junior faculty / me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fluence where you choose to publish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763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romotion &amp; tenure committees valued OA journals                                                    as highly or more highly than traditional jour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5840" y="2744640"/>
          <a:ext cx="9128160" cy="411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0" y="2744640"/>
                    <a:ext cx="9128160" cy="41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228600" y="15238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3% WOULD be influenced –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7% more than pres/prov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% would NOT be influenc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– 17% less than pres/prov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28600" y="2286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resident &amp; provost encouraged publishing in OA jour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fluence negotiate right to self-archive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0" y="2682720"/>
          <a:ext cx="9083520" cy="418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82720"/>
                    <a:ext cx="9083520" cy="41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228600" y="1523880"/>
            <a:ext cx="8915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% WOULD be influenc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% would NOT be influen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7621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fluence negotiate right to self-archive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9320" y="2743200"/>
          <a:ext cx="9120240" cy="41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0" y="2743200"/>
                    <a:ext cx="9120240" cy="41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228600" y="763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romotion &amp; tenure committees valued OA journals                                                  as highly or more highly than traditional jour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5238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3% WOULD be influence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– 4% more than pres/prov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% would NOT be influence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– 11% less than pres/prov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sist influence peddl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1235160"/>
          <a:ext cx="4846680" cy="56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35160"/>
                    <a:ext cx="4846680" cy="56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4876920" y="1219320"/>
            <a:ext cx="4267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% resist president/provos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, engineering,         computer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age r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7% resist promotion                 &amp; tenure committ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, humanities &amp; social science, computer science, science &amp; math,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age r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6720" y="2971800"/>
            <a:ext cx="1438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facul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en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828800" y="3581280"/>
            <a:ext cx="7632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81080" y="3657600"/>
            <a:ext cx="763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90920" y="4800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35880" y="4419720"/>
            <a:ext cx="16149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assi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34960" y="3352680"/>
            <a:ext cx="1677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assoc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428640" y="4038480"/>
            <a:ext cx="6094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657600" y="4038480"/>
            <a:ext cx="3808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3% are concerned about open acces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0240" y="2179800"/>
          <a:ext cx="9082080" cy="46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40" y="2179800"/>
                    <a:ext cx="9082080" cy="46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4876920" y="1219320"/>
            <a:ext cx="4267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121932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genders &amp; all age ranges are concerned about O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rn decreases slightly with 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3% Self-archive, 15% O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5029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aculty tra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ure: all r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ing: assistant &amp; associ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arch: associate &amp; f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sciplin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science,                          public policy, engineering, business, science &amp;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 age ran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re men than wom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48320" y="1187280"/>
          <a:ext cx="44496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187280"/>
                    <a:ext cx="44496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centive to negotiat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ight to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self-archiv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0760" y="4264200"/>
          <a:ext cx="9042480" cy="25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0" y="4264200"/>
                    <a:ext cx="9042480" cy="25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52560" y="990720"/>
          <a:ext cx="9023040" cy="320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60" y="990720"/>
                    <a:ext cx="90230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581280" y="24382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86600" y="2133720"/>
            <a:ext cx="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8120" y="22860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743200" y="4876920"/>
            <a:ext cx="4267080" cy="685800"/>
            <a:chOff x="2743200" y="4876920"/>
            <a:chExt cx="4267080" cy="685800"/>
          </a:xfrm>
        </p:grpSpPr>
        <p:sp>
          <p:nvSpPr>
            <p:cNvPr id="161" name=""/>
            <p:cNvSpPr/>
            <p:nvPr/>
          </p:nvSpPr>
          <p:spPr>
            <a:xfrm>
              <a:off x="4800600" y="495288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00800" y="495288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43200" y="4876920"/>
              <a:ext cx="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10280" y="495288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819520" y="22096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81880" y="1905120"/>
            <a:ext cx="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80880" y="403200"/>
          <a:ext cx="8381880" cy="6051600"/>
        </p:xfrm>
        <a:graphic>
          <a:graphicData uri="http://schemas.openxmlformats.org/drawingml/2006/table">
            <a:tbl>
              <a:tblPr/>
              <a:tblGrid>
                <a:gridCol w="2666880"/>
                <a:gridCol w="533520"/>
                <a:gridCol w="533520"/>
                <a:gridCol w="533160"/>
                <a:gridCol w="762120"/>
                <a:gridCol w="609480"/>
                <a:gridCol w="685800"/>
                <a:gridCol w="609840"/>
                <a:gridCol w="533160"/>
                <a:gridCol w="91440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aculty track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nu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ach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brar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ollege / Gende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e ar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ineer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blic polic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manities                          &amp; social scie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ience &amp; ma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uter Scie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ine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y Librari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otal interview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Target sam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7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3048120" y="5410080"/>
            <a:ext cx="533160" cy="1067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ducational Program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 Rights and Open Acces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Audience: Carnegie Mellon faculty and graduate stud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Sponsors: University Libraries and legal couns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ponent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peaker ser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Provost Mark Kamlet, Kenny Crews,                open access in science &amp; technology (SPARC),                                   open access in the humanities &amp; social sci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esent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President’s Council (deans), Provost’s Council (department heads), Faculty Se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pyright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arnegie Mellon authors’ addend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ocumentation &amp; public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324480" y="4727520"/>
            <a:ext cx="259092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erview Q&amp;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666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Acces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Publish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Copyr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1219320"/>
            <a:ext cx="26668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Influ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3276720"/>
            <a:ext cx="5029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aculty sometimes talked around the ques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ased on previous answers, some questions weren’t ask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ata indicate percentage               of all faculty in categ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238720" y="1828800"/>
            <a:ext cx="3600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lected Acces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&amp; Publishing Ques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57360" y="2590920"/>
            <a:ext cx="422928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alue of web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0480" y="2287440"/>
          <a:ext cx="9083520" cy="45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" y="2287440"/>
                    <a:ext cx="908352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ulty value the web more as a tool for access                       than a vehicle of disse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does “open access” mean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6320" y="2303640"/>
          <a:ext cx="9021600" cy="450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303640"/>
                    <a:ext cx="902160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or to guessing, 16% knew the meaning of open acc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guessing, 52% kn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 © terms affect choice of publisher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8680" y="2316240"/>
          <a:ext cx="9055080" cy="454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80" y="2316240"/>
                    <a:ext cx="9055080" cy="45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228600" y="1219320"/>
            <a:ext cx="8534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7% are NOT influenced by © transfer te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4% said © terms are not importa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eep copies of signed agreements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2301840"/>
          <a:ext cx="91137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01840"/>
                    <a:ext cx="91137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% do NOT keep cop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% keep copies, but don’t know where they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12:44:26Z</dcterms:created>
  <dc:creator>Denise Troll Covey</dc:creator>
  <dc:description/>
  <dc:language>en-US</dc:language>
  <cp:lastModifiedBy>Denise Troll Covey</cp:lastModifiedBy>
  <dcterms:modified xsi:type="dcterms:W3CDTF">2006-11-13T15:29:55Z</dcterms:modified>
  <cp:revision>253</cp:revision>
  <dc:subject/>
  <dc:title>Slide 1</dc:title>
</cp:coreProperties>
</file>