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18.wmf" ContentType="image/x-wmf"/>
  <Override PartName="/ppt/media/image17.wmf" ContentType="image/x-wmf"/>
  <Override PartName="/ppt/media/image16.jpeg" ContentType="image/jpeg"/>
  <Override PartName="/ppt/media/image10.png" ContentType="image/png"/>
  <Override PartName="/ppt/media/image6.wmf" ContentType="image/x-wmf"/>
  <Override PartName="/ppt/media/image19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14.jpeg" ContentType="image/jpeg"/>
  <Override PartName="/ppt/media/image5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3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017F-DED7-4B10-A485-D4F0C8DC9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1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3 = 20% per month x 15 months = 6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,400 per year salary &amp;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 letters = 68.00 postage (U.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5 paper/pr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s about third-party copyright ownershi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cent books will never be declared out of print because of print-on-demand contra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13 of the 25 authors/e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13 of the 25 authors/e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1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isfaction with quality of cop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y did or plan to do with the cop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n revenue &amp; view of open ac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&amp; impact on users –what they did with the books &amp; why, what difference the books made, assessment of the quality of the Collection &amp; the delivery system, and their estimation of the significance of the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1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rint status – random s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ose responding, equally like to get permission to digitize in-print or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e likely not to locate the publisher or get a response with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ublisher type (respon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% scholarly associ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7% university pr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% museums, art gall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% commercial publis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rint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ose responding, equally like to get permission to digitize in-print or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e likely not to locate the publisher or get a response with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1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larly associations = least likely to respond, but most likely to grant permission if they respo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presses = most likely to respond, somewhat less likely than scholarly associations to grant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publishers = likely to respond, but unlike to grant permission – most content in the 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know their r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know what they 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1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2 copyrighted titles / 1106 = 27% of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OLD data = 53/326 = 16% foreign title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ontacted owners of 218 titles  218/326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4 permission granted / 302 = 48% titles overall permission gra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4 permission granted / 218 = 66% titles overall permission gra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9 / 114 copyright holders = 34% granted per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 copyright holders contacted / 107 total copyright holders = 6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 access restriction (14 books, 11 publis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% time duration restriction (9 books, 1 publish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1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ed 17 e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granted permission = 3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denied permission = 2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idn’t respond = 18% -- 82% response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% of content – of titles published by copyright holders cont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2206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480" y="502884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Librarian for Special Projects – Carnegie Me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F Forum – April 2004 – New Orleans,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3810240" cy="2371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pyright Permission for Open Access: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osts, Strategies, &amp; Success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lion Book Project     2002 – 20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col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request letter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itle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ublisher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c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up phone call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dicated labor                                                     beginning Nov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king transaction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657840" y="3924360"/>
            <a:ext cx="2333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du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want to find information online, but use 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ine access increases use, even use of older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access does not decrease &amp; can increase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no revenue                                                                   from out-of-print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81480" y="4167360"/>
            <a:ext cx="38102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 &amp; Incen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n-exclu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ermission to digit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ut of print, in copyright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prior to a date of their choo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 #  or more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titles they pro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preservation standards &amp; copyrigh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&amp; save only one page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images, metadata, &amp; OC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$$$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stimat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ansact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6,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llow 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6,5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320" y="4749840"/>
            <a:ext cx="4841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un 2002 – Aug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1000" y="144792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1.48  per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4476600" cy="365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4280" y="52578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7 letters &amp; 57   follow up calls o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ng for the Bu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92200" y="4572000"/>
            <a:ext cx="3574080" cy="1739880"/>
            <a:chOff x="592200" y="4572000"/>
            <a:chExt cx="3574080" cy="1739880"/>
          </a:xfrm>
        </p:grpSpPr>
        <p:grpSp>
          <p:nvGrpSpPr>
            <p:cNvPr id="120" name=""/>
            <p:cNvGrpSpPr/>
            <p:nvPr/>
          </p:nvGrpSpPr>
          <p:grpSpPr>
            <a:xfrm>
              <a:off x="592200" y="5791320"/>
              <a:ext cx="3574080" cy="520560"/>
              <a:chOff x="592200" y="5791320"/>
              <a:chExt cx="3574080" cy="520560"/>
            </a:xfrm>
          </p:grpSpPr>
          <p:sp>
            <p:nvSpPr>
              <p:cNvPr id="121" name=""/>
              <p:cNvSpPr/>
              <p:nvPr/>
            </p:nvSpPr>
            <p:spPr>
              <a:xfrm>
                <a:off x="592200" y="586764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72720" y="5791320"/>
                <a:ext cx="3193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igenous Materia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92200" y="5181840"/>
              <a:ext cx="2705400" cy="520560"/>
              <a:chOff x="592200" y="5181840"/>
              <a:chExt cx="2705400" cy="520560"/>
            </a:xfrm>
          </p:grpSpPr>
          <p:sp>
            <p:nvSpPr>
              <p:cNvPr id="124" name=""/>
              <p:cNvSpPr/>
              <p:nvPr/>
            </p:nvSpPr>
            <p:spPr>
              <a:xfrm>
                <a:off x="592200" y="525816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2f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74160" y="5181840"/>
                <a:ext cx="232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Public Doma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92200" y="4572000"/>
              <a:ext cx="2391840" cy="520560"/>
              <a:chOff x="592200" y="4572000"/>
              <a:chExt cx="2391840" cy="520560"/>
            </a:xfrm>
          </p:grpSpPr>
          <p:sp>
            <p:nvSpPr>
              <p:cNvPr id="127" name=""/>
              <p:cNvSpPr/>
              <p:nvPr/>
            </p:nvSpPr>
            <p:spPr>
              <a:xfrm>
                <a:off x="592200" y="4647960"/>
                <a:ext cx="380880" cy="381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73080" y="4572000"/>
                <a:ext cx="201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 Copyrigh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398520" y="1295280"/>
            <a:ext cx="3716280" cy="3498840"/>
            <a:chOff x="398520" y="1295280"/>
            <a:chExt cx="3716280" cy="3498840"/>
          </a:xfrm>
        </p:grpSpPr>
        <p:graphicFrame>
          <p:nvGraphicFramePr>
            <p:cNvPr id="130" name=""/>
            <p:cNvGraphicFramePr/>
            <p:nvPr/>
          </p:nvGraphicFramePr>
          <p:xfrm>
            <a:off x="398520" y="1509840"/>
            <a:ext cx="3716280" cy="32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8520" y="1509840"/>
                      <a:ext cx="3716280" cy="32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" name=""/>
            <p:cNvSpPr/>
            <p:nvPr/>
          </p:nvSpPr>
          <p:spPr>
            <a:xfrm>
              <a:off x="1635840" y="1295280"/>
              <a:ext cx="12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286000" y="1322280"/>
            <a:ext cx="8381880" cy="5589360"/>
            <a:chOff x="2286000" y="1322280"/>
            <a:chExt cx="8381880" cy="5589360"/>
          </a:xfrm>
        </p:grpSpPr>
        <p:graphicFrame>
          <p:nvGraphicFramePr>
            <p:cNvPr id="134" name=""/>
            <p:cNvGraphicFramePr/>
            <p:nvPr/>
          </p:nvGraphicFramePr>
          <p:xfrm>
            <a:off x="2286000" y="1392840"/>
            <a:ext cx="8381880" cy="5518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1392840"/>
                      <a:ext cx="8381880" cy="55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5673960" y="1322280"/>
              <a:ext cx="16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573440" y="4267080"/>
            <a:ext cx="38689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6% success 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BCL publish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1500 books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gs with University P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right often reverts to the author                when books go out of 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ecent books will never go out of print because of print-on-demand contra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-party copyright                                          ownership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ll consider specific titles                                            that WE sel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562720" y="4422600"/>
            <a:ext cx="342900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304920"/>
            <a:ext cx="739152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broad request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572000"/>
            <a:ext cx="761976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uthor deceased, contact Es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85800" y="990720"/>
            <a:ext cx="8153280" cy="2666880"/>
            <a:chOff x="685800" y="990720"/>
            <a:chExt cx="8153280" cy="2666880"/>
          </a:xfrm>
        </p:grpSpPr>
        <p:sp>
          <p:nvSpPr>
            <p:cNvPr id="144" name=""/>
            <p:cNvSpPr/>
            <p:nvPr/>
          </p:nvSpPr>
          <p:spPr>
            <a:xfrm>
              <a:off x="685800" y="23623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19320" y="1143000"/>
              <a:ext cx="7619760" cy="2514600"/>
            </a:xfrm>
            <a:prstGeom prst="roundRect">
              <a:avLst>
                <a:gd name="adj" fmla="val 16667"/>
              </a:avLst>
            </a:prstGeom>
            <a:solidFill>
              <a:srgbClr val="ffe7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99072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371600" y="1066680"/>
            <a:ext cx="7467480" cy="25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gree (grant permission), create &amp; submit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st of tit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pprov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on’t agree, offer to create &amp; subm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st of tit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consid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56040" y="5181480"/>
            <a:ext cx="578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all or designated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rant all, they provide list of tit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5800" y="2362320"/>
            <a:ext cx="8153280" cy="2133360"/>
            <a:chOff x="685800" y="2362320"/>
            <a:chExt cx="8153280" cy="2133360"/>
          </a:xfrm>
        </p:grpSpPr>
        <p:sp>
          <p:nvSpPr>
            <p:cNvPr id="150" name=""/>
            <p:cNvSpPr/>
            <p:nvPr/>
          </p:nvSpPr>
          <p:spPr>
            <a:xfrm>
              <a:off x="685800" y="4114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886200"/>
              <a:ext cx="7619760" cy="609480"/>
            </a:xfrm>
            <a:prstGeom prst="roundRect">
              <a:avLst>
                <a:gd name="adj" fmla="val 16667"/>
              </a:avLst>
            </a:prstGeom>
            <a:solidFill>
              <a:srgbClr val="d9ff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copyright reverted, contact Auth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" y="236232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ment: Office of 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8915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dite identifying &amp; locating copyright ho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ed to identify &amp; locate copyright holders of 7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d $150 fee – 3 days after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d 4 to 6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dged at 8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k 15 weeks to respo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rmed one c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44792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4120" y="4270320"/>
            <a:ext cx="3657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ment: Authors Reg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edite locating copyright hol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ed to locate 25 authors or e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d $2.50 fee per author/estate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day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 52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% accuracy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44792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d9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144792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257800" y="4219560"/>
            <a:ext cx="3733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ment: Workflow Time T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edite generating lists of tit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ify ci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0% improvement using digit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World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ify copyright 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mprovement using enhanced copyright renewal records datab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ify print 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not 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from 9 to 6 minutes per 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44792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e7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of 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553080" y="4979880"/>
            <a:ext cx="259092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sibility Study     1999 – 20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sample of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tit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library cata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request letter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gitize &amp; provide open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up request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ittent lab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not track transaction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43600" y="4498920"/>
            <a:ext cx="30481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6324480" y="1523880"/>
          <a:ext cx="2286000" cy="409572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yright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% 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" y="1523880"/>
          <a:ext cx="5867280" cy="4095720"/>
        </p:xfrm>
        <a:graphic>
          <a:graphicData uri="http://schemas.openxmlformats.org/drawingml/2006/table">
            <a:tbl>
              <a:tblPr/>
              <a:tblGrid>
                <a:gridCol w="3757680"/>
                <a:gridCol w="2109600"/>
              </a:tblGrid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ion Bo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yright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Copyright prot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Owners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Owners respo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 success 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3962520" y="2819520"/>
            <a:ext cx="485640" cy="914400"/>
          </a:xfrm>
          <a:prstGeom prst="upArrow">
            <a:avLst>
              <a:gd name="adj1" fmla="val 49676"/>
              <a:gd name="adj2" fmla="val 745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358128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11480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2590920"/>
            <a:ext cx="486000" cy="2819160"/>
          </a:xfrm>
          <a:prstGeom prst="upArrow">
            <a:avLst>
              <a:gd name="adj1" fmla="val 50000"/>
              <a:gd name="adj2" fmla="val 1450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17760" y="5732640"/>
            <a:ext cx="5888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4 letters sent to locate 206 copyright ow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6 follow-up calls or em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Copyright Holder Typ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280" y="1523880"/>
          <a:ext cx="3657600" cy="5029200"/>
        </p:xfrm>
        <a:graphic>
          <a:graphicData uri="http://schemas.openxmlformats.org/drawingml/2006/table">
            <a:tbl>
              <a:tblPr/>
              <a:tblGrid>
                <a:gridCol w="2286000"/>
                <a:gridCol w="137160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hors/Est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2362320" y="5486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45720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365760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274320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617220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8920" y="149868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886200" y="1295280"/>
          <a:ext cx="5257800" cy="48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295280"/>
                    <a:ext cx="525780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879000" y="6019920"/>
            <a:ext cx="52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know number of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Rate Comparis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860560" y="1479600"/>
          <a:ext cx="589284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0560" y="1479600"/>
                    <a:ext cx="58928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04920" y="990720"/>
          <a:ext cx="2438280" cy="495288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hors/Est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2666880" y="48006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9625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304812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12256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548640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assessments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es of success rates, transaction costs, # of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participating publish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practices &amp; shared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 with U.S. Offi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Copy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impact of CTEA on accessibility of out of print books &amp; costs of acquiring large scale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IT to help reduce costs &amp; increase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4800" y="380880"/>
            <a:ext cx="6134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095560" y="182880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95400" y="5943600"/>
            <a:ext cx="71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se Troll Covey – troll@andrew.cmu.e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19920" y="1523880"/>
          <a:ext cx="2895480" cy="37944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1523880"/>
          <a:ext cx="5587920" cy="3791160"/>
        </p:xfrm>
        <a:graphic>
          <a:graphicData uri="http://schemas.openxmlformats.org/drawingml/2006/table">
            <a:tbl>
              <a:tblPr/>
              <a:tblGrid>
                <a:gridCol w="3848040"/>
                <a:gridCol w="173988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i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Copyright prot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Publishers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Publishers respo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 success 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347000" y="5373720"/>
            <a:ext cx="1269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e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9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274320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27672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80988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2743200"/>
            <a:ext cx="485640" cy="2347920"/>
          </a:xfrm>
          <a:prstGeom prst="upArrow">
            <a:avLst>
              <a:gd name="adj1" fmla="val 50000"/>
              <a:gd name="adj2" fmla="val 1208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326280" y="5373720"/>
            <a:ext cx="2390400" cy="1031400"/>
            <a:chOff x="6326280" y="5373720"/>
            <a:chExt cx="2390400" cy="1031400"/>
          </a:xfrm>
        </p:grpSpPr>
        <p:sp>
          <p:nvSpPr>
            <p:cNvPr id="60" name=""/>
            <p:cNvSpPr/>
            <p:nvPr/>
          </p:nvSpPr>
          <p:spPr>
            <a:xfrm>
              <a:off x="6326280" y="5373720"/>
              <a:ext cx="916920" cy="10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y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97880" y="5373720"/>
              <a:ext cx="1018800" cy="10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iz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28600" y="1523880"/>
          <a:ext cx="3657600" cy="4843440"/>
        </p:xfrm>
        <a:graphic>
          <a:graphicData uri="http://schemas.openxmlformats.org/drawingml/2006/table">
            <a:tbl>
              <a:tblPr/>
              <a:tblGrid>
                <a:gridCol w="2133720"/>
                <a:gridCol w="15238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eums   &amp; gall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Publishe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67200" y="1523880"/>
          <a:ext cx="5176800" cy="48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0" y="1523880"/>
                    <a:ext cx="517680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286000" y="57913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388620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487692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97180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8840" y="165096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s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e &amp; Rare Books Study    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ner Col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tit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request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up phone call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dicated labor                                                                   May thru Oct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ked transaction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827680" y="4419720"/>
            <a:ext cx="316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Seeking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ing &amp; locating copyright 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at they published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at rights they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raid of open access &amp; lost reven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copyright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andoned foreign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80880" y="1523880"/>
          <a:ext cx="5791320" cy="4129200"/>
        </p:xfrm>
        <a:graphic>
          <a:graphicData uri="http://schemas.openxmlformats.org/drawingml/2006/table">
            <a:tbl>
              <a:tblPr/>
              <a:tblGrid>
                <a:gridCol w="3657600"/>
                <a:gridCol w="2133720"/>
              </a:tblGrid>
              <a:tr h="91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yright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Copyright prot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Owners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Owners respo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 success rat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3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6248520" y="1523880"/>
          <a:ext cx="2133360" cy="412920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yright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4794840" y="5715000"/>
            <a:ext cx="40759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access restri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% time duration res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2666880"/>
            <a:ext cx="485640" cy="1143000"/>
          </a:xfrm>
          <a:prstGeom prst="upArrow">
            <a:avLst>
              <a:gd name="adj1" fmla="val 49676"/>
              <a:gd name="adj2" fmla="val 931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365760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191120"/>
            <a:ext cx="485640" cy="761760"/>
          </a:xfrm>
          <a:prstGeom prst="upArrow">
            <a:avLst>
              <a:gd name="adj1" fmla="val 49676"/>
              <a:gd name="adj2" fmla="val 620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666880"/>
            <a:ext cx="485640" cy="2743200"/>
          </a:xfrm>
          <a:prstGeom prst="upArrow">
            <a:avLst>
              <a:gd name="adj1" fmla="val 50000"/>
              <a:gd name="adj2" fmla="val 141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248520" y="1523880"/>
          <a:ext cx="2133360" cy="412920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8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52280" y="1523880"/>
          <a:ext cx="3886200" cy="5054760"/>
        </p:xfrm>
        <a:graphic>
          <a:graphicData uri="http://schemas.openxmlformats.org/drawingml/2006/table">
            <a:tbl>
              <a:tblPr/>
              <a:tblGrid>
                <a:gridCol w="2362320"/>
                <a:gridCol w="152388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Copyright Holder Typ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67200" y="1523880"/>
          <a:ext cx="517680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0" y="1523880"/>
                    <a:ext cx="517680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438280" y="47242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156384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se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5627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609588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79872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88432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0,8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TE 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3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 c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1,2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320" y="4800600"/>
            <a:ext cx="4841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3 – October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5360" y="1447920"/>
            <a:ext cx="38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78 per book/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648320" cy="3378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00600" y="50292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70 letters &amp; 159 follow-up calls o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13:08:31Z</dcterms:created>
  <dc:creator>covey</dc:creator>
  <dc:description/>
  <dc:language>en-US</dc:language>
  <cp:lastModifiedBy>covey</cp:lastModifiedBy>
  <dcterms:modified xsi:type="dcterms:W3CDTF">2004-04-15T18:26:38Z</dcterms:modified>
  <cp:revision>288</cp:revision>
  <dc:subject/>
  <dc:title>PowerPoint Presentation</dc:title>
</cp:coreProperties>
</file>