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18.wmf" ContentType="image/x-wmf"/>
  <Override PartName="/ppt/media/image17.wmf" ContentType="image/x-wmf"/>
  <Override PartName="/ppt/media/image16.jpeg" ContentType="image/jpeg"/>
  <Override PartName="/ppt/media/image10.png" ContentType="image/png"/>
  <Override PartName="/ppt/media/image6.wmf" ContentType="image/x-wmf"/>
  <Override PartName="/ppt/media/image1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3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48E-66E4-4378-A4C5-669216F2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s about third-party copyright ownershi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cent books will never be declared out of print because of print-on-demand contra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larly associations = least likely to respond, but most likely to grant permission if they respo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presses = most likely to respond, somewhat less likely than scholarly associations to grant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publishers = likely to respond, but unlike to grant permission – most content in the 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what they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2 copyrighted titles / 1106 = 27% of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OLD data = 53/326 = 16% foreign titl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ontacted owners of 218 titles  218/32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302 = 48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218 = 66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 / 114 copyright holders = 34% granted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 copyright holders contacted / 107 total copyright holders = 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access restriction (14 books, 11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% time duration restriction (9 books, 1 publ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ed 17 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granted permission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denied permission = 2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dn’t respond = 18% -- 82% response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% of content – of titles published by copyright holders cont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50288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 –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F Forum – April 2004 – New Orleans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810240" cy="2371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pyright Permission for Open Access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sts, Strategies, &amp; Success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     2002 – 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equest letter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c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                                                    beginning Nov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ing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7840" y="3924360"/>
            <a:ext cx="2333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want to find information online, but use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access increases use, even use of old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ccess does not decrease &amp; can increas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no revenue                                                                   from out-of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4167360"/>
            <a:ext cx="3810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ermission to digit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ut of print, in 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servation standards &amp;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&amp; save only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mages, metadata, &amp; OC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im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5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320" y="4749840"/>
            <a:ext cx="484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n 2002 – Aug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000" y="144792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1.48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476600" cy="365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7 letters &amp; 57   follow 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2200" y="4572000"/>
            <a:ext cx="3574080" cy="1739880"/>
            <a:chOff x="592200" y="4572000"/>
            <a:chExt cx="3574080" cy="1739880"/>
          </a:xfrm>
        </p:grpSpPr>
        <p:grpSp>
          <p:nvGrpSpPr>
            <p:cNvPr id="120" name=""/>
            <p:cNvGrpSpPr/>
            <p:nvPr/>
          </p:nvGrpSpPr>
          <p:grpSpPr>
            <a:xfrm>
              <a:off x="592200" y="5791320"/>
              <a:ext cx="3574080" cy="520560"/>
              <a:chOff x="592200" y="5791320"/>
              <a:chExt cx="3574080" cy="520560"/>
            </a:xfrm>
          </p:grpSpPr>
          <p:sp>
            <p:nvSpPr>
              <p:cNvPr id="121" name=""/>
              <p:cNvSpPr/>
              <p:nvPr/>
            </p:nvSpPr>
            <p:spPr>
              <a:xfrm>
                <a:off x="592200" y="58676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72720" y="579132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2200" y="5181840"/>
              <a:ext cx="2705400" cy="520560"/>
              <a:chOff x="592200" y="5181840"/>
              <a:chExt cx="2705400" cy="520560"/>
            </a:xfrm>
          </p:grpSpPr>
          <p:sp>
            <p:nvSpPr>
              <p:cNvPr id="124" name=""/>
              <p:cNvSpPr/>
              <p:nvPr/>
            </p:nvSpPr>
            <p:spPr>
              <a:xfrm>
                <a:off x="59220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74160" y="518184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2200" y="4572000"/>
              <a:ext cx="2391840" cy="520560"/>
              <a:chOff x="592200" y="4572000"/>
              <a:chExt cx="2391840" cy="520560"/>
            </a:xfrm>
          </p:grpSpPr>
          <p:sp>
            <p:nvSpPr>
              <p:cNvPr id="127" name=""/>
              <p:cNvSpPr/>
              <p:nvPr/>
            </p:nvSpPr>
            <p:spPr>
              <a:xfrm>
                <a:off x="592200" y="464796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73080" y="457200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398520" y="1295280"/>
            <a:ext cx="3716280" cy="3498840"/>
            <a:chOff x="398520" y="1295280"/>
            <a:chExt cx="3716280" cy="3498840"/>
          </a:xfrm>
        </p:grpSpPr>
        <p:graphicFrame>
          <p:nvGraphicFramePr>
            <p:cNvPr id="130" name=""/>
            <p:cNvGraphicFramePr/>
            <p:nvPr/>
          </p:nvGraphicFramePr>
          <p:xfrm>
            <a:off x="398520" y="150984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50984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1635840" y="129528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86000" y="1322280"/>
            <a:ext cx="8381880" cy="5589360"/>
            <a:chOff x="2286000" y="1322280"/>
            <a:chExt cx="8381880" cy="5589360"/>
          </a:xfrm>
        </p:grpSpPr>
        <p:graphicFrame>
          <p:nvGraphicFramePr>
            <p:cNvPr id="134" name=""/>
            <p:cNvGraphicFramePr/>
            <p:nvPr/>
          </p:nvGraphicFramePr>
          <p:xfrm>
            <a:off x="2286000" y="1392840"/>
            <a:ext cx="8381880" cy="55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392840"/>
                      <a:ext cx="8381880" cy="55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5673960" y="132228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73440" y="4267080"/>
            <a:ext cx="3868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6% success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BCL publis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1500 book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gs with University P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often reverts to the author                when books go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ecent books will never go out of print because of print-on-demand contr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copyright                                          ownership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ll consider specific titles                                            that WE sel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4290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304920"/>
            <a:ext cx="739152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broad reques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572000"/>
            <a:ext cx="761976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uthor deceased, contact E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990720"/>
            <a:ext cx="8153280" cy="2666880"/>
            <a:chOff x="685800" y="990720"/>
            <a:chExt cx="8153280" cy="2666880"/>
          </a:xfrm>
        </p:grpSpPr>
        <p:sp>
          <p:nvSpPr>
            <p:cNvPr id="144" name=""/>
            <p:cNvSpPr/>
            <p:nvPr/>
          </p:nvSpPr>
          <p:spPr>
            <a:xfrm>
              <a:off x="685800" y="23623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1143000"/>
              <a:ext cx="7619760" cy="2514600"/>
            </a:xfrm>
            <a:prstGeom prst="roundRect">
              <a:avLst>
                <a:gd name="adj" fmla="val 16667"/>
              </a:avLst>
            </a:prstGeom>
            <a:solidFill>
              <a:srgbClr val="ffe7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9907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371600" y="1066680"/>
            <a:ext cx="746748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gree (grant permission), create &amp; submit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 of tit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ppro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on’t agree, offer to create &amp; subm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 of tit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consid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56040" y="5181480"/>
            <a:ext cx="578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all or designated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rant all, they provide list of tit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2362320"/>
            <a:ext cx="8153280" cy="2133360"/>
            <a:chOff x="685800" y="2362320"/>
            <a:chExt cx="8153280" cy="2133360"/>
          </a:xfrm>
        </p:grpSpPr>
        <p:sp>
          <p:nvSpPr>
            <p:cNvPr id="150" name=""/>
            <p:cNvSpPr/>
            <p:nvPr/>
          </p:nvSpPr>
          <p:spPr>
            <a:xfrm>
              <a:off x="685800" y="4114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886200"/>
              <a:ext cx="7619760" cy="609480"/>
            </a:xfrm>
            <a:prstGeom prst="roundRect">
              <a:avLst>
                <a:gd name="adj" fmla="val 16667"/>
              </a:avLst>
            </a:prstGeom>
            <a:solidFill>
              <a:srgbClr val="d9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copyright reverted, contact Auth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: Office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dite identifying &amp; locating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identify &amp; locate copyright holders of 7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d $150 fee – 3 days after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4 to 6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dged at 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k 15 weeks to respo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ed one c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4120" y="427032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: Authors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dite locating copyright hol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locate 25 authors or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d $2.50 fee per author/estat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ay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52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% accuracy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421956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: Workflow Time T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dite generating lists of ti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ify ci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% improvement using digit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World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ify copyright 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mprovement using enhanced copyright renewal records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ify print 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ot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from 9 to 6 minutes per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f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553080" y="4979880"/>
            <a:ext cx="25909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 Study     1999 –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sample of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library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equest letter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gitize &amp; provide ope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 reques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t la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track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3600" y="4498920"/>
            <a:ext cx="30481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324480" y="1523880"/>
          <a:ext cx="2286000" cy="40957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 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523880"/>
          <a:ext cx="5867280" cy="4095720"/>
        </p:xfrm>
        <a:graphic>
          <a:graphicData uri="http://schemas.openxmlformats.org/drawingml/2006/table">
            <a:tbl>
              <a:tblPr/>
              <a:tblGrid>
                <a:gridCol w="3757680"/>
                <a:gridCol w="210960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62520" y="2819520"/>
            <a:ext cx="485640" cy="914400"/>
          </a:xfrm>
          <a:prstGeom prst="upArrow">
            <a:avLst>
              <a:gd name="adj1" fmla="val 49676"/>
              <a:gd name="adj2" fmla="val 745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35812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14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590920"/>
            <a:ext cx="486000" cy="2819160"/>
          </a:xfrm>
          <a:prstGeom prst="upArrow">
            <a:avLst>
              <a:gd name="adj1" fmla="val 50000"/>
              <a:gd name="adj2" fmla="val 1450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17760" y="5732640"/>
            <a:ext cx="5888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4 letters sent to locate 206 copyright ow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6 follow-up calls or e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523880"/>
          <a:ext cx="3657600" cy="5029200"/>
        </p:xfrm>
        <a:graphic>
          <a:graphicData uri="http://schemas.openxmlformats.org/drawingml/2006/table">
            <a:tbl>
              <a:tblPr/>
              <a:tblGrid>
                <a:gridCol w="2286000"/>
                <a:gridCol w="137160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s/E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62320" y="5486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45720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36576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7432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617220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149868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86200" y="1295280"/>
          <a:ext cx="525780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295280"/>
                    <a:ext cx="52578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79000" y="6019920"/>
            <a:ext cx="52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know number of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Rate Comparis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860560" y="1479600"/>
          <a:ext cx="58928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479600"/>
                    <a:ext cx="58928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04920" y="990720"/>
          <a:ext cx="2438280" cy="495288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s/E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666880" y="48006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9625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04812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12256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548640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assessments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s of success rates, transaction costs, #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participating publis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practices &amp; shared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 with U.S. Off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impact of CTEA on accessibility of out of print books &amp; costs of acquiring large scale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IT to help reduce costs &amp; increase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5400" y="5943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19920" y="1523880"/>
          <a:ext cx="2895480" cy="37944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523880"/>
          <a:ext cx="5587920" cy="3791160"/>
        </p:xfrm>
        <a:graphic>
          <a:graphicData uri="http://schemas.openxmlformats.org/drawingml/2006/table">
            <a:tbl>
              <a:tblPr/>
              <a:tblGrid>
                <a:gridCol w="3848040"/>
                <a:gridCol w="17398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347000" y="537372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7432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8098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7432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326280" y="5373720"/>
            <a:ext cx="2390400" cy="1031400"/>
            <a:chOff x="6326280" y="5373720"/>
            <a:chExt cx="2390400" cy="1031400"/>
          </a:xfrm>
        </p:grpSpPr>
        <p:sp>
          <p:nvSpPr>
            <p:cNvPr id="60" name=""/>
            <p:cNvSpPr/>
            <p:nvPr/>
          </p:nvSpPr>
          <p:spPr>
            <a:xfrm>
              <a:off x="6326280" y="5373720"/>
              <a:ext cx="91692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7880" y="5373720"/>
              <a:ext cx="101880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iz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8600" y="1523880"/>
          <a:ext cx="365760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67200" y="1523880"/>
          <a:ext cx="51768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523880"/>
                    <a:ext cx="51768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86000" y="5791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38862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87692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8840" y="165096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&amp; Rare Books Study 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ner 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eques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                                                                  May thru Oc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ed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27680" y="4419720"/>
            <a:ext cx="316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they published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rights they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aid of open access &amp; lost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copyrigh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ndoned foreign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5791320" cy="4129200"/>
        </p:xfrm>
        <a:graphic>
          <a:graphicData uri="http://schemas.openxmlformats.org/drawingml/2006/table">
            <a:tbl>
              <a:tblPr/>
              <a:tblGrid>
                <a:gridCol w="3657600"/>
                <a:gridCol w="2133720"/>
              </a:tblGrid>
              <a:tr h="91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248520" y="1523880"/>
          <a:ext cx="2133360" cy="41292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794840" y="5715000"/>
            <a:ext cx="4075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access restri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% time dur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666880"/>
            <a:ext cx="485640" cy="1143000"/>
          </a:xfrm>
          <a:prstGeom prst="upArrow">
            <a:avLst>
              <a:gd name="adj1" fmla="val 49676"/>
              <a:gd name="adj2" fmla="val 931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6576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191120"/>
            <a:ext cx="485640" cy="761760"/>
          </a:xfrm>
          <a:prstGeom prst="upArrow">
            <a:avLst>
              <a:gd name="adj1" fmla="val 49676"/>
              <a:gd name="adj2" fmla="val 620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666880"/>
            <a:ext cx="485640" cy="2743200"/>
          </a:xfrm>
          <a:prstGeom prst="upArrow">
            <a:avLst>
              <a:gd name="adj1" fmla="val 50000"/>
              <a:gd name="adj2" fmla="val 141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48520" y="1523880"/>
          <a:ext cx="2133360" cy="41292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280" y="1523880"/>
          <a:ext cx="3886200" cy="505476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67200" y="1523880"/>
          <a:ext cx="51768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523880"/>
                    <a:ext cx="51768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438280" y="47242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15638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5627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609588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79872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88432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360" y="144792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648320" cy="337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0 letters &amp; 159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4-04-15T18:26:38Z</dcterms:modified>
  <cp:revision>288</cp:revision>
  <dc:subject/>
  <dc:title>PowerPoint Presentation</dc:title>
</cp:coreProperties>
</file>