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6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8.png" ContentType="image/png"/>
  <Override PartName="/ppt/media/image12.wmf" ContentType="image/x-wmf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wmf" ContentType="image/x-wmf"/>
  <Override PartName="/ppt/media/image33.jpeg" ContentType="image/jpeg"/>
  <Override PartName="/ppt/media/image9.png" ContentType="image/png"/>
  <Override PartName="/ppt/media/image17.wmf" ContentType="image/x-wmf"/>
  <Override PartName="/ppt/media/image34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3.gif" ContentType="image/gif"/>
  <Override PartName="/ppt/media/image2.wmf" ContentType="image/x-wmf"/>
  <Override PartName="/ppt/media/image23.jpeg" ContentType="image/jpeg"/>
  <Override PartName="/ppt/media/image16.jpeg" ContentType="image/jpeg"/>
  <Override PartName="/ppt/media/image14.wmf" ContentType="image/x-wmf"/>
  <Override PartName="/ppt/media/image18.gif" ContentType="image/gif"/>
  <Override PartName="/ppt/media/image15.wmf" ContentType="image/x-wmf"/>
  <Override PartName="/ppt/media/image19.gif" ContentType="image/gif"/>
  <Override PartName="/ppt/media/image24.png" ContentType="image/png"/>
  <Override PartName="/ppt/media/image20.png" ContentType="image/png"/>
  <Override PartName="/ppt/media/image3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ECE7-9D9B-410E-B418-B6E6700D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 are not concerned about authorita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&amp; speed of finding information can be as important in satisfying the user as the utility or appropriateness of the information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port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easy, convenient access to ke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h relevant information to the appropriat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customizabl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information is less useful for undergradu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% use web site wee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barely meeting minimal service levels   for gradu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dequacy g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not meeting the desires &amp; expectations   of undergradu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superiority g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n need of improvement – person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web is twice as easy &amp; convenient as using online library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library e-resources is about as easy &amp; convenient as turning to a human resource - Professor, classmate, or librar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use ILL; half of users think it’s inconven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hysical library is not easy &amp; conven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from web – 27% from library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rvice adequacy from LibQual+ &amp; impact of journal cancellations &amp; changed access privileges to e-resources at neighboring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 about level of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faculty, need access to journals,                             but lack financial resources &amp; profession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ndergraduates, often have short deadlines; interlibrary loan is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fessor, classmate, or librar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about local availability of old journals &amp; out of prin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gle sear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stitutional reposito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graduates – path of least cognitive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e students – include older books &amp;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ize knowledge &amp; empower citizen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old, new, east, west, technical &amp; human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 research ar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distribution, management, &amp; 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, copyright, &amp; digital rights man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optical character recognition (O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R of non-Romanic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creation of structural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t inde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hine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18% success rate with BCL publishers &amp; 500 boo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of reproductions of books &amp; journals                   digitized or queued for dig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uce du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e access for less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tent to preserve &amp; make accessible in entir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pliance with standards &amp; 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fessionally managed storage &amp;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copy available for public a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canner, two shifts daily = 16 book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50 work days per y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do project in 5 years                                                       even with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 DPI TIFF (v5)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Fix post-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y Fine Reader OCR – English &amp; some fo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veloping OCR – native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of reproductions of books &amp; journals                   digitized or queued for digit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uce du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e access for less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istry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tent to preserve &amp; make accessible in entir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pliance with standards &amp; best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fessionally managed storage &amp;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copy available for public a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canner, two shifts daily = 16 book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50 work days per y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do project in 5 years                                                       even with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 DPI TIFF (v5)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Fix post-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by Fine Reader OCR – English &amp; some fo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veloping OCR – native languages &amp;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lin Core; digital registry; administrative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ing with Amaz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; generating &amp; approving lists of ti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on of Research Libraries LibQual+ Survey 2002 &amp;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% failure rate accomplishing tasks on web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kob Niels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 library more than the Internet, b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&amp;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 library more than the Internet, b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&amp;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 library more than the Internet, b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&amp;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% are not concerned about authorita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e &amp; speed of finding information can be as important in satisfying the user as the utility or appropriateness of the information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lib.org.cn/" TargetMode="External"/><Relationship Id="rId2" Type="http://schemas.openxmlformats.org/officeDocument/2006/relationships/hyperlink" Target="http://www.dli.gov.in/home.htm" TargetMode="External"/><Relationship Id="rId3" Type="http://schemas.openxmlformats.org/officeDocument/2006/relationships/hyperlink" Target="http://www.ulib.org/html/index.html" TargetMode="External"/><Relationship Id="rId4" Type="http://schemas.openxmlformats.org/officeDocument/2006/relationships/hyperlink" Target="http://www.library.cmu.edu/Libraries/MBP_FAQ.html" TargetMode="External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llion Book Project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ing Obstacles to Use, Satisfaction, &amp;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5029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 –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DA 2004 – Dubrovnik, Cro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2200" y="1905120"/>
            <a:ext cx="38196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Student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9% live off cam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% use home computer &gt; school compu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access the web from their home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0% use the library for web access,                             but only 20% prefer this access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0% prefer remot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15000" y="5789520"/>
            <a:ext cx="32004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Student Beli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information found on the surface web                       is adequate for class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don’t care about the authority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6% other web sites                                                 have better information                                         than the library web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10360" y="3657600"/>
            <a:ext cx="2705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W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onal control &amp;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mote access to ful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ore &amp; easier to use online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to identify appropriate resources                                 &amp; to get updates on availabl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ooks, including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ut of print boo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ack issues of jou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able user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fortable library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38960" y="4114800"/>
            <a:ext cx="1604880" cy="2470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53760" y="2286000"/>
            <a:ext cx="1956240" cy="162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ite &amp; por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N &amp; Shibbol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Resource Finder &amp; SF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reserves, reference, renewal, holds, ILL, direct borrowing from other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check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952880" y="1523880"/>
            <a:ext cx="396252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0,000 prin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5 datab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,000 electronic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,000 electronic journals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57240" y="2282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ough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onal control &amp;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arely meeting needs of graduate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ot meeting desires of undergraduate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accessing &amp; using online library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catalog &amp; databases are not easy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 navigating the library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 picking appropriate resources &amp; keeping up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library &amp; ILL are inconveni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13200" y="22860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atabase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9320" y="342900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talog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8600" y="4191120"/>
            <a:ext cx="32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Full text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495288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Cir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523880"/>
          <a:ext cx="56800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56800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82520" y="1533600"/>
          <a:ext cx="4235400" cy="50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533600"/>
                    <a:ext cx="423540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450440" y="18288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irtual vis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4120" y="38862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hysical vis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95680" y="1697040"/>
          <a:ext cx="4418280" cy="478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697040"/>
                    <a:ext cx="441828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380640" y="2146320"/>
            <a:ext cx="1652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i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5760" y="4267080"/>
            <a:ext cx="2719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hotocop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419720" y="2209680"/>
          <a:ext cx="4614840" cy="33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09680"/>
                    <a:ext cx="461484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057400"/>
          <a:ext cx="455760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455760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070320" y="1676520"/>
            <a:ext cx="2032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1400" y="1676520"/>
            <a:ext cx="1831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5821200"/>
            <a:ext cx="4761360" cy="581400"/>
            <a:chOff x="2590920" y="5821200"/>
            <a:chExt cx="4761360" cy="581400"/>
          </a:xfrm>
        </p:grpSpPr>
        <p:grpSp>
          <p:nvGrpSpPr>
            <p:cNvPr id="119" name=""/>
            <p:cNvGrpSpPr/>
            <p:nvPr/>
          </p:nvGrpSpPr>
          <p:grpSpPr>
            <a:xfrm>
              <a:off x="2590920" y="5821200"/>
              <a:ext cx="1661760" cy="581400"/>
              <a:chOff x="2590920" y="5821200"/>
              <a:chExt cx="1661760" cy="581400"/>
            </a:xfrm>
          </p:grpSpPr>
          <p:sp>
            <p:nvSpPr>
              <p:cNvPr id="120" name=""/>
              <p:cNvSpPr/>
              <p:nvPr/>
            </p:nvSpPr>
            <p:spPr>
              <a:xfrm>
                <a:off x="2590920" y="5943600"/>
                <a:ext cx="30456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95480" y="5821200"/>
                <a:ext cx="13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igita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876920" y="5821200"/>
              <a:ext cx="2475360" cy="581400"/>
              <a:chOff x="4876920" y="5821200"/>
              <a:chExt cx="2475360" cy="581400"/>
            </a:xfrm>
          </p:grpSpPr>
          <p:sp>
            <p:nvSpPr>
              <p:cNvPr id="123" name=""/>
              <p:cNvSpPr/>
              <p:nvPr/>
            </p:nvSpPr>
            <p:spPr>
              <a:xfrm>
                <a:off x="4876920" y="5943240"/>
                <a:ext cx="304560" cy="3049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81120" y="5821200"/>
                <a:ext cx="217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Traditiona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 factors in determining search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%   Quality of in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46%  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%   Conven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41%   Ease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king &amp; obtaining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search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86400" y="40575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% use Internet search engine most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time they can get what they need                   from the library, but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71640" y="2925720"/>
          <a:ext cx="631692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25720"/>
                    <a:ext cx="631692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brary users &amp; use in the digital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national &amp; international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                                  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iers to use, satisfaction, &amp; suc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lion Book Project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328140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ing the web is twice as easy &amp; convenient                          as using online library resour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online library resources is about as easy                               &amp; convenient as turning to a human resour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ion limits selection of research topics                 &amp; quality of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uate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77120" y="5224320"/>
            <a:ext cx="2438280" cy="14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428760"/>
            <a:ext cx="3200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971800"/>
            <a:ext cx="838080" cy="1828800"/>
          </a:xfrm>
          <a:custGeom>
            <a:avLst/>
            <a:gdLst>
              <a:gd name="textAreaLeft" fmla="*/ 112320 w 838080"/>
              <a:gd name="textAreaRight" fmla="*/ 725760 w 8380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 #1: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me is a limited resou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se what’s exped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asy, speedy, conven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fer convenience            of remote access to full 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676520"/>
            <a:ext cx="838080" cy="1828800"/>
          </a:xfrm>
          <a:custGeom>
            <a:avLst/>
            <a:gdLst>
              <a:gd name="textAreaLeft" fmla="*/ 112320 w 838080"/>
              <a:gd name="textAreaRight" fmla="*/ 725760 w 8380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91320" y="4800600"/>
            <a:ext cx="132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 #2: Discovery, Access &amp;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web sites &amp; online resources                                         are not easy to discover, access &amp;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take more time &amp; are less convenient than Internet 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students &amp; faculty often use                                         Internet 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2004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676520"/>
            <a:ext cx="990720" cy="2057400"/>
          </a:xfrm>
          <a:custGeom>
            <a:avLst/>
            <a:gdLst>
              <a:gd name="textAreaLeft" fmla="*/ 132480 w 990720"/>
              <a:gd name="textAreaRight" fmla="*/ 858240 w 9907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48520" y="5597640"/>
            <a:ext cx="266688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convenient, speedy, easy                             remote discovery &amp; open access                                    to quality, easy to use resources                              on the surface web is affecting          the timeliness &amp; success                                of research &amp;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638680" y="4253040"/>
            <a:ext cx="32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ed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full text resources on the surfac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, speedy, convenient, remote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,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ccess,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igation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14800" y="3147840"/>
            <a:ext cx="48006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e: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ize &amp; provide open access to a million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on, leadership, &amp; research – Carnegie Mel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quipment &amp; travel – N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$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abor &amp; research – India &amp;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rtners: OCLC &amp; Internet Arch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standards &amp;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ment to sus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77120" y="5111640"/>
            <a:ext cx="24382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de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t, speedy, easy, remote                        discovery, open access, navigation &amp; use                 of quality full text resources on the surfac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in library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in World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Google sear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OAI M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29200" y="3726000"/>
            <a:ext cx="38862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disparity in library size &amp; acces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atize &amp; facilitate new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digital library re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intellectual &amp; cultural heri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4548240"/>
            <a:ext cx="3124080" cy="208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91320" y="4537080"/>
            <a:ext cx="31240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80880"/>
            <a:ext cx="9144000" cy="5486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240" y="378000"/>
            <a:ext cx="65966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understand &amp; sol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chnical, economic, &amp; soci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of providing online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 creative works of the human rac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25640" y="3200400"/>
            <a:ext cx="1641600" cy="304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16520" y="3200400"/>
            <a:ext cx="1749240" cy="304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086600" y="3200400"/>
            <a:ext cx="1627200" cy="3048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08520" y="62485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 Red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5640" y="624852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Sh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06240" y="6248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riana St. Cl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ibrarians select &amp; partners w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Cultural arti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docu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Technical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can acqui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k, cheap, fa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3689280"/>
          <a:ext cx="7315200" cy="29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89280"/>
                    <a:ext cx="7315200" cy="29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483880" y="5813280"/>
            <a:ext cx="27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will be ol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of print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cademic Users W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onal control &amp; ubiquitous access                             to comprehens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90% want convenient, speedy, easy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ing they want mor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1% prefer remote access to ful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unmet need for electronic resources                                                twice as often as for pri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1% don’t want to go                                 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 the physical libr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10280" y="4894200"/>
            <a:ext cx="19051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ians capture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graphic: MARC or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: copyright permission &amp; source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C digital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tent to preserve                                                                                    &amp; make accessible in entir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liance with standards                                                                       &amp;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fessionally manag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ublic use copy availabl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3719520"/>
            <a:ext cx="3581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scan &amp; pos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average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0 books per year per scan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wo shifts per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,000 books per year with 100 sc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100 centers                                                     scanning 500,000                                                      pages pe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419400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&amp; 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ing workflow &amp; processing the back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ng acquisition &amp; ship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ng &amp; mirroring the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ing copyright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print on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the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57800" y="4192560"/>
            <a:ext cx="36576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523800"/>
            <a:ext cx="7124760" cy="581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00800" y="3276720"/>
            <a:ext cx="2438280" cy="316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            book display   &amp;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2520" y="2087640"/>
            <a:ext cx="2964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arch within 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5791320" y="1676520"/>
            <a:ext cx="76176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7880" y="1981080"/>
            <a:ext cx="2189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 &amp;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9320" y="3048120"/>
            <a:ext cx="1127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o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&amp;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960" y="3962520"/>
            <a:ext cx="1000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257800"/>
            <a:ext cx="1509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 to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447920" y="472428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34340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514600"/>
            <a:ext cx="5335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733920"/>
            <a:ext cx="30492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566640"/>
            <a:ext cx="7696080" cy="5899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83880" y="3276720"/>
            <a:ext cx="2451600" cy="239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po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ook disp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&amp;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9320" y="2362320"/>
            <a:ext cx="1127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o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&amp;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960" y="1371600"/>
            <a:ext cx="1000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828800"/>
            <a:ext cx="3808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38080" y="457164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2666880"/>
            <a:ext cx="38088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00" y="3657600"/>
            <a:ext cx="1396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ok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9680" y="3657600"/>
            <a:ext cx="12412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ok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90720" y="342864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057040" y="3962160"/>
            <a:ext cx="685800" cy="75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360" y="5257800"/>
            <a:ext cx="190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arch with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5560" y="4952880"/>
            <a:ext cx="1976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info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905120" y="4800600"/>
            <a:ext cx="38088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61240" y="431640"/>
            <a:ext cx="278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xt &amp; previous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 to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114440" y="2133720"/>
            <a:ext cx="609480" cy="2286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88200" y="304920"/>
            <a:ext cx="3533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 search for other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629400" y="685800"/>
            <a:ext cx="83808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65560" y="914400"/>
            <a:ext cx="13831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ur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5000" y="1981080"/>
            <a:ext cx="732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924320" y="2057040"/>
            <a:ext cx="381240" cy="152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772400" y="160020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3280" y="228600"/>
            <a:ext cx="1692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tle of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2240" y="2438280"/>
            <a:ext cx="2724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tion with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685800"/>
            <a:ext cx="114300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14400"/>
            <a:ext cx="76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867280" y="205704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5120" y="2362320"/>
            <a:ext cx="1707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amp; end of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838080"/>
            <a:ext cx="38124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1447920"/>
            <a:ext cx="9144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: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ulib.org.cn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a: 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www.dli.gov.in/home.htm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: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http://www.ulib.org/html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Q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4"/>
              </a:rPr>
              <a:t>http://www.library.cmu.edu/Libraries/MBP_FAQ.html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 Web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3280" y="5715000"/>
            <a:ext cx="3545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28520" y="3808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1520" y="5943600"/>
            <a:ext cx="84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051520" cy="3367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885400" y="533412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ing center in Beij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cademic Libraries 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1280" y="159984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personal control                                                   &amp; convenient, speedy, easy                                            access 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rovided by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000" indent="-257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4% often can’t get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information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42900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920" y="2743200"/>
            <a:ext cx="3388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0% to 9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udents &amp;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erceive a 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5000" y="5105520"/>
            <a:ext cx="25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Qual+ Surv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 &amp;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ough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nowing what library resources are avail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cessing &amp; using online librar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navigating &amp; searching library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with the design, functionality, &amp; access        restrictions of licensed online library re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proxy servers &amp; VP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6480" y="6095880"/>
            <a:ext cx="6904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failure rate accomplishing tasks on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cademic Users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&amp; faculty trust library more than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% use library less now than two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% library meets most                                                              of their informa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% Internet has changed                                              their use of the libr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73% of students use the Internet                                   more than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672240" y="3200400"/>
            <a:ext cx="223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s &amp; Facu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rnet search engi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 they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sier, faster, &amp; more conven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n using a library or other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% start with Internet search engine  (54% ugr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% start with library web site  (28% ugra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3% do not get most of the information                 they need from their physical or digital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4% access library resources                                     remote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8% ugra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5880" y="5653080"/>
            <a:ext cx="29718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eeking in the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523880"/>
          <a:ext cx="865188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518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751760" y="2057400"/>
            <a:ext cx="3949560" cy="1702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%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eking time sp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physical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Student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8% use online resources                                         all or most of th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use the library fewer than 3 hours per week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 use Internet for every assig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% use library web site for every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fficiency is more important than rele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62720" y="5805360"/>
            <a:ext cx="337176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2T12:46:54Z</dcterms:created>
  <dc:creator>covey</dc:creator>
  <dc:description/>
  <dc:language>en-US</dc:language>
  <cp:lastModifiedBy>covey</cp:lastModifiedBy>
  <dcterms:modified xsi:type="dcterms:W3CDTF">2004-05-22T10:57:53Z</dcterms:modified>
  <cp:revision>104</cp:revision>
  <dc:subject/>
  <dc:title>Slide 1</dc:title>
</cp:coreProperties>
</file>