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gif" ContentType="image/gif"/>
  <Override PartName="/ppt/media/image13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560D-9334-4AC4-AF57-68EB1CA08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infringement - Infringe exclusive rights of creators &amp; take away their control of thei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 corpo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mine the economy - Threaten the livelihood of photographers &amp; illust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 “free culture”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ssue of presum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f ©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copyright owners by providing no way for them to signal that their work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pha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at’s “reasonable”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users by providing only a defense    in li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ot scale to accommodate the needs of libraries, archives, &amp; museu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unauthorized use based on “reasonable efforts” will only encourage laziness &amp; offer an excuse for infri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reciation of ©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o check regist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unlikely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for past or ongoing us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mission often given for fre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prov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able royalty could be less than c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could be defacto / compulsory licen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w cap could constitute immunity for refusing to p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 only what copyright owners can do or recover in cases of infringement, not their exclusive copyrigh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ing the remedies available to copyright owners is consistent with international treaties &amp; gives copyright owners some recourse in cases of infring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cides what users qualify &amp; what remedies should be available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cessarily retains some uncertain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putes &amp; litigation will happe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stablishing objective criteria for reasonableness is impos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es that create de facto compulsory licenses for unauthorized use of orphan works could be compatible with international trea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ding value will be arbit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the ca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rden of proof in liti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termin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J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able / unchangeable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eat to inves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fe harbor period for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owners should pay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incentive for © owners to become loca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 pending on paymen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- Defenses against copyright infri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 owner registration / notification to opt out / t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P = 4% not applicable + 7% not at this time = 11%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P = Still negotiating 39%; Closed negotiations = 55% from publisher + 16% three strikes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University pres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ften © reverts               to 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mments due March 25, received 7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y comments due May 9, received 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ors Orrin Hatch &amp; Patrick Lea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o the Senate Judiciary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3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&amp; the Digital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2720" y="45716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, 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UDL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gzhou, China –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89 percent of librarians agre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© is one of the major challen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o building the digital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s of Public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76320" y="1219320"/>
          <a:ext cx="4861080" cy="54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219320"/>
                    <a:ext cx="486108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4587840" y="1219320"/>
            <a:ext cx="4479840" cy="5456160"/>
            <a:chOff x="4587840" y="1219320"/>
            <a:chExt cx="4479840" cy="5456160"/>
          </a:xfrm>
        </p:grpSpPr>
        <p:graphicFrame>
          <p:nvGraphicFramePr>
            <p:cNvPr id="85" name=""/>
            <p:cNvGraphicFramePr/>
            <p:nvPr/>
          </p:nvGraphicFramePr>
          <p:xfrm>
            <a:off x="4587840" y="1219320"/>
            <a:ext cx="4479840" cy="545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87840" y="1219320"/>
                      <a:ext cx="4479840" cy="545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5681520" y="2819520"/>
              <a:ext cx="16210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9%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with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58040" y="2514600"/>
              <a:ext cx="16210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with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3809880"/>
            <a:ext cx="8610480" cy="2438640"/>
            <a:chOff x="228600" y="3809880"/>
            <a:chExt cx="8610480" cy="2438640"/>
          </a:xfrm>
        </p:grpSpPr>
        <p:sp>
          <p:nvSpPr>
            <p:cNvPr id="90" name=""/>
            <p:cNvSpPr/>
            <p:nvPr/>
          </p:nvSpPr>
          <p:spPr>
            <a:xfrm>
              <a:off x="228600" y="3809880"/>
              <a:ext cx="861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riteria of viable solution drive defini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809880"/>
              <a:ext cx="670572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egorical approach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Default licensing (Creative Commons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Exemption for cultural heritage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&amp;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9600" y="1447920"/>
            <a:ext cx="8467200" cy="2361600"/>
            <a:chOff x="219600" y="1447920"/>
            <a:chExt cx="8467200" cy="2361600"/>
          </a:xfrm>
        </p:grpSpPr>
        <p:sp>
          <p:nvSpPr>
            <p:cNvPr id="94" name=""/>
            <p:cNvSpPr/>
            <p:nvPr/>
          </p:nvSpPr>
          <p:spPr>
            <a:xfrm>
              <a:off x="219600" y="1447920"/>
              <a:ext cx="700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riteria of viable definition drive solu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400" y="1981080"/>
              <a:ext cx="66294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se–by–case approach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ompulsory licens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Reasonable effort accommod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3360" y="39600"/>
          <a:ext cx="902988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39600"/>
                    <a:ext cx="902988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905120" y="2743200"/>
            <a:ext cx="4038480" cy="86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s based on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feasibility stu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5410080"/>
            <a:ext cx="9144000" cy="68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–by–Case Reasonable 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reasonableness vary ba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use?  Amount of work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, publication status, or age of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’s skill &amp; re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of developing sector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 defense of infrin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risk contingent on reme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–censorship &amp; gat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&amp; risk prohibitive for larg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91240" y="5181480"/>
            <a:ext cx="1424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tions &amp; Default Licens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reshold requirements are content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or print status of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deter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–profit use on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disallowing for–profi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egistration to opt out of orphan works reg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den on ©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orm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© owner loses control &amp; adequate compen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ull enjoyment &amp;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use or low–fe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715000"/>
            <a:ext cx="9144000" cy="609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Works &amp;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/ manda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orm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quences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user to check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censing = orp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effort = keep lo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© owner to regi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medies =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urrently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rden on © ow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preservation, access,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Searches &amp;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/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, scope, &amp; ease of use / piggyb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quences of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user to reg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effort approach = helpful in l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© owner to check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users &amp; deny or grant permis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ensatio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rden on user &amp; ©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 for preservation, access,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aiming: How Limit Reme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 remedies for different users &amp; u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–down option for non–profit online acc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njunctions for other users &amp; u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ensating the © ow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ssues with reasonable effort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proves unreasonabl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attorney fees?  No statutory damag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? Reasonable royalty? Who determines fee? H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budget for large projec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ssues with default license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fee could be too low – </a:t>
            </a: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incentive to regis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15200" y="2666880"/>
            <a:ext cx="1581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t be 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orpha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rights &amp;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© owners can free ride on user creation of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t be cheap &amp;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Reasonable eff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most difficult to implement, least likely              to solve the problem, but seems to have the mos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Exemp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easy, will solve some aspects of the problem,                             &amp; seems to have some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fault licen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could solve the entire problem,                                 but seems to have little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962520" y="1523520"/>
            <a:ext cx="4042440" cy="1523880"/>
            <a:chOff x="3962520" y="1523520"/>
            <a:chExt cx="4042440" cy="1523880"/>
          </a:xfrm>
        </p:grpSpPr>
        <p:sp>
          <p:nvSpPr>
            <p:cNvPr id="118" name=""/>
            <p:cNvSpPr/>
            <p:nvPr/>
          </p:nvSpPr>
          <p:spPr>
            <a:xfrm rot="10800000">
              <a:off x="3962520" y="1523520"/>
              <a:ext cx="2057040" cy="15238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2120" y="1927080"/>
              <a:ext cx="229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yrighted 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lling Metap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7960" y="2536920"/>
            <a:ext cx="3074400" cy="537840"/>
            <a:chOff x="4647960" y="2536920"/>
            <a:chExt cx="3074400" cy="537840"/>
          </a:xfrm>
        </p:grpSpPr>
        <p:sp>
          <p:nvSpPr>
            <p:cNvPr id="122" name=""/>
            <p:cNvSpPr/>
            <p:nvPr/>
          </p:nvSpPr>
          <p:spPr>
            <a:xfrm rot="10800000">
              <a:off x="4647960" y="2590560"/>
              <a:ext cx="685800" cy="4842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0160" y="2536920"/>
              <a:ext cx="23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phan works 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41720" y="2994120"/>
            <a:ext cx="3382920" cy="405360"/>
            <a:chOff x="4941720" y="2994120"/>
            <a:chExt cx="3382920" cy="405360"/>
          </a:xfrm>
        </p:grpSpPr>
        <p:sp>
          <p:nvSpPr>
            <p:cNvPr id="125" name=""/>
            <p:cNvSpPr/>
            <p:nvPr/>
          </p:nvSpPr>
          <p:spPr>
            <a:xfrm>
              <a:off x="4941720" y="2994120"/>
              <a:ext cx="98280" cy="282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2760" y="3000600"/>
              <a:ext cx="30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yright owners su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8600" y="1523880"/>
            <a:ext cx="3809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side down pyramid on a fu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4952880"/>
            <a:ext cx="9144000" cy="1676520"/>
            <a:chOff x="0" y="4952880"/>
            <a:chExt cx="9144000" cy="1676520"/>
          </a:xfrm>
        </p:grpSpPr>
        <p:grpSp>
          <p:nvGrpSpPr>
            <p:cNvPr id="129" name=""/>
            <p:cNvGrpSpPr/>
            <p:nvPr/>
          </p:nvGrpSpPr>
          <p:grpSpPr>
            <a:xfrm>
              <a:off x="228600" y="5105520"/>
              <a:ext cx="8686440" cy="1523880"/>
              <a:chOff x="228600" y="5105520"/>
              <a:chExt cx="8686440" cy="152388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00" y="5105520"/>
                <a:ext cx="5808960" cy="10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Don’t embroider the existing situation.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Do something to benefit the citizenry.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1"/>
              <a:stretch/>
            </p:blipFill>
            <p:spPr>
              <a:xfrm rot="5400000">
                <a:off x="6697080" y="4411440"/>
                <a:ext cx="1463760" cy="297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0" y="49528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0" y="2590920"/>
            <a:ext cx="9144000" cy="2171520"/>
            <a:chOff x="0" y="2590920"/>
            <a:chExt cx="9144000" cy="21715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228600" y="2819520"/>
              <a:ext cx="2590920" cy="194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0" y="2590920"/>
              <a:ext cx="9144000" cy="990360"/>
              <a:chOff x="0" y="2590920"/>
              <a:chExt cx="9144000" cy="99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590920"/>
                <a:ext cx="304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8120" y="25909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48120" y="358128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893680" y="3778200"/>
              <a:ext cx="575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f many chickens come home to roost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solution was poorly designed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ying copyright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ing in a permission cul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opyright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ing orphan 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 copyright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ining Google Print for Libra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ing Copyrigh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ogle Print Library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ize &amp; provide Google access to public domain          &amp; copyrighted books in participating libr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full text of public domain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snippets of copyrighte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Google create &amp; operate a libra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Google breaking copyright la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Google harm librar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oogle Is Is Not a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lection criteria for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bligation to scan designated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ndards &amp; priva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– no commitment to standards, interoperability, stewardship or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trictions on use &amp; mone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aving or printing of any book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gation to generate revenue for stock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ight to copy, license, &amp; sell digitized b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vacy &amp; confidenti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fessional ethic to protec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24382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167640" y="4908600"/>
            <a:ext cx="278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© 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unique 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ipating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Google Breaking © La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for–profit digitize &amp; provide access to books without permission?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displaying snippets fair us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benefits out weigh the harms? 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ll Google own the © to the digitized boo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3429000"/>
            <a:ext cx="9601200" cy="3733920"/>
            <a:chOff x="228600" y="3429000"/>
            <a:chExt cx="9601200" cy="3733920"/>
          </a:xfrm>
        </p:grpSpPr>
        <p:graphicFrame>
          <p:nvGraphicFramePr>
            <p:cNvPr id="149" name=""/>
            <p:cNvGraphicFramePr/>
            <p:nvPr/>
          </p:nvGraphicFramePr>
          <p:xfrm>
            <a:off x="228600" y="3429000"/>
            <a:ext cx="5772240" cy="362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429000"/>
                      <a:ext cx="5772240" cy="362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578560" y="3505320"/>
            <a:ext cx="4251240" cy="365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78560" y="3505320"/>
                      <a:ext cx="425124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72320" y="6384960"/>
              <a:ext cx="256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23 lower bound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1160" y="6384960"/>
              <a:ext cx="26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63 upper bound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Google Help or Harm Librar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Google Library Project trigger investigation?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use &amp; current exemptions for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s &amp; benefits of onlin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© ownership &amp; status of digitize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results be similar to study of first sale doctrine?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actice appropriate in the analog world                             is not appropriate in the digit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ocial benefits prevail over owners’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ill requiring owners to opt out (register)                               be acceptable for Google Print &amp;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orphan work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on culture makes it impossible to create         a  universal digital library of book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ld circumvent law &amp; achieve important goals                                   by computer generating synthetic works &amp; trans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uld that preserve cultural &amp; intellectual herit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phan works solution could impact digital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adopt reasonable effort &amp; maybe library ex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ocate default lic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Print could drive important cultur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will be trap for unwary us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eying Copyrigh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does it take to acquire permission                                    to digitize &amp; provide open access to boo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8195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easibility stu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andom s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99–20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possible?  What are the problem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sner 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e &amp; rare boo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2–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method to increase success &amp; lower 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llion book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3–200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strategy to acquire permission                               for more books per transaction doll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1066680"/>
          <a:ext cx="90424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0424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Per Publi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23560" y="6026040"/>
            <a:ext cx="195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09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77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99720" y="6019920"/>
            <a:ext cx="195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04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84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76240" y="6019920"/>
            <a:ext cx="195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364 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cited in B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3120" y="601992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920" y="1066680"/>
          <a:ext cx="907740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" y="1066680"/>
                    <a:ext cx="9077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d Negot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4320" y="5181480"/>
          <a:ext cx="8775360" cy="1368720"/>
        </p:xfrm>
        <a:graphic>
          <a:graphicData uri="http://schemas.openxmlformats.org/drawingml/2006/table">
            <a:tbl>
              <a:tblPr/>
              <a:tblGrid>
                <a:gridCol w="2255760"/>
                <a:gridCol w="2255760"/>
                <a:gridCol w="2173320"/>
                <a:gridCol w="20905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publis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publis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4 publis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tit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tit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,000 tit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per 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$0.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3200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   Per Publish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124080" y="246240"/>
          <a:ext cx="5943600" cy="227772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447920"/>
                <a:gridCol w="16761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l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ly &gt; 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lightly &gt; 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124080" y="2743200"/>
          <a:ext cx="5943600" cy="197640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447920"/>
                <a:gridCol w="1676160"/>
              </a:tblGrid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l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% as 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ame % as 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7ff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124080" y="4886280"/>
          <a:ext cx="5943600" cy="166680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447920"/>
                <a:gridCol w="1676160"/>
              </a:tblGrid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l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fcd2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397800" y="544212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uccess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306880" y="316512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POS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2548440" y="50497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M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2010240" y="130500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lion Book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480" y="1143000"/>
          <a:ext cx="9113760" cy="56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143000"/>
                    <a:ext cx="911376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Copyrigh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Copyright Office studying orphan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tative definition: copyright owner can’t be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law impose “inappropriate burdens” on us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orphan works “being needlessly removed                  from access &amp; their dissemination inhibited”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something be done to address the problem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4800600"/>
            <a:ext cx="85345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ice of Inquiry posted to the Federal Register January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itial comments due March 25 – Reply comments due May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blic hearings July –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ort due by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 &amp; Public H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1 initial comments &amp; 146 reply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 warrants a legislative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h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hington DC (38) &amp; Berkeley, CA (2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ics of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orphan works &amp; use of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an orphan works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iming orpha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8:46:08Z</dcterms:created>
  <dc:creator>covey</dc:creator>
  <dc:description/>
  <dc:language>en-US</dc:language>
  <cp:lastModifiedBy>covey</cp:lastModifiedBy>
  <dcterms:modified xsi:type="dcterms:W3CDTF">2005-10-11T17:19:22Z</dcterms:modified>
  <cp:revision>119</cp:revision>
  <dc:subject/>
  <dc:title>Copyright &amp; the Digital Library</dc:title>
</cp:coreProperties>
</file>