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gif" ContentType="image/gif"/>
  <Override PartName="/ppt/media/image13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2BF8-F056-47A9-AF52-15D77D27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ssue of presum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f ©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copyright owners by providing no way for them to signal that their work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pha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at’s “reasonable”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users by providing only a defense    in l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ot scale to accommodate the needs of libraries, archives, &amp; museu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unauthorized use based on “reasonable efforts” will only encourage laziness &amp; offer an excuse for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 check regist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unlikely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for past or ongoing us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prov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able royalty could be less than c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could be defacto / compulsory licen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w cap could constitute immunity for refusing to p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owners should pa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incentive for © owners to become loca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 pending on paymen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- Defenses against copyright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owner registration / notification to opt out / t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P = 4% not applicable + 7% not at this time = 11%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P = Still negotiating 39%; Closed negotiations = 55% from publisher + 16% three strikes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niversity pre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ften © reverts               to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due March 25, received 7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y comments due May 9, received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ors Orrin Hatch &amp; Patrick Le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the Senate Judiciary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3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&amp; the Digita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45716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UDL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gzhou, China –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89 percent of librarians agre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© is one of the major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o building the digital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of Public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76320" y="1219320"/>
          <a:ext cx="4861080" cy="54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219320"/>
                    <a:ext cx="486108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4587840" y="1219320"/>
            <a:ext cx="4479840" cy="5456160"/>
            <a:chOff x="4587840" y="1219320"/>
            <a:chExt cx="4479840" cy="5456160"/>
          </a:xfrm>
        </p:grpSpPr>
        <p:graphicFrame>
          <p:nvGraphicFramePr>
            <p:cNvPr id="85" name=""/>
            <p:cNvGraphicFramePr/>
            <p:nvPr/>
          </p:nvGraphicFramePr>
          <p:xfrm>
            <a:off x="4587840" y="1219320"/>
            <a:ext cx="4479840" cy="545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87840" y="1219320"/>
                      <a:ext cx="4479840" cy="54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5681520" y="2819520"/>
              <a:ext cx="16210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9%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ith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8040" y="2514600"/>
              <a:ext cx="16210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ith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3809880"/>
            <a:ext cx="8610480" cy="2438640"/>
            <a:chOff x="228600" y="3809880"/>
            <a:chExt cx="8610480" cy="2438640"/>
          </a:xfrm>
        </p:grpSpPr>
        <p:sp>
          <p:nvSpPr>
            <p:cNvPr id="90" name=""/>
            <p:cNvSpPr/>
            <p:nvPr/>
          </p:nvSpPr>
          <p:spPr>
            <a:xfrm>
              <a:off x="228600" y="3809880"/>
              <a:ext cx="861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solution drive defini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809880"/>
              <a:ext cx="670572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 approach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Default licensing (Creative Common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Exemption for cultural heritag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&amp;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9600" y="1447920"/>
            <a:ext cx="8467200" cy="2361600"/>
            <a:chOff x="219600" y="1447920"/>
            <a:chExt cx="8467200" cy="2361600"/>
          </a:xfrm>
        </p:grpSpPr>
        <p:sp>
          <p:nvSpPr>
            <p:cNvPr id="94" name=""/>
            <p:cNvSpPr/>
            <p:nvPr/>
          </p:nvSpPr>
          <p:spPr>
            <a:xfrm>
              <a:off x="219600" y="1447920"/>
              <a:ext cx="700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definition drive 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400" y="1981080"/>
              <a:ext cx="66294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 approach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lsory licens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Reasonable effort accommod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3360" y="39600"/>
          <a:ext cx="902988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39600"/>
                    <a:ext cx="902988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905120" y="2743200"/>
            <a:ext cx="4038480" cy="86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based on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easibility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410080"/>
            <a:ext cx="914400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–by–Case Reasonable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easonableness vary ba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use?  Amount of work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, publication status, or ag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’s skill &amp;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of developing secto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defense of infrin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isk contingent on reme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–censorship &amp; gat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&amp; risk prohibitive for larg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91240" y="51814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tions &amp; Default Licen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shold requirements are content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r print status of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disallowing for–prof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gistration to opt out of orphan works reg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 on ©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© owner loses control &amp; adequate comp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ull enjoyment &amp;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use or low–fe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715000"/>
            <a:ext cx="9144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Works &amp;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= orp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= keep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regi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medies =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urrently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© ow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Searches &amp;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scope, &amp; ease of use / piggyb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approach = helpful in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sers &amp; deny or grant per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ens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user &amp; ©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for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aiming: How Limit Reme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remedies for different users &amp; 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–down option for non–profit online acc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junctions for other users &amp; u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nsating the © 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reasonable effor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proves unreasonabl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ttorney fees?  No statutory damag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? Reasonable royalty? Who determines fee? H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budget for large projec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default licens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fee could be too low –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incentive to regis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581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 be 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ights &amp;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owners can free ride on user creation of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 be cheap &amp;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Reasonable eff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most difficult to implement, least likely              to solve the problem, but seems to have the mos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xem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easy, will solve some aspects of the problem,                             &amp; seems to have some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fault licen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could solve the entire problem,                                 but seems to have little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962520" y="1523520"/>
            <a:ext cx="4042440" cy="1523880"/>
            <a:chOff x="3962520" y="1523520"/>
            <a:chExt cx="4042440" cy="1523880"/>
          </a:xfrm>
        </p:grpSpPr>
        <p:sp>
          <p:nvSpPr>
            <p:cNvPr id="118" name=""/>
            <p:cNvSpPr/>
            <p:nvPr/>
          </p:nvSpPr>
          <p:spPr>
            <a:xfrm rot="10800000">
              <a:off x="3962520" y="1523520"/>
              <a:ext cx="2057040" cy="15238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2120" y="192708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ed 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lling 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7960" y="2536920"/>
            <a:ext cx="3074400" cy="537840"/>
            <a:chOff x="4647960" y="2536920"/>
            <a:chExt cx="3074400" cy="537840"/>
          </a:xfrm>
        </p:grpSpPr>
        <p:sp>
          <p:nvSpPr>
            <p:cNvPr id="122" name=""/>
            <p:cNvSpPr/>
            <p:nvPr/>
          </p:nvSpPr>
          <p:spPr>
            <a:xfrm rot="10800000">
              <a:off x="4647960" y="2590560"/>
              <a:ext cx="685800" cy="4842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0160" y="2536920"/>
              <a:ext cx="23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phan works 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41720" y="2994120"/>
            <a:ext cx="3382920" cy="405360"/>
            <a:chOff x="4941720" y="2994120"/>
            <a:chExt cx="3382920" cy="405360"/>
          </a:xfrm>
        </p:grpSpPr>
        <p:sp>
          <p:nvSpPr>
            <p:cNvPr id="125" name=""/>
            <p:cNvSpPr/>
            <p:nvPr/>
          </p:nvSpPr>
          <p:spPr>
            <a:xfrm>
              <a:off x="4941720" y="2994120"/>
              <a:ext cx="98280" cy="28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2760" y="3000600"/>
              <a:ext cx="30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 owners su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8600" y="15238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side down pyramid on a fu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4952880"/>
            <a:ext cx="9144000" cy="1676520"/>
            <a:chOff x="0" y="4952880"/>
            <a:chExt cx="9144000" cy="1676520"/>
          </a:xfrm>
        </p:grpSpPr>
        <p:grpSp>
          <p:nvGrpSpPr>
            <p:cNvPr id="129" name=""/>
            <p:cNvGrpSpPr/>
            <p:nvPr/>
          </p:nvGrpSpPr>
          <p:grpSpPr>
            <a:xfrm>
              <a:off x="228600" y="5105520"/>
              <a:ext cx="8686440" cy="1523880"/>
              <a:chOff x="228600" y="5105520"/>
              <a:chExt cx="8686440" cy="152388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00" y="5105520"/>
                <a:ext cx="5808960" cy="10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Don’t embroider the existing situation.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Do something to benefit the citizenry.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6697080" y="4411440"/>
                <a:ext cx="1463760" cy="29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0" y="2590920"/>
            <a:ext cx="9144000" cy="2171520"/>
            <a:chOff x="0" y="2590920"/>
            <a:chExt cx="9144000" cy="21715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28600" y="2819520"/>
              <a:ext cx="259092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0" y="2590920"/>
              <a:ext cx="9144000" cy="990360"/>
              <a:chOff x="0" y="2590920"/>
              <a:chExt cx="9144000" cy="9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59092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8120" y="25909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8120" y="358128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893680" y="3778200"/>
              <a:ext cx="575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f many chickens come home to roost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solution was poorly designed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y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ng in a permission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ing orpha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ing Google Print for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gle Print Librar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ize &amp; provide Google access to public domain          &amp; copyrighted books in participating libr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ull text of public domain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snippets of copyrigh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Google create &amp; operate a libr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Google breaking copyright la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Google harm libra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oogle Is Is Not a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ion criteria fo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bligation to scan designa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ndards &amp; priva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– no commitment to standards, interoperability, stewardship or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trictions on use &amp; mone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aving or printing of any book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ion to generate revenue for stock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ght to copy, license, &amp; sell digitized 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vacy &amp; confidenti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fessional ethic to protec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24382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67640" y="4908600"/>
            <a:ext cx="27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unique 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ipating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Google Breaking © L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or–profit digitize &amp; provide access to books without permission?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displaying snippets fair u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benefits out weigh the harms? 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l Google own the © to the digitized boo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429000"/>
            <a:ext cx="9601200" cy="3733920"/>
            <a:chOff x="228600" y="3429000"/>
            <a:chExt cx="9601200" cy="3733920"/>
          </a:xfrm>
        </p:grpSpPr>
        <p:graphicFrame>
          <p:nvGraphicFramePr>
            <p:cNvPr id="149" name=""/>
            <p:cNvGraphicFramePr/>
            <p:nvPr/>
          </p:nvGraphicFramePr>
          <p:xfrm>
            <a:off x="228600" y="3429000"/>
            <a:ext cx="5772240" cy="362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5772240" cy="36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578560" y="3505320"/>
            <a:ext cx="4251240" cy="365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8560" y="3505320"/>
                      <a:ext cx="42512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72320" y="6384960"/>
              <a:ext cx="256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23 lower bound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1160" y="6384960"/>
              <a:ext cx="26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63 upper bound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Google Help or Harm Libra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oogle Library Project trigger investigation?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 &amp; current exemptions for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&amp; benefits of onlin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ownership &amp; status of digitiz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results be similar to study of first sale doctrine?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actice appropriate in the analog world                             is not appropriate in the digit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ocial benefits prevail over owners’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ill requiring owners to opt out (register)                               be acceptable for Google Print &amp;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orphan work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culture makes it impossible to create         a  universal digital library of book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ld circumvent law &amp; achieve important goals                                   by computer generating synthetic works &amp; trans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that preserve cultural &amp; intellectual heri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works solution could impact digita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adopt reasonable effort &amp; maybe library ex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ocate default lic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Print could drive important cultur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ill be trap for unwary us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ey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es it take to acquire permission                                    to digitize &amp; provide open access to boo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8195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easibility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andom 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9–20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possible?  What are the problem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sner 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e &amp; rare boo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2–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ethod to increase success &amp; lower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lion book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3–200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trategy to acquire permission                               for more books per transaction dol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1066680"/>
          <a:ext cx="90424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42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Per Publ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23560" y="602604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09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77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99720" y="601992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4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84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76240" y="601992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64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cited in B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3120" y="60199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920" y="1066680"/>
          <a:ext cx="907740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1066680"/>
                    <a:ext cx="907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d Negot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4320" y="5181480"/>
          <a:ext cx="8775360" cy="1368720"/>
        </p:xfrm>
        <a:graphic>
          <a:graphicData uri="http://schemas.openxmlformats.org/drawingml/2006/table">
            <a:tbl>
              <a:tblPr/>
              <a:tblGrid>
                <a:gridCol w="2255760"/>
                <a:gridCol w="2255760"/>
                <a:gridCol w="2173320"/>
                <a:gridCol w="20905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4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,000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3200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   Per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24080" y="246240"/>
          <a:ext cx="5943600" cy="2277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ly &gt;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lightly &gt;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124080" y="2743200"/>
          <a:ext cx="5943600" cy="197640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% as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ame % as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124080" y="4886280"/>
          <a:ext cx="5943600" cy="166680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97800" y="544212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ucces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306880" y="31651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POS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2548440" y="50497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2010240" y="130500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on Book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480" y="1143000"/>
          <a:ext cx="911376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143000"/>
                    <a:ext cx="911376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opyright Office studying orphan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ative definition: copyright owner can’t be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law impose “inappropriate burdens” on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orphan works “being needlessly removed                  from access &amp; their dissemination inhibited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something be done to address the problem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800600"/>
            <a:ext cx="8534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ice of Inquiry posted to the Federal Register January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itial comments due March 25 – Reply comments due Ma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hearings July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 due by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&amp; Public H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1 initial comments &amp; 146 repl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 warrants a legislativ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hington DC (38) &amp; Berkeley, CA (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orphan works &amp; use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an orphan works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ing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46:08Z</dcterms:created>
  <dc:creator>covey</dc:creator>
  <dc:description/>
  <dc:language>en-US</dc:language>
  <cp:lastModifiedBy>covey</cp:lastModifiedBy>
  <dcterms:modified xsi:type="dcterms:W3CDTF">2005-10-11T17:19:22Z</dcterms:modified>
  <cp:revision>119</cp:revision>
  <dc:subject/>
  <dc:title>Copyright &amp; the Digital Library</dc:title>
</cp:coreProperties>
</file>