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wmf" ContentType="image/x-wmf"/>
  <Override PartName="/ppt/media/image5.jpeg" ContentType="image/jpeg"/>
  <Override PartName="/ppt/media/image20.wmf" ContentType="image/x-wmf"/>
  <Override PartName="/ppt/media/image3.jpeg" ContentType="image/jpeg"/>
  <Override PartName="/ppt/media/image23.jpeg" ContentType="image/jpeg"/>
  <Override PartName="/ppt/media/image22.gif" ContentType="image/gif"/>
  <Override PartName="/ppt/media/image21.jpeg" ContentType="image/jpeg"/>
  <Override PartName="/ppt/media/image16.png" ContentType="image/png"/>
  <Override PartName="/ppt/media/image15.wmf" ContentType="image/x-wmf"/>
  <Override PartName="/ppt/media/image19.wmf" ContentType="image/x-wmf"/>
  <Override PartName="/ppt/media/image14.jpeg" ContentType="image/jpeg"/>
  <Override PartName="/ppt/media/image17.png" ContentType="image/png"/>
  <Override PartName="/ppt/media/image1.gif" ContentType="image/gif"/>
  <Override PartName="/ppt/media/image4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8488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9ACA-DEE7-4943-9C37-3C6EECC86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likely not to locate the publisher                                    or get a response with out-of-print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row of percentages = percentage of previous row, e.g., 88% of the 9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ission gran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NOT in parentheses is percentage of responses that granted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parentheses is percentage of copyright protected items in the sample for which permission was gra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ublisher type (respon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% scholarly associ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7% university pr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% museums, art gall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% commercial publis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rint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ose responding, equally like to get permission to digitize in-print or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e likely not to locate the publisher or get a response with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got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% granted permission, 24% with restr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% denied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or time restr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letters sent to referrals (authors, estates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% copyright holder not located or no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% access restriction (14 books, 11 publis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% time duration restriction (9 books, 1 publis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s not gra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ublishers wanted to be paid a permission f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9 copyrighted titles / 1106 = 27% of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3/299 = 18% foreign tit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1 permission granted / 299 = 71% titles permission gra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7 / 114 copyright holders = 33% granted per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ss per print status – random s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ose responding, equally like to get permission to digitize in-print or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e likely not to locate the publisher or get a response with out-of-print boo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stration is not required (since 1976), but encoura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quired in law suits over infring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 are subject to mandatory deposit with the 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1710 British Statute of 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protection for consumers  of copyrighted works to prevent monopoly by booksel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d that authors should be primary beneficia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should have limited duration, after which works pass into the public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duration set at 2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8%) publishers are fo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 use of older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 letters to correct addr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cademy Press – Rand McNally, Inc. – Brookings Institution P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stration is not required (since 1976), but encoura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quired in law suits over infring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 are subject to mandatory deposit with the 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1710 British Statute of A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protection for consumers  of copyrighted works to prevent monopoly by booksel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d that authors should be primary beneficia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should have limited duration, after which works pass into the public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duration set at 2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3 = 20% per month x 15 months = 6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,400 per year salary &amp;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4 letters = 68.00 postage (U.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5 paper/pr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 – 99%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okings – 70%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 McNally – 96%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cademy Press – 3,046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okings Institution – 39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 McNally – 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vard University P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n State University P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rights not required because electronic book is 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 540 &amp; 856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blin Core RIGHTS and [FIX]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pyrights are abandoned within 28 years</a:t>
            </a:r>
            <a:r>
              <a:rPr b="0" lang="en-US" sz="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books abandoned since publication in 1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% of books published prior to 1940                                     still have commerci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ger, Barbara A.  “Study No. 31: Renewal of Copyright.” In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Studies on Copyright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hur Fisher Memorial ed., June 1960: 513-514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uinan, James J. Jr.  “Duration of Copyright.”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Copyright Law Revis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  Study prepared for the Subcommittee on Patents, Trademarks, and Copyrights of the Committee of the Judiciary, U.S. Senate, 86</a:t>
            </a: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Congress, 8, 196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research cited on pages 9-11 of the Brief of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ci Curia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Internet Archive, Prelinger Archives, and Project Gutenberg Literary Archive Foundation, No. 01-618 in the Supreme Court case Eric Eldred v. John D. Ashcroft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2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55880" cy="34927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&amp; impact on users –what they did with the books &amp; why, what difference the books made, assessment of the quality of the Collection &amp; the delivery system, and their estimation of the significance of the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420800"/>
            <a:ext cx="5029200" cy="419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 environment might reduce transaction costs but will not affect cost of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owners don’t know what to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ff Lynch referenc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ullet – “The Battle to Define the Future of the Book in the Digital World” -- FirstMon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 FOR RESERVES -- Wayne State Univers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d Burningham, “Copyright Permissions: A Pilot Project to Determine Costs, Procedures, &amp; Staffing Requirements,”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Journal of Interlibrary Loan, Document Delivery &amp; Information Supp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11 (2), 2000.  Pay staff $10 per hour (library assistant FTE @1750 hours) &amp; students $7.00 per hour(1000 ho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S -- Duke University – ads published 1910-19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tcher, Lynn, “Ad*Access: Seeking Copyright Permissions for a Digital Age,”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-LIB Magaz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6 (2), February 2000.  &lt; http://www.dlib.org/dlib/february00/pritcher/02pritcher.html 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S -- Carnegie Mell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ssion equally likely with in-print or out-of-print books, but more likely not to find publisher or get response with out-of-print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opyright permissions projects will track cost of seeking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422240"/>
            <a:ext cx="5029200" cy="41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ttle to Define the Future of the Book in the Digital World,”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Monda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6 (6), June 200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2206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4220640"/>
            <a:ext cx="2698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422064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20640"/>
            <a:ext cx="8382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ing Copyright Permis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Open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 Dean, Carnegie Mellon University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lition for Networked Information (C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, Oregon – Decembe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ally Valid Random S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n’t locate 12% of the publis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located publisher, 49% didn’t respo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o second letter of inqui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ot response, 43% gave per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ot permission, often restrictions a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2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verall success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752480"/>
          <a:ext cx="5587920" cy="3760920"/>
        </p:xfrm>
        <a:graphic>
          <a:graphicData uri="http://schemas.openxmlformats.org/drawingml/2006/table">
            <a:tbl>
              <a:tblPr/>
              <a:tblGrid>
                <a:gridCol w="3848040"/>
                <a:gridCol w="1739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i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Copyright prot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Publishers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Publishers respo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success rat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07520" y="5562720"/>
            <a:ext cx="9169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7000" y="5486400"/>
            <a:ext cx="1269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e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9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297180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350532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4038480"/>
            <a:ext cx="485640" cy="685800"/>
          </a:xfrm>
          <a:prstGeom prst="upArrow">
            <a:avLst>
              <a:gd name="adj1" fmla="val 49676"/>
              <a:gd name="adj2" fmla="val 5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971800"/>
            <a:ext cx="485640" cy="2347920"/>
          </a:xfrm>
          <a:prstGeom prst="upArrow">
            <a:avLst>
              <a:gd name="adj1" fmla="val 50000"/>
              <a:gd name="adj2" fmla="val 1208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324480" y="1752480"/>
          <a:ext cx="1710000" cy="3748320"/>
        </p:xfrm>
        <a:graphic>
          <a:graphicData uri="http://schemas.openxmlformats.org/drawingml/2006/table">
            <a:tbl>
              <a:tblPr/>
              <a:tblGrid>
                <a:gridCol w="1710000"/>
              </a:tblGrid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57200" y="1600200"/>
          <a:ext cx="3657600" cy="4843440"/>
        </p:xfrm>
        <a:graphic>
          <a:graphicData uri="http://schemas.openxmlformats.org/drawingml/2006/table">
            <a:tbl>
              <a:tblPr/>
              <a:tblGrid>
                <a:gridCol w="2133720"/>
                <a:gridCol w="15238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ccess 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rly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pr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eums   &amp; gall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al publis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Publishe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040280" y="2120760"/>
          <a:ext cx="5176800" cy="44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0280" y="2120760"/>
                    <a:ext cx="5176800" cy="44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400480" y="594360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00480" y="396252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00480" y="4952880"/>
            <a:ext cx="2286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00480" y="304812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1440" y="1676520"/>
            <a:ext cx="116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e &amp; Rare Books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ner Memorial Col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Zeutschel5" descr=""/>
          <p:cNvPicPr/>
          <p:nvPr/>
        </p:nvPicPr>
        <p:blipFill>
          <a:blip r:embed="rId1"/>
          <a:stretch/>
        </p:blipFill>
        <p:spPr>
          <a:xfrm>
            <a:off x="2038320" y="2971800"/>
            <a:ext cx="50673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or for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%   Consult copyright renewal records,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dentify &amp; locate copyright ho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%   Update database &amp; prepare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   Prepare letters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file correspondence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  Follow-up calls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GrayElegy" descr=""/>
          <p:cNvPicPr/>
          <p:nvPr/>
        </p:nvPicPr>
        <p:blipFill>
          <a:blip r:embed="rId1"/>
          <a:stretch/>
        </p:blipFill>
        <p:spPr>
          <a:xfrm>
            <a:off x="6964200" y="3809880"/>
            <a:ext cx="20178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Copyright Ho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n’t locate 31% of the copyright 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located copyright holder, 35% didn’t resp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ot response, 73% gave per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got permission,                                                           24% applied restr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3% overall success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osner_175px" descr=""/>
          <p:cNvPicPr/>
          <p:nvPr/>
        </p:nvPicPr>
        <p:blipFill>
          <a:blip r:embed="rId1"/>
          <a:stretch/>
        </p:blipFill>
        <p:spPr>
          <a:xfrm>
            <a:off x="6858000" y="45720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by Title / Vol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1% permission gr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% restricted Carnegie Mellon only (11 publis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% restricted limited time (1 publis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% permission den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d if 3 contacts got no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 not yet located or respo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ubyiat" descr=""/>
          <p:cNvPicPr/>
          <p:nvPr/>
        </p:nvPicPr>
        <p:blipFill>
          <a:blip r:embed="rId1"/>
          <a:stretch/>
        </p:blipFill>
        <p:spPr>
          <a:xfrm>
            <a:off x="6888240" y="3962520"/>
            <a:ext cx="2055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Analy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6% success rate U.S. 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5% success rate foreign tit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requests from copyright 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copyright no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ies of digitized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to Posner site or Posner site link to their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estate wants new author introduction ad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ion 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320" y="1828800"/>
          <a:ext cx="5715000" cy="4111560"/>
        </p:xfrm>
        <a:graphic>
          <a:graphicData uri="http://schemas.openxmlformats.org/drawingml/2006/table">
            <a:tbl>
              <a:tblPr/>
              <a:tblGrid>
                <a:gridCol w="3657600"/>
                <a:gridCol w="2057400"/>
              </a:tblGrid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dom Sampl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i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Copyright prote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Publishers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Publishers respo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 success rat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3809880" y="3048120"/>
            <a:ext cx="1828800" cy="2347920"/>
            <a:chOff x="3809880" y="3048120"/>
            <a:chExt cx="1828800" cy="2347920"/>
          </a:xfrm>
        </p:grpSpPr>
        <p:sp>
          <p:nvSpPr>
            <p:cNvPr id="109" name=""/>
            <p:cNvSpPr/>
            <p:nvPr/>
          </p:nvSpPr>
          <p:spPr>
            <a:xfrm>
              <a:off x="3809880" y="3048120"/>
              <a:ext cx="485640" cy="685800"/>
            </a:xfrm>
            <a:prstGeom prst="upArrow">
              <a:avLst>
                <a:gd name="adj1" fmla="val 49676"/>
                <a:gd name="adj2" fmla="val 5589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9880" y="3581280"/>
              <a:ext cx="485640" cy="685800"/>
            </a:xfrm>
            <a:prstGeom prst="upArrow">
              <a:avLst>
                <a:gd name="adj1" fmla="val 49676"/>
                <a:gd name="adj2" fmla="val 5589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9880" y="4114800"/>
              <a:ext cx="485640" cy="685800"/>
            </a:xfrm>
            <a:prstGeom prst="upArrow">
              <a:avLst>
                <a:gd name="adj1" fmla="val 49676"/>
                <a:gd name="adj2" fmla="val 5589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53040" y="3505320"/>
              <a:ext cx="485640" cy="1890720"/>
            </a:xfrm>
            <a:prstGeom prst="upArrow">
              <a:avLst>
                <a:gd name="adj1" fmla="val 50000"/>
                <a:gd name="adj2" fmla="val 9733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6019920" y="1828800"/>
          <a:ext cx="3047760" cy="4145040"/>
        </p:xfrm>
        <a:graphic>
          <a:graphicData uri="http://schemas.openxmlformats.org/drawingml/2006/table">
            <a:tbl>
              <a:tblPr/>
              <a:tblGrid>
                <a:gridCol w="1447560"/>
                <a:gridCol w="1600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ner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sh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%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57200" y="6019920"/>
            <a:ext cx="8440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sner: 167 letters &amp; 159 follow-up calls 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ed Archival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te granted copyright permission                           for correspondence written by Henry Posner S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counsel argued fair use                                    for correspondence from book dealers              &amp; ephemeral material associated                                          with the book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suing permission                                                  for newsle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HenryPosner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23623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mote the progress of science &amp; useful arts by securing for limited times to authors   &amp; inventors the exclusive rights to their respective writings &amp; discoveries…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 Constitution 17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904760" cy="1722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2286000"/>
            <a:ext cx="3352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2971800"/>
            <a:ext cx="33530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31156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0,8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TE 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3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 c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11,2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685800" y="39625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8920" y="4952880"/>
            <a:ext cx="4841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3 – Octobe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960" y="1600200"/>
            <a:ext cx="38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54 per book/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earlyRetrievalSys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836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 5 Problems Seeking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ing &amp; locating copyright 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timely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s who can’t find con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their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what they publish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.S. &amp; foreign copyright 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 5 Publisher Concer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r of open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distribution by someon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 will lose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contracts don’t include electronic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own plans to digitize their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lion Book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99920" y="20574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2 –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ScannerManyBooks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4864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ucate Publis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want to find information online,                             but use it in 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access increases use,                                        even use of older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access does not decrease                                         &amp; can increase 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no revenue from out-of-print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ToeHold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 &amp; Incen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for non-exclusive permission                                       to digitize &amp; provide open a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netLibrary: Print &amp; Save one page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preservation-quality images,                 associated metadata, &amp; O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e in added-value, fee-based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nt on demand for out-of-print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$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y button for in-print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Collection of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981080"/>
          <a:ext cx="822960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22960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38840" y="1600200"/>
            <a:ext cx="2734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Copyr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2240" y="1676520"/>
            <a:ext cx="3278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digenous Indi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&amp; Chines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49520" y="548640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ublic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4160" y="2190600"/>
            <a:ext cx="13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94360" y="266688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0240" y="59436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97720" y="3124080"/>
            <a:ext cx="192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ing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multi-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6440" y="5240160"/>
            <a:ext cx="2309760" cy="14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NS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4000" y="2666880"/>
            <a:ext cx="23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k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lege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other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bliograp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Copyright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out-of-print, in-copyrigh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50,000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scholarly associations &amp; university p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cos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 ti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prohibi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ing &amp; inserting titles in l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ng permission per 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database to track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37320" y="4419720"/>
            <a:ext cx="1454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phany &amp; Ne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ublis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quality boo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ks for College Libra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5600 publis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for permission to digit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 out-of-print, in-copyright tit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prior to a date of their choo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itles published  #  or more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titles they pro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pt follow-up phone call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 database created &amp; data mi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labor June 2002 – August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n’t locate 30 publish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7 letters &amp; 57 follow-up calls o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% permission granted – 4,400 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% permission den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-time staff November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ration of 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90 – 28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70 – 42 years (28 + 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09 – 56 years (28 + 2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6 – 75 years (28 + 47) or author + 5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2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renewal copyrights 1964-19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9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 95 years or author + 7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0" y="1523880"/>
            <a:ext cx="15145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stimat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ansacti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2311560"/>
          <a:ext cx="6095880" cy="2565360"/>
        </p:xfrm>
        <a:graphic>
          <a:graphicData uri="http://schemas.openxmlformats.org/drawingml/2006/table">
            <a:tbl>
              <a:tblPr/>
              <a:tblGrid>
                <a:gridCol w="1447920"/>
                <a:gridCol w="4647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6,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llow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per &amp; pos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6,5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85800" y="39625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8920" y="4952880"/>
            <a:ext cx="4841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2 – August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include legal f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 time, or cost of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r database cre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9600" y="160020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1.48  per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UL_FullText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1720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of Ne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re more books for $$ sp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% – 99% more titles from publishers                      of books c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ks for College Libra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cost of database creation &amp;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72200" y="4451400"/>
          <a:ext cx="2819520" cy="22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4451400"/>
                    <a:ext cx="2819520" cy="22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ng for the Buc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92200" y="4952880"/>
            <a:ext cx="3574080" cy="1739880"/>
            <a:chOff x="592200" y="4952880"/>
            <a:chExt cx="3574080" cy="1739880"/>
          </a:xfrm>
        </p:grpSpPr>
        <p:grpSp>
          <p:nvGrpSpPr>
            <p:cNvPr id="167" name=""/>
            <p:cNvGrpSpPr/>
            <p:nvPr/>
          </p:nvGrpSpPr>
          <p:grpSpPr>
            <a:xfrm>
              <a:off x="592200" y="6172200"/>
              <a:ext cx="3574080" cy="520560"/>
              <a:chOff x="592200" y="6172200"/>
              <a:chExt cx="3574080" cy="520560"/>
            </a:xfrm>
          </p:grpSpPr>
          <p:sp>
            <p:nvSpPr>
              <p:cNvPr id="168" name=""/>
              <p:cNvSpPr/>
              <p:nvPr/>
            </p:nvSpPr>
            <p:spPr>
              <a:xfrm>
                <a:off x="592200" y="624852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72720" y="6172200"/>
                <a:ext cx="3193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digenous Materia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92200" y="5562720"/>
              <a:ext cx="2705400" cy="520560"/>
              <a:chOff x="592200" y="5562720"/>
              <a:chExt cx="2705400" cy="520560"/>
            </a:xfrm>
          </p:grpSpPr>
          <p:sp>
            <p:nvSpPr>
              <p:cNvPr id="171" name=""/>
              <p:cNvSpPr/>
              <p:nvPr/>
            </p:nvSpPr>
            <p:spPr>
              <a:xfrm>
                <a:off x="592200" y="5639040"/>
                <a:ext cx="380880" cy="38088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2f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74160" y="5562720"/>
                <a:ext cx="23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Public Doma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92200" y="4952880"/>
              <a:ext cx="2391840" cy="520560"/>
              <a:chOff x="592200" y="4952880"/>
              <a:chExt cx="2391840" cy="520560"/>
            </a:xfrm>
          </p:grpSpPr>
          <p:sp>
            <p:nvSpPr>
              <p:cNvPr id="174" name=""/>
              <p:cNvSpPr/>
              <p:nvPr/>
            </p:nvSpPr>
            <p:spPr>
              <a:xfrm>
                <a:off x="592200" y="5028840"/>
                <a:ext cx="380880" cy="381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73080" y="4952880"/>
                <a:ext cx="201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 Copyrigh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398520" y="1676520"/>
            <a:ext cx="3716280" cy="3498840"/>
            <a:chOff x="398520" y="1676520"/>
            <a:chExt cx="3716280" cy="3498840"/>
          </a:xfrm>
        </p:grpSpPr>
        <p:graphicFrame>
          <p:nvGraphicFramePr>
            <p:cNvPr id="177" name=""/>
            <p:cNvGraphicFramePr/>
            <p:nvPr/>
          </p:nvGraphicFramePr>
          <p:xfrm>
            <a:off x="398520" y="1891080"/>
            <a:ext cx="3716280" cy="32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8520" y="1891080"/>
                      <a:ext cx="3716280" cy="32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"/>
            <p:cNvSpPr/>
            <p:nvPr/>
          </p:nvSpPr>
          <p:spPr>
            <a:xfrm>
              <a:off x="1635840" y="1676520"/>
              <a:ext cx="12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286000" y="1550880"/>
            <a:ext cx="8381880" cy="5589360"/>
            <a:chOff x="2286000" y="1550880"/>
            <a:chExt cx="8381880" cy="5589360"/>
          </a:xfrm>
        </p:grpSpPr>
        <p:graphicFrame>
          <p:nvGraphicFramePr>
            <p:cNvPr id="181" name=""/>
            <p:cNvGraphicFramePr/>
            <p:nvPr/>
          </p:nvGraphicFramePr>
          <p:xfrm>
            <a:off x="2286000" y="1621440"/>
            <a:ext cx="8381880" cy="5518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1621440"/>
                      <a:ext cx="8381880" cy="55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5673960" y="1550880"/>
              <a:ext cx="16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077320" cy="2651040"/>
        </p:xfrm>
        <a:graphic>
          <a:graphicData uri="http://schemas.openxmlformats.org/drawingml/2006/table">
            <a:tbl>
              <a:tblPr/>
              <a:tblGrid>
                <a:gridCol w="3124440"/>
                <a:gridCol w="2438280"/>
                <a:gridCol w="2514600"/>
              </a:tblGrid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cess rat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# BCL publisher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of book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 publis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ion Book Col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  (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%  (3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4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  (1,23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48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86" name="slingshot" descr=""/>
          <p:cNvPicPr/>
          <p:nvPr/>
        </p:nvPicPr>
        <p:blipFill>
          <a:blip r:embed="rId1"/>
          <a:stretch/>
        </p:blipFill>
        <p:spPr>
          <a:xfrm>
            <a:off x="6095880" y="4579920"/>
            <a:ext cx="2438640" cy="2195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84120" y="4724280"/>
            <a:ext cx="464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uld need to negot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ore lab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gs with University P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right often reverts to author                             when books are declared out of 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recent books will never be declared         out of print because of print-on-demand contra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-party copyright ownersh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ll consider specific titles that WE sel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 Author Approach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xpensive than per publisher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ly to be cheaper than per titl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author birth &amp; death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 contact information for authors                               or estates of deceased auth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tes don’t have permission depar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Workflow in Ind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ing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weeded or seldom-used collections shipped     to India without prior copyright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aloging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right permission granted prior to sh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rior copyright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152280" y="2209680"/>
            <a:ext cx="8839440" cy="4345920"/>
            <a:chOff x="152280" y="2209680"/>
            <a:chExt cx="8839440" cy="4345920"/>
          </a:xfrm>
        </p:grpSpPr>
        <p:sp>
          <p:nvSpPr>
            <p:cNvPr id="195" name=""/>
            <p:cNvSpPr/>
            <p:nvPr/>
          </p:nvSpPr>
          <p:spPr>
            <a:xfrm>
              <a:off x="152280" y="2209680"/>
              <a:ext cx="8839440" cy="2514600"/>
            </a:xfrm>
            <a:prstGeom prst="rect">
              <a:avLst/>
            </a:prstGeom>
            <a:solidFill>
              <a:srgbClr val="ffdd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3960" y="5486400"/>
              <a:ext cx="38901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Send to Catalog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et other piles asi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934320" y="4723920"/>
              <a:ext cx="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no prior review: Sort Boo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ublished in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d by U.S. Government Publication Office (GPO) or Superintendent of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d pre-1923 in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d 1923-1964 in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d post-1964 in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aloging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U.S. publications 1923-1964, if necessary                        check copyright renewal records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pyright renewed, put with post-1964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renewed, proceed with catalo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WorldCat using OCLC Connex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ARC record is available, download it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MARC record is available,                                        create Dublin Core record using 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aloging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600200"/>
          <a:ext cx="8763120" cy="4267080"/>
        </p:xfrm>
        <a:graphic>
          <a:graphicData uri="http://schemas.openxmlformats.org/drawingml/2006/table">
            <a:tbl>
              <a:tblPr/>
              <a:tblGrid>
                <a:gridCol w="2133720"/>
                <a:gridCol w="6629400"/>
              </a:tblGrid>
              <a:tr h="64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S. 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 to MARC or DC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t docs    &amp; pre-19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ublic 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I U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3-1964         not renew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copyright renew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I U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pyright protected permission gr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I U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Absurd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renewal was required, &lt; 15% rene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5% books ever published are still in copy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2% books are in copyright,                                                     but out of 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 generating reven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 easily acce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opyright" descr=""/>
          <p:cNvPicPr/>
          <p:nvPr/>
        </p:nvPicPr>
        <p:blipFill>
          <a:blip r:embed="rId1"/>
          <a:stretch/>
        </p:blipFill>
        <p:spPr>
          <a:xfrm>
            <a:off x="6218280" y="3276720"/>
            <a:ext cx="2668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Assessments – 200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8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copyrighted books in the coll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 rate of permission re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of co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by publisher typ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participating copyright hold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isfaction with quality of copies &amp;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y did or plan to do with the co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n revenue &amp; view of open a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7528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c Domain Enhancement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right hold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small fee ($1.00) 50 years after publication     &amp; every 10 years thereafter to retain copy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contac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Copyright Off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s financial transactions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s publicly accessibl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1320" y="6095880"/>
            <a:ext cx="6613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d June 25, 2003 by Representative Lofg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6172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ScannerWomanCropped" descr=""/>
          <p:cNvPicPr/>
          <p:nvPr/>
        </p:nvPicPr>
        <p:blipFill>
          <a:blip r:embed="rId1"/>
          <a:stretch/>
        </p:blipFill>
        <p:spPr>
          <a:xfrm>
            <a:off x="2095560" y="247644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while . . 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suffers – students use inappropriate resources found with Goog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suffers – inequitable access, contention, turn-around time, &amp; cost of document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itage suffers – slowly decays or is abando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library suffers – copyright per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82480" y="1676520"/>
          <a:ext cx="8104320" cy="3076560"/>
        </p:xfrm>
        <a:graphic>
          <a:graphicData uri="http://schemas.openxmlformats.org/drawingml/2006/table">
            <a:tbl>
              <a:tblPr/>
              <a:tblGrid>
                <a:gridCol w="2092320"/>
                <a:gridCol w="2354400"/>
                <a:gridCol w="1905120"/>
                <a:gridCol w="1752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0       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307    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     Im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ans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4,500  (4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,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ermi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6,000  (51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,1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50,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0,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4,2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g per i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51051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 – Photocopy for reserves – Wayne Stat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 – Digitize for web site – Duke University 2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s – Put on video disk – Carnegie Mellon 1987-8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Copyright Per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610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sion to digitize even commercially fallow books is likely to cost hundreds of times more than actually digitizing the book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ff Lyn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14400" y="3962520"/>
          <a:ext cx="6959520" cy="2114280"/>
        </p:xfrm>
        <a:graphic>
          <a:graphicData uri="http://schemas.openxmlformats.org/drawingml/2006/table">
            <a:tbl>
              <a:tblPr/>
              <a:tblGrid>
                <a:gridCol w="2057040"/>
                <a:gridCol w="1600200"/>
                <a:gridCol w="3302280"/>
              </a:tblGrid>
              <a:tr h="77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Libra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85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st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27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05320" y="38052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eking a non-exclusive license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igitize &amp; offer free-to-read on the We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now and as it evolves over time,                                   in PDF or any other comparable format  deemed appropriate by Carnegie Mellon, whether that format now exists                                    or is developed in the future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books . . 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615960"/>
            <a:ext cx="30477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Access Feasibility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999 –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olta1scanner" descr=""/>
          <p:cNvPicPr/>
          <p:nvPr/>
        </p:nvPicPr>
        <p:blipFill>
          <a:blip r:embed="rId1"/>
          <a:stretch/>
        </p:blipFill>
        <p:spPr>
          <a:xfrm>
            <a:off x="2076480" y="2971800"/>
            <a:ext cx="499104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13:08:31Z</dcterms:created>
  <dc:creator>covey</dc:creator>
  <dc:description/>
  <dc:language>en-US</dc:language>
  <cp:lastModifiedBy>covey</cp:lastModifiedBy>
  <dcterms:modified xsi:type="dcterms:W3CDTF">2003-11-20T16:43:45Z</dcterms:modified>
  <cp:revision>166</cp:revision>
  <dc:subject/>
  <dc:title>PowerPoint Presentation</dc:title>
</cp:coreProperties>
</file>