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29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7.wmf" ContentType="image/x-wmf"/>
  <Override PartName="/ppt/media/image6.jpeg" ContentType="image/jpeg"/>
  <Override PartName="/ppt/media/image5.wmf" ContentType="image/x-wmf"/>
  <Override PartName="/ppt/media/image27.jpeg" ContentType="image/jpeg"/>
  <Override PartName="/ppt/media/image3.png" ContentType="image/png"/>
  <Override PartName="/ppt/media/image10.wmf" ContentType="image/x-wmf"/>
  <Override PartName="/ppt/media/image25.jpeg" ContentType="image/jpeg"/>
  <Override PartName="/ppt/media/image28.jpeg" ContentType="image/jpeg"/>
  <Override PartName="/ppt/media/image14.wmf" ContentType="image/x-wmf"/>
  <Override PartName="/ppt/media/image24.jpeg" ContentType="image/jpeg"/>
  <Override PartName="/ppt/media/image23.png" ContentType="image/pn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11C7-C758-4FBC-8831-5A2AF28B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what they 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andoned foreign publications in Posner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P – each nation clears copyright for its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inger, B. A. (June 1960 ):  Study No. 31: Renewal of Copyright.  In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1 Studies on Copyrigh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thur Fisher Memorial Ed., p. 513–5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nan, J. J. Jr. (1961):  Duration of Copyright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Law Re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Prepared for the Subcommittee on Patents, Trademarks, and Copyrights of the Committee of the Judiciary, U.S. Senate, 86th Congress,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dred vs. Ash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matic renew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ne Convention 1886 –– 1908 Berlin Act – life of author/creator +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aught up in 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 –– If published/registered &lt; 1–1–78 Preempted all previous U.S. copyrigh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–defined exclusive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d required notice &amp; regi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infringement, defenses, &amp; reme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ened scope &amp; subject matter of works protected, including unpublished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tions from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07 “first sale” &amp; “fair u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08 photocopying for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for classroom &amp; educational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tional Commission on New Technological Uses of Copyrighted Works (CONTU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stablished guidelines for the “minimum standards of educational fair use” for copying for interlibrary loan.  Libraries can photocopy without permission for scholarship, preservation, &amp;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 sony bono –– If published/registered &gt; 1–1–78  –– RETROACTIVE WAY TO BENEFIT AUTHORS ESTATES (not part of U.S. Constitution’s cultural bargain with the auth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6 Berne Convention – mutual recognition of copyright between sovereign 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1908 Berlin Act – set duration of copyright at life of author/creator plus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1928 Rome Act – first recognition of moral rights of authors/creators giving them the right to object to modification or destruction of thei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signed in 1988 – Berne signatory eliminated notice &amp; registration,  but U.S. still does not recognize the moral rights of crea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Offic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Copyright to study impact of CT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y impact of CTEA on accessibility of out of print books &amp; costs of acquiring large scale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 IT to help reduce costs &amp; increase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7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06 total boo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access restri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% time duration rest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onlinebooks.library.upenn.edu/cce/" TargetMode="External"/><Relationship Id="rId2" Type="http://schemas.openxmlformats.org/officeDocument/2006/relationships/hyperlink" Target="http://www.copyright.gov/records/cohm.html" TargetMode="External"/><Relationship Id="rId3" Type="http://schemas.openxmlformats.org/officeDocument/2006/relationships/hyperlink" Target="http://www.scils.rutgers.edu/~lesk/copyrenew.htm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ublicknowledge.org/content/legislation/pending-legislation-pdea" TargetMode="External"/><Relationship Id="rId2" Type="http://schemas.openxmlformats.org/officeDocument/2006/relationships/hyperlink" Target="http://www.publicknowledge.org/content/legislation/pending-legislation-pdea" TargetMode="External"/><Relationship Id="rId3" Type="http://schemas.openxmlformats.org/officeDocument/2006/relationships/hyperlink" Target="http://notabug.com/kahle/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hyperlink" Target="mailto:eer@andrew.cmu.edu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80520" y="3809880"/>
            <a:ext cx="4953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556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Impact         of Current Copyright L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80060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Erin Rh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Permission As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791320"/>
            <a:ext cx="4876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72080" y="533520"/>
            <a:ext cx="3333960" cy="41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94760" y="4797360"/>
            <a:ext cx="32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 Ameri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ing &amp; Philosop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5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360" y="137160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0292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4 letters &amp; 159   follow 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57960" y="304920"/>
            <a:ext cx="310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     2002 – 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focus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562720" y="1371600"/>
          <a:ext cx="304308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71600"/>
                    <a:ext cx="304308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5570640" y="3962520"/>
            <a:ext cx="3574080" cy="2105640"/>
            <a:chOff x="5570640" y="3962520"/>
            <a:chExt cx="3574080" cy="2105640"/>
          </a:xfrm>
        </p:grpSpPr>
        <p:grpSp>
          <p:nvGrpSpPr>
            <p:cNvPr id="160" name=""/>
            <p:cNvGrpSpPr/>
            <p:nvPr/>
          </p:nvGrpSpPr>
          <p:grpSpPr>
            <a:xfrm>
              <a:off x="5570640" y="5181840"/>
              <a:ext cx="3574080" cy="886320"/>
              <a:chOff x="5570640" y="5181840"/>
              <a:chExt cx="3574080" cy="886320"/>
            </a:xfrm>
          </p:grpSpPr>
          <p:sp>
            <p:nvSpPr>
              <p:cNvPr id="161" name=""/>
              <p:cNvSpPr/>
              <p:nvPr/>
            </p:nvSpPr>
            <p:spPr>
              <a:xfrm>
                <a:off x="557064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51160" y="5181840"/>
                <a:ext cx="3193560" cy="8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 India &amp; Chi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570640" y="4572360"/>
              <a:ext cx="2705400" cy="520560"/>
              <a:chOff x="5570640" y="4572360"/>
              <a:chExt cx="2705400" cy="520560"/>
            </a:xfrm>
          </p:grpSpPr>
          <p:sp>
            <p:nvSpPr>
              <p:cNvPr id="164" name=""/>
              <p:cNvSpPr/>
              <p:nvPr/>
            </p:nvSpPr>
            <p:spPr>
              <a:xfrm>
                <a:off x="5570640" y="464868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52600" y="457236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570640" y="3962520"/>
              <a:ext cx="2391840" cy="520560"/>
              <a:chOff x="5570640" y="3962520"/>
              <a:chExt cx="2391840" cy="520560"/>
            </a:xfrm>
          </p:grpSpPr>
          <p:sp>
            <p:nvSpPr>
              <p:cNvPr id="167" name=""/>
              <p:cNvSpPr/>
              <p:nvPr/>
            </p:nvSpPr>
            <p:spPr>
              <a:xfrm>
                <a:off x="5570640" y="403848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51520" y="396252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228600" y="3352680"/>
            <a:ext cx="5257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request letter + prompt follow up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               beginning Nov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d Strategy   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562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,000 tit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reduced cost                   from $2.12 to $1.41 per title                    to creat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600 publis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" y="1371600"/>
            <a:ext cx="8916120" cy="4696560"/>
            <a:chOff x="228600" y="1371600"/>
            <a:chExt cx="8916120" cy="4696560"/>
          </a:xfrm>
        </p:grpSpPr>
        <p:grpSp>
          <p:nvGrpSpPr>
            <p:cNvPr id="173" name=""/>
            <p:cNvGrpSpPr/>
            <p:nvPr/>
          </p:nvGrpSpPr>
          <p:grpSpPr>
            <a:xfrm>
              <a:off x="5570640" y="3962520"/>
              <a:ext cx="3574080" cy="2105640"/>
              <a:chOff x="5570640" y="3962520"/>
              <a:chExt cx="3574080" cy="21056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570640" y="5181840"/>
                <a:ext cx="3574080" cy="886320"/>
                <a:chOff x="5570640" y="5181840"/>
                <a:chExt cx="3574080" cy="886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570640" y="5258160"/>
                  <a:ext cx="38088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465e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951160" y="5181840"/>
                  <a:ext cx="3193560" cy="88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Indigenous Material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 India &amp; Chi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570640" y="4572360"/>
                <a:ext cx="2705400" cy="520560"/>
                <a:chOff x="5570640" y="4572360"/>
                <a:chExt cx="2705400" cy="5205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570640" y="4648680"/>
                  <a:ext cx="38088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ffff"/>
                    </a:gs>
                    <a:gs pos="100000">
                      <a:srgbClr val="2f75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952600" y="4572360"/>
                  <a:ext cx="232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Public Domai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570640" y="3962520"/>
                <a:ext cx="2391840" cy="520560"/>
                <a:chOff x="5570640" y="3962520"/>
                <a:chExt cx="2391840" cy="5205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570640" y="4038480"/>
                  <a:ext cx="380880" cy="381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51520" y="3962520"/>
                  <a:ext cx="2010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In Copyrigh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83" name=""/>
            <p:cNvGraphicFramePr/>
            <p:nvPr/>
          </p:nvGraphicFramePr>
          <p:xfrm>
            <a:off x="5924520" y="1371600"/>
            <a:ext cx="2324160" cy="243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4520" y="1371600"/>
                      <a:ext cx="232416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228600" y="4419720"/>
              <a:ext cx="5334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20000"/>
                </a:lnSpc>
                <a:spcBef>
                  <a:spcPts val="799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hifted from per title                     to per publisher approa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open access &amp; user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non–exclusive permission to digitize                &amp; provide open access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 of print, in 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standards &amp; laws; limit print &amp; s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mages, metadata, &amp; OC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778280" y="1741320"/>
            <a:ext cx="12193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49880" y="1119240"/>
            <a:ext cx="12193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54800" y="1055520"/>
            <a:ext cx="2689200" cy="5573880"/>
            <a:chOff x="6454800" y="1055520"/>
            <a:chExt cx="2689200" cy="5573880"/>
          </a:xfrm>
        </p:grpSpPr>
        <p:graphicFrame>
          <p:nvGraphicFramePr>
            <p:cNvPr id="191" name=""/>
            <p:cNvGraphicFramePr/>
            <p:nvPr/>
          </p:nvGraphicFramePr>
          <p:xfrm>
            <a:off x="6454800" y="1119240"/>
            <a:ext cx="2689200" cy="551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54800" y="111924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7761600" y="4332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52240" y="1576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54800" y="1055520"/>
              <a:ext cx="990720" cy="472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854600" y="1119240"/>
          <a:ext cx="268920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4600" y="1119240"/>
                    <a:ext cx="26892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151680" y="3875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51680" y="21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51680" y="1576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1676520"/>
            <a:ext cx="3276360" cy="1757160"/>
            <a:chOff x="1295280" y="1676520"/>
            <a:chExt cx="3276360" cy="1757160"/>
          </a:xfrm>
        </p:grpSpPr>
        <p:sp>
          <p:nvSpPr>
            <p:cNvPr id="202" name=""/>
            <p:cNvSpPr/>
            <p:nvPr/>
          </p:nvSpPr>
          <p:spPr>
            <a:xfrm>
              <a:off x="1295280" y="1676520"/>
              <a:ext cx="291780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ill negoti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200988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254340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080" y="3076920"/>
              <a:ext cx="30456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3809880"/>
            <a:ext cx="48769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1 publishers cont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% succes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6,700+ ti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18% success rate                                   with BCL publishers granting permission for 500 books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320" y="2249640"/>
            <a:ext cx="3867120" cy="2865960"/>
            <a:chOff x="76320" y="2249640"/>
            <a:chExt cx="3867120" cy="2865960"/>
          </a:xfrm>
        </p:grpSpPr>
        <p:sp>
          <p:nvSpPr>
            <p:cNvPr id="210" name=""/>
            <p:cNvSpPr/>
            <p:nvPr/>
          </p:nvSpPr>
          <p:spPr>
            <a:xfrm>
              <a:off x="76320" y="2249640"/>
              <a:ext cx="3487680" cy="28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4840" y="36972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14840" y="423072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4840" y="47642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14840" y="308772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4840" y="255420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3967200" y="1295280"/>
          <a:ext cx="51768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295280"/>
                    <a:ext cx="51768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28600" y="5638680"/>
            <a:ext cx="4952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 Book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8,8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9,3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320" y="4749840"/>
            <a:ext cx="484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v 2003 – Ju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1000" y="13716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0.41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40 letters &amp; 359   follow 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419720" y="1422360"/>
            <a:ext cx="4495680" cy="299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419720" y="44197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center in Hyderabad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not maintained by U.S. Copyrigh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aid of open access &amp; lost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they publish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rights they hav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have the resources to figur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other projects – perhaps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reverts to author when book goes out of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Copyright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153280" cy="5457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81680" y="137160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pyright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.S. Office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dite identifying &amp; locating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identify &amp; locate copyright holders of 7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50 fee – charged 3 days after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4 to 6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dged at 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k 15 weeks to respo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ed one c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952880" y="6278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center in Beijing,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19920" y="4098960"/>
            <a:ext cx="2590560" cy="245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ditional Copyrigh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371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” term of monopoly to promote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ly extended 1790–1998 (from 28 to 95 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666880"/>
            <a:ext cx="89154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–1976/1992, copyright required renew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60 – research showed 15% of copyrights ren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6 – 75 years (28 + 47) or life of author + 5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2 – Automatic renewal (1964–19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4952880"/>
            <a:ext cx="8915400" cy="1676520"/>
            <a:chOff x="228600" y="4952880"/>
            <a:chExt cx="8915400" cy="1676520"/>
          </a:xfrm>
        </p:grpSpPr>
        <p:sp>
          <p:nvSpPr>
            <p:cNvPr id="56" name=""/>
            <p:cNvSpPr/>
            <p:nvPr/>
          </p:nvSpPr>
          <p:spPr>
            <a:xfrm>
              <a:off x="228600" y="4952880"/>
              <a:ext cx="891540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998 – 95 years or life of author + 70 year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roactive to 197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03 Supreme Court uph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638680" y="5992920"/>
              <a:ext cx="190512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7696080" y="5472000"/>
              <a:ext cx="1219320" cy="11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thors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dite locating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locate 25 authors or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.50 fee per author/estat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ay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52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% accuracy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s likely to grant                              permission, but transaction                                 cost per book is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81480" y="3814920"/>
            <a:ext cx="3733920" cy="24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48480" y="6308640"/>
            <a:ext cx="43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center in Hyderabad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new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og of Copyright Entr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ized at Carnegie Mell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  <a:hlinkClick r:id="rId1"/>
              </a:rPr>
              <a:t>http://onlinebooks.library.upenn.edu/c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ongress Copyright 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  <a:hlinkClick r:id="rId2"/>
              </a:rPr>
              <a:t>http://www.copyright.gov/records/cohm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renewals 1973–1978 must consult                   another source for registration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k Copyright Renewa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  <a:hlinkClick r:id="rId3"/>
              </a:rPr>
              <a:t>http://www.scils.rutgers.edu/~lesk/copyrenew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 created &amp; enhanced by Michael Le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694640" y="3124080"/>
            <a:ext cx="1449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s 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ndor to provide print–on–demand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Offi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Copyright to study impact of C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&amp; bes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O solicited proposal to develop copyright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best practice for acquiring copyright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data gathering &amp;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participating publishers’ views of ope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You Can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courage scholarly associations &amp; university presses to participate in Million Book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pport Public Domain Enhance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http://www.publicknowledge.org/content/legislation/ pending–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"/>
              </a:rPr>
              <a:t>legislation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–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"/>
              </a:rPr>
              <a:t>p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pport Kahle v. Ashcroft copyright challe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examples of how barriers to using out of print books burden your work  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3"/>
              </a:rPr>
              <a:t>http://notabug.com/kahl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5400" y="5486400"/>
            <a:ext cx="7151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"/>
              </a:rPr>
              <a:t>troll@andrew.cmu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n Rh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"/>
              </a:rPr>
              <a:t>eer@andrew.cmu.e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348000" y="1600200"/>
            <a:ext cx="2448000" cy="3886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09480" y="1600200"/>
            <a:ext cx="2416320" cy="3886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6172200" y="1600200"/>
            <a:ext cx="246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e of Absur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2% of the books ever published are orphans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n copyright, but out of prin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generating revenue nor easily acce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required to digitize &amp; provid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4 Kahle v. Ashcroft challenge U.S. copyr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cords of copyright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es public access to orphaned works                           without providing any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993000" y="4572000"/>
            <a:ext cx="1896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ility Study     1999 –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sample of books in library 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in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ters requesting non–exclusive permission to digitize &amp; provide open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termittent labor,                                                      follow up letter often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4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ublishers                                                    applied access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4494240"/>
            <a:ext cx="3429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324480" y="1119240"/>
            <a:ext cx="2819520" cy="5510160"/>
            <a:chOff x="6324480" y="1119240"/>
            <a:chExt cx="2819520" cy="5510160"/>
          </a:xfrm>
        </p:grpSpPr>
        <p:grpSp>
          <p:nvGrpSpPr>
            <p:cNvPr id="66" name=""/>
            <p:cNvGrpSpPr/>
            <p:nvPr/>
          </p:nvGrpSpPr>
          <p:grpSpPr>
            <a:xfrm>
              <a:off x="6454800" y="1119240"/>
              <a:ext cx="2689200" cy="5510160"/>
              <a:chOff x="6454800" y="1119240"/>
              <a:chExt cx="2689200" cy="551016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454800" y="1119240"/>
              <a:ext cx="2689200" cy="551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4800" y="1119240"/>
                        <a:ext cx="2689200" cy="551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752240" y="3786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752240" y="15764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7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324480" y="1347840"/>
              <a:ext cx="1143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276720" y="174132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880" y="1119240"/>
            <a:ext cx="2689200" cy="5510160"/>
            <a:chOff x="4952880" y="1119240"/>
            <a:chExt cx="2689200" cy="5510160"/>
          </a:xfrm>
        </p:grpSpPr>
        <p:graphicFrame>
          <p:nvGraphicFramePr>
            <p:cNvPr id="74" name=""/>
            <p:cNvGraphicFramePr/>
            <p:nvPr/>
          </p:nvGraphicFramePr>
          <p:xfrm>
            <a:off x="4952880" y="1119240"/>
            <a:ext cx="2689200" cy="551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111924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6259680" y="4332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50320" y="3265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50320" y="1576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648320" y="111924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52680" y="1119240"/>
          <a:ext cx="2689200" cy="551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119240"/>
                    <a:ext cx="26892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650120" y="4560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0120" y="3875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50120" y="2884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0120" y="1576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2871720"/>
            <a:ext cx="3276720" cy="2311560"/>
            <a:chOff x="0" y="2871720"/>
            <a:chExt cx="3276720" cy="2311560"/>
          </a:xfrm>
        </p:grpSpPr>
        <p:sp>
          <p:nvSpPr>
            <p:cNvPr id="87" name=""/>
            <p:cNvSpPr/>
            <p:nvPr/>
          </p:nvSpPr>
          <p:spPr>
            <a:xfrm>
              <a:off x="0" y="2871720"/>
              <a:ext cx="29178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320508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71800" y="37386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4272120"/>
              <a:ext cx="30492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1800" y="4805280"/>
              <a:ext cx="3049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ility Study Success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62520" y="1295280"/>
          <a:ext cx="51814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295280"/>
                    <a:ext cx="51814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0" y="1967040"/>
            <a:ext cx="3733560" cy="2311560"/>
            <a:chOff x="0" y="1967040"/>
            <a:chExt cx="3733560" cy="2311560"/>
          </a:xfrm>
        </p:grpSpPr>
        <p:sp>
          <p:nvSpPr>
            <p:cNvPr id="96" name=""/>
            <p:cNvSpPr/>
            <p:nvPr/>
          </p:nvSpPr>
          <p:spPr>
            <a:xfrm>
              <a:off x="3504960" y="3935160"/>
              <a:ext cx="228600" cy="228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967040"/>
              <a:ext cx="34876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4960" y="3414600"/>
              <a:ext cx="22860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4960" y="2805120"/>
              <a:ext cx="228600" cy="228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04960" y="227160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638680"/>
            <a:ext cx="5257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ner Study    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&amp; rare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% in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request letter + prompt follow up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May–Octo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%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% of publishers                                                                     applied access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7840" y="36100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9240" y="5592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640" y="5592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2720" y="4205160"/>
            <a:ext cx="33526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531120" y="1066680"/>
            <a:ext cx="2689200" cy="5510160"/>
            <a:chOff x="6531120" y="1066680"/>
            <a:chExt cx="2689200" cy="5510160"/>
          </a:xfrm>
        </p:grpSpPr>
        <p:graphicFrame>
          <p:nvGraphicFramePr>
            <p:cNvPr id="110" name=""/>
            <p:cNvGraphicFramePr/>
            <p:nvPr/>
          </p:nvGraphicFramePr>
          <p:xfrm>
            <a:off x="6531120" y="1066680"/>
            <a:ext cx="2689200" cy="551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3112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7828200" y="4267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28200" y="1523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400800" y="1295280"/>
            <a:ext cx="1143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2952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006880" y="1066680"/>
            <a:ext cx="2689200" cy="5510160"/>
            <a:chOff x="5006880" y="1066680"/>
            <a:chExt cx="2689200" cy="5510160"/>
          </a:xfrm>
        </p:grpSpPr>
        <p:graphicFrame>
          <p:nvGraphicFramePr>
            <p:cNvPr id="117" name=""/>
            <p:cNvGraphicFramePr/>
            <p:nvPr/>
          </p:nvGraphicFramePr>
          <p:xfrm>
            <a:off x="5006880" y="1066680"/>
            <a:ext cx="2689200" cy="551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688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6313680" y="4343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03960" y="3581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3960" y="1523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702320" y="10666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352680" y="1066680"/>
            <a:ext cx="2689200" cy="5510160"/>
            <a:chOff x="3352680" y="1066680"/>
            <a:chExt cx="2689200" cy="5510160"/>
          </a:xfrm>
        </p:grpSpPr>
        <p:graphicFrame>
          <p:nvGraphicFramePr>
            <p:cNvPr id="124" name=""/>
            <p:cNvGraphicFramePr/>
            <p:nvPr/>
          </p:nvGraphicFramePr>
          <p:xfrm>
            <a:off x="3352680" y="1066680"/>
            <a:ext cx="2689200" cy="551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4660920" y="4267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0920" y="34257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60920" y="2819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0920" y="15210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0" y="2819520"/>
            <a:ext cx="3276720" cy="2311560"/>
            <a:chOff x="0" y="2819520"/>
            <a:chExt cx="3276720" cy="2311560"/>
          </a:xfrm>
        </p:grpSpPr>
        <p:sp>
          <p:nvSpPr>
            <p:cNvPr id="131" name=""/>
            <p:cNvSpPr/>
            <p:nvPr/>
          </p:nvSpPr>
          <p:spPr>
            <a:xfrm>
              <a:off x="0" y="2819520"/>
              <a:ext cx="29178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3152520"/>
              <a:ext cx="3049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1800" y="3686040"/>
              <a:ext cx="30492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4219560"/>
              <a:ext cx="304920" cy="2282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800" y="4752720"/>
              <a:ext cx="3049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ner Study Success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2022480"/>
            <a:ext cx="3867120" cy="2865960"/>
            <a:chOff x="0" y="2022480"/>
            <a:chExt cx="3867120" cy="2865960"/>
          </a:xfrm>
        </p:grpSpPr>
        <p:sp>
          <p:nvSpPr>
            <p:cNvPr id="139" name=""/>
            <p:cNvSpPr/>
            <p:nvPr/>
          </p:nvSpPr>
          <p:spPr>
            <a:xfrm>
              <a:off x="0" y="2022480"/>
              <a:ext cx="3487680" cy="28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38520" y="347004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38520" y="400356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38520" y="453708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38520" y="286056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38520" y="232704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3809880" y="1295280"/>
          <a:ext cx="533412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533412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28600" y="5638680"/>
            <a:ext cx="586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ner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4-08-02T15:10:13Z</dcterms:modified>
  <cp:revision>402</cp:revision>
  <dc:subject/>
  <dc:title>PowerPoint Presentation</dc:title>
</cp:coreProperties>
</file>