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1.jpeg" ContentType="image/jpeg"/>
  <Override PartName="/ppt/media/image18.png" ContentType="image/png"/>
  <Override PartName="/ppt/media/image15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69413"/>
  <p:custShowLst>
    <p:custShow name="16 Inference" id="0">
      <p:sldLst>
        <p:sld r:id="rId19"/>
      </p:sldLst>
    </p:custShow>
    <p:custShow name="17 reference interview example" id="1">
      <p:sldLst>
        <p:sld r:id="rId21"/>
      </p:sldLst>
    </p:custShow>
    <p:custShow name="19. RDB" id="2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AC42-1BFD-4466-8415-34CF953FB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rley Temple, 19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comgu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from Associated Press Photo Arch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erver – java server pages &amp; java beans get info from database, process queries, &amp; present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al, conversational, little user typing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classification algorith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survey of college freshmen – Higher Education Research Institute UC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% freshmen use e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4% freshmen use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arnegie Me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-grads seldom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or chat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% chat reference = u-grads; 51% = grads; 6% = faculty; 9% =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author, title, &amp; subject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0713-B08A-4E33-A831-614E65EB9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EB9F-714D-450A-8B39-FD218BE7C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4DF8-5E2D-4E86-918A-2035AA624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0BB4-85ED-43BD-93AC-6F583F16A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78F8-1F20-4E59-9EC5-D96E666EF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6871-BD7B-4220-9FD7-CE384F750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D125-E3A1-4163-A6D4-53056D6F0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193D-7BCD-4E7D-B233-3DEDCB7C1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9A28-9BCB-4495-8308-BA68A2485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681A-3313-4C1E-9331-CB8AEF2A3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5B28-FB1F-4822-B409-0896F6E3D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3406-BDE5-49FF-9584-4580A1B62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11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9C33-0258-44EC-A2B4-0F2E5CA810E5}" type="slidenum">
              <a:rPr b="0" lang="en-US" sz="1400" spc="-1" strike="noStrike">
                <a:solidFill>
                  <a:srgbClr val="1111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" y="380880"/>
            <a:ext cx="887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Reference Assistanc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erence for a New Gene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1640" y="5257440"/>
            <a:ext cx="4305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Associate University Libraria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arnegie Mellon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NI Meeting – April 2002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48" name="ARAshirleyTemple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ARAdotcomguy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567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aptop"/>
          <p:cNvSpPr/>
          <p:nvPr/>
        </p:nvSpPr>
        <p:spPr>
          <a:xfrm>
            <a:off x="438120" y="2438280"/>
            <a:ext cx="1347840" cy="854280"/>
          </a:xfrm>
          <a:prstGeom prst="pi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4" name="mainfrm"/>
          <p:cNvSpPr/>
          <p:nvPr/>
        </p:nvSpPr>
        <p:spPr>
          <a:xfrm>
            <a:off x="2895480" y="2193840"/>
            <a:ext cx="911520" cy="1127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48240" y="2590920"/>
            <a:ext cx="1219320" cy="68580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657600"/>
            <a:ext cx="1486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Web Browser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6576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Application Server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Inference Engin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657600"/>
            <a:ext cx="297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Reference Interview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Resource Databas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Journal Information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81960" y="365760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Times New Roman"/>
              </a:rPr>
              <a:t>XML Files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560" y="2362320"/>
            <a:ext cx="838080" cy="952560"/>
            <a:chOff x="7810560" y="2362320"/>
            <a:chExt cx="838080" cy="952560"/>
          </a:xfrm>
        </p:grpSpPr>
        <p:sp>
          <p:nvSpPr>
            <p:cNvPr id="91" name=""/>
            <p:cNvSpPr/>
            <p:nvPr/>
          </p:nvSpPr>
          <p:spPr>
            <a:xfrm>
              <a:off x="7810560" y="2362320"/>
              <a:ext cx="457200" cy="57132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39160" y="2514600"/>
              <a:ext cx="457200" cy="57168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91440" y="2743200"/>
              <a:ext cx="457200" cy="571680"/>
            </a:xfrm>
            <a:prstGeom prst="verticalScrol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28800" y="2819520"/>
            <a:ext cx="76212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819520"/>
            <a:ext cx="76212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2819520"/>
            <a:ext cx="761760" cy="0"/>
          </a:xfrm>
          <a:prstGeom prst="line">
            <a:avLst/>
          </a:prstGeom>
          <a:ln w="28440">
            <a:solidFill>
              <a:srgbClr val="1111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Web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mage-000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Inference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iews user to focus the information need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Converts user’s information need                               into a query of the Resource database                    &amp; Reference Interview databa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Transforms the results of the query                            into useful reference advice,                                    a list of suggested resources,                                &amp; follow-up questions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1" name="ARAcomputer" descr=""/>
          <p:cNvPicPr/>
          <p:nvPr/>
        </p:nvPicPr>
        <p:blipFill>
          <a:blip r:embed="rId1"/>
          <a:stretch/>
        </p:blipFill>
        <p:spPr>
          <a:xfrm>
            <a:off x="6610320" y="3581280"/>
            <a:ext cx="2533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Reference Interview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211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et of questions a librarian might ask a user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ormation about when it’s appropriate                             to ask each question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Actions associated                                                            with each answer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To update the facts                                                             the ARA “knows”                                                                   about what the user                                                                  is looking for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4" name="LibrarySuperHigh" descr=""/>
          <p:cNvPicPr/>
          <p:nvPr/>
        </p:nvPicPr>
        <p:blipFill>
          <a:blip r:embed="rId1"/>
          <a:stretch/>
        </p:blipFill>
        <p:spPr>
          <a:xfrm>
            <a:off x="5627520" y="2895480"/>
            <a:ext cx="351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Resourc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ontains facts about every resource the ARA “knows”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133720"/>
            <a:ext cx="4343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Resource nam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Resource level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ates of coverag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tem typ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bject area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wey Decimal rang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ull text availabilit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nternet addres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13372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Full description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Brief description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Other fact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tlas = maps &amp; geography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Encyclopedia =   general information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oems = can be located through concordances  &amp; indexes of first lines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Journal Information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dentify databases that index a journa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dentify databases with full-text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Disambiguate journal title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corporated from JAK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11" name="LibraryNYP" descr=""/>
          <p:cNvPicPr/>
          <p:nvPr/>
        </p:nvPicPr>
        <p:blipFill>
          <a:blip r:embed="rId1"/>
          <a:stretch/>
        </p:blipFill>
        <p:spPr>
          <a:xfrm>
            <a:off x="6097680" y="2666880"/>
            <a:ext cx="304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84880" y="3352680"/>
            <a:ext cx="5574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ce Engin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user information need into a quer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6440" y="153828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nswers questions &amp; submits a request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29000" y="205740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660066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3960" y="4190760"/>
            <a:ext cx="4921920" cy="2441880"/>
            <a:chOff x="183960" y="4190760"/>
            <a:chExt cx="4921920" cy="2441880"/>
          </a:xfrm>
        </p:grpSpPr>
        <p:sp>
          <p:nvSpPr>
            <p:cNvPr id="117" name=""/>
            <p:cNvSpPr/>
            <p:nvPr/>
          </p:nvSpPr>
          <p:spPr>
            <a:xfrm>
              <a:off x="183960" y="5014800"/>
              <a:ext cx="49219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ference Interview database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determines 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follow-up questions 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e valid for which user-provided facts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81000">
              <a:off x="2912760" y="4248000"/>
              <a:ext cx="485640" cy="901800"/>
            </a:xfrm>
            <a:prstGeom prst="upDownArrow">
              <a:avLst>
                <a:gd name="adj1" fmla="val 50000"/>
                <a:gd name="adj2" fmla="val 36966"/>
              </a:avLst>
            </a:prstGeom>
            <a:solidFill>
              <a:srgbClr val="660066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62720" y="4187520"/>
            <a:ext cx="3284280" cy="2443680"/>
            <a:chOff x="5562720" y="4187520"/>
            <a:chExt cx="3284280" cy="2443680"/>
          </a:xfrm>
        </p:grpSpPr>
        <p:sp>
          <p:nvSpPr>
            <p:cNvPr id="120" name=""/>
            <p:cNvSpPr/>
            <p:nvPr/>
          </p:nvSpPr>
          <p:spPr>
            <a:xfrm>
              <a:off x="5562720" y="5013360"/>
              <a:ext cx="328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source database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gorithm determines which resources are appropriate to user need</a:t>
              </a: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20319000">
              <a:off x="5770440" y="4244760"/>
              <a:ext cx="485640" cy="903240"/>
            </a:xfrm>
            <a:prstGeom prst="upDownArrow">
              <a:avLst>
                <a:gd name="adj1" fmla="val 50000"/>
                <a:gd name="adj2" fmla="val 37025"/>
              </a:avLst>
            </a:prstGeom>
            <a:solidFill>
              <a:srgbClr val="660066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29200" y="2057400"/>
            <a:ext cx="3894120" cy="1373760"/>
            <a:chOff x="5029200" y="2057400"/>
            <a:chExt cx="3894120" cy="1373760"/>
          </a:xfrm>
        </p:grpSpPr>
        <p:sp>
          <p:nvSpPr>
            <p:cNvPr id="123" name=""/>
            <p:cNvSpPr/>
            <p:nvPr/>
          </p:nvSpPr>
          <p:spPr>
            <a:xfrm flipV="1">
              <a:off x="5029200" y="2057400"/>
              <a:ext cx="485640" cy="1295280"/>
            </a:xfrm>
            <a:prstGeom prst="downArrow">
              <a:avLst>
                <a:gd name="adj1" fmla="val 50000"/>
                <a:gd name="adj2" fmla="val 66679"/>
              </a:avLst>
            </a:prstGeom>
            <a:solidFill>
              <a:srgbClr val="ff3399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2057400"/>
              <a:ext cx="328464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33"/>
                  </a:solidFill>
                  <a:latin typeface="Times New Roman"/>
                </a:rPr>
                <a:t>Advice, a ranked list of resources &amp; follow-up questions</a:t>
              </a:r>
              <a:endParaRPr b="0" lang="en-US" sz="28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 Databas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mage-000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086600" cy="523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477120" y="2209680"/>
            <a:ext cx="304560" cy="99072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77"/>
                </a:lnTo>
                <a:cubicBezTo>
                  <a:pt x="10800" y="10177"/>
                  <a:pt x="16200" y="11077"/>
                  <a:pt x="21600" y="11077"/>
                </a:cubicBezTo>
                <a:cubicBezTo>
                  <a:pt x="16200" y="11077"/>
                  <a:pt x="10800" y="11977"/>
                  <a:pt x="10800" y="128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88"/>
                </a:lnTo>
                <a:cubicBezTo>
                  <a:pt x="10800" y="9788"/>
                  <a:pt x="16200" y="10688"/>
                  <a:pt x="21600" y="10688"/>
                </a:cubicBezTo>
                <a:cubicBezTo>
                  <a:pt x="16200" y="10688"/>
                  <a:pt x="10800" y="11588"/>
                  <a:pt x="10800" y="124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2438280"/>
            <a:ext cx="1600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eference assistance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191120"/>
            <a:ext cx="16542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List                   of most relevant resource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Interview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Image-0006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477120" cy="5245200"/>
          </a:xfrm>
          <a:prstGeom prst="rect">
            <a:avLst/>
          </a:prstGeom>
          <a:ln w="0">
            <a:noFill/>
          </a:ln>
        </p:spPr>
      </p:pic>
      <p:pic>
        <p:nvPicPr>
          <p:cNvPr id="133" name="Image-0006_menu" descr=""/>
          <p:cNvPicPr/>
          <p:nvPr/>
        </p:nvPicPr>
        <p:blipFill>
          <a:blip r:embed="rId2"/>
          <a:stretch/>
        </p:blipFill>
        <p:spPr>
          <a:xfrm>
            <a:off x="1219320" y="5707080"/>
            <a:ext cx="1447560" cy="115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10080" y="487692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029200"/>
            <a:ext cx="22096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eferenc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follow-up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erence &amp; resource information stored in XM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racle 8i relational database technolog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formation retrieved by Java Bean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face constructed using Java Server Pag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asy to add, remove, or modify resourc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asy to customiz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ARA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oftware designed to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Enhance, not replace traditional reference servic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Elicit information about users &amp; what they need                                  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ggest appropriate resource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Operate 24 x 7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52" name="LibrarianRef" descr=""/>
          <p:cNvPicPr/>
          <p:nvPr/>
        </p:nvPicPr>
        <p:blipFill>
          <a:blip r:embed="rId1"/>
          <a:stretch/>
        </p:blipFill>
        <p:spPr>
          <a:xfrm>
            <a:off x="5334120" y="4084560"/>
            <a:ext cx="3687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pring 2002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ndex all e-resources in the Resource Database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Conduct user study &amp; revise interfac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Submit grant proposal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ummer 2002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– release prototyp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Fall 2002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Market the ARA on campu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Monitor &amp; study usag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2002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mprove the Inference Engine &amp; Interview model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mprove interface design &amp; functionalit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dex print resources in the Resource Databa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grate chat software</a:t>
            </a: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No evidence that simply                                                                using appropriate resources                                               will improve student work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42" name="LibrarianCHAT" descr=""/>
          <p:cNvPicPr/>
          <p:nvPr/>
        </p:nvPicPr>
        <p:blipFill>
          <a:blip r:embed="rId1"/>
          <a:stretch/>
        </p:blipFill>
        <p:spPr>
          <a:xfrm>
            <a:off x="5181480" y="3751200"/>
            <a:ext cx="42516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A D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nable spoken dialog between users &amp; librarians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Enable users to select a reference personality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Implement multiple virtual reality agents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Commercialize &amp; offer ARA versions                           adapted for different kinds of librarie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52680"/>
            <a:ext cx="2895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frican American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sian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Hispanic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unk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352680"/>
            <a:ext cx="1752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Male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Young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Old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47" name="ARApunk" descr=""/>
          <p:cNvPicPr/>
          <p:nvPr/>
        </p:nvPicPr>
        <p:blipFill>
          <a:blip r:embed="rId1"/>
          <a:stretch/>
        </p:blipFill>
        <p:spPr>
          <a:xfrm>
            <a:off x="6400800" y="3454560"/>
            <a:ext cx="24685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Photos from Associated Press Photo Archiv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Associate University Librarian for Arts, Archives, &amp; Technolog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Carnegie Mellon University Librarie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4909 Frew St., Hunt Library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Pittsburgh, PA  15213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60093"/>
                </a:solidFill>
                <a:uFillTx/>
                <a:latin typeface="Times New Roman"/>
                <a:hlinkClick r:id="rId1"/>
              </a:rPr>
              <a:t>troll@andrew.cmu.edu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412-268-8599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the A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Users value convenience, speed, ease-of-us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Prefer remote access, e-resources, &amp; independence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11111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U-grad students use inappropriate e-resourc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Less than 6% of surface Web is scholarly content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No single Web search engine indexes more than 16%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-217080">
              <a:lnSpc>
                <a:spcPct val="110000"/>
              </a:lnSpc>
              <a:spcBef>
                <a:spcPts val="601"/>
              </a:spcBef>
              <a:buClr>
                <a:srgbClr val="11111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Times New Roman"/>
              </a:rPr>
              <a:t>Web magnifies problems with poor search strategies 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1085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The number, names, &amp; content of e-resources                  overwhelm &amp; confuse both users &amp; librarian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3080" y="6172200"/>
            <a:ext cx="227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9 Remote Use of E-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523880"/>
          <a:ext cx="861048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133360" y="19810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No reference librarian available to assist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-01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422360"/>
          <a:ext cx="914400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2360"/>
                    <a:ext cx="91440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00560" y="2895480"/>
            <a:ext cx="173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Gate count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9840" y="4572000"/>
            <a:ext cx="186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Virtual visit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4720" y="3657600"/>
            <a:ext cx="2519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Over past 5 years: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Gate counts down 6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Circ down 3.5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Reference up 0.5%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% of Reference is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371600"/>
          <a:ext cx="662292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662292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2819520" y="3149640"/>
            <a:ext cx="6324480" cy="3708360"/>
            <a:chOff x="2819520" y="3149640"/>
            <a:chExt cx="6324480" cy="3708360"/>
          </a:xfrm>
        </p:grpSpPr>
        <p:graphicFrame>
          <p:nvGraphicFramePr>
            <p:cNvPr id="70" name=""/>
            <p:cNvGraphicFramePr/>
            <p:nvPr/>
          </p:nvGraphicFramePr>
          <p:xfrm>
            <a:off x="4572000" y="3149640"/>
            <a:ext cx="4572000" cy="370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3149640"/>
                      <a:ext cx="4572000" cy="37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2819520" y="5486400"/>
              <a:ext cx="1981080" cy="0"/>
            </a:xfrm>
            <a:prstGeom prst="line">
              <a:avLst/>
            </a:prstGeom>
            <a:ln w="57240">
              <a:solidFill>
                <a:srgbClr val="1111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98 Survey Referenc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22360" y="1523880"/>
          <a:ext cx="862164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523880"/>
                    <a:ext cx="862164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the A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ene &amp; guid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Facilitate learning &amp; independenc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Match preferences &amp; lifestyl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11111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egin to close the gap                  between perceived ease                         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f using the Web                          &amp; perceived cumbersomeness       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of using the library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78" name="ARAcompTreeWed" descr=""/>
          <p:cNvPicPr/>
          <p:nvPr/>
        </p:nvPicPr>
        <p:blipFill>
          <a:blip r:embed="rId1"/>
          <a:stretch/>
        </p:blipFill>
        <p:spPr>
          <a:xfrm>
            <a:off x="6667560" y="2438280"/>
            <a:ext cx="247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ARA Do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Interviews users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Limits the number of resources to choose from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Dynamically groups the resources available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Provides information about the resources                                                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Provides links to resources                                                            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Submits queries to resourc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1" name="LibraryNoFilter" descr=""/>
          <p:cNvPicPr/>
          <p:nvPr/>
        </p:nvPicPr>
        <p:blipFill>
          <a:blip r:embed="rId1"/>
          <a:stretch/>
        </p:blipFill>
        <p:spPr>
          <a:xfrm>
            <a:off x="6446880" y="4944960"/>
            <a:ext cx="26971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6:17:51Z</dcterms:created>
  <dc:creator>Denise Troll</dc:creator>
  <dc:description/>
  <dc:language>en-US</dc:language>
  <cp:lastModifiedBy>Denise Troll</cp:lastModifiedBy>
  <cp:lastPrinted>2002-04-04T22:00:57Z</cp:lastPrinted>
  <dcterms:modified xsi:type="dcterms:W3CDTF">2002-04-15T12:14:37Z</dcterms:modified>
  <cp:revision>184</cp:revision>
  <dc:subject/>
  <dc:title>PowerPoint Presentation</dc:title>
</cp:coreProperties>
</file>