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51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24.wmf" ContentType="image/x-wmf"/>
  <Override PartName="/ppt/media/image1.wmf" ContentType="image/x-wmf"/>
  <Override PartName="/ppt/media/image7.jpeg" ContentType="image/jpeg"/>
  <Override PartName="/ppt/media/image31.wmf" ContentType="image/x-wmf"/>
  <Override PartName="/ppt/media/image38.jpeg" ContentType="image/jpeg"/>
  <Override PartName="/ppt/media/image25.wmf" ContentType="image/x-wmf"/>
  <Override PartName="/ppt/media/image2.jpeg" ContentType="image/jpeg"/>
  <Override PartName="/ppt/media/image36.jpeg" ContentType="image/jpeg"/>
  <Override PartName="/ppt/media/image33.jpeg" ContentType="image/jpeg"/>
  <Override PartName="/ppt/media/image34.jpeg" ContentType="image/jpeg"/>
  <Override PartName="/ppt/media/image40.wmf" ContentType="image/x-wmf"/>
  <Override PartName="/ppt/media/image41.wmf" ContentType="image/x-wmf"/>
  <Override PartName="/ppt/media/image52.gif" ContentType="image/gif"/>
  <Override PartName="/ppt/media/image44.jpeg" ContentType="image/jpeg"/>
  <Override PartName="/ppt/media/image43.wmf" ContentType="image/x-wmf"/>
  <Override PartName="/ppt/media/image35.jpeg" ContentType="image/jpeg"/>
  <Override PartName="/ppt/media/image5.png" ContentType="image/png"/>
  <Override PartName="/ppt/media/image29.jpeg" ContentType="image/jpeg"/>
  <Override PartName="/ppt/media/image46.png" ContentType="image/png"/>
  <Override PartName="/ppt/media/image42.wmf" ContentType="image/x-wmf"/>
  <Override PartName="/ppt/media/image47.jpeg" ContentType="image/jpeg"/>
  <Override PartName="/ppt/media/image12.wmf" ContentType="image/x-wmf"/>
  <Override PartName="/ppt/media/image4.png" ContentType="image/png"/>
  <Override PartName="/ppt/media/image48.jpeg" ContentType="image/jpeg"/>
  <Override PartName="/ppt/media/image49.jpeg" ContentType="image/jpeg"/>
  <Override PartName="/ppt/media/image32.wmf" ContentType="image/x-wmf"/>
  <Override PartName="/ppt/media/image30.gif" ContentType="image/gif"/>
  <Override PartName="/ppt/media/image11.wmf" ContentType="image/x-wmf"/>
  <Override PartName="/ppt/media/image39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0.jpeg" ContentType="image/jpeg"/>
  <Override PartName="/ppt/media/image8.wmf" ContentType="image/x-wmf"/>
  <Override PartName="/ppt/media/image3.jpeg" ContentType="image/jpeg"/>
  <Override PartName="/ppt/media/image28.wmf" ContentType="image/x-wmf"/>
  <Override PartName="/ppt/media/image37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4F4C13-6C7F-424B-A233-78816B2B5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% sample was out of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% sample was foreig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publis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ifficult to determine copyright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ifficult to locate – 28% v 14% not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likely  to grant per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% v 38% of those cont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% v. 53% of those who respo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response rates (7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ghtly less likely to apply restri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% sample was commercial 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pect the cost per title is high in part because of the intermittent labor &amp; consequent learning cu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based on title cou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publishers = 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ifficult to determine copyright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ifficult to locate – 28% v 14% not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likely  to grant per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% v 38% of those cont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% v. 53% of those who respo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response rates (7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ghtly less likely to apply restri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based on publisher (copyright holder) cou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opyrights had reverted to the author (26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rcial publishers held few copyrights (12%)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e rate was very good (83% – 10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publishers were the most likely to grant permission (81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olarly associations &amp; authors (or their estates) often gave permission (71% – 72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presses &amp; commercial publishers were the least likely to grant permission (62% – 6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copyright renewal records &amp; dealing with U.S. Office of Copy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200 (4%) titles are out of copy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e as many as 32,000 of the BCL titles could currently be out of copyright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0, fewer than 15% of all registered copyrights were being renewed; Barbara A. Ringer, Study No. 31: Renewal of Copyright, in 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udies on Copyrigh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3-514 (Arthur Fisher Memorial ed., June 1960).  See additional research cited on pages 9-11 of the Brief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mici Curia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Internet Archive, Prelinger Archives, and Project Gutenberg Literary Archive Foundation, No. 01-618 in the Supreme Court case Eric Eldred v. John D. Ashcro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09692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09692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3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3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LARLY ASSOCIATION includes research instit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= Foundations, Schools, Departm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.g., Sloan School of Management, International Monetary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opyrights had reverted to the author (26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rcial publishers held few copyrights (12%)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e rate was very good (83% – 10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publishers were the most likely to grant permission (81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olarly associations &amp; authors (or their estates) often gave permission (71% – 72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presses &amp; commercial publishers were the least likely to grant permission (62% – 6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Press Success Rat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ner 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 completed negoti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s about third-party copyright owne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cent books will never be declared out of print because of print-on-demand contra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June 2003 by Representative Lofg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hold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mall fee ($1.00) 50 years after publication     &amp; every 10 years thereafter to retain copy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contac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Copyright Off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financial transactions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s publicly accessibl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June 2003 by Representative Lofg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t 524 letters to 198 publis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0760" y="15238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0760" y="41508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39920" y="15238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1240" y="15238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39920" y="41508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1240" y="41508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0760" y="15238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0760" y="15238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5238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0760" y="41508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5238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notabug.com/kahle/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mailto:troll@andrew.cmu.edu" TargetMode="External"/><Relationship Id="rId2" Type="http://schemas.openxmlformats.org/officeDocument/2006/relationships/image" Target="../media/image51.jpeg"/><Relationship Id="rId3" Type="http://schemas.openxmlformats.org/officeDocument/2006/relationships/image" Target="../media/image52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Unconditional Copyright</a:t>
            </a:r>
            <a:br>
              <a:rPr sz="6000"/>
            </a:br>
            <a:r>
              <a:rPr b="0" i="1" lang="en-US" sz="4400" spc="-1" strike="noStrike">
                <a:solidFill>
                  <a:srgbClr val="006600"/>
                </a:solidFill>
                <a:latin typeface="Arial"/>
              </a:rPr>
              <a:t>Removing the Camouf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560" y="3124080"/>
            <a:ext cx="55623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Librarian for Speci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n R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right Permission As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to ALA Lobby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15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5029200"/>
            <a:ext cx="2057400" cy="390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5880" y="2819520"/>
            <a:ext cx="25322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s Appli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4% access restricted to Carnegie Mellon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% display full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% no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% provide 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% not for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8% license to provide access exp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% fe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% individual us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3% permission to scan exp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81680" y="2133720"/>
            <a:ext cx="3933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y Pri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sample was out of print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locate, less likely to respond,                                 but more likely to grant permission if they resp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367080" y="3006720"/>
          <a:ext cx="5776920" cy="39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7080" y="3006720"/>
                    <a:ext cx="577692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" name=""/>
          <p:cNvGrpSpPr/>
          <p:nvPr/>
        </p:nvGrpSpPr>
        <p:grpSpPr>
          <a:xfrm>
            <a:off x="856800" y="3733920"/>
            <a:ext cx="2267280" cy="1202760"/>
            <a:chOff x="856800" y="3733920"/>
            <a:chExt cx="2267280" cy="1202760"/>
          </a:xfrm>
        </p:grpSpPr>
        <p:sp>
          <p:nvSpPr>
            <p:cNvPr id="129" name=""/>
            <p:cNvSpPr/>
            <p:nvPr/>
          </p:nvSpPr>
          <p:spPr>
            <a:xfrm>
              <a:off x="856800" y="3733920"/>
              <a:ext cx="20185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In pri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Out of pri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95480" y="457200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4038480"/>
              <a:ext cx="2286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32920" y="5823000"/>
            <a:ext cx="3617280" cy="806760"/>
          </a:xfrm>
          <a:prstGeom prst="rect">
            <a:avLst/>
          </a:prstGeom>
          <a:solidFill>
            <a:srgbClr val="d8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rate based on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rate based on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270240" y="3006720"/>
          <a:ext cx="5748480" cy="38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0240" y="3006720"/>
                    <a:ext cx="574848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1294560" y="3733920"/>
            <a:ext cx="1829520" cy="1202760"/>
            <a:chOff x="1294560" y="3733920"/>
            <a:chExt cx="1829520" cy="1202760"/>
          </a:xfrm>
        </p:grpSpPr>
        <p:sp>
          <p:nvSpPr>
            <p:cNvPr id="136" name=""/>
            <p:cNvSpPr/>
            <p:nvPr/>
          </p:nvSpPr>
          <p:spPr>
            <a:xfrm>
              <a:off x="1294560" y="3733920"/>
              <a:ext cx="15811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Domes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oreig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95480" y="457200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95480" y="4038480"/>
              <a:ext cx="22860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% sample was foreign pub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locate, but more likely to grant per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y Publisher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532320" y="2895480"/>
          <a:ext cx="5638680" cy="40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2320" y="2895480"/>
                    <a:ext cx="5638680" cy="40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76320" y="3629160"/>
            <a:ext cx="3502080" cy="2311560"/>
            <a:chOff x="76320" y="3629160"/>
            <a:chExt cx="3502080" cy="2311560"/>
          </a:xfrm>
        </p:grpSpPr>
        <p:sp>
          <p:nvSpPr>
            <p:cNvPr id="144" name=""/>
            <p:cNvSpPr/>
            <p:nvPr/>
          </p:nvSpPr>
          <p:spPr>
            <a:xfrm>
              <a:off x="3349800" y="5595840"/>
              <a:ext cx="2286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320" y="3629160"/>
              <a:ext cx="325620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Scholarly association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University pr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Commercial publisher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Museums &amp; galleri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49800" y="507528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49800" y="4465800"/>
              <a:ext cx="228600" cy="228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9800" y="3932280"/>
              <a:ext cx="2286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y Publishe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% sample was published by commercial publ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ifficult to locate, least likely to respond                     &amp; least likely to grant per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 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ecure copyright permission                           to digitize &amp; provide open access to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dicated lab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transaction c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 to increase response &amp; success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dat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248520" y="4986360"/>
            <a:ext cx="2666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ner Pro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2 – 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6 fine &amp; rare volume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ner 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% (284) were copyright protected                      (104 publisher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archival docu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paper cli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cat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181480" y="3933720"/>
            <a:ext cx="37339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7010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intermittent labor – one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60 letters, but did no follow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labor May through Oct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request letter – sent 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up phone calls or email – 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ed transac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824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ner Pro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2 – 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477120" y="3124080"/>
            <a:ext cx="2438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762120" y="1287360"/>
            <a:ext cx="3276000" cy="3292560"/>
            <a:chOff x="762120" y="1287360"/>
            <a:chExt cx="3276000" cy="3292560"/>
          </a:xfrm>
        </p:grpSpPr>
        <p:sp>
          <p:nvSpPr>
            <p:cNvPr id="161" name=""/>
            <p:cNvSpPr/>
            <p:nvPr/>
          </p:nvSpPr>
          <p:spPr>
            <a:xfrm>
              <a:off x="762120" y="1287360"/>
              <a:ext cx="2917800" cy="32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ill negotia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 respon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 loca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3560" y="2286000"/>
              <a:ext cx="304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33560" y="2895480"/>
              <a:ext cx="3045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33560" y="3581280"/>
              <a:ext cx="304560" cy="2286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33560" y="4191120"/>
              <a:ext cx="3045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33560" y="1663560"/>
              <a:ext cx="304560" cy="2286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" name=""/>
          <p:cNvGraphicFramePr/>
          <p:nvPr/>
        </p:nvGraphicFramePr>
        <p:xfrm>
          <a:off x="6172200" y="990720"/>
          <a:ext cx="266868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990720"/>
                    <a:ext cx="26686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8352000" y="495288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3320" y="5334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3320" y="4267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93320" y="1739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1066680"/>
            <a:ext cx="14479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1282680"/>
            <a:ext cx="12189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495680" y="914400"/>
          <a:ext cx="266868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914400"/>
                    <a:ext cx="2668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793120" y="5029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2400" y="403848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3120" y="3505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3120" y="1739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8152920" y="5181480"/>
            <a:ext cx="3049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4343400"/>
            <a:ext cx="30456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52000" y="106668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229240" y="1295280"/>
            <a:ext cx="30492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560" y="13716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86400" y="1371240"/>
            <a:ext cx="304920" cy="1522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5229360"/>
            <a:ext cx="3809880" cy="1400760"/>
          </a:xfrm>
          <a:prstGeom prst="rect">
            <a:avLst/>
          </a:prstGeom>
          <a:solidFill>
            <a:srgbClr val="d8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akenly requested per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74 out of copyright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ranted per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NOT included in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25920" y="1295280"/>
            <a:ext cx="12189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8160" y="115920"/>
            <a:ext cx="4990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% publishers contac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7% of the tit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911920" y="1081080"/>
          <a:ext cx="2687400" cy="54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1920" y="1081080"/>
                    <a:ext cx="2687400" cy="54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8199720" y="54864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09000" y="4876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0900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83320" y="1066680"/>
            <a:ext cx="129528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387680" y="1071720"/>
          <a:ext cx="2687760" cy="55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7680" y="1071720"/>
                    <a:ext cx="2687760" cy="55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770360" y="5257800"/>
            <a:ext cx="714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85120" y="4800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8512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044920" y="5715000"/>
            <a:ext cx="3049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78400" y="5715000"/>
            <a:ext cx="3049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62120" y="2362320"/>
            <a:ext cx="3276360" cy="2013120"/>
            <a:chOff x="762120" y="2362320"/>
            <a:chExt cx="3276360" cy="2013120"/>
          </a:xfrm>
        </p:grpSpPr>
        <p:sp>
          <p:nvSpPr>
            <p:cNvPr id="205" name=""/>
            <p:cNvSpPr/>
            <p:nvPr/>
          </p:nvSpPr>
          <p:spPr>
            <a:xfrm>
              <a:off x="762120" y="2362320"/>
              <a:ext cx="291780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 respon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33920" y="2736720"/>
              <a:ext cx="30456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33920" y="3346200"/>
              <a:ext cx="30456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3956040"/>
              <a:ext cx="304560" cy="2282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360360" y="2057400"/>
            <a:ext cx="4187880" cy="1879200"/>
            <a:chOff x="360360" y="2057400"/>
            <a:chExt cx="4187880" cy="1879200"/>
          </a:xfrm>
        </p:grpSpPr>
        <p:sp>
          <p:nvSpPr>
            <p:cNvPr id="210" name=""/>
            <p:cNvSpPr/>
            <p:nvPr/>
          </p:nvSpPr>
          <p:spPr>
            <a:xfrm>
              <a:off x="360360" y="2057400"/>
              <a:ext cx="383688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trictions applied to 29% of tit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43320" y="2529000"/>
              <a:ext cx="3049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43320" y="3505320"/>
              <a:ext cx="3049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3" name=""/>
          <p:cNvGraphicFramePr/>
          <p:nvPr/>
        </p:nvGraphicFramePr>
        <p:xfrm>
          <a:off x="6303960" y="1066680"/>
          <a:ext cx="2687760" cy="55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960" y="1066680"/>
                    <a:ext cx="268776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7601040" y="4952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0104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73640" y="1295280"/>
            <a:ext cx="106704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726080" y="1066680"/>
          <a:ext cx="2687400" cy="551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6080" y="1066680"/>
                    <a:ext cx="268740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6023160" y="4800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316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7080" y="115920"/>
            <a:ext cx="5005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% publishers respo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2% of the tit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Unconditional Copyrigh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ne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than 15% of copyrights were renewed                      when renewal wa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ircum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technologies or licenses disallow public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”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d = 95 years or author +7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ublished = 120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4923000"/>
            <a:ext cx="26668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3048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(tit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ner (tit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ner (publis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9880" y="1378080"/>
          <a:ext cx="511488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378080"/>
                    <a:ext cx="511488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6555600" y="32004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09840" y="36576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79640" y="13716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9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86160" y="1981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25909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3962520"/>
            <a:ext cx="2286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276720"/>
            <a:ext cx="2286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2920" y="5823000"/>
            <a:ext cx="3617280" cy="806760"/>
          </a:xfrm>
          <a:prstGeom prst="rect">
            <a:avLst/>
          </a:prstGeom>
          <a:solidFill>
            <a:srgbClr val="d8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rate based on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rate based on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ative Analysis of Restri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154160"/>
          <a:ext cx="9144000" cy="55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54160"/>
                    <a:ext cx="9144000" cy="55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8" name=""/>
          <p:cNvGrpSpPr/>
          <p:nvPr/>
        </p:nvGrpSpPr>
        <p:grpSpPr>
          <a:xfrm>
            <a:off x="5334840" y="2057400"/>
            <a:ext cx="2929680" cy="1202760"/>
            <a:chOff x="5334840" y="2057400"/>
            <a:chExt cx="2929680" cy="1202760"/>
          </a:xfrm>
        </p:grpSpPr>
        <p:sp>
          <p:nvSpPr>
            <p:cNvPr id="239" name=""/>
            <p:cNvSpPr/>
            <p:nvPr/>
          </p:nvSpPr>
          <p:spPr>
            <a:xfrm>
              <a:off x="5334840" y="2057400"/>
              <a:ext cx="2683080" cy="120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Posner stud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easibility stud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35920" y="289548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35920" y="2361960"/>
              <a:ext cx="2286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676520" y="5638680"/>
            <a:ext cx="761760" cy="609840"/>
          </a:xfrm>
          <a:prstGeom prst="rect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638680"/>
            <a:ext cx="761760" cy="609840"/>
          </a:xfrm>
          <a:prstGeom prst="rect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91520" y="5638680"/>
            <a:ext cx="761760" cy="914400"/>
          </a:xfrm>
          <a:prstGeom prst="rect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, more 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follow up calls or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e &amp; nature of the Posner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holders could see                                the quality of the work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566040" y="3581280"/>
            <a:ext cx="2349360" cy="30481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 Increased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y Pri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yet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learned from Million Book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ians consider book to be out of print                                   if exact work is no longer available in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rs consider book to be out of print                                 if no newer edition is available in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781680" y="44956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3227400" y="2979720"/>
          <a:ext cx="584676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7400" y="2979720"/>
                    <a:ext cx="584676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"/>
          <p:cNvGrpSpPr/>
          <p:nvPr/>
        </p:nvGrpSpPr>
        <p:grpSpPr>
          <a:xfrm>
            <a:off x="913320" y="3894120"/>
            <a:ext cx="1829520" cy="1202760"/>
            <a:chOff x="913320" y="3894120"/>
            <a:chExt cx="1829520" cy="1202760"/>
          </a:xfrm>
        </p:grpSpPr>
        <p:sp>
          <p:nvSpPr>
            <p:cNvPr id="254" name=""/>
            <p:cNvSpPr/>
            <p:nvPr/>
          </p:nvSpPr>
          <p:spPr>
            <a:xfrm>
              <a:off x="913320" y="3894120"/>
              <a:ext cx="15811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Domes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oreig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14240" y="473220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14240" y="4198680"/>
              <a:ext cx="22860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y Publisher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% content was foreign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locate, &amp; slightly less likely to respond       or to grant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57200" y="30492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408480" y="2895480"/>
          <a:ext cx="577692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95480"/>
                    <a:ext cx="577692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y Publishe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04200" y="3352680"/>
            <a:ext cx="2994120" cy="3165480"/>
            <a:chOff x="304200" y="3352680"/>
            <a:chExt cx="2994120" cy="3165480"/>
          </a:xfrm>
        </p:grpSpPr>
        <p:sp>
          <p:nvSpPr>
            <p:cNvPr id="264" name=""/>
            <p:cNvSpPr/>
            <p:nvPr/>
          </p:nvSpPr>
          <p:spPr>
            <a:xfrm>
              <a:off x="304200" y="3352680"/>
              <a:ext cx="277920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cholarly asso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niversity pr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mmerc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uthors &amp; esta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pecial publish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nknow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70080" y="4603680"/>
              <a:ext cx="22824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70080" y="5136840"/>
              <a:ext cx="22824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70080" y="5670360"/>
              <a:ext cx="22824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70080" y="4070160"/>
              <a:ext cx="228240" cy="228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70080" y="3606480"/>
              <a:ext cx="22824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70080" y="6127560"/>
              <a:ext cx="228240" cy="2286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publishers are most likely, commercial publishers least likely to grant per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 &amp; estates or units unknown own most          of the content – difficult or impossible to loc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0,8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TE 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3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 c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1,2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24200" y="4800600"/>
            <a:ext cx="4841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3 – Octob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1371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78 per book/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10160" y="228600"/>
            <a:ext cx="3411720" cy="51055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800600" y="5638680"/>
            <a:ext cx="4343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4 let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9 follow up calls or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ltations with Legal Coun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O signatories do not have the same copyright laws (interpretations &amp; pract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abandoned seeking permission for foreign works because legal counsel wanted to examine every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archival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 use to digitize correspondence                                                    from book dealers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fair use to digitize clipp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catalogs are copyright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946920" y="3505320"/>
            <a:ext cx="196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Seeking Per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copyrigh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&amp; locating copyright 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to resp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know what they published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know what rights they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aid of open access &amp; lost reven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499080" y="2743200"/>
            <a:ext cx="2416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lion Book Proj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2 – 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100,000+ U.S. copyrighted boo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focus w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oks for College Libr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300 (25%) are definitely still in copy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,500 (71%) require checking copyright renewal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intermittent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labor started November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anged process to reduce transac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Books for College Librarie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as approval plan for publis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U.S. Copyright Camouf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determine copyright status &amp;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right laws ar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of Copyright keeps no records of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r records are not complete or easily acce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92% of books ever published                                are still in copyright, but out of pr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venue for copyright ow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asy access for potential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00800" y="4678200"/>
            <a:ext cx="25146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est Letter &amp;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du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want to find information online, but use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ccess increases use, even use of older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ccess does not decrease s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ccess can increase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no revenue                                                                     from out of print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est Letter &amp;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n-exclu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mission to digitize &amp; provide open access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ut of print, in copyright ti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itles published prior to  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itles published  #  or more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itles they prov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striction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638680" y="4448160"/>
            <a:ext cx="32767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est Letter &amp;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preservation standards &amp; copyright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trict print &amp; save to only one pag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ages, metadata, &amp; OC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revenue from fee-bas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seeking print on demand vendor,                                      but Indian government objects                                       to commercial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n prompt 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172200" y="4802040"/>
            <a:ext cx="27432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4981680" y="314280"/>
          <a:ext cx="352080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1680" y="314280"/>
                    <a:ext cx="352080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6792840" y="10047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92840" y="19051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199360" y="2362320"/>
            <a:ext cx="714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2840" y="33670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199360" y="5943600"/>
            <a:ext cx="714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2666880"/>
            <a:ext cx="457200" cy="0"/>
          </a:xfrm>
          <a:prstGeom prst="line">
            <a:avLst/>
          </a:prstGeom>
          <a:ln w="572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696080" y="62485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378440" y="1981080"/>
            <a:ext cx="3421800" cy="3762720"/>
            <a:chOff x="1378440" y="1981080"/>
            <a:chExt cx="3421800" cy="3762720"/>
          </a:xfrm>
        </p:grpSpPr>
        <p:sp>
          <p:nvSpPr>
            <p:cNvPr id="306" name=""/>
            <p:cNvSpPr/>
            <p:nvPr/>
          </p:nvSpPr>
          <p:spPr>
            <a:xfrm>
              <a:off x="1378440" y="1981080"/>
              <a:ext cx="3065760" cy="37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 at this ti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ill negotia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 respon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 strikes &amp; you’re ou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95680" y="2390400"/>
              <a:ext cx="304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95680" y="3054240"/>
              <a:ext cx="3045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95680" y="3740040"/>
              <a:ext cx="304560" cy="228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95680" y="4425840"/>
              <a:ext cx="30456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95680" y="5111640"/>
              <a:ext cx="3045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228600" y="152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5076720" y="1044720"/>
          <a:ext cx="4476960" cy="58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44720"/>
                    <a:ext cx="447696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7183440" y="58467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183440" y="395604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83440" y="15033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05120" y="1905120"/>
            <a:ext cx="29178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ion gra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ion den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% university p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% scholarly asso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2314440"/>
            <a:ext cx="30456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2978280"/>
            <a:ext cx="3045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3664080"/>
            <a:ext cx="304560" cy="2286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15228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d Negoti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3048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(tit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ner (tit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ner (publis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P (publis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d negot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809880" y="1378080"/>
          <a:ext cx="511488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378080"/>
                    <a:ext cx="511488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6555600" y="32004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809840" y="36576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52680" y="25909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3962520"/>
            <a:ext cx="2286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52680" y="3276720"/>
            <a:ext cx="2286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2920" y="5823000"/>
            <a:ext cx="3617280" cy="806760"/>
          </a:xfrm>
          <a:prstGeom prst="rect">
            <a:avLst/>
          </a:prstGeom>
          <a:solidFill>
            <a:srgbClr val="d8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rate based on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rate based on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4648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22480" y="11430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774920" y="403848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5076720" y="1044720"/>
          <a:ext cx="4476960" cy="58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44720"/>
                    <a:ext cx="447696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7183440" y="56530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83440" y="28954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165080" y="15238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9520" y="1905120"/>
            <a:ext cx="390096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s # or more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s prior to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tit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ut of print tit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2994120"/>
            <a:ext cx="30456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3045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4343400"/>
            <a:ext cx="304560" cy="2286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of Permissions Grant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2362320"/>
            <a:ext cx="304560" cy="2286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97680" y="1523880"/>
            <a:ext cx="714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6705720" y="1371240"/>
            <a:ext cx="380880" cy="30492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3214800" y="2936880"/>
          <a:ext cx="5846760" cy="39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4800" y="2936880"/>
                    <a:ext cx="5846760" cy="39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y Publishe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publishers, authors &amp; estates are most likely to grant per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publishers &amp; university presses                       are least likely to grant per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28240" y="3733920"/>
            <a:ext cx="2994120" cy="2653560"/>
            <a:chOff x="228240" y="3733920"/>
            <a:chExt cx="2994120" cy="2653560"/>
          </a:xfrm>
        </p:grpSpPr>
        <p:sp>
          <p:nvSpPr>
            <p:cNvPr id="354" name=""/>
            <p:cNvSpPr/>
            <p:nvPr/>
          </p:nvSpPr>
          <p:spPr>
            <a:xfrm>
              <a:off x="228240" y="3733920"/>
              <a:ext cx="27792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cholarly asso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niversity pr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mmerc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uthors &amp; esta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pecial publish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93760" y="498456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93760" y="5518080"/>
              <a:ext cx="2286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993760" y="6051600"/>
              <a:ext cx="2286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93760" y="4451400"/>
              <a:ext cx="228600" cy="228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93760" y="3987720"/>
              <a:ext cx="2286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Transactio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28,5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4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 c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2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29,2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0320" y="4749840"/>
            <a:ext cx="4841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v 2003 – Sept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1000" y="137160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0.62  per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419720" y="2260440"/>
            <a:ext cx="4495680" cy="29941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494240" y="1371600"/>
            <a:ext cx="42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ghly 47,500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5486400"/>
            <a:ext cx="4343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40 letters (25% in emai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82 follow up calls or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 including Administrato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31,0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5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 c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41,7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4749840"/>
            <a:ext cx="53341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v 2003 – Sept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cost of Internet connectivity, database creation,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or administrator time on grant propos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1000" y="137160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0.88  per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94240" y="1371600"/>
            <a:ext cx="42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ghly 47,500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2133720"/>
            <a:ext cx="4419720" cy="2541960"/>
          </a:xfrm>
          <a:prstGeom prst="rect">
            <a:avLst/>
          </a:prstGeom>
          <a:solidFill>
            <a:srgbClr val="d8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89 email messages (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ess 10 let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ess $50 phon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ess 300 hours data analysi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sentations &amp; 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562720" y="4952880"/>
            <a:ext cx="3352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ing non-exclusive permission to digitize                              &amp; provide open access to copyrighted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4" marL="48279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–2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ility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8279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–200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ne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48279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3–20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on book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860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742840" y="151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5880" y="4778280"/>
            <a:ext cx="281952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ity P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an with university pr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analysis of feasibility study data indicated they were more likely to grant per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right often reverts to author                                  when books go out of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cent books will never go out of print          because of print on demand contr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party copyright ownership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presses will consider titles WE specif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5400720" cy="8002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ing lists of titles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oks for College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inutes per title to verify citation &amp; copyrigh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Lesk’s copyright renewal records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cost effective to verify pri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300 titles takes 30 hours to pre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uthors or estates – Authors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rged $2.50 fee per author/estat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me day response (25 reque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52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2% accurac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629400" y="5091120"/>
            <a:ext cx="22860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hle v. Ashcroft – Supreme C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llenge U.S. copyright system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cords of copyright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ies public access to orphaned works    without providing any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examples of how barriers                                                 to using out of print books                                  burden your work           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otabug.com/kahle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6019920" y="4005360"/>
            <a:ext cx="28954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Domain Enhancement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 hol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small fee ($1.00) 50 years after publication     &amp; every 10 years thereafter to retain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onta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opyright Off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financial transaction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public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7104240" y="3276720"/>
            <a:ext cx="1811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2838600"/>
            <a:ext cx="5562720" cy="31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nise Troll Co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Librarian for Speci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troll@andrew.cmu.ed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2 268 85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943600" y="2438280"/>
            <a:ext cx="2792520" cy="3962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sibility Study     1999 – 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8 random books in the library cat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5% (351) were copyright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% (76) were eliminated from the stu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takenly cataloged as books (1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-party copyright ownership (1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sample was 277 titles                                           (209 publisher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72200" y="4398840"/>
            <a:ext cx="27432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sibility Stu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ittent labor – 4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request letters – sent 2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up request letters – sent 2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60% of publishers receive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letters sent month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track transac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248520" y="4697280"/>
            <a:ext cx="26668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914400" y="1501920"/>
            <a:ext cx="3276720" cy="3165480"/>
            <a:chOff x="914400" y="1501920"/>
            <a:chExt cx="3276720" cy="3165480"/>
          </a:xfrm>
        </p:grpSpPr>
        <p:sp>
          <p:nvSpPr>
            <p:cNvPr id="66" name=""/>
            <p:cNvSpPr/>
            <p:nvPr/>
          </p:nvSpPr>
          <p:spPr>
            <a:xfrm>
              <a:off x="914400" y="1501920"/>
              <a:ext cx="291780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 respon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 loca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86200" y="1981080"/>
              <a:ext cx="3049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86200" y="2743200"/>
              <a:ext cx="3049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6200" y="3505320"/>
              <a:ext cx="304920" cy="2286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86200" y="4267080"/>
              <a:ext cx="3049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702320" y="1066680"/>
            <a:ext cx="4289400" cy="5510160"/>
            <a:chOff x="4702320" y="1066680"/>
            <a:chExt cx="4289400" cy="5510160"/>
          </a:xfrm>
        </p:grpSpPr>
        <p:graphicFrame>
          <p:nvGraphicFramePr>
            <p:cNvPr id="72" name=""/>
            <p:cNvGraphicFramePr/>
            <p:nvPr/>
          </p:nvGraphicFramePr>
          <p:xfrm>
            <a:off x="6302520" y="1066680"/>
            <a:ext cx="2689200" cy="5510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02520" y="1066680"/>
                      <a:ext cx="2689200" cy="55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7599960" y="5181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99960" y="4191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99960" y="2895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99960" y="17398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45320" y="1066680"/>
              <a:ext cx="144792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97960" y="1282680"/>
              <a:ext cx="1218960" cy="419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4702320" y="1066680"/>
            <a:ext cx="2687760" cy="551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2320" y="1066680"/>
                      <a:ext cx="2687760" cy="55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5999760" y="5105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99760" y="4038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8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99760" y="2895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99760" y="17398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28600" y="5229360"/>
            <a:ext cx="3886200" cy="1400760"/>
          </a:xfrm>
          <a:prstGeom prst="rect">
            <a:avLst/>
          </a:prstGeom>
          <a:solidFill>
            <a:srgbClr val="d8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akenly requested per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4 out of copyright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ermission granted; 3 den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NOT included in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57600" y="1295280"/>
            <a:ext cx="121932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62120" y="2286000"/>
            <a:ext cx="3276360" cy="2269080"/>
            <a:chOff x="762120" y="2286000"/>
            <a:chExt cx="3276360" cy="2269080"/>
          </a:xfrm>
        </p:grpSpPr>
        <p:sp>
          <p:nvSpPr>
            <p:cNvPr id="90" name=""/>
            <p:cNvSpPr/>
            <p:nvPr/>
          </p:nvSpPr>
          <p:spPr>
            <a:xfrm>
              <a:off x="762120" y="2286000"/>
              <a:ext cx="2917800" cy="22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 respon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920" y="2728800"/>
              <a:ext cx="304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33920" y="3414600"/>
              <a:ext cx="3045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33920" y="4100400"/>
              <a:ext cx="304560" cy="2286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08160" y="115920"/>
            <a:ext cx="4876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% publishers conta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1% of the tit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943600" y="1066680"/>
          <a:ext cx="2687760" cy="55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066680"/>
                    <a:ext cx="268776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7250400" y="4800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40680" y="3200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4068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1066680"/>
            <a:ext cx="129528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419720" y="1066680"/>
          <a:ext cx="2687400" cy="551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066680"/>
                    <a:ext cx="268740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726160" y="4648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16800" y="3213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680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380280" y="1066680"/>
          <a:ext cx="2687400" cy="55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0280" y="1066680"/>
                    <a:ext cx="268740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7677360" y="4343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7736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9960" y="1295280"/>
            <a:ext cx="1066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802040" y="1066680"/>
          <a:ext cx="2687760" cy="551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2040" y="1066680"/>
                    <a:ext cx="268776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099480" y="4343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948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7080" y="115920"/>
            <a:ext cx="5005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% publishers respo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3% of the tit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5883120"/>
            <a:ext cx="4572000" cy="747360"/>
          </a:xfrm>
          <a:prstGeom prst="rect">
            <a:avLst/>
          </a:prstGeom>
          <a:solidFill>
            <a:srgbClr val="d8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101 days for permission gr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124 days for permission den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7400"/>
            <a:ext cx="4187880" cy="1879200"/>
            <a:chOff x="360360" y="2057400"/>
            <a:chExt cx="4187880" cy="1879200"/>
          </a:xfrm>
        </p:grpSpPr>
        <p:sp>
          <p:nvSpPr>
            <p:cNvPr id="118" name=""/>
            <p:cNvSpPr/>
            <p:nvPr/>
          </p:nvSpPr>
          <p:spPr>
            <a:xfrm>
              <a:off x="360360" y="2057400"/>
              <a:ext cx="383688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trictions applied to 68% of tit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43320" y="2529000"/>
              <a:ext cx="3049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43320" y="3505320"/>
              <a:ext cx="3049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3:55:02Z</dcterms:created>
  <dc:creator>covey</dc:creator>
  <dc:description/>
  <dc:language>en-US</dc:language>
  <cp:lastModifiedBy>Denise Troll Covey</cp:lastModifiedBy>
  <dcterms:modified xsi:type="dcterms:W3CDTF">2008-05-12T16:11:22Z</dcterms:modified>
  <cp:revision>152</cp:revision>
  <dc:subject/>
  <dc:title>Slide 1</dc:title>
</cp:coreProperties>
</file>