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9.png" ContentType="image/png"/>
  <Override PartName="/ppt/media/image17.wmf" ContentType="image/x-wmf"/>
  <Override PartName="/ppt/media/image13.gif" ContentType="image/gif"/>
  <Override PartName="/ppt/media/image8.gif" ContentType="image/gif"/>
  <Override PartName="/ppt/media/image19.jpeg" ContentType="image/jpeg"/>
  <Override PartName="/ppt/media/image1.jpeg" ContentType="image/jpeg"/>
  <Override PartName="/ppt/media/image5.png" ContentType="image/png"/>
  <Override PartName="/ppt/media/image18.gif" ContentType="image/gif"/>
  <Override PartName="/ppt/media/image4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png" ContentType="image/png"/>
  <Override PartName="/ppt/media/image6.png" ContentType="image/png"/>
  <Override PartName="/ppt/media/image7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D38-2636-46CD-894A-54DB8B1A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A91-EC1B-4A21-A496-1E448EF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F12-CFE0-46B3-85FF-91028649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A5A-BB57-48FC-A6C7-377F523B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579C-A69F-4B31-8C3A-E8B9A3BF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6007-9CF3-4E29-AB90-2252B618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503-3F24-4F3C-A32A-00BF1AE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E96-F3F2-4F8E-9288-AD50DC91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F42-F90E-4D87-96C9-AF1D913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385-101B-4486-916D-036A315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08A-224C-4639-A9AD-2C731A8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949-8DFE-4A9B-AD40-446E930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FCB-BE49-4609-9E42-E459B59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57C-FAE9-4AB2-A962-9712A26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6240-3500-4C63-AD82-B22B3CF0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AFBF-FBB6-4F37-ADD9-77AA452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2E17-A957-4DFB-981C-05FE9C10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EB8-93B3-4D0D-91E9-8E54DDB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74C-D1A0-43F7-B68C-F9669E5B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41F-B0F3-4DCB-A251-CBFE69B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3D6-7A07-4670-BFFB-2D56F66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70C-B25D-418A-94C3-1077035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7AD3-4CA1-475A-A8B2-B0C7355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C29-C409-4C19-85A9-B9FDF9E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4071-DC6B-4462-B1AF-AFD0AD80A8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08D-C5BC-4CB0-B1DB-6A28E512598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gi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8.gif"/><Relationship Id="rId6" Type="http://schemas.openxmlformats.org/officeDocument/2006/relationships/image" Target="../media/image17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lir.org/diglib/use/useframe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clir.org/diglib/use/whitepaper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22856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82400"/>
                </a:solidFill>
                <a:latin typeface="Times New Roman"/>
              </a:rPr>
              <a:t>Usage &amp; Usability</a:t>
            </a:r>
            <a:endParaRPr b="0" lang="en-US" sz="7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ed Fellow, Digital Library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University Librarian,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6, 2001 – LRRT, 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2028600" cy="1860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76440" y="304920"/>
            <a:ext cx="712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389400">
            <a:off x="5789520" y="4664160"/>
            <a:ext cx="2287800" cy="1754280"/>
          </a:xfrm>
          <a:prstGeom prst="cloudCallout">
            <a:avLst>
              <a:gd name="adj1" fmla="val 90106"/>
              <a:gd name="adj2" fmla="val 42703"/>
            </a:avLst>
          </a:prstGeom>
          <a:solidFill>
            <a:srgbClr val="8df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9280" y="4952880"/>
            <a:ext cx="2058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both pr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e-reser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How do you define cost-effectiveness?</a:t>
            </a:r>
            <a:br>
              <a:rPr sz="36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-Reser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3443400"/>
            <a:ext cx="3808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33560" y="3443400"/>
            <a:ext cx="3808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2209680" y="1981080"/>
            <a:ext cx="1524240" cy="149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3733920" y="1981080"/>
            <a:ext cx="1523880" cy="14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lications of Assess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2000" y="1980720"/>
            <a:ext cx="808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ganizing, recruiting, &amp; creating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ility &amp; Interface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 of Organizational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Education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staff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a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             &amp;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effectiv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ing the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400800" y="4191120"/>
            <a:ext cx="2438280" cy="238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reative Use of Web Stat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# page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high-use pages high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high-use pages complete &amp; up-to-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low-use pages low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ize or reduce maintenance of low-use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links to queried pages high in the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 site vocabul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reative Use of Web Stat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2000" y="1981080"/>
            <a:ext cx="808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y domain, location, or user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collection &amp; servic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user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arget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 URLs indicate satisfaction &amp;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ublicity or redesign increase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use times are for system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urvey Questionna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o assess usage patterns; shifts in attitude; user needs, expectations, &amp; satisfaction; service quality; market niche; &amp; collection strengths, weaknesses, &amp; relevance to the curri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Inform budget requests &amp; investments; justify expenditures; reallocate resources; set priorities; target training &amp;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197920" y="228600"/>
            <a:ext cx="469800" cy="116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what users do     or want to do; assess the use, effectiveness, &amp; usefulness of collections &amp; services; verify the results of previous research; inform new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hypotheses, assumptions, &amp; user needs; plan library renovations, training, instruction, publicity; inform collection development &amp; access decisions; inform or validate interface design plans; reorganize the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8001000" y="304920"/>
            <a:ext cx="65088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k-Aloud Protocol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conduct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problems in interface design, functionality, navigation, &amp;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pply the results?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 redesign          of the library web site &amp; digital collections;      inform customization of the OPAC interface;      verify improvements in service                             quality &amp; interface design;                                      develop library instruction;                                 revise metadata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477120" y="4724280"/>
            <a:ext cx="2361960" cy="1857600"/>
          </a:xfrm>
          <a:prstGeom prst="rect">
            <a:avLst/>
          </a:prstGeom>
          <a:ln w="0">
            <a:noFill/>
          </a:ln>
        </p:spPr>
      </p:pic>
      <p:pic>
        <p:nvPicPr>
          <p:cNvPr id="152" name="bs00508_" descr=""/>
          <p:cNvPicPr/>
          <p:nvPr/>
        </p:nvPicPr>
        <p:blipFill>
          <a:blip r:embed="rId5"/>
          <a:stretch/>
        </p:blipFill>
        <p:spPr>
          <a:xfrm>
            <a:off x="7915320" y="609480"/>
            <a:ext cx="9237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 sorting exercise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roup web site links,     &amp; 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&amp; grou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 evaluation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dentify problems     in interface design, functionality, &amp; nav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prototypes &amp; scenario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ke protoc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ount Usability Resear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772400" y="3429000"/>
            <a:ext cx="1066680" cy="739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Site Vocabul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s00508_" descr=""/>
          <p:cNvPicPr/>
          <p:nvPr/>
        </p:nvPicPr>
        <p:blipFill>
          <a:blip r:embed="rId6"/>
          <a:stretch/>
        </p:blipFill>
        <p:spPr>
          <a:xfrm>
            <a:off x="7915320" y="609480"/>
            <a:ext cx="923760" cy="976320"/>
          </a:xfrm>
          <a:prstGeom prst="rect">
            <a:avLst/>
          </a:prstGeom>
          <a:ln w="0">
            <a:noFill/>
          </a:ln>
        </p:spPr>
      </p:pic>
      <p:pic>
        <p:nvPicPr>
          <p:cNvPr id="158" name="EXPHORSA" descr=""/>
          <p:cNvPicPr/>
          <p:nvPr/>
        </p:nvPicPr>
        <p:blipFill>
          <a:blip r:embed="rId7"/>
          <a:stretch/>
        </p:blipFill>
        <p:spPr>
          <a:xfrm>
            <a:off x="1066680" y="4191120"/>
            <a:ext cx="7772400" cy="12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rious Issu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2000" y="1980720"/>
            <a:ext cx="808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tandards, guidelines, benchmarks, comparable data, &amp; articulated pro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ruiting representative human 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 &amp; bureau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LaptopStudents1" descr=""/>
          <p:cNvPicPr/>
          <p:nvPr/>
        </p:nvPicPr>
        <p:blipFill>
          <a:blip r:embed="rId8"/>
          <a:stretch/>
        </p:blipFill>
        <p:spPr>
          <a:xfrm>
            <a:off x="518148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gital Library Federation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5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ive on usage, usability, &amp; user support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http://www.clir.org/diglib/use/useframe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ed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e library directors to outline research into how &amp; why libraries are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a usage &amp; usability survey                    to discover DLF library issues &amp;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brary Tre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3808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s &amp;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8840" y="1904760"/>
            <a:ext cx="3808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s &amp;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5120" y="286560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2790720"/>
            <a:ext cx="2133720" cy="2086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4952880"/>
            <a:ext cx="7620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ther changes are occurring in librari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know about the con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really happening &amp;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How &amp; Why Are Libraries Changing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2000" y="1981080"/>
            <a:ext cx="808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al white paper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http://www.clir.org/diglib/use/whitepaper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Director Meeting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&amp; comment on the whit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the 5 most importan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as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ck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di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&amp;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consensus on 5-6 new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utsell to Survey Academ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 of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use of internal &amp; exter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relevant environment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ga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rend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sample &gt; 3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survey fall 200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6389640" y="3657600"/>
            <a:ext cx="246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age &amp; Usability Surve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62040" y="4724280"/>
          <a:ext cx="6782040" cy="1676520"/>
        </p:xfrm>
        <a:graphic>
          <a:graphicData uri="http://schemas.openxmlformats.org/drawingml/2006/table">
            <a:tbl>
              <a:tblPr/>
              <a:tblGrid>
                <a:gridCol w="1981440"/>
                <a:gridCol w="1752480"/>
                <a:gridCol w="213372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4ffc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066680" y="198108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ata do DLF sites ga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they do with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rks well?  What doesn’t work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reating a culture of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ata Gath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558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&amp; digit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satisfaction ra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quality g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al U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592800">
            <a:off x="685800" y="5257440"/>
            <a:ext cx="1065240" cy="714240"/>
          </a:xfrm>
          <a:custGeom>
            <a:avLst/>
            <a:gdLst>
              <a:gd name="textAreaLeft" fmla="*/ 227520 w 1065240"/>
              <a:gd name="textAreaRight" fmla="*/ 837720 w 1065240"/>
              <a:gd name="textAreaTop" fmla="*/ 177840 h 714240"/>
              <a:gd name="textAreaBottom" fmla="*/ 5364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379"/>
                </a:moveTo>
                <a:lnTo>
                  <a:pt x="12404" y="5379"/>
                </a:lnTo>
                <a:lnTo>
                  <a:pt x="12404" y="0"/>
                </a:lnTo>
                <a:lnTo>
                  <a:pt x="21600" y="10800"/>
                </a:lnTo>
                <a:lnTo>
                  <a:pt x="12404" y="21600"/>
                </a:lnTo>
                <a:lnTo>
                  <a:pt x="12404" y="16221"/>
                </a:lnTo>
                <a:lnTo>
                  <a:pt x="0" y="16221"/>
                </a:lnTo>
                <a:lnTo>
                  <a:pt x="4616" y="10800"/>
                </a:lnTo>
                <a:lnTo>
                  <a:pt x="0" y="537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114800"/>
            <a:ext cx="3200400" cy="2286000"/>
          </a:xfrm>
          <a:prstGeom prst="cloudCallout">
            <a:avLst>
              <a:gd name="adj1" fmla="val -104513"/>
              <a:gd name="adj2" fmla="val 9861"/>
            </a:avLst>
          </a:prstGeom>
          <a:solidFill>
            <a:srgbClr val="daf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68240" y="4495680"/>
            <a:ext cx="22669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-effectivenes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&amp;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ata Strugg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the right 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comparab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&amp; managing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how to us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782400">
            <a:off x="6175080" y="2084040"/>
            <a:ext cx="2743200" cy="1724040"/>
          </a:xfrm>
          <a:prstGeom prst="cloudCallout">
            <a:avLst>
              <a:gd name="adj1" fmla="val 7180"/>
              <a:gd name="adj2" fmla="val 99944"/>
            </a:avLst>
          </a:prstGeom>
          <a:solidFill>
            <a:srgbClr val="f9e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2514600"/>
            <a:ext cx="2109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d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-effective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81280" y="304920"/>
            <a:ext cx="5562720" cy="1143000"/>
          </a:xfrm>
          <a:prstGeom prst="cloudCallout">
            <a:avLst>
              <a:gd name="adj1" fmla="val -89240"/>
              <a:gd name="adj2" fmla="val -369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erence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1766880"/>
          <a:ext cx="8077320" cy="4883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1447560"/>
                <a:gridCol w="1447920"/>
                <a:gridCol w="990720"/>
                <a:gridCol w="838080"/>
                <a:gridCol w="91440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R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 Desk   In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 Desk Tele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ian Desk Teleph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rot="14598600">
            <a:off x="5675040" y="1909440"/>
            <a:ext cx="2967120" cy="3421080"/>
          </a:xfrm>
          <a:prstGeom prst="cloudCallout">
            <a:avLst>
              <a:gd name="adj1" fmla="val -83939"/>
              <a:gd name="adj2" fmla="val 3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9760" y="2716200"/>
            <a:ext cx="2303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ata to ga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what purpo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oft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hat co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with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590920"/>
            <a:ext cx="2895840" cy="1371600"/>
          </a:xfrm>
          <a:prstGeom prst="cloudCallout">
            <a:avLst>
              <a:gd name="adj1" fmla="val -38708"/>
              <a:gd name="adj2" fmla="val 1008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9640" y="2792520"/>
            <a:ext cx="2213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emographic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572000"/>
            <a:ext cx="2514600" cy="1219320"/>
          </a:xfrm>
          <a:prstGeom prst="cloudCallout">
            <a:avLst>
              <a:gd name="adj1" fmla="val -102523"/>
              <a:gd name="adj2" fmla="val 3281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58720" y="4773600"/>
            <a:ext cx="154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iva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71040" y="430200"/>
            <a:ext cx="4127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t transcripts, email, &amp; FA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used to create a reference data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410080"/>
            <a:ext cx="3124440" cy="1143000"/>
          </a:xfrm>
          <a:prstGeom prst="cloudCallout">
            <a:avLst>
              <a:gd name="adj1" fmla="val -99134"/>
              <a:gd name="adj2" fmla="val -1069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4880" y="5611680"/>
            <a:ext cx="2015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-around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6:39:14Z</dcterms:created>
  <dc:creator>Denise Troll</dc:creator>
  <dc:description/>
  <dc:language>en-US</dc:language>
  <cp:lastModifiedBy>Denise Troll</cp:lastModifiedBy>
  <dcterms:modified xsi:type="dcterms:W3CDTF">2001-06-11T09:56:12Z</dcterms:modified>
  <cp:revision>63</cp:revision>
  <dc:subject/>
  <dc:title>Usage, Usability,  &amp; User Support</dc:title>
</cp:coreProperties>
</file>