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ct" ContentType="image/x-pict"/>
  <Override PartName="/ppt/media/image22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0.pct" ContentType="image/x-pict"/>
  <Override PartName="/ppt/media/image29.pct" ContentType="image/x-pict"/>
  <Override PartName="/ppt/media/image11.pct" ContentType="image/x-pict"/>
  <Override PartName="/ppt/media/image6.pct" ContentType="image/x-pict"/>
  <Override PartName="/ppt/media/image36.pct" ContentType="image/x-pict"/>
  <Override PartName="/ppt/media/image12.pct" ContentType="image/x-pict"/>
  <Override PartName="/ppt/media/image7.pct" ContentType="image/x-pict"/>
  <Override PartName="/ppt/media/image37.pct" ContentType="image/x-pict"/>
  <Override PartName="/ppt/media/image8.pct" ContentType="image/x-pict"/>
  <Override PartName="/ppt/media/image13.pct" ContentType="image/x-pict"/>
  <Override PartName="/ppt/media/image9.pct" ContentType="image/x-pict"/>
  <Override PartName="/ppt/media/image30.pct" ContentType="image/x-pict"/>
  <Override PartName="/ppt/media/image35.pct" ContentType="image/x-pict"/>
  <Override PartName="/ppt/media/image5.pct" ContentType="image/x-pict"/>
  <Override PartName="/ppt/media/image28.pct" ContentType="image/x-pict"/>
  <Override PartName="/ppt/media/image34.jpeg" ContentType="image/jpeg"/>
  <Override PartName="/ppt/media/image4.pct" ContentType="image/x-pict"/>
  <Override PartName="/ppt/media/image27.pct" ContentType="image/x-pict"/>
  <Override PartName="/ppt/media/image33.pct" ContentType="image/x-pict"/>
  <Override PartName="/ppt/media/image3.pct" ContentType="image/x-pict"/>
  <Override PartName="/ppt/media/image26.pct" ContentType="image/x-pict"/>
  <Override PartName="/ppt/media/image32.pct" ContentType="image/x-pict"/>
  <Override PartName="/ppt/media/image2.pct" ContentType="image/x-pict"/>
  <Override PartName="/ppt/media/image25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4.pct" ContentType="image/x-pict"/>
  <Override PartName="/ppt/media/image15.pct" ContentType="image/x-pi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8770-197F-463E-BE36-B085EE85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8F63-8D5C-407F-8454-4CFEEDBC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E0A-EDF7-4E57-97F1-4458512E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A88-305D-458B-8BA0-410C08996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F72-58A4-4925-B7F8-9A86843AB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B44F-D162-49A4-8F23-C8C6B66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833-7C03-46B0-A789-8EAEE8F8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16F-0F29-4F54-AC62-FB0C3A5C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853-6A4E-4A3D-82DD-EFC93E93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541A-31DB-4879-A34D-EEF29BE4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B34-47B2-44EF-BB0F-7264B23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EC91-B0A2-4E0C-97A5-D78156E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86F2-BBE0-4A10-8FA3-4C7B9F34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ct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ct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ct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ct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ct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ct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ct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ct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ct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pct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6.pct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pct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Makes Second Language Learning So Diffic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asha Tokowi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eptual Sali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3520" y="1498680"/>
            <a:ext cx="3886200" cy="528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99080" y="1600200"/>
            <a:ext cx="3987720" cy="51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812960" y="4037040"/>
            <a:ext cx="245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sa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80040" y="4008600"/>
            <a:ext cx="2454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w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sal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stributed Feature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 Groot (199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66920" y="1866960"/>
            <a:ext cx="4438800" cy="491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Else Meanings May Diff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lexical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bling” in Dutch =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roer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en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usse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rothers and siste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ly-specific con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ezelli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 in Dutch =  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lturally-distinct 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ombr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, “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glesi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ness of application of terms in the two languages--semantic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positions (Ijaz, 198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 boundaries differ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rman learners of English under-emphasize contact and over-emphasize movement for “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 translation equivalent of “on” in German is “auf”, which can denote a motional meaning like the English word “u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ult is multiple translations, which are problematic for the L2 lear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urces of Multiple Transl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ecise correspondence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nony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ofá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ofa or c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biguity within a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la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idr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vas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ser or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in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mbiguity at Its Worst: “Trunk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76720" y="3695760"/>
            <a:ext cx="2209680" cy="1485720"/>
            <a:chOff x="3276720" y="3695760"/>
            <a:chExt cx="2209680" cy="1485720"/>
          </a:xfrm>
        </p:grpSpPr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3962520" y="3695760"/>
              <a:ext cx="15238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3276720" y="4838760"/>
              <a:ext cx="1066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838080" y="5410080"/>
            <a:ext cx="2536920" cy="993960"/>
            <a:chOff x="838080" y="5410080"/>
            <a:chExt cx="2536920" cy="993960"/>
          </a:xfrm>
        </p:grpSpPr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1676520" y="5410080"/>
              <a:ext cx="169848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838080" y="5867280"/>
              <a:ext cx="838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495680" y="1447920"/>
            <a:ext cx="2971800" cy="888840"/>
            <a:chOff x="4495680" y="1447920"/>
            <a:chExt cx="2971800" cy="888840"/>
          </a:xfrm>
        </p:grpSpPr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4876920" y="1676520"/>
              <a:ext cx="2590560" cy="6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4495680" y="1447920"/>
              <a:ext cx="53352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52280" y="2209680"/>
            <a:ext cx="1951200" cy="1676520"/>
            <a:chOff x="152280" y="2209680"/>
            <a:chExt cx="1951200" cy="1676520"/>
          </a:xfrm>
        </p:grpSpPr>
        <p:pic>
          <p:nvPicPr>
            <p:cNvPr id="82" name="" descr=""/>
            <p:cNvPicPr/>
            <p:nvPr/>
          </p:nvPicPr>
          <p:blipFill>
            <a:blip r:embed="rId4"/>
            <a:stretch/>
          </p:blipFill>
          <p:spPr>
            <a:xfrm>
              <a:off x="1371600" y="2209680"/>
              <a:ext cx="7318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52280" y="3048120"/>
              <a:ext cx="10670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4344480" y="2514600"/>
            <a:ext cx="40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achterba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kofferba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1480" y="289548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rom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87840" y="4533840"/>
            <a:ext cx="365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t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 or 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boomstronk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6360" y="633888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Times New Roman"/>
              </a:rPr>
              <a:t>slurf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xperiment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appens when meanings differ?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consequences depending on type of multiple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ony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anslation T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429000" y="285768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429000" y="2857680"/>
            <a:ext cx="228600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46480" y="2489040"/>
            <a:ext cx="2697120" cy="231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619440" y="1117440"/>
            <a:ext cx="2019240" cy="1791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713040" y="1346040"/>
            <a:ext cx="177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gato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fficulties in Adult Second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guag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lot of information to lea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barrassment at speak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between the new language and your native language</a:t>
            </a:r>
            <a:br>
              <a:rPr sz="3200"/>
            </a:br>
            <a:br>
              <a:rPr sz="1200"/>
            </a:b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(e.g., The Competition Model, MacWhinney &amp; Bates, 1989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ethod of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icipants: adult L2 lear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4 Dutch-English Spea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nslated words aloud in both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1 to 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2 to 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rded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ction time for correct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ipula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and type of trans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mean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forms for meaning se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eptual salience” (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composite measure of concreteness and context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mber of translations n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trans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umber of meanings trans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.g., if said “slurf”, translated snout mea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mantic similarity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similar in meaning are these wor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pairs were considered translation e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m similarity ra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similar are these words in spelling/soun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pairs were considered translation equival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articipant Characteristics-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447920" y="2057400"/>
          <a:ext cx="6172200" cy="4043160"/>
        </p:xfrm>
        <a:graphic>
          <a:graphicData uri="http://schemas.openxmlformats.org/drawingml/2006/table">
            <a:tbl>
              <a:tblPr/>
              <a:tblGrid>
                <a:gridCol w="4190760"/>
                <a:gridCol w="1981440"/>
              </a:tblGrid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s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e 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Studied L2 (Year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Immersion Experience (Month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Read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Writing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Conversation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2 Speech Comprehension Ab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dictions for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 conceptual salience words faster than low conceptual salience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forms slower than one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select one to say (e.g., vaso, vidr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meanings slower than one m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select one to translate (e.g., trun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ta Analysis of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erarchical regression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varied effects of word length and frequ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ality taken into accou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collapsed across dir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sults of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1600200"/>
          <a:ext cx="5105160" cy="4797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00200"/>
                    <a:ext cx="5105160" cy="479736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562720" y="159984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words show C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for multiple forms similar for high and low CS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st for multiple meanings only for high CS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16720" y="6423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uracy Data: Experi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4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ambiguous words show CS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gh CS words with multiple meanings lower in accur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1811160"/>
            <a:ext cx="487656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odel of Language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apted from Poulisse &amp; Bongaerts (199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ges of language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s of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43000" y="2120760"/>
            <a:ext cx="6477120" cy="364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, Why Learn Another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245520" y="5565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156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strawber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48840" y="4114800"/>
            <a:ext cx="23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aardbe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21193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72400" y="228600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328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450440" y="5372280"/>
            <a:ext cx="1374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awber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80680" y="5372280"/>
            <a:ext cx="124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aardbei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4145040"/>
            <a:ext cx="26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strawberry raspbe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48840" y="411480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aardbei frambo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14156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thr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, Why Learn Another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Titanium:Desktop Folder:Hunter:FISH~1.MPE.mpg" descr=""/>
          <p:cNvPicPr/>
          <p:nvPr/>
        </p:nvPicPr>
        <p:blipFill>
          <a:blip r:embed="rId1"/>
          <a:stretch/>
        </p:blipFill>
        <p:spPr>
          <a:xfrm>
            <a:off x="1981080" y="2362320"/>
            <a:ext cx="4881600" cy="33559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1560" y="2209680"/>
            <a:ext cx="6489720" cy="3654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strot     kee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934320" y="2971800"/>
            <a:ext cx="172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7f2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943240" y="3352680"/>
            <a:ext cx="1066680" cy="304920"/>
          </a:xfrm>
          <a:prstGeom prst="line">
            <a:avLst/>
          </a:prstGeom>
          <a:ln w="38160">
            <a:solidFill>
              <a:srgbClr val="5b87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43000" y="2212920"/>
            <a:ext cx="6489720" cy="365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908360" y="5410080"/>
            <a:ext cx="83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roa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7840" y="5334120"/>
            <a:ext cx="924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stro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26080" y="42814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     throat       mo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52080" y="4205160"/>
            <a:ext cx="207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    strot     ke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24000" y="2211480"/>
            <a:ext cx="6472080" cy="37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224000" y="2209680"/>
            <a:ext cx="6472080" cy="375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224000" y="2211480"/>
            <a:ext cx="6472080" cy="37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53080" y="4281480"/>
            <a:ext cx="24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a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thigh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cal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224000" y="2209680"/>
            <a:ext cx="6472080" cy="375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3200400"/>
            <a:ext cx="1724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87f2"/>
                </a:solidFill>
                <a:latin typeface="Times New Roman"/>
              </a:rPr>
              <a:t>com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5715000" y="2895480"/>
            <a:ext cx="1295280" cy="457200"/>
          </a:xfrm>
          <a:prstGeom prst="line">
            <a:avLst/>
          </a:prstGeom>
          <a:ln w="38160">
            <a:solidFill>
              <a:srgbClr val="5b87f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24000" y="2209680"/>
            <a:ext cx="6472080" cy="3759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060800" y="4205160"/>
            <a:ext cx="20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</a:t>
            </a:r>
            <a:r>
              <a:rPr b="0" lang="en-US" sz="1800" spc="-1" strike="noStrike">
                <a:solidFill>
                  <a:srgbClr val="ed181e"/>
                </a:solidFill>
                <a:latin typeface="Times New Roman"/>
              </a:rPr>
              <a:t>kui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224000" y="2211480"/>
            <a:ext cx="6472080" cy="3759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okowicz &amp; Kroll Model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960" y="2301840"/>
            <a:ext cx="126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09640" y="3733920"/>
            <a:ext cx="87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059920" y="5592600"/>
            <a:ext cx="59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l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97120" y="5592600"/>
            <a:ext cx="86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ed181e"/>
                </a:solidFill>
                <a:latin typeface="Times New Roman"/>
              </a:rPr>
              <a:t>kuit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153080" y="42814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or calf  thigh  calf c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060800" y="4205160"/>
            <a:ext cx="203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ur  dij   kuit   ko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terim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forms create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ple meanings create competition if simultaneousl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ceptual salience interacts with type of multiple trans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, Why Learn Another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cate with people of different language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specially an important messag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y with another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about another 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arn more about your own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ten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d sentence or paragraph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or eliminate conceptual salience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duce meaning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reduce form eff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velopmental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ss proficient learners will show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petition at Other Levels of Language P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t out like L1 and shift to L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ke prepositions (e.g., McDonald, 198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es the L1 really interfere with L2 grammatical proc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xperiment 2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ity Judg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happens when the two languages are in direct conflic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4 Native English speakers learning Spanish as a second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d grammatical and ungrammatical sentences in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sh button responses regarding grammatic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ly Acceptable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imu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Spanish (not Englis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 lavó el coch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*Was washed th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both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 coche fue la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The car was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ly Unacceptable Stimul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English (not Spanis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El coche estuvo la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The car was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rrect in neither langua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*El coche lav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*The car wash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dictions-Experi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L1 grammar interferes with L2 gramm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es”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uld see difference between “both” and “Spanish”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”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uld see difference between “neither” and “English”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uld be difficult to reject English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Times New Roman"/>
              </a:rPr>
              <a:t>Reaction Time Data-Experiment 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T corrected for length of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difficult to reject English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difference between Spanish and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38862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uracy Data-Experi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corrected for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accurate at rejecting English sent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lse alarms in Neither con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263520" y="1989000"/>
            <a:ext cx="4003560" cy="4564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i in “both” condition less familiar?,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curacy in L1 leads learners to question acceptability in “Both” condi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od at English only, but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rategic effec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ent-Related Brai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orally sensitive measure of on-line proc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rived from the electroencephalographic (EEG)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lect synchronous depolarization of populations of neu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0360" y="5616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factors make adult second language learning difficul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. 1: Meaning differences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4960" indent="-23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ultiple translations-more than one way to say some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. 2: Syntactic differences across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4960" indent="-23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mmatical constructions that di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ment in prog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4960" indent="-23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RP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 Set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des are placed painlessly on the surface of the sca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electrodes record brain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ckgroun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imulus-locked a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762360" cy="4419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ammatical violations elicit a “P600”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sitive-going deflection in voltage that occurs between approximately 500 and 700 ms post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143000" y="4437000"/>
          <a:ext cx="6858000" cy="19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37000"/>
                    <a:ext cx="6858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"/>
          <p:cNvSpPr/>
          <p:nvPr/>
        </p:nvSpPr>
        <p:spPr>
          <a:xfrm>
            <a:off x="5409720" y="603252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rhout &amp; Nicol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RP Compon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mantic violations elicit a “N400” respo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negative-going deflection in voltage that occurs between approximately 300 and 500 ms post 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143000" y="4432320"/>
          <a:ext cx="6858000" cy="196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32320"/>
                    <a:ext cx="685800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5409720" y="6033960"/>
            <a:ext cx="255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terhout &amp; Nicol (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rammaticality Judgment-E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ve English speakers learning Spanish as a second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grammatical and ungrammatical sentences in English and Span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e blocks for English and Span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sh button responses regarding grammatic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4267080" y="3200400"/>
            <a:ext cx="7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4267080" y="3200400"/>
            <a:ext cx="76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388620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urrent Knowledge Both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Helps and Hu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dult second language learn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et of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et of labels for these conce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grammatic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ll system for contrasting s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times these will transfer appropr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.g., same or similar labels (cognates): e.g.,  color-c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ismatches between languages creat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86200" y="3200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u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b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6200" y="3200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edi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grammatical sentences will elicit a P600 response compared to grammatical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gnificantly more positive amplitude between 500 and 700 ms post-stimul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necting Meanings to Lab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ly, concepts are strongly connected to L1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ntually concepts must get connected to L2 words for comprehension or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40224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eptability in Engl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414960" y="37861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44840" y="243828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6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38160" y="2593800"/>
            <a:ext cx="2163600" cy="99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790280" y="54705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old blender doesn’t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crush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ic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ub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ceptability in Spanis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214280" y="1598760"/>
            <a:ext cx="640260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24" name=""/>
          <p:cNvSpPr/>
          <p:nvPr/>
        </p:nvSpPr>
        <p:spPr>
          <a:xfrm>
            <a:off x="5438160" y="2556000"/>
            <a:ext cx="2163600" cy="990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eptable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4840" y="266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600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414960" y="37339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4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121920" y="54864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Él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rabajando</a:t>
            </a:r>
            <a:r>
              <a:rPr b="0" lang="en-US" sz="2400" spc="-1" strike="noStrike">
                <a:solidFill>
                  <a:srgbClr val="ed181e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da 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second language learning so difficul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ces between the two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ltiple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ultiple mea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ifferent grammatical constru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-line examination of semantic differenc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.g., The pizza was too hot to eat/*drin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 effects similar for different language pairs that have more/fewer differenc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there competition effects in phonolo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uld context reduce the competition observed in Experiment 1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cknowledg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rian MacWhin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udith Kro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S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gma X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nn State RG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0632"/>
            </a:gs>
            <a:gs pos="100000">
              <a:srgbClr val="6c1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o Labels for the Same Mean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models assume the concepts activated by the two languages are th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ception: Distributed Featu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ord concr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gnate status of translation pai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lor-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ouse-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22:43:00Z</dcterms:created>
  <dc:creator>Natasha Tokowicz</dc:creator>
  <dc:description/>
  <dc:language>en-US</dc:language>
  <cp:lastModifiedBy>Natasha Tokowicz</cp:lastModifiedBy>
  <cp:lastPrinted>2002-03-03T18:24:10Z</cp:lastPrinted>
  <dcterms:modified xsi:type="dcterms:W3CDTF">2002-03-13T01:12:13Z</dcterms:modified>
  <cp:revision>354</cp:revision>
  <dc:subject/>
  <dc:title>Second Language Acquisition</dc:title>
</cp:coreProperties>
</file>