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0.pct" ContentType="image/x-pict"/>
  <Override PartName="/ppt/media/image29.pct" ContentType="image/x-pict"/>
  <Override PartName="/ppt/media/image11.pct" ContentType="image/x-pict"/>
  <Override PartName="/ppt/media/image6.pct" ContentType="image/x-pict"/>
  <Override PartName="/ppt/media/image36.pct" ContentType="image/x-pict"/>
  <Override PartName="/ppt/media/image12.pct" ContentType="image/x-pict"/>
  <Override PartName="/ppt/media/image7.pct" ContentType="image/x-pict"/>
  <Override PartName="/ppt/media/image37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30.pct" ContentType="image/x-pict"/>
  <Override PartName="/ppt/media/image35.pct" ContentType="image/x-pict"/>
  <Override PartName="/ppt/media/image5.pct" ContentType="image/x-pict"/>
  <Override PartName="/ppt/media/image28.pct" ContentType="image/x-pict"/>
  <Override PartName="/ppt/media/image34.jpeg" ContentType="image/jpeg"/>
  <Override PartName="/ppt/media/image4.pct" ContentType="image/x-pict"/>
  <Override PartName="/ppt/media/image27.pct" ContentType="image/x-pict"/>
  <Override PartName="/ppt/media/image33.pct" ContentType="image/x-pict"/>
  <Override PartName="/ppt/media/image3.pct" ContentType="image/x-pict"/>
  <Override PartName="/ppt/media/image26.pct" ContentType="image/x-pict"/>
  <Override PartName="/ppt/media/image32.pct" ContentType="image/x-pict"/>
  <Override PartName="/ppt/media/image2.pct" ContentType="image/x-pict"/>
  <Override PartName="/ppt/media/image25.pct" ContentType="image/x-pict"/>
  <Override PartName="/ppt/media/image31.pct" ContentType="image/x-pict"/>
  <Override PartName="/ppt/media/image1.pct" ContentType="image/x-pict"/>
  <Override PartName="/ppt/media/image24.pct" ContentType="image/x-pict"/>
  <Override PartName="/ppt/media/image14.pct" ContentType="image/x-pict"/>
  <Override PartName="/ppt/media/image15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4736-C509-4D73-B53B-662CBF6B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2E01-6E4B-436C-98B7-5837C4C5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1CF-A634-47BC-ADD5-1B131D11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328-E23A-40B3-9DC8-5AFFE2F2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AFF5-61A0-43A0-93A3-FEDBBFA6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7DBF-3322-43C0-8D8A-D8664E21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576F-7FED-4192-B6DC-842BD106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0D0C-FE83-4BC6-B4A4-B49E412F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D3AC-A20D-4B57-8DCE-4C44C9DE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18F-9421-4D38-9BDB-F0DEAA3D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5B7-0CE6-4266-BE81-48F59178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B5B7-AEA8-4801-B2E7-F0E75BA0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AC5A-ECE3-4CC3-BDE9-B142FF3F4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pct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pct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6.pct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Makes Second Language Learning So Difficul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asha Tokowi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ceptual Sal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498680"/>
            <a:ext cx="3886200" cy="528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99080" y="1600200"/>
            <a:ext cx="3987720" cy="51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12960" y="4037040"/>
            <a:ext cx="245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ual sal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80040" y="4008600"/>
            <a:ext cx="245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ual sal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tributed Feature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Groot (199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66920" y="1866960"/>
            <a:ext cx="4438800" cy="4914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Else Meanings May Di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lexical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bling” in Dutch =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ro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n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uss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rothers and sis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lturally-specific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ezelli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 in Dutch = 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lturally-distinct mea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ombre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, “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gles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adness of application of terms in the two languages--semantic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positions (Ijaz, 198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mantic boundaries differ across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rman learners of English under-emphasize contact and over-emphasize movement for “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 translation equivalent of “on” in German is “auf”, which can denote a motional meaning like the English word “u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 is multiple translations, which are problematic for the L2 lear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urces of Multiple Trans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ecise correspondence across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ony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ofá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ofa or co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biguity within a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as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dri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as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er or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mbiguity at Its Worst: “Trun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276720" y="3695760"/>
            <a:ext cx="2209680" cy="1485720"/>
            <a:chOff x="3276720" y="3695760"/>
            <a:chExt cx="2209680" cy="148572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3962520" y="3695760"/>
              <a:ext cx="152388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276720" y="483876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838080" y="5410080"/>
            <a:ext cx="2536920" cy="993960"/>
            <a:chOff x="838080" y="5410080"/>
            <a:chExt cx="2536920" cy="99396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1676520" y="5410080"/>
              <a:ext cx="169848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38080" y="5867280"/>
              <a:ext cx="838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495680" y="1447920"/>
            <a:ext cx="2971800" cy="888840"/>
            <a:chOff x="4495680" y="1447920"/>
            <a:chExt cx="2971800" cy="888840"/>
          </a:xfrm>
        </p:grpSpPr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4876920" y="1676520"/>
              <a:ext cx="259056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495680" y="1447920"/>
              <a:ext cx="53352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52280" y="2209680"/>
            <a:ext cx="1951200" cy="1676520"/>
            <a:chOff x="152280" y="2209680"/>
            <a:chExt cx="1951200" cy="1676520"/>
          </a:xfrm>
        </p:grpSpPr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1371600" y="2209680"/>
              <a:ext cx="7318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52280" y="3048120"/>
              <a:ext cx="1067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344480" y="2514600"/>
            <a:ext cx="40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chterba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or “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offerba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1480" y="28954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rom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7840" y="4533840"/>
            <a:ext cx="36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t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or “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oomstron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6360" y="63388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lurf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eriment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appens when meanings differ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consequences depending on type of multiple trans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ony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e mea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lation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29000" y="2857680"/>
            <a:ext cx="22860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29000" y="2857680"/>
            <a:ext cx="22860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6480" y="2489040"/>
            <a:ext cx="2697120" cy="2311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619440" y="1117440"/>
            <a:ext cx="2019240" cy="1791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13040" y="1346040"/>
            <a:ext cx="177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gat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iculties in Adult Second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nguag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t of information to lea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barrassment at speaking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ces between the new language and your native language</a:t>
            </a:r>
            <a:br>
              <a:rPr sz="3200"/>
            </a:br>
            <a:br>
              <a:rPr sz="1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e.g., The Competition Model, MacWhinney &amp; Bates, 198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 of Experimen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ipants: adult L2 lear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4 Dutch-English Spe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ords aloud in both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1 to 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2 to 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rded respo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ction time for correct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ipula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and type of trans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of mea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of forms for meaning sel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eptual salience” (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omposite measure of concreteness and context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imu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of translations n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of trans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of meanings trans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.g., if said “slurf”, translated snout m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mantic similarity ra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similar in meaning are these wor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 pairs were considered translation equival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 similarity ra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similar are these words in spelling/sou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 pairs were considered translation equival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icipant Characteristics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447920" y="2057400"/>
          <a:ext cx="6172200" cy="4043160"/>
        </p:xfrm>
        <a:graphic>
          <a:graphicData uri="http://schemas.openxmlformats.org/drawingml/2006/table">
            <a:tbl>
              <a:tblPr/>
              <a:tblGrid>
                <a:gridCol w="4190760"/>
                <a:gridCol w="1981440"/>
              </a:tblGrid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 (Year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Studied L2 (Year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2 Immersion Experience (Month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2 Reading 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2 Writing 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2 Conversation 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2 Speech Comprehension 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dictions for Experimen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conceptual salience words faster than low conceptual salience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e forms slower than one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select one to say (e.g., vaso, vidr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e meanings slower than one m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select one to translate (e.g., tru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ta Analysis of Experimen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erarchical regression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varied effects of word length and 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ionality taken into ac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collapsed across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 of Experimen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04920" y="1600200"/>
          <a:ext cx="5105160" cy="479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5105160" cy="4797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562720" y="1599840"/>
            <a:ext cx="3200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mbiguous words show CS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t for multiple forms similar for high and low CS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t for multiple meanings only for high CS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16720" y="642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curacy Data: Experimen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41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mbiguous words show CS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CS words with multiple meanings lower in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920" y="1811160"/>
            <a:ext cx="487656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del of Language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pted from Poulisse &amp; Bongaerts (199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ges of language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urces of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3000" y="2120760"/>
            <a:ext cx="6477120" cy="364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2400" y="228600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328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50440" y="5372280"/>
            <a:ext cx="137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awber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80680" y="5372280"/>
            <a:ext cx="124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ardbei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414504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 strawberry raspbe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48840" y="411480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aardbei frambo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, Why Learn Another Langu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43000" y="2119320"/>
            <a:ext cx="648972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72400" y="228600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328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50440" y="5372280"/>
            <a:ext cx="137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d181e"/>
                </a:solidFill>
                <a:latin typeface="Times New Roman"/>
              </a:rPr>
              <a:t>strawber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80680" y="5372280"/>
            <a:ext cx="124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ardbei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414504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 strawberry raspbe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48840" y="411480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aardbei frambo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45520" y="5565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1560" y="2119320"/>
            <a:ext cx="648972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72400" y="228600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328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50440" y="5372280"/>
            <a:ext cx="137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awber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80680" y="5372280"/>
            <a:ext cx="124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ardbei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414504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 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strawber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aspbe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48840" y="411480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aardbei frambo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43000" y="2119320"/>
            <a:ext cx="648972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72400" y="228600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328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50440" y="5372280"/>
            <a:ext cx="137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awber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80680" y="5372280"/>
            <a:ext cx="124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ardbei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414504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 strawberry raspbe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48840" y="411480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aardbei frambo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43000" y="2119320"/>
            <a:ext cx="648972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72400" y="228600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7328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50440" y="5372280"/>
            <a:ext cx="137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awber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80680" y="5372280"/>
            <a:ext cx="124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ardbei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414504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 strawberry raspbe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48840" y="4114800"/>
            <a:ext cx="23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aardbe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rambo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43000" y="2119320"/>
            <a:ext cx="648972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72400" y="228600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328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50440" y="5372280"/>
            <a:ext cx="137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awber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80680" y="5372280"/>
            <a:ext cx="124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d181e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ed181e"/>
                </a:solidFill>
                <a:latin typeface="Times New Roman"/>
              </a:rPr>
              <a:t>aardbei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414504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 strawberry raspbe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48840" y="411480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aardbei frambo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143000" y="2212920"/>
            <a:ext cx="648972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960" y="23018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0964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8360" y="5410080"/>
            <a:ext cx="83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o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7840" y="5334120"/>
            <a:ext cx="9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o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6080" y="42814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     throat       m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52080" y="42051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     strot     ke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43000" y="2212920"/>
            <a:ext cx="648972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3960" y="23018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0964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8360" y="5410080"/>
            <a:ext cx="83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d181e"/>
                </a:solidFill>
                <a:latin typeface="Times New Roman"/>
              </a:rPr>
              <a:t>thro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7840" y="5334120"/>
            <a:ext cx="9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o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26080" y="42814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     throat       m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080" y="42051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     strot     ke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141560" y="2212920"/>
            <a:ext cx="648972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960" y="23018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0964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8360" y="5410080"/>
            <a:ext cx="83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o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97840" y="5334120"/>
            <a:ext cx="9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o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26080" y="42814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     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thro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m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52080" y="42051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     strot     ke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43000" y="2212920"/>
            <a:ext cx="648972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960" y="23018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0964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8360" y="5410080"/>
            <a:ext cx="83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o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7840" y="5334120"/>
            <a:ext cx="9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o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26080" y="42814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     throat       m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52080" y="42051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     strot     ke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, Why Learn Another Langu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itanium:Desktop Folder:Hunter:FISH~1.MPE.mpg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4881600" cy="3355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141560" y="2209680"/>
            <a:ext cx="6489720" cy="3654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960" y="23018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0964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08360" y="5410080"/>
            <a:ext cx="83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o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7840" y="5334120"/>
            <a:ext cx="9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o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26080" y="42814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     throat       m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52080" y="42051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     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strot     ke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2971800"/>
            <a:ext cx="172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7f2"/>
                </a:solidFill>
                <a:latin typeface="Times New Roman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943240" y="3352680"/>
            <a:ext cx="1066680" cy="304920"/>
          </a:xfrm>
          <a:prstGeom prst="line">
            <a:avLst/>
          </a:prstGeom>
          <a:ln w="38160">
            <a:solidFill>
              <a:srgbClr val="5b87f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143000" y="2212920"/>
            <a:ext cx="648972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43960" y="23018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0964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8360" y="5410080"/>
            <a:ext cx="83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o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7840" y="5334120"/>
            <a:ext cx="9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d181e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ed181e"/>
                </a:solidFill>
                <a:latin typeface="Times New Roman"/>
              </a:rPr>
              <a:t>stro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26080" y="42814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     throat       m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52080" y="42051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     strot     ke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24000" y="2211480"/>
            <a:ext cx="6472080" cy="375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Mean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43960" y="23018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0964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9920" y="5592600"/>
            <a:ext cx="59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7120" y="559260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ui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53080" y="42814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calf  thigh  calf c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60800" y="42051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 dij   kuit   ko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24000" y="2209680"/>
            <a:ext cx="6472080" cy="3759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Mean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960" y="23018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0964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9920" y="5592600"/>
            <a:ext cx="59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d181e"/>
                </a:solidFill>
                <a:latin typeface="Times New Roman"/>
              </a:rPr>
              <a:t>ca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97120" y="559260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ui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53080" y="42814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calf  thigh  calf c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60800" y="42051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 dij   kuit   ko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224000" y="2211480"/>
            <a:ext cx="6472080" cy="375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Mean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960" y="23018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0964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59920" y="5592600"/>
            <a:ext cx="59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97120" y="559260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ui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53080" y="4281480"/>
            <a:ext cx="24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cal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thigh  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cal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60800" y="42051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 dij   kuit   ko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24000" y="2209680"/>
            <a:ext cx="6472080" cy="3759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Mean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43960" y="23018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0964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9920" y="5592600"/>
            <a:ext cx="59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97120" y="559260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ui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53080" y="42814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calf  thigh  calf c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60800" y="42051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 dij   kuit   ko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3200400"/>
            <a:ext cx="172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7f2"/>
                </a:solidFill>
                <a:latin typeface="Times New Roman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5715000" y="2895480"/>
            <a:ext cx="1295280" cy="457200"/>
          </a:xfrm>
          <a:prstGeom prst="line">
            <a:avLst/>
          </a:prstGeom>
          <a:ln w="38160">
            <a:solidFill>
              <a:srgbClr val="5b87f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24000" y="2209680"/>
            <a:ext cx="6472080" cy="3759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Mean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3960" y="23018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0964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59920" y="5592600"/>
            <a:ext cx="59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97120" y="559260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ui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53080" y="42814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calf  thigh  calf c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60800" y="4205160"/>
            <a:ext cx="20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 dij   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ku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ko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224000" y="2211480"/>
            <a:ext cx="6472080" cy="375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Mean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960" y="23018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0964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59920" y="5592600"/>
            <a:ext cx="59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97120" y="559260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d181e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ed181e"/>
                </a:solidFill>
                <a:latin typeface="Times New Roman"/>
              </a:rPr>
              <a:t>kui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53080" y="42814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calf  thigh  calf c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60800" y="42051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 dij   kuit   ko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im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e forms create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e meanings create competition if simultaneousl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ual salience interacts with type of multiple trans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, Why Learn Another Langu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e with people of different language backgr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ecially an important messa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with another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about another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more about your own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ten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sentence or paragraph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 or eliminate conceptual salience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 meaning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reduce form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mental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proficient learners will show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etition at Other Levels of Language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out like L1 and shift to L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ke prepositions (e.g., McDonald, 198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the L1 really interfere with L2 grammatical proc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periment 2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mmaticality Judg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happens when the two languages are in direct confli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4 Native English speakers learning Spanish as a second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 grammatical and ungrammatical sentences in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sh button responses regarding grammatic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mmatically Acceptabl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imu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rrect in Spanish (not Englis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lavó el coc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*Was washed the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rrect in both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coche fue lav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The car was wa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mmatically Unacceptable Stimu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rrect in English (not Spanis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El coche estuvo lav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The car was wa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rrect in neither langu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El coche lav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*The car wa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dictions-Experimen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L1 grammar interferes with L2 gramm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s” respo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uld see difference between “both” and “Spanish”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” respo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uld see difference between “neither” and “English”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uld be difficult to reject English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Reaction Time Data-Experiment 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T corrected for length of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difficult to reject English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difference between Spanish and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388620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curacy Data-Experimen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uracy corrected for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ccurate at rejecting English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lse alarms in Neither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63520" y="1989000"/>
            <a:ext cx="4003560" cy="4564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i in “both” condition less familiar?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uracy in L1 leads learners to question acceptability in “Both” cond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at English only, but s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ic effec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vent-Related Brai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orally sensitive measure of on-line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ived from the electroencephalographic (EEG)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lect synchronous depolarization of populations of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30360" y="5616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factors make adult second language learning difficul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296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. 1: Meaning differences across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4960" indent="-230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e translations-more than one way to say some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. 2: Syntactic differences across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4960" indent="-230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mmatical constructions that di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ment in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4960" indent="-230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P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P Set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des are placed painlessly on the surface of the sca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electrodes record brain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ground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imulus-locked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762360" cy="4419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P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matical violations elicit a “P600”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ositive-going deflection in voltage that occurs between approximately 500 and 700 ms post sti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143000" y="4437000"/>
          <a:ext cx="6858000" cy="196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37000"/>
                    <a:ext cx="685800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5409720" y="603252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terhout &amp; Nicol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P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mantic violations elicit a “N400”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egative-going deflection in voltage that occurs between approximately 300 and 500 ms post sti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143000" y="4432320"/>
          <a:ext cx="6858000" cy="196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32320"/>
                    <a:ext cx="685800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5409720" y="603396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terhout &amp; Nicol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mmaticality Judgment-ER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ve English speakers learning Spanish as a second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grammatical and ungrammatical sentences in English and Sp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parate blocks for English and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sh button responses regarding grammatic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4267080" y="3200400"/>
            <a:ext cx="7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267080" y="3200400"/>
            <a:ext cx="7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86200" y="3200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rrent Knowledge Both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Helps and Hu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ult second language learn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et of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et of labels for these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grammatic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ystem for contrasting s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imes these will transfer appropr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, same or similar labels (cognates): e.g.,  color-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smatches between languages create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86200" y="3200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862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u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8862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862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b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862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di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grammatical sentences will elicit a P600 response compared to grammatical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gnificantly more positive amplitude between 500 and 700 ms post-sti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necting Meanings to Lab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, concepts are strongly connected to L1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ntually concepts must get connected to L2 words for comprehension or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402240" cy="36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ceptability in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14960" y="37861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4840" y="24382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38160" y="2593800"/>
            <a:ext cx="2163600" cy="990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able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ccep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90280" y="5470560"/>
            <a:ext cx="55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ld blender doesn’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rush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b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ceptability in Span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214280" y="1598760"/>
            <a:ext cx="6402600" cy="36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24" name=""/>
          <p:cNvSpPr/>
          <p:nvPr/>
        </p:nvSpPr>
        <p:spPr>
          <a:xfrm>
            <a:off x="5438160" y="2556000"/>
            <a:ext cx="2163600" cy="990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able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ccep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44840" y="26668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600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1496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21920" y="548640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É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rabajando</a:t>
            </a: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da 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second language learning so difficul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ces between the two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e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mean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ferent grammatical co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-line examination of semantic differen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g., The pizza was too hot to eat/*dri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the effects similar for different language pairs that have more/fewer differen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there competition effects in phonolo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uld context reduce the competition observed in Experiment 1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knowledg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an MacWhin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ith Kro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S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ma X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n State RG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o Labels for the Same Mean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models assume the concepts activated by the two languages are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ption: Distributed Featur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d concre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gnate status of translation pai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or-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use-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22:43:00Z</dcterms:created>
  <dc:creator>Natasha Tokowicz</dc:creator>
  <dc:description/>
  <dc:language>en-US</dc:language>
  <cp:lastModifiedBy>Natasha Tokowicz</cp:lastModifiedBy>
  <cp:lastPrinted>2002-03-03T18:24:10Z</cp:lastPrinted>
  <dcterms:modified xsi:type="dcterms:W3CDTF">2002-03-13T01:12:13Z</dcterms:modified>
  <cp:revision>354</cp:revision>
  <dc:subject/>
  <dc:title>Second Language Acquisition</dc:title>
</cp:coreProperties>
</file>