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0e0e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73160" y="223920"/>
            <a:ext cx="157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05B1-CE15-4474-8F2A-7F1CAADE43B9}" type="slidenum">
              <a:rPr b="0" lang="en-US" sz="2400" spc="-1" strike="noStrike">
                <a:solidFill>
                  <a:srgbClr val="e0e0e0"/>
                </a:solidFill>
                <a:latin typeface="Arial"/>
              </a:rPr>
              <a:t>&lt;number&gt;</a:t>
            </a:fld>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4320" y="541800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74" name=""/>
          <p:cNvSpPr/>
          <p:nvPr/>
        </p:nvSpPr>
        <p:spPr>
          <a:xfrm>
            <a:off x="4657680" y="2135160"/>
            <a:ext cx="42372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2" name=""/>
          <p:cNvSpPr/>
          <p:nvPr/>
        </p:nvSpPr>
        <p:spPr>
          <a:xfrm>
            <a:off x="1305000" y="5062680"/>
            <a:ext cx="2968560" cy="1368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85" name=""/>
          <p:cNvSpPr/>
          <p:nvPr/>
        </p:nvSpPr>
        <p:spPr>
          <a:xfrm>
            <a:off x="557280" y="2581200"/>
            <a:ext cx="83376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192" name=""/>
          <p:cNvSpPr/>
          <p:nvPr/>
        </p:nvSpPr>
        <p:spPr>
          <a:xfrm>
            <a:off x="484200" y="1989000"/>
            <a:ext cx="8193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95" name=""/>
          <p:cNvSpPr/>
          <p:nvPr/>
        </p:nvSpPr>
        <p:spPr>
          <a:xfrm>
            <a:off x="557280" y="2651040"/>
            <a:ext cx="833760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02" name=""/>
          <p:cNvSpPr/>
          <p:nvPr/>
        </p:nvSpPr>
        <p:spPr>
          <a:xfrm>
            <a:off x="484200" y="1704960"/>
            <a:ext cx="819324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Times New Roman"/>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07" name=""/>
          <p:cNvSpPr/>
          <p:nvPr/>
        </p:nvSpPr>
        <p:spPr>
          <a:xfrm>
            <a:off x="3859200" y="2151000"/>
            <a:ext cx="503244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23" name=""/>
          <p:cNvSpPr/>
          <p:nvPr/>
        </p:nvSpPr>
        <p:spPr>
          <a:xfrm>
            <a:off x="3859200" y="2151000"/>
            <a:ext cx="5041800" cy="2833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33" name=""/>
          <p:cNvSpPr/>
          <p:nvPr/>
        </p:nvSpPr>
        <p:spPr>
          <a:xfrm>
            <a:off x="3859200" y="2151000"/>
            <a:ext cx="4925880" cy="4052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43" name=""/>
          <p:cNvSpPr/>
          <p:nvPr/>
        </p:nvSpPr>
        <p:spPr>
          <a:xfrm>
            <a:off x="3830760" y="2112840"/>
            <a:ext cx="4925880" cy="447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53" name=""/>
          <p:cNvSpPr/>
          <p:nvPr/>
        </p:nvSpPr>
        <p:spPr>
          <a:xfrm>
            <a:off x="3792600" y="2103480"/>
            <a:ext cx="5156280" cy="4174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63" name=""/>
          <p:cNvSpPr/>
          <p:nvPr/>
        </p:nvSpPr>
        <p:spPr>
          <a:xfrm>
            <a:off x="3859200" y="2151000"/>
            <a:ext cx="4925880" cy="246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74" name=""/>
          <p:cNvSpPr/>
          <p:nvPr/>
        </p:nvSpPr>
        <p:spPr>
          <a:xfrm>
            <a:off x="3859200" y="2151000"/>
            <a:ext cx="4925880" cy="246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85" name=""/>
          <p:cNvSpPr/>
          <p:nvPr/>
        </p:nvSpPr>
        <p:spPr>
          <a:xfrm>
            <a:off x="3859200" y="2151000"/>
            <a:ext cx="4925880" cy="216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Times New Roman"/>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Times New Roman"/>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96" name=""/>
          <p:cNvSpPr/>
          <p:nvPr/>
        </p:nvSpPr>
        <p:spPr>
          <a:xfrm>
            <a:off x="3859200" y="2151000"/>
            <a:ext cx="4925880" cy="216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Times New Roman"/>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07" name=""/>
          <p:cNvSpPr/>
          <p:nvPr/>
        </p:nvSpPr>
        <p:spPr>
          <a:xfrm>
            <a:off x="3747960" y="2151000"/>
            <a:ext cx="5037120" cy="2772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17" name=""/>
          <p:cNvSpPr/>
          <p:nvPr/>
        </p:nvSpPr>
        <p:spPr>
          <a:xfrm>
            <a:off x="3728880" y="2151000"/>
            <a:ext cx="5056200" cy="3076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27" name=""/>
          <p:cNvSpPr/>
          <p:nvPr/>
        </p:nvSpPr>
        <p:spPr>
          <a:xfrm>
            <a:off x="593640" y="2077920"/>
            <a:ext cx="4926240" cy="435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37" name=""/>
          <p:cNvSpPr/>
          <p:nvPr/>
        </p:nvSpPr>
        <p:spPr>
          <a:xfrm>
            <a:off x="593640" y="2077920"/>
            <a:ext cx="4926240" cy="435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Times New Roman"/>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42" name=""/>
          <p:cNvSpPr/>
          <p:nvPr/>
        </p:nvSpPr>
        <p:spPr>
          <a:xfrm>
            <a:off x="557280" y="2825640"/>
            <a:ext cx="83376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49" name=""/>
          <p:cNvSpPr/>
          <p:nvPr/>
        </p:nvSpPr>
        <p:spPr>
          <a:xfrm>
            <a:off x="447840" y="1844640"/>
            <a:ext cx="84103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52" name=""/>
          <p:cNvSpPr/>
          <p:nvPr/>
        </p:nvSpPr>
        <p:spPr>
          <a:xfrm>
            <a:off x="412920" y="268776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59" name=""/>
          <p:cNvSpPr/>
          <p:nvPr/>
        </p:nvSpPr>
        <p:spPr>
          <a:xfrm>
            <a:off x="447840" y="1844640"/>
            <a:ext cx="76849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Times New Roman"/>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69"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79" name=""/>
          <p:cNvSpPr/>
          <p:nvPr/>
        </p:nvSpPr>
        <p:spPr>
          <a:xfrm>
            <a:off x="7891200" y="5372280"/>
            <a:ext cx="6004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Times New Roman"/>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83" name=""/>
          <p:cNvSpPr/>
          <p:nvPr/>
        </p:nvSpPr>
        <p:spPr>
          <a:xfrm>
            <a:off x="5113440" y="3402000"/>
            <a:ext cx="3944880" cy="3030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5" name=""/>
          <p:cNvSpPr/>
          <p:nvPr/>
        </p:nvSpPr>
        <p:spPr>
          <a:xfrm>
            <a:off x="5113440" y="3402000"/>
            <a:ext cx="3944880" cy="214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404"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06" name=""/>
          <p:cNvSpPr/>
          <p:nvPr/>
        </p:nvSpPr>
        <p:spPr>
          <a:xfrm>
            <a:off x="5113440" y="3402000"/>
            <a:ext cx="3944880" cy="214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10" name=""/>
          <p:cNvSpPr/>
          <p:nvPr/>
        </p:nvSpPr>
        <p:spPr>
          <a:xfrm>
            <a:off x="412920" y="2862360"/>
            <a:ext cx="86644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Times New Roman"/>
            </a:endParaRPr>
          </a:p>
        </p:txBody>
      </p:sp>
      <p:sp>
        <p:nvSpPr>
          <p:cNvPr id="428" name=""/>
          <p:cNvSpPr/>
          <p:nvPr/>
        </p:nvSpPr>
        <p:spPr>
          <a:xfrm>
            <a:off x="412920" y="2862360"/>
            <a:ext cx="86644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3960" cy="2559240"/>
            <a:chOff x="1801800" y="3003480"/>
            <a:chExt cx="540396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33" name=""/>
            <p:cNvSpPr/>
            <p:nvPr/>
          </p:nvSpPr>
          <p:spPr>
            <a:xfrm>
              <a:off x="1898640" y="3029040"/>
              <a:ext cx="5307120" cy="1305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Times New Roman"/>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Times New Roman"/>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Times New Roman"/>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9120" y="2081160"/>
            <a:ext cx="710352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e0e0e0"/>
                </a:solidFill>
                <a:latin typeface="Times New Roman"/>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e0e0e0"/>
                </a:solidFill>
                <a:latin typeface="Times New Roman"/>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e0e0e0"/>
                </a:solidFill>
                <a:latin typeface="Times New Roman"/>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e0e0e0"/>
                </a:solidFill>
                <a:latin typeface="Times New Roman"/>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e0e0e0"/>
                </a:solidFill>
                <a:latin typeface="Times New Roman"/>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e0e0e0"/>
                </a:solidFill>
                <a:latin typeface="Times New Roman"/>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e0e0e0"/>
                </a:solidFill>
                <a:latin typeface="Times New Roman"/>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Times New Roman"/>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e0e0e0"/>
                </a:solidFill>
                <a:latin typeface="Times New Roman"/>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e0e0e0"/>
                </a:solidFill>
                <a:latin typeface="Times New Roman"/>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e0e0e0"/>
                </a:solidFill>
                <a:latin typeface="Times New Roman"/>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e0e0e0"/>
                </a:solidFill>
                <a:latin typeface="Times New Roman"/>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e0e0e0"/>
                </a:solidFill>
                <a:latin typeface="Times New Roman"/>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e0e0e0"/>
                </a:solidFill>
                <a:latin typeface="Times New Roman"/>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e0e0e0"/>
                </a:solidFill>
                <a:latin typeface="Times New Roman"/>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44" name=""/>
          <p:cNvSpPr/>
          <p:nvPr/>
        </p:nvSpPr>
        <p:spPr>
          <a:xfrm>
            <a:off x="4657680" y="2135160"/>
            <a:ext cx="398628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54" name=""/>
          <p:cNvSpPr/>
          <p:nvPr/>
        </p:nvSpPr>
        <p:spPr>
          <a:xfrm>
            <a:off x="4657680" y="2135160"/>
            <a:ext cx="423720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64" name=""/>
          <p:cNvSpPr/>
          <p:nvPr/>
        </p:nvSpPr>
        <p:spPr>
          <a:xfrm>
            <a:off x="4657680" y="2135160"/>
            <a:ext cx="42372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dc:language>en-US</dc:language>
  <cp:lastModifiedBy>mm6</cp:lastModifiedBy>
  <cp:lastPrinted>1997-02-17T10:42:10Z</cp:lastPrinted>
  <dcterms:modified xsi:type="dcterms:W3CDTF">2000-05-22T15:24:59Z</dcterms:modified>
  <cp:revision>16</cp:revision>
  <dc:subject>Object-Oriented Programming</dc:subject>
  <dc:title>Data Structures and Other Objects</dc:title>
</cp:coreProperties>
</file>