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A4F-9179-461A-B100-77F75F7AD5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9C90-194A-48A9-8CFB-97A750E7A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EBCF-7073-46EC-9E79-422B14233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8017-661D-423A-871C-BD71B7469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B3A-CF88-4947-8F88-A5E7C251C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7A59-2CD1-4F7B-84AF-31D996511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73D9-2D3F-4ACC-898A-4F6C4D131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B491-1136-4B26-9A2C-C3757B76F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E322-E549-4BEC-B2BD-6F754875E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4614-7F8D-4184-8FA5-E6C1F0B25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C37A-398D-4A0C-9AFB-F6B6BE1E7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8A8-8829-4DFD-820C-BE7C212C2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184A-2BAE-4938-8CFB-1128D9A8D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D62B-6372-4CAA-BBE1-ECD07AB38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3C47-01D6-4760-8390-B469CDBC2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0931-26AE-477C-9326-425AB2AB6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B10E-3A09-4603-9752-9700CB7CE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1DB4-8AC3-4634-A3C8-7E2890715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8DE6-7375-4C95-8BC6-496046856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72C-BE04-4B32-90AC-DF9318887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0220-5D1D-4D24-A50E-AE19C0C1B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B47A-0379-447C-934F-D6A1AC633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9289-4752-4835-892C-86D871539D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07615-CB2A-49B4-871A-F87308E8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31FD69-984D-4A13-AD61-A9662643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E9A2BB-5EE8-4B48-B8E2-B3249D5F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4CE757-B5C3-4575-9A9D-EAB911D9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80A5B-9CFD-4190-BB68-F055FFA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2511B-2EAC-4C26-A67F-DCE37CF0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BC74F6-F889-4488-84D7-5A206129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893E60-7539-4960-BC6A-FF1609F6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900EA1-C4F7-4C21-8A7C-F8E97B4F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FC92BD-671E-4F33-A51E-5F5C5CED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F46A-B309-4D54-95BC-70EC5D7E322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85AEAD-C6E9-457D-A918-89714FF7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6B60D7-8BB0-4C78-9CDB-5DBB1669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ABB8B2-230B-4808-BE94-8B43DCD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A6130E-D877-44D1-8D45-5B5F9B08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047DE0-0E38-4961-89BA-844F690E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21DB0B-F6B9-4468-B4E3-A66C46B0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773B70-A087-4797-97C8-78DA7C61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FEEB5E-1E20-4C10-AEC2-9998407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5AB86A-5F45-461A-A8A4-4F2AED8A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556CDD-F15E-43C2-81F4-9AF37516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A268-15A5-4E57-868E-97A19EB2704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8326A5-D8CB-455D-ABBD-4FC6EF54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F38F09-FE2C-45FA-BDA1-1735FABA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DFE925-826B-4D7A-8B3F-0510CD6D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74DBA9-C5E9-41E5-BA94-0C8E22E3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E114A8-4A2B-47D1-9EE0-B52A4C16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419716-CEB1-4DC8-849C-BCEEE703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FB54F2-1566-41C1-8521-CD820A6B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035B59-4FC1-49E8-932D-1DE3D66D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E1E8FC-B4FA-4BE4-96C2-55A53433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09A236-1548-4390-BA20-A6B2248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DC6BC-8E72-4261-9FD1-01F9E6B6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8B6164-CC06-41B1-825F-631848DC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248011-16AD-4A29-8426-91947B9F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E5FD0F-F1FE-44F1-9F3D-A8F2DD2A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EB68C6-34FF-46D6-B285-561BAC09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C34874-B28C-4986-962F-0C7733E6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0FF54C-98E9-41FB-9946-F8E05E15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F16BB9-991F-49BA-8E26-720B2BBC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9DF28F-9003-40A7-8EEF-F825C7A5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B4CB81-0EC6-4C22-9573-248440C0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FBBE77-A3B1-4108-8C38-5CD23662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77B3C-B6BC-4EBF-ADE4-6CB707E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E68A45-B37A-4863-8D1F-6C0507FA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A862F8-045C-4822-89C3-3E82BB9B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0EC5A1-012A-47FC-A7AD-7B1729E8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250A55-F66F-4321-82BC-91480D9E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CB5D36-78D4-44A8-9F16-7874284D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27108-CF4F-4FD7-A3F3-A07A6F1A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1A5C4-35F2-4D2D-931D-AD344B40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4B079-C988-4F3B-BD27-613CA655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C61C2-CD6E-47C0-BFA1-7BFE2469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189A4-6604-4DD3-90EF-7E7F98B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32D5-EA60-466F-B7C9-F98F4D44C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64BF0-7209-4820-9886-EABD520D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7FC66-8B11-4B4D-AAC5-5F255954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97CF8-04D4-4678-809F-29596332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9965F-3F2A-4DB7-AA7F-A846C857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25C6B-F798-4452-B6C4-2E6E8A6F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73C51-8F18-41D9-ABD7-26735F40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53E3C-07A8-427F-A4A5-CC5D0068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EC463-E913-4487-986B-45EEC527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DD2F7-3600-483E-9A1D-63267924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B4C53-1D47-4288-8E38-71726A64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6FA4-F065-4B1E-9E1B-BA5A915439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E0A6A-16F9-4136-A996-293192F6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F2283-77CB-4C03-B728-06CBAA1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5CC12-D5FD-4C92-AC00-B081AF34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CBDA7-D4D9-4893-A25A-D841D7A3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EBC31-78AE-48C7-B31C-21B8DF2F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57807-DA1A-47E4-A02C-94BADBB1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C6409-E73C-435E-8614-48B3A391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5926F5-398F-4F0B-8148-93A02756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26378-BA61-449D-B781-27FE3193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BEB67-5071-4047-A16B-D86BED99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E935-FBD7-4468-B121-3772E17EBD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1FAAF-1283-4392-A28A-28270C8C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E386E-B5E5-4894-BA46-02329570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76082-F703-4470-A507-A0C92152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CB5A3-CAF5-4522-96A0-34482CDC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2A655-E490-4CC5-9D35-848F36CC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B4BC0-FB93-4723-80EA-5C288185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53554-855C-4FDD-BF21-CFB36B7F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73D4CB-8C63-4FFC-8BE5-8D506DFF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1F1C9-B23F-4ED7-9DB8-A0ED06CC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A85C8-2AEE-45CC-B7D8-CF8B97FB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642D-5083-485F-85CD-61EB70CCAD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F6960-3D07-45C6-A591-EDD4A6A1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308C3-4128-4D20-9524-07F61621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551AA-672B-413E-84F7-D5A949AE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C000C-CE7D-4D14-A929-0155AD7E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541F6-90FA-43DF-B36E-047EF01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0D74F-00C3-4B51-987C-AFD7CB48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DA547-8838-4F3B-9068-952085AC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07EDE-BD03-4272-85FF-011A51A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0C220-7DCF-46F2-94C2-CE3BDC5C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C34B6-52F3-4E94-AC64-DD738B0A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741D-5417-4F2B-B589-31865D9926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96790-3D77-4A8C-BB77-B64AD797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50676-CDD7-446D-94C6-2D860A21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35BED-4A93-4ADC-B55A-4D7886E7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ED190-2B0A-4F49-992A-46B1BB28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56665-993F-489B-AC82-1F2A5940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50C22-58A0-492A-9181-8864B9CF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5D430-832B-4E69-AC38-40C6FC11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FC5CF-7AFC-4D2E-AB88-B2A2CE98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13E38-9B88-4E2A-A0D4-CF3A83F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BA1D6-6270-400C-AA89-329E1FF0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87B9-6E0E-44C5-B178-36902AD1A1E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15415-64F7-4A41-9609-6D4B695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C1DED-A532-43A7-B17E-2E5F1733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30678-27FA-4FED-84CD-55506515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0A8A4-6FBC-4916-BDEC-581A8890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AEF47-9A0B-4CE9-85C0-2ACE7EAE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41654-FF2B-4E4F-915F-7728B8D4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3D789-8EE7-47BD-A167-6E91F64A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78668-9808-44E9-B66B-B7C29738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22765-FEA9-4615-8B06-DD953FCB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65B6C2-2639-42DF-820D-33A7AFE3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32FD-59A7-459D-AF2E-DCB4F30767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0C075-59F4-4A1D-90C1-2F732B4D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7C673-8E9E-4649-8362-686F1D8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DC26D-B18D-4C7D-A5F7-B67D3FF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81ADD-85D5-4A42-847C-330B9697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C7F1D-F86C-44BC-8494-92F78310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751341-92DA-430F-86BA-CDE29565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8B304-61D9-4537-9FA0-88E91E9B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757E3-F682-48E7-BC71-CCE08826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ACBD9A-8B7E-405E-83E3-41CA0859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76CE50-EE24-41A6-BE5E-F7C7F4D3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9170-EC5F-48C0-80FF-5CB2D3520DC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575A0F-7F64-4D4B-AF04-56F82A7C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E47365-FE9B-4C64-8A44-BA50B7DC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9CD5D-3C6F-41B3-A6DB-C71AD08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52BEC8-69EC-4960-8D58-A6FB6C72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6B0D47-F1BA-41B5-8592-67F80A95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CE7BB6-315D-43C5-AF3D-C6E062C4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F9542-F06A-4B3E-9232-FF5BEBC4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DCDA96-0CE5-4F74-8AF5-8A3B206A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C9A7E4-F488-4797-B1D8-A127630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E7296-6893-49DB-A9E6-2D76719F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AD6C-BA8F-45F0-9ED5-2451F834A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1BE5-7E39-4E0F-BFCB-850D64F5A2E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57F5-86A7-465B-A374-B3A30989D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A51C-32FE-47D6-BE6B-43FB11B8AB5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66C9-679C-40C4-80F3-35D1B79B5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560-B492-4708-8421-12F2581727F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CC32-4BF6-4FA3-9A3F-E502B12F1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6918-2071-42A1-8659-8AD22017074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EA35-8D80-4C4B-80C0-019835A50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AC8F-654A-494E-82A0-447761ED168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838C-99FC-463C-A481-CECFFCC58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F4DF-76C3-4361-B28A-39C28732DC3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926D-C2D0-4C96-8188-27BF4AB07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EAB0-64EA-4F60-A2D8-B0DA579041E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79BF-35CF-48D6-9775-6287BE3B8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4016-0997-4932-A3B4-B10AE268678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F017-B914-4F08-BDEB-99BEBA16E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48B1-C04C-4BC9-A55D-BFC72329D39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5FBB-EBD7-4B6E-A56D-37153EC4E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AEAD-4A48-4F5C-AFC8-F82AD1FC797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1D20-150B-4961-ADBF-ED56F93E8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heinz\logo\cmu.gif"/>
          <p:cNvPicPr/>
          <p:nvPr/>
        </p:nvPicPr>
        <p:blipFill>
          <a:blip r:embed="rId2"/>
          <a:stretch/>
        </p:blipFill>
        <p:spPr>
          <a:xfrm>
            <a:off x="228600" y="594360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1AFA-B10E-450B-9BB2-FDA672F23B7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AB4C-2F76-422D-907E-C43023681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te State Machines 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D1A-99EC-4D9B-9EB9-A92DD842C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xample, proper subtraction m – n is defined to b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 – n for m &gt;= n, an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ro for m &lt; 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TM M = ( {q0,q1,...,q6}, {0,1}, {0,1,B}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𝛿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q0, B, {}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d below, if started with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its tape, halts with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m-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its tape. M repeatedly replaces its leading 0 by blank, then searches right for a 1 followed by a 0 and changes the 0 to a 1. Next, M moves left until it encounters a blank and then repeats the cycle. The repetition ends i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arching right for a 0, M encounters a blank. Then, the n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in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ave all been changed to 1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, and n+1 of the m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have been changed to B. M replaces the n+1 1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by a 0 and n B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, leaving m-n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on its tap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ginning the cycle, M cannot find a 0 to change to a blank, because the first m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already have been changed. Then n &gt;= m, so m – n = 0. M replaces all remaning 1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and 0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by B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06E9-0044-4264-B9DF-91F0DB82E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function 𝛿 is described belo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0,0) = (q1,B,R)   Begin. Replace the leading 0 by 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1,0) = (q1,0,R)   Search right looking for the first 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1,1) = (q2,1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2,1) = (q2,1,R)   Search right past 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 until encountering a 0. Change that 0 to 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2,0) = (q3,1,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3,0) = (q3,0,L)   Move left to a blank. Enter state q0 to repeat the cyc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3,1) = (q3,1,L)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3,B) = (q0,B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f in state q2 a B is encountered before a 0, we have situation 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ribed above. Enter state q4 and move left, changing all 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 B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 until encountering a B. This B is changed back to a 0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te q6 is entered and M hal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2,B) = (q4,B,L)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4,1) = (q4,B,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4,0) = (q4,0,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4,B) = (q6,0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f in state q0 a 1 is encountered instead of a 0, the first bl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0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 has been exhausted, as in situation (ii) above. M ente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te q5 to erase the rest of the tape, then enters q6 and hal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0,1) = (q5,B,R)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5,0) = (q5,B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5,1) = (q5,B,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q5,B) = (q6,B,R)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886200" y="5867280"/>
            <a:ext cx="51055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n exercise, trace the execution of this machine using an input tape with the symbols 0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3C73-91E9-4DB5-A27A-06C3A4C30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odifications To The Basic Mach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hown that the following modifications do not improve on the computing power of the basic Turing machine shown abo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-way infinite t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-tape Turing machine with k tape heads and k t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dimensional, Multi-headed, RAM, etc., etc.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deterministic Turing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look at a Nondeterministic Turing Machin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A252-8CEB-4260-8EF1-EF7476D01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ndeterministic Turing Machine (NT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ansition function has the form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{L, R}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the domain is an ordered pair, e.g.,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{L, R} looks like {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,R),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0,R),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,L),…}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{L, R}) is the pow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Q x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{L, R}) looks like { {}, {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,R)}, {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1,R),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0,R)},…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if we see a 1 while in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might have to perform several activiti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FB61-1D17-4945-880D-2A3C1224A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uting using a NT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ree corresponds to the different possibilities. If some branch leads to an accept state, the machine accepts. If all branches lead to a reject state, the machine re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ve subset sum in linear time with NT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A = {a,b,c} and sum = x. Is there a subset of A summing to x? Suppose A = {1,2}, x = 3.      /   \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element e of A                                1  no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paths with and without e              / \        /\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if any path sums to x                 2 no 2 2 no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 reject reject re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B7EE-66B2-44FA-902F-DE18F53E1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urch-Turing Hypothesi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s taken from 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Turing Omnibus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A.K. Dewdn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as one might, there seems to be no way to define a mechanism of any type that computes more than a Turing machine is capable of compu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On the previous slide we answered an NP-Complete problem in linear time with a non-deterministic algorith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z? Why does this not violate the Church-Turing Hypothesi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respect to computability, non-determinism does not add pow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927E-5ABF-42AD-B45B-45CF72A97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660066"/>
                </a:solidFill>
                <a:uFillTx/>
                <a:latin typeface="Calibri"/>
              </a:rPr>
              <a:t>The Halting Problem</a:t>
            </a:r>
            <a:br>
              <a:rPr sz="29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taken from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rithmics The Sprit of Computing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D. Harel</a:t>
            </a:r>
            <a:br>
              <a:rPr sz="29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21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 the following algorithm 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(x != 1) x = x –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ming that its legal input consists of the positive integers &lt;1,2,3,...&gt;,It is obvious that A halts precisely for odd inputs. This problem can be expressed as a language recognition problem. How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, consider Algorithm B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(x != 1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x % 2 == 0) x = x /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 x = 3 * x +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ne has been able to offer a proof that B always terminates. This is an open question in number theory. This too may be expressed as a language recognition probl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alting problem is “undecidable”, meaning that there is no algorithm that will tell, in a finite amount of time, whether a given arbitrary program R, will terminate on a data input X or no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B95F-C4E0-4EF6-B122-40134FFAC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69440" cy="4114800"/>
          </a:xfrm>
          <a:prstGeom prst="rect">
            <a:avLst/>
          </a:prstGeom>
          <a:ln w="0">
            <a:noFill/>
          </a:ln>
        </p:spPr>
      </p:pic>
      <p:sp>
        <p:nvSpPr>
          <p:cNvPr id="57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C86D-F7AB-43B4-93AB-4E8738536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937440" y="838080"/>
            <a:ext cx="62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ut let</a:t>
            </a:r>
            <a:r>
              <a:rPr b="0" lang="ja-JP" sz="28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 build such a device anyw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 new program S that uses Q in the following w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first makes a copy of its input. It then passes both copies (one as a program and another as its input) to Q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makes its decision as before and gives its result back to 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halts if Q reports that Q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input would loop forev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itself loops forever if Q reports that Q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input termin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CC27-4E3C-43D1-837F-5F8C237FD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857520" y="762120"/>
            <a:ext cx="53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let</a:t>
            </a:r>
            <a:r>
              <a:rPr b="0" lang="ja-JP" sz="28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 use it as a subrouti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721640" cy="6172200"/>
          </a:xfrm>
          <a:prstGeom prst="rect">
            <a:avLst/>
          </a:prstGeom>
          <a:ln w="0">
            <a:noFill/>
          </a:ln>
        </p:spPr>
      </p:pic>
      <p:sp>
        <p:nvSpPr>
          <p:cNvPr id="58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88A5-A8C8-4646-B43F-BD8E2A8D6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248400" y="3581280"/>
            <a:ext cx="250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How much effort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t require for you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write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Assuming, of cour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that Q is par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Java AP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otes taken with modifications from 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Introduction to Automata Theory, Languages, and Computation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by John Hopcroft and Jeffrey Ullman, 197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8D9C-12CD-46BB-9679-588C19194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4376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C210-6A0F-4BCD-9C84-C9136C58E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4"/>
          <p:cNvSpPr/>
          <p:nvPr/>
        </p:nvSpPr>
        <p:spPr>
          <a:xfrm>
            <a:off x="239760" y="373392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OK, so far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good. Now,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 in to S as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xistence of S leads to a logical contradiction. If S terminates when reading itself as input then Q reports this fact and S starts looping and never terminates. If S loops forever when reading itself as input then Q reports this to be the case and S terminat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nstruction of S seems to be reasonable in many respects. It makes a copy of its input. It calls a function called Q. It gets a result back and uses that result to decide whether or not to loop (a bit strange but easy to program). So, the problem must be with Q. Its existence implies a contradiction. So, Q does not exist. The halting problem is </a:t>
            </a: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undecid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B8E-A011-472E-88CE-1A2F111D9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alibri"/>
              </a:rPr>
              <a:t>Example: Malware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n to be undecid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we give u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– monitoring output of processes can still  be fruit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B746-E790-43E4-B6ED-F433EB9AB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alibri"/>
              </a:rPr>
              <a:t>Terminology: Recursive and Recursively Enumerable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es from Wikiped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mal language is </a:t>
            </a:r>
            <a:r>
              <a:rPr b="1" i="1" lang="en-US" sz="2400" spc="-1" strike="noStrike">
                <a:solidFill>
                  <a:srgbClr val="800000"/>
                </a:solidFill>
                <a:latin typeface="Calibri"/>
              </a:rPr>
              <a:t>recur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there exists a  Turing machine which halts for every given input and always </a:t>
            </a:r>
            <a:r>
              <a:rPr b="0" lang="en-US" sz="2400" spc="-1" strike="noStrike">
                <a:solidFill>
                  <a:srgbClr val="660066"/>
                </a:solidFill>
                <a:latin typeface="Calibri"/>
              </a:rPr>
              <a:t>either accepts or rej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didate strings. This is also called a </a:t>
            </a:r>
            <a:r>
              <a:rPr b="1" i="1" lang="en-US" sz="2400" spc="-1" strike="noStrike">
                <a:solidFill>
                  <a:srgbClr val="800000"/>
                </a:solidFill>
                <a:latin typeface="Calibri"/>
              </a:rPr>
              <a:t>decidab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2400" spc="-1" strike="noStrike">
                <a:solidFill>
                  <a:srgbClr val="800000"/>
                </a:solidFill>
                <a:latin typeface="Calibri"/>
              </a:rPr>
              <a:t>recursively enume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anguage requires that some  Turing machine halts and accepts when presented with a str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 the langu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It may either halt and reject or loop forever when presented with a string not in the language. A machine can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recognize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t of halting program integer pairs is in R.E. but is not recursive. We can’t decide it but we can recognize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recursive (decidable) languages are recursively enumerab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E66C-13C0-4E23-BA0F-501FD1009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Recursive and Recursively Enumer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t of halting program integer pairs is in R.E. but is not recurs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any languages that are not recursively enumer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. Let L be { w = (program p, integer i) | p loops forever on i}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 is not recursively enumer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’t even recognize 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t of languages is bigger than the set of Turing machi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C732-23B6-4AEF-AFE2-8E3534A42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1656-622C-4556-9EF8-638629FF1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"/>
          <p:cNvSpPr/>
          <p:nvPr/>
        </p:nvSpPr>
        <p:spPr>
          <a:xfrm>
            <a:off x="2666880" y="2133720"/>
            <a:ext cx="3581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Decidable by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6"/>
          <p:cNvSpPr/>
          <p:nvPr/>
        </p:nvSpPr>
        <p:spPr>
          <a:xfrm>
            <a:off x="1905120" y="1447920"/>
            <a:ext cx="5105160" cy="2286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3449880" y="31240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w | w begins with 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2366640" y="2133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9"/>
          <p:cNvSpPr/>
          <p:nvPr/>
        </p:nvSpPr>
        <p:spPr>
          <a:xfrm>
            <a:off x="3459960" y="1828800"/>
            <a:ext cx="17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w| 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&gt;= 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0"/>
          <p:cNvSpPr/>
          <p:nvPr/>
        </p:nvSpPr>
        <p:spPr>
          <a:xfrm>
            <a:off x="2130120" y="1144440"/>
            <a:ext cx="19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{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j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|  k = i * j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1143000" y="609480"/>
            <a:ext cx="7064280" cy="4111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2"/>
          <p:cNvSpPr/>
          <p:nvPr/>
        </p:nvSpPr>
        <p:spPr>
          <a:xfrm>
            <a:off x="4732560" y="114444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Turing deci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3"/>
          <p:cNvSpPr/>
          <p:nvPr/>
        </p:nvSpPr>
        <p:spPr>
          <a:xfrm>
            <a:off x="76320" y="228600"/>
            <a:ext cx="8610480" cy="5715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4"/>
          <p:cNvSpPr/>
          <p:nvPr/>
        </p:nvSpPr>
        <p:spPr>
          <a:xfrm>
            <a:off x="2151720" y="50641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Turing recogn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5"/>
          <p:cNvSpPr/>
          <p:nvPr/>
        </p:nvSpPr>
        <p:spPr>
          <a:xfrm>
            <a:off x="4437000" y="4892760"/>
            <a:ext cx="25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 { (M,w) | M is a TM and M accepts w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6"/>
          <p:cNvSpPr/>
          <p:nvPr/>
        </p:nvSpPr>
        <p:spPr>
          <a:xfrm>
            <a:off x="3142440" y="5972040"/>
            <a:ext cx="53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L = {(M,w) | M is a TM and M rejects w or loop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"/>
          <p:cNvSpPr/>
          <p:nvPr/>
        </p:nvSpPr>
        <p:spPr>
          <a:xfrm>
            <a:off x="87120" y="560232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Not Turing Recogn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E716-DCA7-455E-BBE5-2269D0C0D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Results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609480" y="1752480"/>
          <a:ext cx="8229600" cy="2468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omputing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Finite Autom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ushdown Autom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inear Bounded Autom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uring Mach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anguage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gular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ext-Free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ext- Sensitive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cursively Enumerable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n-determin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kes no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kes a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 one kn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kes no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2" name="Slide Number Placeholder 4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C58F-2AC1-4332-B7FD-6FFA40C35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erministic Finite-State Automata (revie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24B4-395A-440B-9503-115CE3FFD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3"/>
          <p:cNvSpPr/>
          <p:nvPr/>
        </p:nvSpPr>
        <p:spPr>
          <a:xfrm>
            <a:off x="708120" y="1417680"/>
            <a:ext cx="76737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FSA  can be formally defined as M = (Q,Σ, 𝛿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, a finite set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, the alphabet of input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 X Σ  → Q , a transitio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the set of fin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ushdown Automata(review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D924-9623-48E1-BBAF-145F54EEA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"/>
          <p:cNvSpPr/>
          <p:nvPr/>
        </p:nvSpPr>
        <p:spPr>
          <a:xfrm>
            <a:off x="1085760" y="1752480"/>
            <a:ext cx="75567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ushdown automaton can be formally defined as M = (Q,Σ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𝛿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, a finite set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, the alphabet of tap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alphabet of stack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 X Σ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 Q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the set of fin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uring Mach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basic model of a Turing machine has a finite control, an input tape that is divided into cells, and a tape head that scans one cell of the tape at a tim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ape has a leftmost cell but is infinite to the righ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cell of the tape may hold exactly one of a finite number of tape symbol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itially, the n leftmost cells, for some finite n &gt;= 0, hold the input, which is a string of symbols chosen from a subset of the tape symbols called the input symbol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emaining infinity of cells each hold the blank, which is a special symbol that is not an input symbo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67D-F5EE-466B-AD81-5D58065A7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057400" y="0"/>
            <a:ext cx="4343400" cy="2444760"/>
          </a:xfrm>
          <a:prstGeom prst="rect">
            <a:avLst/>
          </a:prstGeom>
          <a:ln w="0">
            <a:noFill/>
          </a:ln>
        </p:spPr>
      </p:pic>
      <p:sp>
        <p:nvSpPr>
          <p:cNvPr id="5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77E2-7A26-4644-B807-C7AEC220E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533520" y="3035160"/>
            <a:ext cx="782784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uring machine can be formally defined as M= (Q, 𝛴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𝛿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, F):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, a finite set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the finite set of allowable tap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 a symbol from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subset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including B, is the set of input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 Q x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{ L,R} (may be undefined for some arg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 is the 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⊆Q is the set of fina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uring Machine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design of a Turing Machine M to decide the language L = {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n &gt;= 1}. This language is decid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itially, the tape of M contains 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ollowed by an infinity of blank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peatedly, M replaces the leftmost 0 by X, moves right to the leftmost 1, replacing it by Y, moves left to find the rightmost X, then moves one cell right to the leftmost 0 and repeats the cycl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, however, when searching for a 1, M finds a blank instead, then M halts without accepting. If, after changing a 1 to a Y, M finds no more 0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, then M checks that no more 1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 remain, accepting if there are n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0AD1-4EFE-4BAE-9BB1-6E4C65FE3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t Q = {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}, ∑ = {0,1}, 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 {0,1,X,Y,B} and F = {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defined with the following tab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PUT SYMB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0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1,X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3,Y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1,0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2,Y,L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1,Y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2,0,L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0,X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2,Y,L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3,Y,R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q4,B,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an exercise, draw a state diagram of this machine and trace its execution through 0011, 001101 and 0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C3F7-B189-43C5-925F-63D55A042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Turing Machine as a computer of integer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dition to being a language acceptor, the Turing machine may be viewed as a computer of functions from integers to integ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ditional approach is to represent integers in unary; the integer i &gt;= 0 is represented by the string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function has more than one argument then the arguments may be placed on the tape separated by 1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7210-7188-4FA3-AEF3-97216CB67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5-771 Data Structures and Algorithms for Information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8:54:21Z</dcterms:created>
  <dc:creator>Prathibha</dc:creator>
  <dc:description/>
  <dc:language>en-US</dc:language>
  <cp:lastModifiedBy>Microsoft Office User</cp:lastModifiedBy>
  <cp:lastPrinted>2017-12-06T19:19:58Z</cp:lastPrinted>
  <dcterms:modified xsi:type="dcterms:W3CDTF">2017-12-06T19:20:01Z</dcterms:modified>
  <cp:revision>53</cp:revision>
  <dc:subject/>
  <dc:title>Finite State Machines - 1</dc:title>
</cp:coreProperties>
</file>