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DDF7-7AC5-4631-8E79-975EF59AB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067-F5BC-4B58-A881-1564B711D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3464-81B0-447F-8669-44447B79A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173-7DCF-45C2-8A2D-96397F6D3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725F-E7F5-405A-8D48-99016ECD1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CE5-FC35-48DF-A840-9D3AA01D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018-81BA-4AB2-B4CD-34630BF94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6A3-3740-4C76-87B7-D59715CD0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510E-AA7F-4E45-8410-0EBC97918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BFA-2AB7-4FF8-B219-636E2BA98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BD8-13F5-4555-AEE3-E0332CE97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A23-4954-4A0D-90F3-138698589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CCA-30E5-40E7-9D38-FC8D2DC3B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029-BF8D-4DAD-BF1E-E89888CF1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067-4AFD-4BED-992B-1B2A29FD4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29F-F7B0-4029-BDA8-FE8805DBF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F10-5E51-4014-9D52-E68036F5A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54D-DD1F-4994-98CD-ABA093748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B18-E5CD-4381-923D-B0BBB66D6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07A0-660C-49F5-964B-3F2C6A4C4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A114-85DA-42D5-A844-E3BFAD7D3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B580-953E-4FD7-87B9-007C7E0E4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4194-FA90-43CD-8166-E8F293646D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BB1B2-D657-47DC-8B9A-72B4245F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1F333-A172-4C4C-9AE1-BD9E19CA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D0CAE-0199-4531-BFAA-37674D2D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3F796-25ED-416B-BBD5-944789D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5D831-10C9-4D28-97C2-A0E0A65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92372-361F-4FFC-90E9-971F470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1102D-A361-4E1A-885B-EBA1443C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A7724-F2E5-4250-98FA-004128DC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CB63E-D23C-4C1D-9290-711583F2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EC271-AF0E-4222-B6EA-31BE9A59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4A38-87DC-4013-A78C-29BE460DF3E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3EAC2-1367-41DB-BFC6-965DC6C0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E4663A-269F-44D3-BB8B-8DA02FD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9B47E1-F70B-4604-B8A2-6EE98562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BEC5B2-9495-4AF6-A5C1-8F906269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A2947-48A6-44BF-92E8-7931CDF4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CD22CD-C070-43DB-8C38-3B2E8A2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4DC11-436A-4FBA-858D-8DFE5DB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70CB3-4289-4923-86C3-6E4D2ED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36B462-6975-459A-AC9A-1CCF30B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EE3EF3-AEF2-43CF-B868-ED3D1DBF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7B89-4179-45B8-8F4D-7B31A1941D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F1453-A4C3-422A-9E18-0CE22697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67383D-6C7F-486B-8D81-C9F26059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62FA9-1723-4D3F-B6CF-45AB079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642ED-1B7D-4726-92CB-73E2D44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F79A94-533F-4FB8-925E-81A4F617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5260AC-03B6-4EC8-9203-AD23B52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A36EC3-C843-43A2-8455-9B476D47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1AA512-4C1B-4D5A-A6BB-E57CE72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E5D9D7-E490-4B21-8189-D2DA1BD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5C4E05-0DB0-431C-8C4E-1063A19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19432-9DA8-4E7B-8027-90D93233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DD58A7-50CE-4C76-A8E9-729D6C7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5527A-AED3-4D5B-AC37-3445A0FD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72DDE5-3585-454D-9FF2-F5E0D797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0E5494-0319-4055-869E-AE8523C1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E45E22-B399-448C-A7B2-8B6FE31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78BC29-4F5B-4CFD-B799-6D4F6B2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B016FA-7F24-4FF8-8676-14F52D4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71A59C-1D5C-4B03-82C8-356291F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3A1D9-2F95-422A-9631-1818E854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BA24C-B8AC-4808-ABD5-D292A0F9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E929E-2596-4943-A575-396E393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075274-63CB-4C30-9322-B98D212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CB1F76-9635-4DE9-A553-05EDA537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0F61E6-DA74-4E21-B944-E4D8219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E9D3AB-1F8A-4482-90BF-51794939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9B0CD-F3A3-43E7-AF31-0C24149C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474A8-470C-4BC4-BC73-9E93630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2CE1-B7ED-4E82-805E-07575800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93DCD-59CC-4895-A4FB-BD91AFCB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EC5EB-9B67-4744-BB6B-26BAA62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EA6C4-FE4A-4684-8B64-3464BCD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8126-1972-47A1-90EA-F32ACB663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5FF2D-D73E-4BE8-AA09-F5BFDE8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B016-913A-4FD2-B817-BA6014B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3052D-4EEE-4BEF-B2ED-21C3D11A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C061-B0A2-4F52-A08E-DFC17129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BF4F4-0968-4FEE-88A8-A290DCF2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C2D23-09A7-4EF1-BD8A-D30AF655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8D000-587D-4276-8A85-382F8FE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88686-2F44-4BA4-90B9-EE0E3EA6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984AD-DE02-4649-B567-31CD61CD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3C5B3-23E0-4CDC-AD73-3D9CB47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8DC8-CF73-46D7-ADD0-3CF70895B0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C50DA-8873-4905-ADED-1B95E7BB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748B0-0E41-4CDD-8CE8-1CFB84A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66DA0-CD04-451F-BB78-FAE82F0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5045B-2A5B-441E-8AA9-96FFA9D3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AC4B5-82D1-4803-BE6F-9B03F01D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98DEF-A901-4460-A2A6-4559F56D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74A62-2BE1-4AB9-B002-B40D6E29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2E2C5-19F8-4C25-8C80-D6651D37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DFCED-8C69-42F0-AEA4-CD31BD4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C958B-F4D5-400A-A69A-68B469DF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3597-D3E1-4997-A115-7EB17F77DE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6FF73-B6F1-4DDA-A488-C96E10E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F8D09-1E5D-4D68-B2B5-D56B054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78EFC-4518-43D1-90EC-B30E8ED6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82941-203A-4FC3-8628-A4D4D03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17582-9D08-4DDF-BE2D-243B680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1A930-7955-4225-8609-8A59DE3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61587-8294-455B-903A-BC157608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E5ACA-976F-4190-ACE3-B97617FF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DA2BA-6111-404A-AB10-95031ACC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D75DB-4732-4965-AE58-55312542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655C-A7A7-4135-BC58-E0602ABAA3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3C035-DBCB-4D9C-93CC-8328CA21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440BB-47BA-4215-8C14-50C0A5F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49CB2-29AF-47A8-BD76-654C9FD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FE163-6946-4CF6-A437-AE0909A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D3934-E8F2-481D-A775-F1D5B39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C4659-C157-4870-A2BC-2E30AB79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B679B-3731-4CAE-8A5C-BCEF200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13D8D-F15A-4FE5-9E8D-BA839B0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DE6A8-D410-4167-937A-30D244B7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EC573-E114-424E-8BC5-502A5A09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3C73-20ED-40CA-A85E-84D82E7615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8D30E-FF34-4413-BF6E-9E708C37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695C0-BFAE-4643-8168-5FAE8FCE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A4610-237D-46B3-B242-478A4F0E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F89DA-851D-40A0-9075-B9BC802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2C6A6-6D1F-4A76-92B6-6B04201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3ED94-1F72-4617-9544-E46141D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9A6E3-935A-4FF5-B2CE-BA4F331E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A3ADB-49F9-420A-B2AC-BF917FB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C5515-AB57-4FAE-B606-F9606A9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D87AA-75EA-4CBA-9BF5-EA7C4A5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550F-B425-4D3E-A33F-483E05CE97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47F56-B580-4CED-A4A3-694D57B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80B2F-748B-466B-961B-540419B8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91793-0143-49CB-9B36-8FAE6DB3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F888B-0382-4E74-8447-72B99A21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4085B-5FC9-49ED-9205-39EC448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09E10-1BB8-4023-A9EB-7655267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8E204-D9B3-4CDC-98BA-22F5044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BD901-CD40-4DD8-B499-FB8AF42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E5B00-DE07-4E6B-8680-8F6EABC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C676B-5508-4BD6-A149-41ABA59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27BC-5F72-4CC0-AE80-02E87F616D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8C342-5E2B-4596-A85E-9D6CEDB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2375D-FE40-4B2A-A6D3-E2754BA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000A5-6565-4549-8527-7CF01485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57638-A0F1-4D1B-BEE4-502D7AB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FD401-7D05-42AD-87BA-87E0A8B7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F05AE6-B9CA-44D6-B459-078C8008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EB5EB-353A-4C21-B676-B574403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817C0-ECB1-4F4D-9A7A-576B56C5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C4836-C917-48BC-9C1D-A2817A00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25437-175A-4546-B901-90F95A36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1FC2-1539-4508-B04C-1DDCA7B889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DFACE-1462-49A1-A118-15CC502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A3E94-6A15-44AF-9A1C-7989315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8497B9-20F1-421B-BA76-90AEA8C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26B8A-C665-4806-B4BC-A245F0B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5F3C4-6EEB-417F-BF0F-1E47124E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E2DE8-9627-4FE5-9F95-B9510F2D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0EBA7-CDA5-4ACB-9CB0-1DEE23F0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2BEA6-7480-44C0-AC69-B6754BBD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A75DC-D26D-4381-8EF0-1EB93F5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67779-FA36-40ED-B770-E22DCF5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1E0-FC43-4690-BD33-CD74B7085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6CD-0909-419D-902C-A6963693133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E31-5864-49D9-94EC-B39A25D6A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D00-DA81-4008-9EE7-796CC7785CA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C284-0965-44BB-A9E5-71F02081F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FE0-C69C-440F-932F-9AABB847282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A69-5AE7-49EA-B147-EAE36066A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A14-19BC-45E8-ABCA-8CF46A5207C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E8C-CAAD-48ED-8953-43D1B23B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6480-8E86-493E-BF77-2AA1D33FFD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760A-E798-4DBB-939E-A9B6B3A28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BAF-1A5A-4D6F-B20C-6D1A932480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F37-2F36-4C89-9339-E23C95A8E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4CD-66C1-4CC6-B3B7-AE7FCD9B255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0E6-53F9-4CCB-9EF3-29B4E49FC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022A-497C-40ED-9847-3C93E5B366B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7A6-1F32-478F-B22E-9B14903E4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6E6-C842-4CEF-9CF9-226F8DC40E1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929-D2F1-42C5-BAFE-1A2D952CF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3CD1-083F-460E-9414-E59C8465C79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8A64-445F-4E6B-86DB-BB0F08013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E04-6FFB-430D-865B-9A60160683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A8D-052E-4BAA-9F7F-B309024E4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te State Machines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BA3-78D0-4359-9F68-36E330BD5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xample, proper subtraction m – n is defined to 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 – n for m &gt;= n, 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ro for m &lt; 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TM M = ( {q0,q1,...,q6}, {0,1}, {0,1,B}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𝛿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0, B, {}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d below, if started with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its tape, halts with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-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its tape. M repeatedly replaces its leading 0 by blank, then searches right for a 1 followed by a 0 and changes the 0 to a 1. Next, M moves left until it encounters a blank and then repeats the cycle. The repetition ends i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ing right for a 0, M encounters a blank. Then, the n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in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ave all been changed to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, and n+1 of the m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have been changed to B. M replaces the n+1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y a 0 and n B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, leaving m-n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on its t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ginning the cycle, M cannot find a 0 to change to a blank, because the first m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already have been changed. Then n &gt;= m, so m – n = 0. M replaces all remaning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and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y 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F6F2-EE23-4B9B-8F18-B0B96596D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function 𝛿 is described belo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0,0) = (q1,B,R)   Begin. Replace the leading 0 by 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1,0) = (q1,0,R)   Search right looking for the first 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1,1) = (q2,1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1) = (q2,1,R)   Search right past 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until encountering a 0. Change that 0 to 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0) = (q3,1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0) = (q3,0,L)   Move left to a blank. Enter state q0 to repeat the cyc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1) = (q3,1,L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B) = (q0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in state q2 a B is encountered before a 0, we have situation 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d above. Enter state q4 and move left, changing all 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B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until encountering a B. This B is changed back to a 0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e q6 is entered and M hal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B) = (q4,B,L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1) = (q4,B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0) = (q4,0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B) = (q6,0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in state q0 a 1 is encountered instead of a 0, the first bl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has been exhausted, as in situation (ii) above. M ent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e q5 to erase the rest of the tape, then enters q6 and hal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0,1) = (q5,B,R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0) = (q5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1) = (q5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B) = (q6,B,R)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5867280"/>
            <a:ext cx="51055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n exercise, trace the execution of this machine using an input tape with the symbols 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9A0-B49E-4A7D-951D-A02279F90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odifications To The Basic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hown that the following modifications do not improve on the computing power of the basic Turing machine shown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way infinite t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tape Turing machine with k tape heads and k t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, Multi-headed, RAM, etc., etc.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deterministic Turing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look at a Nondeterministic Turing Machin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0C3-9F82-4911-85E4-157C9E3C7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ndeterministic Turing Machine (NT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ition function has the form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the domain is an ordered pair, e.g.,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 looks like {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0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L),…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is the pow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looks like { {}, {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}, {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0,R)},…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if we see a 1 while i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might have to perform several activiti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FF1-433E-415E-BDCE-D1D6B5D9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uting using a NT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ee corresponds to the different possibilities. If some branch leads to an accept state, the machine accepts. If all branches lead to a reject state, the machine re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ve subset sum in linear time with NT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A = {a,b,c} and sum = x. Is there a subset of A summing to x? Suppose A = {1,2}, x = 3.      /   \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element e of A                                1  n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paths with and without e              / \        /\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if any path sums to x                 2 no 2 2 n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 reject reject re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3707-2A13-4DA7-ADE1-936208BAF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urch-Turing Hypothesi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s taken from 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uring Omnibus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.K. Dewdn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as one might, there seems to be no way to define a mechanism of any type that computes more than a Turing machine is capable of compu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On the previous slide we answered an NP-Complete problem in linear time with a non-deterministic algorit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z? Why does this not violate the Church-Turing Hypothes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respect to computability, non-determinism does not add pow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583-D9CC-4945-A906-D7CB804E4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660066"/>
                </a:solidFill>
                <a:uFillTx/>
                <a:latin typeface="Calibri"/>
              </a:rPr>
              <a:t>The Halting Problem</a:t>
            </a:r>
            <a:br>
              <a:rPr sz="29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taken fro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rithmics The Sprit of Computing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D. Harel</a:t>
            </a:r>
            <a:br>
              <a:rPr sz="29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the following algorithm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(x != 1) x = x –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ming that its legal input consists of the positive integers &lt;1,2,3,...&gt;,It is obvious that A halts precisely for odd inputs. This problem can be expressed as a language recognition problem. How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, consider Algorithm 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(x != 1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x % 2 == 0) x = x /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x = 3 * x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ne has been able to offer a proof that B always terminates. This is an open question in number theory. This too may be expressed as a language recognition probl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alting problem is “undecidable”, meaning that there is no algorithm that will tell, in a finite amount of time, whether a given arbitrary program R, will terminate on a data input X or n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02B8-76AC-45D8-B20E-FFBE0A38B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69440" cy="4114800"/>
          </a:xfrm>
          <a:prstGeom prst="rect">
            <a:avLst/>
          </a:prstGeom>
          <a:ln w="0">
            <a:noFill/>
          </a:ln>
        </p:spPr>
      </p:pic>
      <p:sp>
        <p:nvSpPr>
          <p:cNvPr id="5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8BA-63B5-4FCA-824F-21EED8D3E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937440" y="838080"/>
            <a:ext cx="62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ut let</a:t>
            </a:r>
            <a:r>
              <a:rPr b="0" lang="ja-JP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 build such a device any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new program S that uses Q in the following w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first makes a copy of its input. It then passes both copies (one as a program and another as its input) to Q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makes its decision as before and gives its result back to 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halts if Q reports that Q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nput would loop forev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tself loops forever if Q reports that Q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nput termin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6BB-845F-4B44-9077-84332AC94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857520" y="762120"/>
            <a:ext cx="53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let</a:t>
            </a:r>
            <a:r>
              <a:rPr b="0" lang="ja-JP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 use it as a subrouti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721640" cy="6172200"/>
          </a:xfrm>
          <a:prstGeom prst="rect">
            <a:avLst/>
          </a:prstGeom>
          <a:ln w="0">
            <a:noFill/>
          </a:ln>
        </p:spPr>
      </p:pic>
      <p:sp>
        <p:nvSpPr>
          <p:cNvPr id="5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F20-C2A3-4A5F-B83A-AD9044F58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248400" y="3581280"/>
            <a:ext cx="250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How much effort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t requir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write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ssuming, of cour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that Q is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Java AP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otes taken with modifications from 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Introduction to Automata Theory, Languages, and Computation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by John Hopcroft and Jeffrey Ullman, 197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F1C-1909-464C-84AC-C8B9E4B0B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437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65EC-DB13-492F-A769-878F13AC4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239760" y="373392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OK, so far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ood. Now,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 in to S as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xistence of S leads to a logical contradiction. If S terminates when reading itself as input then Q reports this fact and S starts looping and never terminates. If S loops forever when reading itself as input then Q reports this to be the case and S terminat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struction of S seems to be reasonable in many respects. It makes a copy of its input. It calls a function called Q. It gets a result back and uses that result to decide whether or not to loop (a bit strange but easy to program). So, the problem must be with Q. Its existence implies a contradiction. So, Q does not exist. The halting problem is </a:t>
            </a: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undeci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898-A1E7-488A-B140-94AB433D0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alibri"/>
              </a:rPr>
              <a:t>Example: Malware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be undeci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we give u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– monitoring output of processes can still  be fruit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8B0-C19F-4768-BC6E-32A0EA30D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alibri"/>
              </a:rPr>
              <a:t>Terminology: Recursive and Recursively Enumerabl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s from Wikipe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mal language is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ere exists a  Turing machine which halts for every given input and always </a:t>
            </a:r>
            <a:r>
              <a:rPr b="0" lang="en-US" sz="2400" spc="-1" strike="noStrike">
                <a:solidFill>
                  <a:srgbClr val="660066"/>
                </a:solidFill>
                <a:latin typeface="Calibri"/>
              </a:rPr>
              <a:t>either accepts or rej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didate strings. This is also called a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decidab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recursively enume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anguage requires that some  Turing machine halts and accepts when presented with a str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 the langu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It may either halt and reject or loop forever when presented with a string not in the language. A machine can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recognize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t of halting program integer pairs is in R.E. but is not recursive. We can’t decide it but we can recogniz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recursive (decidable) languages are recursively enumerab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2BD-D6A2-463E-B73F-5AC825274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Recursive and Recursively Enume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t of halting program integer pairs is in R.E. but is not recur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any languages that are not recursively enumer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. Let L be { w = (program p, integer i) | p loops forever on i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 is not recursively enumer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’t even recognize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t of languages is bigger than the set of Turing mach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F59-3F40-48F6-AF6C-CD9C5D98C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CE56-C4D0-47A1-B2D4-C897CFD4D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2666880" y="2133720"/>
            <a:ext cx="3581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Decidable by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"/>
          <p:cNvSpPr/>
          <p:nvPr/>
        </p:nvSpPr>
        <p:spPr>
          <a:xfrm>
            <a:off x="1905120" y="1447920"/>
            <a:ext cx="5105160" cy="2286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3449880" y="31240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 | w begins with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2366640" y="2133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9"/>
          <p:cNvSpPr/>
          <p:nvPr/>
        </p:nvSpPr>
        <p:spPr>
          <a:xfrm>
            <a:off x="3459960" y="182880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| 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&gt;= 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2130120" y="1144440"/>
            <a:ext cx="19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{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j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|  k = i * j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1143000" y="609480"/>
            <a:ext cx="7064280" cy="411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"/>
          <p:cNvSpPr/>
          <p:nvPr/>
        </p:nvSpPr>
        <p:spPr>
          <a:xfrm>
            <a:off x="4732560" y="114444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uring deci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3"/>
          <p:cNvSpPr/>
          <p:nvPr/>
        </p:nvSpPr>
        <p:spPr>
          <a:xfrm>
            <a:off x="76320" y="228600"/>
            <a:ext cx="8610480" cy="5715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4"/>
          <p:cNvSpPr/>
          <p:nvPr/>
        </p:nvSpPr>
        <p:spPr>
          <a:xfrm>
            <a:off x="2151720" y="50641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uring recogn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5"/>
          <p:cNvSpPr/>
          <p:nvPr/>
        </p:nvSpPr>
        <p:spPr>
          <a:xfrm>
            <a:off x="4437000" y="4892760"/>
            <a:ext cx="25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{ (M,w) | M is a TM and M accepts w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3142440" y="5972040"/>
            <a:ext cx="53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L = {(M,w) | M is a TM and M rejects w or loop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87120" y="56023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Not Turing Recogn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AFF-42CE-48CB-B8F1-C786519DA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Result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60948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mputing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inite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ushdown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inear Bounded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uring Mac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nguag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gular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-Fre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- Sensitiv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ursively Enumerabl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n-determin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no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a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 one kn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no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2" name="Slide Number Placeholder 4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4332-0137-45D0-9360-2B1377D96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erministic Finite-State Automata (revie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B4F2-BBEA-4960-AE8C-573598BAC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3"/>
          <p:cNvSpPr/>
          <p:nvPr/>
        </p:nvSpPr>
        <p:spPr>
          <a:xfrm>
            <a:off x="708120" y="1417680"/>
            <a:ext cx="7673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FSA  can be formally defined as M = (Q,Σ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, the alphabet of input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Σ  → Q , a transi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ushdown Automata(revie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5332-5588-40BA-9668-12453E8C3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1085760" y="1752480"/>
            <a:ext cx="7556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ushdown automaton can be formally defined as M = (Q,Σ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, the alphabet of tap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alphabet of stack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Σ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asic model of a Turing machine has a finite control, an input tape that is divided into cells, and a tape head that scans one cell of the tape at a tim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ape has a leftmost cell but is infinite to the ri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cell of the tape may hold exactly one of a finite number of tape symbo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ly, the n leftmost cells, for some finite n &gt;= 0, hold the input, which is a string of symbols chosen from a subset of the tape symbols called the input symbo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emaining infinity of cells each hold the blank, which is a special symbol that is not an input symbo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4A6-9A4E-4ED0-9319-0B0D4225F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057400" y="0"/>
            <a:ext cx="4343400" cy="2444760"/>
          </a:xfrm>
          <a:prstGeom prst="rect">
            <a:avLst/>
          </a:prstGeom>
          <a:ln w="0">
            <a:noFill/>
          </a:ln>
        </p:spPr>
      </p:pic>
      <p:sp>
        <p:nvSpPr>
          <p:cNvPr id="5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C792-4A73-4FC8-84D9-5A443FC86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533520" y="3035160"/>
            <a:ext cx="78278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uring machine can be formally defined as M= (Q, 𝛴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, F):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the finite set of allowable tap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a symbol from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subset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including B, is the set of input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{ L,R} (may be undefined for some arg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 is 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⊆Q is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uring Machin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design of a Turing Machine M to decide the language L = {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n &gt;= 1}. This language is decid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ly, the tape of M contains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llowed by an infinity of blank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eatedly, M replaces the leftmost 0 by X, moves right to the leftmost 1, replacing it by Y, moves left to find the rightmost X, then moves one cell right to the leftmost 0 and repeats the cycl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, however, when searching for a 1, M finds a blank instead, then M halts without accepting. If, after changing a 1 to a Y, M finds no more 0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, then M checks that no more 1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remain, accepting if there are n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7E4-BCC2-4C21-859D-DFBB58913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t Q = {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}, ∑ = {0,1}, 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{0,1,X,Y,B} and F = {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defined with the following 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SYMB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0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X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3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0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Y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0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0,X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Y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3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4,B,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n exercise, draw a state diagram of this machine and trace its execution through 0011, 001101 and 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817-1057-4B21-88EE-2A55C4EF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Turing Machine as a computer of integer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dition to being a language acceptor, the Turing machine may be viewed as a computer of functions from integers to integ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ditional approach is to represent integers in unary; the integer i &gt;= 0 is represented by the string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function has more than one argument then the arguments may be placed on the tape separated by 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7B9-27F7-4C64-8B4B-D346D210B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8:54:21Z</dcterms:created>
  <dc:creator>Prathibha</dc:creator>
  <dc:description/>
  <dc:language>en-US</dc:language>
  <cp:lastModifiedBy>Microsoft Office User</cp:lastModifiedBy>
  <cp:lastPrinted>2017-12-06T19:19:58Z</cp:lastPrinted>
  <dcterms:modified xsi:type="dcterms:W3CDTF">2017-12-06T19:20:01Z</dcterms:modified>
  <cp:revision>53</cp:revision>
  <dc:subject/>
  <dc:title>Finite State Machines - 1</dc:title>
</cp:coreProperties>
</file>