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CF6-EF68-43F7-86E7-EA4EE534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1C2-8672-449F-964A-8B895114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809-A539-430A-8B00-4FB51E4B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5C3-0310-4A57-813B-15BE4055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202-494A-4366-8438-32C9595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82C-9D99-4513-B7D8-DA69DD8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2B2-A67E-447D-B4E0-9FF0E239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23E-16F8-4C32-AA3B-88FA75E4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753-BA56-43FB-8C09-06421210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6CB-46CF-4578-893B-361EA66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B2E-29AE-4A42-8974-0467311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F01-8553-4E00-962B-FB23032A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F7A7-55D4-45A6-961D-BA5EB4B93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00200" y="1371600"/>
          <a:ext cx="619128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1912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43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Number of Probe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cessful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05120" y="0"/>
            <a:ext cx="236196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3808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3808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8120" y="18288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18288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7621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7621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95680" y="25909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657600" y="1828800"/>
            <a:ext cx="380880" cy="1066680"/>
            <a:chOff x="3657600" y="1828800"/>
            <a:chExt cx="380880" cy="1066680"/>
          </a:xfrm>
        </p:grpSpPr>
        <p:sp>
          <p:nvSpPr>
            <p:cNvPr id="469" name=""/>
            <p:cNvSpPr/>
            <p:nvPr/>
          </p:nvSpPr>
          <p:spPr>
            <a:xfrm>
              <a:off x="3657600" y="18288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25909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7600" y="22096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495680" y="22096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4080" y="914400"/>
            <a:ext cx="1003320" cy="838080"/>
          </a:xfrm>
          <a:custGeom>
            <a:avLst/>
            <a:gdLst/>
            <a:ahLst/>
            <a:rect l="l" t="t" r="r" b="b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124080" y="914400"/>
            <a:ext cx="15264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657600"/>
            <a:ext cx="289584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36576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25760" y="2743200"/>
            <a:ext cx="2184120" cy="914400"/>
          </a:xfrm>
          <a:custGeom>
            <a:avLst/>
            <a:gdLst/>
            <a:ahLst/>
            <a:rect l="l" t="t" r="r" b="b"/>
            <a:pathLst>
              <a:path w="1376" h="576">
                <a:moveTo>
                  <a:pt x="1376" y="0"/>
                </a:moveTo>
                <a:cubicBezTo>
                  <a:pt x="1216" y="124"/>
                  <a:pt x="1056" y="248"/>
                  <a:pt x="848" y="288"/>
                </a:cubicBezTo>
                <a:cubicBezTo>
                  <a:pt x="640" y="328"/>
                  <a:pt x="256" y="192"/>
                  <a:pt x="128" y="240"/>
                </a:cubicBezTo>
                <a:cubicBezTo>
                  <a:pt x="0" y="288"/>
                  <a:pt x="40" y="432"/>
                  <a:pt x="80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2743200"/>
            <a:ext cx="95256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0"/>
                </a:moveTo>
                <a:cubicBezTo>
                  <a:pt x="28" y="160"/>
                  <a:pt x="56" y="320"/>
                  <a:pt x="144" y="384"/>
                </a:cubicBezTo>
                <a:cubicBezTo>
                  <a:pt x="232" y="448"/>
                  <a:pt x="456" y="352"/>
                  <a:pt x="528" y="384"/>
                </a:cubicBezTo>
                <a:cubicBezTo>
                  <a:pt x="600" y="416"/>
                  <a:pt x="588" y="496"/>
                  <a:pt x="576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6576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40384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4197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40384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562720" y="3657600"/>
            <a:ext cx="380880" cy="1066680"/>
            <a:chOff x="5562720" y="3657600"/>
            <a:chExt cx="380880" cy="1066680"/>
          </a:xfrm>
        </p:grpSpPr>
        <p:sp>
          <p:nvSpPr>
            <p:cNvPr id="486" name=""/>
            <p:cNvSpPr/>
            <p:nvPr/>
          </p:nvSpPr>
          <p:spPr>
            <a:xfrm>
              <a:off x="556272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086600" y="3657600"/>
            <a:ext cx="380880" cy="1066680"/>
            <a:chOff x="7086600" y="3657600"/>
            <a:chExt cx="380880" cy="1066680"/>
          </a:xfrm>
        </p:grpSpPr>
        <p:sp>
          <p:nvSpPr>
            <p:cNvPr id="490" name=""/>
            <p:cNvSpPr/>
            <p:nvPr/>
          </p:nvSpPr>
          <p:spPr>
            <a:xfrm>
              <a:off x="708660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8660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57480" y="4572000"/>
            <a:ext cx="1180800" cy="990720"/>
          </a:xfrm>
          <a:custGeom>
            <a:avLst/>
            <a:gdLst/>
            <a:ahLst/>
            <a:rect l="l" t="t" r="r" b="b"/>
            <a:pathLst>
              <a:path w="744" h="624">
                <a:moveTo>
                  <a:pt x="744" y="0"/>
                </a:moveTo>
                <a:cubicBezTo>
                  <a:pt x="656" y="132"/>
                  <a:pt x="568" y="264"/>
                  <a:pt x="456" y="336"/>
                </a:cubicBezTo>
                <a:cubicBezTo>
                  <a:pt x="344" y="408"/>
                  <a:pt x="144" y="408"/>
                  <a:pt x="72" y="432"/>
                </a:cubicBezTo>
                <a:cubicBezTo>
                  <a:pt x="0" y="456"/>
                  <a:pt x="32" y="448"/>
                  <a:pt x="24" y="480"/>
                </a:cubicBezTo>
                <a:cubicBezTo>
                  <a:pt x="16" y="512"/>
                  <a:pt x="24" y="584"/>
                  <a:pt x="24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55627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5181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5334120"/>
            <a:ext cx="12956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59320" y="4572000"/>
            <a:ext cx="432000" cy="609480"/>
          </a:xfrm>
          <a:custGeom>
            <a:avLst/>
            <a:gdLst/>
            <a:ahLst/>
            <a:rect l="l" t="t" r="r" b="b"/>
            <a:pathLst>
              <a:path w="272" h="384">
                <a:moveTo>
                  <a:pt x="272" y="0"/>
                </a:moveTo>
                <a:cubicBezTo>
                  <a:pt x="168" y="64"/>
                  <a:pt x="64" y="128"/>
                  <a:pt x="32" y="192"/>
                </a:cubicBezTo>
                <a:cubicBezTo>
                  <a:pt x="0" y="256"/>
                  <a:pt x="40" y="320"/>
                  <a:pt x="80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4572000"/>
            <a:ext cx="53352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cubicBezTo>
                  <a:pt x="120" y="104"/>
                  <a:pt x="240" y="208"/>
                  <a:pt x="288" y="288"/>
                </a:cubicBezTo>
                <a:cubicBezTo>
                  <a:pt x="336" y="368"/>
                  <a:pt x="296" y="448"/>
                  <a:pt x="288" y="4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5410080"/>
            <a:ext cx="22860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27480" y="4572000"/>
            <a:ext cx="406440" cy="83808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256" y="0"/>
                </a:moveTo>
                <a:cubicBezTo>
                  <a:pt x="204" y="76"/>
                  <a:pt x="152" y="152"/>
                  <a:pt x="112" y="192"/>
                </a:cubicBezTo>
                <a:cubicBezTo>
                  <a:pt x="72" y="232"/>
                  <a:pt x="32" y="184"/>
                  <a:pt x="16" y="240"/>
                </a:cubicBezTo>
                <a:cubicBezTo>
                  <a:pt x="0" y="296"/>
                  <a:pt x="8" y="412"/>
                  <a:pt x="1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rici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x Sort using 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8200" y="2095560"/>
            <a:ext cx="8596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RadixSort(int a[], int b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, j, pass, count[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pass=0; pass &lt; w/m; pass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=0; j &lt; M; j++) count[j]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=1; i &lt;= N; i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[a[i].bits(pass*m, m)]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=1; j &lt; M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[j] = count[j-1] + count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=N; i &gt;= 1; i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count[a[i].bits(pass*m, m)]--] = 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=1; i &lt;= N; i++) a[i] = b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16120" y="1039680"/>
            <a:ext cx="72482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Queues can be avoided by using 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=2^m, sorting on rightmost w bi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Sear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90920" y="1828800"/>
            <a:ext cx="5638320" cy="2133360"/>
            <a:chOff x="2590920" y="1828800"/>
            <a:chExt cx="5638320" cy="2133360"/>
          </a:xfrm>
        </p:grpSpPr>
        <p:sp>
          <p:nvSpPr>
            <p:cNvPr id="46" name=""/>
            <p:cNvSpPr/>
            <p:nvPr/>
          </p:nvSpPr>
          <p:spPr>
            <a:xfrm>
              <a:off x="5715000" y="18288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3396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34290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960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4384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0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190760" y="2209680"/>
            <a:ext cx="15238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47760" y="3048120"/>
            <a:ext cx="5331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048120"/>
            <a:ext cx="4572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2209680"/>
            <a:ext cx="129564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91520" y="31240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0" y="3962520"/>
            <a:ext cx="1143000" cy="457200"/>
            <a:chOff x="2286000" y="3962520"/>
            <a:chExt cx="1143000" cy="457200"/>
          </a:xfrm>
        </p:grpSpPr>
        <p:sp>
          <p:nvSpPr>
            <p:cNvPr id="59" name=""/>
            <p:cNvSpPr/>
            <p:nvPr/>
          </p:nvSpPr>
          <p:spPr>
            <a:xfrm flipH="1">
              <a:off x="24379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67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153280" y="3124080"/>
            <a:ext cx="22860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1880" y="3429000"/>
            <a:ext cx="152640" cy="1522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29400" y="3962520"/>
            <a:ext cx="1143000" cy="457200"/>
            <a:chOff x="6629400" y="3962520"/>
            <a:chExt cx="1143000" cy="457200"/>
          </a:xfrm>
        </p:grpSpPr>
        <p:sp>
          <p:nvSpPr>
            <p:cNvPr id="66" name=""/>
            <p:cNvSpPr/>
            <p:nvPr/>
          </p:nvSpPr>
          <p:spPr>
            <a:xfrm flipH="1">
              <a:off x="67813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915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267080" y="3962520"/>
            <a:ext cx="1143000" cy="457200"/>
            <a:chOff x="4267080" y="3962520"/>
            <a:chExt cx="1143000" cy="457200"/>
          </a:xfrm>
        </p:grpSpPr>
        <p:sp>
          <p:nvSpPr>
            <p:cNvPr id="71" name=""/>
            <p:cNvSpPr/>
            <p:nvPr/>
          </p:nvSpPr>
          <p:spPr>
            <a:xfrm flipH="1">
              <a:off x="44190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8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x Tri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648320"/>
            <a:ext cx="533520" cy="53316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6508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57800" y="3809880"/>
            <a:ext cx="380520" cy="457200"/>
            <a:chOff x="5257800" y="3809880"/>
            <a:chExt cx="380520" cy="457200"/>
          </a:xfrm>
        </p:grpSpPr>
        <p:sp>
          <p:nvSpPr>
            <p:cNvPr id="79" name=""/>
            <p:cNvSpPr/>
            <p:nvPr/>
          </p:nvSpPr>
          <p:spPr>
            <a:xfrm flipH="1">
              <a:off x="5409720" y="3809880"/>
              <a:ext cx="2286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7800" y="411480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95680" y="2286000"/>
            <a:ext cx="22860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1337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743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34290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3581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41911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7242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1240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11480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114800"/>
            <a:ext cx="53316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400800" y="3048120"/>
            <a:ext cx="380520" cy="457200"/>
            <a:chOff x="6400800" y="3048120"/>
            <a:chExt cx="380520" cy="457200"/>
          </a:xfrm>
        </p:grpSpPr>
        <p:sp>
          <p:nvSpPr>
            <p:cNvPr id="95" name=""/>
            <p:cNvSpPr/>
            <p:nvPr/>
          </p:nvSpPr>
          <p:spPr>
            <a:xfrm>
              <a:off x="6400800" y="30481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040" y="33530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858000" y="2362320"/>
            <a:ext cx="380520" cy="457200"/>
            <a:chOff x="6858000" y="2362320"/>
            <a:chExt cx="380520" cy="457200"/>
          </a:xfrm>
        </p:grpSpPr>
        <p:sp>
          <p:nvSpPr>
            <p:cNvPr id="98" name=""/>
            <p:cNvSpPr/>
            <p:nvPr/>
          </p:nvSpPr>
          <p:spPr>
            <a:xfrm>
              <a:off x="6858000" y="23623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240" y="26672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4495320" y="1752480"/>
            <a:ext cx="8384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52480"/>
            <a:ext cx="9907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86200" y="2286000"/>
            <a:ext cx="38088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428640" y="297180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7760" y="3733920"/>
            <a:ext cx="2286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65760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8954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324120" y="236232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91320" y="3048120"/>
            <a:ext cx="380880" cy="533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809880"/>
            <a:ext cx="5335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95520" y="4419720"/>
            <a:ext cx="30492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4419720"/>
            <a:ext cx="2286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=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not inse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end of word K reached) set end-of-word marker in p to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(p.ptrs[K[i]] == null) create leaf containing K and put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 in p.ptrs[K[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(refernce p.ptrs[k[i]] refers to a lea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_L = key in leaf p.ptrs[K[i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create a non-leaf and put its address in p.ptrs[K[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 = the new non-lea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(K[i] == K_L[i++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 leaf containing K and put its address in p.ptrs[K[--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end-of-word K reached) set end-of-word marker in p to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create leaf containing K_L and put address in p.ptrs[K_L[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p = p.ptrs[K[i++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04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9051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“AR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12189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914400" cy="144792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0"/>
                </a:moveTo>
                <a:cubicBezTo>
                  <a:pt x="528" y="164"/>
                  <a:pt x="480" y="328"/>
                  <a:pt x="384" y="480"/>
                </a:cubicBezTo>
                <a:cubicBezTo>
                  <a:pt x="288" y="632"/>
                  <a:pt x="144" y="772"/>
                  <a:pt x="0" y="91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8160" y="457200"/>
            <a:ext cx="546120" cy="380880"/>
          </a:xfrm>
          <a:custGeom>
            <a:avLst/>
            <a:gdLst/>
            <a:ahLst/>
            <a:rect l="l" t="t" r="r" b="b"/>
            <a:pathLst>
              <a:path w="344" h="240">
                <a:moveTo>
                  <a:pt x="344" y="0"/>
                </a:moveTo>
                <a:cubicBezTo>
                  <a:pt x="228" y="28"/>
                  <a:pt x="112" y="56"/>
                  <a:pt x="56" y="96"/>
                </a:cubicBezTo>
                <a:cubicBezTo>
                  <a:pt x="0" y="136"/>
                  <a:pt x="16" y="216"/>
                  <a:pt x="8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049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ty 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057400" y="152280"/>
            <a:ext cx="2743200" cy="1524240"/>
            <a:chOff x="2057400" y="152280"/>
            <a:chExt cx="2743200" cy="1524240"/>
          </a:xfrm>
        </p:grpSpPr>
        <p:sp>
          <p:nvSpPr>
            <p:cNvPr id="133" name=""/>
            <p:cNvSpPr/>
            <p:nvPr/>
          </p:nvSpPr>
          <p:spPr>
            <a:xfrm>
              <a:off x="29718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812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62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11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56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7400" y="114300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609480"/>
              <a:ext cx="952560" cy="533520"/>
            </a:xfrm>
            <a:custGeom>
              <a:avLst/>
              <a:gdLst/>
              <a:ahLst/>
              <a:rect l="l" t="t" r="r" b="b"/>
              <a:pathLst>
                <a:path w="600" h="336">
                  <a:moveTo>
                    <a:pt x="528" y="0"/>
                  </a:moveTo>
                  <a:cubicBezTo>
                    <a:pt x="564" y="108"/>
                    <a:pt x="600" y="216"/>
                    <a:pt x="528" y="240"/>
                  </a:cubicBezTo>
                  <a:cubicBezTo>
                    <a:pt x="456" y="264"/>
                    <a:pt x="184" y="128"/>
                    <a:pt x="96" y="144"/>
                  </a:cubicBezTo>
                  <a:cubicBezTo>
                    <a:pt x="8" y="160"/>
                    <a:pt x="4" y="248"/>
                    <a:pt x="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880" y="1905120"/>
            <a:ext cx="8229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724280" y="4406760"/>
            <a:ext cx="1828800" cy="1231920"/>
            <a:chOff x="4724280" y="4406760"/>
            <a:chExt cx="1828800" cy="1231920"/>
          </a:xfrm>
        </p:grpSpPr>
        <p:grpSp>
          <p:nvGrpSpPr>
            <p:cNvPr id="149" name=""/>
            <p:cNvGrpSpPr/>
            <p:nvPr/>
          </p:nvGrpSpPr>
          <p:grpSpPr>
            <a:xfrm>
              <a:off x="4724280" y="5029200"/>
              <a:ext cx="1828800" cy="609480"/>
              <a:chOff x="4724280" y="5029200"/>
              <a:chExt cx="1828800" cy="60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47242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292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41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386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436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485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42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292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41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86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436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485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029200" y="4406760"/>
              <a:ext cx="977760" cy="546120"/>
            </a:xfrm>
            <a:custGeom>
              <a:avLst/>
              <a:gdLst/>
              <a:ahLst/>
              <a:rect l="l" t="t" r="r" b="b"/>
              <a:pathLst>
                <a:path w="616" h="344">
                  <a:moveTo>
                    <a:pt x="0" y="8"/>
                  </a:moveTo>
                  <a:cubicBezTo>
                    <a:pt x="220" y="4"/>
                    <a:pt x="440" y="0"/>
                    <a:pt x="528" y="56"/>
                  </a:cubicBezTo>
                  <a:cubicBezTo>
                    <a:pt x="616" y="112"/>
                    <a:pt x="572" y="228"/>
                    <a:pt x="528" y="3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4267080"/>
            <a:ext cx="762120" cy="762120"/>
            <a:chOff x="6095880" y="4267080"/>
            <a:chExt cx="762120" cy="762120"/>
          </a:xfrm>
        </p:grpSpPr>
        <p:sp>
          <p:nvSpPr>
            <p:cNvPr id="164" name=""/>
            <p:cNvSpPr/>
            <p:nvPr/>
          </p:nvSpPr>
          <p:spPr>
            <a:xfrm>
              <a:off x="6172200" y="457200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5880" y="426708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9680" y="2590920"/>
            <a:ext cx="2971800" cy="1904760"/>
            <a:chOff x="2209680" y="2590920"/>
            <a:chExt cx="2971800" cy="1904760"/>
          </a:xfrm>
        </p:grpSpPr>
        <p:grpSp>
          <p:nvGrpSpPr>
            <p:cNvPr id="167" name=""/>
            <p:cNvGrpSpPr/>
            <p:nvPr/>
          </p:nvGrpSpPr>
          <p:grpSpPr>
            <a:xfrm>
              <a:off x="3352680" y="3886200"/>
              <a:ext cx="1828800" cy="609480"/>
              <a:chOff x="3352680" y="3886200"/>
              <a:chExt cx="1828800" cy="60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33526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576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625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670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720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69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526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576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625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69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209680" y="2590920"/>
              <a:ext cx="1841760" cy="1295280"/>
            </a:xfrm>
            <a:custGeom>
              <a:avLst/>
              <a:gdLst/>
              <a:ahLst/>
              <a:rect l="l" t="t" r="r" b="b"/>
              <a:pathLst>
                <a:path w="1160" h="816">
                  <a:moveTo>
                    <a:pt x="144" y="0"/>
                  </a:moveTo>
                  <a:cubicBezTo>
                    <a:pt x="72" y="132"/>
                    <a:pt x="0" y="264"/>
                    <a:pt x="144" y="336"/>
                  </a:cubicBezTo>
                  <a:cubicBezTo>
                    <a:pt x="288" y="408"/>
                    <a:pt x="856" y="352"/>
                    <a:pt x="1008" y="432"/>
                  </a:cubicBezTo>
                  <a:cubicBezTo>
                    <a:pt x="1160" y="512"/>
                    <a:pt x="1108" y="664"/>
                    <a:pt x="1056" y="81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182" name="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410080" y="5321160"/>
            <a:ext cx="2654280" cy="774720"/>
          </a:xfrm>
          <a:custGeom>
            <a:avLst/>
            <a:gdLst/>
            <a:ahLst/>
            <a:rect l="l" t="t" r="r" b="b"/>
            <a:pathLst>
              <a:path w="1672" h="488">
                <a:moveTo>
                  <a:pt x="0" y="104"/>
                </a:moveTo>
                <a:cubicBezTo>
                  <a:pt x="0" y="280"/>
                  <a:pt x="0" y="456"/>
                  <a:pt x="240" y="440"/>
                </a:cubicBezTo>
                <a:cubicBezTo>
                  <a:pt x="480" y="424"/>
                  <a:pt x="1208" y="0"/>
                  <a:pt x="1440" y="8"/>
                </a:cubicBezTo>
                <a:cubicBezTo>
                  <a:pt x="1672" y="16"/>
                  <a:pt x="1600" y="408"/>
                  <a:pt x="1632" y="4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87720" y="5562720"/>
            <a:ext cx="1193760" cy="533160"/>
          </a:xfrm>
          <a:custGeom>
            <a:avLst/>
            <a:gdLst/>
            <a:ahLst/>
            <a:rect l="l" t="t" r="r" b="b"/>
            <a:pathLst>
              <a:path w="752" h="336">
                <a:moveTo>
                  <a:pt x="752" y="0"/>
                </a:moveTo>
                <a:cubicBezTo>
                  <a:pt x="712" y="84"/>
                  <a:pt x="672" y="168"/>
                  <a:pt x="560" y="192"/>
                </a:cubicBezTo>
                <a:cubicBezTo>
                  <a:pt x="448" y="216"/>
                  <a:pt x="160" y="120"/>
                  <a:pt x="80" y="144"/>
                </a:cubicBezTo>
                <a:cubicBezTo>
                  <a:pt x="0" y="168"/>
                  <a:pt x="80" y="312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2096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“ARE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sp>
          <p:nvSpPr>
            <p:cNvPr id="188" name="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66880" y="54864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_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53080" y="57150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113600">
              <a:off x="7086600" y="60958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5943600"/>
              <a:ext cx="533520" cy="343080"/>
            </a:xfrm>
            <a:custGeom>
              <a:avLst/>
              <a:gdLst/>
              <a:ahLst/>
              <a:rect l="l" t="t" r="r" b="b"/>
              <a:pathLst>
                <a:path w="336" h="216">
                  <a:moveTo>
                    <a:pt x="0" y="0"/>
                  </a:moveTo>
                  <a:cubicBezTo>
                    <a:pt x="68" y="84"/>
                    <a:pt x="136" y="168"/>
                    <a:pt x="192" y="192"/>
                  </a:cubicBezTo>
                  <a:cubicBezTo>
                    <a:pt x="248" y="216"/>
                    <a:pt x="292" y="180"/>
                    <a:pt x="336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50960" y="2590920"/>
            <a:ext cx="2387520" cy="3504960"/>
          </a:xfrm>
          <a:custGeom>
            <a:avLst/>
            <a:gdLst/>
            <a:ahLst/>
            <a:rect l="l" t="t" r="r" b="b"/>
            <a:pathLst>
              <a:path w="1504" h="2208">
                <a:moveTo>
                  <a:pt x="544" y="0"/>
                </a:moveTo>
                <a:cubicBezTo>
                  <a:pt x="272" y="224"/>
                  <a:pt x="0" y="448"/>
                  <a:pt x="160" y="816"/>
                </a:cubicBezTo>
                <a:cubicBezTo>
                  <a:pt x="320" y="1184"/>
                  <a:pt x="912" y="1696"/>
                  <a:pt x="1504" y="22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grpSp>
          <p:nvGrpSpPr>
            <p:cNvPr id="208" name=""/>
            <p:cNvGrpSpPr/>
            <p:nvPr/>
          </p:nvGrpSpPr>
          <p:grpSpPr>
            <a:xfrm>
              <a:off x="4724280" y="4406760"/>
              <a:ext cx="1828800" cy="1231920"/>
              <a:chOff x="4724280" y="4406760"/>
              <a:chExt cx="1828800" cy="123192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724280" y="5029200"/>
                <a:ext cx="1828800" cy="609480"/>
                <a:chOff x="4724280" y="5029200"/>
                <a:chExt cx="1828800" cy="609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7242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0292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6386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9436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2485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242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292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41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386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436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485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029200" y="4406760"/>
                <a:ext cx="977760" cy="546120"/>
              </a:xfrm>
              <a:custGeom>
                <a:avLst/>
                <a:gdLst/>
                <a:ahLst/>
                <a:rect l="l" t="t" r="r" b="b"/>
                <a:pathLst>
                  <a:path w="616" h="344">
                    <a:moveTo>
                      <a:pt x="0" y="8"/>
                    </a:moveTo>
                    <a:cubicBezTo>
                      <a:pt x="220" y="4"/>
                      <a:pt x="440" y="0"/>
                      <a:pt x="528" y="56"/>
                    </a:cubicBezTo>
                    <a:cubicBezTo>
                      <a:pt x="616" y="112"/>
                      <a:pt x="572" y="228"/>
                      <a:pt x="528" y="344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209680" y="2590920"/>
              <a:ext cx="2971800" cy="1904760"/>
              <a:chOff x="2209680" y="2590920"/>
              <a:chExt cx="2971800" cy="190476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352680" y="3886200"/>
                <a:ext cx="1828800" cy="609480"/>
                <a:chOff x="3352680" y="3886200"/>
                <a:chExt cx="1828800" cy="609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526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576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625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670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720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769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26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576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625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0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5720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769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2209680" y="2590920"/>
                <a:ext cx="1841760" cy="1295280"/>
              </a:xfrm>
              <a:custGeom>
                <a:avLst/>
                <a:gdLst/>
                <a:ahLst/>
                <a:rect l="l" t="t" r="r" b="b"/>
                <a:pathLst>
                  <a:path w="1160" h="816">
                    <a:moveTo>
                      <a:pt x="144" y="0"/>
                    </a:moveTo>
                    <a:cubicBezTo>
                      <a:pt x="72" y="132"/>
                      <a:pt x="0" y="264"/>
                      <a:pt x="144" y="336"/>
                    </a:cubicBezTo>
                    <a:cubicBezTo>
                      <a:pt x="288" y="408"/>
                      <a:pt x="856" y="352"/>
                      <a:pt x="1008" y="432"/>
                    </a:cubicBezTo>
                    <a:cubicBezTo>
                      <a:pt x="1160" y="512"/>
                      <a:pt x="1108" y="664"/>
                      <a:pt x="1056" y="816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410080" y="5321160"/>
              <a:ext cx="2654280" cy="774720"/>
            </a:xfrm>
            <a:custGeom>
              <a:avLst/>
              <a:gdLst/>
              <a:ahLst/>
              <a:rect l="l" t="t" r="r" b="b"/>
              <a:pathLst>
                <a:path w="1672" h="488">
                  <a:moveTo>
                    <a:pt x="0" y="104"/>
                  </a:moveTo>
                  <a:cubicBezTo>
                    <a:pt x="0" y="280"/>
                    <a:pt x="0" y="456"/>
                    <a:pt x="240" y="440"/>
                  </a:cubicBezTo>
                  <a:cubicBezTo>
                    <a:pt x="480" y="424"/>
                    <a:pt x="1208" y="0"/>
                    <a:pt x="1440" y="8"/>
                  </a:cubicBezTo>
                  <a:cubicBezTo>
                    <a:pt x="1672" y="16"/>
                    <a:pt x="1600" y="408"/>
                    <a:pt x="1632" y="4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87720" y="5562720"/>
              <a:ext cx="1193760" cy="533160"/>
            </a:xfrm>
            <a:custGeom>
              <a:avLst/>
              <a:gdLst/>
              <a:ahLst/>
              <a:rect l="l" t="t" r="r" b="b"/>
              <a:pathLst>
                <a:path w="752" h="336">
                  <a:moveTo>
                    <a:pt x="752" y="0"/>
                  </a:moveTo>
                  <a:cubicBezTo>
                    <a:pt x="712" y="84"/>
                    <a:pt x="672" y="168"/>
                    <a:pt x="560" y="192"/>
                  </a:cubicBezTo>
                  <a:cubicBezTo>
                    <a:pt x="448" y="216"/>
                    <a:pt x="160" y="120"/>
                    <a:pt x="80" y="144"/>
                  </a:cubicBezTo>
                  <a:cubicBezTo>
                    <a:pt x="0" y="168"/>
                    <a:pt x="80" y="312"/>
                    <a:pt x="8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209680"/>
              <a:ext cx="2133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nsert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438280" y="4419720"/>
            <a:ext cx="1067040" cy="990360"/>
            <a:chOff x="2438280" y="4419720"/>
            <a:chExt cx="1067040" cy="990360"/>
          </a:xfrm>
        </p:grpSpPr>
        <p:sp>
          <p:nvSpPr>
            <p:cNvPr id="256" name=""/>
            <p:cNvSpPr/>
            <p:nvPr/>
          </p:nvSpPr>
          <p:spPr>
            <a:xfrm>
              <a:off x="2438280" y="4876920"/>
              <a:ext cx="1067040" cy="5331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4419720"/>
              <a:ext cx="711360" cy="457200"/>
            </a:xfrm>
            <a:custGeom>
              <a:avLst/>
              <a:gdLst/>
              <a:ahLst/>
              <a:rect l="l" t="t" r="r" b="b"/>
              <a:pathLst>
                <a:path w="448" h="288">
                  <a:moveTo>
                    <a:pt x="448" y="0"/>
                  </a:moveTo>
                  <a:cubicBezTo>
                    <a:pt x="288" y="0"/>
                    <a:pt x="128" y="0"/>
                    <a:pt x="64" y="48"/>
                  </a:cubicBezTo>
                  <a:cubicBezTo>
                    <a:pt x="0" y="96"/>
                    <a:pt x="64" y="248"/>
                    <a:pt x="64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895480" y="1219320"/>
            <a:ext cx="762120" cy="838080"/>
            <a:chOff x="2895480" y="1219320"/>
            <a:chExt cx="762120" cy="838080"/>
          </a:xfrm>
        </p:grpSpPr>
        <p:sp>
          <p:nvSpPr>
            <p:cNvPr id="259" name=""/>
            <p:cNvSpPr/>
            <p:nvPr/>
          </p:nvSpPr>
          <p:spPr>
            <a:xfrm>
              <a:off x="2895480" y="121932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160020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262" name="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971800" y="457200"/>
            <a:ext cx="182880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23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0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0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0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4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104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10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104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609480"/>
            <a:ext cx="3124080" cy="685800"/>
          </a:xfrm>
          <a:custGeom>
            <a:avLst/>
            <a:gdLst/>
            <a:ahLst/>
            <a:rect l="l" t="t" r="r" b="b"/>
            <a:pathLst>
              <a:path w="1968" h="432">
                <a:moveTo>
                  <a:pt x="1968" y="0"/>
                </a:moveTo>
                <a:cubicBezTo>
                  <a:pt x="1912" y="92"/>
                  <a:pt x="1856" y="184"/>
                  <a:pt x="1632" y="192"/>
                </a:cubicBezTo>
                <a:cubicBezTo>
                  <a:pt x="1408" y="200"/>
                  <a:pt x="896" y="8"/>
                  <a:pt x="624" y="48"/>
                </a:cubicBezTo>
                <a:cubicBezTo>
                  <a:pt x="352" y="88"/>
                  <a:pt x="104" y="376"/>
                  <a:pt x="0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00480" y="60948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840" y="0"/>
                </a:moveTo>
                <a:cubicBezTo>
                  <a:pt x="852" y="124"/>
                  <a:pt x="864" y="248"/>
                  <a:pt x="744" y="288"/>
                </a:cubicBezTo>
                <a:cubicBezTo>
                  <a:pt x="624" y="328"/>
                  <a:pt x="240" y="216"/>
                  <a:pt x="120" y="240"/>
                </a:cubicBezTo>
                <a:cubicBezTo>
                  <a:pt x="0" y="264"/>
                  <a:pt x="12" y="348"/>
                  <a:pt x="2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609480"/>
            <a:ext cx="533520" cy="685800"/>
          </a:xfrm>
          <a:custGeom>
            <a:avLst/>
            <a:gdLst/>
            <a:ahLst/>
            <a:rect l="l" t="t" r="r" b="b"/>
            <a:pathLst>
              <a:path w="440" h="432">
                <a:moveTo>
                  <a:pt x="96" y="0"/>
                </a:moveTo>
                <a:cubicBezTo>
                  <a:pt x="48" y="100"/>
                  <a:pt x="0" y="200"/>
                  <a:pt x="48" y="240"/>
                </a:cubicBezTo>
                <a:cubicBezTo>
                  <a:pt x="96" y="280"/>
                  <a:pt x="328" y="208"/>
                  <a:pt x="384" y="240"/>
                </a:cubicBezTo>
                <a:cubicBezTo>
                  <a:pt x="440" y="272"/>
                  <a:pt x="412" y="352"/>
                  <a:pt x="38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10160" y="584280"/>
            <a:ext cx="4152960" cy="406440"/>
          </a:xfrm>
          <a:custGeom>
            <a:avLst/>
            <a:gdLst/>
            <a:ahLst/>
            <a:rect l="l" t="t" r="r" b="b"/>
            <a:pathLst>
              <a:path w="2616" h="256">
                <a:moveTo>
                  <a:pt x="24" y="16"/>
                </a:moveTo>
                <a:cubicBezTo>
                  <a:pt x="12" y="136"/>
                  <a:pt x="0" y="256"/>
                  <a:pt x="168" y="256"/>
                </a:cubicBezTo>
                <a:cubicBezTo>
                  <a:pt x="336" y="256"/>
                  <a:pt x="624" y="32"/>
                  <a:pt x="1032" y="16"/>
                </a:cubicBezTo>
                <a:cubicBezTo>
                  <a:pt x="1440" y="0"/>
                  <a:pt x="2320" y="136"/>
                  <a:pt x="2616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609480"/>
            <a:ext cx="2514600" cy="68580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0" y="0"/>
                </a:moveTo>
                <a:cubicBezTo>
                  <a:pt x="24" y="128"/>
                  <a:pt x="48" y="256"/>
                  <a:pt x="240" y="288"/>
                </a:cubicBezTo>
                <a:cubicBezTo>
                  <a:pt x="432" y="320"/>
                  <a:pt x="920" y="184"/>
                  <a:pt x="1152" y="192"/>
                </a:cubicBezTo>
                <a:cubicBezTo>
                  <a:pt x="1384" y="200"/>
                  <a:pt x="1552" y="296"/>
                  <a:pt x="1632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352680"/>
            <a:ext cx="6094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1752480"/>
            <a:ext cx="228600" cy="1600200"/>
          </a:xfrm>
          <a:custGeom>
            <a:avLst/>
            <a:gdLst/>
            <a:ahLst/>
            <a:rect l="l" t="t" r="r" b="b"/>
            <a:pathLst>
              <a:path w="144" h="1008">
                <a:moveTo>
                  <a:pt x="144" y="0"/>
                </a:moveTo>
                <a:cubicBezTo>
                  <a:pt x="108" y="60"/>
                  <a:pt x="72" y="120"/>
                  <a:pt x="48" y="288"/>
                </a:cubicBezTo>
                <a:cubicBezTo>
                  <a:pt x="24" y="456"/>
                  <a:pt x="12" y="732"/>
                  <a:pt x="0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175248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912" y="0"/>
                </a:moveTo>
                <a:cubicBezTo>
                  <a:pt x="860" y="108"/>
                  <a:pt x="808" y="216"/>
                  <a:pt x="672" y="240"/>
                </a:cubicBezTo>
                <a:cubicBezTo>
                  <a:pt x="536" y="264"/>
                  <a:pt x="192" y="128"/>
                  <a:pt x="96" y="144"/>
                </a:cubicBezTo>
                <a:cubicBezTo>
                  <a:pt x="0" y="160"/>
                  <a:pt x="96" y="312"/>
                  <a:pt x="96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40384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6560" y="2743200"/>
            <a:ext cx="177840" cy="1295280"/>
          </a:xfrm>
          <a:custGeom>
            <a:avLst/>
            <a:gdLst/>
            <a:ahLst/>
            <a:rect l="l" t="t" r="r" b="b"/>
            <a:pathLst>
              <a:path w="112" h="816">
                <a:moveTo>
                  <a:pt x="112" y="0"/>
                </a:moveTo>
                <a:cubicBezTo>
                  <a:pt x="72" y="196"/>
                  <a:pt x="32" y="392"/>
                  <a:pt x="16" y="528"/>
                </a:cubicBezTo>
                <a:cubicBezTo>
                  <a:pt x="0" y="664"/>
                  <a:pt x="8" y="740"/>
                  <a:pt x="16" y="81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2743200"/>
            <a:ext cx="177840" cy="1676520"/>
          </a:xfrm>
          <a:custGeom>
            <a:avLst/>
            <a:gdLst/>
            <a:ahLst/>
            <a:rect l="l" t="t" r="r" b="b"/>
            <a:pathLst>
              <a:path w="112" h="1056">
                <a:moveTo>
                  <a:pt x="96" y="0"/>
                </a:moveTo>
                <a:cubicBezTo>
                  <a:pt x="48" y="112"/>
                  <a:pt x="0" y="224"/>
                  <a:pt x="0" y="336"/>
                </a:cubicBezTo>
                <a:cubicBezTo>
                  <a:pt x="0" y="448"/>
                  <a:pt x="80" y="552"/>
                  <a:pt x="96" y="672"/>
                </a:cubicBezTo>
                <a:cubicBezTo>
                  <a:pt x="112" y="792"/>
                  <a:pt x="104" y="924"/>
                  <a:pt x="96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5562720"/>
            <a:ext cx="83844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680" y="4876920"/>
            <a:ext cx="647640" cy="685800"/>
          </a:xfrm>
          <a:custGeom>
            <a:avLst/>
            <a:gdLst/>
            <a:ahLst/>
            <a:rect l="l" t="t" r="r" b="b"/>
            <a:pathLst>
              <a:path w="408" h="432">
                <a:moveTo>
                  <a:pt x="408" y="0"/>
                </a:moveTo>
                <a:cubicBezTo>
                  <a:pt x="344" y="48"/>
                  <a:pt x="280" y="96"/>
                  <a:pt x="216" y="144"/>
                </a:cubicBezTo>
                <a:cubicBezTo>
                  <a:pt x="152" y="192"/>
                  <a:pt x="48" y="240"/>
                  <a:pt x="24" y="288"/>
                </a:cubicBezTo>
                <a:cubicBezTo>
                  <a:pt x="0" y="336"/>
                  <a:pt x="36" y="384"/>
                  <a:pt x="72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594360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20840" y="4876920"/>
            <a:ext cx="457200" cy="121896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128" y="0"/>
                </a:moveTo>
                <a:cubicBezTo>
                  <a:pt x="208" y="96"/>
                  <a:pt x="288" y="192"/>
                  <a:pt x="272" y="288"/>
                </a:cubicBezTo>
                <a:cubicBezTo>
                  <a:pt x="256" y="384"/>
                  <a:pt x="64" y="496"/>
                  <a:pt x="32" y="576"/>
                </a:cubicBezTo>
                <a:cubicBezTo>
                  <a:pt x="0" y="656"/>
                  <a:pt x="72" y="744"/>
                  <a:pt x="80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31240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62320" y="1752480"/>
            <a:ext cx="761760" cy="13716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0"/>
                </a:moveTo>
                <a:cubicBezTo>
                  <a:pt x="444" y="124"/>
                  <a:pt x="408" y="248"/>
                  <a:pt x="336" y="336"/>
                </a:cubicBezTo>
                <a:cubicBezTo>
                  <a:pt x="264" y="424"/>
                  <a:pt x="96" y="440"/>
                  <a:pt x="48" y="528"/>
                </a:cubicBezTo>
                <a:cubicBezTo>
                  <a:pt x="0" y="616"/>
                  <a:pt x="24" y="740"/>
                  <a:pt x="48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95480" y="26668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2120" y="17524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76" y="0"/>
                </a:moveTo>
                <a:cubicBezTo>
                  <a:pt x="380" y="100"/>
                  <a:pt x="384" y="200"/>
                  <a:pt x="328" y="288"/>
                </a:cubicBezTo>
                <a:cubicBezTo>
                  <a:pt x="272" y="376"/>
                  <a:pt x="80" y="464"/>
                  <a:pt x="40" y="528"/>
                </a:cubicBezTo>
                <a:cubicBezTo>
                  <a:pt x="0" y="592"/>
                  <a:pt x="80" y="656"/>
                  <a:pt x="88" y="67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1752480"/>
            <a:ext cx="648000" cy="1600200"/>
          </a:xfrm>
          <a:custGeom>
            <a:avLst/>
            <a:gdLst/>
            <a:ahLst/>
            <a:rect l="l" t="t" r="r" b="b"/>
            <a:pathLst>
              <a:path w="408" h="1008">
                <a:moveTo>
                  <a:pt x="0" y="0"/>
                </a:moveTo>
                <a:cubicBezTo>
                  <a:pt x="88" y="176"/>
                  <a:pt x="176" y="352"/>
                  <a:pt x="240" y="480"/>
                </a:cubicBezTo>
                <a:cubicBezTo>
                  <a:pt x="304" y="608"/>
                  <a:pt x="408" y="680"/>
                  <a:pt x="384" y="768"/>
                </a:cubicBezTo>
                <a:cubicBezTo>
                  <a:pt x="360" y="856"/>
                  <a:pt x="144" y="976"/>
                  <a:pt x="96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8006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06840" y="3809880"/>
            <a:ext cx="355680" cy="990720"/>
          </a:xfrm>
          <a:custGeom>
            <a:avLst/>
            <a:gdLst/>
            <a:ahLst/>
            <a:rect l="l" t="t" r="r" b="b"/>
            <a:pathLst>
              <a:path w="224" h="624">
                <a:moveTo>
                  <a:pt x="224" y="0"/>
                </a:moveTo>
                <a:cubicBezTo>
                  <a:pt x="144" y="92"/>
                  <a:pt x="64" y="184"/>
                  <a:pt x="32" y="288"/>
                </a:cubicBezTo>
                <a:cubicBezTo>
                  <a:pt x="0" y="392"/>
                  <a:pt x="16" y="508"/>
                  <a:pt x="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91120" y="52578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809880"/>
            <a:ext cx="165240" cy="1524240"/>
          </a:xfrm>
          <a:custGeom>
            <a:avLst/>
            <a:gdLst/>
            <a:ahLst/>
            <a:rect l="l" t="t" r="r" b="b"/>
            <a:pathLst>
              <a:path w="104" h="960">
                <a:moveTo>
                  <a:pt x="0" y="0"/>
                </a:moveTo>
                <a:cubicBezTo>
                  <a:pt x="44" y="148"/>
                  <a:pt x="88" y="296"/>
                  <a:pt x="96" y="432"/>
                </a:cubicBezTo>
                <a:cubicBezTo>
                  <a:pt x="104" y="568"/>
                  <a:pt x="56" y="728"/>
                  <a:pt x="48" y="816"/>
                </a:cubicBezTo>
                <a:cubicBezTo>
                  <a:pt x="40" y="904"/>
                  <a:pt x="44" y="932"/>
                  <a:pt x="48" y="9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952880"/>
            <a:ext cx="14475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21240" y="3809880"/>
            <a:ext cx="144792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32" y="0"/>
                </a:moveTo>
                <a:cubicBezTo>
                  <a:pt x="16" y="116"/>
                  <a:pt x="0" y="232"/>
                  <a:pt x="128" y="288"/>
                </a:cubicBezTo>
                <a:cubicBezTo>
                  <a:pt x="256" y="344"/>
                  <a:pt x="688" y="264"/>
                  <a:pt x="800" y="336"/>
                </a:cubicBezTo>
                <a:cubicBezTo>
                  <a:pt x="912" y="408"/>
                  <a:pt x="856" y="564"/>
                  <a:pt x="800" y="72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67480" y="2590920"/>
            <a:ext cx="144792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1752480"/>
            <a:ext cx="254160" cy="8384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0"/>
                </a:moveTo>
                <a:cubicBezTo>
                  <a:pt x="64" y="148"/>
                  <a:pt x="128" y="296"/>
                  <a:pt x="144" y="384"/>
                </a:cubicBezTo>
                <a:cubicBezTo>
                  <a:pt x="160" y="472"/>
                  <a:pt x="128" y="500"/>
                  <a:pt x="9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6668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54760" y="1752480"/>
            <a:ext cx="736560" cy="990720"/>
          </a:xfrm>
          <a:custGeom>
            <a:avLst/>
            <a:gdLst/>
            <a:ahLst/>
            <a:rect l="l" t="t" r="r" b="b"/>
            <a:pathLst>
              <a:path w="464" h="624">
                <a:moveTo>
                  <a:pt x="464" y="0"/>
                </a:moveTo>
                <a:cubicBezTo>
                  <a:pt x="428" y="132"/>
                  <a:pt x="392" y="264"/>
                  <a:pt x="320" y="336"/>
                </a:cubicBezTo>
                <a:cubicBezTo>
                  <a:pt x="248" y="408"/>
                  <a:pt x="64" y="384"/>
                  <a:pt x="32" y="432"/>
                </a:cubicBezTo>
                <a:cubicBezTo>
                  <a:pt x="0" y="480"/>
                  <a:pt x="120" y="592"/>
                  <a:pt x="1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666880"/>
            <a:ext cx="8384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1752480"/>
            <a:ext cx="241560" cy="990720"/>
          </a:xfrm>
          <a:custGeom>
            <a:avLst/>
            <a:gdLst/>
            <a:ahLst/>
            <a:rect l="l" t="t" r="r" b="b"/>
            <a:pathLst>
              <a:path w="152" h="624">
                <a:moveTo>
                  <a:pt x="0" y="0"/>
                </a:moveTo>
                <a:cubicBezTo>
                  <a:pt x="68" y="104"/>
                  <a:pt x="136" y="208"/>
                  <a:pt x="144" y="288"/>
                </a:cubicBezTo>
                <a:cubicBezTo>
                  <a:pt x="152" y="368"/>
                  <a:pt x="56" y="424"/>
                  <a:pt x="48" y="480"/>
                </a:cubicBezTo>
                <a:cubicBezTo>
                  <a:pt x="40" y="536"/>
                  <a:pt x="68" y="580"/>
                  <a:pt x="96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24760" y="1752480"/>
            <a:ext cx="342720" cy="1676520"/>
          </a:xfrm>
          <a:custGeom>
            <a:avLst/>
            <a:gdLst/>
            <a:ahLst/>
            <a:rect l="l" t="t" r="r" b="b"/>
            <a:pathLst>
              <a:path w="216" h="1056">
                <a:moveTo>
                  <a:pt x="216" y="0"/>
                </a:moveTo>
                <a:cubicBezTo>
                  <a:pt x="208" y="116"/>
                  <a:pt x="200" y="232"/>
                  <a:pt x="168" y="336"/>
                </a:cubicBezTo>
                <a:cubicBezTo>
                  <a:pt x="136" y="440"/>
                  <a:pt x="48" y="504"/>
                  <a:pt x="24" y="624"/>
                </a:cubicBezTo>
                <a:cubicBezTo>
                  <a:pt x="0" y="744"/>
                  <a:pt x="12" y="900"/>
                  <a:pt x="24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5715000"/>
            <a:ext cx="10670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5257800"/>
            <a:ext cx="10666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5867280"/>
            <a:ext cx="914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3886200"/>
            <a:ext cx="990720" cy="1828800"/>
          </a:xfrm>
          <a:custGeom>
            <a:avLst/>
            <a:gdLst/>
            <a:ahLst/>
            <a:rect l="l" t="t" r="r" b="b"/>
            <a:pathLst>
              <a:path w="624" h="1152">
                <a:moveTo>
                  <a:pt x="624" y="0"/>
                </a:moveTo>
                <a:cubicBezTo>
                  <a:pt x="508" y="144"/>
                  <a:pt x="392" y="288"/>
                  <a:pt x="288" y="480"/>
                </a:cubicBezTo>
                <a:cubicBezTo>
                  <a:pt x="184" y="672"/>
                  <a:pt x="92" y="912"/>
                  <a:pt x="0" y="1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3886200"/>
            <a:ext cx="685800" cy="1371600"/>
          </a:xfrm>
          <a:custGeom>
            <a:avLst/>
            <a:gdLst/>
            <a:ahLst/>
            <a:rect l="l" t="t" r="r" b="b"/>
            <a:pathLst>
              <a:path w="432" h="864">
                <a:moveTo>
                  <a:pt x="384" y="0"/>
                </a:moveTo>
                <a:cubicBezTo>
                  <a:pt x="408" y="148"/>
                  <a:pt x="432" y="296"/>
                  <a:pt x="384" y="384"/>
                </a:cubicBezTo>
                <a:cubicBezTo>
                  <a:pt x="336" y="472"/>
                  <a:pt x="160" y="448"/>
                  <a:pt x="96" y="528"/>
                </a:cubicBezTo>
                <a:cubicBezTo>
                  <a:pt x="32" y="608"/>
                  <a:pt x="16" y="736"/>
                  <a:pt x="0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29600" y="3962520"/>
            <a:ext cx="685800" cy="1981080"/>
          </a:xfrm>
          <a:custGeom>
            <a:avLst/>
            <a:gdLst/>
            <a:ahLst/>
            <a:rect l="l" t="t" r="r" b="b"/>
            <a:pathLst>
              <a:path w="432" h="1248">
                <a:moveTo>
                  <a:pt x="336" y="0"/>
                </a:moveTo>
                <a:cubicBezTo>
                  <a:pt x="384" y="188"/>
                  <a:pt x="432" y="376"/>
                  <a:pt x="384" y="528"/>
                </a:cubicBezTo>
                <a:cubicBezTo>
                  <a:pt x="336" y="680"/>
                  <a:pt x="96" y="792"/>
                  <a:pt x="48" y="912"/>
                </a:cubicBezTo>
                <a:cubicBezTo>
                  <a:pt x="0" y="1032"/>
                  <a:pt x="48" y="1140"/>
                  <a:pt x="96" y="12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3808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54080" y="533520"/>
            <a:ext cx="1079640" cy="1218960"/>
          </a:xfrm>
          <a:custGeom>
            <a:avLst/>
            <a:gdLst/>
            <a:ahLst/>
            <a:rect l="l" t="t" r="r" b="b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533520"/>
            <a:ext cx="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38088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99072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9880" y="99072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137160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1981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1981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9880" y="2362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3124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3124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3505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41911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51055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0600" y="502920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992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05040" y="1523880"/>
            <a:ext cx="1359000" cy="457200"/>
          </a:xfrm>
          <a:custGeom>
            <a:avLst/>
            <a:gdLst/>
            <a:ahLst/>
            <a:rect l="l" t="t" r="r" b="b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2590920"/>
            <a:ext cx="1359000" cy="457200"/>
          </a:xfrm>
          <a:custGeom>
            <a:avLst/>
            <a:gdLst/>
            <a:ahLst/>
            <a:rect l="l" t="t" r="r" b="b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3733920"/>
            <a:ext cx="1359000" cy="457200"/>
          </a:xfrm>
          <a:custGeom>
            <a:avLst/>
            <a:gdLst/>
            <a:ahLst/>
            <a:rect l="l" t="t" r="r" b="b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11760" y="4724280"/>
            <a:ext cx="888840" cy="571680"/>
          </a:xfrm>
          <a:custGeom>
            <a:avLst/>
            <a:gdLst/>
            <a:ahLst/>
            <a:rect l="l" t="t" r="r" b="b"/>
            <a:pathLst>
              <a:path w="560" h="360">
                <a:moveTo>
                  <a:pt x="80" y="0"/>
                </a:moveTo>
                <a:cubicBezTo>
                  <a:pt x="80" y="20"/>
                  <a:pt x="80" y="40"/>
                  <a:pt x="80" y="96"/>
                </a:cubicBezTo>
                <a:cubicBezTo>
                  <a:pt x="80" y="152"/>
                  <a:pt x="0" y="312"/>
                  <a:pt x="80" y="336"/>
                </a:cubicBezTo>
                <a:cubicBezTo>
                  <a:pt x="160" y="360"/>
                  <a:pt x="360" y="300"/>
                  <a:pt x="56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4724280"/>
            <a:ext cx="711360" cy="520920"/>
          </a:xfrm>
          <a:custGeom>
            <a:avLst/>
            <a:gdLst/>
            <a:ahLst/>
            <a:rect l="l" t="t" r="r" b="b"/>
            <a:pathLst>
              <a:path w="448" h="328">
                <a:moveTo>
                  <a:pt x="384" y="0"/>
                </a:moveTo>
                <a:cubicBezTo>
                  <a:pt x="416" y="124"/>
                  <a:pt x="448" y="248"/>
                  <a:pt x="384" y="288"/>
                </a:cubicBezTo>
                <a:cubicBezTo>
                  <a:pt x="320" y="328"/>
                  <a:pt x="160" y="284"/>
                  <a:pt x="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060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0060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60958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436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05240" y="5562720"/>
            <a:ext cx="723960" cy="533160"/>
          </a:xfrm>
          <a:custGeom>
            <a:avLst/>
            <a:gdLst/>
            <a:ahLst/>
            <a:rect l="l" t="t" r="r" b="b"/>
            <a:pathLst>
              <a:path w="456" h="336">
                <a:moveTo>
                  <a:pt x="456" y="0"/>
                </a:moveTo>
                <a:cubicBezTo>
                  <a:pt x="300" y="36"/>
                  <a:pt x="144" y="72"/>
                  <a:pt x="72" y="96"/>
                </a:cubicBezTo>
                <a:cubicBezTo>
                  <a:pt x="0" y="120"/>
                  <a:pt x="32" y="104"/>
                  <a:pt x="24" y="144"/>
                </a:cubicBezTo>
                <a:cubicBezTo>
                  <a:pt x="16" y="184"/>
                  <a:pt x="20" y="260"/>
                  <a:pt x="24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19920" y="5562720"/>
            <a:ext cx="152280" cy="609480"/>
          </a:xfrm>
          <a:custGeom>
            <a:avLst/>
            <a:gdLst/>
            <a:ahLst/>
            <a:rect l="l" t="t" r="r" b="b"/>
            <a:pathLst>
              <a:path w="96" h="384">
                <a:moveTo>
                  <a:pt x="96" y="0"/>
                </a:moveTo>
                <a:cubicBezTo>
                  <a:pt x="48" y="88"/>
                  <a:pt x="0" y="176"/>
                  <a:pt x="0" y="240"/>
                </a:cubicBezTo>
                <a:cubicBezTo>
                  <a:pt x="0" y="304"/>
                  <a:pt x="80" y="368"/>
                  <a:pt x="96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2760" y="5638680"/>
            <a:ext cx="431640" cy="533520"/>
          </a:xfrm>
          <a:custGeom>
            <a:avLst/>
            <a:gdLst/>
            <a:ahLst/>
            <a:rect l="l" t="t" r="r" b="b"/>
            <a:pathLst>
              <a:path w="272" h="336">
                <a:moveTo>
                  <a:pt x="272" y="0"/>
                </a:moveTo>
                <a:cubicBezTo>
                  <a:pt x="168" y="68"/>
                  <a:pt x="64" y="136"/>
                  <a:pt x="32" y="192"/>
                </a:cubicBezTo>
                <a:cubicBezTo>
                  <a:pt x="0" y="248"/>
                  <a:pt x="72" y="320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6095880"/>
            <a:ext cx="19814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2480" y="563868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0"/>
                </a:moveTo>
                <a:cubicBezTo>
                  <a:pt x="4" y="28"/>
                  <a:pt x="8" y="56"/>
                  <a:pt x="48" y="96"/>
                </a:cubicBezTo>
                <a:cubicBezTo>
                  <a:pt x="88" y="136"/>
                  <a:pt x="120" y="232"/>
                  <a:pt x="240" y="240"/>
                </a:cubicBezTo>
                <a:cubicBezTo>
                  <a:pt x="360" y="248"/>
                  <a:pt x="656" y="136"/>
                  <a:pt x="768" y="144"/>
                </a:cubicBezTo>
                <a:cubicBezTo>
                  <a:pt x="880" y="152"/>
                  <a:pt x="896" y="220"/>
                  <a:pt x="912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23:28:39Z</dcterms:created>
  <dc:creator>GAN</dc:creator>
  <dc:description/>
  <dc:language>en-US</dc:language>
  <cp:lastModifiedBy>GAN</cp:lastModifiedBy>
  <dcterms:modified xsi:type="dcterms:W3CDTF">2002-07-09T23:40:35Z</dcterms:modified>
  <cp:revision>4</cp:revision>
  <dc:subject/>
  <dc:title>PowerPoint Presentation</dc:title>
</cp:coreProperties>
</file>