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02D-AACE-4291-AA09-C7B4E04B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2AB-41FE-43E9-9311-1126404C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80E-8193-435E-BDB8-C2E92AE9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EE0-7706-4A50-914C-8FCEB079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18F-E7F6-440C-B6E2-93D3340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069-4ABA-4E23-86F6-88BF31A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684-5A87-48D1-B3A2-1EDD596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DF9-E34F-4B07-A2AA-68E7153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8B1-9F92-4E90-88E7-B9A0C41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5BF-DF3F-4715-97E9-7237A6E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990-6C41-4309-B963-38C57693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D98-BE54-412C-A8EB-17428ED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084-32B6-4EB6-9AA9-4902BB26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F602-774A-45A0-B86E-4D80E5CAA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1523880" y="1143000"/>
            <a:ext cx="6264360" cy="222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aph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apted From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Structures and Their Algorith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Harry R. Lewis and Larry Denenberg (Harvard University:  Harper Collins Publis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heinz\logo\cmu.gif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D4B-6E54-40E7-AD4B-2AACABDA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Dijkstra’s Least Cost Path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6A1-FE19-4B16-ADD1-00BC9251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14520" y="498600"/>
            <a:ext cx="533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directed graph G and start vertex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1 of Dijkstr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n empty set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vertex v in G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(v) =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v into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(S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5B6-26F3-42A7-86D7-F6CA119A2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689400" y="574560"/>
            <a:ext cx="716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2 of 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|G| ti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any member of U with minimum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v from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eighbor w of v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 is a member of 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(w) = min(dist(w), dist(v) + cost(v,w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817-C839-4692-92B5-3E2D02D9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mplementa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trix is used to hold th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boolean implements the set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ints holds the distanc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lists holds th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heap to hold the set U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0148-FC37-4B24-AC17-08E72E2BF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mplementa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ost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teration of the main loop consis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earch and at most n-1 updat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fie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ti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of lists holds the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heap to hold the set U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AE2-A0F7-4265-A186-7EF56C92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14400" y="990720"/>
            <a:ext cx="678168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initialize U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deletemin operations  O(n * lg 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distance in heap for e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in the graph  O(e L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:   O((n + e) l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79B-DA6B-42D1-8EA6-57C91EDA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is bet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93640" y="1793880"/>
            <a:ext cx="63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ense graphs e is about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makes the adjacency matrix representation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arse graphs, e is small so choose the heap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1:00:53Z</dcterms:created>
  <dc:creator>Valued Gateway Customer</dc:creator>
  <dc:description/>
  <dc:language>en-US</dc:language>
  <cp:lastModifiedBy>Microsoft Office User</cp:lastModifiedBy>
  <cp:lastPrinted>2000-05-29T03:56:55Z</cp:lastPrinted>
  <dcterms:modified xsi:type="dcterms:W3CDTF">2018-10-23T18:15:34Z</dcterms:modified>
  <cp:revision>13</cp:revision>
  <dc:subject/>
  <dc:title>No Slide Title</dc:title>
</cp:coreProperties>
</file>