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CF0-3F3B-47E5-A435-BB0BE059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4F5-8D4B-48B5-BC9F-88798019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088-27CC-45CF-B2EB-EB3A9B10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F6A-424C-4EE6-AE66-7D953FB9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168-FB54-485C-B4CE-EAF465F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320-F864-4202-BC14-BAA548C2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519-8050-4463-B8A6-299E74D5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ACE-BDCA-4681-A898-3B4B6743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291-4F1C-4EEE-922C-7FEA226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CCE-49AF-4266-B751-99844EC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8F2-50E8-47CA-A482-C0B1CA5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2CA-B8C8-4E6A-BCA2-7F4ABE0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4FE-17E0-4ED8-A9D5-B9C31C937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687-5FCE-463A-A7D3-0D0F5C47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1523880" y="1143000"/>
            <a:ext cx="6264360" cy="222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aph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ed 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Structures and Their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Harry R. Lewis and Larry Denenberg (Harvard University:  Harper Collins Publis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heinz\logo\cmu.gif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115-B817-4BB9-BDC2-DFB10E115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Dijkstra’s Least Cost Path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628-7B8C-4F84-B8E9-3B34A0DDC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14520" y="498600"/>
            <a:ext cx="533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directed graph G and start vertex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1 of Dijkstr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n empty set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ertex v in G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v) =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v into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S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07CE-C78E-4AE2-A53D-F5A60823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89400" y="574560"/>
            <a:ext cx="716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2 of 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|G| 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ny member of U with minimum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v from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eighbor w of v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is a member of 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w) = min(dist(w), dist(v) + cost(v,w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BDD-26B6-4FE6-A1C6-2FFD5144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mplementa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trix is used to hold th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boolean implements the set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ints holds the distanc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lists holds th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heap to hold the set U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FBE5-339B-42BF-A6F5-8EB1E560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mplementa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ost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ration of the main loop consis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earch and at most n-1 updat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ti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lists holds th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heap to hold the set U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E46-2138-4308-B1F8-A8B6B5E99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14400" y="990720"/>
            <a:ext cx="678168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initialize U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deletemin operations  O(n * lg 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distance in heap for e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in the graph  O(e L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:   O((n + e) l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7D2-6774-486B-8EBA-BE5A0C88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is bet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93640" y="1793880"/>
            <a:ext cx="63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ense graphs e is abo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akes the adjacency matrix representation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arse graphs, e is small so choose the heap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rosoft Office User</cp:lastModifiedBy>
  <cp:lastPrinted>2000-05-29T03:56:55Z</cp:lastPrinted>
  <dcterms:modified xsi:type="dcterms:W3CDTF">2018-10-23T18:15:34Z</dcterms:modified>
  <cp:revision>13</cp:revision>
  <dc:subject/>
  <dc:title>No Slide Title</dc:title>
</cp:coreProperties>
</file>