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0F0B-300C-4C7D-886D-5559B9DCB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B967-A637-430F-8EFF-D8B8F3B8C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2076-9C62-4145-B0C2-C510E1FE5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C2B5-73CD-4901-8CBC-FEA76841C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4324-02C3-40AE-AC76-4B161FD08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302B-5DDA-4BDF-96DE-4BE77ABCA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F7BD-4EC0-4592-A671-95164684C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9259-1680-42D9-92FD-B2501C84B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107A-DE8E-4918-AED1-5FB2249E7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BAB7-5332-4A99-AF50-36D0C1F3C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4AA7-8867-46DD-AF58-C9403492B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AD79-AF6E-4E1B-852E-176E525E7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73CA-445C-4822-8314-CF6A7FE6DD7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drew.cmu.edu/../temp/Main_10_Heaps.ppt" TargetMode="External"/><Relationship Id="rId2" Type="http://schemas.openxmlformats.org/officeDocument/2006/relationships/hyperlink" Target="http://www.andrew.cmu.edu/../temp/Main_10_Heaps.ppt" TargetMode="External"/><Relationship Id="rId3" Type="http://schemas.openxmlformats.org/officeDocument/2006/relationships/hyperlink" Target="http://www.andrew.cmu.edu/../temp/Main_10_Heaps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1AF-041B-4E61-BF84-35832FA6091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6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, B-Trees, and B+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6D9-5B31-4150-BF96-14E16BEEA61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maximum number of elements in a node is twice the value of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lements in a node are stored in a partially-filled array, sorted from smallest (element 0) to largest (final position us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5025-DA69-4945-8F77-A1B45C02712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number of subtrees below a non-leaf node is always one more than the number of elements in the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943-F1D1-485A-97AD-FBE7BFDACBF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or any non-leaf no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ment at index I is greater than all the elements in subtree number I of the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lement at index I is less than all the elements in subtree (I + 1) of the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E95-D347-475F-AD3F-C22948E9F36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2057400" y="1447920"/>
            <a:ext cx="5181120" cy="3157200"/>
            <a:chOff x="2057400" y="1447920"/>
            <a:chExt cx="5181120" cy="3157200"/>
          </a:xfrm>
        </p:grpSpPr>
        <p:sp>
          <p:nvSpPr>
            <p:cNvPr id="207" name="Rectangle 3"/>
            <p:cNvSpPr/>
            <p:nvPr/>
          </p:nvSpPr>
          <p:spPr>
            <a:xfrm>
              <a:off x="3200040" y="1447920"/>
              <a:ext cx="2895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4"/>
            <p:cNvSpPr/>
            <p:nvPr/>
          </p:nvSpPr>
          <p:spPr>
            <a:xfrm>
              <a:off x="205740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88584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563868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 flipV="1">
              <a:off x="2819160" y="2057040"/>
              <a:ext cx="10663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V="1">
              <a:off x="4647960" y="2057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H="1" flipV="1">
              <a:off x="5562000" y="2057040"/>
              <a:ext cx="9140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223992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406872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582120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4029480" y="1600200"/>
              <a:ext cx="13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3 and 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539640" y="21337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0 is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han 9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833280" y="4946760"/>
            <a:ext cx="24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1 is betw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93 &amp; 1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6639840" y="182880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2 is gr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han 1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3DA-09FB-47EA-B131-D8A19484FF8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very leaf in a B-Tree has the same dep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plication is that B-Trees are always balanc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2ED-030D-4F61-9DD2-9E0F82CC1DA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228" name="Group 52"/>
          <p:cNvGrpSpPr/>
          <p:nvPr/>
        </p:nvGrpSpPr>
        <p:grpSpPr>
          <a:xfrm>
            <a:off x="1600200" y="1828800"/>
            <a:ext cx="5105520" cy="2895480"/>
            <a:chOff x="1600200" y="1828800"/>
            <a:chExt cx="5105520" cy="2895480"/>
          </a:xfrm>
        </p:grpSpPr>
        <p:sp>
          <p:nvSpPr>
            <p:cNvPr id="229" name="Rectangle 3"/>
            <p:cNvSpPr/>
            <p:nvPr/>
          </p:nvSpPr>
          <p:spPr>
            <a:xfrm>
              <a:off x="4191120" y="1828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3276720" y="4114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981080" y="304812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4267080" y="411480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9"/>
            <p:cNvSpPr/>
            <p:nvPr/>
          </p:nvSpPr>
          <p:spPr>
            <a:xfrm>
              <a:off x="6095880" y="41148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5410080" y="3048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1600200" y="4114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2"/>
            <p:cNvSpPr/>
            <p:nvPr/>
          </p:nvSpPr>
          <p:spPr>
            <a:xfrm>
              <a:off x="2438280" y="41148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3"/>
            <p:cNvSpPr/>
            <p:nvPr/>
          </p:nvSpPr>
          <p:spPr>
            <a:xfrm flipH="1">
              <a:off x="2971800" y="2438280"/>
              <a:ext cx="1295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4"/>
            <p:cNvSpPr/>
            <p:nvPr/>
          </p:nvSpPr>
          <p:spPr>
            <a:xfrm>
              <a:off x="4648320" y="243828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1905120" y="36576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>
              <a:off x="274320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76720" y="36576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>
              <a:off x="4952520" y="36576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9"/>
            <p:cNvSpPr/>
            <p:nvPr/>
          </p:nvSpPr>
          <p:spPr>
            <a:xfrm>
              <a:off x="5867280" y="365760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0"/>
            <p:cNvSpPr/>
            <p:nvPr/>
          </p:nvSpPr>
          <p:spPr>
            <a:xfrm>
              <a:off x="4352400" y="1981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2254680" y="32004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5571720" y="320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176184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259992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43800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40680" y="42670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27"/>
            <p:cNvSpPr/>
            <p:nvPr/>
          </p:nvSpPr>
          <p:spPr>
            <a:xfrm>
              <a:off x="6188760" y="42670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28"/>
          <p:cNvSpPr/>
          <p:nvPr/>
        </p:nvSpPr>
        <p:spPr>
          <a:xfrm>
            <a:off x="6606720" y="54864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UM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1386000" y="51814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OTE: Every child of the roo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is also a B-Tre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42"/>
          <p:cNvGrpSpPr/>
          <p:nvPr/>
        </p:nvGrpSpPr>
        <p:grpSpPr>
          <a:xfrm>
            <a:off x="1600200" y="3048120"/>
            <a:ext cx="2286000" cy="1675800"/>
            <a:chOff x="1600200" y="3048120"/>
            <a:chExt cx="2286000" cy="1675800"/>
          </a:xfrm>
        </p:grpSpPr>
        <p:sp>
          <p:nvSpPr>
            <p:cNvPr id="255" name="Rectangle 31"/>
            <p:cNvSpPr/>
            <p:nvPr/>
          </p:nvSpPr>
          <p:spPr>
            <a:xfrm>
              <a:off x="327672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1981440" y="3048120"/>
              <a:ext cx="1523880" cy="609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3"/>
            <p:cNvSpPr/>
            <p:nvPr/>
          </p:nvSpPr>
          <p:spPr>
            <a:xfrm>
              <a:off x="1600200" y="4114440"/>
              <a:ext cx="60984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4"/>
            <p:cNvSpPr/>
            <p:nvPr/>
          </p:nvSpPr>
          <p:spPr>
            <a:xfrm>
              <a:off x="243864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35"/>
            <p:cNvSpPr/>
            <p:nvPr/>
          </p:nvSpPr>
          <p:spPr>
            <a:xfrm flipH="1">
              <a:off x="1905120" y="3657240"/>
              <a:ext cx="38088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6"/>
            <p:cNvSpPr/>
            <p:nvPr/>
          </p:nvSpPr>
          <p:spPr>
            <a:xfrm>
              <a:off x="2743200" y="365724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276720" y="3657240"/>
              <a:ext cx="3049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8"/>
            <p:cNvSpPr/>
            <p:nvPr/>
          </p:nvSpPr>
          <p:spPr>
            <a:xfrm>
              <a:off x="2255040" y="3200040"/>
              <a:ext cx="971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39"/>
            <p:cNvSpPr/>
            <p:nvPr/>
          </p:nvSpPr>
          <p:spPr>
            <a:xfrm>
              <a:off x="176184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40"/>
            <p:cNvSpPr/>
            <p:nvPr/>
          </p:nvSpPr>
          <p:spPr>
            <a:xfrm>
              <a:off x="259992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1"/>
            <p:cNvSpPr/>
            <p:nvPr/>
          </p:nvSpPr>
          <p:spPr>
            <a:xfrm>
              <a:off x="343836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51"/>
          <p:cNvGrpSpPr/>
          <p:nvPr/>
        </p:nvGrpSpPr>
        <p:grpSpPr>
          <a:xfrm>
            <a:off x="4267080" y="3048120"/>
            <a:ext cx="2438280" cy="1675800"/>
            <a:chOff x="4267080" y="3048120"/>
            <a:chExt cx="2438280" cy="1675800"/>
          </a:xfrm>
        </p:grpSpPr>
        <p:sp>
          <p:nvSpPr>
            <p:cNvPr id="267" name="Rectangle 43"/>
            <p:cNvSpPr/>
            <p:nvPr/>
          </p:nvSpPr>
          <p:spPr>
            <a:xfrm>
              <a:off x="4267080" y="4114440"/>
              <a:ext cx="15238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4"/>
            <p:cNvSpPr/>
            <p:nvPr/>
          </p:nvSpPr>
          <p:spPr>
            <a:xfrm>
              <a:off x="609588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5410080" y="3048120"/>
              <a:ext cx="609480" cy="609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6"/>
            <p:cNvSpPr/>
            <p:nvPr/>
          </p:nvSpPr>
          <p:spPr>
            <a:xfrm flipH="1">
              <a:off x="4952520" y="3657240"/>
              <a:ext cx="68580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7"/>
            <p:cNvSpPr/>
            <p:nvPr/>
          </p:nvSpPr>
          <p:spPr>
            <a:xfrm>
              <a:off x="5867280" y="3657240"/>
              <a:ext cx="53316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8"/>
            <p:cNvSpPr/>
            <p:nvPr/>
          </p:nvSpPr>
          <p:spPr>
            <a:xfrm>
              <a:off x="5571360" y="320004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9"/>
            <p:cNvSpPr/>
            <p:nvPr/>
          </p:nvSpPr>
          <p:spPr>
            <a:xfrm>
              <a:off x="4540680" y="4267080"/>
              <a:ext cx="971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0"/>
            <p:cNvSpPr/>
            <p:nvPr/>
          </p:nvSpPr>
          <p:spPr>
            <a:xfrm>
              <a:off x="6188400" y="4267080"/>
              <a:ext cx="44280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6F2-E9AE-4FF3-ACBE-58B98266644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t ADT with 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066320" y="1371600"/>
            <a:ext cx="689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lass IntBalancedSet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static final MINIMUM = 20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private static final MAXIMUM = 2 * MINIM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info about roo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data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[] data = new int[MAXIMUM +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child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info ab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BalancedSet[] subse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tBalancedSet [MAXIMUM+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68A-20A7-4CCB-B2B5-46431D299F4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523880" y="380880"/>
            <a:ext cx="5105520" cy="2895480"/>
            <a:chOff x="1523880" y="380880"/>
            <a:chExt cx="5105520" cy="2895480"/>
          </a:xfrm>
        </p:grpSpPr>
        <p:sp>
          <p:nvSpPr>
            <p:cNvPr id="282" name="Rectangle 4"/>
            <p:cNvSpPr/>
            <p:nvPr/>
          </p:nvSpPr>
          <p:spPr>
            <a:xfrm>
              <a:off x="4114800" y="380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3200400" y="2666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1904760" y="160020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"/>
            <p:cNvSpPr/>
            <p:nvPr/>
          </p:nvSpPr>
          <p:spPr>
            <a:xfrm>
              <a:off x="4190760" y="266688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6019560" y="266688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9"/>
            <p:cNvSpPr/>
            <p:nvPr/>
          </p:nvSpPr>
          <p:spPr>
            <a:xfrm>
              <a:off x="5333760" y="16002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1523880" y="2666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1"/>
            <p:cNvSpPr/>
            <p:nvPr/>
          </p:nvSpPr>
          <p:spPr>
            <a:xfrm>
              <a:off x="2361960" y="266688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 flipH="1">
              <a:off x="2895480" y="990360"/>
              <a:ext cx="1295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>
              <a:off x="4572000" y="99036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 flipH="1">
              <a:off x="1828800" y="220968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66688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>
              <a:off x="3200400" y="220968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 flipH="1">
              <a:off x="4876200" y="220968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5790960" y="220968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4276080" y="533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2178360" y="17524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549540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22"/>
            <p:cNvSpPr/>
            <p:nvPr/>
          </p:nvSpPr>
          <p:spPr>
            <a:xfrm>
              <a:off x="168552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23"/>
            <p:cNvSpPr/>
            <p:nvPr/>
          </p:nvSpPr>
          <p:spPr>
            <a:xfrm>
              <a:off x="252360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24"/>
            <p:cNvSpPr/>
            <p:nvPr/>
          </p:nvSpPr>
          <p:spPr>
            <a:xfrm>
              <a:off x="336168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5"/>
            <p:cNvSpPr/>
            <p:nvPr/>
          </p:nvSpPr>
          <p:spPr>
            <a:xfrm>
              <a:off x="4464360" y="281916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6"/>
            <p:cNvSpPr/>
            <p:nvPr/>
          </p:nvSpPr>
          <p:spPr>
            <a:xfrm>
              <a:off x="6112440" y="2819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28"/>
          <p:cNvSpPr/>
          <p:nvPr/>
        </p:nvSpPr>
        <p:spPr>
          <a:xfrm>
            <a:off x="1461960" y="4070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1475280" y="4876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ild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4288320" y="48769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4511520" y="40384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6842880" y="68580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UM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6835320" y="304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UM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2971800" y="396252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2971800" y="48006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5257800" y="38862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5867280" y="3886200"/>
            <a:ext cx="6098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8"/>
          <p:cNvSpPr/>
          <p:nvPr/>
        </p:nvSpPr>
        <p:spPr>
          <a:xfrm>
            <a:off x="6477120" y="38862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9"/>
          <p:cNvSpPr/>
          <p:nvPr/>
        </p:nvSpPr>
        <p:spPr>
          <a:xfrm>
            <a:off x="525780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0"/>
          <p:cNvSpPr/>
          <p:nvPr/>
        </p:nvSpPr>
        <p:spPr>
          <a:xfrm>
            <a:off x="5867280" y="4724280"/>
            <a:ext cx="609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1"/>
          <p:cNvSpPr/>
          <p:nvPr/>
        </p:nvSpPr>
        <p:spPr>
          <a:xfrm>
            <a:off x="647712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2"/>
          <p:cNvSpPr/>
          <p:nvPr/>
        </p:nvSpPr>
        <p:spPr>
          <a:xfrm>
            <a:off x="708660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3"/>
          <p:cNvSpPr/>
          <p:nvPr/>
        </p:nvSpPr>
        <p:spPr>
          <a:xfrm>
            <a:off x="3133440" y="41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3133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541944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6"/>
          <p:cNvSpPr/>
          <p:nvPr/>
        </p:nvSpPr>
        <p:spPr>
          <a:xfrm>
            <a:off x="6034680" y="4038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7"/>
          <p:cNvSpPr/>
          <p:nvPr/>
        </p:nvSpPr>
        <p:spPr>
          <a:xfrm>
            <a:off x="6644160" y="4038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 flipH="1">
            <a:off x="5105520" y="50292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>
            <a:off x="6095880" y="502920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50"/>
          <p:cNvSpPr/>
          <p:nvPr/>
        </p:nvSpPr>
        <p:spPr>
          <a:xfrm>
            <a:off x="6485400" y="48769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1"/>
          <p:cNvSpPr/>
          <p:nvPr/>
        </p:nvSpPr>
        <p:spPr>
          <a:xfrm>
            <a:off x="7094880" y="48769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2"/>
          <p:cNvSpPr/>
          <p:nvPr/>
        </p:nvSpPr>
        <p:spPr>
          <a:xfrm>
            <a:off x="4231440" y="571500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[References to IntBalancedSet instanc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33520" y="35053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60A-2454-4905-B40C-8335424140C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variant for Set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ments of the set are stored in a B-Tree, satisfying the 6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elements in the root is stored in the instance variable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Cou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and the number of subtrees is stored in the instance variable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hildCou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A56-8D35-495F-B2AB-968C2035193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variant for Set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oo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elements are stored in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[0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rough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[dataCount - 1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root has subtrees,  then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ubset[0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rough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ubset[childCount - 1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references to those subtre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E38-1C7A-4CFC-AAAB-0937238F4F6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Homework Polic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 homework will normally be penalized 10% per day lat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student has 7 grace days to spe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3B6-2E32-49AF-8987-927A5EBA9C9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ing a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s use the method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find if an element is in the se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I equal to the first index I where data[I]&gt;=targe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 I = data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data[I] == target, return tru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if (no children) return fals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return </a:t>
            </a:r>
            <a:r>
              <a:rPr b="0" i="1" lang="en-US" sz="2800" spc="-1" strike="noStrike">
                <a:solidFill>
                  <a:srgbClr val="00cc99"/>
                </a:solidFill>
                <a:latin typeface="Verdana"/>
              </a:rPr>
              <a:t>subset[I].contains(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E55-C732-453D-B5DE-3F0C3CEFD09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ample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533520" y="1981080"/>
            <a:ext cx="5104800" cy="2895480"/>
            <a:chOff x="533520" y="1981080"/>
            <a:chExt cx="5104800" cy="2895480"/>
          </a:xfrm>
        </p:grpSpPr>
        <p:sp>
          <p:nvSpPr>
            <p:cNvPr id="347" name="Rectangle 4"/>
            <p:cNvSpPr/>
            <p:nvPr/>
          </p:nvSpPr>
          <p:spPr>
            <a:xfrm>
              <a:off x="3124080" y="1981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2209680" y="4267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914040" y="3200400"/>
              <a:ext cx="15238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3200040" y="4267080"/>
              <a:ext cx="15238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028840" y="42670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4343040" y="32004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>
              <a:off x="533520" y="4267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1371240" y="42670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2"/>
            <p:cNvSpPr/>
            <p:nvPr/>
          </p:nvSpPr>
          <p:spPr>
            <a:xfrm flipH="1">
              <a:off x="1904400" y="2590560"/>
              <a:ext cx="129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3"/>
            <p:cNvSpPr/>
            <p:nvPr/>
          </p:nvSpPr>
          <p:spPr>
            <a:xfrm>
              <a:off x="3581280" y="2590560"/>
              <a:ext cx="9140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4"/>
            <p:cNvSpPr/>
            <p:nvPr/>
          </p:nvSpPr>
          <p:spPr>
            <a:xfrm flipH="1">
              <a:off x="837720" y="3809880"/>
              <a:ext cx="380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>
              <a:off x="1676160" y="3809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2209680" y="3809880"/>
              <a:ext cx="304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 flipH="1">
              <a:off x="3885840" y="3809880"/>
              <a:ext cx="685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4800240" y="38098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19"/>
            <p:cNvSpPr/>
            <p:nvPr/>
          </p:nvSpPr>
          <p:spPr>
            <a:xfrm>
              <a:off x="3285360" y="213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0"/>
            <p:cNvSpPr/>
            <p:nvPr/>
          </p:nvSpPr>
          <p:spPr>
            <a:xfrm>
              <a:off x="1187640" y="33526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0468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69444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153288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24"/>
            <p:cNvSpPr/>
            <p:nvPr/>
          </p:nvSpPr>
          <p:spPr>
            <a:xfrm>
              <a:off x="237096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5"/>
            <p:cNvSpPr/>
            <p:nvPr/>
          </p:nvSpPr>
          <p:spPr>
            <a:xfrm>
              <a:off x="3473640" y="441936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6"/>
            <p:cNvSpPr/>
            <p:nvPr/>
          </p:nvSpPr>
          <p:spPr>
            <a:xfrm>
              <a:off x="5121720" y="4419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Text Box 27"/>
          <p:cNvSpPr/>
          <p:nvPr/>
        </p:nvSpPr>
        <p:spPr>
          <a:xfrm>
            <a:off x="6090840" y="20131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6166080" y="259092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&gt;  6, s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dataCoun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6167880" y="34606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[1].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6244200" y="39625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&gt;=7, s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; data[I] !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6183720" y="48006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[0].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6244200" y="530208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&gt;=7, s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; data[I] = 7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99D-ADBF-4F39-BC59-3AF80CCC439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d/Remove from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two-pass ope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p. 500-5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ed on next slide set for 2-3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DA5-7A0B-4066-80C8-1C5B8EE9C10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 and B-Trees are efficient becaus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kept sm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relate the depth of a tree and the worst-case time required to search, add, and remove an elem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4A4E-2E20-4CF7-8E91-696DE7F3662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st case time performance for the following operations are all O(d)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an element to a binary search tree, heap,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ing an element from a binary search tree, heap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ing for a specified element in a binary search tree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756-B3F2-4838-B363-3CAF351124C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relate the depth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number of element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binary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is no more than n -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(d) is therefore O(n - 1) = O(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member, we can ignore consta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422-6DEC-4FC8-81D8-9DF855CEEAC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des to F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^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349A-A61A-4DD6-8CEC-92807CBAFF4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nodes to reach depth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a heap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nodes in a heap is at lea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114560" y="2895480"/>
                <a:ext cx="641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9520" y="45720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7B1-EA8E-4BA7-B4B0-8FB315952EC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 Base-2 Loga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ny positive numbe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base 2 logarithm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exponen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uch th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3429000" y="3429000"/>
                <a:ext cx="2120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272E-EAD5-411B-92AA-FFF2325A695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 Base-2 Loga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3352680" y="1371600"/>
                <a:ext cx="191772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1" name="Text Box 5"/>
          <p:cNvSpPr/>
          <p:nvPr/>
        </p:nvSpPr>
        <p:spPr>
          <a:xfrm>
            <a:off x="3946680" y="171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4F4-00C9-4BA7-BDEE-6F37F96B3F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ding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4-5)            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                          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5AF-9354-45F7-9C36-5F158A8934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heap the number of elements n is at least 2^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1447920" y="2895480"/>
                <a:ext cx="274320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E03-D19A-4871-A796-EEF04F5D71C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e-Case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or removing an element in a heap with n elements is O(d) where d is the depth of the tree. Because d is no more tha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), the operations are O(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)), which is O(log(n)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see discussion p. 516-52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any Databases use B+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A426-DAC1-4192-9E16-5A2AB05F3E8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069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02920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Wikip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AD9-1C2D-4587-B249-5E6143FCB30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ys to Balance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ps &amp; Priority Que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Analysis of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ary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Chapter 10 in 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+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7435-318E-4A01-9170-E0C83B0C2F0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Trees: Worst Ca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3" name="Group 45"/>
          <p:cNvGrpSpPr/>
          <p:nvPr/>
        </p:nvGrpSpPr>
        <p:grpSpPr>
          <a:xfrm>
            <a:off x="2971800" y="1447920"/>
            <a:ext cx="457200" cy="457200"/>
            <a:chOff x="2971800" y="1447920"/>
            <a:chExt cx="457200" cy="457200"/>
          </a:xfrm>
        </p:grpSpPr>
        <p:sp>
          <p:nvSpPr>
            <p:cNvPr id="64" name="Rectangle 4"/>
            <p:cNvSpPr/>
            <p:nvPr/>
          </p:nvSpPr>
          <p:spPr>
            <a:xfrm>
              <a:off x="2971800" y="1447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304956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46"/>
          <p:cNvGrpSpPr/>
          <p:nvPr/>
        </p:nvGrpSpPr>
        <p:grpSpPr>
          <a:xfrm>
            <a:off x="3276720" y="1905120"/>
            <a:ext cx="457200" cy="761760"/>
            <a:chOff x="3276720" y="1905120"/>
            <a:chExt cx="457200" cy="761760"/>
          </a:xfrm>
        </p:grpSpPr>
        <p:sp>
          <p:nvSpPr>
            <p:cNvPr id="67" name="Line 5"/>
            <p:cNvSpPr/>
            <p:nvPr/>
          </p:nvSpPr>
          <p:spPr>
            <a:xfrm>
              <a:off x="3276720" y="19051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3276720" y="22096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335412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47"/>
          <p:cNvGrpSpPr/>
          <p:nvPr/>
        </p:nvGrpSpPr>
        <p:grpSpPr>
          <a:xfrm>
            <a:off x="3581280" y="2666880"/>
            <a:ext cx="457200" cy="762120"/>
            <a:chOff x="3581280" y="2666880"/>
            <a:chExt cx="457200" cy="762120"/>
          </a:xfrm>
        </p:grpSpPr>
        <p:sp>
          <p:nvSpPr>
            <p:cNvPr id="71" name="Line 28"/>
            <p:cNvSpPr/>
            <p:nvPr/>
          </p:nvSpPr>
          <p:spPr>
            <a:xfrm>
              <a:off x="3581280" y="2666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3581280" y="29718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1"/>
            <p:cNvSpPr/>
            <p:nvPr/>
          </p:nvSpPr>
          <p:spPr>
            <a:xfrm>
              <a:off x="365904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3886200" y="3429000"/>
            <a:ext cx="457200" cy="762120"/>
            <a:chOff x="3886200" y="3429000"/>
            <a:chExt cx="457200" cy="762120"/>
          </a:xfrm>
        </p:grpSpPr>
        <p:sp>
          <p:nvSpPr>
            <p:cNvPr id="75" name="Line 31"/>
            <p:cNvSpPr/>
            <p:nvPr/>
          </p:nvSpPr>
          <p:spPr>
            <a:xfrm>
              <a:off x="3886200" y="34290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3886200" y="3733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2"/>
            <p:cNvSpPr/>
            <p:nvPr/>
          </p:nvSpPr>
          <p:spPr>
            <a:xfrm>
              <a:off x="396396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9"/>
          <p:cNvGrpSpPr/>
          <p:nvPr/>
        </p:nvGrpSpPr>
        <p:grpSpPr>
          <a:xfrm>
            <a:off x="4191120" y="4191120"/>
            <a:ext cx="457200" cy="761760"/>
            <a:chOff x="4191120" y="4191120"/>
            <a:chExt cx="457200" cy="761760"/>
          </a:xfrm>
        </p:grpSpPr>
        <p:sp>
          <p:nvSpPr>
            <p:cNvPr id="79" name="Line 34"/>
            <p:cNvSpPr/>
            <p:nvPr/>
          </p:nvSpPr>
          <p:spPr>
            <a:xfrm>
              <a:off x="4191120" y="41911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8"/>
            <p:cNvSpPr/>
            <p:nvPr/>
          </p:nvSpPr>
          <p:spPr>
            <a:xfrm>
              <a:off x="4191120" y="44956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4268520" y="457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0"/>
          <p:cNvGrpSpPr/>
          <p:nvPr/>
        </p:nvGrpSpPr>
        <p:grpSpPr>
          <a:xfrm>
            <a:off x="4495680" y="4952880"/>
            <a:ext cx="457200" cy="762120"/>
            <a:chOff x="4495680" y="4952880"/>
            <a:chExt cx="457200" cy="762120"/>
          </a:xfrm>
        </p:grpSpPr>
        <p:sp>
          <p:nvSpPr>
            <p:cNvPr id="83" name="Rectangle 36"/>
            <p:cNvSpPr/>
            <p:nvPr/>
          </p:nvSpPr>
          <p:spPr>
            <a:xfrm>
              <a:off x="4495680" y="52578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4495680" y="4952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4"/>
            <p:cNvSpPr/>
            <p:nvPr/>
          </p:nvSpPr>
          <p:spPr>
            <a:xfrm>
              <a:off x="4573440" y="533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51"/>
          <p:cNvSpPr/>
          <p:nvPr/>
        </p:nvSpPr>
        <p:spPr>
          <a:xfrm>
            <a:off x="4704480" y="1676520"/>
            <a:ext cx="36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erting nodes that are al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rted leads to worst-c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r: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d = (n - 1)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4772160" y="2819520"/>
            <a:ext cx="31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we use the idea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balanced tr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avoid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ind of situ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32AE-85C0-4569-B93B-EC8BA53B52D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alanced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3962520" y="1523880"/>
            <a:ext cx="457200" cy="457200"/>
            <a:chOff x="3962520" y="1523880"/>
            <a:chExt cx="457200" cy="457200"/>
          </a:xfrm>
        </p:grpSpPr>
        <p:sp>
          <p:nvSpPr>
            <p:cNvPr id="92" name="Rectangle 4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657600" y="1523880"/>
            <a:ext cx="761760" cy="1295280"/>
            <a:chOff x="3657600" y="1523880"/>
            <a:chExt cx="761760" cy="1295280"/>
          </a:xfrm>
        </p:grpSpPr>
        <p:sp>
          <p:nvSpPr>
            <p:cNvPr id="95" name="Rectangle 6"/>
            <p:cNvSpPr/>
            <p:nvPr/>
          </p:nvSpPr>
          <p:spPr>
            <a:xfrm>
              <a:off x="365760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8"/>
            <p:cNvSpPr/>
            <p:nvPr/>
          </p:nvSpPr>
          <p:spPr>
            <a:xfrm flipH="1">
              <a:off x="388584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3657600" y="1523880"/>
            <a:ext cx="1066320" cy="1295280"/>
            <a:chOff x="3657600" y="1523880"/>
            <a:chExt cx="1066320" cy="1295280"/>
          </a:xfrm>
        </p:grpSpPr>
        <p:sp>
          <p:nvSpPr>
            <p:cNvPr id="101" name="Rectangle 16"/>
            <p:cNvSpPr/>
            <p:nvPr/>
          </p:nvSpPr>
          <p:spPr>
            <a:xfrm>
              <a:off x="3657600" y="236196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3962160" y="152388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8"/>
            <p:cNvSpPr/>
            <p:nvPr/>
          </p:nvSpPr>
          <p:spPr>
            <a:xfrm flipH="1">
              <a:off x="3885840" y="198108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4267080" y="236196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4267080" y="198108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434448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37"/>
          <p:cNvGrpSpPr/>
          <p:nvPr/>
        </p:nvGrpSpPr>
        <p:grpSpPr>
          <a:xfrm>
            <a:off x="3352680" y="1523880"/>
            <a:ext cx="1371600" cy="2133360"/>
            <a:chOff x="3352680" y="1523880"/>
            <a:chExt cx="1371600" cy="2133360"/>
          </a:xfrm>
        </p:grpSpPr>
        <p:sp>
          <p:nvSpPr>
            <p:cNvPr id="110" name="Rectangle 26"/>
            <p:cNvSpPr/>
            <p:nvPr/>
          </p:nvSpPr>
          <p:spPr>
            <a:xfrm>
              <a:off x="365760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7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H="1">
              <a:off x="388584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3735000" y="236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30"/>
            <p:cNvSpPr/>
            <p:nvPr/>
          </p:nvSpPr>
          <p:spPr>
            <a:xfrm>
              <a:off x="343044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1"/>
            <p:cNvSpPr/>
            <p:nvPr/>
          </p:nvSpPr>
          <p:spPr>
            <a:xfrm>
              <a:off x="426708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2"/>
            <p:cNvSpPr/>
            <p:nvPr/>
          </p:nvSpPr>
          <p:spPr>
            <a:xfrm>
              <a:off x="426708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>
              <a:off x="4039920" y="159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4"/>
            <p:cNvSpPr/>
            <p:nvPr/>
          </p:nvSpPr>
          <p:spPr>
            <a:xfrm>
              <a:off x="3352680" y="32000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5"/>
            <p:cNvSpPr/>
            <p:nvPr/>
          </p:nvSpPr>
          <p:spPr>
            <a:xfrm flipH="1">
              <a:off x="3580920" y="281916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6"/>
            <p:cNvSpPr/>
            <p:nvPr/>
          </p:nvSpPr>
          <p:spPr>
            <a:xfrm>
              <a:off x="4344840" y="236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14"/>
          <p:cNvGrpSpPr/>
          <p:nvPr/>
        </p:nvGrpSpPr>
        <p:grpSpPr>
          <a:xfrm>
            <a:off x="3352680" y="1523880"/>
            <a:ext cx="1371600" cy="2133720"/>
            <a:chOff x="3352680" y="1523880"/>
            <a:chExt cx="1371600" cy="2133720"/>
          </a:xfrm>
        </p:grpSpPr>
        <p:sp>
          <p:nvSpPr>
            <p:cNvPr id="122" name="Rectangle 39"/>
            <p:cNvSpPr/>
            <p:nvPr/>
          </p:nvSpPr>
          <p:spPr>
            <a:xfrm>
              <a:off x="365760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1"/>
            <p:cNvSpPr/>
            <p:nvPr/>
          </p:nvSpPr>
          <p:spPr>
            <a:xfrm flipH="1">
              <a:off x="388584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343044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4"/>
            <p:cNvSpPr/>
            <p:nvPr/>
          </p:nvSpPr>
          <p:spPr>
            <a:xfrm>
              <a:off x="426708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5"/>
            <p:cNvSpPr/>
            <p:nvPr/>
          </p:nvSpPr>
          <p:spPr>
            <a:xfrm>
              <a:off x="426708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403992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>
              <a:off x="335268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48"/>
            <p:cNvSpPr/>
            <p:nvPr/>
          </p:nvSpPr>
          <p:spPr>
            <a:xfrm flipH="1">
              <a:off x="358092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9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0"/>
            <p:cNvSpPr/>
            <p:nvPr/>
          </p:nvSpPr>
          <p:spPr>
            <a:xfrm>
              <a:off x="396216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1"/>
            <p:cNvSpPr/>
            <p:nvPr/>
          </p:nvSpPr>
          <p:spPr>
            <a:xfrm>
              <a:off x="396216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34484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3048120" y="1523880"/>
            <a:ext cx="1981080" cy="2133720"/>
            <a:chOff x="3048120" y="1523880"/>
            <a:chExt cx="1981080" cy="2133720"/>
          </a:xfrm>
        </p:grpSpPr>
        <p:sp>
          <p:nvSpPr>
            <p:cNvPr id="137" name="Rectangle 55"/>
            <p:cNvSpPr/>
            <p:nvPr/>
          </p:nvSpPr>
          <p:spPr>
            <a:xfrm>
              <a:off x="335268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6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7"/>
            <p:cNvSpPr/>
            <p:nvPr/>
          </p:nvSpPr>
          <p:spPr>
            <a:xfrm flipH="1">
              <a:off x="380952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8"/>
            <p:cNvSpPr/>
            <p:nvPr/>
          </p:nvSpPr>
          <p:spPr>
            <a:xfrm>
              <a:off x="343044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59"/>
            <p:cNvSpPr/>
            <p:nvPr/>
          </p:nvSpPr>
          <p:spPr>
            <a:xfrm>
              <a:off x="312552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1"/>
            <p:cNvSpPr/>
            <p:nvPr/>
          </p:nvSpPr>
          <p:spPr>
            <a:xfrm>
              <a:off x="434340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2"/>
            <p:cNvSpPr/>
            <p:nvPr/>
          </p:nvSpPr>
          <p:spPr>
            <a:xfrm>
              <a:off x="373536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63"/>
            <p:cNvSpPr/>
            <p:nvPr/>
          </p:nvSpPr>
          <p:spPr>
            <a:xfrm>
              <a:off x="30481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64"/>
            <p:cNvSpPr/>
            <p:nvPr/>
          </p:nvSpPr>
          <p:spPr>
            <a:xfrm flipH="1">
              <a:off x="327636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5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7"/>
            <p:cNvSpPr/>
            <p:nvPr/>
          </p:nvSpPr>
          <p:spPr>
            <a:xfrm>
              <a:off x="365760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8"/>
            <p:cNvSpPr/>
            <p:nvPr/>
          </p:nvSpPr>
          <p:spPr>
            <a:xfrm>
              <a:off x="434484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57200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426708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 flipH="1">
              <a:off x="449532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2"/>
            <p:cNvSpPr/>
            <p:nvPr/>
          </p:nvSpPr>
          <p:spPr>
            <a:xfrm>
              <a:off x="46497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1"/>
          <p:cNvGrpSpPr/>
          <p:nvPr/>
        </p:nvGrpSpPr>
        <p:grpSpPr>
          <a:xfrm>
            <a:off x="3048120" y="1523880"/>
            <a:ext cx="2286000" cy="2133720"/>
            <a:chOff x="3048120" y="1523880"/>
            <a:chExt cx="2286000" cy="2133720"/>
          </a:xfrm>
        </p:grpSpPr>
        <p:sp>
          <p:nvSpPr>
            <p:cNvPr id="155" name="Rectangle 75"/>
            <p:cNvSpPr/>
            <p:nvPr/>
          </p:nvSpPr>
          <p:spPr>
            <a:xfrm>
              <a:off x="335304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6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77"/>
            <p:cNvSpPr/>
            <p:nvPr/>
          </p:nvSpPr>
          <p:spPr>
            <a:xfrm flipH="1">
              <a:off x="380988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8"/>
            <p:cNvSpPr/>
            <p:nvPr/>
          </p:nvSpPr>
          <p:spPr>
            <a:xfrm>
              <a:off x="34308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9"/>
            <p:cNvSpPr/>
            <p:nvPr/>
          </p:nvSpPr>
          <p:spPr>
            <a:xfrm>
              <a:off x="312588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80"/>
            <p:cNvSpPr/>
            <p:nvPr/>
          </p:nvSpPr>
          <p:spPr>
            <a:xfrm>
              <a:off x="434376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1"/>
            <p:cNvSpPr/>
            <p:nvPr/>
          </p:nvSpPr>
          <p:spPr>
            <a:xfrm>
              <a:off x="373536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2"/>
            <p:cNvSpPr/>
            <p:nvPr/>
          </p:nvSpPr>
          <p:spPr>
            <a:xfrm>
              <a:off x="30481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327636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4"/>
            <p:cNvSpPr/>
            <p:nvPr/>
          </p:nvSpPr>
          <p:spPr>
            <a:xfrm>
              <a:off x="404028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5"/>
            <p:cNvSpPr/>
            <p:nvPr/>
          </p:nvSpPr>
          <p:spPr>
            <a:xfrm>
              <a:off x="48769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487692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87"/>
            <p:cNvSpPr/>
            <p:nvPr/>
          </p:nvSpPr>
          <p:spPr>
            <a:xfrm>
              <a:off x="434520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8"/>
            <p:cNvSpPr/>
            <p:nvPr/>
          </p:nvSpPr>
          <p:spPr>
            <a:xfrm>
              <a:off x="457236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9"/>
            <p:cNvSpPr/>
            <p:nvPr/>
          </p:nvSpPr>
          <p:spPr>
            <a:xfrm>
              <a:off x="426744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90"/>
            <p:cNvSpPr/>
            <p:nvPr/>
          </p:nvSpPr>
          <p:spPr>
            <a:xfrm flipH="1">
              <a:off x="449568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1"/>
            <p:cNvSpPr/>
            <p:nvPr/>
          </p:nvSpPr>
          <p:spPr>
            <a:xfrm>
              <a:off x="46497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92"/>
            <p:cNvSpPr/>
            <p:nvPr/>
          </p:nvSpPr>
          <p:spPr>
            <a:xfrm>
              <a:off x="495468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1"/>
            <p:cNvSpPr/>
            <p:nvPr/>
          </p:nvSpPr>
          <p:spPr>
            <a:xfrm>
              <a:off x="365796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12"/>
            <p:cNvSpPr/>
            <p:nvPr/>
          </p:nvSpPr>
          <p:spPr>
            <a:xfrm>
              <a:off x="365796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15"/>
          <p:cNvSpPr/>
          <p:nvPr/>
        </p:nvSpPr>
        <p:spPr>
          <a:xfrm>
            <a:off x="600120" y="40384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s ar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deeper than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ve to b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6"/>
          <p:cNvSpPr/>
          <p:nvPr/>
        </p:nvSpPr>
        <p:spPr>
          <a:xfrm>
            <a:off x="583560" y="4800600"/>
            <a:ext cx="36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nary trees minim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th by forcing each row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 befo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7"/>
          <p:cNvSpPr/>
          <p:nvPr/>
        </p:nvSpPr>
        <p:spPr>
          <a:xfrm>
            <a:off x="4601160" y="4038480"/>
            <a:ext cx="43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Heap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complete binary tr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limit the depth to a min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any giv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des,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the order of insertion. Heaps are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tr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9"/>
          <p:cNvSpPr/>
          <p:nvPr/>
        </p:nvSpPr>
        <p:spPr>
          <a:xfrm>
            <a:off x="4574160" y="5562720"/>
            <a:ext cx="262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Main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s slides on He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BC1-0953-4C91-9A2F-69D9D18C02C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-Trees are a type of search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 reduction in depth for a given tree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adjustm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have more than two child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hold more than a singl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F8A-3A68-46C6-B9E4-7EC027407AD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implemented as a set (no duplicate elements) or as a bag (duplicate elements allow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example focuses on the set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9B3-EE5D-4A4C-8CDF-45510BA13F6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 B-Tree depends on a positive constant,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which determines how many elements are held in a single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root may have as few as 0 or 1 elements; all other nodes have at least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J Mccarthy</cp:lastModifiedBy>
  <cp:lastPrinted>1999-05-17T11:10:33Z</cp:lastPrinted>
  <dcterms:modified xsi:type="dcterms:W3CDTF">2021-09-29T20:49:00Z</dcterms:modified>
  <cp:revision>33</cp:revision>
  <dc:subject/>
  <dc:title>No Slide Title</dc:title>
</cp:coreProperties>
</file>