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F01C-78C4-464C-AE06-A8E13829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2A61-236C-456E-9EC5-D01A8B33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062-4D55-4AF4-A605-4CFF7FBC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2A91-9DA2-4A28-AFAC-D4E47239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420-D8B0-4FF4-879F-56ED131E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6755-EC20-4A8E-9D47-F1D01ED9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377-0948-480E-83FB-8F337638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5E4-6CE1-4B5B-826F-A5CCF0F7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80FC-3EA0-40CE-838C-E81D8E38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C21-E94A-474C-8FCE-A06113EA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A886-9207-4ADC-BE20-DA48FB54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7DD-2401-457F-8953-0B56D21B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4713-257B-49E3-BB03-F93CE6B30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cmu" descr=""/>
          <p:cNvPicPr/>
          <p:nvPr/>
        </p:nvPicPr>
        <p:blipFill>
          <a:blip r:embed="rId2"/>
          <a:stretch/>
        </p:blipFill>
        <p:spPr>
          <a:xfrm>
            <a:off x="152280" y="5734080"/>
            <a:ext cx="152424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838080"/>
            <a:ext cx="7711920" cy="1434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Trees with Minimum=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-3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ABA-E05F-4FB2-8B38-F0FBFF0F8D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42440" y="27000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sert 35, 34, 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768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768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5440" y="879480"/>
            <a:ext cx="2238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,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35,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72428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77320" y="182880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472428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86600" y="18288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18288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182880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6960" y="990720"/>
            <a:ext cx="22381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,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34,35,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523880" y="12952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837720" y="236232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23623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1371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12193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019560" y="137160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486040" y="25146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25146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1447920"/>
            <a:ext cx="3045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12952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114200">
            <a:off x="6553080" y="3276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80400" y="369576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il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5680" y="3733920"/>
            <a:ext cx="2238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,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34 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514240" y="411480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905120" y="51814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525780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518148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411480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396252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36360" y="5756400"/>
            <a:ext cx="4182840" cy="459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eaves are at the sam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AF74-D062-4CB8-8810-B790295591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46280" y="65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295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67040" y="727200"/>
            <a:ext cx="58957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,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39                7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33,34  36    38      40     60      80 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362320" y="22096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228600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213372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571640" y="22860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047760" y="106668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1219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106668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23623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943600" y="21337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22096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0C20-BDE3-4A0F-97EB-61939D10BA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41720" y="4986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28960" y="498600"/>
            <a:ext cx="406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7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40   60   80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8040" y="286056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elete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437920" y="8380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980720" y="1600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1600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8380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200040" y="1600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160020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16002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9360" y="350532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  7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40           80    100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64160" y="3429000"/>
            <a:ext cx="300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40   70,80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4495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51424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904760" y="4648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46483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0400" y="38098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657600" y="4648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45720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040" y="45720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029200"/>
            <a:ext cx="3808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477120" y="38098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62920" y="3733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019560" y="4572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45720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467120" y="45720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48720" y="4572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79840" y="193680"/>
            <a:ext cx="3826080" cy="459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6B66-5C1D-400F-8265-2EE6E0FFA7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81240" y="3808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elet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5440" y="1260360"/>
            <a:ext cx="239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40   70,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2819520"/>
            <a:ext cx="3808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523520" y="16002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914040" y="22860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23623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16765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362320" y="23623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23623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384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83280" y="1295280"/>
            <a:ext cx="284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 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40   70      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095520" y="16002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562720" y="24382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0" y="1676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2200" y="23623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009920" y="2362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91520" y="2362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19EC-2098-4745-B9B9-53CA59E41A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89440" y="1936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elete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0520" y="879480"/>
            <a:ext cx="277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 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40            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81080" y="2362320"/>
            <a:ext cx="38124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200" y="1828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4680" y="762120"/>
            <a:ext cx="292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40           8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1371600"/>
            <a:ext cx="3808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7467120" y="99072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72400" y="762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4495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00560" y="3851280"/>
            <a:ext cx="307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40             8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143000" y="1219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1143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85800" y="1981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20574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209680" y="198108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14600" y="19810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943240" y="1143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53080" y="1066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334120" y="18288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43600" y="18288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15200" y="18288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3886200"/>
            <a:ext cx="3808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43434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819520" y="5029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50292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48320" y="495288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57800" y="43434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75480" y="4038480"/>
            <a:ext cx="246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 40    8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10280" y="44197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8487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29600" y="4419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7DC-8FF3-4CE2-A334-C32367BA8F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65400" y="4222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elete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5080" y="126036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 40     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066320" y="16765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2880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1600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5400" y="29368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elete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5320" y="3581280"/>
            <a:ext cx="216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 40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4267080"/>
            <a:ext cx="3808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990720" y="39625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752480" y="39625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09680" y="39625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4038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6600" y="3581280"/>
            <a:ext cx="261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         40,9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495320" y="39625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38862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D725-7F80-40CF-B24F-96A4DBF87B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65760" y="270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38280" y="49860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       7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  40    60    80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276360" y="8380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67080" y="7621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742840" y="1600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1600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266720" y="16002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52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5400" y="24796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elete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9880" y="2514600"/>
            <a:ext cx="488808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always begin deletion from a leaf so swap with inorder succes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00" y="3581280"/>
            <a:ext cx="444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       8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  40    60    70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2895480" y="51048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7240" y="556272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il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295280" y="3962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0" y="3886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14040" y="4724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95280" y="47242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362320" y="46483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9548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46483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9880" y="441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40480" y="3809880"/>
            <a:ext cx="216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      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29400" y="5257800"/>
            <a:ext cx="3808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52880" y="449568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638680" y="4191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24480" y="41911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324120" y="4876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2920" y="49528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882E-6D1A-416B-B1BD-E34559066D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371600" y="685800"/>
            <a:ext cx="277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,80       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1447920"/>
            <a:ext cx="762120" cy="5331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990360" y="10666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33720" y="9907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133720" y="1752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17524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3886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67040" y="3622680"/>
            <a:ext cx="376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     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40     60,80       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819160" y="38862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285640" y="47242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95480" y="47242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9880" y="396252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96252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24280" y="46483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5C6D-ACC8-4D8C-877E-AFE05144F0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65400" y="4222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elet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30440" y="533520"/>
            <a:ext cx="162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,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90920" y="129528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123720" y="8380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62520" y="9907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52880" y="16002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191120" y="1676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62720" y="1905120"/>
            <a:ext cx="3808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51040" y="2784600"/>
            <a:ext cx="36295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leaf can spare a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505320" y="2437920"/>
            <a:ext cx="3808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43434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09840" y="3699000"/>
            <a:ext cx="2009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        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71600" y="4419720"/>
            <a:ext cx="762120" cy="5331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98108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66880" y="411480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71800" y="4876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286000" y="4800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62520" y="441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96040" y="3546360"/>
            <a:ext cx="338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40   60 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6781320" y="39625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39625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6248160" y="4648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05720" y="4648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467120" y="4572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24680" y="46483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864E-988F-494A-83E6-5142C3862B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41720" y="4222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elete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3560" y="914400"/>
            <a:ext cx="277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40   60      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38480" y="1523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88200" y="838080"/>
            <a:ext cx="223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40   60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2209680"/>
            <a:ext cx="3808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937040" y="339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30240" y="3352680"/>
            <a:ext cx="254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40   60,90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3962520"/>
            <a:ext cx="38124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6520" y="3581280"/>
            <a:ext cx="20811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‘t spare a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33720" y="380988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441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19720" y="4724280"/>
            <a:ext cx="3808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5680" y="4876920"/>
            <a:ext cx="38124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419720" y="480060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61280" y="362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495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4000" y="3962520"/>
            <a:ext cx="239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 40   6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676520" y="12193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218960" y="20574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52480" y="205740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12193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514240" y="20574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400440" y="1219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10280" y="11430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5866920" y="1905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400800" y="19810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7086240" y="19810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96080" y="19051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819520" y="37339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05320" y="3733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85640" y="44197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666880" y="4495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3657240" y="43434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91120" y="4419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6476760" y="42670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9152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96080" y="42670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2057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DDFD-278B-4737-B6D5-6943D24054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4000" y="547560"/>
            <a:ext cx="75218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ete (T, X, suc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/*Delete from tree T the item with key X.  The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fails if no such item.  The flag success indicates whether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operation succeeds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Attempt to locate I with search key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I is present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p item I into leaf L which contains the in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ccessor of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/* deletion begins from leaf L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L has no items THEN Fix 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ccess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ccess :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AAA7-E0D5-4459-9091-7E085960DE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78720" y="228600"/>
            <a:ext cx="76561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x 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/* N is a node with no item.  Note, if N is an internal no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then it has one child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t P be the parent of N.  If N is the root, delete it and retu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some sibling of N has two items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tribute items among N, the sibling, and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N is internal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 the appropriate child from the sibling t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/* must merge the nod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oose an adjacent sibling S of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ing the appropriate item down from P into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N is internal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ve N’s child to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lete node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P is now without an item THEN Fix 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0859-021C-456D-92BA-197029D0C2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760" y="533520"/>
            <a:ext cx="5830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ert (T, newi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/* Insert newitem into tree T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X be the search key of new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e the leaf L in which X belo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newitem to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L now has three items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t 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A86F-F4C7-45F8-AC18-2A1BD14E55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7360" y="471600"/>
            <a:ext cx="77612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lit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/* Split node N which contains 3 items.  Note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if N is internal then it has 4 children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t P be the parent of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/* if N is the root, then create a new node P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ace node N by two nodes, N1 and 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ve N1 the item in N with the smallest search key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ve N2 the item in N with the largest search key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N is an internal node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1 becomes the parent of N’s two leftmost 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2 becomes the parent of N’s two rightmost 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 up to P the item in N with the middle search key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P now has 3 items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lit 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B8D8-430D-4FEC-9D78-9E8FAADD90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5040" y="345960"/>
            <a:ext cx="3749760" cy="459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0520" y="1108080"/>
            <a:ext cx="3686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 7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     40   60   80 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600200" y="144792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838080" y="2209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1447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22096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361960" y="22096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22096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8280" y="33526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sert 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2400" y="2514600"/>
            <a:ext cx="156132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e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al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a 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67040" y="362268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 7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  39,40   60   80 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276720" y="40384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361960" y="472428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47242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96252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190760" y="47242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4724280"/>
            <a:ext cx="759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464832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1A95-C4DD-49C7-BD0B-D56738D837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990720"/>
            <a:ext cx="4572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      7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 38,39,40   60   80 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720" y="34596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sert 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246200">
            <a:off x="2361960" y="26665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41920" y="323856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il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133360" y="13716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295280" y="20574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133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13716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352680" y="21337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2057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4572000"/>
            <a:ext cx="1295280" cy="380880"/>
          </a:xfrm>
          <a:prstGeom prst="rightArrow">
            <a:avLst>
              <a:gd name="adj1" fmla="val 50000"/>
              <a:gd name="adj2" fmla="val 850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47920" y="3927600"/>
            <a:ext cx="406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39             7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 38   40   60     80 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809880" y="42670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42670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895120" y="50292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502920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723920" y="5029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410080" y="495288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5029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017-2F3E-4932-B57F-1D82497C95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18760" y="4222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sert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7720" y="1413000"/>
            <a:ext cx="437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39             7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37,38   40   60     80 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57800" y="2174760"/>
            <a:ext cx="233244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ws it does 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the t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133720" y="1828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18288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143000" y="25146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25146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276360" y="2514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51460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24382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94B2-9CDC-4225-9EAE-05BB976717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18760" y="4222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sert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4800" y="990720"/>
            <a:ext cx="47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39                   70,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36,37,38   40   60     80 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11400">
            <a:off x="2590560" y="25902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360" y="312408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il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4648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3581280"/>
            <a:ext cx="457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37,39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 36   38  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65600" y="400068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il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434340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352680" y="4038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057400" y="510552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971440" y="518148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51814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502920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40384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472428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6800" y="3505320"/>
            <a:ext cx="3228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,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        39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20    36   38  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05920" y="457200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553080" y="38862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43800" y="388620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24680" y="388620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095520" y="50292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50292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467480" y="502920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51055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590920" y="1371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12193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752120" y="2057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213372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20574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038120" y="20574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20574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Structures and Algorith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B0AC-3807-4FA8-80B7-8541E86B4B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9T00:40:18Z</dcterms:created>
  <dc:creator>mm6</dc:creator>
  <dc:description/>
  <dc:language>en-US</dc:language>
  <cp:lastModifiedBy>mm6</cp:lastModifiedBy>
  <dcterms:modified xsi:type="dcterms:W3CDTF">2000-06-19T14:32:57Z</dcterms:modified>
  <cp:revision>8</cp:revision>
  <dc:subject/>
  <dc:title>PowerPoint Presentation</dc:title>
</cp:coreProperties>
</file>