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56EC5-FEC2-4E66-9DE4-37C9A9C744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C488D-3B8C-4EB9-B6D1-64CAC19E71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9BB05-B318-48EA-9BF7-00357D3706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0872A-5705-4BCC-AEFD-B38E187259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76A7C-86B1-412C-80A5-4998E0B32E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E8B09-CDBF-4DC4-90FF-FA72C648A3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BC7A5-69DB-45F3-912C-1E8B9DE9C2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EAED7-78DE-4685-A898-B7889E4DB1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700B7-94C7-4FCF-85A3-68F69792EB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BE7BA-5D21-4DFA-A05D-B337CC4FA6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C4F51-CCEC-4734-93CB-68086EA4F5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6B9A6-D4FD-4F85-BC60-7FE7D95B0A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AE8DD-5744-4D06-AA5C-69CDCEEBDF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32C5D-185D-4EF9-8F4A-4676A8E175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12DBB-2F9B-4864-AFCA-CEF1C9C602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D550D-7CDF-4F6A-91E8-097E9C4D11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50F05-B2B6-4677-B98E-C9C6875F05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C75E2-6441-44F1-B80E-546DDC6DBC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11567-82CB-4167-80C3-73113B8E22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3811F-45C3-4988-977B-9D35207854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95EFF-07E3-4098-8B61-9544B34AE1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F7E86-495A-42AA-9381-CC1FEDA4AB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37D5F-003B-4715-B54B-424524047D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F6D52-EB89-4586-9A91-B976715848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FA1D6-38BF-49D4-8D1E-8B9BDCEFC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E3993-04EA-4CF7-85EC-488338F90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D66B4-45D6-4E13-8C2D-CF5A002BD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0A9B7-B11F-4744-AAD0-CCD6E404B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488C7-12C6-4366-AF1C-02846D5B2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304F8-E0BC-4787-B380-5638ABB9C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44855-A399-48F7-886F-6819788DC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80819-88F6-4ACE-86BC-82B06B3D1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FEF1A-1884-4326-981B-FF097FAD0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85573-39B0-4BF6-AFBB-769F4EDFE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12638-53C1-4A31-8AD3-B77CF9CE5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AA35D-50DA-4B8A-B7B0-CC6D38418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ata Structures and Algorithms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762BD-7102-498C-B8DA-32DF629D52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ata Structures and Algorithms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D55FB-EE36-4B31-B44D-8AB0EAEE50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2"/>
          <p:cNvSpPr/>
          <p:nvPr/>
        </p:nvSpPr>
        <p:spPr>
          <a:xfrm>
            <a:off x="1523880" y="1143000"/>
            <a:ext cx="6264360" cy="222732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Basics -- 2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rom: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ata Structures and Their Algorithm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by Harry R. Lewis and Larry Denenberg (Harvard University:  Harper Collins Publishers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4" descr="cmu"/>
          <p:cNvPicPr/>
          <p:nvPr/>
        </p:nvPicPr>
        <p:blipFill>
          <a:blip r:embed="rId1"/>
          <a:stretch/>
        </p:blipFill>
        <p:spPr>
          <a:xfrm>
            <a:off x="685800" y="5486400"/>
            <a:ext cx="1523880" cy="11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ata Structures and Algorithms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518E2-B141-471A-B830-9F12D53BEB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2"/>
          <p:cNvSpPr/>
          <p:nvPr/>
        </p:nvSpPr>
        <p:spPr>
          <a:xfrm>
            <a:off x="533520" y="1447920"/>
            <a:ext cx="7707600" cy="38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be functions from reals to reals.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dominat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if the ratio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(n) / g(n)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creases without bound a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creases without bound.  In other words, if for any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 &gt;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re is an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&gt;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0 such that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(n) &gt; c </a:t>
            </a: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g(n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for all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 &gt;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amples: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(n) = n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dominate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g(n) = 2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since for any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&gt; c</a:t>
            </a: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2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whenever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 &gt; 2c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(n)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does not dominat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g(n) = 2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since the ratio of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(n) / g(n)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s never larger than 5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 3" descr="cmu"/>
          <p:cNvPicPr/>
          <p:nvPr/>
        </p:nvPicPr>
        <p:blipFill>
          <a:blip r:embed="rId1"/>
          <a:stretch/>
        </p:blipFill>
        <p:spPr>
          <a:xfrm>
            <a:off x="685800" y="5257800"/>
            <a:ext cx="1523880" cy="1123920"/>
          </a:xfrm>
          <a:prstGeom prst="rect">
            <a:avLst/>
          </a:prstGeom>
          <a:ln w="0">
            <a:noFill/>
          </a:ln>
        </p:spPr>
      </p:pic>
      <p:sp>
        <p:nvSpPr>
          <p:cNvPr id="93" name="Text Box 4"/>
          <p:cNvSpPr/>
          <p:nvPr/>
        </p:nvSpPr>
        <p:spPr>
          <a:xfrm>
            <a:off x="3445200" y="457200"/>
            <a:ext cx="18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ff"/>
                </a:solidFill>
                <a:latin typeface="Times New Roman"/>
              </a:rPr>
              <a:t>Dominate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ata Structures and Algorithms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F82FF-D508-4246-ABB7-409C389CCE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2" descr="cmu"/>
          <p:cNvPicPr/>
          <p:nvPr/>
        </p:nvPicPr>
        <p:blipFill>
          <a:blip r:embed="rId1"/>
          <a:stretch/>
        </p:blipFill>
        <p:spPr>
          <a:xfrm>
            <a:off x="914400" y="5410080"/>
            <a:ext cx="1523880" cy="1123920"/>
          </a:xfrm>
          <a:prstGeom prst="rect">
            <a:avLst/>
          </a:prstGeom>
          <a:ln w="0">
            <a:noFill/>
          </a:ln>
        </p:spPr>
      </p:pic>
      <p:sp>
        <p:nvSpPr>
          <p:cNvPr id="97" name="Text Box 3"/>
          <p:cNvSpPr/>
          <p:nvPr/>
        </p:nvSpPr>
        <p:spPr>
          <a:xfrm>
            <a:off x="973800" y="879480"/>
            <a:ext cx="7323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y exponential function dominates any simple power,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y simple power dominates any logarithmic function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ata Structures and Algorithms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84464-283F-4CEB-B483-7454C52E56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2" descr="cmu"/>
          <p:cNvPicPr/>
          <p:nvPr/>
        </p:nvPicPr>
        <p:blipFill>
          <a:blip r:embed="rId1"/>
          <a:stretch/>
        </p:blipFill>
        <p:spPr>
          <a:xfrm>
            <a:off x="609480" y="5562720"/>
            <a:ext cx="1524240" cy="112392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3"/>
          <p:cNvSpPr/>
          <p:nvPr/>
        </p:nvSpPr>
        <p:spPr>
          <a:xfrm>
            <a:off x="683640" y="609480"/>
            <a:ext cx="7627320" cy="49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be the set of nonnegative integers {0,1,…}.  Le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be the set of real numbers and let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*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be the set of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nnegative real number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be a function from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*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  Then O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 is the se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f all function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*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such that, for som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stant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&gt; 0 and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0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(N) </a:t>
            </a: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c </a:t>
            </a: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g(N)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 all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N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 other words,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O(g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if the value of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is bounded from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bove by a fixed multiple of the value of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for all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ufficiently large values of the argument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ata Structures and Algorithms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45605-CDBD-42FF-90F9-9E8A6B8D2A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Picture 2" descr="cmu"/>
          <p:cNvPicPr/>
          <p:nvPr/>
        </p:nvPicPr>
        <p:blipFill>
          <a:blip r:embed="rId1"/>
          <a:stretch/>
        </p:blipFill>
        <p:spPr>
          <a:xfrm>
            <a:off x="228600" y="5734080"/>
            <a:ext cx="1523880" cy="112392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3"/>
          <p:cNvSpPr/>
          <p:nvPr/>
        </p:nvSpPr>
        <p:spPr>
          <a:xfrm>
            <a:off x="1447200" y="0"/>
            <a:ext cx="5964120" cy="670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or any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t is the case that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1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O(f)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ny constant multiple of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s in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O(f)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F(n) = 13n + 7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s in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O(n)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hy?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3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+ 7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14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for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1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7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o the definition is satisfied with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= 14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, n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= 7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000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1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O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.0001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hy?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= 10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and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n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= 0 in the definition of O()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f(n) = 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f(n) </a:t>
            </a: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O(n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ata Structures and Algorithms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8D539-20DF-4ECA-9876-387EB2CDB0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icture 2" descr="cmu"/>
          <p:cNvPicPr/>
          <p:nvPr/>
        </p:nvPicPr>
        <p:blipFill>
          <a:blip r:embed="rId1"/>
          <a:stretch/>
        </p:blipFill>
        <p:spPr>
          <a:xfrm>
            <a:off x="228600" y="5562720"/>
            <a:ext cx="1523880" cy="112392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3"/>
          <p:cNvSpPr/>
          <p:nvPr/>
        </p:nvSpPr>
        <p:spPr>
          <a:xfrm>
            <a:off x="1044360" y="304920"/>
            <a:ext cx="7783560" cy="574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ff"/>
                </a:solidFill>
                <a:latin typeface="Times New Roman"/>
              </a:rPr>
              <a:t>                                     </a:t>
            </a:r>
            <a:r>
              <a:rPr b="1" lang="en-US" sz="2800" spc="-1" strike="noStrike">
                <a:solidFill>
                  <a:srgbClr val="3366ff"/>
                </a:solidFill>
                <a:latin typeface="Times New Roman"/>
              </a:rPr>
              <a:t>Little o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 any function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o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g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is the set of all functions that ar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ominated by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  That is, the set of all function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uch th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for each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stant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&gt; 0 there is an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&gt;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0 such th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(n) &lt;  c </a:t>
            </a: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g(n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for all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 &gt; n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(n) = 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g(n) = n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the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(n) </a:t>
            </a: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o(g(n)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(n) = n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g(n)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(n) </a:t>
            </a: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o(g(n)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ata Structures and Algorithms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8CAEC-62C6-4260-91A2-E6EF1A16B3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Picture 2" descr="cmu"/>
          <p:cNvPicPr/>
          <p:nvPr/>
        </p:nvPicPr>
        <p:blipFill>
          <a:blip r:embed="rId1"/>
          <a:stretch/>
        </p:blipFill>
        <p:spPr>
          <a:xfrm>
            <a:off x="685800" y="5410080"/>
            <a:ext cx="1523880" cy="112392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3"/>
          <p:cNvSpPr/>
          <p:nvPr/>
        </p:nvSpPr>
        <p:spPr>
          <a:xfrm>
            <a:off x="822240" y="727200"/>
            <a:ext cx="710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ff"/>
                </a:solidFill>
                <a:latin typeface="Times New Roman"/>
              </a:rPr>
              <a:t>Theorem:  Growth Rat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799560" y="2397240"/>
            <a:ext cx="7626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  The power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s in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(n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if and only if </a:t>
            </a: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&gt;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0);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is in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(n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if and only if </a:t>
            </a: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&lt; </a:t>
            </a: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1355760" y="3394080"/>
            <a:ext cx="6645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s:                                 Intuitivel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O(n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n &lt;= n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o(n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)                              n &lt; n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ata Structures and Algorithms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5BB5D-A9FF-4D6C-A0CF-95AC92759A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Picture 2" descr="cmu"/>
          <p:cNvPicPr/>
          <p:nvPr/>
        </p:nvPicPr>
        <p:blipFill>
          <a:blip r:embed="rId1"/>
          <a:stretch/>
        </p:blipFill>
        <p:spPr>
          <a:xfrm>
            <a:off x="533520" y="5410080"/>
            <a:ext cx="1523880" cy="112392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3"/>
          <p:cNvSpPr/>
          <p:nvPr/>
        </p:nvSpPr>
        <p:spPr>
          <a:xfrm>
            <a:off x="974880" y="955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838440" y="1025640"/>
            <a:ext cx="4449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  log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n </a:t>
            </a: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o(n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 any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6"/>
          <p:cNvSpPr/>
          <p:nvPr/>
        </p:nvSpPr>
        <p:spPr>
          <a:xfrm>
            <a:off x="785880" y="3429000"/>
            <a:ext cx="2026800" cy="12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10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n </a:t>
            </a: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o(n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n </a:t>
            </a: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o(n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Times New Roman"/>
              </a:rPr>
              <a:t>1/2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7"/>
          <p:cNvSpPr/>
          <p:nvPr/>
        </p:nvSpPr>
        <p:spPr>
          <a:xfrm>
            <a:off x="747000" y="2251080"/>
            <a:ext cx="155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ata Structures and Algorithms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45FA7-DBEB-4DF7-B00B-252F58F161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Picture 2" descr="cmu"/>
          <p:cNvPicPr/>
          <p:nvPr/>
        </p:nvPicPr>
        <p:blipFill>
          <a:blip r:embed="rId1"/>
          <a:stretch/>
        </p:blipFill>
        <p:spPr>
          <a:xfrm>
            <a:off x="533520" y="5410080"/>
            <a:ext cx="1523880" cy="112392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3"/>
          <p:cNvSpPr/>
          <p:nvPr/>
        </p:nvSpPr>
        <p:spPr>
          <a:xfrm>
            <a:off x="917640" y="1101600"/>
            <a:ext cx="479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(c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 any </a:t>
            </a: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 0 and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&gt; 1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4"/>
          <p:cNvSpPr/>
          <p:nvPr/>
        </p:nvSpPr>
        <p:spPr>
          <a:xfrm>
            <a:off x="1006200" y="2327400"/>
            <a:ext cx="1561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(4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Times New Roman"/>
              </a:rPr>
              <a:t>100 </a:t>
            </a: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(2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ata Structures and Algorithms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D6FF2-207F-46A4-9876-592D7ECBCF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2" descr="cmu"/>
          <p:cNvPicPr/>
          <p:nvPr/>
        </p:nvPicPr>
        <p:blipFill>
          <a:blip r:embed="rId1"/>
          <a:stretch/>
        </p:blipFill>
        <p:spPr>
          <a:xfrm>
            <a:off x="685800" y="5257800"/>
            <a:ext cx="1523880" cy="112392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3"/>
          <p:cNvSpPr/>
          <p:nvPr/>
        </p:nvSpPr>
        <p:spPr>
          <a:xfrm>
            <a:off x="927720" y="914400"/>
            <a:ext cx="4921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.  log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O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 for any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5"/>
          <p:cNvSpPr/>
          <p:nvPr/>
        </p:nvSpPr>
        <p:spPr>
          <a:xfrm>
            <a:off x="995040" y="2092320"/>
            <a:ext cx="2511720" cy="12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O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O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ata Structures and Algorithms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85F3D-F8C7-4DC9-A7D8-5B9FF2EDA3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2" descr="cmu"/>
          <p:cNvPicPr/>
          <p:nvPr/>
        </p:nvPicPr>
        <p:blipFill>
          <a:blip r:embed="rId1"/>
          <a:stretch/>
        </p:blipFill>
        <p:spPr>
          <a:xfrm>
            <a:off x="838080" y="5334120"/>
            <a:ext cx="1524240" cy="112392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3"/>
          <p:cNvSpPr/>
          <p:nvPr/>
        </p:nvSpPr>
        <p:spPr>
          <a:xfrm>
            <a:off x="811800" y="873000"/>
            <a:ext cx="6262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.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O(d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 and only if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and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o(d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 and only if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 &lt; d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837360" y="2251080"/>
            <a:ext cx="14774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O(4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o(4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ata Structures and Algorithms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9C1F2-FB2C-4AB8-95BF-5FE074DC86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2" descr="cmu"/>
          <p:cNvPicPr/>
          <p:nvPr/>
        </p:nvPicPr>
        <p:blipFill>
          <a:blip r:embed="rId1"/>
          <a:stretch/>
        </p:blipFill>
        <p:spPr>
          <a:xfrm>
            <a:off x="609480" y="5562720"/>
            <a:ext cx="1524240" cy="1123920"/>
          </a:xfrm>
          <a:prstGeom prst="rect">
            <a:avLst/>
          </a:prstGeom>
          <a:ln w="0">
            <a:noFill/>
          </a:ln>
        </p:spPr>
      </p:pic>
      <p:sp>
        <p:nvSpPr>
          <p:cNvPr id="55" name="Text Box 3"/>
          <p:cNvSpPr/>
          <p:nvPr/>
        </p:nvSpPr>
        <p:spPr>
          <a:xfrm>
            <a:off x="822240" y="803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685800" y="533520"/>
            <a:ext cx="7407360" cy="45972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view: Logarithms, Powers and Exponential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670680" y="1344600"/>
            <a:ext cx="7558200" cy="49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e any real greater than 1 and let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e any real greater than 0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 logarithm to the base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, denoted log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is defined to be th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umber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uch that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US" sz="2000" spc="-1" strike="noStrike" baseline="30000">
                <a:solidFill>
                  <a:srgbClr val="000000"/>
                </a:solidFill>
                <a:latin typeface="Times New Roman"/>
              </a:rPr>
              <a:t>y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= x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 = 0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b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x &gt;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0 if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x &gt;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1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x &lt;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0 if 0 &lt;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 1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ny logarithmic function is a monotone increasing function of it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rgument, that i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&gt; log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provided that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ata Structures and Algorithms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0B460-B8FA-4794-B6B6-0E1EC75721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Picture 2" descr="cmu"/>
          <p:cNvPicPr/>
          <p:nvPr/>
        </p:nvPicPr>
        <p:blipFill>
          <a:blip r:embed="rId1"/>
          <a:stretch/>
        </p:blipFill>
        <p:spPr>
          <a:xfrm>
            <a:off x="914400" y="5410080"/>
            <a:ext cx="1523880" cy="112392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3"/>
          <p:cNvSpPr/>
          <p:nvPr/>
        </p:nvSpPr>
        <p:spPr>
          <a:xfrm>
            <a:off x="898200" y="955800"/>
            <a:ext cx="57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.  Any constant function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(n) = 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is in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1)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973440" y="2022480"/>
            <a:ext cx="4292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xample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32-bit add instruction O(1)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ata Structures and Algorithms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3E450-1CE2-4309-A5C5-86E3EB516A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Picture 2" descr="cmu"/>
          <p:cNvPicPr/>
          <p:nvPr/>
        </p:nvPicPr>
        <p:blipFill>
          <a:blip r:embed="rId1"/>
          <a:stretch/>
        </p:blipFill>
        <p:spPr>
          <a:xfrm>
            <a:off x="457200" y="5486400"/>
            <a:ext cx="1523880" cy="112392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3"/>
          <p:cNvSpPr/>
          <p:nvPr/>
        </p:nvSpPr>
        <p:spPr>
          <a:xfrm>
            <a:off x="517680" y="879480"/>
            <a:ext cx="75596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ff"/>
                </a:solidFill>
                <a:latin typeface="Times New Roman"/>
              </a:rPr>
              <a:t>Big-O only provides an upper bound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 example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7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O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 bu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7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O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37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7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O(2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ata Structures and Algorithms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C7A66-60B0-4031-B8B2-CEB09350AE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Picture 2" descr="cmu"/>
          <p:cNvPicPr/>
          <p:nvPr/>
        </p:nvPicPr>
        <p:blipFill>
          <a:blip r:embed="rId1"/>
          <a:stretch/>
        </p:blipFill>
        <p:spPr>
          <a:xfrm>
            <a:off x="380880" y="5486400"/>
            <a:ext cx="1524240" cy="112392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3"/>
          <p:cNvSpPr/>
          <p:nvPr/>
        </p:nvSpPr>
        <p:spPr>
          <a:xfrm>
            <a:off x="667800" y="762120"/>
            <a:ext cx="7536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ff"/>
                </a:solidFill>
                <a:latin typeface="Times New Roman"/>
              </a:rPr>
              <a:t>Big Omega (Big- </a:t>
            </a:r>
            <a:r>
              <a:rPr b="1" lang="en-US" sz="2400" spc="-1" strike="noStrike">
                <a:solidFill>
                  <a:srgbClr val="3366ff"/>
                </a:solidFill>
                <a:latin typeface="Symbol"/>
                <a:ea typeface="Symbol"/>
              </a:rPr>
              <a:t>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</a:rPr>
              <a:t>)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ig-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notation is exactly the converse of Big-O notation;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g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if and only if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g </a:t>
            </a: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O(f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O(g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implies that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grows at most as quickly a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(g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implies that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rows at least as quickly a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4"/>
          <p:cNvSpPr/>
          <p:nvPr/>
        </p:nvSpPr>
        <p:spPr>
          <a:xfrm>
            <a:off x="3725280" y="3622680"/>
            <a:ext cx="208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et f(n) = 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(n) </a:t>
            </a: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(n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n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ata Structures and Algorithms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908A9-3A12-44D5-AEEB-C6FD54F9B7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Picture 2" descr="cmu"/>
          <p:cNvPicPr/>
          <p:nvPr/>
        </p:nvPicPr>
        <p:blipFill>
          <a:blip r:embed="rId1"/>
          <a:stretch/>
        </p:blipFill>
        <p:spPr>
          <a:xfrm>
            <a:off x="609480" y="5562720"/>
            <a:ext cx="1524240" cy="112392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3"/>
          <p:cNvSpPr/>
          <p:nvPr/>
        </p:nvSpPr>
        <p:spPr>
          <a:xfrm>
            <a:off x="1026000" y="533520"/>
            <a:ext cx="54262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ff"/>
                </a:solidFill>
                <a:latin typeface="Times New Roman"/>
              </a:rPr>
              <a:t>Big theta (Big </a:t>
            </a:r>
            <a:r>
              <a:rPr b="1" lang="en-US" sz="2400" spc="-1" strike="noStrike">
                <a:solidFill>
                  <a:srgbClr val="3366ff"/>
                </a:solidFill>
                <a:latin typeface="Symbol"/>
                <a:ea typeface="Symbol"/>
              </a:rPr>
              <a:t>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</a:rPr>
              <a:t>)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= O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(n)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4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(n) </a:t>
            </a: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(n) </a:t>
            </a: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o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(n) </a:t>
            </a: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set of functions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 is the order of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ata Structures and Algorithms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1AA5D-8C44-44C1-B9FD-2EB86A8F6C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Times New Roman"/>
              </a:rPr>
              <a:t>A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3"/>
          <p:cNvSpPr/>
          <p:nvPr/>
        </p:nvSpPr>
        <p:spPr>
          <a:xfrm>
            <a:off x="670680" y="1717560"/>
            <a:ext cx="83631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se we use a phone book to look up a number in the standard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y. Let T(n) be the number of operations (comparisons) required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the worst case T(n) </a:t>
            </a: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O(Log N)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rue or False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lso, in the worst case,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(n)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O(n)    ______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(n)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n)    ______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(n)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n)   ______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ata Structures and Algorithms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4DEAA-43DB-4F09-B12C-373307B229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Times New Roman"/>
              </a:rPr>
              <a:t>A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3"/>
          <p:cNvSpPr/>
          <p:nvPr/>
        </p:nvSpPr>
        <p:spPr>
          <a:xfrm>
            <a:off x="694080" y="1717560"/>
            <a:ext cx="83797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se we use a phone book to look up a number in the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ndard way. Let T(n) be the number of operations (comparisons)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d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or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ase T(n) </a:t>
            </a: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O(Log N)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rue or False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lso, in the worst case,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(n) </a:t>
            </a: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O(n)   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(n) </a:t>
            </a: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(n)    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(n) </a:t>
            </a: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(n)   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ata Structures and Algorithms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5D1E2-F361-407B-8E58-3EF0978EE9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Times New Roman"/>
              </a:rPr>
              <a:t>A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3"/>
          <p:cNvSpPr/>
          <p:nvPr/>
        </p:nvSpPr>
        <p:spPr>
          <a:xfrm>
            <a:off x="664200" y="1717560"/>
            <a:ext cx="72201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se we use a phone book to look up a number. Le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(n) be the number of operations (comparisons) required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es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se T(n) </a:t>
            </a: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O(1)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rue or False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lso, in the best case,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(n) </a:t>
            </a: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O(n)   _____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(n) </a:t>
            </a: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(n)    _____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(n) </a:t>
            </a: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(n)   _____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ata Structures and Algorithms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3AE58-7110-4406-A1A7-ED81BA6134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Times New Roman"/>
              </a:rPr>
              <a:t>A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3"/>
          <p:cNvSpPr/>
          <p:nvPr/>
        </p:nvSpPr>
        <p:spPr>
          <a:xfrm>
            <a:off x="664200" y="1717560"/>
            <a:ext cx="72201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se we use a phone book to look up a number. Le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(n) be the number of operations (comparisons) required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es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se T(n) </a:t>
            </a: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O(1)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rue or False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lso, in the best case,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(n) </a:t>
            </a: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O(n)  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(n) </a:t>
            </a: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(n)    False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(n) </a:t>
            </a: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(n)   False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ata Structures and Algorithms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489E6-E17A-429E-AEFE-7FCD65AF3D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Times New Roman"/>
              </a:rPr>
              <a:t>A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3"/>
          <p:cNvSpPr/>
          <p:nvPr/>
        </p:nvSpPr>
        <p:spPr>
          <a:xfrm>
            <a:off x="665280" y="1717560"/>
            <a:ext cx="72612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se we want to delete the last item on a singly linked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st. Let T(n) be the number of operations (comparisons)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d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are no cases to consider: T(n) </a:t>
            </a: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O(n)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rue or False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(n) </a:t>
            </a: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O(Lg n)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(n) </a:t>
            </a: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(n)   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(n) </a:t>
            </a: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(Lg n) 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ata Structures and Algorithms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5A1D7-0084-437C-AC39-25EE6B7B52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Times New Roman"/>
              </a:rPr>
              <a:t>A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3"/>
          <p:cNvSpPr/>
          <p:nvPr/>
        </p:nvSpPr>
        <p:spPr>
          <a:xfrm>
            <a:off x="665280" y="1717560"/>
            <a:ext cx="72612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se we want to delete the last item on a singly linked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st. Let T(n) be the number of operations (comparisons)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d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are no cases to consider: T(n) </a:t>
            </a: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O(n)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rue or False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(n) </a:t>
            </a: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O(Lg n)   False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(n) </a:t>
            </a: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(n)   True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(n) </a:t>
            </a: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(Lg n)    True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ata Structures and Algorithms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4BBFB-FC50-4EF7-8D46-730191CDCC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2" descr="cmu"/>
          <p:cNvPicPr/>
          <p:nvPr/>
        </p:nvPicPr>
        <p:blipFill>
          <a:blip r:embed="rId1"/>
          <a:stretch/>
        </p:blipFill>
        <p:spPr>
          <a:xfrm>
            <a:off x="533520" y="5410080"/>
            <a:ext cx="1523880" cy="1123920"/>
          </a:xfrm>
          <a:prstGeom prst="rect">
            <a:avLst/>
          </a:prstGeom>
          <a:ln w="0">
            <a:noFill/>
          </a:ln>
        </p:spPr>
      </p:pic>
      <p:sp>
        <p:nvSpPr>
          <p:cNvPr id="61" name="Text Box 3"/>
          <p:cNvSpPr/>
          <p:nvPr/>
        </p:nvSpPr>
        <p:spPr>
          <a:xfrm>
            <a:off x="779400" y="879480"/>
            <a:ext cx="7908840" cy="38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oubling the argument increases the base 2 logarithm by 1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at is,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= (log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+ 1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y?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1800" spc="-1" strike="noStrike" baseline="44000">
                <a:solidFill>
                  <a:srgbClr val="000000"/>
                </a:solidFill>
                <a:latin typeface="Times New Roman"/>
              </a:rPr>
              <a:t>(log</a:t>
            </a:r>
            <a:r>
              <a:rPr b="1" lang="en-US" sz="1800" spc="-1" strike="noStrike" baseline="1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1800" spc="-1" strike="noStrike" baseline="40000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1800" spc="-1" strike="noStrike" baseline="40000">
                <a:solidFill>
                  <a:srgbClr val="000000"/>
                </a:solidFill>
                <a:latin typeface="Times New Roman"/>
              </a:rPr>
              <a:t>) + 1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2</a:t>
            </a:r>
            <a:r>
              <a:rPr b="1" lang="en-US" sz="1800" spc="-1" strike="noStrike" baseline="44000">
                <a:solidFill>
                  <a:srgbClr val="000000"/>
                </a:solidFill>
                <a:latin typeface="Times New Roman"/>
              </a:rPr>
              <a:t>log</a:t>
            </a:r>
            <a:r>
              <a:rPr b="1" lang="en-US" sz="1800" spc="-1" strike="noStrike" baseline="1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1800" spc="-1" strike="noStrike" baseline="40000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= 2x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1800" spc="-1" strike="noStrike" baseline="44000">
                <a:solidFill>
                  <a:srgbClr val="000000"/>
                </a:solidFill>
                <a:latin typeface="Times New Roman"/>
              </a:rPr>
              <a:t>log</a:t>
            </a:r>
            <a:r>
              <a:rPr b="1" lang="en-US" sz="1800" spc="-1" strike="noStrike" baseline="1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1800" spc="-1" strike="noStrike" baseline="40000">
                <a:solidFill>
                  <a:srgbClr val="000000"/>
                </a:solidFill>
                <a:latin typeface="Times New Roman"/>
              </a:rPr>
              <a:t>2x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Times New Roman"/>
              </a:rPr>
              <a:t>Rememb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ata Structures and Algorithms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A4AA6-E013-44AD-A89A-65CF3CE30B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Box 5"/>
          <p:cNvSpPr/>
          <p:nvPr/>
        </p:nvSpPr>
        <p:spPr>
          <a:xfrm>
            <a:off x="911520" y="2057400"/>
            <a:ext cx="72702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hen working with Big O, Big </a:t>
            </a: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and Big </a:t>
            </a: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, be sur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o always consider only large n.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n addition,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pin the case down first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nd then conside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ig O, Big </a:t>
            </a: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, and Big </a:t>
            </a: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Lastly, remember that sometimes “case” does not apply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99ff"/>
                </a:solidFill>
                <a:latin typeface="Times New Roman"/>
              </a:rPr>
              <a:t>Algorithms and Probl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ata Structures and Algorithms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8EB1C-B509-495D-BD43-5D4D1D7A44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Box 4"/>
          <p:cNvSpPr/>
          <p:nvPr/>
        </p:nvSpPr>
        <p:spPr>
          <a:xfrm>
            <a:off x="1022040" y="2438280"/>
            <a:ext cx="7849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this class, we will mostly be analyzing algorithms (counting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rations) in terms of Big O, Big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Big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ff"/>
                </a:solidFill>
                <a:latin typeface="Times New Roman"/>
              </a:rPr>
              <a:t>Problem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ay also be analyzed.  The lower bound for a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icular problem is the worst case running time of the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stest algorithm that solves that problem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ter, we will look at an argument that comparison based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rting i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n Log n). What does that mean?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ata Structures and Algorithms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ADA88-B623-41DE-889B-113D266875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2" descr="cmu"/>
          <p:cNvPicPr/>
          <p:nvPr/>
        </p:nvPicPr>
        <p:blipFill>
          <a:blip r:embed="rId1"/>
          <a:stretch/>
        </p:blipFill>
        <p:spPr>
          <a:xfrm>
            <a:off x="685800" y="5486400"/>
            <a:ext cx="1523880" cy="1123920"/>
          </a:xfrm>
          <a:prstGeom prst="rect">
            <a:avLst/>
          </a:prstGeom>
          <a:ln w="0">
            <a:noFill/>
          </a:ln>
        </p:spPr>
      </p:pic>
      <p:sp>
        <p:nvSpPr>
          <p:cNvPr id="65" name="Text Box 3"/>
          <p:cNvSpPr/>
          <p:nvPr/>
        </p:nvSpPr>
        <p:spPr>
          <a:xfrm>
            <a:off x="847800" y="955800"/>
            <a:ext cx="5049360" cy="28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view: Logarithm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(x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 = log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x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 log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(x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(x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/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x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 log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x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x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c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log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x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ata Structures and Algorithms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3108A-B4BB-42FA-A1B4-3D64105750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2" descr="cmu"/>
          <p:cNvPicPr/>
          <p:nvPr/>
        </p:nvPicPr>
        <p:blipFill>
          <a:blip r:embed="rId1"/>
          <a:stretch/>
        </p:blipFill>
        <p:spPr>
          <a:xfrm>
            <a:off x="762120" y="5486400"/>
            <a:ext cx="1523880" cy="1123920"/>
          </a:xfrm>
          <a:prstGeom prst="rect">
            <a:avLst/>
          </a:prstGeom>
          <a:ln w="0">
            <a:noFill/>
          </a:ln>
        </p:spPr>
      </p:pic>
      <p:sp>
        <p:nvSpPr>
          <p:cNvPr id="69" name="Text Box 3"/>
          <p:cNvSpPr/>
          <p:nvPr/>
        </p:nvSpPr>
        <p:spPr>
          <a:xfrm>
            <a:off x="746640" y="879480"/>
            <a:ext cx="6939720" cy="29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uppos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re both greater than 1, what is th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lation of log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x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 log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nc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 = a</a:t>
            </a:r>
            <a:r>
              <a:rPr b="1" lang="en-US" sz="1800" spc="-1" strike="noStrike" baseline="40000">
                <a:solidFill>
                  <a:srgbClr val="000000"/>
                </a:solidFill>
                <a:latin typeface="Times New Roman"/>
              </a:rPr>
              <a:t>log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800" spc="-1" strike="noStrike" baseline="40000">
                <a:solidFill>
                  <a:srgbClr val="000000"/>
                </a:solidFill>
                <a:latin typeface="Times New Roman"/>
              </a:rPr>
              <a:t>x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baseline="40000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log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</a:rPr>
              <a:t>log</a:t>
            </a:r>
            <a:r>
              <a:rPr b="1" lang="en-US" sz="1800" spc="-1" strike="noStrike" baseline="-8000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1800" spc="-1" strike="noStrike" baseline="40000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log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  </a:t>
            </a: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6019560" y="1676520"/>
            <a:ext cx="2820240" cy="119124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his is a constant.  So, any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wo logarithmic functions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iffer only by a constant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actor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Line 5"/>
          <p:cNvSpPr/>
          <p:nvPr/>
        </p:nvSpPr>
        <p:spPr>
          <a:xfrm flipH="1">
            <a:off x="4419360" y="2286000"/>
            <a:ext cx="1523880" cy="990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6"/>
          <p:cNvSpPr/>
          <p:nvPr/>
        </p:nvSpPr>
        <p:spPr>
          <a:xfrm>
            <a:off x="774360" y="3938760"/>
            <a:ext cx="7326720" cy="234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xample, suppose we know that an algorithm execut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g x instructions, where x is the size of the input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g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lg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</a:rPr>
              <a:t>log</a:t>
            </a:r>
            <a:r>
              <a:rPr b="1" lang="en-US" sz="1800" spc="-1" strike="noStrike" baseline="-8000">
                <a:solidFill>
                  <a:srgbClr val="000000"/>
                </a:solidFill>
                <a:latin typeface="Times New Roman"/>
              </a:rPr>
              <a:t>10</a:t>
            </a:r>
            <a:r>
              <a:rPr b="1" i="1" lang="en-US" sz="1800" spc="-1" strike="noStrike" baseline="40000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log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10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  </a:t>
            </a: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g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10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 * ~ 3.32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ata Structures and Algorithms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8A959-C106-44DB-9254-732C9A3513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2" descr="cmu"/>
          <p:cNvPicPr/>
          <p:nvPr/>
        </p:nvPicPr>
        <p:blipFill>
          <a:blip r:embed="rId1"/>
          <a:stretch/>
        </p:blipFill>
        <p:spPr>
          <a:xfrm>
            <a:off x="380880" y="5486400"/>
            <a:ext cx="1524240" cy="1123920"/>
          </a:xfrm>
          <a:prstGeom prst="rect">
            <a:avLst/>
          </a:prstGeom>
          <a:ln w="0">
            <a:noFill/>
          </a:ln>
        </p:spPr>
      </p:pic>
      <p:sp>
        <p:nvSpPr>
          <p:cNvPr id="76" name="Text Box 3"/>
          <p:cNvSpPr/>
          <p:nvPr/>
        </p:nvSpPr>
        <p:spPr>
          <a:xfrm>
            <a:off x="612360" y="879480"/>
            <a:ext cx="7315920" cy="35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number of bits in the usual binary notation for th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ositive integer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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g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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+ 1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 example, how many bits are required to represen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0  1  0  1  0  0  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 bits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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g41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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+ 1 = 5+1 = 6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64 32 16   8   4    2   1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0  1  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 bits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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g3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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+ 1 = 1+1 = 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4    2   1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ata Structures and Algorithms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74D6A-77CA-4E0E-90E8-297D9A985C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Picture 2" descr="cmu"/>
          <p:cNvPicPr/>
          <p:nvPr/>
        </p:nvPicPr>
        <p:blipFill>
          <a:blip r:embed="rId1"/>
          <a:stretch/>
        </p:blipFill>
        <p:spPr>
          <a:xfrm>
            <a:off x="609480" y="5562720"/>
            <a:ext cx="1524240" cy="1123920"/>
          </a:xfrm>
          <a:prstGeom prst="rect">
            <a:avLst/>
          </a:prstGeom>
          <a:ln w="0">
            <a:noFill/>
          </a:ln>
        </p:spPr>
      </p:pic>
      <p:sp>
        <p:nvSpPr>
          <p:cNvPr id="80" name="Text Box 3"/>
          <p:cNvSpPr/>
          <p:nvPr/>
        </p:nvSpPr>
        <p:spPr>
          <a:xfrm>
            <a:off x="897120" y="803160"/>
            <a:ext cx="7459200" cy="31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number of digits in the usual base 10 notation fo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positive integer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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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+ 1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 example, how many digits are required to represen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1?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  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2 digits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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1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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+ 1 =    1+1 = 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0  1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ata Structures and Algorithms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DBF55-9EC1-47C9-AA84-6A2B865D95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2" descr="cmu"/>
          <p:cNvPicPr/>
          <p:nvPr/>
        </p:nvPicPr>
        <p:blipFill>
          <a:blip r:embed="rId1"/>
          <a:stretch/>
        </p:blipFill>
        <p:spPr>
          <a:xfrm>
            <a:off x="457200" y="5334120"/>
            <a:ext cx="1523880" cy="1123920"/>
          </a:xfrm>
          <a:prstGeom prst="rect">
            <a:avLst/>
          </a:prstGeom>
          <a:ln w="0">
            <a:noFill/>
          </a:ln>
        </p:spPr>
      </p:pic>
      <p:sp>
        <p:nvSpPr>
          <p:cNvPr id="84" name="Text Box 3"/>
          <p:cNvSpPr/>
          <p:nvPr/>
        </p:nvSpPr>
        <p:spPr>
          <a:xfrm>
            <a:off x="592200" y="803160"/>
            <a:ext cx="7623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y function from reals to reals of the form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g(x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fo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ome constant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&gt; 0 is called a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imple power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y simpl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ower is an increasing function of its argument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and 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1/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are simple power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ata Structures and Algorithms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1DB56-92A1-4682-95A8-256E945490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2" descr="cmu"/>
          <p:cNvPicPr/>
          <p:nvPr/>
        </p:nvPicPr>
        <p:blipFill>
          <a:blip r:embed="rId1"/>
          <a:stretch/>
        </p:blipFill>
        <p:spPr>
          <a:xfrm>
            <a:off x="609480" y="5410080"/>
            <a:ext cx="1524240" cy="1123920"/>
          </a:xfrm>
          <a:prstGeom prst="rect">
            <a:avLst/>
          </a:prstGeom>
          <a:ln w="0">
            <a:noFill/>
          </a:ln>
        </p:spPr>
      </p:pic>
      <p:sp>
        <p:nvSpPr>
          <p:cNvPr id="88" name="Text Box 3"/>
          <p:cNvSpPr/>
          <p:nvPr/>
        </p:nvSpPr>
        <p:spPr>
          <a:xfrm>
            <a:off x="750600" y="803160"/>
            <a:ext cx="7358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 exponential function is one of the form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h(x) = c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ome constant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 &gt;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d 100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re exponential functions of x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29T01:00:53Z</dcterms:created>
  <dc:creator>Valued Gateway Customer</dc:creator>
  <dc:description/>
  <dc:language>en-US</dc:language>
  <cp:lastModifiedBy>Michael J Mccarthy</cp:lastModifiedBy>
  <cp:lastPrinted>2000-05-29T03:56:55Z</cp:lastPrinted>
  <dcterms:modified xsi:type="dcterms:W3CDTF">2022-02-01T18:45:20Z</dcterms:modified>
  <cp:revision>19</cp:revision>
  <dc:subject/>
  <dc:title>No Slide Title</dc:title>
</cp:coreProperties>
</file>