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8DCB-9921-4FB2-A36C-A2922E14E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31B-94B8-4031-A9FD-5B0018DF3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8C49-EE96-4217-B715-BB0FB505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3EA-83F6-41C5-8619-2A69A7FC8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56A8-7CAA-490C-8A6E-4DB76E09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4075-7F53-4EDD-982F-37EE7963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9C1F-CA9C-48E3-B04A-AC67E70EA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9AFF-061B-4A8E-B7C2-3A7816F6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C51-5C2A-4956-BD3A-EB7B19E4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CB82-0B64-421D-9B15-A1DDC413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FC0-6467-45D8-B33B-8D37EB52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2759-8656-48FC-8D59-602D03B5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99E-6639-42B2-AFE7-6F06DC24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0CB-CA07-40FA-8065-DE93B5F8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DCE8-4601-4EAE-95FF-B30FE51D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7E70-5141-4FB4-BC80-E8BF0BDA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1666-66F0-4E58-9D79-DC3001F3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FBD-1B17-4C7F-A194-0D1B0FAC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876B-E2D8-4497-ACE4-CA226DD0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A94C-7A48-45AE-AC0E-B370CF7A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6C60-CAB7-4ED4-940F-BF75531E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B4D-EF17-4DAE-91A5-95B338C4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E85-7AF4-4A82-B456-103CF11B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ED20-01C0-4036-9284-F1BCF2FA7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C6D-9749-439C-AAF1-B4AF21C9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762-18E8-47AE-88C1-9586069C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B6D-0B14-406E-9B57-0BDEC0DB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9E2-CAA5-417A-A210-41D556A4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284-26DE-4A2C-B44F-A9D87BDD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A66-B824-495C-8140-7FA2CDE7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7CE-BB52-45B2-B201-01E621A7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3F8-2E43-4F9D-95AF-050E4ABC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F0B-957A-4139-84BE-09111F30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464-EA33-49A0-8D2E-DD083CF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73D-9E91-45F9-9ECB-BC769C9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6E8-0288-4F53-96A6-79744F18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491-765B-4C12-B853-F6E663732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733-1246-4C73-B4B9-12CD7D4D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523880" y="1143000"/>
            <a:ext cx="6264360" cy="222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ics --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Structures and Their Algorith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Harry R. Lewis and Larry Denenberg (Harvard University:  Harper Collins Publish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045E-52D3-432B-B3F0-FA9E8AFB0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33520" y="1447920"/>
            <a:ext cx="7707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functions from reals to real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min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the rati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/ g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s without bound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s without bound.  In other words, if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i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&gt; c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(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minat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2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nce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c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2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ev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2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es not domin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2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nce the ratio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/ g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never larger than 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mu"/>
          <p:cNvPicPr/>
          <p:nvPr/>
        </p:nvPicPr>
        <p:blipFill>
          <a:blip r:embed="rId1"/>
          <a:stretch/>
        </p:blipFill>
        <p:spPr>
          <a:xfrm>
            <a:off x="685800" y="52578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445200" y="4572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Domin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99C-A118-4140-BCBB-7B23B127C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mu"/>
          <p:cNvPicPr/>
          <p:nvPr/>
        </p:nvPicPr>
        <p:blipFill>
          <a:blip r:embed="rId1"/>
          <a:stretch/>
        </p:blipFill>
        <p:spPr>
          <a:xfrm>
            <a:off x="9144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973800" y="879480"/>
            <a:ext cx="732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exponential function dominates any simple power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simple power dominates any logarithmic fun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9DEF-D675-48C1-B77E-EF43EC28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3640" y="609480"/>
            <a:ext cx="76273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the set of nonnegative integers {0,1,…}.  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the set of real numbers and 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the set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negative real numb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a function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en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s the s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ll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ch that, for s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ther words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bounded fr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 by a fixed multiple of 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iciently large values of the argu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68F-2A42-4C06-9FF6-A8D643A3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cmu"/>
          <p:cNvPicPr/>
          <p:nvPr/>
        </p:nvPicPr>
        <p:blipFill>
          <a:blip r:embed="rId1"/>
          <a:stretch/>
        </p:blipFill>
        <p:spPr>
          <a:xfrm>
            <a:off x="228600" y="5734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447200" y="0"/>
            <a:ext cx="596412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the case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f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constant multiple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f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(n) = 13n + 7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7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the definition is satisfied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7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000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 in the definition of O(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2DF2-AB08-4773-9D17-E6FD7C44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mu"/>
          <p:cNvPicPr/>
          <p:nvPr/>
        </p:nvPicPr>
        <p:blipFill>
          <a:blip r:embed="rId1"/>
          <a:stretch/>
        </p:blipFill>
        <p:spPr>
          <a:xfrm>
            <a:off x="228600" y="55627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044360" y="304920"/>
            <a:ext cx="778356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Little 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funct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set of all functions that 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ated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at is, the set of all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 there i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such th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&lt;  c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(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(n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(n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CC0-3DFC-42DD-938E-2F36FD730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mu"/>
          <p:cNvPicPr/>
          <p:nvPr/>
        </p:nvPicPr>
        <p:blipFill>
          <a:blip r:embed="rId1"/>
          <a:stretch/>
        </p:blipFill>
        <p:spPr>
          <a:xfrm>
            <a:off x="6858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822240" y="72720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Theorem:  Growth R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9560" y="2397240"/>
            <a:ext cx="76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The pow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55760" y="3394080"/>
            <a:ext cx="66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                               Intuit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n &lt;=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                             n &lt;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E91-6CBC-4892-88F0-4D1EE92A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9748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38440" y="102564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85880" y="3429000"/>
            <a:ext cx="2026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47000" y="22510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03F-3794-43D6-838F-EEC9FA292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917640" y="110160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0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06200" y="2327400"/>
            <a:ext cx="156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100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823C-73B3-4701-9DE7-A069D6AF7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cmu"/>
          <p:cNvPicPr/>
          <p:nvPr/>
        </p:nvPicPr>
        <p:blipFill>
          <a:blip r:embed="rId1"/>
          <a:stretch/>
        </p:blipFill>
        <p:spPr>
          <a:xfrm>
            <a:off x="685800" y="52578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927720" y="914400"/>
            <a:ext cx="492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95040" y="2092320"/>
            <a:ext cx="2511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B1D-468D-435E-BEF9-46D602F1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cmu"/>
          <p:cNvPicPr/>
          <p:nvPr/>
        </p:nvPicPr>
        <p:blipFill>
          <a:blip r:embed="rId1"/>
          <a:stretch/>
        </p:blipFill>
        <p:spPr>
          <a:xfrm>
            <a:off x="838080" y="53341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811800" y="873000"/>
            <a:ext cx="62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lt; 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37360" y="2251080"/>
            <a:ext cx="147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4B68-D820-4D26-8DCB-E9BD540B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533520"/>
            <a:ext cx="74073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: Logarithms, Powers and Exponenti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70680" y="1344600"/>
            <a:ext cx="75582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ny real greater than 1 and 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ny real greater than 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ogarithm to the ba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denoted 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defined to be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if 0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logarithmic function is a monotone increasing function of 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, that 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ovided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5E9D-582E-40D5-9F38-1D465A26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cmu"/>
          <p:cNvPicPr/>
          <p:nvPr/>
        </p:nvPicPr>
        <p:blipFill>
          <a:blip r:embed="rId1"/>
          <a:stretch/>
        </p:blipFill>
        <p:spPr>
          <a:xfrm>
            <a:off x="9144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898200" y="95580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Any constant funct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73440" y="2022480"/>
            <a:ext cx="429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32-bit add instruction O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42D-F4C3-412B-9DD2-58013E65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cmu"/>
          <p:cNvPicPr/>
          <p:nvPr/>
        </p:nvPicPr>
        <p:blipFill>
          <a:blip r:embed="rId1"/>
          <a:stretch/>
        </p:blipFill>
        <p:spPr>
          <a:xfrm>
            <a:off x="45720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17680" y="87948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Big-O only provides an upper bou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E697-C8E1-489B-811A-10479FF8F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67800" y="762120"/>
            <a:ext cx="753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Big Omega (Big- </a:t>
            </a:r>
            <a:r>
              <a:rPr b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tation is exactly the converse of Big-O notatio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lies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rows at most as quickly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lies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s at least as quickly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725280" y="3622680"/>
            <a:ext cx="208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f(n) =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5BD-4BC8-445B-A09D-DDD779425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026000" y="533520"/>
            <a:ext cx="542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Big theta (Big </a:t>
            </a:r>
            <a:r>
              <a:rPr b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t of function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s the ord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4A00-1848-4EED-AD7F-4164DC4E7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70680" y="1717560"/>
            <a:ext cx="836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 in the stand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. Let T(n) be the number of operations (comparisons) 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st 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og 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worst cas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n)    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    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   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9A7A-EE78-4B2D-85FA-9F87D684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94080" y="1717560"/>
            <a:ext cx="837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way. Let T(n) be the number of operations (comparison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og 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worst cas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   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CD8-02BA-42AF-8D2D-BAFFFDC1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64200" y="1717560"/>
            <a:ext cx="722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. 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) be the number of operations (comparisons) 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best cas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   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_____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_____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68BE-E41C-4D6B-BDFD-FC40A083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64200" y="1717560"/>
            <a:ext cx="722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. 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) be the number of operations (comparisons) 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best cas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  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False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Fals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A1C8-6696-44EA-A0D7-402C747C5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65280" y="1717560"/>
            <a:ext cx="726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want to delete the last item on a singly link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 Let T(n) be the number of operations (comparison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cases to consider: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g n)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Lg n)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045-EBC6-4BA9-A475-10A0EF3E9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65280" y="1717560"/>
            <a:ext cx="726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want to delete the last item on a singly link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 Let T(n) be the number of operations (comparison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cases to consider: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g n)   Fals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True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Lg n)    Tru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A103-DBF9-4EAC-84E7-D4B7A022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79400" y="879480"/>
            <a:ext cx="79088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bling the argument increases the base 2 logarithm by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44000">
                <a:solidFill>
                  <a:srgbClr val="000000"/>
                </a:solidFill>
                <a:latin typeface="Times New Roman"/>
              </a:rPr>
              <a:t>(log</a:t>
            </a:r>
            <a:r>
              <a:rPr b="1" lang="en-US" sz="1800" spc="-1" strike="noStrike" baseline="1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40000">
                <a:solidFill>
                  <a:srgbClr val="000000"/>
                </a:solidFill>
                <a:latin typeface="Times New Roman"/>
              </a:rPr>
              <a:t>) +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1800" spc="-1" strike="noStrike" baseline="44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1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44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1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2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159-AD22-42D1-AB8A-8A7378EF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911520" y="2057400"/>
            <a:ext cx="727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working with Big O,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be s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always consider only large n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addition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in the case down fir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then consi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g O,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and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ly, remember that sometimes “case” does not app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Algorithms and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8124-AEC9-49F6-9BCE-124B8FC9E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1022040" y="2438280"/>
            <a:ext cx="784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lass, we will mostly be analyzing algorithms (coun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) in terms of Big O, Bi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also be analyzed.  The lower bound for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 problem is the worst case running time of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st algorithm that solves that probl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, we will look at an argument that comparison b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Log n). What does that mea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36EE-0EA5-458E-A548-6BA41ACD8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847800" y="955800"/>
            <a:ext cx="5049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: Logarith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36D-F7DA-416D-8BD1-6DD1BBD9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mu"/>
          <p:cNvPicPr/>
          <p:nvPr/>
        </p:nvPicPr>
        <p:blipFill>
          <a:blip r:embed="rId1"/>
          <a:stretch/>
        </p:blipFill>
        <p:spPr>
          <a:xfrm>
            <a:off x="76212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46640" y="879480"/>
            <a:ext cx="69397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both greater than 1, what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 of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1" lang="en-US" sz="1800" spc="-1" strike="noStrike" baseline="40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-8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19560" y="1676520"/>
            <a:ext cx="2820240" cy="119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is a constant.  So, an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o logarithmic func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ffer only by a consta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419360" y="2286000"/>
            <a:ext cx="1523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74360" y="3938760"/>
            <a:ext cx="7326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uppose we know that an algorithm exec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g x instructions, where x is the size of the inpu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g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-8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* ~ 3.3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2B5-8D74-413C-A42A-C6887BF2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12360" y="879480"/>
            <a:ext cx="73159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bits in the usual binary notation for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how many bits are required to repre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0  1  0  0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bits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4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5+1 =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 32 16   8   4    2 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0  1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bits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1+1 =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   2 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DC1-6B06-49DD-8891-377B07D94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897120" y="803160"/>
            <a:ext cx="7459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digits in the usual base 10 notation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sitive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how many digits are required to repre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digit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   1+1 =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BDD8-0C9E-4F21-9C9A-FE932CFCE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cmu"/>
          <p:cNvPicPr/>
          <p:nvPr/>
        </p:nvPicPr>
        <p:blipFill>
          <a:blip r:embed="rId1"/>
          <a:stretch/>
        </p:blipFill>
        <p:spPr>
          <a:xfrm>
            <a:off x="457200" y="53341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92200" y="803160"/>
            <a:ext cx="762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function from reals to reals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constan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pow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simp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is an increasing function of its argu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simple pow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F9AB-C8C8-4538-AACE-81A7EFF8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mu"/>
          <p:cNvPicPr/>
          <p:nvPr/>
        </p:nvPicPr>
        <p:blipFill>
          <a:blip r:embed="rId1"/>
          <a:stretch/>
        </p:blipFill>
        <p:spPr>
          <a:xfrm>
            <a:off x="609480" y="541008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50600" y="803160"/>
            <a:ext cx="735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ponential function is one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x) = 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consta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10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exponential functions of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1:00:53Z</dcterms:created>
  <dc:creator>Valued Gateway Customer</dc:creator>
  <dc:description/>
  <dc:language>en-US</dc:language>
  <cp:lastModifiedBy>Michael J Mccarthy</cp:lastModifiedBy>
  <cp:lastPrinted>2000-05-29T03:56:55Z</cp:lastPrinted>
  <dcterms:modified xsi:type="dcterms:W3CDTF">2022-02-01T18:45:20Z</dcterms:modified>
  <cp:revision>19</cp:revision>
  <dc:subject/>
  <dc:title>No Slide Title</dc:title>
</cp:coreProperties>
</file>