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654-34CE-415A-9EAF-04ED0D88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65E-A9F2-489D-9506-6B33492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4A6-5F39-4AB9-81FB-75E063D2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86D-1A68-48D9-A456-06137708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F2A-E01B-4B00-84E3-3CF68E18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443-E5C0-4CF0-8635-7BF0F9B6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144-B6D1-463D-B03C-A02E68B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1E0-EC9C-4AC3-AD2A-116FE59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B8E-A892-4018-BAD8-BE9E990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466-5F46-4FAF-8D03-44A56BE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BFA-1E84-47EE-8357-57E3B5C9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289-0F3F-4690-9FC2-14D8093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FFD-99F6-4D84-A261-4C0EF7D29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8DC-EE0D-4610-A5B0-CDE89E8BA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any Problems are 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095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owers of Hanoi Puzz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C526-910A-4561-85AA-2E34DDA9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ning Towers in Java on an old P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950760" y="202248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Disks                 Time                   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                                38 Seconds          32,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                                76 Seconds          65,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6996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09480" y="358128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ning Towers in C++ on an old P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1089000" y="4648320"/>
            <a:ext cx="660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Disks                      Time             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                                 4 Seconds          32,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                                 8 Seconds          65,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A159-66C7-49BF-83A8-F0632949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formance (1/time) is impac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(Our interest in this cours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ock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chitecture (RISC vs. CISC for exa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o, it’s better to focus on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DE6-541D-41DD-9BA4-B8379F0D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++ Vs.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699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2057400"/>
            <a:ext cx="7788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much faster is C++ for this program on the old ma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= 1/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C++) =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Java) = 1/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(C++)  = N * Performance(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Performance(C++) / Performance(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= (1/8) / (1/76) = 76/8 = 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++ is 9.5 times as fas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DF3-618F-4459-B0F8-FB85E78C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riginal problem requires 64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ime required for the Java Solution  on the old P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s/Second = 65535/76 = 862 Moves/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s/Move = 76/65535 = .001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s/Program = Moves/Program * Seconds/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1 Moves/Program * .00116 Seconds/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 2.1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econds/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7BA7-A4E1-4E33-B990-2FBAC2B15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063440" y="304812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s / Program = Seconds/Program X Years/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.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1/3153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65,905,631 Years/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838080" y="2133720"/>
            <a:ext cx="247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837720" y="4495680"/>
            <a:ext cx="240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C++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4360" y="5181480"/>
            <a:ext cx="64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s/Program = 665,905,631/9.5 =  70,095,3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DDEE-2BA1-479C-A5CB-E9405B750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w About the World’s Fastest Machin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1600200"/>
            <a:ext cx="71629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anhe-1 is the world’s fastest (November 20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erforms 2,570 trillion (a million million) calculation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each calculation is a disk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s/Program = Moves/Program *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 1 Moves/Program * (2570 X 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.8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oves/Program * 3.89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econds/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 7002 Seconds/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.945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mework. What is the smallest value of n that would keep the Tianhe-1 busy for 10 year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88E-6247-452A-9EDD-52DADB078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Towers of Hano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roblems are computationally too difficult to solve in a reasonable perio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 an effective algorithm exists, we don’t have the time to wait for its comp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A343-76BE-4863-90A3-4599BD09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Towers of Hano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1895400"/>
            <a:ext cx="8092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itiall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posts (named Left, Middle,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disks on leftmos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ks are in order - each disk, except the bottom one,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s upon a larger d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all the disks on the leftmost post to the rightmost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. The original ordering must be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F63-F799-4F42-A31F-3F77733DC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650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500-2AE2-4449-809F-8A1F838A4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5936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714680" y="762120"/>
            <a:ext cx="5524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9C9-104D-4108-9394-158302A0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15040" y="1397160"/>
            <a:ext cx="8015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one disk may be moved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ks may not be set aside but must always be plac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rger disk may never be placed on top of a smaller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3D5-F636-4082-B80A-8C632B0C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27"/>
          <p:cNvSpPr/>
          <p:nvPr/>
        </p:nvSpPr>
        <p:spPr>
          <a:xfrm>
            <a:off x="689040" y="1295280"/>
            <a:ext cx="634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n = 3, the fastest solu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Middle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Right Post to Middle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Middle Post to Lef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Middle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rom Left Post to Right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nimum required number of moves is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87FC-EAA7-4B25-B9FE-CB4B0840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un-Ti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ks       Required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  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             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                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   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               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-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037840" y="32004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case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058360" y="4038480"/>
            <a:ext cx="326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Ω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eref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ε Big θ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Structures and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C60C-D82D-4CED-AD44-EE508C43E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Towers of Hanoi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901080" y="2022480"/>
            <a:ext cx="674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operations executed by this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less than or equal to some constant tim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say that this algorithm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operations executed by this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reater than or equal to some constant time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we say that this algorithm is Ω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36:18Z</dcterms:created>
  <dc:creator>mm6</dc:creator>
  <dc:description/>
  <dc:language>en-US</dc:language>
  <cp:lastModifiedBy>Michael McCarthy</cp:lastModifiedBy>
  <dcterms:modified xsi:type="dcterms:W3CDTF">2011-01-18T23:40:45Z</dcterms:modified>
  <cp:revision>26</cp:revision>
  <dc:subject/>
  <dc:title>Java Threads</dc:title>
</cp:coreProperties>
</file>