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AC757-8373-4852-A656-7933E4C09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FBD9B-F7DF-4AE7-96EB-1FC19415A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1DD01-EC8B-4150-8EB8-69BADB3CE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B369C-87D2-4D51-B770-95B61F9C9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0F2C7-FFE5-4F75-96C2-A77A5B3AF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0FFE9-1AFF-4376-BF04-B56DDE093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6FB35-9313-4859-BBAE-6011415C4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192E8-031D-43FD-8893-A4B73D330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13A40-7165-4CEA-A376-5FA0A7456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B8814-4018-4D37-9DB8-F34540A52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9AE9A-D55D-44E8-A730-017553109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A25CB-3BDC-4DA7-A8DD-57AE07F08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ata Structures and Algorith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F637C-7265-4626-98DD-3D6957FDDC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ata Structures and Algorith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8869A-0091-47D0-8D7A-4467E98C8E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Many Problems are Har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371240" y="2209680"/>
            <a:ext cx="609588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Towers of Hanoi Puzzl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ata Structures and Algorith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B8795-FF72-4A0F-A44E-B87A94875B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Running Towers in Java on an old PC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13"/>
          <p:cNvSpPr/>
          <p:nvPr/>
        </p:nvSpPr>
        <p:spPr>
          <a:xfrm>
            <a:off x="950760" y="2022480"/>
            <a:ext cx="660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mber of Disks                 Time                    Mo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                                   38 Seconds          32,76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                                   76 Seconds          65,5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14"/>
          <p:cNvSpPr/>
          <p:nvPr/>
        </p:nvSpPr>
        <p:spPr>
          <a:xfrm>
            <a:off x="669960" y="3774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15"/>
          <p:cNvSpPr/>
          <p:nvPr/>
        </p:nvSpPr>
        <p:spPr>
          <a:xfrm>
            <a:off x="609480" y="3581280"/>
            <a:ext cx="7772400" cy="838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Running Towers in C++ on an old PC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17"/>
          <p:cNvSpPr/>
          <p:nvPr/>
        </p:nvSpPr>
        <p:spPr>
          <a:xfrm>
            <a:off x="1089000" y="4648320"/>
            <a:ext cx="6607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mber of Disks                      Time              Mo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                                    4 Seconds          32,76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                                    8 Seconds          65,5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ata Structures and Algorith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85C7A-9E00-45AF-8B03-1B7981CDB1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Performance (1/time) is impacted by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algorithm   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(Our interest in this course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rogramm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lock spe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architecture (RISC vs. CISC for exampl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ompil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So, it’s better to focus on opera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ata Structures and Algorith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1735C-229D-4B29-952C-5C7A1B17DF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C++ Vs. Ja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3"/>
          <p:cNvSpPr/>
          <p:nvPr/>
        </p:nvSpPr>
        <p:spPr>
          <a:xfrm>
            <a:off x="669960" y="2098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685800" y="2057400"/>
            <a:ext cx="7788240" cy="448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How much faster is C++ for this program on the old machin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erformance = 1/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erformance(C++) = 1/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erformance(Java) = 1/7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erformance(C++)  = N * Performance(Jav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 = Performance(C++) / Performance(Jav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 = (1/8) / (1/76) = 76/8 = 9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++ is 9.5 times as fast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ata Structures and Algorith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ACCDA-F3DA-4904-A49F-C75D8E93DD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The Towers of Hanoi Puzz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original problem requires 64 disk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time required for the Java Solution  on the old PC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oves/Second = 65535/76 = 862 Moves/Seco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conds/Move = 76/65535 = .00116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conds/Program = Moves/Program * Seconds/Mo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2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64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- 1 Moves/Program * .00116 Seconds/Mo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~ 2.1 X 10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16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Seconds/Progr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ata Structures and Algorith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8F09C-0798-4DD9-B0F1-A57813D558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3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The Towers of Hanoi Puzz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13"/>
          <p:cNvSpPr/>
          <p:nvPr/>
        </p:nvSpPr>
        <p:spPr>
          <a:xfrm>
            <a:off x="1063440" y="3048120"/>
            <a:ext cx="6802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ears / Program = Seconds/Program X Years/ Seco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2.1 X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X 1/31536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665,905,631 Years/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838080" y="2133720"/>
            <a:ext cx="24768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he Java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837720" y="4495680"/>
            <a:ext cx="24058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he C++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684360" y="5181480"/>
            <a:ext cx="649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ears/Program = 665,905,631/9.5 =  70,095,32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ata Structures and Algorith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DC439-0217-4B83-B670-78872756DA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How About the World’s Fastest Machine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4"/>
          <p:cNvSpPr/>
          <p:nvPr/>
        </p:nvSpPr>
        <p:spPr>
          <a:xfrm>
            <a:off x="1066680" y="1600200"/>
            <a:ext cx="7162920" cy="521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Tianhe-1 is the world’s fastest (November 2010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performs 2,570 trillion (a million million) calculations per seco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se each calculation is a disk mo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conds/Program = Moves/Program * Seconds/Mo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   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= 2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64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- 1 Moves/Program * (2570 X 10 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Seconds/Mo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   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= 1.8 X 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19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Moves/Program * 3.89 X 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-16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Seconds/Mo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   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~ 7002 Seconds/Progr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   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= 1.945 hou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omework. What is the smallest value of n that would keep the Tianhe-1 busy for 10 years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ata Structures and Algorith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32A58-E3D4-4567-A04E-8596ECFA24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The Towers of Hano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me problems are computationally too difficult to solve in a reasonable period of ti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ile an effective algorithm exists, we don’t have the time to wait for its comple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ata Structures and Algorith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6AEEE-3996-4DDC-9BFD-62EB81BF80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The Towers of Hano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3"/>
          <p:cNvSpPr/>
          <p:nvPr/>
        </p:nvSpPr>
        <p:spPr>
          <a:xfrm>
            <a:off x="533520" y="1895400"/>
            <a:ext cx="8092800" cy="46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Initially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ree posts (named Left, Middle, Righ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 disks on leftmost p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disks are in order - each disk, except the bottom one,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ts upon a larger disk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Goa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ve all the disks on the leftmost post to the rightmost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ost. The original ordering must be preserv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ata Structures and Algorith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9D9EB-A822-4DFE-AFBD-E0AC693263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2"/>
          <p:cNvSpPr/>
          <p:nvPr/>
        </p:nvSpPr>
        <p:spPr>
          <a:xfrm>
            <a:off x="365040" y="270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3" descr=""/>
          <p:cNvPicPr/>
          <p:nvPr/>
        </p:nvPicPr>
        <p:blipFill>
          <a:blip r:embed="rId1"/>
          <a:stretch/>
        </p:blipFill>
        <p:spPr>
          <a:xfrm>
            <a:off x="2057400" y="762120"/>
            <a:ext cx="529596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ata Structures and Algorith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372E6-4D6C-429A-9359-2345678EC2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"/>
          <p:cNvSpPr/>
          <p:nvPr/>
        </p:nvSpPr>
        <p:spPr>
          <a:xfrm>
            <a:off x="593640" y="345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3" descr=""/>
          <p:cNvPicPr/>
          <p:nvPr/>
        </p:nvPicPr>
        <p:blipFill>
          <a:blip r:embed="rId1"/>
          <a:stretch/>
        </p:blipFill>
        <p:spPr>
          <a:xfrm>
            <a:off x="1714680" y="762120"/>
            <a:ext cx="5524200" cy="552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ata Structures and Algorith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8E85F-FE75-480B-AD81-FACE99F502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77240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The Towers of Hanoi Puzz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815040" y="1397160"/>
            <a:ext cx="8015400" cy="23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onstraint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nly one disk may be moved at a 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sks may not be set aside but must always be placed 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po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larger disk may never be placed on top of a smaller dis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ata Structures and Algorith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579BC-5D07-4AC7-8B99-4F0CC23DA9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The Towers of Hanoi Puzz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1027"/>
          <p:cNvSpPr/>
          <p:nvPr/>
        </p:nvSpPr>
        <p:spPr>
          <a:xfrm>
            <a:off x="689040" y="1295280"/>
            <a:ext cx="63464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 n = 3, the fastest solution 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ve from Left Post to Right P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ve from Left Post to Middle P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ve from Right Post to Middle P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ve from Left Post to Right P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ve from Middle Post to Left P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ve from Middle Post to Right P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ve From Left Post to Right P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minimum required number of moves is 7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ata Structures and Algorith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0BFE7-634F-4BDE-895B-8007A13AE1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The Towers of Hanoi Puzz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62120" y="17521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Run-Time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sks       Required Mov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                  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                  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                   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                   1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5                   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:                   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N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2000" spc="-1" strike="noStrike" baseline="30000">
                <a:solidFill>
                  <a:srgbClr val="3333cc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- 1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Box 5"/>
          <p:cNvSpPr/>
          <p:nvPr/>
        </p:nvSpPr>
        <p:spPr>
          <a:xfrm>
            <a:off x="5037840" y="3200400"/>
            <a:ext cx="394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are no cases to consid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Box 6"/>
          <p:cNvSpPr/>
          <p:nvPr/>
        </p:nvSpPr>
        <p:spPr>
          <a:xfrm>
            <a:off x="5058360" y="4038480"/>
            <a:ext cx="3262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1 ε Big O(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1 ε Big Ω(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, therefore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1 ε Big θ(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ata Structures and Algorith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46BC9-BC7A-4A7D-87A3-67C909B865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The Towers of Hanoi Puzz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14"/>
          <p:cNvSpPr/>
          <p:nvPr/>
        </p:nvSpPr>
        <p:spPr>
          <a:xfrm>
            <a:off x="901080" y="2022480"/>
            <a:ext cx="67446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number of operations executed by this algorith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less than or equal to some constant times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, we say that this algorithm is O(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number of operations executed by this algorith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greater than or equal to some constant times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, we say that this algorithm is Ω(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8T22:36:18Z</dcterms:created>
  <dc:creator>mm6</dc:creator>
  <dc:description/>
  <dc:language>en-US</dc:language>
  <cp:lastModifiedBy>Michael McCarthy</cp:lastModifiedBy>
  <dcterms:modified xsi:type="dcterms:W3CDTF">2011-01-18T23:40:45Z</dcterms:modified>
  <cp:revision>26</cp:revision>
  <dc:subject/>
  <dc:title>Java Threads</dc:title>
</cp:coreProperties>
</file>