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4C49-8B4E-4591-9528-30F2C1989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1735-86A5-4A44-80E9-B62139C64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084B-0D21-4BCF-9130-9E0C86FC2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62BF-3EB9-4F92-AE82-AE0AAA4EC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8601-2C0F-4646-B905-D16F04BCB2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38F5-9BF4-48F8-8881-636D8CE12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3E73-4E90-41BF-B09E-389928D9D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B09A-FD26-46F5-A2B5-B57CD296F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C133-EF47-4B62-911B-B0190CEA0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1EC9-1911-44DD-B52E-812F7C06C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9FCD-20C3-4250-9C8C-A2CD8E8D5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D621-04EF-4076-8F7C-1FB99D166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939E-8096-47BF-AE18-B3050AD0F31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omaha.mt.cs.cmu.edu/90-723/PowerPoint/Main_02_OOP.ppt" TargetMode="External"/><Relationship Id="rId2" Type="http://schemas.openxmlformats.org/officeDocument/2006/relationships/hyperlink" Target="http://omaha.mt.cs.cmu.edu/90-723/PowerPoint/Main_02_OOP.ppt" TargetMode="External"/><Relationship Id="rId3" Type="http://schemas.openxmlformats.org/officeDocument/2006/relationships/hyperlink" Target="http://omaha.mt.cs.cmu.edu/90-723/PowerPoint/Main_02_OOP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1B09-220A-4CB4-81D0-7CA58FFC3BF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2: Ba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DA60-3D44-4FBF-9A14-7E92193DE46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alyzing Progra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unt operations, not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s 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ll ste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, a single program statement; an arithmetic operation; assignment to a variable;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. of operations depends on the inp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aller the tower, the larger the number of operat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B3A5-1A88-4645-B411-54BA3228D96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alyzing Progra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ime analysis depends on the input, time (in operations) can be expressed by a formu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1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2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3: no. of digits in numb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3581280" y="4114800"/>
                <a:ext cx="3733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3581280" y="3200400"/>
                <a:ext cx="533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3505320" y="5562720"/>
                <a:ext cx="1371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A299-097E-45FD-8C59-1C2C521EFC0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g-</a:t>
            </a:r>
            <a:r>
              <a:rPr b="0" i="1" lang="en-US" sz="4400" spc="-1" strike="noStrike">
                <a:solidFill>
                  <a:srgbClr val="3333cc"/>
                </a:solidFill>
                <a:latin typeface="Verdana"/>
              </a:rPr>
              <a:t>O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No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magnitud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number of oper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ss precise than the exac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useful for comparing two algorithms as input grows lar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gh idea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 in the formula which grows most quickl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CCBA-9EB0-4991-A957-EBEE73C5E88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g-</a:t>
            </a:r>
            <a:r>
              <a:rPr b="0" i="1" lang="en-US" sz="4400" spc="-1" strike="noStrike">
                <a:solidFill>
                  <a:srgbClr val="3333cc"/>
                </a:solidFill>
                <a:latin typeface="Verdana"/>
              </a:rPr>
              <a:t>O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No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dratic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st term no more t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n-square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ing the input increases the number of operations approximately 4 times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2(100) = 10,2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2(200) = 40,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6477120" y="2209680"/>
                <a:ext cx="8380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410080" y="2743200"/>
                <a:ext cx="730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F678-485C-4C75-8F72-C360020CD66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g-</a:t>
            </a:r>
            <a:r>
              <a:rPr b="0" i="1" lang="en-US" sz="4400" spc="-1" strike="noStrike">
                <a:solidFill>
                  <a:srgbClr val="3333cc"/>
                </a:solidFill>
                <a:latin typeface="Verdana"/>
              </a:rPr>
              <a:t>O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No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ear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st term no more t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ing the input increases the number of operations approximately 2 times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1(100) = 3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1(200) = 6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6535800" y="2266920"/>
                <a:ext cx="718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3886200" y="2743200"/>
                <a:ext cx="7509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AA9B-53A0-49A8-8F1D-30DC910E3DD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g-</a:t>
            </a:r>
            <a:r>
              <a:rPr b="0" i="1" lang="en-US" sz="4400" spc="-1" strike="noStrike">
                <a:solidFill>
                  <a:srgbClr val="3333cc"/>
                </a:solidFill>
                <a:latin typeface="Verdana"/>
              </a:rPr>
              <a:t>O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No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arithmic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st term no more t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log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ing the input increases the running time by a fixed number of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3(100)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3(1000)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4495680" y="2743200"/>
                <a:ext cx="1238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400800" y="2209680"/>
                <a:ext cx="1387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E4EA-489E-4ECF-A423-0CAD6F3862C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n-time expressed with big-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algorith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ants ignored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3429000" y="1676520"/>
                <a:ext cx="750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3429000" y="2209680"/>
                <a:ext cx="892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3429000" y="2819520"/>
                <a:ext cx="12384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1143000" y="4952880"/>
                <a:ext cx="44481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de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rder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6EB-95F0-4E96-8C3B-0973D740571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r allows us to focus on the algorithm and not on the speed of the proces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dratic algorithms can be impractically s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73CF-5942-4544-A60C-2EBD284862C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aris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062000" y="1758960"/>
          <a:ext cx="7461360" cy="42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758960"/>
                    <a:ext cx="746136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Line 5"/>
          <p:cNvSpPr/>
          <p:nvPr/>
        </p:nvSpPr>
        <p:spPr>
          <a:xfrm>
            <a:off x="685800" y="27432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1C6-4D70-4EB1-AAC8-8270E0546BC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of Java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ethod (p. 26)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boolean search(double[] data, double target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 i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(i=0; i&lt;data.length; i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(data[i] == target) return tru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fals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C071-DDD1-4579-90C6-1EE2EB522CF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oday</a:t>
            </a:r>
            <a:r>
              <a:rPr b="0" lang="ja-JP" sz="4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Topic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 to Running-Time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mary of Object-Oriented Programming concepts (see slides on schedule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F9AD-5F96-422D-8BEE-B76CF34E51E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of Java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s: assignment, arithmetic operators,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p start: two operations: initialization assignment, end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p body: n times if input not found; assume constan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: on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743200" y="5105520"/>
                <a:ext cx="1959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C321-1FE7-4BC6-B440-660B990CA41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of Java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loop that does a fixed number of operation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imes i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5C58-46AB-41A7-89B0-EABB33E6645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ime Analysis of Java Method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worst-c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maximum number of operations for inputs of given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average-c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verage number of operations for inputs of given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best-c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fewest number of operations for inputs of given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any-c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no cases to consid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n the case down and think about n growing large – never smal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7EA0-439F-448B-8686-810FF58F7ED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bject-Oriented Overview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Slides from Main</a:t>
            </a:r>
            <a:r>
              <a:rPr b="0" lang="ja-JP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s L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27C0-4221-4C0C-A051-310FE82ECDB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unning Time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soning about an algorith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sp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it work fast enough for my needs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longer when the input gets larger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algorithm is fastest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2A98-FA81-4B95-8689-7364F0BC5BD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lapsed Time vs.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No. of Opera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: Why not just use a stopwatch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: Elapsed time depends on independent fa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of operations carried out is the same for two runs of the same code with the same arguments -- no matter what the environment might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A5FB-6AB8-48A3-9EB4-D36C174BF35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people at the top of the Eiffel T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methods to count the ste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walks down, keeping a t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walks down, but Y keeps the t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provides the answer immediately (2689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2D39-B4CB-4318-A3C2-C94B8C02503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osing the operations to cou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ual time? Varies due to several factors not related to the efficiency of the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time X walk up or down one step = 1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time X or Y marks a symbol on the paper = 1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77B9-17D7-4F86-8F46-EB2677C9EE1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operations for each of the 3 method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1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689 steps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689 steps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689 marks on the 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67 tot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B63E-E69B-4A23-948E-256F5B35FF0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2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616,705 steps down (1+2+…+2689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616,705 steps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689 marks on the 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,236,099 tot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2453-D1CF-4D14-9E01-D2D427E21AD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2: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air-Counting Probl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steps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steps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marks on the paper (one for each digi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tot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hael McCarthy</cp:lastModifiedBy>
  <cp:lastPrinted>1999-05-17T11:10:33Z</cp:lastPrinted>
  <dcterms:modified xsi:type="dcterms:W3CDTF">2014-09-03T20:21:42Z</dcterms:modified>
  <cp:revision>24</cp:revision>
  <dc:subject/>
  <dc:title>No Slide Title</dc:title>
</cp:coreProperties>
</file>