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8D7C-5B25-4F2D-9C03-4BF148464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B2B7-DDA3-4843-A987-ED4FDECB7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3432-1406-4EFC-B658-FC7453757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D47D-D33E-421C-8DD5-0844DB279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A961-334B-4106-A2A9-5F2F9CD41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3C4A-7E93-4368-83DB-AB4041930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A3CF-950D-4114-89D8-A66A92145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585-2C49-439C-A78D-503BBCC85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A3CA-B05C-4D4A-9CA9-35C6E2FC3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20D5-1A74-4BC6-81FC-6491B671B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35F8-3F11-4370-96E9-440DF3875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3519-5CE9-453E-BBB8-A5E60A4B5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5CDA-DEE5-4BAB-A138-614EBDD55FD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2_OOP.ppt" TargetMode="External"/><Relationship Id="rId2" Type="http://schemas.openxmlformats.org/officeDocument/2006/relationships/hyperlink" Target="http://omaha.mt.cs.cmu.edu/90-723/PowerPoint/Main_02_OOP.ppt" TargetMode="External"/><Relationship Id="rId3" Type="http://schemas.openxmlformats.org/officeDocument/2006/relationships/hyperlink" Target="http://omaha.mt.cs.cmu.edu/90-723/PowerPoint/Main_02_OOP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CD5E-7A90-4EAB-A7D2-B1600C3D83D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2: Ba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FDFA-EF55-4F6E-8114-60A1918C698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zing Progra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 operations, no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s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ste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a single program statement; an arithmetic operation; assignment to a variable;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. of operations depends on the inp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aller the tower, the larger the number of operat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930-0782-407F-A519-FE3E1EACD34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zing Progra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ime analysis depends on the input, time (in operations) can be expressed by a formu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1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2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3: no. of digits in numb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581280" y="4114800"/>
                <a:ext cx="3733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3581280" y="3200400"/>
                <a:ext cx="533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505320" y="5562720"/>
                <a:ext cx="1371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B04B-8809-420D-98DF-A97F4C3E980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agnitud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number of oper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ss precise than the exac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useful for comparing two algorithms as input grows lar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gh idea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 in the formula which grows most quickl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D3B-D9CB-4A53-8FF7-E8988565CE3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atic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n-square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number of operations approximately 4 times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2(100) = 10,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2(200) = 40,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6477120" y="2209680"/>
                <a:ext cx="838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410080" y="2743200"/>
                <a:ext cx="730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18B-9C36-4572-B55C-278E431E059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number of operations approximately 2 times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1(100) = 3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1(200) = 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535800" y="2266920"/>
                <a:ext cx="718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886200" y="2743200"/>
                <a:ext cx="750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3EE-5CC6-407F-89D0-D102885E3B7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arithmic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log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running time by a fixed number of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3(100)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3(1000)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495680" y="2743200"/>
                <a:ext cx="123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400800" y="2209680"/>
                <a:ext cx="1387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0DE-764E-4401-BB8E-A2740EF7C34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-time expressed with big-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algorith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ants ignore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429000" y="1676520"/>
                <a:ext cx="750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3429000" y="2209680"/>
                <a:ext cx="892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429000" y="2819520"/>
                <a:ext cx="1238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1143000" y="4952880"/>
                <a:ext cx="44481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0B3-F2D2-4F49-81A4-B7F95912DEF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 allows us to focus on the algorithm and not on the speed of the proces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atic algorithms can be impractically s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1ED8-272F-4EFD-96C2-36D891FC434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s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062000" y="1758960"/>
          <a:ext cx="746136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58960"/>
                    <a:ext cx="74613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Line 5"/>
          <p:cNvSpPr/>
          <p:nvPr/>
        </p:nvSpPr>
        <p:spPr>
          <a:xfrm>
            <a:off x="685800" y="27432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BDC-6706-416E-A7EF-A2FF16BFCEC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ethod (p. 26)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boolean search(double[] data, double target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i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(i=0; i&lt;data.length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data[i] == target) return tru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fals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A6D-7353-469C-85CB-2BCDAC99A99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 to Running-Time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 of Object-Oriented Programming concepts (see slides on schedu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EA20-3174-4C50-8813-F4817DCF6FA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: assignment, arithmetic operators,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start: two operations: initialization assignment, end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body: n times if input not found; assume consta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: on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743200" y="5105520"/>
                <a:ext cx="195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C1C6-A34D-4319-961B-D2AB99C379D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loop that does a fixed number of operation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imes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E1F-3F42-4A93-897A-D4BE353A4D2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orst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maximum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verage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verage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best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ewest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any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cases to consid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n the case down and think about n growing large – never sm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7A8D-D63E-4153-B158-D0E45E09D9A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bject-Oriented Overview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Slides from Main</a:t>
            </a:r>
            <a:r>
              <a:rPr b="0" lang="ja-JP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L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2C76-39DD-4064-B49F-115E4569B39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unning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ing about an algorith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sp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it work fast enough for my needs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longer when the input gets larger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algorithm is fastest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07C7-57A6-4621-8BFB-03D7DCD611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lapsed Time vs.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o. of Oper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: Why not just use a stopwatc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 Elapsed time depends on independent f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operations carried out is the same for two runs of the same code with the same arguments -- no matter what the environment might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C1A-F500-4A00-AF48-30E81FF4B73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eople at the top of the Eiffel T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methods to count the 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walks down, keeping a 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walks down, but Y keeps the 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rovides the answer immediately (2689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943-F6DD-4771-849A-08699C81195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ing the operations to 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 time? Varies due to several factors not related to the efficiency of the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time X walk up or down one step = 1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time X or Y marks a symbol on the paper = 1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A7D-5C3F-4812-A4DA-19C54390BCC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operations for each of the 3 metho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step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marks on the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67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582-A610-49D8-BEE2-518EF815329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616,705 steps down (1+2+…+268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616,705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marks on the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236,099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5D4-1CF7-4524-B79D-6C28A3A2791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step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rks on the paper (one for each digi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McCarthy</cp:lastModifiedBy>
  <cp:lastPrinted>1999-05-17T11:10:33Z</cp:lastPrinted>
  <dcterms:modified xsi:type="dcterms:W3CDTF">2014-09-03T20:21:42Z</dcterms:modified>
  <cp:revision>24</cp:revision>
  <dc:subject/>
  <dc:title>No Slide Title</dc:title>
</cp:coreProperties>
</file>