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20D7-20D0-446B-B314-5894A9BF7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E97D-2CC8-499E-B422-790F3BDA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192F-3BC4-4FBE-AF1B-D8368B38D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944C-C047-40C4-8760-0B67CB02D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C09-FD1F-4549-82B2-2FA16DB05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E937-2CAE-4635-8827-BEBE26531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83FE-8ED1-4236-9DA9-F2F59BAC7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BD73-A5BB-4F1E-9D13-7C895E9C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F33A-74EE-471E-948D-8B6986551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3209-4D2F-4620-B43D-59F9F54BD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B257-6944-42E5-A2EF-8FA0C68F9B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8D736-74A1-4F42-897B-628066A68E2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EA0EB-7065-4FF0-9704-F46B4FAD6D4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89696-F0A2-4D81-90CA-B654DAC5A9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258EE-4A96-4CE0-AC00-4D053119B25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DC12B-D09D-4D6B-8F86-CF81EA0027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AC1E1-7DE6-4BAA-88F0-7648932C52C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050B7-70A8-42D1-9618-564E247F2E5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4B645-2F49-420B-8639-06A4EAF97B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E5B78-3461-4435-A166-8FCFDDE8DB0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6C6771-7915-4C6C-8C82-C94D93322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E188-C73A-464D-A110-51AD9515E4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4AFC9-7593-495B-AD31-9FDD5BE245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BB297E-8612-44AD-ADE9-B70AB04A19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232CF-8756-4C61-AD4B-997F0FF6B4E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79C524-A3DF-47D8-87E5-C1D20485A78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1485FE-EA62-4A83-9F31-5BC4AE1B7FD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91127F-CD18-4655-A4EC-6FE16E98517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608364-21AD-4BB9-AE47-EAD3AE449C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6C9D58-05E2-4CC7-9B8D-7E00350222B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3B874-B38C-45C1-9378-8A8EA5EB9C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D660E3-421A-4C5D-B2E5-3BB62806A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11B1-1C5F-4CCB-AF9D-96CCA071075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25EB31-BF8C-45B2-BA19-BF75322BBC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AD6FE-60C4-4803-B144-E1A65FD79FB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1B430-922C-479D-8030-573437E55FD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AF65E-3F04-4987-943E-104821BBFC5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7C08-EE13-41E4-8FAE-E7C98B264B7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948D7-9010-4CE1-B0F4-0EF5FFBDE9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E2377-E3A0-4042-AE39-AAF1E8E6C2A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66DDE-F855-4F42-9711-0E981C276F4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26989-50CD-4B01-BC1B-D2035B3B4A4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FB03-E06F-4AFD-91D9-F4A0D2B6C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34B-536F-4C05-94B0-996C6F92917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9C563-3EFF-4E18-BADF-329B1A1AB5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445C5-8893-4C83-8575-89279DCA393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8A393-E14B-4A94-AAE9-5BF27B1B8F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7F035A-D355-4ED7-BC9E-4C7C1BECEB8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0D54FC-7536-4D20-AEAB-A0BC1DD011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79CA5C-8161-4ADB-9BD0-956BDE5EFC7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86E678-C71A-4A47-9607-BD72C7880D8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FF32C-487B-42A9-9A28-C8EE261B55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0CF73-79E3-461C-AC40-6E783C6B71D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E998FD-6297-4654-873B-BEBA2C5FE6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782-3B11-4EE0-8C01-F350731A158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52E577-F36F-420A-B3EF-09E81123481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B0C1B8-649F-4F19-9181-A952A0822F7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8A121-2BA6-4E1A-BC76-F51445A20CE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2D318A-2A0C-49F6-A5D3-88186B40EE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D2BFE-119A-4291-B577-072BAD3E33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5BC-0332-4B76-B323-3190BED1D2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A68-0F0A-4292-8D20-D46F370A73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4D7-CD57-4544-BBF5-FB0428903A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D73-E0BC-4032-93EF-CBA73E5A1A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B85-29D0-4A3C-848D-64C587CC0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8064-3160-4594-9D12-2A0A38745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534-7980-447E-8736-3FA65376BB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4D7-55F1-400C-9A1B-6C7A7B41E6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887-7A9B-437E-A86C-7614A24D0E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3CD-91B2-4093-8D2A-48A6A0C601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2B6-55CE-48A4-BF00-73A73F9F19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B955F-C990-4972-98B7-B0AB7BAFE4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C6F1A-1832-493A-AC05-75F96A6A56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56BD1-D07C-4D90-B42D-9431C3E04E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9642E-21CC-4F5F-A6A8-7FBB76B2F5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9603D-CA82-47D4-8488-F10A5282BA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F637-EE2E-44A7-8DDA-1CD4B30248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C488D-D692-4CDE-B9B7-AC4FA3729C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28E8E-7613-4504-B7DA-F826B1AD5B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39384-E5AC-45CA-A077-E041DE65C4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9D669-F0E6-4B5D-B7BE-023F739E5C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67D8D-69FD-448A-964E-7FB4ABDC7B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BD1C9-8674-4735-A814-A99FEAFDC9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9F347-53A8-4C2A-9998-6F6F3C0447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C0801-18E4-4178-BF10-21E9C5AD16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2FC0F-1A52-4582-AC9E-82F729D5DE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D08A8-7C53-4916-82E5-803C453AE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0C02-98FA-4F01-84C1-D2B08DCA92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D92CF-8C37-44C9-88DF-85F705EF9A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A83D8-7098-48B8-AAFB-5E0A6D6A4C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3D20E-A064-484A-B59F-C1542CF169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18DD0-9AC8-4CF2-9F47-588053FE1A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C82D4-925B-4C86-BB5B-A9354364D3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AF0C4-B42E-4506-A9C0-3486165CF2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37014-195B-4472-9464-6CBD66CCD3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63F86-218B-44EE-A735-586793231A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14B77-6AB3-4137-8C76-3A537D96C7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73AD-B579-4BA4-A9C8-AA62D60B0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27E8-542E-42DA-AAD3-1B9B4E654B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EBB6-510A-4BF5-83C3-ABCC5C8ED4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507D-3D04-4DBA-91FE-22D3D820A6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6F2C-A630-4F81-A43F-8F12B79D77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8987-1DDF-4DA9-8817-FED1446D04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7CCB-C276-4387-BE7F-C64ECB7AB33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C32C-8F84-4714-9F26-46784E31A3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EBF9-1EBC-4F65-9CF0-8BFA00C953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1487-9DFB-48A4-B1C5-DAC1A512EFF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B6B7-62EA-4855-A984-13E682B2F3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4A80-6D91-4014-AD1D-BCF87A627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F8BB-93BB-406A-9CF4-F40484DCBC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CFC8-4B11-4F77-8024-A279962238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81E64-3768-4412-B430-2FA3F0F741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558DF-A6ED-45B0-A361-C9091DACED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7DC82-38E0-495F-B89F-84A84C6359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FE652-4FA4-44F6-8A47-15AAC5A498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13BCB-F914-4CF5-A8E5-710EEADB21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81928-05DA-4DC0-AE65-95D3DA3B5D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D5627-4030-42E9-A812-0EFD2FA7715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80B04-F4B3-4E42-BDC1-8D8BB6AE42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EA22A-E5F5-4CDE-B040-6E0BFF053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58D9-540A-40A3-8D7E-EE2E01442B6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5EABF-9D9B-4A83-99DD-BCDE1C419C4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67EF8-32B8-4005-9C23-40C41E2C9C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7BE1E-7CBF-4083-8F4F-CAC73156A3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6915C0-9221-46AE-B644-71280F75F3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6B23C9-B8A9-466B-BAEE-0BC95B1D82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81FF28-66B7-4C68-9499-B4C0B2C151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19E02C-3764-45E2-AF7B-70F75035EE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7A902-B315-4141-9376-CE83B4EA19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15AEB2-90AC-4ADD-B2A7-A6A2C7C962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9B20EB-6BB6-41F8-88DA-D201245B8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B104-8148-4FB7-8546-D857D3B764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47A4BE-1EC8-4447-B680-BE2D8234E11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41F22-322E-469F-8433-5A67ED702F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07A763-8054-432E-8DCD-C37545C26E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5E19C-5018-4353-8D18-DEBFAAB1A8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49C489-9469-436C-81F4-F7F621CAB4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66E0A-507E-4A93-B214-0897ADF662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DAB95-5D49-4AD6-B240-2F8F2BAEC1D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D9B3-5738-4956-91F4-32338A46BD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0EF37-C9A9-49BA-BE4D-E1A759646F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E42E3-858D-4A56-B1A1-3E863632C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2142-695C-4CAE-8B89-E18C14AE93F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F7D5-47F1-47B7-A05D-BFD0841A74B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F480-33BB-48C2-8A76-B7DBF6C746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3DE38-8EFC-481A-916A-F265D6E261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FD09-41C4-4761-A84F-ADA31F6CD46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A60B-353F-4BE7-8F61-10FEF616D9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CA4CF-44AE-4125-9868-C51C859CDA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0D5A2-92DD-4DF2-AAD5-C1009700FAC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B2536-BA57-4FED-AB64-AF030FF52C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99C7D-2FB2-4AF6-BA2D-6A38E7DB084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F129D-8984-4AC5-9FAA-44FB22CE8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CD5D-2868-48B4-A008-0C35B7DD46A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C346-DDF2-4EA8-8CD4-2EB0E923528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BEBC-BF7A-4875-A7C3-E2912FAD07B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337E-F409-426C-8FF7-3DE5653A7FB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B7C7-C2C3-47C0-9FD3-2888A0A0474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FDBE-0FE7-4F93-A71B-B3E500A7AA8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0ED5-34F0-4088-9DF9-D0915E9BA1E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314F-5278-4C74-BA6F-A0DF77525A5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8304-82A7-42B5-B4B5-34124FB94CE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B7EC-958E-465D-A40E-21A346C367B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07D2-9128-4418-97BF-1E89EBFBCAD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03BA-4C0A-4B66-ADAA-79375852240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F734-C270-4F3C-B65F-48166F43693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1: Introd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5CBB-CA6D-4D82-B0C6-6288B2C0738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1: Understand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sp the datatype at the level of concepts and pictu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g., visualize a stack and the operations of pushing / pop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stand simple 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ulate by h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g., use a stack to reverse the order of letters in a 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4C25-8174-42FB-A8C3-58DE8E7356D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2: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 specification for a Java class that could implement the datatype (see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javadoc Appendix 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dings for constructor, public methods, public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s precondition / postcondition for each meth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of implementatio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01D7-CFE1-4F31-9057-021AA9213B6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3: Appl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specification, write small applications to illustrate the use of the data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st the specification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ior to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de not yet compiled /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A3D3-CBA2-4E5B-A8AC-3D077FC64E5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4: 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appropriate data 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as private class v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rules relating instance variables to abstract specific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AD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method knows the invariant is true when it st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method upholds the invari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FC77-4A86-459A-A60C-A0C7597E4F6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5: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t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possible, compare different implementations of the same AD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Analys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of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-O notation, e.g.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5356080" y="5186520"/>
                <a:ext cx="1251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Rectangle 1"/>
          <p:cNvSpPr/>
          <p:nvPr/>
        </p:nvSpPr>
        <p:spPr>
          <a:xfrm>
            <a:off x="6899040" y="5303880"/>
            <a:ext cx="1020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Θ(n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2571-C00E-46EF-A52F-7E4BB5B3CDA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hases of Software Developmen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ation of the Tas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 of a 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of the 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nning Time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sting and Debug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and Ev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solesc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7962-49AD-4D20-AEC6-2242D220AA7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Java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ived in 1991 at Su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as Similarities to C++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s simpler than C++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formation hid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mponent re-us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ograms (methods) and data are grouped together into </a:t>
            </a:r>
            <a:r>
              <a:rPr b="0" i="1" lang="en-US" sz="2700" spc="-1" strike="noStrike">
                <a:solidFill>
                  <a:srgbClr val="ff0066"/>
                </a:solidFill>
                <a:latin typeface="Verdana"/>
              </a:rPr>
              <a:t>clas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will not be using the collection clas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6395-3405-4939-871E-B9C316F19E6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at You Should Know Alread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use a Java development environment (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jav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java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javado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write, compile, and run short Java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va primitive types (number types, char, boolean) and arr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sy to pick up with prior programming experi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BAE8-B8E9-402F-8922-9A8BB0B0861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pecifying a Java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ation: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 method does not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t does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form of information hiding called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rocedural abstr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ignature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double celsiusToFahrenheit(double 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cal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uble fahrenheit = celsiusToFahrenheit(celsiu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A12C-3BBE-407C-BE75-3068F9105A6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lements of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ort Introd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ameter Descri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u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y the meaning of return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ow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ror conditions (</a:t>
            </a:r>
            <a:r>
              <a:rPr b="0" i="1" lang="en-US" sz="2800" spc="-1" strike="noStrike">
                <a:solidFill>
                  <a:srgbClr val="ff0066"/>
                </a:solidFill>
                <a:latin typeface="Verdana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ow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this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condition and Postcond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0D86-5414-4234-8AD7-2DAF38F830C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urse Web Sit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http://www.andrew.cmu.edu/~mm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FA1B-89B1-4306-AF1D-63F5CE233FB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econd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recondi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statement giving the condition that should be true when the method is call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ethod is not guaranteed to perform as it should unless the precondition is tr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violated, ignore (like c) or throw an exception (like Java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7E38-BA57-452B-A84B-D733660640D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ostcond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ff0066"/>
                </a:solidFill>
                <a:latin typeface="Verdana"/>
              </a:rPr>
              <a:t>postcondi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statement describing what will be true when a method call comple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method is correct and precondition was met, then the method will complete, and the postcondition will be true when it do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6FD3-B67F-4AEE-8BC9-57B7CC32CDA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lsiusToFahrenhe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double celsiusToFahrenheit(double 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a temperature from Celsius degrees to Fahrenheit deg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meter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 - a temperature in Celsius deg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condition: c&gt;= -273.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s: temperature c in Fahrenhe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ows: IllegalArgument Excep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29D0-5ED7-4C4B-8A19-3486C5764FD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ore on Pre/Postcond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ides from Main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Le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04EC-5E4D-4767-B901-AE6FB9C2AED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ructure of the Cours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s / class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s (programmin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izzes (low score dropp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dterm examin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examin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22EC-8705-4525-8120-27F50A3598D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ading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dings from the required text are assigned for each lecture -- read them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ook contains self-test exercises in each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these exercises (especially if you are new to the materi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1DAD-855F-4178-BB67-8929D94F4E0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d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5-6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izzes (5)                     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dterm Ex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Ex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5%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6C17-2382-4529-B6FE-05B2E96E9CB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data struct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n organized collection of data with specific aggregate prope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algorith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sequence of program instructions designed to compute a particular resul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35B-A5ED-4FFC-B945-2F1FB7858AB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ve Steps per Datatyp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stand it Abstra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 Spec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an existing, or Design and Implement our ow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alyze the Implementation in terms of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DB79-7665-41F8-BEFB-61F3B5F6C75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bstract vs. Concret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abstract data typ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DT) specifies behavior, but not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ses a particular low-level datatype to implement the desired behavi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Quick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ack is an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bstract data typ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D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push and pop from the t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ree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implement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Every push causes all elements in an array to shif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wn 1 before the insertion at s[0]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) We add at stackTop and then add one to stackT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) Use a linked list where the top is always at the list’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 e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implementation can be written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correct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 (1) runs in Θ(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s (2) and (3) run in Θ(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419E-6CFA-4A53-A643-0CBF45FE16F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rosoft Office User</cp:lastModifiedBy>
  <cp:lastPrinted>1999-05-17T11:10:33Z</cp:lastPrinted>
  <dcterms:modified xsi:type="dcterms:W3CDTF">2019-08-28T21:45:37Z</dcterms:modified>
  <cp:revision>41</cp:revision>
  <dc:subject/>
  <dc:title>No Slide Title</dc:title>
</cp:coreProperties>
</file>