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36FF-DD4B-4FA9-ADA5-C84BA7AAC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88B4-15E3-404C-ADFB-37E3057EE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6D77-CDC0-4834-A1B2-A9F9C7828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5490-2683-4223-8046-ED8B0ED81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ACCA-BEDE-4D6A-B461-1E2FFE0B5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94B7-6B1E-43FF-B94A-2750EA958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FF77-504B-4353-95D2-CFAF90FBE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5816-0799-4FF7-889D-B5E419FF8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724B-8B3D-4212-B99D-36EAD34A7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3B75-D8EE-44E1-9A93-244251110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4FFC-2460-4A2B-8816-EE56C109726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E9BE5-E19A-40AA-B208-43868456E56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C5E1D-3483-465F-ACEF-36B76049088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8D35E-B655-4083-B815-33ADC4978BE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8E66A-2AD3-42C5-8B18-C608912E50A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D6BBA-1F92-4DE5-9982-6806D92ABD2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3FABC-BEFB-4AAB-B89F-4464C1386F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2D83B-FEED-4AA8-B932-268FF7B389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1DEE7-6198-4C48-AC32-7FC1FCB9216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8CCC3-426C-4B03-B4DC-BCC8D9904ED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E417E7-C0C0-4B89-8C36-7A4E39226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6B16-AA85-472B-ADFD-BB32786F89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4F3AA3-FF38-4E47-A9B4-3B14621779E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83D66E-6CC4-4F86-854D-AB517B69BF1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6F93C8-238D-46C2-91B2-3D8229E75F0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F920DB-969D-41C0-8068-1C423DB370D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325EC9-504C-4E90-AB38-057A7E6EA9E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7C071B-83F7-4958-9870-98376B11A55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ADCA13-2770-4003-A6FA-1FA7632675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8D96D6-85CD-4265-A2DB-989CF42C54F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726D09-D665-4A3A-A44C-FFF34B70FE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BAB4F9-D7D4-427F-8700-F0B280459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C1AF-40FA-400C-89F6-BF58206D320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C37C36-2F5F-4A34-8C2B-CD1155FD3E8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89C7-DAAE-4A06-8076-A6AEBD9CA37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C9B36-089C-4228-9884-FF01146E74B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22E22-9EBC-45C1-BA46-0B96E0D8CF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3A8F5-B0A3-43D1-B6FC-76464F266BA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1F44D-3E33-4772-A7E6-79A0434E7F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A9D96-882E-41CB-B48F-D8740ED496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8E2DB-B255-420F-ADD8-11CE165E774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48D78-F031-4EB2-B1F2-68F70AFDC59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130A1-BCEC-4013-98FD-2C71CC262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8FA-380D-40E6-BE46-36177A8E859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0D7E2-74A2-4C19-BB40-1A78D0E6824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6D80-27E6-4833-A22A-9C4F771FB4C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3FD6C-20A4-47D0-B427-A52085FF1FD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C03CC4-D2D1-499A-8B02-E431B8446E1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A99292-BD56-4131-8085-D564956B5C5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164ED9-8F5D-45DB-83F9-81E2460D7A7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453542-DC49-4DA8-973E-0BD511D2C54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879442-D9DA-467D-9CA4-BFEDD8B1EC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59B01B-3F27-4973-9A67-A22554D7B80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D0D704-3884-461E-A9E3-292B800B57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B39-CB77-4D8C-B26B-C1FFABF2485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4E88F2-6F33-4D14-A1D5-45F9E0B594B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62DE62-526B-41F6-942C-672208533F6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889112-CF83-4A34-A97F-16F8F8C60BB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077BA-7DCD-409C-82C8-F9FA1DACC9A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C7C8D8-DB47-4676-9945-6C614AEB91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064-725D-4DFA-A2B1-9310B6D077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4C9-C14D-457F-BC14-B7F66D2FD1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104-D51A-43D1-8539-E451FB6D48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505-9216-41AD-BC37-C612A6CA1D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1E2-4F85-4439-A7C1-36CEB20C89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8D1C-9D15-4BEA-8650-539FDF96F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E94-5855-4227-A351-B9F3BD575B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39B-96E2-4EC6-85E2-5B1DF8F804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7D1-FA36-463C-AA1C-234664428E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BAC-234A-497F-A3F1-209CBE0B74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994-DC04-41CA-BBCE-6F9EF22C26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12286-6946-43A3-8A61-9D1E717C8E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4D306-C40B-4C76-83B5-6666C025E1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8F4F3-D0A0-49E7-9975-2CFA295364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02A2F-D770-40B3-AE11-47718772CA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233D2-F15E-45AD-B6A4-BD1EBE20C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E02D-5DB5-4457-97AA-B59B94C5B7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5769A-A903-46C6-B14E-7B4F6D47BE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484D9-8176-425F-A7F8-69AD810884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FD7B0-B6E9-449D-B7D3-AD7B6FAE95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F1ABE-D3B3-453C-835E-F234E853DD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75371-D7BE-4EE9-A551-717EE97D33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7396E-C986-4A2A-8258-1A6B60B2D6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DE55E-78E1-4408-BADC-2014D9192D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30B248-A675-40BB-A318-D0726A1B36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CCF45-5160-4173-B02C-E8942B405A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492726-B929-4EA4-BAEE-107A8871E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228B-E1DA-49B5-8AC4-72E5678506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A2D44-4AE4-4047-8368-46C1B9BFA9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F92565-DDDB-4BBF-BA26-DFAC337C26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BDE10-764D-4D61-AFCA-CFD154DE46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41DD4-E486-413D-BAE3-AF81B5B1D5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ADC262-94DD-4DA3-AAC9-63E9115CDB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8609E-AE7F-4651-AB3B-6A23CE29E7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C80D7-9EEE-4B7B-BE4F-C051412332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954978-2C2A-4751-9DA3-4BC389857B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C94077-4EAB-46E3-B7DF-263C23ED9A1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BEC3-5D09-4A39-8A6A-1EAFA2F69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AF0B-968C-4A40-BB02-8D229A04DE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DF23-E574-4257-8C95-89F9361B9E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8E7F-9195-4523-8060-018C64E3EED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E68E-5DDD-4C26-B1A5-EAF8A798F84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51BCB-2BF7-4EC2-8A8C-8A3AB030465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B10D5-C9EF-42F9-B0D1-055829C8D6D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CE32-9703-4D33-8BB2-8135BFE1E09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4C48-81EE-48C6-857E-6F9A3B39A5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B359-0FB0-4977-ABA6-4D8EFF3F86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C8A2-A871-4E42-8692-70BFDF9642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2511-4AA2-451C-AC45-712084536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4A1D-55E0-48FB-986C-89D06F17B7A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F179-B960-4D21-9917-8D6DF701E37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9CB57-B0C6-4353-BE6D-A773FD6ED4C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7DB58-730F-4AE4-934A-2163BA4EC2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ABF08-810C-4D32-A8A7-23A533B516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093A9-8986-4B3B-9737-9567AD46D8D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0C708-CBC1-48D1-871D-7FDAAA2E61C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B56DD-6FFA-4D18-85A1-BDC2E3B5B0F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60854-C7A7-49C9-992E-16F13A253EE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2406F-2F4B-4EB5-B3C8-236BC1795A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B9AD9-6740-4C1E-9A83-6FBB883C7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AA9A-C62D-4310-A16B-8FE56CF3E92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CC9A9-7514-4732-A4CF-37C5E94F07B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5541D-4EAE-427F-B89C-E7A134486C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E1038-F36B-4BB6-B5E3-37889DA725E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E93C8-50A9-43D3-BA47-97F0972883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16D84B-2A11-4D03-80AF-A23AE93F5C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B5D72-170B-443A-A8CD-1F29A85BC1A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8CF523-2532-47BD-9BD8-F22A007EF2F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927809-CA1D-48AA-B97D-29186B0CB13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C2D00E-B477-44FD-8549-C5CC5BC5621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A477DF-EB05-41C9-B7F7-D566FD593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B875-E5B1-4BB8-AB33-8B7E782889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47CFEB-F44D-4EBE-9FC0-C8AC459F337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81C1BE-0E23-4078-8B69-DD868A0B1A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4D3ABE-D8CC-4A77-A761-62B4FD421A4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5AE5D2-3369-4DAD-A164-A4DAABFA6E9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53C1B3-1D55-4746-8DE8-476317D23F2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C2457-EADE-4725-A547-2ED641A3FC9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0AAFF-D4BC-41B5-82A3-3B264BBF61B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A55E0-02BD-476C-95FB-8B295EAE7C1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60C57-8507-4566-BF47-DEA5EBFFFC7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82C40-86CB-4014-9E8D-87E64CFA8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8DB6-C123-4974-B8C2-3E17FB65F1F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43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8E19F-E6E4-44A2-9B23-D9509C08949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5721-FCB4-4A49-8AFF-728443B3A47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D6A2-D5F5-4503-A58A-47649B234FE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1D99D-F83D-4BBE-92CF-48BE9A6AF3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887BC-7C4C-4FCA-AD01-4EC0BB6CB7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B29D-89DD-4746-AF5A-9A7E559B63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BE78F-5970-4BF5-A9E6-2F403ED3F70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CEF819-71C1-49AE-8539-4A965431911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7D916-795C-42DC-AD57-4FB847FDAB5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F626A-129D-435A-9AFE-59313517D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806A-D69B-421C-87F0-4A5A5F84D15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1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923A-EBCD-4FAB-8778-9C8BABB4049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2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7CAC-65E1-4339-8981-00FAE12E319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73AD-F631-4922-B897-073EA4F0DA9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B800-3580-413F-8CD1-0543A57276E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E178-B7C5-45F8-8F11-282507E8486D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510A-148C-412E-8E3B-961C4719C62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9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C185-E983-4FE2-849A-B160C8EA42D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0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1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7B78-AACB-458E-955F-6E609E785DE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2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3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B19-41C7-4B66-9187-D1C7AE2D1EA2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15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5E00-7583-4922-A657-109A445ADB0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6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"/>
          <p:cNvSpPr/>
          <p:nvPr/>
        </p:nvSpPr>
        <p:spPr>
          <a:xfrm>
            <a:off x="2162520" y="6172200"/>
            <a:ext cx="186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90-771: Data Structures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and Algorithms for</a:t>
            </a:r>
            <a:br>
              <a:rPr sz="1200"/>
            </a:br>
            <a:r>
              <a:rPr b="0" lang="en-US" sz="1200" spc="-1" strike="noStrike">
                <a:solidFill>
                  <a:srgbClr val="cc0066"/>
                </a:solidFill>
                <a:latin typeface="Verdana"/>
                <a:ea typeface="ＭＳ Ｐゴシック"/>
              </a:rPr>
              <a:t>Information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776840" y="6643800"/>
            <a:ext cx="28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Verdana"/>
              </a:rPr>
              <a:t>Copyright © 1999, Carnegie Mell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7"/>
          </p:nvPr>
        </p:nvSpPr>
        <p:spPr>
          <a:xfrm>
            <a:off x="7924680" y="63241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2D38-D238-421F-BCAB-C8AFD25DC0E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8"/>
          </p:nvPr>
        </p:nvSpPr>
        <p:spPr>
          <a:xfrm>
            <a:off x="4572000" y="63241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2A1A-8F32-4F3D-A03E-52FD75A121E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ata Structures and Algorithms for Information Process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 1: Introd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D765-56FA-4694-8997-3C3F7F2876E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1: Understand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sp the datatype at the level of concepts and pictu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.g., visualize a stack and the operations of pushing / pop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stand simple 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ulate by h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.g., use a stack to reverse the order of letters in a w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1D04-613B-4054-BB84-02693279C18E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2: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a specification for a Java class that could implement the datatype (see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javadoc Appendix 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dings for constructor, public methods, public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s precondition / postcondition for each meth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of implementatio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6793-81B7-4F73-A649-29629BF095E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3: Appl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specification, write small applications to illustrate the use of the datat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st the specification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ior to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de not yet compiled /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9DF8-9E27-4673-8846-256F4E541F6A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4: Implement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 appropriate data 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as private class v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rules relating instance variables to abstract specific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AD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method knows the invariant is true when it st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method upholds the invari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B13E-D909-4249-888C-60C0721F641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ep 5: Analysi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t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possible, compare different implementations of the same AD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Analys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 of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-O notation, e.g.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5356080" y="5186520"/>
                <a:ext cx="1251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Rectangle 1"/>
          <p:cNvSpPr/>
          <p:nvPr/>
        </p:nvSpPr>
        <p:spPr>
          <a:xfrm>
            <a:off x="6899040" y="5303880"/>
            <a:ext cx="1020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Θ(n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9664-6BBD-46B9-B598-234052AF99C6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hases of Software Developmen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ation of the Tas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 of a 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 of the 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nning Time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sting and Debug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and Ev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solesc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31B1-5A80-49BE-95B4-C1C3AB7C0CE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Java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ived in 1991 at Su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as Similarities to C++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s simpler than C++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Object-Oriented Programming (OOP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formation hid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mponent re-us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ograms (methods) and data are grouped together into </a:t>
            </a:r>
            <a:r>
              <a:rPr b="0" i="1" lang="en-US" sz="2700" spc="-1" strike="noStrike">
                <a:solidFill>
                  <a:srgbClr val="ff0066"/>
                </a:solidFill>
                <a:latin typeface="Verdana"/>
              </a:rPr>
              <a:t>class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 will not be using the collection class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8D48-72D2-48F5-B9EC-E95BD66ED57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What You Should Know Already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use a Java development environment (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jav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java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javado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write, compile, and run short Java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va primitive types (number types, char, boolean) and arra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sy to pick up with prior programming experi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53C5-66B5-4076-82FB-9B085A430979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pecifying a Java Method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ation: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 method does not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t does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form of information hiding called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procedural abstr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signature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double celsiusToFahrenheit(double 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cal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uble fahrenheit = celsiusToFahrenheit(celsius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3995-8697-4BC2-B4D7-788DC7FF6B73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lements of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ort Introd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ameter Descri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u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y the meaning of return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ow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ror conditions (</a:t>
            </a:r>
            <a:r>
              <a:rPr b="0" i="1" lang="en-US" sz="2800" spc="-1" strike="noStrike">
                <a:solidFill>
                  <a:srgbClr val="ff0066"/>
                </a:solidFill>
                <a:latin typeface="Verdana"/>
              </a:rPr>
              <a:t>except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ow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this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condition and Postcond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1E62-0DF6-4C6A-BEA5-83C152AA80F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Course Web Sit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http://www.andrew.cmu.edu/~mm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D247-B1C6-48B0-8A42-94FAFF3AFA94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recond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precondi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statement giving the condition that should be true when the method is call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ethod is not guaranteed to perform as it should unless the precondition is tru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violated, ignore (like c) or throw an exception (like Java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82AE-AE88-41C7-B073-9E2780ED0D3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Postcond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ff0066"/>
                </a:solidFill>
                <a:latin typeface="Verdana"/>
              </a:rPr>
              <a:t>postcondi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statement describing what will be true when a method call comple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method is correct and precondition was met, then the method will complete, and the postcondition will be true when it do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ABC6-D79C-48A7-8D82-F3CCD2C48431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Example Specification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lsiusToFahrenhe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double celsiusToFahrenheit(double 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t a temperature from Celsius degrees to Fahrenheit deg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meter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 - a temperature in Celsius deg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condition: c&gt;= -273.1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s: temperature c in Fahrenhe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ows: IllegalArgument Excep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AF49-8EDF-4286-84AC-03413555024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More on Pre/Postcond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ides from Main</a:t>
            </a: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Le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B82E-FEA5-48EE-9BA2-6562D7DDD29B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Structure of the Cours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ctures / class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meworks (programming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izzes (low score droppe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dterm examin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examin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4C61-1B06-43B1-9A5D-5C078DC112BF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Reading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dings from the required text are assigned for each lecture -- read them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ook contains self-test exercises in each 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these exercises (especially if you are new to the materi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B4D1-0891-43AC-9850-C025B0DEFF97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Grading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5-6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izzes (5)                     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dterm Exa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Exa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5%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C9D5-2170-46F8-92FE-A53EFFC2D02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data struct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n organized collection of data with specific aggregate prope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algorith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sequence of program instructions designed to compute a particular resul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58F8-84C9-4BB4-A4EF-A4D71719A638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Five Steps per Datatyp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stand it Abstra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a Spec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 an existing, or Design and Implement our ow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alyze the Implementation in terms of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5B3B-3226-4734-8F8A-5CD02DC67460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Abstract vs. Concret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abstract data typ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ADT) specifies behavior, but not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ff0066"/>
                </a:solidFill>
                <a:latin typeface="Verdan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uses a particular low-level datatype to implement the desired behavi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Quick Example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ack is an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abstract data typ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D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push and pop from the t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ree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implement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Every push causes all elements in an array to shif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wn 1 before the insertion at s[0]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) We add at stackTop and then add one to stackT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) Use a linked list where the top is always at the list’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nt e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implementation can be written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correct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tion (1) runs in Θ(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tions (2) and (3) run in Θ(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7924680" y="63244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6A52-5112-477D-8435-6494EC0D32F5}" type="slidenum">
              <a:rPr b="1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457200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Lecture 1: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icrosoft Office User</cp:lastModifiedBy>
  <cp:lastPrinted>1999-05-17T11:10:33Z</cp:lastPrinted>
  <dcterms:modified xsi:type="dcterms:W3CDTF">2019-08-28T21:45:37Z</dcterms:modified>
  <cp:revision>41</cp:revision>
  <dc:subject/>
  <dc:title>No Slide Title</dc:title>
</cp:coreProperties>
</file>