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B3A-51DB-45FC-9BC5-2FAB599A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B33-E0DE-469F-BA99-EA7A1AB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6E5-9169-4916-839E-66D030B8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BA1-7B3D-495C-B5D2-44C6C354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4D8-E279-4EE8-813E-BECFEA5D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134-12D0-43F1-A52C-C707F68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60E-29FF-4C30-9190-B4CF58D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AC2-F620-4A24-9D4C-DB9EC68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97E-7F0C-460C-B80E-3DD8C128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2DC-647A-4622-AD87-CA84119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DD4-86CF-425B-9EA3-C75B5E75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D80-8B36-4589-A81A-9D8F116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31A-A0A6-4C55-8AD6-3D482D0F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referplus.com/" TargetMode="External"/><Relationship Id="rId2" Type="http://schemas.openxmlformats.org/officeDocument/2006/relationships/hyperlink" Target="http://www.knovel.com/" TargetMode="External"/><Relationship Id="rId3" Type="http://schemas.openxmlformats.org/officeDocument/2006/relationships/hyperlink" Target="http://www.groveart.com/index.html" TargetMode="External"/><Relationship Id="rId4" Type="http://schemas.openxmlformats.org/officeDocument/2006/relationships/hyperlink" Target="http://search.eb.com/" TargetMode="External"/><Relationship Id="rId5" Type="http://schemas.openxmlformats.org/officeDocument/2006/relationships/hyperlink" Target="http://search.eb.com/" TargetMode="External"/><Relationship Id="rId6" Type="http://schemas.openxmlformats.org/officeDocument/2006/relationships/hyperlink" Target="http://search.eb.com/" TargetMode="External"/><Relationship Id="rId7" Type="http://schemas.openxmlformats.org/officeDocument/2006/relationships/hyperlink" Target="http://www.wikipedia.org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ormation Landscape at Carnegie Me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Aimed at Fostering Successful Independen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 "/>
          <p:cNvPicPr/>
          <p:nvPr/>
        </p:nvPicPr>
        <p:blipFill>
          <a:blip r:embed="rId1"/>
          <a:stretch/>
        </p:blipFill>
        <p:spPr>
          <a:xfrm>
            <a:off x="6705720" y="6248520"/>
            <a:ext cx="21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533520" y="3885840"/>
            <a:ext cx="3808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 for 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g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al integr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tension” AND “discontinuous compres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ttempt to Broaden Our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 "/>
          <p:cNvPicPr/>
          <p:nvPr/>
        </p:nvPicPr>
        <p:blipFill>
          <a:blip r:embed="rId1"/>
          <a:stretch/>
        </p:blipFill>
        <p:spPr>
          <a:xfrm>
            <a:off x="6705720" y="6324480"/>
            <a:ext cx="2133360" cy="3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52480" y="2133720"/>
            <a:ext cx="327672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133720"/>
            <a:ext cx="320040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666880"/>
            <a:ext cx="152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segrity OR tensegric OR tensional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514600"/>
            <a:ext cx="190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 OR mathematics OR mathematical model(s) OR … analys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4800" y="2743200"/>
            <a:ext cx="533520" cy="4572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38480" y="2971440"/>
            <a:ext cx="762120" cy="6094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14800" y="3200040"/>
            <a:ext cx="83808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91120" y="3580920"/>
            <a:ext cx="83808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19720" y="4038480"/>
            <a:ext cx="533160" cy="4572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1800" y="2895480"/>
            <a:ext cx="220968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25146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362320"/>
            <a:ext cx="3962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me databases of inter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thSci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I Compe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b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b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c Approach – Saving Time and Maximiz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use an example to help realize what  the libraries have to offer to make your efforts more efficient and to achieve bette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Retrieval/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for Continuo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ost-Searching Control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"/>
          <p:cNvPicPr/>
          <p:nvPr/>
        </p:nvPicPr>
        <p:blipFill>
          <a:blip r:embed="rId1"/>
          <a:stretch/>
        </p:blipFill>
        <p:spPr>
          <a:xfrm>
            <a:off x="6705720" y="6324480"/>
            <a:ext cx="2133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00400" y="2743200"/>
            <a:ext cx="106668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 flipV="1">
            <a:off x="1752120" y="2742840"/>
            <a:ext cx="175284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819520"/>
            <a:ext cx="510552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dy for me or anyone to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4876920"/>
            <a:ext cx="685800" cy="30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24080"/>
            <a:ext cx="20574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2895480"/>
            <a:ext cx="38124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191120" y="2819520"/>
            <a:ext cx="83808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xample: Tenseg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material can help you in later steps of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encyclopedia’s and dictionaries exist for quickly brushing up 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mportantly, they can remind you of helpful terminology to use in you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2133720"/>
            <a:ext cx="15238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3352680"/>
            <a:ext cx="99072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5562720"/>
            <a:ext cx="76960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Ma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and Math Libr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Libr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and Scienc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00 Wean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 412-268-7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 matthewm@andrew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L IM Screen name:  physmathli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hoo! Messenger Screen name:  physmathli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ontrib.andrew.cmu.edu/~matthewm/mrmwo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loglines.com/public/MattMa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 Uniniti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define it, get some basic background info on i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leaving our compu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refe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referpl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novel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ve Art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groveart.com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tanic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arch.eb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wikipedia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/>
          <p:cNvPicPr/>
          <p:nvPr/>
        </p:nvPicPr>
        <p:blipFill>
          <a:blip r:embed="rId8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819520" y="50292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1523520" y="2057400"/>
            <a:ext cx="7621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057400"/>
            <a:ext cx="1522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676520"/>
            <a:ext cx="3048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 to find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1066320" y="4267080"/>
            <a:ext cx="44197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06:58Z</dcterms:created>
  <dc:creator>matthewm</dc:creator>
  <dc:description/>
  <dc:language>en-US</dc:language>
  <cp:lastModifiedBy>matthewm</cp:lastModifiedBy>
  <dcterms:modified xsi:type="dcterms:W3CDTF">2006-06-08T14:36:03Z</dcterms:modified>
  <cp:revision>16</cp:revision>
  <dc:subject/>
  <dc:title>Critical Evaluation of Scientific Information Sources</dc:title>
</cp:coreProperties>
</file>