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25D-5199-4D4C-86BD-7460DAA1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211-8E7C-4CB0-BFD5-2CF898E0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E5B-9726-4B93-A81D-75226ED6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613-64EF-483F-9B04-589A54CD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A05F-F631-49FB-8F0B-90DCDE07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61B-0DD7-4E1A-B99D-61E791B9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E13-277C-4AD1-BF7E-036CC280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FB5-951E-4AE2-AD0C-9F146DCC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5B8-D7A2-4673-87B0-1EB55956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061-D6E6-4B9B-9877-6F6495E5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971-71AA-466D-91FC-C9E75BD4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B1E2-893E-4498-86AD-4C981741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8D6D-272B-424F-A9A5-8F0D427AB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xreferplus.com/" TargetMode="External"/><Relationship Id="rId2" Type="http://schemas.openxmlformats.org/officeDocument/2006/relationships/hyperlink" Target="http://www.knovel.com/" TargetMode="External"/><Relationship Id="rId3" Type="http://schemas.openxmlformats.org/officeDocument/2006/relationships/hyperlink" Target="http://www.groveart.com/index.html" TargetMode="External"/><Relationship Id="rId4" Type="http://schemas.openxmlformats.org/officeDocument/2006/relationships/hyperlink" Target="http://search.eb.com/" TargetMode="External"/><Relationship Id="rId5" Type="http://schemas.openxmlformats.org/officeDocument/2006/relationships/hyperlink" Target="http://search.eb.com/" TargetMode="External"/><Relationship Id="rId6" Type="http://schemas.openxmlformats.org/officeDocument/2006/relationships/hyperlink" Target="http://search.eb.com/" TargetMode="External"/><Relationship Id="rId7" Type="http://schemas.openxmlformats.org/officeDocument/2006/relationships/hyperlink" Target="http://www.wikipedia.org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formation Landscape at Carnegie Mel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Aimed at Fostering Successful Independen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 "/>
          <p:cNvPicPr/>
          <p:nvPr/>
        </p:nvPicPr>
        <p:blipFill>
          <a:blip r:embed="rId1"/>
          <a:stretch/>
        </p:blipFill>
        <p:spPr>
          <a:xfrm>
            <a:off x="6705720" y="6248520"/>
            <a:ext cx="21240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 flipV="1">
            <a:off x="533520" y="3885840"/>
            <a:ext cx="38088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 for Sear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eg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ional integr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tension” AND “discontinuous compress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 "/>
          <p:cNvPicPr/>
          <p:nvPr/>
        </p:nvPicPr>
        <p:blipFill>
          <a:blip r:embed="rId1"/>
          <a:stretch/>
        </p:blipFill>
        <p:spPr>
          <a:xfrm>
            <a:off x="6781680" y="6324480"/>
            <a:ext cx="213372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Attempt to Broaden Our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 "/>
          <p:cNvPicPr/>
          <p:nvPr/>
        </p:nvPicPr>
        <p:blipFill>
          <a:blip r:embed="rId1"/>
          <a:stretch/>
        </p:blipFill>
        <p:spPr>
          <a:xfrm>
            <a:off x="6705720" y="6324480"/>
            <a:ext cx="2133360" cy="343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52480" y="2133720"/>
            <a:ext cx="3276720" cy="30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2133720"/>
            <a:ext cx="3200400" cy="29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2666880"/>
            <a:ext cx="1524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nsegrity OR tensegric OR tensional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2514600"/>
            <a:ext cx="190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 OR mathematics OR mathematical model(s) OR … analysi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114800" y="2743200"/>
            <a:ext cx="533520" cy="4572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038480" y="2971440"/>
            <a:ext cx="762120" cy="6094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114800" y="3200040"/>
            <a:ext cx="838080" cy="6858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191120" y="3580920"/>
            <a:ext cx="838080" cy="6858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419720" y="4038480"/>
            <a:ext cx="533160" cy="4572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971800" y="2895480"/>
            <a:ext cx="2209680" cy="3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952880" y="25146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2362320"/>
            <a:ext cx="3962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me databases of inter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thSci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I Compe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b of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ub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atic Approach – Saving Time and Maximizing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use an example to help realize what  the libraries have to offer to make your efforts more efficient and to achieve better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Retrieval/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for Continuous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Post-Searching Control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 "/>
          <p:cNvPicPr/>
          <p:nvPr/>
        </p:nvPicPr>
        <p:blipFill>
          <a:blip r:embed="rId1"/>
          <a:stretch/>
        </p:blipFill>
        <p:spPr>
          <a:xfrm>
            <a:off x="6705720" y="6324480"/>
            <a:ext cx="21333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00400" y="2743200"/>
            <a:ext cx="1066680" cy="533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 flipV="1">
            <a:off x="1752120" y="2742840"/>
            <a:ext cx="175284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819520"/>
            <a:ext cx="5105520" cy="459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ady for me or anyone to 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120" y="4876920"/>
            <a:ext cx="685800" cy="3045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124080"/>
            <a:ext cx="2057400" cy="30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2895480"/>
            <a:ext cx="38124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191120" y="2819520"/>
            <a:ext cx="83808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Example: Tenseg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material can help you in later steps of the research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encyclopedia’s and dictionaries exist for quickly brushing up 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mportantly, they can remind you of helpful terminology to use in your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 "/>
          <p:cNvPicPr/>
          <p:nvPr/>
        </p:nvPicPr>
        <p:blipFill>
          <a:blip r:embed="rId1"/>
          <a:stretch/>
        </p:blipFill>
        <p:spPr>
          <a:xfrm>
            <a:off x="6781680" y="6324480"/>
            <a:ext cx="213372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34120" y="2133720"/>
            <a:ext cx="152388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28800" y="3352680"/>
            <a:ext cx="99072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19320" y="5562720"/>
            <a:ext cx="769608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 Mars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s and Math Librar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Librar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 and Scienc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00 Wean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tsburgh, PA  15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:  412-268-72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 matthewm@andrew.cm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L IM Screen name:  physmathli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hoo! Messenger Screen name:  physmathli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ontrib.andrew.cmu.edu/~matthewm/mrmwor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bloglines.com/public/MattMars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 "/>
          <p:cNvPicPr/>
          <p:nvPr/>
        </p:nvPicPr>
        <p:blipFill>
          <a:blip r:embed="rId1"/>
          <a:stretch/>
        </p:blipFill>
        <p:spPr>
          <a:xfrm>
            <a:off x="6781680" y="6324480"/>
            <a:ext cx="213372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the Uniniti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define it, get some basic background info on i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leaving our compu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refe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xreferplu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novel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ve Art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groveart.com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tanica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earch.eb.com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wikipedia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 "/>
          <p:cNvPicPr/>
          <p:nvPr/>
        </p:nvPicPr>
        <p:blipFill>
          <a:blip r:embed="rId8"/>
          <a:stretch/>
        </p:blipFill>
        <p:spPr>
          <a:xfrm>
            <a:off x="6781680" y="6324480"/>
            <a:ext cx="213372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>
            <a:off x="2819520" y="502920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4800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H="1">
            <a:off x="1523520" y="2057400"/>
            <a:ext cx="76212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2057400"/>
            <a:ext cx="1522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1676520"/>
            <a:ext cx="30481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ere to find World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H="1">
            <a:off x="1066320" y="4267080"/>
            <a:ext cx="441972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5:06:58Z</dcterms:created>
  <dc:creator>matthewm</dc:creator>
  <dc:description/>
  <dc:language>en-US</dc:language>
  <cp:lastModifiedBy>matthewm</cp:lastModifiedBy>
  <dcterms:modified xsi:type="dcterms:W3CDTF">2006-06-08T14:36:03Z</dcterms:modified>
  <cp:revision>16</cp:revision>
  <dc:subject/>
  <dc:title>Critical Evaluation of Scientific Information Sources</dc:title>
</cp:coreProperties>
</file>