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C47-5143-46AE-A362-C9020DC6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4FB-D990-4B94-A211-F51146F0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0B4-3E00-4FD7-901B-F3057EE9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F8F-92CA-49FE-8C01-0677ECDB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680C-FE7E-43D2-8144-625D5961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6982-60B4-4F1F-9502-B7256DCB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79BE-7628-4D48-9681-CBB5BB77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61EA-8C39-4FE8-8B1C-B3E2B939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4A0A-09AF-438F-816F-A18EFFBC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DB4A-ED00-41CE-AA37-FDE1219E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64AC-8B8A-4703-AFA7-2384A462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F043-D87F-4E38-85D3-87460966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39BF-B87E-45A3-9A03-4F815050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1A70-707F-46AB-94D1-5DBD402A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37EF-AD31-45EB-B943-F52AE524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0CB9-DE24-4D88-8B0F-1EA03B80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106B-FDAA-4139-995F-7C788036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AF0A-9409-449B-8189-F7E74DA4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F71-E619-49CA-A168-A39DA444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A0BC-0206-45B0-99F7-BFA75098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19B-9E1D-4DE2-B258-606A6589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3F68-1BB1-4F92-92E4-8FFE97A4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093-1A9F-4C89-B99D-1D018387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DBA-14A7-4916-B96B-2B106427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AC25-EB89-446E-906F-FDBCC5B9C4A4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9AED-82E3-4516-96A7-CF391FECEA21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sgs.gov/atlas/" TargetMode="External"/><Relationship Id="rId2" Type="http://schemas.openxmlformats.org/officeDocument/2006/relationships/hyperlink" Target="http://www.usgs.gov/atlas/" TargetMode="External"/><Relationship Id="rId3" Type="http://schemas.openxmlformats.org/officeDocument/2006/relationships/hyperlink" Target="http://www.usgs.gov/atlas/" TargetMode="External"/><Relationship Id="rId4" Type="http://schemas.openxmlformats.org/officeDocument/2006/relationships/hyperlink" Target="http://www.usgs.gov/atlas/" TargetMode="External"/><Relationship Id="rId5" Type="http://schemas.openxmlformats.org/officeDocument/2006/relationships/hyperlink" Target="http://www.usgs.gov/atlas/" TargetMode="External"/><Relationship Id="rId6" Type="http://schemas.openxmlformats.org/officeDocument/2006/relationships/hyperlink" Target="http://plasma.nationalgeographic.com/mapmachine/" TargetMode="External"/><Relationship Id="rId7" Type="http://schemas.openxmlformats.org/officeDocument/2006/relationships/hyperlink" Target="http://plasma.nationalgeographic.com/mapmachine/" TargetMode="External"/><Relationship Id="rId8" Type="http://schemas.openxmlformats.org/officeDocument/2006/relationships/hyperlink" Target="http://plasma.nationalgeographic.com/mapmachine/" TargetMode="External"/><Relationship Id="rId9" Type="http://schemas.openxmlformats.org/officeDocument/2006/relationships/hyperlink" Target="http://plasma.nationalgeographic.com/mapmachine/" TargetMode="External"/><Relationship Id="rId10" Type="http://schemas.openxmlformats.org/officeDocument/2006/relationships/hyperlink" Target="http://plasma.nationalgeographic.com/mapmachine/" TargetMode="External"/><Relationship Id="rId11" Type="http://schemas.openxmlformats.org/officeDocument/2006/relationships/hyperlink" Target="http://atlas2.delorme.com/atlas.asp" TargetMode="External"/><Relationship Id="rId12" Type="http://schemas.openxmlformats.org/officeDocument/2006/relationships/hyperlink" Target="http://atlas2.delorme.com/atlas.asp" TargetMode="External"/><Relationship Id="rId13" Type="http://schemas.openxmlformats.org/officeDocument/2006/relationships/hyperlink" Target="http://atlas2.delorme.com/atlas.asp" TargetMode="External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-nmd.usgs.gov/www/gnis/" TargetMode="External"/><Relationship Id="rId2" Type="http://schemas.openxmlformats.org/officeDocument/2006/relationships/hyperlink" Target="http://www-nmd.usgs.gov/www/gnis/" TargetMode="External"/><Relationship Id="rId3" Type="http://schemas.openxmlformats.org/officeDocument/2006/relationships/hyperlink" Target="http://www-nmd.usgs.gov/www/gnis/" TargetMode="External"/><Relationship Id="rId4" Type="http://schemas.openxmlformats.org/officeDocument/2006/relationships/hyperlink" Target="http://www-nmd.usgs.gov/www/gnis/" TargetMode="External"/><Relationship Id="rId5" Type="http://schemas.openxmlformats.org/officeDocument/2006/relationships/hyperlink" Target="http://www-nmd.usgs.gov/www/gnis/" TargetMode="External"/><Relationship Id="rId6" Type="http://schemas.openxmlformats.org/officeDocument/2006/relationships/hyperlink" Target="http://www-nmd.usgs.gov/www/gnis/" TargetMode="External"/><Relationship Id="rId7" Type="http://schemas.openxmlformats.org/officeDocument/2006/relationships/hyperlink" Target="http://www-nmd.usgs.gov/www/gnis/" TargetMode="External"/><Relationship Id="rId8" Type="http://schemas.openxmlformats.org/officeDocument/2006/relationships/hyperlink" Target="http://www-nmd.usgs.gov/www/gnis/" TargetMode="External"/><Relationship Id="rId9" Type="http://schemas.openxmlformats.org/officeDocument/2006/relationships/hyperlink" Target="http://www-nmd.usgs.gov/www/gnis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ib.utexas.edu/maps/index.html" TargetMode="External"/><Relationship Id="rId2" Type="http://schemas.openxmlformats.org/officeDocument/2006/relationships/hyperlink" Target="http://www.lib.utexas.edu/maps/index.html" TargetMode="External"/><Relationship Id="rId3" Type="http://schemas.openxmlformats.org/officeDocument/2006/relationships/hyperlink" Target="http://www.lib.utexas.edu/maps/index.html" TargetMode="External"/><Relationship Id="rId4" Type="http://schemas.openxmlformats.org/officeDocument/2006/relationships/hyperlink" Target="http://www.lib.utexas.edu/maps/index.html" TargetMode="External"/><Relationship Id="rId5" Type="http://schemas.openxmlformats.org/officeDocument/2006/relationships/hyperlink" Target="http://www.lib.utexas.edu/maps/index.html" TargetMode="External"/><Relationship Id="rId6" Type="http://schemas.openxmlformats.org/officeDocument/2006/relationships/hyperlink" Target="http://www.state.gov/r/pa/ei/bgn/" TargetMode="External"/><Relationship Id="rId7" Type="http://schemas.openxmlformats.org/officeDocument/2006/relationships/hyperlink" Target="http://www.state.gov/r/pa/ei/bgn/" TargetMode="External"/><Relationship Id="rId8" Type="http://schemas.openxmlformats.org/officeDocument/2006/relationships/hyperlink" Target="http://www.state.gov/r/pa/ei/bgn/" TargetMode="External"/><Relationship Id="rId9" Type="http://schemas.openxmlformats.org/officeDocument/2006/relationships/hyperlink" Target="http://www.state.gov/r/pa/ei/bgn/" TargetMode="External"/><Relationship Id="rId10" Type="http://schemas.openxmlformats.org/officeDocument/2006/relationships/hyperlink" Target="http://www.state.gov/r/pa/ei/bgn/" TargetMode="External"/><Relationship Id="rId11" Type="http://schemas.openxmlformats.org/officeDocument/2006/relationships/hyperlink" Target="http://www.state.gov/r/pa/ei/bgn/" TargetMode="External"/><Relationship Id="rId12" Type="http://schemas.openxmlformats.org/officeDocument/2006/relationships/hyperlink" Target="http://www.state.gov/r/pa/ei/bgn/" TargetMode="Externa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Geographical Sourc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LS 500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Information Sources and Servic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arion University of PA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all 2002, Southpointe Cent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Map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Atlas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Gazetteer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ravel Guid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Miscellaneou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opographic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Highway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Relief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ontou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Matt’s prized Gettysburg watercolor map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Atlas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Worl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Region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ematic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lectronic Atlases/Map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National Atlas of the United Stat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2"/>
              </a:rPr>
              <a:t>usgs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4"/>
              </a:rPr>
              <a:t>gov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5"/>
              </a:rPr>
              <a:t>/atlas/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National Geographic Map Machin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00"/>
                </a:solidFill>
                <a:uFillTx/>
                <a:latin typeface="Times New Roman"/>
                <a:hlinkClick r:id="rId6"/>
              </a:rPr>
              <a:t>http://plasma.</a:t>
            </a:r>
            <a:r>
              <a:rPr b="0" lang="en-US" sz="2400" spc="-1" strike="noStrike" u="sng">
                <a:solidFill>
                  <a:srgbClr val="808000"/>
                </a:solidFill>
                <a:uFillTx/>
                <a:latin typeface="Times New Roman"/>
                <a:hlinkClick r:id="rId7"/>
              </a:rPr>
              <a:t>nationalgeographic</a:t>
            </a:r>
            <a:r>
              <a:rPr b="0" lang="en-US" sz="2400" spc="-1" strike="noStrike" u="sng">
                <a:solidFill>
                  <a:srgbClr val="808000"/>
                </a:solidFill>
                <a:uFillTx/>
                <a:latin typeface="Times New Roman"/>
                <a:hlinkClick r:id="rId8"/>
              </a:rPr>
              <a:t>.com/</a:t>
            </a:r>
            <a:r>
              <a:rPr b="0" lang="en-US" sz="2400" spc="-1" strike="noStrike" u="sng">
                <a:solidFill>
                  <a:srgbClr val="808000"/>
                </a:solidFill>
                <a:uFillTx/>
                <a:latin typeface="Times New Roman"/>
                <a:hlinkClick r:id="rId9"/>
              </a:rPr>
              <a:t>mapmachine</a:t>
            </a:r>
            <a:r>
              <a:rPr b="0" lang="en-US" sz="2400" spc="-1" strike="noStrike" u="sng">
                <a:solidFill>
                  <a:srgbClr val="808000"/>
                </a:solidFill>
                <a:uFillTx/>
                <a:latin typeface="Times New Roman"/>
                <a:hlinkClick r:id="rId10"/>
              </a:rPr>
              <a:t>/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DeLorme CyberAtlas - link now dea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11"/>
              </a:rPr>
              <a:t>http://atlas2.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12"/>
              </a:rPr>
              <a:t>delorme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13"/>
              </a:rPr>
              <a:t>.com/atlas.asp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Gazetteer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Pennsylvania Gazette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American Places Dictionary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Pennsylvania Atlas &amp; Gazette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USGS GNI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1"/>
              </a:rPr>
              <a:t>http://www-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2"/>
              </a:rPr>
              <a:t>nmd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4"/>
              </a:rPr>
              <a:t>usgs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6"/>
              </a:rPr>
              <a:t>gov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7"/>
              </a:rPr>
              <a:t>/www/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8"/>
              </a:rPr>
              <a:t>gnis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9"/>
              </a:rPr>
              <a:t>/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Perry-Casteñeda Map Library Online Map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1"/>
              </a:rPr>
              <a:t>http://www.lib.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2"/>
              </a:rPr>
              <a:t>utexas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4"/>
              </a:rPr>
              <a:t>edu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5"/>
              </a:rPr>
              <a:t>/maps/index.htm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Background Not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6"/>
              </a:rPr>
              <a:t>http://www.state.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7"/>
              </a:rPr>
              <a:t>gov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8"/>
              </a:rPr>
              <a:t>/r/pa/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9"/>
              </a:rPr>
              <a:t>ei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10"/>
              </a:rPr>
              <a:t>/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11"/>
              </a:rPr>
              <a:t>bgn</a:t>
            </a:r>
            <a:r>
              <a:rPr b="0" lang="en-US" sz="2800" spc="-1" strike="noStrike" u="sng">
                <a:solidFill>
                  <a:srgbClr val="808000"/>
                </a:solidFill>
                <a:uFillTx/>
                <a:latin typeface="Times New Roman"/>
                <a:hlinkClick r:id="rId12"/>
              </a:rPr>
              <a:t>/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5T21:55:44Z</dcterms:created>
  <dc:creator>University Libraries</dc:creator>
  <dc:description/>
  <dc:language>en-US</dc:language>
  <cp:lastModifiedBy>University Libraries</cp:lastModifiedBy>
  <cp:lastPrinted>2000-03-17T01:24:12Z</cp:lastPrinted>
  <dcterms:modified xsi:type="dcterms:W3CDTF">2002-09-27T01:02:56Z</dcterms:modified>
  <cp:revision>6</cp:revision>
  <dc:subject/>
  <dc:title>Geographical Sour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matthewm@andrew.cmu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att\Geosources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