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0D0-3C0F-4C37-86CC-B6D53B7D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F83-15D1-40EA-A970-74B6A6B5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075-1764-474C-9FBC-5F9F5DD0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204-79E5-4592-AE2B-C7EEDDB3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96DD-90D8-4870-BC7D-60B670DE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74E6-19A1-4D12-90EC-0281EBBA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8162-10D2-4836-A23A-B4EAADBA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019C-BE77-47B6-81E4-B959616F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8AB7-3406-4152-B462-DF3A1FA2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055A-F6AA-41B8-88EB-CDE03768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0FBF-889D-426C-A0A2-DC763A04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AEE3-A7F2-44E7-9B3E-13A3C1F9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F597-FC47-4DEA-A68D-B73EB124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1575-91BE-4A7A-A7C4-5E650BDF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31C6-6121-4953-B64D-A1377F20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1E02-326B-4637-8402-CD1D715E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B23A-64EE-444B-A775-ACC2150F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FACD-3FAB-45B8-AAD7-C3851A41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E4E-9250-489D-9AD1-782F44CC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9FF-03AD-4FF6-BE48-92EC2C4F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7DD-A32D-4319-96ED-9A949CD0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B2F-9002-4203-BF61-B57A1526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F95-E5F1-44ED-AACD-C748561F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B20-C704-4B6A-8D0C-94739F23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6E75-84B1-4B76-AD7B-519DEC75C14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5DAE-87AF-4BD1-9C71-F1B4456E447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ntrib.andrew.cmu.edu/~matthewm/mrmwork.html" TargetMode="External"/><Relationship Id="rId2" Type="http://schemas.openxmlformats.org/officeDocument/2006/relationships/hyperlink" Target="http://www.contrib.andrew.cmu.edu/~matthewm./erefcv/classvis.html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lcweb.loc.gov/rr/digiref/cdrshome.html" TargetMode="External"/><Relationship Id="rId5" Type="http://schemas.openxmlformats.org/officeDocument/2006/relationships/hyperlink" Target="http://lcweb.loc.gov/rr/digiref/cdrshome.html" TargetMode="External"/><Relationship Id="rId6" Type="http://schemas.openxmlformats.org/officeDocument/2006/relationships/hyperlink" Target="http://lcweb.loc.gov/rr/digiref/cdrshome.html" TargetMode="External"/><Relationship Id="rId7" Type="http://schemas.openxmlformats.org/officeDocument/2006/relationships/hyperlink" Target="http://lcweb.loc.gov/rr/digiref/cdrshome.html" TargetMode="External"/><Relationship Id="rId8" Type="http://schemas.openxmlformats.org/officeDocument/2006/relationships/hyperlink" Target="http://lcweb.loc.gov/rr/digiref/cdrshome.html" TargetMode="External"/><Relationship Id="rId9" Type="http://schemas.openxmlformats.org/officeDocument/2006/relationships/hyperlink" Target="http://lcweb.loc.gov/rr/digiref/cdrshome.html" TargetMode="External"/><Relationship Id="rId10" Type="http://schemas.openxmlformats.org/officeDocument/2006/relationships/hyperlink" Target="http://lcweb.loc.gov/rr/digiref/cdrshome.html" TargetMode="External"/><Relationship Id="rId11" Type="http://schemas.openxmlformats.org/officeDocument/2006/relationships/hyperlink" Target="http://lcweb.loc.gov/rr/digiref/cdrshome.html" TargetMode="External"/><Relationship Id="rId12" Type="http://schemas.openxmlformats.org/officeDocument/2006/relationships/hyperlink" Target="http://lcweb.loc.gov/rr/digiref/cdrshome.html" TargetMode="External"/><Relationship Id="rId13" Type="http://schemas.openxmlformats.org/officeDocument/2006/relationships/hyperlink" Target="http://lcweb.loc.gov/rr/digiref/cdrshome.html" TargetMode="External"/><Relationship Id="rId14" Type="http://schemas.openxmlformats.org/officeDocument/2006/relationships/hyperlink" Target="http://lcweb.loc.gov/rr/digiref/cdrshome.html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dlib.org/dlib/june00/kresh/06kresh.html" TargetMode="External"/><Relationship Id="rId4" Type="http://schemas.openxmlformats.org/officeDocument/2006/relationships/hyperlink" Target="http://www.dlib.org/dlib/june00/kresh/06kresh.html" TargetMode="External"/><Relationship Id="rId5" Type="http://schemas.openxmlformats.org/officeDocument/2006/relationships/hyperlink" Target="http://www.dlib.org/dlib/june00/kresh/06kresh.html" TargetMode="External"/><Relationship Id="rId6" Type="http://schemas.openxmlformats.org/officeDocument/2006/relationships/hyperlink" Target="http://www.dlib.org/dlib/june00/kresh/06kresh.html" TargetMode="External"/><Relationship Id="rId7" Type="http://schemas.openxmlformats.org/officeDocument/2006/relationships/hyperlink" Target="http://www.dlib.org/dlib/june00/kresh/06kresh.html" TargetMode="External"/><Relationship Id="rId8" Type="http://schemas.openxmlformats.org/officeDocument/2006/relationships/hyperlink" Target="http://www.dlib.org/dlib/june00/kresh/06kresh.html" TargetMode="External"/><Relationship Id="rId9" Type="http://schemas.openxmlformats.org/officeDocument/2006/relationships/hyperlink" Target="http://www.dlib.org/dlib/june00/kresh/06kresh.html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fetc.doe.gov/coolscience/res_archive/q&amp;a_31.html" TargetMode="External"/><Relationship Id="rId4" Type="http://schemas.openxmlformats.org/officeDocument/2006/relationships/hyperlink" Target="http://www.fetc.doe.gov/coolscience/res_archive/q&amp;a_31.html" TargetMode="External"/><Relationship Id="rId5" Type="http://schemas.openxmlformats.org/officeDocument/2006/relationships/hyperlink" Target="http://www.fetc.doe.gov/coolscience/res_archive/q&amp;a_31.html" TargetMode="External"/><Relationship Id="rId6" Type="http://schemas.openxmlformats.org/officeDocument/2006/relationships/hyperlink" Target="http://www.fetc.doe.gov/coolscience/res_archive/q&amp;a_31.html" TargetMode="External"/><Relationship Id="rId7" Type="http://schemas.openxmlformats.org/officeDocument/2006/relationships/hyperlink" Target="http://www.fetc.doe.gov/coolscience/res_archive/q&amp;a_31.html" TargetMode="External"/><Relationship Id="rId8" Type="http://schemas.openxmlformats.org/officeDocument/2006/relationships/hyperlink" Target="http://www.fetc.doe.gov/coolscience/res_archive/q&amp;a_31.html" TargetMode="External"/><Relationship Id="rId9" Type="http://schemas.openxmlformats.org/officeDocument/2006/relationships/hyperlink" Target="http://www.fetc.doe.gov/coolscience/res_archive/q&amp;a_31.html" TargetMode="External"/><Relationship Id="rId10" Type="http://schemas.openxmlformats.org/officeDocument/2006/relationships/hyperlink" Target="http://www.fetc.doe.gov/coolscience/res_archive/q&amp;a_31.html" TargetMode="External"/><Relationship Id="rId11" Type="http://schemas.openxmlformats.org/officeDocument/2006/relationships/hyperlink" Target="http://www.fetc.doe.gov/coolscience/res_archive/q&amp;a_31.html" TargetMode="External"/><Relationship Id="rId12" Type="http://schemas.openxmlformats.org/officeDocument/2006/relationships/hyperlink" Target="http://www.fetc.doe.gov/coolscience/res_archive/q&amp;a_31.html" TargetMode="External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hyperlink" Target="http://www.contrib.andrew.cmu.edu/~matthewm/erefwvla.html" TargetMode="External"/><Relationship Id="rId16" Type="http://schemas.openxmlformats.org/officeDocument/2006/relationships/hyperlink" Target="http://www.contrib.andrew.cmu.edu/~matthewm/erefwvla.html" TargetMode="External"/><Relationship Id="rId17" Type="http://schemas.openxmlformats.org/officeDocument/2006/relationships/hyperlink" Target="http://www.contrib.andrew.cmu.edu/~matthewm/erefwvla.html" TargetMode="External"/><Relationship Id="rId18" Type="http://schemas.openxmlformats.org/officeDocument/2006/relationships/hyperlink" Target="http://www.contrib.andrew.cmu.edu/~matthewm/erefwvla.html" TargetMode="External"/><Relationship Id="rId19" Type="http://schemas.openxmlformats.org/officeDocument/2006/relationships/hyperlink" Target="http://www.contrib.andrew.cmu.edu/~matthewm/erefwvla.html" TargetMode="External"/><Relationship Id="rId20" Type="http://schemas.openxmlformats.org/officeDocument/2006/relationships/hyperlink" Target="http://www.contrib.andrew.cmu.edu/~matthewm/erefwvla.html" TargetMode="External"/><Relationship Id="rId21" Type="http://schemas.openxmlformats.org/officeDocument/2006/relationships/hyperlink" Target="http://www.contrib.andrew.cmu.edu/~matthewm/erefwvla.html" TargetMode="External"/><Relationship Id="rId22" Type="http://schemas.openxmlformats.org/officeDocument/2006/relationships/hyperlink" Target="http://www.contrib.andrew.cmu.edu/~matthewm/erefwvla.html" TargetMode="External"/><Relationship Id="rId23" Type="http://schemas.openxmlformats.org/officeDocument/2006/relationships/hyperlink" Target="http://www.contrib.andrew.cmu.edu/~matthewm/erefwvla.html" TargetMode="External"/><Relationship Id="rId24" Type="http://schemas.openxmlformats.org/officeDocument/2006/relationships/hyperlink" Target="http://www.contrib.andrew.cmu.edu/~matthewm/erefwvla.html" TargetMode="External"/><Relationship Id="rId25" Type="http://schemas.openxmlformats.org/officeDocument/2006/relationships/hyperlink" Target="http://www.contrib.andrew.cmu.edu/~matthewm/erefwvla.html" TargetMode="External"/><Relationship Id="rId26" Type="http://schemas.openxmlformats.org/officeDocument/2006/relationships/hyperlink" Target="http://www.contrib.andrew.cmu.edu/~matthewm/erefwvla.html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ntrib.andrew.cmu.edu/~matthewm/page5.html" TargetMode="External"/><Relationship Id="rId2" Type="http://schemas.openxmlformats.org/officeDocument/2006/relationships/hyperlink" Target="http://www.contrib.andrew.cmu.edu/~matthewm/page6.html" TargetMode="External"/><Relationship Id="rId3" Type="http://schemas.openxmlformats.org/officeDocument/2006/relationships/hyperlink" Target="http://www.contrib.andrew.cmu.edu/~matthewm/page7.html" TargetMode="External"/><Relationship Id="rId4" Type="http://schemas.openxmlformats.org/officeDocument/2006/relationships/hyperlink" Target="http://www.contrib.andrew.cmu.edu/~matthewm/page8.html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ctronic Refer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Matt Marstel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July 17, 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rnegie Mellon Univers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contrib.andrew.cmu.edu/~matthewm./erefcv/classvis.html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vePers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ides on LivePerson’s Serv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res no hardware, no software, no java, no plug-i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Just a standard brows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 3.0 to 4.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net Explorer 3.0 to 5.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rewalls shouldn’t be a probl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24/7 Reference Ser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ede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vacy Concer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eded or not – here it co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laborative Digital Reference Servi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lcweb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.loc.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gov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rr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digiref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cdrshome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.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Real-Time Reference for Undergraduate Students in Science, Mathematics and Engineering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earable Computers for Electronic Refer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few of us out there calling for explo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y views deal with support of electronic refer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mory Augm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se the use of print materials for electronic refer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neral approac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MU known for research in wearable comput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 more of their resear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en dialogue/make suggestions for possible usage of wearable computers in a library set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els, Eileen G. “The E-mail Reference Interview,”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RQ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vol. 35, no. 3, (Spring 1996), pp 345-58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awford, Walt. “Principled libraries: finding stability in changing times,”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Onlin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vol. 24 no. 2 (Mar./Apr. 2000), pp 48-53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ichler, Linda and Michael Halperin. “LivePerson: Keeping Reference Alive and Clicking”,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conten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(June 2000)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ttp://www.ecmag.net/awards/award13.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ibliography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ines, Annette and Alison Grodzinski. “Web forms:  improving, expanding, and promoting remote reference services,”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C&amp;RL New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vol. 60, no. 4, (April 1999), pp 271-272,29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resh, Diane Nester.  “Offering High Quality Reference Service on the Web:  The Collaborative Digital Reference Service (CDRS),”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D-Lib Magazin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vol. 6, no. 6, (June 2000), 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://www.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dlib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.org/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dlib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/june00/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kresh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/06kresh.htm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, Wei and Joyce Wright.  “QB Online,” 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C&amp;RL New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vol. 59, no. 10, (November 1998), pp 772-774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izrachi, Diane.  “Info-Fashions for the New Millenium,”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Onlin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vol. 24, no. 1, (Jan./Feb. 2000), pp 82-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ibliography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zrachi, Diane.  “Info-Fashions for the New Millenium,”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Onlin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vol. 24, no. 1, (Jan./Feb. 2000), pp 82-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ctronic Reference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– </a:t>
            </a:r>
            <a:r>
              <a:rPr b="0" i="1" lang="en-US" sz="4400" spc="-1" strike="noStrike">
                <a:solidFill>
                  <a:srgbClr val="660066"/>
                </a:solidFill>
                <a:latin typeface="Tahoma"/>
              </a:rPr>
              <a:t>a 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tilization of computerized tools to augment or assist traditional reference services in a librar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TML For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ging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at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arable compu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mart roo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voiding the Techno-glitz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ftware, hardware, etc. are too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ols are not a panace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nd the right tool for a tas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ought provoking recent article by Walt Crawford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awford’s “Principled Library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chnology doesn’t define today’s library, and it won’t define good libraries in the future.  Technology provides tools; librarians use those tools.  Technology will keep changing.  Effective librarians will use changing technology without letting the tools take over.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en tools take over…a story of e-m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ecial library environ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hysical visits to the library frowned up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oice-mail deeply entrench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LAN arrived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…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ong with very friendly e-mail softw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 started doing e-mail reference without realizing what hit us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t Wait…it gets wor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politics of the situ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Ask-A-Scientist-and-A-Libraria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fetc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.doe.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gov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/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coolscience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res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_archive/q&amp;a_31.htm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oughts about polic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1312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good topic for 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WVL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http://www.contrib.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17"/>
              </a:rPr>
              <a:t>andrew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18"/>
              </a:rPr>
              <a:t>.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19"/>
              </a:rPr>
              <a:t>cmu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20"/>
              </a:rPr>
              <a:t>.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21"/>
              </a:rPr>
              <a:t>edu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22"/>
              </a:rPr>
              <a:t>/~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23"/>
              </a:rPr>
              <a:t>matthewm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24"/>
              </a:rPr>
              <a:t>/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25"/>
              </a:rPr>
              <a:t>erefwvla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26"/>
              </a:rPr>
              <a:t>.htm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-mail Reference observ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gati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ck of visual c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 reference inter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me delay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ileen Abels’  artic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xonomy of e-mail reference approa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winner – the systematic approa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stematic approach </a:t>
            </a:r>
            <a:r>
              <a:rPr b="0" lang="en-U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HTML For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me thoughts from before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Beyond E-mai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http://www.contrib.andrew.cmu.edu/~matthewm/page5.htm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eb Form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http://www.contrib.andrew.cmu.edu/~matthewm/page6.htm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QB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http://www.contrib.andrew.cmu.edu/~matthewm/page7.htm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TalkBack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http://www.contrib.andrew.cmu.edu/~matthewm/page8.htm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mething Like Chat” – Why Not Chat Matt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versity Libraries at CMU is beginning work with LivePerson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http://www.liveperson.com/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at software geared to customer service and real time interaction  with the custom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pposed to include ability to ‘push’ web sites to the custom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ready beginning to be used in library setting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4T15:53:38Z</dcterms:created>
  <dc:creator>Matt Marsteller</dc:creator>
  <dc:description/>
  <dc:language>en-US</dc:language>
  <cp:lastModifiedBy>ES4ABB182</cp:lastModifiedBy>
  <dcterms:modified xsi:type="dcterms:W3CDTF">2000-07-17T19:56:08Z</dcterms:modified>
  <cp:revision>5</cp:revision>
  <dc:subject/>
  <dc:title>Electronic Re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atthewm@andrew.cm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DOWS\DESKTOP\Matt\eref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