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216-732A-4ADC-A3D7-9E057139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C9D-01CE-4706-A73B-16C121C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FB5-42EA-497A-8FB9-5B131B53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FA1-6315-49A2-A230-B85D6D0A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7E56-DFAC-4C81-8E73-E329C9B4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0B16-5FF2-4F6A-BD10-CA77486F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AF20-EFF0-4052-B5D4-E089EDAC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681-C09B-419C-8D43-21A53DE3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B661-3E14-42B7-B8C3-833DF4D2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98E0-8448-4A66-A368-245CA577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7751-5ACA-42E0-B318-785A522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905-DC0B-4131-B14F-80F2B9B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72D9-C5A5-46A6-92D1-0EFEBF0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0B2-38DD-4483-BE26-6FEC367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339-6A01-4FCE-AD17-68030E94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196B-DF9D-48DC-A2B5-0BD7258D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37E1-5014-4AD6-A664-0D1E9757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CB9-7524-4EA2-9BAF-6297B52D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898-F3EB-4C9E-AFEE-B2011383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1F2-8B03-4BC8-A924-D8CD739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B09-9E2F-4679-AF54-9BF57A6B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AD8-A459-4729-A769-74263E0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E2D-A0AB-410C-87FC-90A22F9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AFD-9140-4B99-B51D-0A7FFD5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12C-760F-4A7B-8911-57515E6C94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08EB-09E4-48A5-B5EF-780DAE65CA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matthewm/mrmwork.html" TargetMode="External"/><Relationship Id="rId2" Type="http://schemas.openxmlformats.org/officeDocument/2006/relationships/hyperlink" Target="http://www.contrib.andrew.cmu.edu/~matthewm./erefcv/classvis.htm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lcweb.loc.gov/rr/digiref/cdrshome.html" TargetMode="External"/><Relationship Id="rId5" Type="http://schemas.openxmlformats.org/officeDocument/2006/relationships/hyperlink" Target="http://lcweb.loc.gov/rr/digiref/cdrshome.html" TargetMode="External"/><Relationship Id="rId6" Type="http://schemas.openxmlformats.org/officeDocument/2006/relationships/hyperlink" Target="http://lcweb.loc.gov/rr/digiref/cdrshome.html" TargetMode="External"/><Relationship Id="rId7" Type="http://schemas.openxmlformats.org/officeDocument/2006/relationships/hyperlink" Target="http://lcweb.loc.gov/rr/digiref/cdrshome.html" TargetMode="External"/><Relationship Id="rId8" Type="http://schemas.openxmlformats.org/officeDocument/2006/relationships/hyperlink" Target="http://lcweb.loc.gov/rr/digiref/cdrshome.html" TargetMode="External"/><Relationship Id="rId9" Type="http://schemas.openxmlformats.org/officeDocument/2006/relationships/hyperlink" Target="http://lcweb.loc.gov/rr/digiref/cdrshome.html" TargetMode="External"/><Relationship Id="rId10" Type="http://schemas.openxmlformats.org/officeDocument/2006/relationships/hyperlink" Target="http://lcweb.loc.gov/rr/digiref/cdrshome.html" TargetMode="External"/><Relationship Id="rId11" Type="http://schemas.openxmlformats.org/officeDocument/2006/relationships/hyperlink" Target="http://lcweb.loc.gov/rr/digiref/cdrshome.html" TargetMode="External"/><Relationship Id="rId12" Type="http://schemas.openxmlformats.org/officeDocument/2006/relationships/hyperlink" Target="http://lcweb.loc.gov/rr/digiref/cdrshome.html" TargetMode="External"/><Relationship Id="rId13" Type="http://schemas.openxmlformats.org/officeDocument/2006/relationships/hyperlink" Target="http://lcweb.loc.gov/rr/digiref/cdrshome.html" TargetMode="External"/><Relationship Id="rId14" Type="http://schemas.openxmlformats.org/officeDocument/2006/relationships/hyperlink" Target="http://lcweb.loc.gov/rr/digiref/cdrshome.html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lib.org/dlib/june00/kresh/06kresh.html" TargetMode="External"/><Relationship Id="rId4" Type="http://schemas.openxmlformats.org/officeDocument/2006/relationships/hyperlink" Target="http://www.dlib.org/dlib/june00/kresh/06kresh.html" TargetMode="External"/><Relationship Id="rId5" Type="http://schemas.openxmlformats.org/officeDocument/2006/relationships/hyperlink" Target="http://www.dlib.org/dlib/june00/kresh/06kresh.html" TargetMode="External"/><Relationship Id="rId6" Type="http://schemas.openxmlformats.org/officeDocument/2006/relationships/hyperlink" Target="http://www.dlib.org/dlib/june00/kresh/06kresh.html" TargetMode="External"/><Relationship Id="rId7" Type="http://schemas.openxmlformats.org/officeDocument/2006/relationships/hyperlink" Target="http://www.dlib.org/dlib/june00/kresh/06kresh.html" TargetMode="External"/><Relationship Id="rId8" Type="http://schemas.openxmlformats.org/officeDocument/2006/relationships/hyperlink" Target="http://www.dlib.org/dlib/june00/kresh/06kresh.html" TargetMode="External"/><Relationship Id="rId9" Type="http://schemas.openxmlformats.org/officeDocument/2006/relationships/hyperlink" Target="http://www.dlib.org/dlib/june00/kresh/06kresh.html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fetc.doe.gov/coolscience/res_archive/q&amp;a_31.html" TargetMode="External"/><Relationship Id="rId4" Type="http://schemas.openxmlformats.org/officeDocument/2006/relationships/hyperlink" Target="http://www.fetc.doe.gov/coolscience/res_archive/q&amp;a_31.html" TargetMode="External"/><Relationship Id="rId5" Type="http://schemas.openxmlformats.org/officeDocument/2006/relationships/hyperlink" Target="http://www.fetc.doe.gov/coolscience/res_archive/q&amp;a_31.html" TargetMode="External"/><Relationship Id="rId6" Type="http://schemas.openxmlformats.org/officeDocument/2006/relationships/hyperlink" Target="http://www.fetc.doe.gov/coolscience/res_archive/q&amp;a_31.html" TargetMode="External"/><Relationship Id="rId7" Type="http://schemas.openxmlformats.org/officeDocument/2006/relationships/hyperlink" Target="http://www.fetc.doe.gov/coolscience/res_archive/q&amp;a_31.html" TargetMode="External"/><Relationship Id="rId8" Type="http://schemas.openxmlformats.org/officeDocument/2006/relationships/hyperlink" Target="http://www.fetc.doe.gov/coolscience/res_archive/q&amp;a_31.html" TargetMode="External"/><Relationship Id="rId9" Type="http://schemas.openxmlformats.org/officeDocument/2006/relationships/hyperlink" Target="http://www.fetc.doe.gov/coolscience/res_archive/q&amp;a_31.html" TargetMode="External"/><Relationship Id="rId10" Type="http://schemas.openxmlformats.org/officeDocument/2006/relationships/hyperlink" Target="http://www.fetc.doe.gov/coolscience/res_archive/q&amp;a_31.html" TargetMode="External"/><Relationship Id="rId11" Type="http://schemas.openxmlformats.org/officeDocument/2006/relationships/hyperlink" Target="http://www.fetc.doe.gov/coolscience/res_archive/q&amp;a_31.html" TargetMode="External"/><Relationship Id="rId12" Type="http://schemas.openxmlformats.org/officeDocument/2006/relationships/hyperlink" Target="http://www.fetc.doe.gov/coolscience/res_archive/q&amp;a_31.html" TargetMode="External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hyperlink" Target="http://www.contrib.andrew.cmu.edu/~matthewm/erefwvla.html" TargetMode="External"/><Relationship Id="rId16" Type="http://schemas.openxmlformats.org/officeDocument/2006/relationships/hyperlink" Target="http://www.contrib.andrew.cmu.edu/~matthewm/erefwvla.html" TargetMode="External"/><Relationship Id="rId17" Type="http://schemas.openxmlformats.org/officeDocument/2006/relationships/hyperlink" Target="http://www.contrib.andrew.cmu.edu/~matthewm/erefwvla.html" TargetMode="External"/><Relationship Id="rId18" Type="http://schemas.openxmlformats.org/officeDocument/2006/relationships/hyperlink" Target="http://www.contrib.andrew.cmu.edu/~matthewm/erefwvla.html" TargetMode="External"/><Relationship Id="rId19" Type="http://schemas.openxmlformats.org/officeDocument/2006/relationships/hyperlink" Target="http://www.contrib.andrew.cmu.edu/~matthewm/erefwvla.html" TargetMode="External"/><Relationship Id="rId20" Type="http://schemas.openxmlformats.org/officeDocument/2006/relationships/hyperlink" Target="http://www.contrib.andrew.cmu.edu/~matthewm/erefwvla.html" TargetMode="External"/><Relationship Id="rId21" Type="http://schemas.openxmlformats.org/officeDocument/2006/relationships/hyperlink" Target="http://www.contrib.andrew.cmu.edu/~matthewm/erefwvla.html" TargetMode="External"/><Relationship Id="rId22" Type="http://schemas.openxmlformats.org/officeDocument/2006/relationships/hyperlink" Target="http://www.contrib.andrew.cmu.edu/~matthewm/erefwvla.html" TargetMode="External"/><Relationship Id="rId23" Type="http://schemas.openxmlformats.org/officeDocument/2006/relationships/hyperlink" Target="http://www.contrib.andrew.cmu.edu/~matthewm/erefwvla.html" TargetMode="External"/><Relationship Id="rId24" Type="http://schemas.openxmlformats.org/officeDocument/2006/relationships/hyperlink" Target="http://www.contrib.andrew.cmu.edu/~matthewm/erefwvla.html" TargetMode="External"/><Relationship Id="rId25" Type="http://schemas.openxmlformats.org/officeDocument/2006/relationships/hyperlink" Target="http://www.contrib.andrew.cmu.edu/~matthewm/erefwvla.html" TargetMode="External"/><Relationship Id="rId26" Type="http://schemas.openxmlformats.org/officeDocument/2006/relationships/hyperlink" Target="http://www.contrib.andrew.cmu.edu/~matthewm/erefwvla.html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matthewm/page5.html" TargetMode="External"/><Relationship Id="rId2" Type="http://schemas.openxmlformats.org/officeDocument/2006/relationships/hyperlink" Target="http://www.contrib.andrew.cmu.edu/~matthewm/page6.html" TargetMode="External"/><Relationship Id="rId3" Type="http://schemas.openxmlformats.org/officeDocument/2006/relationships/hyperlink" Target="http://www.contrib.andrew.cmu.edu/~matthewm/page7.html" TargetMode="External"/><Relationship Id="rId4" Type="http://schemas.openxmlformats.org/officeDocument/2006/relationships/hyperlink" Target="http://www.contrib.andrew.cmu.edu/~matthewm/page8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ic 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Matt Marstel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uly 17,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negie Mellon Univers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contrib.andrew.cmu.edu/~matthewm./erefcv/classvis.html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vePers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ides on LivePerson’s Serv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res no hardware, no software, no java, no plug-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ust a standard brows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 3.0 to 4.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net Explorer 3.0 to 5.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rewalls shouldn’t be a probl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24/7 Reference Ser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ede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vacy Concer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eded or not – here it co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aborative Digital Reference Serv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lcweb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loc.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gov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rr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ref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cdrshome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al-Time Reference for Undergraduate Students in Science, Mathematics and Engineering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earable Computers for Electronic Refer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few of us out there calling for explo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y views deal with support of electronic refer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mory Augm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se the use of print materials for electronic refer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neral approa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MU known for research in wearable compu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 more of their resear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n dialogue/make suggestions for possible usage of wearable computers in a library set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els, Eileen G. “The E-mail Reference Interview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RQ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35, no. 3, (Spring 1996), pp 345-58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awford, Walt. “Principled libraries: finding stability in changing times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Onli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24 no. 2 (Mar./Apr. 2000), pp 48-5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ichler, Linda and Michael Halperin. “LivePerson: Keeping Reference Alive and Clicking”,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conten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(June 2000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ttp://www.ecmag.net/awards/award13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bliography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ines, Annette and Alison Grodzinski. “Web forms:  improving, expanding, and promoting remote reference services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&amp;RL New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60, no. 4, (April 1999), pp 271-272,29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resh, Diane Nester.  “Offering High Quality Reference Service on the Web:  The Collaborative Digital Reference Service (CDRS)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D-Lib Magazi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6, no. 6, (June 2000),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dlib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.org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dlib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/june00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kresh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06kresh.ht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, Wei and Joyce Wright.  “QB Online,”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&amp;RL New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59, no. 10, (November 1998), pp 772-774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zrachi, Diane.  “Info-Fashions for the New Millenium,”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Onli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vol. 24, no. 1, (Jan./Feb. 2000), pp 82-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bliography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zrachi, Diane.  “Info-Fashions for the New Millenium,”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Onlin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vol. 24, no. 1, (Jan./Feb. 2000), pp 82-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ctronic Referenc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– 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a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tilization of computerized tools to augment or assist traditional reference services in a librar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TML For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ging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t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arable compu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mart roo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voiding the Techno-glitz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ftware, hardware, etc. are too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ols are not a panac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d the right tool for a tas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ought provoking recent article by Walt Crawford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awford’s “Principled Library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chnology doesn’t define today’s library, and it won’t define good libraries in the future.  Technology provides tools; librarians use those tools.  Technology will keep changing.  Effective librarians will use changing technology without letting the tools take over.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en tools take over…a story of e-m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ial library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hysical visits to the library frowned up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oice-mail deeply entrench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LAN arrived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…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ong with very friendly e-mail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started doing e-mail reference without realizing what hit u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t Wait…it gets wor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politics of the sit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sk-A-Scientist-and-A-Libraria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fetc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doe.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gov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coolscience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res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_archive/q&amp;a_31.ht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oughts about polic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1312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good topic for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WVL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http://www.contrib.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andrew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8"/>
              </a:rPr>
              <a:t>.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19"/>
              </a:rPr>
              <a:t>cmu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0"/>
              </a:rPr>
              <a:t>.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1"/>
              </a:rPr>
              <a:t>edu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2"/>
              </a:rPr>
              <a:t>/~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3"/>
              </a:rPr>
              <a:t>matthewm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4"/>
              </a:rPr>
              <a:t>/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5"/>
              </a:rPr>
              <a:t>erefwvla</a:t>
            </a:r>
            <a:r>
              <a:rPr b="0" lang="en-US" sz="1600" spc="-1" strike="noStrike" u="sng">
                <a:solidFill>
                  <a:srgbClr val="6f89f7"/>
                </a:solidFill>
                <a:uFillTx/>
                <a:latin typeface="Tahoma"/>
                <a:hlinkClick r:id="rId26"/>
              </a:rPr>
              <a:t>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-mail Reference observ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gat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ck of visual c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 reference intervie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me delay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ileen Abels’  artic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xonomy of e-mail reference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winner – the systematic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stematic approach 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HTML For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thoughts from before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Beyond E-mai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5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eb For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6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QB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7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TalkBack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http://www.contrib.andrew.cmu.edu/~matthewm/page8.htm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thing Like Chat” – Why Not Chat Mat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versity Libraries at CMU is beginning work with LivePerson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http://www.liveperson.com/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t software geared to customer service and real time interaction  with the custom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pposed to include ability to ‘push’ web sites to the custom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ready beginning to be used in library setting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53:38Z</dcterms:created>
  <dc:creator>Matt Marsteller</dc:creator>
  <dc:description/>
  <dc:language>en-US</dc:language>
  <cp:lastModifiedBy>ES4ABB182</cp:lastModifiedBy>
  <dcterms:modified xsi:type="dcterms:W3CDTF">2000-07-17T19:56:08Z</dcterms:modified>
  <cp:revision>5</cp:revision>
  <dc:subject/>
  <dc:title>Electronic Re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atthewm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Matt\eref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