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8F8-B87B-40D4-86FB-D0CC575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64D-DC3D-41A1-8A3A-BA8B2C68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D38-3A6D-4165-8070-4780BCC2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852-120D-4232-A3EE-79887111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361-C31B-40F9-AC26-69BD4F3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E67-E18A-429C-9DFB-39F7322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007-1111-4FEF-A788-801DB19B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48F-C9CF-4E49-918F-6C217D7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6A0-3A25-4BDE-A45E-2BAE0E7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0D0-2BEC-4AB7-AF98-53013E9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CCF-C1AE-4F1E-B641-1FD9220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80E-F9AC-468E-BEB6-7D97B3E1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6097-8308-49C7-A288-0A43FFCB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ing Public Policy in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ools used by E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 Marst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m@andrew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ids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4" name="plaids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5" name="plaids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plaids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plaids" descr=""/>
          <p:cNvPicPr/>
          <p:nvPr/>
        </p:nvPicPr>
        <p:blipFill>
          <a:blip r:embed="rId5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plaids" descr=""/>
          <p:cNvPicPr/>
          <p:nvPr/>
        </p:nvPicPr>
        <p:blipFill>
          <a:blip r:embed="rId6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laids" descr=""/>
          <p:cNvPicPr/>
          <p:nvPr/>
        </p:nvPicPr>
        <p:blipFill>
          <a:blip r:embed="rId7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plaids" descr=""/>
          <p:cNvPicPr/>
          <p:nvPr/>
        </p:nvPicPr>
        <p:blipFill>
          <a:blip r:embed="rId8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laids" descr=""/>
          <p:cNvPicPr/>
          <p:nvPr/>
        </p:nvPicPr>
        <p:blipFill>
          <a:blip r:embed="rId9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plaids" descr=""/>
          <p:cNvPicPr/>
          <p:nvPr/>
        </p:nvPicPr>
        <p:blipFill>
          <a:blip r:embed="rId10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Technical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cy Publications Index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access.gpo.gov/su_docs/locators/api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57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2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3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5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66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ineering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 Compe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Sciences &amp; Pollution Management (incl. Risk Abstra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E Publications and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Finder Sch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of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71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2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3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4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5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8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79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0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Odds &amp; 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Literature – CAMEO, World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Xpl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erception?  Misundersta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6324480"/>
            <a:ext cx="2133720" cy="341280"/>
          </a:xfrm>
          <a:prstGeom prst="rect">
            <a:avLst/>
          </a:prstGeom>
          <a:ln w="0">
            <a:noFill/>
          </a:ln>
        </p:spPr>
      </p:pic>
      <p:pic>
        <p:nvPicPr>
          <p:cNvPr id="84" name="plaids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5" name="plaids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6" name="plaid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laids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8" name="plaids" descr=""/>
          <p:cNvPicPr/>
          <p:nvPr/>
        </p:nvPicPr>
        <p:blipFill>
          <a:blip r:embed="rId6"/>
          <a:stretch/>
        </p:blipFill>
        <p:spPr>
          <a:xfrm>
            <a:off x="304920" y="22096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plaids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0" name="plaids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plaids" descr=""/>
          <p:cNvPicPr/>
          <p:nvPr/>
        </p:nvPicPr>
        <p:blipFill>
          <a:blip r:embed="rId9"/>
          <a:stretch/>
        </p:blipFill>
        <p:spPr>
          <a:xfrm>
            <a:off x="304920" y="403848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2" name="plaids" descr=""/>
          <p:cNvPicPr/>
          <p:nvPr/>
        </p:nvPicPr>
        <p:blipFill>
          <a:blip r:embed="rId10"/>
          <a:stretch/>
        </p:blipFill>
        <p:spPr>
          <a:xfrm>
            <a:off x="304920" y="4648320"/>
            <a:ext cx="67464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plaids" descr=""/>
          <p:cNvPicPr/>
          <p:nvPr/>
        </p:nvPicPr>
        <p:blipFill>
          <a:blip r:embed="rId11"/>
          <a:stretch/>
        </p:blipFill>
        <p:spPr>
          <a:xfrm>
            <a:off x="304920" y="5867280"/>
            <a:ext cx="674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7:15:12Z</dcterms:created>
  <dc:creator>matthewm</dc:creator>
  <dc:description/>
  <dc:language>en-US</dc:language>
  <cp:lastModifiedBy>matthewm</cp:lastModifiedBy>
  <dcterms:modified xsi:type="dcterms:W3CDTF">2003-03-05T17:48:40Z</dcterms:modified>
  <cp:revision>1</cp:revision>
  <dc:subject/>
  <dc:title>Forming Public Policy in Engineering</dc:title>
</cp:coreProperties>
</file>