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9294813" cy="7048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295200" cy="70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267160" y="-36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2997360" y="528120"/>
            <a:ext cx="33033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239480" y="3347640"/>
            <a:ext cx="6816600" cy="3171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669564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267160" y="6695640"/>
            <a:ext cx="402912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92F77-88E4-40BE-A0BA-BB43C9C32A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97360" y="528480"/>
            <a:ext cx="3303360" cy="26434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39480" y="3347640"/>
            <a:ext cx="6816600" cy="3171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how patents differ from other kinds of technical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earch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patent attorney; not giving a strict intrepretation of the 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97360" y="528480"/>
            <a:ext cx="3303360" cy="2643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94920" y="316188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ouse, your car, and your civil rights are controlled and protected by laws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R IDEAS ARE 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, that is, until you communicate them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are intellectual property, and only when they are communicated, translated into writings, or realized in tangible objects do legal rights and obligations ari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is obligated to communicate ideas. But keeping them to yourself does not serve mankind.  Patenting your idea is a way to protect your intellectual property and contribute to the common good.  The authors of the U.S. Constitution understood this and empowered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omote the Progress of Science and the Useful Arts, by securing for limited Times to  Authors and Inventors the exclusive Right to their respective Writings and Discoveri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ent for an invention is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t of a property r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 Government to the inventor acting through the Patent and Trademark Office.  The term of a patent is 20 years from the date an inventor first applies for the patent subject to the payment of appropriate maintenance f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ent is a “contract which gives the invent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the right to exclude others from making, using, or selling” the invention during a limited time perio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rante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right to make, use, or sell, but the right to exclude others from making, using, or selling the invention.  The inventor must provide a full public disclosure of information about the i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E91-0E44-4551-8E4B-9A43EC1B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549-B6E1-4A3B-8BFF-49E4AF29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BD6-88E4-4C96-86C2-07CBD686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4D0-58A8-4DCF-A813-8A750985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1E2-7CF8-4DFD-82B4-E663EB45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5B24-85CF-4442-9750-1CFF486C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2337-6767-45CC-95FF-0A17EF5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619-4E9D-4ED4-8A91-06C9422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9B82-50E8-4964-A79B-47C3211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5844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656A-5D27-4404-9F03-C070B82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F8AE-76ED-44C1-97A3-089374F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D91-CF35-49A1-A797-C4958D7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858-B86E-4A86-9BED-F1F4C85E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DF29-1F84-4238-8919-C953EEC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EDEB-4E79-47C7-8AEE-A25A1CB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F33F-DA43-495C-A81A-1B1FC1D8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D74-AFAA-470F-9766-4279EC90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CE0-B40E-4371-9DE2-0EF8EA53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59C-3FB9-4374-88A9-08B5079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D27-21A9-48DF-9818-3C81B955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5844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8AC-E224-476C-BBCF-559EFB89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D8C-99C0-4543-B9F5-F6C5703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BEC-A61E-4D5E-AA9D-D50CAD1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7DE-23DF-486A-AADF-B9EB702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3120" y="281160"/>
            <a:ext cx="438120" cy="5061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71440"/>
            <a:ext cx="3283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300320"/>
            <a:ext cx="422280" cy="50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731880"/>
            <a:ext cx="36828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2600" y="654120"/>
            <a:ext cx="560520" cy="44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57320"/>
            <a:ext cx="31680" cy="11224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8320" y="1009800"/>
            <a:ext cx="8226720" cy="3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584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746760"/>
            <a:ext cx="1905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746760"/>
            <a:ext cx="28958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746760"/>
            <a:ext cx="1905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31D-0E40-44C4-8A5A-B4AC1DBE69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600280"/>
            <a:ext cx="9009000" cy="1123560"/>
            <a:chOff x="0" y="2600280"/>
            <a:chExt cx="9009000" cy="11235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715480"/>
              <a:ext cx="711360" cy="506880"/>
              <a:chOff x="290520" y="2715480"/>
              <a:chExt cx="711360" cy="5068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715480"/>
                <a:ext cx="437400" cy="506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715480"/>
                <a:ext cx="32832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3166200"/>
              <a:ext cx="737640" cy="506880"/>
              <a:chOff x="414360" y="3166200"/>
              <a:chExt cx="737640" cy="5068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3166200"/>
                <a:ext cx="421560" cy="506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3166200"/>
                <a:ext cx="36900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3088080"/>
              <a:ext cx="560520" cy="45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600280"/>
              <a:ext cx="31680" cy="11235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477960"/>
              <a:ext cx="869292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512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664320"/>
            <a:ext cx="1904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664320"/>
            <a:ext cx="2895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6CE6-5F30-4FC6-B691-036E376235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05160" y="3089160"/>
            <a:ext cx="621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PATENT SEAR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9320" y="1218960"/>
            <a:ext cx="448812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orney Fe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2152440"/>
            <a:ext cx="70866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Attorney: could begin near $35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Patent agent:  around $1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181880" y="3819600"/>
            <a:ext cx="57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See web site for list of attorney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patent agents b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3440" y="5202360"/>
            <a:ext cx="64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Need to search both US Patent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nd World Patent literature f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comprehens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42840" y="1138320"/>
            <a:ext cx="38862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s &amp; Fe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19320" y="2193840"/>
          <a:ext cx="7086600" cy="4257720"/>
        </p:xfrm>
        <a:graphic>
          <a:graphicData uri="http://schemas.openxmlformats.org/drawingml/2006/table">
            <a:tbl>
              <a:tblPr/>
              <a:tblGrid>
                <a:gridCol w="3047760"/>
                <a:gridCol w="1828800"/>
                <a:gridCol w="22100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Small E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Filing Fe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Maintenance Fe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7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.5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2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$14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29440" y="1082520"/>
            <a:ext cx="61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Searching can be done at a PTD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imes New Roman"/>
              </a:rPr>
              <a:t>(over 70 locatio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82000" y="2600280"/>
            <a:ext cx="23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  <a:ea typeface="Times New Roman"/>
              </a:rPr>
              <a:t>On the web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1800" y="3144960"/>
            <a:ext cx="60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USP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IBM Paten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Various commercial fee based 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60480" y="471492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  <a:ea typeface="Times New Roman"/>
              </a:rPr>
              <a:t>From CMU’s homepag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48200" y="5283360"/>
            <a:ext cx="23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US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  <a:ea typeface="Times New Roman"/>
              </a:rPr>
              <a:t>Lexis-Nex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47800" y="181944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Intellectual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920" y="311940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What is a Pat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470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t’s easy to confuse patents, copyright and trade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m_patent1" descr=""/>
          <p:cNvPicPr/>
          <p:nvPr/>
        </p:nvPicPr>
        <p:blipFill>
          <a:blip r:embed="rId1"/>
          <a:stretch/>
        </p:blipFill>
        <p:spPr>
          <a:xfrm>
            <a:off x="3809880" y="1300320"/>
            <a:ext cx="3745080" cy="544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2519280"/>
            <a:ext cx="152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Wha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at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L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un" descr=""/>
          <p:cNvPicPr/>
          <p:nvPr/>
        </p:nvPicPr>
        <p:blipFill>
          <a:blip r:embed="rId1"/>
          <a:stretch/>
        </p:blipFill>
        <p:spPr>
          <a:xfrm>
            <a:off x="5791320" y="1300320"/>
            <a:ext cx="2208240" cy="2763720"/>
          </a:xfrm>
          <a:prstGeom prst="rect">
            <a:avLst/>
          </a:prstGeom>
          <a:ln w="0">
            <a:noFill/>
          </a:ln>
        </p:spPr>
      </p:pic>
      <p:pic>
        <p:nvPicPr>
          <p:cNvPr id="112" name="simpson" descr=""/>
          <p:cNvPicPr/>
          <p:nvPr/>
        </p:nvPicPr>
        <p:blipFill>
          <a:blip r:embed="rId2"/>
          <a:stretch/>
        </p:blipFill>
        <p:spPr>
          <a:xfrm>
            <a:off x="1600200" y="3495600"/>
            <a:ext cx="2506680" cy="2637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79200" y="1878120"/>
            <a:ext cx="26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Trad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52480" y="1706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What can be paten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519280"/>
            <a:ext cx="449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Manuf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Composition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440" y="4876920"/>
            <a:ext cx="74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These classes of subject matter taken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include practically everything which is 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man and the process of mak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07160" y="195120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Inventions must meet thre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riteria to be patentable</a:t>
            </a: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8680" y="3738600"/>
            <a:ext cx="421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1. 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2.  Us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3.  Non-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36560" y="2141640"/>
            <a:ext cx="60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Three types of pate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2200" y="33321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1.  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28240" y="4226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2. 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7160" y="503856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3. 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ribbage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2103480" cy="2243160"/>
          </a:xfrm>
          <a:prstGeom prst="rect">
            <a:avLst/>
          </a:prstGeom>
          <a:ln w="0">
            <a:noFill/>
          </a:ln>
        </p:spPr>
      </p:pic>
      <p:pic>
        <p:nvPicPr>
          <p:cNvPr id="124" name="jewelry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600280" cy="2130480"/>
          </a:xfrm>
          <a:prstGeom prst="rect">
            <a:avLst/>
          </a:prstGeom>
          <a:ln w="0">
            <a:noFill/>
          </a:ln>
        </p:spPr>
      </p:pic>
      <p:pic>
        <p:nvPicPr>
          <p:cNvPr id="125" name="planter" descr=""/>
          <p:cNvPicPr/>
          <p:nvPr/>
        </p:nvPicPr>
        <p:blipFill>
          <a:blip r:embed="rId3"/>
          <a:stretch/>
        </p:blipFill>
        <p:spPr>
          <a:xfrm>
            <a:off x="3429000" y="4064040"/>
            <a:ext cx="2438280" cy="2270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33520" y="35830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Cribbag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8920" y="350208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Jewelry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86080" y="65563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Pl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62640" y="1300320"/>
            <a:ext cx="27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PTO Fact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27664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First patent issued in July 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Began numbering patents in 1836; already   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4000 in 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pprox. 3100 PTP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In U.S. patent applications are held in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confidence until patent is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Patenting U.S. Inventions abroad (first to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Utility patent term of rights: 20 years from date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you first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Design patent term of rights: 1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20:35:45Z</dcterms:created>
  <dc:creator>University Libraries</dc:creator>
  <dc:description/>
  <dc:language>en-US</dc:language>
  <cp:lastModifiedBy>ES4ABB182</cp:lastModifiedBy>
  <cp:lastPrinted>1999-11-11T15:30:02Z</cp:lastPrinted>
  <dcterms:modified xsi:type="dcterms:W3CDTF">2000-06-23T17:13:1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berard@andrew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Lynn B\Patent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