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7315200"/>
  <p:notesSz cx="9294813" cy="7048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295200" cy="70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5267160" y="-360"/>
            <a:ext cx="402912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2997360" y="528120"/>
            <a:ext cx="330336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1239480" y="3347640"/>
            <a:ext cx="6816600" cy="3171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6695640"/>
            <a:ext cx="402912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5267160" y="6695640"/>
            <a:ext cx="402912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2E391-2908-4B9E-AF14-27DFE6F5EB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997360" y="528480"/>
            <a:ext cx="3303360" cy="26434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39480" y="3347640"/>
            <a:ext cx="6816600" cy="3171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how patents differ from other kinds of technical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earch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patent attorney; not giving a strict intrepretation of the la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997360" y="528480"/>
            <a:ext cx="3303360" cy="26434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94920" y="3161880"/>
            <a:ext cx="6782040" cy="388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house, your car, and your civil rights are controlled and protected by laws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R IDEAS ARE 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, that is, until you communicate them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are intellectual property, and only when they are communicated, translated into writings, or realized in tangible objects do legal rights and obligations ari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is obligated to communicate ideas. But keeping them to yourself does not serve mankind.  Patenting your idea is a way to protect your intellectual property and contribute to the common good.  The authors of the U.S. Constitution understood this and empowered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promote the Progress of Science and the Useful Arts, by securing for limited Times to  Authors and Inventors the exclusive Right to their respective Writings and Discoveri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ent for an invention is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nt of a property righ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 Government to the inventor acting through the Patent and Trademark Office.  The term of a patent is 20 years from the date an inventor first applies for the patent subject to the payment of appropriate maintenance f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ent is a “contract which gives the invent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the right to exclude others from making, using, or selling” the invention during a limited time perio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grante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right to make, use, or sell, but the right to exclude others from making, using, or selling the invention.  The inventor must provide a full public disclosure of information about the i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258-209C-4B72-9EA0-796E6F9E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44564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34F-A9AD-4418-9783-C3A15D69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597-472A-43B8-B93F-1E4580E7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DE4-1FC3-4B3F-9DBD-9632302D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7641-363A-4FC4-8C35-69683E22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C793-3AEB-492F-9366-D846E951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EA7F-20D7-4FEA-AF06-8C6A8546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3A0C-9E9A-4632-A06C-330D089A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31F2-28E4-4046-B24B-47AA60FD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5844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8713-2556-493C-8C93-EE07785C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3EB6-5EC4-4B3D-AED1-9BBB088C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E32-B322-417F-A63A-F407DE8B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7C72-92D9-47E8-AEBE-439A3DA2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01E2-EC99-49B7-831A-D38555D1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44564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B4FC-786A-418C-AEA1-8D73A78A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48C9-A3D3-4EAE-8939-B41E5D96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DF12-6BBF-4BBE-B4B6-9FE9058B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A83-0033-4A27-B7A2-2357ED82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DC7-6E73-45C3-94D1-8A60D4CE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0A5-1BCB-4280-AD96-2A90BC53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5844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AA9-7818-4061-BFE9-CF08D9E9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81D-4EAC-4714-9ECA-5333500F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9C4-BD84-4078-9D44-BD5006DA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5F3-302F-4717-9300-550C01F1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3120" y="281160"/>
            <a:ext cx="438120" cy="5061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171440"/>
            <a:ext cx="32832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300320"/>
            <a:ext cx="422280" cy="506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731880"/>
            <a:ext cx="36828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2600" y="654120"/>
            <a:ext cx="560520" cy="449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057320"/>
            <a:ext cx="31680" cy="11224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8320" y="1009800"/>
            <a:ext cx="8226720" cy="33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746760"/>
            <a:ext cx="1905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746760"/>
            <a:ext cx="2895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746760"/>
            <a:ext cx="1905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F553-D61B-4F1A-9D3A-32852A0A8F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600280"/>
            <a:ext cx="9009000" cy="1123560"/>
            <a:chOff x="0" y="2600280"/>
            <a:chExt cx="9009000" cy="112356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715480"/>
              <a:ext cx="711360" cy="506880"/>
              <a:chOff x="290520" y="2715480"/>
              <a:chExt cx="711360" cy="5068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715480"/>
                <a:ext cx="437400" cy="506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715480"/>
                <a:ext cx="328320" cy="506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3166200"/>
              <a:ext cx="737640" cy="506880"/>
              <a:chOff x="414360" y="3166200"/>
              <a:chExt cx="737640" cy="5068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3166200"/>
                <a:ext cx="421560" cy="506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3166200"/>
                <a:ext cx="369000" cy="506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3088080"/>
              <a:ext cx="560520" cy="450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600280"/>
              <a:ext cx="31680" cy="11235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477960"/>
              <a:ext cx="869292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95120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664320"/>
            <a:ext cx="1904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664320"/>
            <a:ext cx="2895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703B-D617-464C-9DA0-FAEA2B08B2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05160" y="3089160"/>
            <a:ext cx="621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ahoma"/>
              </a:rPr>
              <a:t>PATENT SEARC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09320" y="1218960"/>
            <a:ext cx="448812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orney Fe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2152440"/>
            <a:ext cx="70866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Attorney: could begin near $35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Patent agent:  around $1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181880" y="3819600"/>
            <a:ext cx="57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See web site for list of attorney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patent agents b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3440" y="5202360"/>
            <a:ext cx="64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Need to search both US Patent lit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and World Patent literature fo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comprehensiv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42840" y="1138320"/>
            <a:ext cx="38862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s &amp; Fe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19320" y="2193840"/>
          <a:ext cx="7086600" cy="4257720"/>
        </p:xfrm>
        <a:graphic>
          <a:graphicData uri="http://schemas.openxmlformats.org/drawingml/2006/table">
            <a:tbl>
              <a:tblPr/>
              <a:tblGrid>
                <a:gridCol w="3047760"/>
                <a:gridCol w="1828800"/>
                <a:gridCol w="221004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Small E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Filing Fe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9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Maintenance Fe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.5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9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7.5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1.5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29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14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29440" y="1082520"/>
            <a:ext cx="611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Searching can be done at a PTD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(over 70 location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82000" y="2600280"/>
            <a:ext cx="23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  <a:ea typeface="Times New Roman"/>
              </a:rPr>
              <a:t>On the web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61800" y="3144960"/>
            <a:ext cx="601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USPT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IBM Patent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Various commercial fee based si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60480" y="4714920"/>
            <a:ext cx="44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  <a:ea typeface="Times New Roman"/>
              </a:rPr>
              <a:t>From CMU’s homepag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48200" y="5283360"/>
            <a:ext cx="23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US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Lexis-Nex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47800" y="181944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Intellectual Proper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5920" y="311940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a Pat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4704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t’s easy to confuse patents, copyright and tradema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sm_patent1" descr=""/>
          <p:cNvPicPr/>
          <p:nvPr/>
        </p:nvPicPr>
        <p:blipFill>
          <a:blip r:embed="rId1"/>
          <a:stretch/>
        </p:blipFill>
        <p:spPr>
          <a:xfrm>
            <a:off x="3809880" y="1300320"/>
            <a:ext cx="3745080" cy="5446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52480" y="2519280"/>
            <a:ext cx="1524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Wha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at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L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sun" descr=""/>
          <p:cNvPicPr/>
          <p:nvPr/>
        </p:nvPicPr>
        <p:blipFill>
          <a:blip r:embed="rId1"/>
          <a:stretch/>
        </p:blipFill>
        <p:spPr>
          <a:xfrm>
            <a:off x="5791320" y="1300320"/>
            <a:ext cx="2208240" cy="2763720"/>
          </a:xfrm>
          <a:prstGeom prst="rect">
            <a:avLst/>
          </a:prstGeom>
          <a:ln w="0">
            <a:noFill/>
          </a:ln>
        </p:spPr>
      </p:pic>
      <p:pic>
        <p:nvPicPr>
          <p:cNvPr id="112" name="simpson" descr=""/>
          <p:cNvPicPr/>
          <p:nvPr/>
        </p:nvPicPr>
        <p:blipFill>
          <a:blip r:embed="rId2"/>
          <a:stretch/>
        </p:blipFill>
        <p:spPr>
          <a:xfrm>
            <a:off x="1600200" y="3495600"/>
            <a:ext cx="2506680" cy="2637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79200" y="1878120"/>
            <a:ext cx="26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Trade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52480" y="1706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What can be paten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519280"/>
            <a:ext cx="449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Manuf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Composition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5440" y="4876920"/>
            <a:ext cx="74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These classes of subject matter taken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include practically everything which is made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man and the process of making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07160" y="1951200"/>
            <a:ext cx="67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Inventions must meet thre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criteria to be patentable</a:t>
            </a: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48680" y="3738600"/>
            <a:ext cx="421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1. 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2.  Use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3.  Non-ob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36560" y="2141640"/>
            <a:ext cx="603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Three types of paten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2200" y="333216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1.  U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28240" y="4226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2. 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7160" y="503856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3. 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ribbage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2103480" cy="2243160"/>
          </a:xfrm>
          <a:prstGeom prst="rect">
            <a:avLst/>
          </a:prstGeom>
          <a:ln w="0">
            <a:noFill/>
          </a:ln>
        </p:spPr>
      </p:pic>
      <p:pic>
        <p:nvPicPr>
          <p:cNvPr id="124" name="jewelry" descr=""/>
          <p:cNvPicPr/>
          <p:nvPr/>
        </p:nvPicPr>
        <p:blipFill>
          <a:blip r:embed="rId2"/>
          <a:stretch/>
        </p:blipFill>
        <p:spPr>
          <a:xfrm>
            <a:off x="5562720" y="1219320"/>
            <a:ext cx="2600280" cy="2130480"/>
          </a:xfrm>
          <a:prstGeom prst="rect">
            <a:avLst/>
          </a:prstGeom>
          <a:ln w="0">
            <a:noFill/>
          </a:ln>
        </p:spPr>
      </p:pic>
      <p:pic>
        <p:nvPicPr>
          <p:cNvPr id="125" name="planter" descr=""/>
          <p:cNvPicPr/>
          <p:nvPr/>
        </p:nvPicPr>
        <p:blipFill>
          <a:blip r:embed="rId3"/>
          <a:stretch/>
        </p:blipFill>
        <p:spPr>
          <a:xfrm>
            <a:off x="3429000" y="4064040"/>
            <a:ext cx="2438280" cy="2270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33520" y="35830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Cribbag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28920" y="350208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Jewelry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86080" y="65563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Pla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762640" y="1300320"/>
            <a:ext cx="27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PTO Facto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276640"/>
            <a:ext cx="792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First patent issued in July 17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Began numbering patents in 1836; already   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4000 in ex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Approx. 3100 PTP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In U.S. patent applications are held in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confidence until patent is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Patenting U.S. Inventions abroad (first to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Utility patent term of rights: 20 years from date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you first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Design patent term of rights: 14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20:35:45Z</dcterms:created>
  <dc:creator>University Libraries</dc:creator>
  <dc:description/>
  <dc:language>en-US</dc:language>
  <cp:lastModifiedBy>ES4ABB182</cp:lastModifiedBy>
  <cp:lastPrinted>1999-11-11T15:30:02Z</cp:lastPrinted>
  <dcterms:modified xsi:type="dcterms:W3CDTF">2000-06-23T17:13:1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berard@andrew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DOWS\DESKTOP\Lynn B\Patent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