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EA66-7A38-4EAD-99FE-27A3AB606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we car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um of real world graphs is not a well studied area. Little is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eigen-value is highly related to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E42D-61FE-4EE4-B67C-6A75D04BD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we car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um of real world graphs is not a well studied area. Little is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eigen-value is highly related to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E00B-0DB5-4F48-9151-DF3B2965C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retler icin balon yap.. Mesela jump’lara isaret ederken.. Network traffic jumplar ic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lardaki farkin weightler nedeniyle oldugunu belirtmek yararli olabilir: dblp’de reoccurrence, digerinde actual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rica dblp AC slope bir onceki slayttakinden buyuk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029B-B9FA-405E-8D73-3339AEE0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hsedilen datasetlerdeki node ve edge sayisi verilebil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5D01-E244-410D-8C62-4FF0E63A3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E9C2-9024-4B6E-AFF2-CDE607256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not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if weighted deterministic version produces many nodes with the same weight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tochastic version not obvious in weighted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owerlaw exponents are constant over time while real networks are not that determinist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46FC-A9DB-4028-81D5-C59680EC3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not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if weighted deterministic version produces many nodes with the same weight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tochastic version not obvious in weighted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owerlaw exponents are constant over time while real networks are not that determinist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259A-C31B-4990-975A-9DA813A35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4970-5DB4-487D-AE39-E0EC2ECA0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F9A6-25D5-4BB6-BBBC-33E81BD9E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are the distinguishing characteristics of graphs? What rules and patterns ho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m? When can we say that two different graphs are similar to each othe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le there are many differences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aphs, some patterns show up regular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METER: shortest path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document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, defined as the small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 of URL links that must be follow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navigate from one document to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. …two randomly chos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cuments on the web are on average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s away from each oth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WER-LAWS: While the Gaussian distribution is common in nature, there are many cases where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ability of events far to the right of the mean is significantly higher than in Gaussi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e Internet, for example, most routers have a very low degree (perhaps h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ers), while a few routers have an extremely high degree (perhaps the core rou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the Internet backbone) [Faloutsos et al. 1999]. Power-law distributions attempt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del th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xamples of power laws in the real world: Examples of power law degre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lude the Internet AS graph with exponent 2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1−2.2 [Faloutsos et al. 1999]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ternet router graph with exponent ∼2.48 [Faloutsos et al. 1999; Govindan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ngmunarunkit 2000], the in-degree and out-degree distributions of subsets of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 with exponents 2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1 and 2.38−2.72, respectively [Barab´ asi and Albert 1999; Ku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 al. 1999; Broder et al. 2000], the in-degree distribution of the AfricanWeb grap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 exponent 1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92 [Boldi et al. 2002], a citation graph with exponent 3 [Redner 1998]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ons of Web site sizes and traffic [Adamic and Huberman 2001], and 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s. Newman [2005] provides a comprehensive list of such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2D40-66FB-4234-A734-C31BCC67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44EB-0DA2-4463-AEBA-C4E2FC82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0475-D9EE-4CD4-A362-05B7FB35C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E093-C57D-44DB-A35A-0C02E1F43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9BE-552D-4423-98EC-42BAD1AE1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500E-4931-4BFD-BC98-2AA3D4CF9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LD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C60-85FD-427B-BC89-C535250B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are the distinguishing characteristics of graphs? What rules and patterns ho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m? When can we say that two different graphs are similar to each othe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le there are many differences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aphs, some patterns show up regular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METER: shortest path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document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, defined as the small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 of URL links that must be follow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navigate from one document to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. …two randomly chos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cuments on the web are on average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s away from each oth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WER-LAWS: While the Gaussian distribution is common in nature, there are many cases where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ability of events far to the right of the mean is significantly higher than in Gaussi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e Internet, for example, most routers have a very low degree (perhaps h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ers), while a few routers have an extremely high degree (perhaps the core rou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the Internet backbone) [Faloutsos et al. 1999]. Power-law distributions attempt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del th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xamples of power laws in the real world: Examples of power law degre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lude the Internet AS graph with exponent 2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1−2.2 [Faloutsos et al. 1999]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ternet router graph with exponent ∼2.48 [Faloutsos et al. 1999; Govindan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ngmunarunkit 2000], the in-degree and out-degree distributions of subsets of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 with exponents 2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1 and 2.38−2.72, respectively [Barab´ asi and Albert 1999; Ku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 al. 1999; Broder et al. 2000], the in-degree distribution of the AfricanWeb grap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 exponent 1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.92 [Boldi et al. 2002], a citation graph with exponent 3 [Redner 1998]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ons of Web site sizes and traffic [Adamic and Huberman 2001], and 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s. Newman [2005] provides a comprehensive list of such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234D-287B-4B6E-997B-B49ADA139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people from audience, doming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9FE8-94FD-4DF2-BB6A-1599B187B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615-D93A-464A-83E9-485A26E4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burstiness we mea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9E9-F7BF-4408-B60F-FEC0F3E4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CBE-7BC5-4D6A-A7E5-7FA6E7CD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B92A4-37D6-4416-AECA-E848BA47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BA295-59CE-43A9-90B5-28910D65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1CF84-D4AA-452E-AFF4-51A92CAA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48CED-5D1F-46FC-9138-E5DE5C2E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4398B-242C-4729-AC49-C44E71F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31C12-4FA0-46E4-B3A8-648ED88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2BD3D-D4C1-4974-BB2C-4B512FFD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1AEF2-CC24-4291-B601-25B68F60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31A76-0D26-475D-88B1-3B421644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4E964-C91B-497D-BC00-CA0C4238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7CB-070A-4B57-9912-08EB8E69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71984-1F8F-4BE1-9EFA-5568180A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D9DF0-45B5-4D36-947B-4BE9E13F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9D1D2-5CF1-4EB6-8B43-40A2F0CF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54E8F-0121-4A6F-8B02-C263F0C8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C11D1-B6B3-4B67-B1CE-838100D1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7A0FF-5E16-439A-97D3-F227E377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E8A2B-935D-461E-A769-79785201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07430-A2B4-4E30-8D60-26B1D84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C3E38-FBCA-468D-853E-B521F6AF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5C416-BFAF-4338-B4D3-07F7AE1A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EA1-7D4F-4219-96BA-A9B555B7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8B557-6D2D-4E4E-A2B3-197DE9CC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312DE-8B4E-40E6-B3C7-02E8F40A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A9606-3BB9-4B58-BE07-2419BD58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DD871-61A6-4AAD-BF31-723D8095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D8706-A1B0-4DAA-A775-ED253577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5CD55-B337-41C4-BACA-41D8B63C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BB33D-666A-4C22-B92A-9239D3CC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FB21C-B65F-46CE-A817-3B377C76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94B26-8EEF-457B-AF57-D20B17C8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644E1-D214-4E3D-A6FF-7D3BBD9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8E5C-D951-40F4-9F96-D0E36404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3F4C3-DDAD-4E33-A056-1E9AD463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835D8-19C4-45E8-BEA2-ED328D35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1B0E1-C394-486A-96AE-9A6890F7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6389D-62E9-40C9-8984-223041C4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68B87-744F-40A3-BC27-100D3C63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B0E36-7EEA-4C2A-A227-C494C9A2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D69F9-0D66-4AB9-AA86-9FBB3BFC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18F5E-9466-4630-9EAC-78908BCF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6AE07-475A-4CE7-A6E2-5DA0E864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30750-0B13-4B52-924C-4B4C1FF6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1486-F94A-4F48-B849-025F978A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4E2BD-C0D4-4FF2-B0F7-BE01626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16999-1BA7-4B14-BE52-B2B0DE34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7D013-BFD2-4A4B-B1BD-C853B8E9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009B1-885C-4E0A-BF36-34AC6DE4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22C7A-1899-4A83-A3E6-FB628906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DFD05-F77E-4649-A81D-A42EC816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881E6-EA50-4C0E-98D3-2AB8C256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5FF15-B073-43B6-8AAA-D5DDCC17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989D3-2AB1-4586-813C-6222C15A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FF312-C24A-4255-9179-7DF869DE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B5B5-377C-4331-820E-19D7F34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B13CA-E29B-4640-8DC4-48D75413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1911B-0FF4-43BA-8FBF-3054195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5FACC-B550-464A-98CD-F258E7B6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222AB-2E92-4989-98CD-31220253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BEF39-DD3F-4CE7-8F8E-9052860C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9FA0C-50ED-4DA5-A88D-A83DD7BE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43DAC-38BE-4C2D-AD59-B9A957BE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A155-5601-4CFD-A343-7C10B899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2573-57D7-49E5-8CEC-50030009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C859-42C7-44CA-ABBA-91EABEBD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D63B-A59C-4592-904C-0EB4BF0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9D3-6CA8-46DA-BD55-F8CD5A2E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8603-CEDC-4BCB-BC55-601F9C97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0D4-6910-4F57-B3B9-F6E0ABB6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8A13-00EA-4CAE-9395-4FFECD80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5DE4-B2F7-4BC3-B351-0076EB5C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070F-1B46-43AE-87B8-CE0A8CB2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7D2B-099A-4C3F-9115-5A8F54AC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1583-9A0C-411B-9EBF-0907A54C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1B86F-3AA0-437D-B13D-071E8591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2EA3-9F11-4E80-A60E-6D27A419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EBB1-408D-4A99-848C-806BD700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A56-F550-4E69-A9F5-5226A295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1985-622C-4397-B323-A74DA788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392D-6CA4-4FE7-95D9-43CA3EC3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6599-6F6D-40BF-AE0E-0EC7D1F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C4D9-DFB7-4C44-AEE4-F97C007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19C8-78F9-41FD-B6F1-D725A507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3C40-CF43-4E50-9FDB-05FF3D5F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1C21-43DC-46A7-9ED2-0F5AD364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7262-8E85-4335-A8B2-C8679FCB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0EE7-7438-438E-A3CB-04C69A24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8F57-C43D-4AF4-B7C1-8BCF519B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6C3-C06F-49AB-B13A-36E89530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559B9-2D13-49DD-964C-CC9678F1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47A9-4E1C-4AFE-93EB-49587AD9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F233-E3BF-47E7-8A04-8E912EB6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F19B-7B53-41FD-8A06-61126591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CDD5-6D2D-401F-8B06-7AC2DE20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D0DB-1C02-44FF-A5AA-126F4034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8FAD-BC63-46FE-9CA1-1373E910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65B08-70F6-48F7-8070-339C8C06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70B3-12D3-4CD4-BFAD-93E6538F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7D746-D705-4E1D-ACC1-1370A9B3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C42-E3EB-4A56-B84D-665579BA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FB36D-147E-4634-9636-7D198D9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5BC60-4D9C-4500-BF2A-038E045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C4CCF-3049-458F-B3E3-EF324CA9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F1AEB-E668-4EFF-B9E3-28980716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B2F5-9356-4F34-9C06-98103DD8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91BCD-5B5F-465C-AC94-97A8828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30884-B38D-4CF2-87B0-026FE55B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D89E-EDCA-455F-B0CF-14D3A62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99996-EC65-4474-8569-6B460EC5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2CB95-2261-416C-9478-B96916D9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B35-DADD-4F1C-9FE2-746E2967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7E77-864F-4A7B-8E58-71CF734C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09466-DD8C-4FFA-ADD3-F049B47B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4EB5-8A73-42A0-BBE4-AFED835F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29504-81D2-4710-BEC6-404D104F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8B2A8-2C1C-4620-9FAF-325BACDD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B0635-4BAA-4E76-B478-93E60E4E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85C3C-90D6-4F46-ACB5-62F1102E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7F55F-4256-4413-A193-70993974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D0F97-EBE9-4A69-8385-4F32DB9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35828-0462-43BF-B005-B1AE1A9B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708-CE72-4EED-B8C5-15C333F8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1EB2D-6B19-4C7A-997B-F607E598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FE4AF-7D7F-4370-BB3A-9AC66DE4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89B5C-BDE6-460E-852E-642239EA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1260D-DED6-439A-BB11-62460074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C8D62-296B-4399-B00E-AD6E71C3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52BF6-7F8C-42CC-BB93-425FC8C8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25A92-F47A-4AE4-A81B-7C10B061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64822-8EB4-41FB-A37A-BE4E1A79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31161-DB60-4FCE-88DE-65692298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2F95-C8CD-460A-A29A-80EAF2DA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C77-A504-4657-B7FB-88BD88C5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9D816-2266-4BE0-BC79-E1106C84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8D05F-1187-456F-9D81-92F49255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98D5-9FDE-466E-8BD1-0101EFD3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A36ED-1686-4437-8253-C3891B6F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C66B-EAB9-42D9-8010-7E6FF247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37221-5443-4465-A50B-B271D3CC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03B49-51B0-4CF9-891F-4EAFF8B6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69DF4-DB0E-492D-A6B5-AADE8364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76617-FD75-4F9C-93DA-50C27282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EDC54-2944-4B1F-9631-C9D52EAF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657-BB88-472A-9B5A-C4AD01F6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813A-6ACE-46C8-8A0E-C5317959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BC038-B4E4-4C31-94CA-ACD87B2B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1BB4B-F34F-4CCC-A506-62648A5F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2D98A-F1A4-42C3-B7DA-D8C12B5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74D67-5E9D-432B-BE34-66E23384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2652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4827-7CDF-4A17-83E9-043CDF2C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9192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436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D383-3D9E-4F3F-BF68-1278A236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6C6D5-AC3F-4E1A-B7A4-707AF2FB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80AF6-A892-4C0F-95F8-C3B5A8A1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B8D28-E913-4D2C-9EB7-59A2FFC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587E-BAA9-4E2F-87F5-688D90B443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ea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2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Object 16"/>
          <p:cNvGraphicFramePr/>
          <p:nvPr/>
        </p:nvGraphicFramePr>
        <p:xfrm>
          <a:off x="352440" y="152280"/>
          <a:ext cx="36360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" y="152280"/>
                    <a:ext cx="363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Text Box 17"/>
          <p:cNvSpPr/>
          <p:nvPr/>
        </p:nvSpPr>
        <p:spPr>
          <a:xfrm>
            <a:off x="678240" y="87480"/>
            <a:ext cx="231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chool of 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Carnegie Mel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8" descr=""/>
          <p:cNvPicPr/>
          <p:nvPr/>
        </p:nvPicPr>
        <p:blipFill>
          <a:blip r:embed="rId5"/>
          <a:stretch/>
        </p:blipFill>
        <p:spPr>
          <a:xfrm>
            <a:off x="8504280" y="152280"/>
            <a:ext cx="44748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DCBD-7636-4447-8C0E-156C8E6A01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BE73-22AF-41F3-A7FE-8375DABC88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4D8F-7A60-4248-AB13-228C9FD606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65D7-DA17-41EC-ABF6-914CAC841E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228600" y="3429000"/>
            <a:ext cx="2870280" cy="201600"/>
          </a:xfrm>
          <a:prstGeom prst="rect">
            <a:avLst/>
          </a:prstGeom>
          <a:solidFill>
            <a:srgbClr val="eaa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98880" y="3429000"/>
            <a:ext cx="2870280" cy="201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969160" y="3429000"/>
            <a:ext cx="2869920" cy="201600"/>
          </a:xfrm>
          <a:prstGeom prst="rect">
            <a:avLst/>
          </a:prstGeom>
          <a:solidFill>
            <a:srgbClr val="002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BEA-F772-48CB-8D8F-88C060A8E6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3072-5080-4EE8-A274-6FA57D6FDE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B983-54F2-4422-9A65-9718D38E78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615A-33BD-4862-BF77-AFDE76B5A4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B811-FDC0-433F-B16C-9ACA52F9DA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D71B-54F7-4E38-B24C-99DAD1FD07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3F59-D91A-4CB8-A89D-CE6B4766EF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6BA9-1616-4427-A761-5AF9EFBEC6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7a"/>
                </a:solidFill>
                <a:latin typeface="Times New Roman"/>
              </a:rPr>
              <a:t>RTM: Laws and a Recursive Generator for Weighted </a:t>
            </a:r>
            <a:br>
              <a:rPr sz="4800"/>
            </a:br>
            <a:r>
              <a:rPr b="1" lang="en-US" sz="4800" spc="-1" strike="noStrike">
                <a:solidFill>
                  <a:srgbClr val="00297a"/>
                </a:solidFill>
                <a:latin typeface="Times New Roman"/>
              </a:rPr>
              <a:t>Time-Evolving Graphs</a:t>
            </a:r>
            <a:endParaRPr b="0" lang="en-US" sz="48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80880" y="396216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4a530"/>
                </a:solidFill>
                <a:latin typeface="Times New Roman"/>
              </a:rPr>
              <a:t>Leman Akoglu</a:t>
            </a:r>
            <a:r>
              <a:rPr b="0" lang="en-US" sz="2700" spc="-1" strike="noStrike">
                <a:solidFill>
                  <a:srgbClr val="00297a"/>
                </a:solidFill>
                <a:latin typeface="Times New Roman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97a"/>
                </a:solidFill>
                <a:latin typeface="Times New Roman"/>
              </a:rPr>
              <a:t>Mary McGlohon, Christos Falout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8686"/>
                </a:solidFill>
                <a:latin typeface="Arial"/>
                <a:ea typeface="Arial"/>
              </a:rPr>
              <a:t>Carnegie Mellon Un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8686"/>
                </a:solidFill>
                <a:latin typeface="Arial"/>
                <a:ea typeface="Arial"/>
              </a:rPr>
              <a:t>School of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848D-7A1C-496B-A0FC-69BDBE1A8D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2"/>
          <a:stretch/>
        </p:blipFill>
        <p:spPr>
          <a:xfrm>
            <a:off x="228600" y="6010200"/>
            <a:ext cx="89154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4854-EC64-40DF-AA8F-ECC07F4099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520" y="1752480"/>
            <a:ext cx="4800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a700"/>
                </a:solidFill>
                <a:latin typeface="Arial"/>
              </a:rPr>
              <a:t>Bi</a:t>
            </a:r>
            <a:r>
              <a:rPr b="0" i="1" lang="en-US" sz="1800" spc="-1" strike="noStrike">
                <a:solidFill>
                  <a:srgbClr val="00297a"/>
                </a:solidFill>
                <a:latin typeface="Arial"/>
              </a:rPr>
              <a:t>part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s: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|E|  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AuthorConferenc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K,   22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KeywordConferenc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K,   23K, 25 y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Keyword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K, 189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CampaignOrg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K,  877K, 28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4"/>
          <p:cNvSpPr/>
          <p:nvPr/>
        </p:nvSpPr>
        <p:spPr>
          <a:xfrm rot="16200000">
            <a:off x="6236280" y="306288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5"/>
          <p:cNvSpPr/>
          <p:nvPr/>
        </p:nvSpPr>
        <p:spPr>
          <a:xfrm rot="16200000">
            <a:off x="6240960" y="1530720"/>
            <a:ext cx="203400" cy="18864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7"/>
          <p:cNvSpPr/>
          <p:nvPr/>
        </p:nvSpPr>
        <p:spPr>
          <a:xfrm rot="16200000">
            <a:off x="6234840" y="229284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8"/>
          <p:cNvSpPr/>
          <p:nvPr/>
        </p:nvSpPr>
        <p:spPr>
          <a:xfrm rot="16200000">
            <a:off x="7231680" y="336744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9"/>
          <p:cNvSpPr/>
          <p:nvPr/>
        </p:nvSpPr>
        <p:spPr>
          <a:xfrm rot="16200000">
            <a:off x="7236720" y="183600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0"/>
          <p:cNvSpPr/>
          <p:nvPr/>
        </p:nvSpPr>
        <p:spPr>
          <a:xfrm rot="16200000">
            <a:off x="7230240" y="10893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1"/>
          <p:cNvSpPr/>
          <p:nvPr/>
        </p:nvSpPr>
        <p:spPr>
          <a:xfrm rot="16200000">
            <a:off x="7230240" y="259776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9"/>
          <p:cNvCxnSpPr>
            <a:stCxn id="644" idx="4"/>
            <a:endCxn id="647" idx="0"/>
          </p:cNvCxnSpPr>
          <p:nvPr/>
        </p:nvCxnSpPr>
        <p:spPr>
          <a:xfrm>
            <a:off x="6432480" y="3157200"/>
            <a:ext cx="807120" cy="305640"/>
          </a:xfrm>
          <a:prstGeom prst="straightConnector1">
            <a:avLst/>
          </a:prstGeom>
          <a:ln w="92160">
            <a:solidFill>
              <a:srgbClr val="000000"/>
            </a:solidFill>
            <a:miter/>
          </a:ln>
        </p:spPr>
      </p:cxnSp>
      <p:cxnSp>
        <p:nvCxnSpPr>
          <p:cNvPr id="652" name="AutoShape 20"/>
          <p:cNvCxnSpPr>
            <a:stCxn id="644" idx="4"/>
            <a:endCxn id="650" idx="1"/>
          </p:cNvCxnSpPr>
          <p:nvPr/>
        </p:nvCxnSpPr>
        <p:spPr>
          <a:xfrm flipV="1">
            <a:off x="6432120" y="2763360"/>
            <a:ext cx="8326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AutoShape 21"/>
          <p:cNvCxnSpPr>
            <a:stCxn id="644" idx="5"/>
            <a:endCxn id="648" idx="1"/>
          </p:cNvCxnSpPr>
          <p:nvPr/>
        </p:nvCxnSpPr>
        <p:spPr>
          <a:xfrm flipV="1">
            <a:off x="6404040" y="2003400"/>
            <a:ext cx="867600" cy="1083240"/>
          </a:xfrm>
          <a:prstGeom prst="straightConnector1">
            <a:avLst/>
          </a:prstGeom>
          <a:ln w="41400">
            <a:solidFill>
              <a:srgbClr val="000000"/>
            </a:solidFill>
            <a:miter/>
          </a:ln>
        </p:spPr>
      </p:cxnSp>
      <p:cxnSp>
        <p:nvCxnSpPr>
          <p:cNvPr id="654" name="AutoShape 26"/>
          <p:cNvCxnSpPr/>
          <p:nvPr/>
        </p:nvCxnSpPr>
        <p:spPr>
          <a:xfrm>
            <a:off x="6399720" y="1676160"/>
            <a:ext cx="856440" cy="1694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56" name="AutoShape 35"/>
          <p:cNvCxnSpPr/>
          <p:nvPr/>
        </p:nvCxnSpPr>
        <p:spPr>
          <a:xfrm flipV="1">
            <a:off x="6408360" y="1995120"/>
            <a:ext cx="84060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7" name="AutoShape 33"/>
          <p:cNvCxnSpPr/>
          <p:nvPr/>
        </p:nvCxnSpPr>
        <p:spPr>
          <a:xfrm flipV="1">
            <a:off x="6477120" y="129456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58" name="AutoShape 33"/>
          <p:cNvCxnSpPr/>
          <p:nvPr/>
        </p:nvCxnSpPr>
        <p:spPr>
          <a:xfrm flipV="1">
            <a:off x="6400800" y="109944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59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31680">
            <a:solidFill>
              <a:srgbClr val="008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6631200" y="99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FB21-48D5-4E4F-9F44-584DB5B84D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3"/>
          <p:cNvSpPr/>
          <p:nvPr/>
        </p:nvSpPr>
        <p:spPr>
          <a:xfrm rot="16200000">
            <a:off x="7383960" y="5645520"/>
            <a:ext cx="20340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14"/>
          <p:cNvSpPr/>
          <p:nvPr/>
        </p:nvSpPr>
        <p:spPr>
          <a:xfrm rot="16200000">
            <a:off x="6165000" y="4959720"/>
            <a:ext cx="20340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5"/>
          <p:cNvSpPr/>
          <p:nvPr/>
        </p:nvSpPr>
        <p:spPr>
          <a:xfrm rot="16200000">
            <a:off x="6240960" y="3816720"/>
            <a:ext cx="20340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6"/>
          <p:cNvSpPr/>
          <p:nvPr/>
        </p:nvSpPr>
        <p:spPr>
          <a:xfrm rot="16200000">
            <a:off x="6622200" y="572184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17"/>
          <p:cNvSpPr/>
          <p:nvPr/>
        </p:nvSpPr>
        <p:spPr>
          <a:xfrm rot="16200000">
            <a:off x="7688880" y="412164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8" name="AutoShape 30"/>
          <p:cNvCxnSpPr/>
          <p:nvPr/>
        </p:nvCxnSpPr>
        <p:spPr>
          <a:xfrm>
            <a:off x="6400800" y="3962520"/>
            <a:ext cx="1288080" cy="234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9" name="AutoShape 40"/>
          <p:cNvCxnSpPr/>
          <p:nvPr/>
        </p:nvCxnSpPr>
        <p:spPr>
          <a:xfrm flipH="1">
            <a:off x="6247800" y="4038120"/>
            <a:ext cx="7668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533520" y="1752480"/>
            <a:ext cx="4800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a700"/>
                </a:solidFill>
                <a:latin typeface="Arial"/>
              </a:rPr>
              <a:t>Bi</a:t>
            </a:r>
            <a:r>
              <a:rPr b="0" i="1" lang="en-US" sz="1800" spc="-1" strike="noStrike">
                <a:solidFill>
                  <a:srgbClr val="00297a"/>
                </a:solidFill>
                <a:latin typeface="Arial"/>
              </a:rPr>
              <a:t>part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s: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|E|  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AuthorConferenc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K,   22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KeywordConferenc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K,   23K, 25 y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Keyword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K, 189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CampaignOrg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K,  877K, 28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1" name="AutoShape 40"/>
          <p:cNvCxnSpPr>
            <a:stCxn id="667" idx="0"/>
          </p:cNvCxnSpPr>
          <p:nvPr/>
        </p:nvCxnSpPr>
        <p:spPr>
          <a:xfrm flipH="1">
            <a:off x="6324120" y="4217760"/>
            <a:ext cx="1372320" cy="7894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672" name="AutoShape 40"/>
          <p:cNvCxnSpPr>
            <a:stCxn id="666" idx="6"/>
            <a:endCxn id="665" idx="2"/>
          </p:cNvCxnSpPr>
          <p:nvPr/>
        </p:nvCxnSpPr>
        <p:spPr>
          <a:xfrm flipH="1" flipV="1">
            <a:off x="6341760" y="4014000"/>
            <a:ext cx="381600" cy="170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AutoShape 40"/>
          <p:cNvCxnSpPr/>
          <p:nvPr/>
        </p:nvCxnSpPr>
        <p:spPr>
          <a:xfrm flipH="1">
            <a:off x="7467120" y="4266720"/>
            <a:ext cx="288000" cy="1374120"/>
          </a:xfrm>
          <a:prstGeom prst="straightConnector1">
            <a:avLst/>
          </a:prstGeom>
          <a:ln w="38160">
            <a:solidFill>
              <a:srgbClr val="00297a"/>
            </a:solidFill>
            <a:miter/>
          </a:ln>
        </p:spPr>
      </p:cxnSp>
      <p:sp>
        <p:nvSpPr>
          <p:cNvPr id="674" name=""/>
          <p:cNvSpPr/>
          <p:nvPr/>
        </p:nvSpPr>
        <p:spPr>
          <a:xfrm>
            <a:off x="533520" y="4267080"/>
            <a:ext cx="56480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Unipart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works: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  |E|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. BlogNet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K, 125K, 8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. NetworkTraffic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K,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4"/>
          <p:cNvSpPr/>
          <p:nvPr/>
        </p:nvSpPr>
        <p:spPr>
          <a:xfrm rot="16200000">
            <a:off x="6236280" y="306288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5"/>
          <p:cNvSpPr/>
          <p:nvPr/>
        </p:nvSpPr>
        <p:spPr>
          <a:xfrm rot="16200000">
            <a:off x="6240960" y="1530720"/>
            <a:ext cx="203400" cy="18864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7"/>
          <p:cNvSpPr/>
          <p:nvPr/>
        </p:nvSpPr>
        <p:spPr>
          <a:xfrm rot="16200000">
            <a:off x="6234840" y="229284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8"/>
          <p:cNvSpPr/>
          <p:nvPr/>
        </p:nvSpPr>
        <p:spPr>
          <a:xfrm rot="16200000">
            <a:off x="7231680" y="336744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9"/>
          <p:cNvSpPr/>
          <p:nvPr/>
        </p:nvSpPr>
        <p:spPr>
          <a:xfrm rot="16200000">
            <a:off x="7236720" y="183600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0"/>
          <p:cNvSpPr/>
          <p:nvPr/>
        </p:nvSpPr>
        <p:spPr>
          <a:xfrm rot="16200000">
            <a:off x="7230240" y="10893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1"/>
          <p:cNvSpPr/>
          <p:nvPr/>
        </p:nvSpPr>
        <p:spPr>
          <a:xfrm rot="16200000">
            <a:off x="7230240" y="259776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2" name="AutoShape 19"/>
          <p:cNvCxnSpPr>
            <a:stCxn id="675" idx="4"/>
            <a:endCxn id="678" idx="0"/>
          </p:cNvCxnSpPr>
          <p:nvPr/>
        </p:nvCxnSpPr>
        <p:spPr>
          <a:xfrm>
            <a:off x="6432480" y="3157200"/>
            <a:ext cx="807120" cy="305640"/>
          </a:xfrm>
          <a:prstGeom prst="straightConnector1">
            <a:avLst/>
          </a:prstGeom>
          <a:ln w="92160">
            <a:solidFill>
              <a:srgbClr val="000000"/>
            </a:solidFill>
            <a:miter/>
          </a:ln>
        </p:spPr>
      </p:cxnSp>
      <p:cxnSp>
        <p:nvCxnSpPr>
          <p:cNvPr id="683" name="AutoShape 20"/>
          <p:cNvCxnSpPr>
            <a:stCxn id="675" idx="4"/>
            <a:endCxn id="681" idx="1"/>
          </p:cNvCxnSpPr>
          <p:nvPr/>
        </p:nvCxnSpPr>
        <p:spPr>
          <a:xfrm flipV="1">
            <a:off x="6432120" y="2763360"/>
            <a:ext cx="8326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4" name="AutoShape 21"/>
          <p:cNvCxnSpPr>
            <a:stCxn id="675" idx="5"/>
            <a:endCxn id="679" idx="1"/>
          </p:cNvCxnSpPr>
          <p:nvPr/>
        </p:nvCxnSpPr>
        <p:spPr>
          <a:xfrm flipV="1">
            <a:off x="6404040" y="2003400"/>
            <a:ext cx="867600" cy="1083240"/>
          </a:xfrm>
          <a:prstGeom prst="straightConnector1">
            <a:avLst/>
          </a:prstGeom>
          <a:ln w="41400">
            <a:solidFill>
              <a:srgbClr val="000000"/>
            </a:solidFill>
            <a:miter/>
          </a:ln>
        </p:spPr>
      </p:cxnSp>
      <p:cxnSp>
        <p:nvCxnSpPr>
          <p:cNvPr id="685" name="AutoShape 26"/>
          <p:cNvCxnSpPr/>
          <p:nvPr/>
        </p:nvCxnSpPr>
        <p:spPr>
          <a:xfrm>
            <a:off x="6399720" y="1676160"/>
            <a:ext cx="856440" cy="1694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6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87" name="AutoShape 35"/>
          <p:cNvCxnSpPr/>
          <p:nvPr/>
        </p:nvCxnSpPr>
        <p:spPr>
          <a:xfrm flipV="1">
            <a:off x="6408360" y="1995120"/>
            <a:ext cx="84060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8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31680">
            <a:solidFill>
              <a:srgbClr val="008000"/>
            </a:solidFill>
            <a:miter/>
          </a:ln>
        </p:spPr>
      </p:cxnSp>
      <p:sp>
        <p:nvSpPr>
          <p:cNvPr id="689" name=""/>
          <p:cNvSpPr/>
          <p:nvPr/>
        </p:nvSpPr>
        <p:spPr>
          <a:xfrm>
            <a:off x="6631200" y="99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60160" y="4724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20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893E-9C22-485A-8008-E4970CAE0D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3"/>
          <p:cNvSpPr/>
          <p:nvPr/>
        </p:nvSpPr>
        <p:spPr>
          <a:xfrm rot="16200000">
            <a:off x="7383960" y="5645520"/>
            <a:ext cx="20340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4"/>
          <p:cNvSpPr/>
          <p:nvPr/>
        </p:nvSpPr>
        <p:spPr>
          <a:xfrm rot="16200000">
            <a:off x="6165000" y="4959720"/>
            <a:ext cx="20340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5"/>
          <p:cNvSpPr/>
          <p:nvPr/>
        </p:nvSpPr>
        <p:spPr>
          <a:xfrm rot="16200000">
            <a:off x="6240960" y="3816720"/>
            <a:ext cx="20340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6"/>
          <p:cNvSpPr/>
          <p:nvPr/>
        </p:nvSpPr>
        <p:spPr>
          <a:xfrm rot="16200000">
            <a:off x="6622200" y="572184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17"/>
          <p:cNvSpPr/>
          <p:nvPr/>
        </p:nvSpPr>
        <p:spPr>
          <a:xfrm rot="16200000">
            <a:off x="7688880" y="412164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AutoShape 30"/>
          <p:cNvCxnSpPr/>
          <p:nvPr/>
        </p:nvCxnSpPr>
        <p:spPr>
          <a:xfrm>
            <a:off x="6400800" y="3962520"/>
            <a:ext cx="1288080" cy="234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9" name="AutoShape 40"/>
          <p:cNvCxnSpPr/>
          <p:nvPr/>
        </p:nvCxnSpPr>
        <p:spPr>
          <a:xfrm flipH="1">
            <a:off x="6247800" y="4038120"/>
            <a:ext cx="7668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533520" y="1752480"/>
            <a:ext cx="4800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a700"/>
                </a:solidFill>
                <a:latin typeface="Arial"/>
              </a:rPr>
              <a:t>Bi</a:t>
            </a:r>
            <a:r>
              <a:rPr b="0" i="1" lang="en-US" sz="1800" spc="-1" strike="noStrike">
                <a:solidFill>
                  <a:srgbClr val="00297a"/>
                </a:solidFill>
                <a:latin typeface="Arial"/>
              </a:rPr>
              <a:t>part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s: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|E|  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AuthorConferenc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K,   22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KeywordConferenc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K,   23K, 25 y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Keyword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K, 189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CampaignOrg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K,  877K, 28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AutoShape 40"/>
          <p:cNvCxnSpPr>
            <a:stCxn id="697" idx="0"/>
          </p:cNvCxnSpPr>
          <p:nvPr/>
        </p:nvCxnSpPr>
        <p:spPr>
          <a:xfrm flipH="1">
            <a:off x="6324120" y="4217760"/>
            <a:ext cx="1372320" cy="7894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702" name="AutoShape 40"/>
          <p:cNvCxnSpPr>
            <a:stCxn id="696" idx="6"/>
            <a:endCxn id="695" idx="2"/>
          </p:cNvCxnSpPr>
          <p:nvPr/>
        </p:nvCxnSpPr>
        <p:spPr>
          <a:xfrm flipH="1" flipV="1">
            <a:off x="6341760" y="4014000"/>
            <a:ext cx="381600" cy="1702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3" name="AutoShape 40"/>
          <p:cNvCxnSpPr/>
          <p:nvPr/>
        </p:nvCxnSpPr>
        <p:spPr>
          <a:xfrm flipH="1">
            <a:off x="7467120" y="4266720"/>
            <a:ext cx="288000" cy="1374120"/>
          </a:xfrm>
          <a:prstGeom prst="straightConnector1">
            <a:avLst/>
          </a:prstGeom>
          <a:ln w="38160">
            <a:solidFill>
              <a:srgbClr val="00297a"/>
            </a:solidFill>
            <a:miter/>
          </a:ln>
        </p:spPr>
      </p:cxnSp>
      <p:sp>
        <p:nvSpPr>
          <p:cNvPr id="704" name=""/>
          <p:cNvSpPr/>
          <p:nvPr/>
        </p:nvSpPr>
        <p:spPr>
          <a:xfrm>
            <a:off x="533520" y="4267080"/>
            <a:ext cx="56480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Unipart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works: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  |E|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. BlogNet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K, 125K, 8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. NetworkTraffic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K,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5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4"/>
          <p:cNvSpPr/>
          <p:nvPr/>
        </p:nvSpPr>
        <p:spPr>
          <a:xfrm rot="16200000">
            <a:off x="6236280" y="306288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5"/>
          <p:cNvSpPr/>
          <p:nvPr/>
        </p:nvSpPr>
        <p:spPr>
          <a:xfrm rot="16200000">
            <a:off x="6240960" y="1530720"/>
            <a:ext cx="203400" cy="18864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7"/>
          <p:cNvSpPr/>
          <p:nvPr/>
        </p:nvSpPr>
        <p:spPr>
          <a:xfrm rot="16200000">
            <a:off x="6234840" y="229284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8"/>
          <p:cNvSpPr/>
          <p:nvPr/>
        </p:nvSpPr>
        <p:spPr>
          <a:xfrm rot="16200000">
            <a:off x="7231680" y="336744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9"/>
          <p:cNvSpPr/>
          <p:nvPr/>
        </p:nvSpPr>
        <p:spPr>
          <a:xfrm rot="16200000">
            <a:off x="7236720" y="183600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10"/>
          <p:cNvSpPr/>
          <p:nvPr/>
        </p:nvSpPr>
        <p:spPr>
          <a:xfrm rot="16200000">
            <a:off x="7230240" y="10893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1"/>
          <p:cNvSpPr/>
          <p:nvPr/>
        </p:nvSpPr>
        <p:spPr>
          <a:xfrm rot="16200000">
            <a:off x="7230240" y="259776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2" name="AutoShape 19"/>
          <p:cNvCxnSpPr>
            <a:stCxn id="705" idx="4"/>
            <a:endCxn id="708" idx="0"/>
          </p:cNvCxnSpPr>
          <p:nvPr/>
        </p:nvCxnSpPr>
        <p:spPr>
          <a:xfrm>
            <a:off x="6432480" y="3157200"/>
            <a:ext cx="807120" cy="305640"/>
          </a:xfrm>
          <a:prstGeom prst="straightConnector1">
            <a:avLst/>
          </a:prstGeom>
          <a:ln w="92160">
            <a:solidFill>
              <a:srgbClr val="000000"/>
            </a:solidFill>
            <a:miter/>
          </a:ln>
        </p:spPr>
      </p:cxnSp>
      <p:cxnSp>
        <p:nvCxnSpPr>
          <p:cNvPr id="713" name="AutoShape 20"/>
          <p:cNvCxnSpPr>
            <a:stCxn id="705" idx="4"/>
            <a:endCxn id="711" idx="1"/>
          </p:cNvCxnSpPr>
          <p:nvPr/>
        </p:nvCxnSpPr>
        <p:spPr>
          <a:xfrm flipV="1">
            <a:off x="6432120" y="2763360"/>
            <a:ext cx="8326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4" name="AutoShape 21"/>
          <p:cNvCxnSpPr>
            <a:stCxn id="705" idx="5"/>
            <a:endCxn id="709" idx="1"/>
          </p:cNvCxnSpPr>
          <p:nvPr/>
        </p:nvCxnSpPr>
        <p:spPr>
          <a:xfrm flipV="1">
            <a:off x="6404040" y="2003400"/>
            <a:ext cx="867600" cy="1083240"/>
          </a:xfrm>
          <a:prstGeom prst="straightConnector1">
            <a:avLst/>
          </a:prstGeom>
          <a:ln w="41400">
            <a:solidFill>
              <a:srgbClr val="000000"/>
            </a:solidFill>
            <a:miter/>
          </a:ln>
        </p:spPr>
      </p:cxnSp>
      <p:cxnSp>
        <p:nvCxnSpPr>
          <p:cNvPr id="715" name="AutoShape 26"/>
          <p:cNvCxnSpPr/>
          <p:nvPr/>
        </p:nvCxnSpPr>
        <p:spPr>
          <a:xfrm>
            <a:off x="6399720" y="1676160"/>
            <a:ext cx="856440" cy="1694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6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717" name="AutoShape 35"/>
          <p:cNvCxnSpPr/>
          <p:nvPr/>
        </p:nvCxnSpPr>
        <p:spPr>
          <a:xfrm flipV="1">
            <a:off x="6408360" y="1995120"/>
            <a:ext cx="84060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8" name="AutoShape 33"/>
          <p:cNvCxnSpPr/>
          <p:nvPr/>
        </p:nvCxnSpPr>
        <p:spPr>
          <a:xfrm flipV="1">
            <a:off x="6400800" y="1218600"/>
            <a:ext cx="829440" cy="369000"/>
          </a:xfrm>
          <a:prstGeom prst="straightConnector1">
            <a:avLst/>
          </a:prstGeom>
          <a:ln w="31680">
            <a:solidFill>
              <a:srgbClr val="008000"/>
            </a:solidFill>
            <a:miter/>
          </a:ln>
        </p:spPr>
      </p:cxnSp>
      <p:sp>
        <p:nvSpPr>
          <p:cNvPr id="719" name=""/>
          <p:cNvSpPr/>
          <p:nvPr/>
        </p:nvSpPr>
        <p:spPr>
          <a:xfrm>
            <a:off x="6631200" y="99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0160" y="4724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20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AutoShape 40"/>
          <p:cNvCxnSpPr/>
          <p:nvPr/>
        </p:nvCxnSpPr>
        <p:spPr>
          <a:xfrm flipH="1">
            <a:off x="7543440" y="4266720"/>
            <a:ext cx="288000" cy="1374120"/>
          </a:xfrm>
          <a:prstGeom prst="straightConnector1">
            <a:avLst/>
          </a:prstGeom>
          <a:ln w="9360">
            <a:solidFill>
              <a:srgbClr val="00297a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7685280" y="487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5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AutoShape 40"/>
          <p:cNvCxnSpPr/>
          <p:nvPr/>
        </p:nvCxnSpPr>
        <p:spPr>
          <a:xfrm flipH="1">
            <a:off x="7467120" y="4266720"/>
            <a:ext cx="288000" cy="1374120"/>
          </a:xfrm>
          <a:prstGeom prst="straightConnector1">
            <a:avLst/>
          </a:prstGeom>
          <a:ln w="50760">
            <a:solidFill>
              <a:srgbClr val="00297a"/>
            </a:solidFill>
            <a:miter/>
          </a:ln>
        </p:spPr>
      </p:cxnSp>
      <p:sp>
        <p:nvSpPr>
          <p:cNvPr id="725" name=""/>
          <p:cNvSpPr/>
          <p:nvPr/>
        </p:nvSpPr>
        <p:spPr>
          <a:xfrm>
            <a:off x="6860160" y="4724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25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eaa7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Laws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of 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63B3-A37A-4521-82D7-09E3D43A06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a700"/>
                </a:solidFill>
                <a:latin typeface="Times New Roman"/>
              </a:rPr>
              <a:t>Observation 1: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λ</a:t>
            </a:r>
            <a:r>
              <a:rPr b="0" lang="en-US" sz="4400" spc="-1" strike="noStrike" baseline="-25000">
                <a:solidFill>
                  <a:srgbClr val="00297a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ower Law(LPL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: How does the principal eigenvalu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djacency matrix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ver ti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: Why should we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5A2A-B45B-414B-BC54-882EC10611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a700"/>
                </a:solidFill>
                <a:latin typeface="Times New Roman"/>
              </a:rPr>
              <a:t>Observation 1: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λ</a:t>
            </a:r>
            <a:r>
              <a:rPr b="0" lang="en-US" sz="4400" spc="-1" strike="noStrike" baseline="-25000">
                <a:solidFill>
                  <a:srgbClr val="00297a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ower Law(LPL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: How does the principal eigenvalu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djacency matrix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ver ti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: Why should we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2: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eaa7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osely linked to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so relates to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epidemic thresh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8E0B-B156-426B-B1D1-D85C617F8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2438280" y="4419720"/>
            <a:ext cx="3048120" cy="1237680"/>
          </a:xfrm>
          <a:prstGeom prst="rect">
            <a:avLst/>
          </a:prstGeom>
          <a:solidFill>
            <a:srgbClr val="eaa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) ∝ E(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 ≤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92840" cy="327672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λ</a:t>
            </a:r>
            <a:r>
              <a:rPr b="0" lang="en-US" sz="4400" spc="-1" strike="noStrike" baseline="-25000">
                <a:solidFill>
                  <a:srgbClr val="00297a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ower Law (LPL) cont.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28600" y="16765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nnected, undirected graph G with N nodes and E edges, without self-loops and multiple ed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≤ {2 (1 – 1/N) E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arge 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≤ c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645D-08DC-4842-902F-8F3A51FEE0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5"/>
          <p:cNvSpPr/>
          <p:nvPr/>
        </p:nvSpPr>
        <p:spPr>
          <a:xfrm>
            <a:off x="5193720" y="50292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LP Author-Confere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3610080" cy="28954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" descr=""/>
          <p:cNvPicPr/>
          <p:nvPr/>
        </p:nvPicPr>
        <p:blipFill>
          <a:blip r:embed="rId3"/>
          <a:stretch/>
        </p:blipFill>
        <p:spPr>
          <a:xfrm>
            <a:off x="914400" y="3276720"/>
            <a:ext cx="3606840" cy="281916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a700"/>
                </a:solidFill>
                <a:latin typeface="Times New Roman"/>
              </a:rPr>
              <a:t>Observation 2: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λ</a:t>
            </a:r>
            <a:r>
              <a:rPr b="0" lang="en-US" sz="4400" spc="-1" strike="noStrike" baseline="-25000">
                <a:solidFill>
                  <a:srgbClr val="00297a"/>
                </a:solidFill>
                <a:latin typeface="Times New Roman"/>
              </a:rPr>
              <a:t>1,w</a:t>
            </a:r>
            <a:r>
              <a:rPr b="0" lang="en-US" sz="4400" spc="-1" strike="noStrike" baseline="-25000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ower Law (LWPL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33520" y="160020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How does th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weigh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eigenvalu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2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ver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E9CC-B180-4F1D-89FF-4F2084D263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3124080" y="2590920"/>
            <a:ext cx="3048120" cy="648720"/>
          </a:xfrm>
          <a:prstGeom prst="rect">
            <a:avLst/>
          </a:prstGeom>
          <a:solidFill>
            <a:srgbClr val="eaa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) ∝ E(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8"/>
          <p:cNvSpPr/>
          <p:nvPr/>
        </p:nvSpPr>
        <p:spPr>
          <a:xfrm>
            <a:off x="995040" y="61722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LP Author-Confere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9"/>
          <p:cNvSpPr/>
          <p:nvPr/>
        </p:nvSpPr>
        <p:spPr>
          <a:xfrm>
            <a:off x="6021720" y="61722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3" descr=""/>
          <p:cNvPicPr/>
          <p:nvPr/>
        </p:nvPicPr>
        <p:blipFill>
          <a:blip r:embed="rId2"/>
          <a:stretch/>
        </p:blipFill>
        <p:spPr>
          <a:xfrm>
            <a:off x="5391000" y="1905120"/>
            <a:ext cx="3753000" cy="286704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a700"/>
                </a:solidFill>
                <a:latin typeface="Times New Roman"/>
              </a:rPr>
              <a:t>Observation 3:</a:t>
            </a:r>
            <a:r>
              <a:rPr b="0" lang="en-US" sz="3600" spc="-1" strike="noStrike">
                <a:solidFill>
                  <a:srgbClr val="eaa7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297a"/>
                </a:solidFill>
                <a:latin typeface="Times New Roman"/>
              </a:rPr>
              <a:t>Edge Weights PL(EWPL)</a:t>
            </a:r>
            <a:endParaRPr b="0" lang="en-US" sz="36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04920" y="1523520"/>
            <a:ext cx="5029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How does the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edge relate to “popularity” if its adjacent n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09B7-960C-4C29-9B25-EB195C1FEB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7"/>
          <p:cNvSpPr/>
          <p:nvPr/>
        </p:nvSpPr>
        <p:spPr>
          <a:xfrm>
            <a:off x="6107760" y="4876920"/>
            <a:ext cx="2148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C Committee-t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914400" y="3124080"/>
            <a:ext cx="2666880" cy="648720"/>
          </a:xfrm>
          <a:prstGeom prst="rect">
            <a:avLst/>
          </a:prstGeom>
          <a:solidFill>
            <a:srgbClr val="eaa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4"/>
          <p:cNvSpPr/>
          <p:nvPr/>
        </p:nvSpPr>
        <p:spPr>
          <a:xfrm rot="16200000">
            <a:off x="1821600" y="4807440"/>
            <a:ext cx="203040" cy="189000"/>
          </a:xfrm>
          <a:prstGeom prst="ellipse">
            <a:avLst/>
          </a:prstGeom>
          <a:solidFill>
            <a:srgbClr val="006600"/>
          </a:solidFill>
          <a:ln w="190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7"/>
          <p:cNvSpPr/>
          <p:nvPr/>
        </p:nvSpPr>
        <p:spPr>
          <a:xfrm rot="16200000">
            <a:off x="3269520" y="4807800"/>
            <a:ext cx="203040" cy="188640"/>
          </a:xfrm>
          <a:prstGeom prst="ellipse">
            <a:avLst/>
          </a:prstGeom>
          <a:solidFill>
            <a:srgbClr val="006600"/>
          </a:solidFill>
          <a:ln w="190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7" name="AutoShape 30"/>
          <p:cNvCxnSpPr/>
          <p:nvPr/>
        </p:nvCxnSpPr>
        <p:spPr>
          <a:xfrm>
            <a:off x="533520" y="4723920"/>
            <a:ext cx="121968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8" name="AutoShape 40"/>
          <p:cNvCxnSpPr/>
          <p:nvPr/>
        </p:nvCxnSpPr>
        <p:spPr>
          <a:xfrm>
            <a:off x="838080" y="4191120"/>
            <a:ext cx="991440" cy="63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AutoShape 40"/>
          <p:cNvCxnSpPr/>
          <p:nvPr/>
        </p:nvCxnSpPr>
        <p:spPr>
          <a:xfrm flipH="1">
            <a:off x="2056680" y="4876560"/>
            <a:ext cx="1220040" cy="1080"/>
          </a:xfrm>
          <a:prstGeom prst="straightConnector1">
            <a:avLst/>
          </a:prstGeom>
          <a:ln w="44280">
            <a:solidFill>
              <a:srgbClr val="000000"/>
            </a:solidFill>
            <a:miter/>
          </a:ln>
        </p:spPr>
      </p:cxnSp>
      <p:cxnSp>
        <p:nvCxnSpPr>
          <p:cNvPr id="760" name="AutoShape 40"/>
          <p:cNvCxnSpPr/>
          <p:nvPr/>
        </p:nvCxnSpPr>
        <p:spPr>
          <a:xfrm flipH="1">
            <a:off x="3504600" y="4190760"/>
            <a:ext cx="99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1" name=""/>
          <p:cNvSpPr/>
          <p:nvPr/>
        </p:nvSpPr>
        <p:spPr>
          <a:xfrm>
            <a:off x="2364120" y="44197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97a"/>
                </a:solidFill>
                <a:latin typeface="Arial"/>
              </a:rPr>
              <a:t>Wi,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2" name="AutoShape 40"/>
          <p:cNvCxnSpPr>
            <a:endCxn id="755" idx="1"/>
          </p:cNvCxnSpPr>
          <p:nvPr/>
        </p:nvCxnSpPr>
        <p:spPr>
          <a:xfrm flipV="1">
            <a:off x="577440" y="4974840"/>
            <a:ext cx="118332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3" name="AutoShape 30"/>
          <p:cNvCxnSpPr/>
          <p:nvPr/>
        </p:nvCxnSpPr>
        <p:spPr>
          <a:xfrm>
            <a:off x="3505320" y="4952520"/>
            <a:ext cx="121968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2742840" y="4116240"/>
            <a:ext cx="1219320" cy="182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60" y="2896"/>
                </a:moveTo>
                <a:arcTo wR="10800" hR="10800" stAng="-2822492" swAng="4329131"/>
                <a:lnTo>
                  <a:pt x="10800" y="10800"/>
                </a:lnTo>
                <a:close/>
              </a:path>
              <a:path fill="none" w="21600" h="21600">
                <a:moveTo>
                  <a:pt x="18160" y="2896"/>
                </a:moveTo>
                <a:arcTo wR="10800" hR="10800" stAng="-2822492" swAng="4329131"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913680" y="4191120"/>
            <a:ext cx="1828440" cy="175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36" y="1194"/>
                </a:moveTo>
                <a:arcTo wR="10800" hR="10800" stAng="-3768178" swAng="6463773"/>
                <a:lnTo>
                  <a:pt x="10800" y="10800"/>
                </a:lnTo>
                <a:close/>
              </a:path>
              <a:path fill="none" w="21600" h="21600">
                <a:moveTo>
                  <a:pt x="15736" y="1194"/>
                </a:moveTo>
                <a:arcTo wR="10800" hR="10800" stAng="-3768178" swAng="6463773"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360440" y="5334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97a"/>
                </a:solidFill>
                <a:latin typeface="Arial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341520" y="5334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97a"/>
                </a:solidFill>
                <a:latin typeface="Arial"/>
              </a:rPr>
              <a:t>W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278520" y="464832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a7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600" y="4724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a7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2320" y="31240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Laws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eaa7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of 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5513-4A7D-457C-B698-30BB53617C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9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5230800" cy="54100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28600" y="1447920"/>
            <a:ext cx="4648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s are popul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, commun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raffic, call graph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1970-6CF6-4C19-A1EC-9C5281D344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8600" y="251460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ter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ing com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for </a:t>
            </a:r>
            <a:r>
              <a:rPr b="0" lang="en-US" sz="2400" spc="-1" strike="noStrike">
                <a:solidFill>
                  <a:srgbClr val="c64847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c64847"/>
                </a:solidFill>
                <a:latin typeface="Arial"/>
              </a:rPr>
              <a:t>un-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</a:t>
            </a:r>
            <a:r>
              <a:rPr b="0" lang="en-US" sz="2800" spc="-1" strike="noStrike">
                <a:solidFill>
                  <a:srgbClr val="c64847"/>
                </a:solidFill>
                <a:latin typeface="Arial"/>
              </a:rPr>
              <a:t>weigh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ph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0" lang="en-US" sz="2800" spc="-1" strike="noStrike">
                <a:solidFill>
                  <a:srgbClr val="c64847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28600" y="54100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</a:t>
            </a:r>
            <a:r>
              <a:rPr b="0" lang="en-US" sz="2800" spc="-1" strike="noStrike">
                <a:solidFill>
                  <a:srgbClr val="c64847"/>
                </a:solidFill>
                <a:latin typeface="Arial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imulation studies, what-if scenarios, future prediction,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a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ealistic </a:t>
            </a: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weigh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phs that will obey all the patterns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P: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97a"/>
                </a:solidFill>
                <a:latin typeface="Arial"/>
              </a:rPr>
              <a:t>un-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law degre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GP: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97a"/>
                </a:solidFill>
                <a:latin typeface="Arial"/>
              </a:rPr>
              <a:t>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dge weight power law (EW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napshot power law (S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E038-8624-4F34-B539-0C1A1C1F60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GP: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97a"/>
                </a:solidFill>
                <a:latin typeface="Arial"/>
              </a:rPr>
              <a:t>un-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nsification power law (D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Law (L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GP: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97a"/>
                </a:solidFill>
                <a:latin typeface="Arial"/>
              </a:rPr>
              <a:t>weigh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ight power law (W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Law (LW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F29E-AA4A-4B06-9AA5-09BA8BC26F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2D solution: Kronecker Produc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93C4-1C3C-489B-9C46-8902BDA440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Content Placeholder 2"/>
          <p:cNvSpPr/>
          <p:nvPr/>
        </p:nvSpPr>
        <p:spPr>
          <a:xfrm>
            <a:off x="304920" y="1523880"/>
            <a:ext cx="4572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a700"/>
                </a:solidFill>
                <a:latin typeface="Arial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cur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914400" y="2057400"/>
          <a:ext cx="164628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16462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2971800" y="1981080"/>
          <a:ext cx="2095560" cy="204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1981080"/>
                    <a:ext cx="209556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1219320" y="4114800"/>
          <a:ext cx="1143000" cy="223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4114800"/>
                    <a:ext cx="114300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"/>
          <p:cNvGraphicFramePr/>
          <p:nvPr/>
        </p:nvGraphicFramePr>
        <p:xfrm>
          <a:off x="2590920" y="3962520"/>
          <a:ext cx="2990880" cy="266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90920" y="3962520"/>
                    <a:ext cx="29908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>
            <a:off x="577548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Content Placeholder 2"/>
          <p:cNvSpPr/>
          <p:nvPr/>
        </p:nvSpPr>
        <p:spPr>
          <a:xfrm>
            <a:off x="533412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a700"/>
                </a:solidFill>
                <a:latin typeface="Arial"/>
              </a:rPr>
              <a:t>Intu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ies within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f-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-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2D solution: Kronecker Product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FA1B-573A-41BB-939E-C9F41B88FD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796" name="Line 6"/>
          <p:cNvSpPr/>
          <p:nvPr/>
        </p:nvSpPr>
        <p:spPr>
          <a:xfrm>
            <a:off x="3886200" y="1600200"/>
            <a:ext cx="28440" cy="338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7"/>
          <p:cNvSpPr/>
          <p:nvPr/>
        </p:nvSpPr>
        <p:spPr>
          <a:xfrm>
            <a:off x="5029200" y="1600200"/>
            <a:ext cx="28440" cy="338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8"/>
          <p:cNvSpPr/>
          <p:nvPr/>
        </p:nvSpPr>
        <p:spPr>
          <a:xfrm flipV="1">
            <a:off x="2743200" y="2666880"/>
            <a:ext cx="3382920" cy="28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"/>
          <p:cNvSpPr/>
          <p:nvPr/>
        </p:nvSpPr>
        <p:spPr>
          <a:xfrm flipV="1">
            <a:off x="2743200" y="3809880"/>
            <a:ext cx="3382920" cy="28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2743200" y="1981080"/>
            <a:ext cx="1143000" cy="28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8"/>
          <p:cNvSpPr/>
          <p:nvPr/>
        </p:nvSpPr>
        <p:spPr>
          <a:xfrm flipV="1">
            <a:off x="2743200" y="2361960"/>
            <a:ext cx="1143000" cy="28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7"/>
          <p:cNvSpPr/>
          <p:nvPr/>
        </p:nvSpPr>
        <p:spPr>
          <a:xfrm>
            <a:off x="3505320" y="1600200"/>
            <a:ext cx="2844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3124080" y="1600200"/>
            <a:ext cx="2880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9C5-AFBE-43CE-BBFC-887C7D85BD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1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125" dur="5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7efa0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24583 -0.18334 E">
                                      <p:cBhvr>
                                        <p:cTn id="143" dur="5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E42F-3B1A-4EC8-95A0-89019ECC32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2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149" dur="5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37916 -0.18334 E">
                                      <p:cBhvr>
                                        <p:cTn id="167" dur="5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8256-649E-4728-A32C-9D91508A1D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3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173" dur="5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5125 -0.18334 E">
                                      <p:cBhvr>
                                        <p:cTn id="191" dur="5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1AFB-EFD4-4BF5-B6C1-6B0D8363B4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4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86728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197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65416 -0.18334 E">
                                      <p:cBhvr>
                                        <p:cTn id="212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2B14-396A-442B-BEDD-76B21A6F64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,1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86728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0866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218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24583 -0.07223 E">
                                      <p:cBhvr>
                                        <p:cTn id="236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123C-1B9E-441D-B30A-6BC6A76393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,1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0866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29000" y="25146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242" dur="5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0d8d7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25416 0.03889 E">
                                      <p:cBhvr>
                                        <p:cTn id="260" dur="5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eaa7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a700"/>
                </a:solidFill>
                <a:latin typeface="Arial"/>
              </a:rPr>
              <a:t>- Burst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and Observ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ketch of proo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A6AD-3455-4305-9110-5D93C36C95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BEE0-35B0-4E88-9599-4976EB483F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290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648320" y="175248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86728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086600" y="175248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29000" y="251460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429000" y="3276720"/>
            <a:ext cx="1447920" cy="990360"/>
          </a:xfrm>
          <a:prstGeom prst="cube">
            <a:avLst>
              <a:gd name="adj" fmla="val 25000"/>
            </a:avLst>
          </a:prstGeom>
          <a:solidFill>
            <a:srgbClr val="b2b2b2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48320" y="2514600"/>
            <a:ext cx="1447560" cy="990720"/>
          </a:xfrm>
          <a:prstGeom prst="cube">
            <a:avLst>
              <a:gd name="adj" fmla="val 25000"/>
            </a:avLst>
          </a:prstGeom>
          <a:solidFill>
            <a:srgbClr val="ccffcc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648320" y="3276720"/>
            <a:ext cx="1447560" cy="990360"/>
          </a:xfrm>
          <a:prstGeom prst="cube">
            <a:avLst>
              <a:gd name="adj" fmla="val 25000"/>
            </a:avLst>
          </a:prstGeom>
          <a:solidFill>
            <a:srgbClr val="cc99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867280" y="2514600"/>
            <a:ext cx="1447920" cy="990720"/>
          </a:xfrm>
          <a:prstGeom prst="cube">
            <a:avLst>
              <a:gd name="adj" fmla="val 25000"/>
            </a:avLst>
          </a:prstGeom>
          <a:solidFill>
            <a:srgbClr val="58b1ba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867280" y="3276720"/>
            <a:ext cx="1447920" cy="99036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086600" y="2514600"/>
            <a:ext cx="1447920" cy="99072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086600" y="3276720"/>
            <a:ext cx="1447920" cy="99036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297" dur="5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299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1" dur="5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3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5" dur="5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7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09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1" dur="5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3" dur="5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5" dur="5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7" dur="5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667 0.08889 E">
                                      <p:cBhvr>
                                        <p:cTn id="319" dur="5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B37B-6651-4667-80BB-7AE2EC428F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2004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419720" y="228600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3868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2004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b2b2b2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19720" y="3048120"/>
            <a:ext cx="1447560" cy="990360"/>
          </a:xfrm>
          <a:prstGeom prst="cube">
            <a:avLst>
              <a:gd name="adj" fmla="val 25000"/>
            </a:avLst>
          </a:prstGeom>
          <a:solidFill>
            <a:srgbClr val="ccffcc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419720" y="3809880"/>
            <a:ext cx="1447560" cy="990720"/>
          </a:xfrm>
          <a:prstGeom prst="cube">
            <a:avLst>
              <a:gd name="adj" fmla="val 25000"/>
            </a:avLst>
          </a:prstGeom>
          <a:solidFill>
            <a:srgbClr val="cc99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58b1ba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63868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858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325" dur="5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24583 -0.13889 E">
                                      <p:cBhvr>
                                        <p:cTn id="343" dur="5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FF5C-C578-45D7-836E-3B2197A41F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712240" y="4876920"/>
            <a:ext cx="1241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,2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9720" y="228600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63868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580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2004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2004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b2b2b2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419720" y="3048120"/>
            <a:ext cx="1447560" cy="990360"/>
          </a:xfrm>
          <a:prstGeom prst="cube">
            <a:avLst>
              <a:gd name="adj" fmla="val 25000"/>
            </a:avLst>
          </a:prstGeom>
          <a:solidFill>
            <a:srgbClr val="ccffcc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419720" y="3809880"/>
            <a:ext cx="1447560" cy="990720"/>
          </a:xfrm>
          <a:prstGeom prst="cube">
            <a:avLst>
              <a:gd name="adj" fmla="val 25000"/>
            </a:avLst>
          </a:prstGeom>
          <a:solidFill>
            <a:srgbClr val="cc99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63868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58b1ba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3868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858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8580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429000" y="20574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0417 0.26111 E">
                                      <p:cBhvr>
                                        <p:cTn id="349" dur="5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6111 L 0.37083 -0.13889 E">
                                      <p:cBhvr>
                                        <p:cTn id="367" dur="5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F5D5-DE75-4E30-BC4E-08EC2CE42C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43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914400" y="3276720"/>
            <a:ext cx="0" cy="76176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143000" y="4191120"/>
            <a:ext cx="121932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914400" y="2895120"/>
            <a:ext cx="304920" cy="38124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160164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6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4960" y="342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712880" y="2286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2004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419720" y="2286000"/>
            <a:ext cx="144756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63868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0" y="2286000"/>
            <a:ext cx="144792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2004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2004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b2b2b2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419720" y="3048120"/>
            <a:ext cx="1447560" cy="990360"/>
          </a:xfrm>
          <a:prstGeom prst="cube">
            <a:avLst>
              <a:gd name="adj" fmla="val 25000"/>
            </a:avLst>
          </a:prstGeom>
          <a:solidFill>
            <a:srgbClr val="ccffcc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19720" y="3809880"/>
            <a:ext cx="1447560" cy="990720"/>
          </a:xfrm>
          <a:prstGeom prst="cube">
            <a:avLst>
              <a:gd name="adj" fmla="val 25000"/>
            </a:avLst>
          </a:prstGeom>
          <a:solidFill>
            <a:srgbClr val="cc99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63868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58b1ba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63868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858000" y="3048120"/>
            <a:ext cx="1447920" cy="99036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858000" y="3809880"/>
            <a:ext cx="1447920" cy="990720"/>
          </a:xfrm>
          <a:prstGeom prst="cube">
            <a:avLst>
              <a:gd name="adj" fmla="val 25000"/>
            </a:avLst>
          </a:prstGeom>
          <a:solidFill>
            <a:srgbClr val="99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429000" y="20574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572000" y="2057400"/>
            <a:ext cx="1447920" cy="990720"/>
          </a:xfrm>
          <a:prstGeom prst="cube">
            <a:avLst>
              <a:gd name="adj" fmla="val 25000"/>
            </a:avLst>
          </a:prstGeom>
          <a:solidFill>
            <a:srgbClr val="ffcc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791320" y="2057400"/>
            <a:ext cx="1447560" cy="990720"/>
          </a:xfrm>
          <a:prstGeom prst="cube">
            <a:avLst>
              <a:gd name="adj" fmla="val 25000"/>
            </a:avLst>
          </a:prstGeom>
          <a:solidFill>
            <a:srgbClr val="3dff3d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10280" y="2057400"/>
            <a:ext cx="1447920" cy="990720"/>
          </a:xfrm>
          <a:prstGeom prst="cube">
            <a:avLst>
              <a:gd name="adj" fmla="val 25000"/>
            </a:avLst>
          </a:prstGeom>
          <a:solidFill>
            <a:srgbClr val="87efa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29000" y="2819520"/>
            <a:ext cx="1447920" cy="990360"/>
          </a:xfrm>
          <a:prstGeom prst="cube">
            <a:avLst>
              <a:gd name="adj" fmla="val 25000"/>
            </a:avLst>
          </a:prstGeom>
          <a:solidFill>
            <a:srgbClr val="ff9393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648320" y="2819520"/>
            <a:ext cx="1447560" cy="990360"/>
          </a:xfrm>
          <a:prstGeom prst="cube">
            <a:avLst>
              <a:gd name="adj" fmla="val 25000"/>
            </a:avLst>
          </a:prstGeom>
          <a:solidFill>
            <a:srgbClr val="0000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867280" y="2819520"/>
            <a:ext cx="1447920" cy="990360"/>
          </a:xfrm>
          <a:prstGeom prst="cube">
            <a:avLst>
              <a:gd name="adj" fmla="val 25000"/>
            </a:avLst>
          </a:prstGeom>
          <a:solidFill>
            <a:srgbClr val="80008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086600" y="2819520"/>
            <a:ext cx="1447920" cy="990360"/>
          </a:xfrm>
          <a:prstGeom prst="cube">
            <a:avLst>
              <a:gd name="adj" fmla="val 25000"/>
            </a:avLst>
          </a:prstGeom>
          <a:solidFill>
            <a:srgbClr val="006699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429000" y="3581280"/>
            <a:ext cx="1447920" cy="990720"/>
          </a:xfrm>
          <a:prstGeom prst="cube">
            <a:avLst>
              <a:gd name="adj" fmla="val 25000"/>
            </a:avLst>
          </a:prstGeom>
          <a:solidFill>
            <a:srgbClr val="339966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48320" y="3581280"/>
            <a:ext cx="1447560" cy="990720"/>
          </a:xfrm>
          <a:prstGeom prst="cube">
            <a:avLst>
              <a:gd name="adj" fmla="val 25000"/>
            </a:avLst>
          </a:prstGeom>
          <a:solidFill>
            <a:srgbClr val="eaa7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867280" y="3581280"/>
            <a:ext cx="1447920" cy="990720"/>
          </a:xfrm>
          <a:prstGeom prst="cube">
            <a:avLst>
              <a:gd name="adj" fmla="val 25000"/>
            </a:avLst>
          </a:prstGeom>
          <a:solidFill>
            <a:srgbClr val="00ffff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086600" y="3581280"/>
            <a:ext cx="1447920" cy="990720"/>
          </a:xfrm>
          <a:prstGeom prst="cube">
            <a:avLst>
              <a:gd name="adj" fmla="val 25000"/>
            </a:avLst>
          </a:prstGeom>
          <a:solidFill>
            <a:srgbClr val="000000">
              <a:alpha val="44000"/>
            </a:srgbClr>
          </a:solidFill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200400" y="5029200"/>
            <a:ext cx="495288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340240" y="5105520"/>
            <a:ext cx="4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971800" y="2514600"/>
            <a:ext cx="0" cy="236232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597040" y="3352680"/>
            <a:ext cx="4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048120" y="1981080"/>
            <a:ext cx="457200" cy="45720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901600" y="1828800"/>
            <a:ext cx="4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7a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297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5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722F-ECAA-47C2-B954-87441D3BC3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057400" y="2057400"/>
            <a:ext cx="5562720" cy="30481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752480" y="2819520"/>
            <a:ext cx="0" cy="228600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rot="16200000">
            <a:off x="698760" y="38001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s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5410080"/>
            <a:ext cx="4952880" cy="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430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recip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057400" y="281952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209680" y="266688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362320" y="251460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514600" y="236232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666880" y="2209680"/>
            <a:ext cx="4800600" cy="2286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819520" y="2057400"/>
            <a:ext cx="4800600" cy="2286000"/>
          </a:xfrm>
          <a:prstGeom prst="rect">
            <a:avLst/>
          </a:prstGeom>
          <a:solidFill>
            <a:srgbClr val="ffcc00">
              <a:alpha val="2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486400" y="1523880"/>
            <a:ext cx="1523880" cy="343080"/>
          </a:xfrm>
          <a:prstGeom prst="borderCallout2">
            <a:avLst>
              <a:gd name="adj1" fmla="val 18750"/>
              <a:gd name="adj2" fmla="val -8333"/>
              <a:gd name="adj3" fmla="val 33333"/>
              <a:gd name="adj4" fmla="val -29481"/>
              <a:gd name="adj5" fmla="val 144444"/>
              <a:gd name="adj6" fmla="val -55000"/>
            </a:avLst>
          </a:prstGeom>
          <a:solidFill>
            <a:srgbClr val="eaa700">
              <a:alpha val="52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736240" y="14619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</a:rPr>
              <a:t>t-sl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1752480" y="2057040"/>
            <a:ext cx="685800" cy="685800"/>
          </a:xfrm>
          <a:prstGeom prst="line">
            <a:avLst/>
          </a:prstGeom>
          <a:ln w="38160">
            <a:solidFill>
              <a:srgbClr val="00297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8963600">
            <a:off x="1373400" y="1904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c97"/>
                                      </p:to>
                                    </p:animClr>
                                    <p:set>
                                      <p:cBhvr>
                                        <p:cTn id="523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8AE0-ACB4-4B76-80E2-CA697B41C1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685800" y="2362320"/>
            <a:ext cx="1143000" cy="106668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2057400"/>
            <a:ext cx="1523880" cy="13716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38080" y="2209680"/>
            <a:ext cx="121932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990720" y="2057400"/>
            <a:ext cx="121896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082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208680" y="342900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248440" y="342900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229880" y="342900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23334 0 E">
                                      <p:cBhvr>
                                        <p:cTn id="529" dur="5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22222E-006 L 0.43333 0.02222 E">
                                      <p:cBhvr>
                                        <p:cTn id="532" dur="5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63333 0.04444 E">
                                      <p:cBhvr>
                                        <p:cTn id="535" dur="5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Times New Roman"/>
              </a:rPr>
              <a:t>3D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solution: Recursive Tensor 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297a"/>
                </a:solidFill>
                <a:latin typeface="Times New Roman"/>
              </a:rPr>
              <a:t>              Multiplication(RTM)</a:t>
            </a:r>
            <a:endParaRPr b="0" lang="en-US" sz="40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C1F0-B6F9-4289-A9ED-D978EB6A1A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1447560" cy="8985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303228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132360" y="342900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037480" y="335268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018560" y="3352680"/>
            <a:ext cx="38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7a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297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57200" y="2057400"/>
            <a:ext cx="1523880" cy="13716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666880" y="2209680"/>
            <a:ext cx="121932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2767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6668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6668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666880" y="2209680"/>
            <a:ext cx="1219320" cy="990720"/>
            <a:chOff x="2666880" y="2209680"/>
            <a:chExt cx="1219320" cy="990720"/>
          </a:xfrm>
        </p:grpSpPr>
        <p:sp>
          <p:nvSpPr>
            <p:cNvPr id="1077" name=""/>
            <p:cNvSpPr/>
            <p:nvPr/>
          </p:nvSpPr>
          <p:spPr>
            <a:xfrm>
              <a:off x="358128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636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97180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66880" y="28954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66880" y="26668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66880" y="24382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4648320" y="2209680"/>
            <a:ext cx="121896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9528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257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627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9528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2578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9528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648320" y="28954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26668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648320" y="2438280"/>
            <a:ext cx="121896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48320" y="2209680"/>
            <a:ext cx="1218960" cy="990720"/>
            <a:chOff x="4648320" y="2209680"/>
            <a:chExt cx="1218960" cy="990720"/>
          </a:xfrm>
        </p:grpSpPr>
        <p:sp>
          <p:nvSpPr>
            <p:cNvPr id="1109" name=""/>
            <p:cNvSpPr/>
            <p:nvPr/>
          </p:nvSpPr>
          <p:spPr>
            <a:xfrm>
              <a:off x="556236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25744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5288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8320" y="2895480"/>
              <a:ext cx="12189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8320" y="2666880"/>
              <a:ext cx="12189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8320" y="2438280"/>
              <a:ext cx="121896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6553080" y="2209680"/>
            <a:ext cx="1219320" cy="99072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8580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1629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46748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16292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0" y="2209680"/>
            <a:ext cx="0" cy="990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53080" y="28954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553080" y="26668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53080" y="2438280"/>
            <a:ext cx="12193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6553080" y="2209680"/>
            <a:ext cx="1219320" cy="990720"/>
            <a:chOff x="6553080" y="2209680"/>
            <a:chExt cx="1219320" cy="990720"/>
          </a:xfrm>
        </p:grpSpPr>
        <p:sp>
          <p:nvSpPr>
            <p:cNvPr id="1141" name=""/>
            <p:cNvSpPr/>
            <p:nvPr/>
          </p:nvSpPr>
          <p:spPr>
            <a:xfrm>
              <a:off x="746748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16256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858000" y="2209680"/>
              <a:ext cx="0" cy="9907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553080" y="28954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553080" y="26668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553080" y="2438280"/>
              <a:ext cx="121932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32785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6501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9550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4696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7164720" y="283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3641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3641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36412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36412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66904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97360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2785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5834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5012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9550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25960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5645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2692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2692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6924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1740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17400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17400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17400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55524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85980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16472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46964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828800" y="2666880"/>
            <a:ext cx="380880" cy="0"/>
          </a:xfrm>
          <a:prstGeom prst="line">
            <a:avLst/>
          </a:prstGeom>
          <a:ln w="38160">
            <a:solidFill>
              <a:srgbClr val="0029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4382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5812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1640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5834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5960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956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638680" y="43290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57380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6408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952880" y="449568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05520" y="4114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495680" y="5256360"/>
            <a:ext cx="457200" cy="3682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572000" y="5257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4952520" y="457200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5530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6960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63120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6982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010280" y="441972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162920" y="4114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553080" y="52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6312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4648320"/>
            <a:ext cx="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4789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7009920" y="449568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1647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696080" y="52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7742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934320" y="4648320"/>
            <a:ext cx="83808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317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924680" y="4647960"/>
            <a:ext cx="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926840" y="47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048120" y="4114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18364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724280" y="4648320"/>
            <a:ext cx="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4150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5530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696080" y="4343400"/>
            <a:ext cx="457200" cy="3049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3120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698240" y="42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010280" y="441972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162920" y="4114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7009920" y="4495680"/>
            <a:ext cx="68580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1647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Laws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ketch of proo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2786-C87D-4388-A873-6B03A42EEE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250" autoRev="1" fill="hold"/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500" fill="hold"/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500" fill="hold"/>
                                        <p:tgtEl>
                                          <p:spTgt spid="1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a7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F8BD-5CE7-4B3E-BDE2-CAB41E296B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297a"/>
                </a:solidFill>
                <a:latin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297a"/>
                </a:solidFill>
                <a:latin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3886200" y="1828800"/>
          <a:ext cx="4572000" cy="35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828800"/>
                    <a:ext cx="457200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TextBox 16"/>
          <p:cNvSpPr/>
          <p:nvPr/>
        </p:nvSpPr>
        <p:spPr>
          <a:xfrm>
            <a:off x="5656320" y="5410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Box 16"/>
          <p:cNvSpPr/>
          <p:nvPr/>
        </p:nvSpPr>
        <p:spPr>
          <a:xfrm rot="16200000">
            <a:off x="3155400" y="33238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DF1C-163E-474D-9800-7D31871025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Box 16"/>
          <p:cNvSpPr/>
          <p:nvPr/>
        </p:nvSpPr>
        <p:spPr>
          <a:xfrm>
            <a:off x="5870160" y="54864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16"/>
          <p:cNvSpPr/>
          <p:nvPr/>
        </p:nvSpPr>
        <p:spPr>
          <a:xfrm rot="16200000">
            <a:off x="3167640" y="3159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2"/>
          <a:stretch/>
        </p:blipFill>
        <p:spPr>
          <a:xfrm>
            <a:off x="3809880" y="1523880"/>
            <a:ext cx="48006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2" descr="blog.bmp"/>
          <p:cNvPicPr/>
          <p:nvPr/>
        </p:nvPicPr>
        <p:blipFill>
          <a:blip r:embed="rId2"/>
          <a:stretch/>
        </p:blipFill>
        <p:spPr>
          <a:xfrm>
            <a:off x="5181480" y="3124080"/>
            <a:ext cx="3138480" cy="24386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Graph Patterns (I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09120" y="7617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lvl="1" marL="155880" indent="-5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499"/>
              </a:spcBef>
              <a:buClr>
                <a:srgbClr val="00297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 for the we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bert and Barabási, 19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499"/>
              </a:spcBef>
              <a:buClr>
                <a:srgbClr val="00297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6 for the Internet AS topology grap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loutsos, Faloutsos, Faloutsos, 19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rinking diam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skovec et al.‘0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5880" indent="-597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000" indent="-7200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9760" indent="-47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8C08-648E-42DB-B7F7-04AF1B6227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47920" y="5334120"/>
            <a:ext cx="3276360" cy="459720"/>
          </a:xfrm>
          <a:prstGeom prst="rect">
            <a:avLst/>
          </a:prstGeom>
          <a:solidFill>
            <a:srgbClr val="eaa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(x) = A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Arial"/>
              </a:rPr>
              <a:t>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A&gt;0,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5"/>
          <p:cNvSpPr/>
          <p:nvPr/>
        </p:nvSpPr>
        <p:spPr>
          <a:xfrm>
            <a:off x="6939000" y="327672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g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3"/>
          <p:cNvSpPr/>
          <p:nvPr/>
        </p:nvSpPr>
        <p:spPr>
          <a:xfrm>
            <a:off x="63244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4"/>
          <p:cNvSpPr/>
          <p:nvPr/>
        </p:nvSpPr>
        <p:spPr>
          <a:xfrm rot="16200000">
            <a:off x="4375080" y="4082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1C18-DFD0-43F8-9579-C70A2A30AB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Box 16"/>
          <p:cNvSpPr/>
          <p:nvPr/>
        </p:nvSpPr>
        <p:spPr>
          <a:xfrm>
            <a:off x="5640120" y="54100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N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Box 16"/>
          <p:cNvSpPr/>
          <p:nvPr/>
        </p:nvSpPr>
        <p:spPr>
          <a:xfrm rot="16200000">
            <a:off x="3312360" y="31572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3" name=""/>
          <p:cNvGraphicFramePr/>
          <p:nvPr/>
        </p:nvGraphicFramePr>
        <p:xfrm>
          <a:off x="3733920" y="1676520"/>
          <a:ext cx="4591080" cy="35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1676520"/>
                    <a:ext cx="4591080" cy="35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5752-9093-4EB2-9EC7-894290A0A3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16"/>
          <p:cNvSpPr/>
          <p:nvPr/>
        </p:nvSpPr>
        <p:spPr>
          <a:xfrm>
            <a:off x="5874480" y="54100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16"/>
          <p:cNvSpPr/>
          <p:nvPr/>
        </p:nvSpPr>
        <p:spPr>
          <a:xfrm rot="16200000">
            <a:off x="3282120" y="31561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W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3809880" y="1752480"/>
          <a:ext cx="4591080" cy="361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752480"/>
                    <a:ext cx="459108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474-0A05-4379-A60C-C551394596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3429000" y="1905120"/>
          <a:ext cx="4648320" cy="36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1905120"/>
                    <a:ext cx="464832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21DD-93CC-4ECE-81E6-D2B68BE299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16"/>
          <p:cNvSpPr/>
          <p:nvPr/>
        </p:nvSpPr>
        <p:spPr>
          <a:xfrm>
            <a:off x="5337000" y="3429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In-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16"/>
          <p:cNvSpPr/>
          <p:nvPr/>
        </p:nvSpPr>
        <p:spPr>
          <a:xfrm rot="16200000">
            <a:off x="3517200" y="227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In-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4419720" y="1295280"/>
          <a:ext cx="2786040" cy="22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295280"/>
                    <a:ext cx="278604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4" name="TextBox 16"/>
          <p:cNvSpPr/>
          <p:nvPr/>
        </p:nvSpPr>
        <p:spPr>
          <a:xfrm>
            <a:off x="5323680" y="6095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Out-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16"/>
          <p:cNvSpPr/>
          <p:nvPr/>
        </p:nvSpPr>
        <p:spPr>
          <a:xfrm rot="16200000">
            <a:off x="3506040" y="48654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Out-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6" name=""/>
          <p:cNvGraphicFramePr/>
          <p:nvPr/>
        </p:nvGraphicFramePr>
        <p:xfrm>
          <a:off x="4495680" y="3828960"/>
          <a:ext cx="2819520" cy="22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3828960"/>
                    <a:ext cx="281952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34A1-8772-4981-B3C0-8724581EDB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2"/>
          <a:stretch/>
        </p:blipFill>
        <p:spPr>
          <a:xfrm>
            <a:off x="4038480" y="1295280"/>
            <a:ext cx="335304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2" name=""/>
          <p:cNvGraphicFramePr/>
          <p:nvPr/>
        </p:nvGraphicFramePr>
        <p:xfrm>
          <a:off x="4114800" y="3809880"/>
          <a:ext cx="33526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809880"/>
                    <a:ext cx="3352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Experimental Resul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65530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D0E-B722-474E-A744-81E1BBAC75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33520" y="1447920"/>
            <a:ext cx="327636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U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 Degre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SW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Edge Weights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ho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U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fication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inking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edg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97a"/>
                </a:solidFill>
                <a:latin typeface="Arial"/>
                <a:ea typeface="Arial"/>
              </a:rPr>
              <a:t>DWG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sty weight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dff3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λ</a:t>
            </a:r>
            <a:r>
              <a:rPr b="0" lang="en-US" sz="1800" spc="-1" strike="noStrike" baseline="-25000">
                <a:solidFill>
                  <a:srgbClr val="eaa700"/>
                </a:solidFill>
                <a:latin typeface="Arial"/>
              </a:rPr>
              <a:t>1,w</a:t>
            </a:r>
            <a:r>
              <a:rPr b="0" lang="en-US" sz="1800" spc="-1" strike="noStrike">
                <a:solidFill>
                  <a:srgbClr val="eaa700"/>
                </a:solidFill>
                <a:latin typeface="Arial"/>
              </a:rPr>
              <a:t>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Box 16"/>
          <p:cNvSpPr/>
          <p:nvPr/>
        </p:nvSpPr>
        <p:spPr>
          <a:xfrm>
            <a:off x="5639760" y="34290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Box 16"/>
          <p:cNvSpPr/>
          <p:nvPr/>
        </p:nvSpPr>
        <p:spPr>
          <a:xfrm rot="16200000">
            <a:off x="3861000" y="2275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λ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16"/>
          <p:cNvSpPr/>
          <p:nvPr/>
        </p:nvSpPr>
        <p:spPr>
          <a:xfrm>
            <a:off x="5639760" y="60958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Box 16"/>
          <p:cNvSpPr/>
          <p:nvPr/>
        </p:nvSpPr>
        <p:spPr>
          <a:xfrm rot="16200000">
            <a:off x="3821400" y="467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λ1,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1" name=""/>
          <p:cNvGraphicFramePr/>
          <p:nvPr/>
        </p:nvGraphicFramePr>
        <p:xfrm>
          <a:off x="4343400" y="1219320"/>
          <a:ext cx="289548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1219320"/>
                    <a:ext cx="28954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"/>
          <p:cNvGraphicFramePr/>
          <p:nvPr/>
        </p:nvGraphicFramePr>
        <p:xfrm>
          <a:off x="4343400" y="3809880"/>
          <a:ext cx="2971800" cy="229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3809880"/>
                    <a:ext cx="297180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4771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094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al graphs, (un)weighted larges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igen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wer-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umber of ed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       of an edge is related to the total weights       and       of its incident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ursiv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or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plication is a recursive method to generate (1)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eigh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(2)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ime-evol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(3)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lf-simi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(4)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wer-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ture 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version of R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the initial tensor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F03F-1C95-4859-A3D8-334C5A08EF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211480" y="23623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i,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363760" y="28195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582720" y="28036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261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Slide Number Placeholder 3"/>
          <p:cNvSpPr/>
          <p:nvPr/>
        </p:nvSpPr>
        <p:spPr>
          <a:xfrm>
            <a:off x="8686800" y="6477120"/>
            <a:ext cx="2649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E58E40DB-6EDE-44F1-8DC4-78E42AC8010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Contact u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2361960" y="1294920"/>
            <a:ext cx="6094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y McGloh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s.cmu.edu/~mmcglo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cgloho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os Falout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s.cmu.edu/~chr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os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an Akog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ndrew.cmu.edu/~lakog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koglu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5" name="Picture 4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1693800" cy="190512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5" descr=""/>
          <p:cNvPicPr/>
          <p:nvPr/>
        </p:nvPicPr>
        <p:blipFill>
          <a:blip r:embed="rId3"/>
          <a:srcRect l="10348" t="14426" r="6902" b="0"/>
          <a:stretch/>
        </p:blipFill>
        <p:spPr>
          <a:xfrm>
            <a:off x="533520" y="5029200"/>
            <a:ext cx="1676160" cy="165744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6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1600200" cy="15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Graph Patterns (II)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714640" y="2209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B375-7B5A-4142-81C1-D18938E5C9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4"/>
          <p:cNvSpPr/>
          <p:nvPr/>
        </p:nvSpPr>
        <p:spPr>
          <a:xfrm>
            <a:off x="5853600" y="4191120"/>
            <a:ext cx="32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LP Keyword-to-Conference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2994120" cy="21337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27"/>
          <p:cNvSpPr/>
          <p:nvPr/>
        </p:nvSpPr>
        <p:spPr>
          <a:xfrm>
            <a:off x="3584520" y="41911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domain Internet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562360" y="2514600"/>
            <a:ext cx="3733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lvl="1" marL="215280" indent="-8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ification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skovec et al.‘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eigh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cGloh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 al.‘0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-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5280" indent="-8280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31200" indent="-662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71800" y="251460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lvl="1" marL="282240" indent="-108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values Power Law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loutsos et al.‘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5" descr="kcscat.bmp"/>
          <p:cNvPicPr/>
          <p:nvPr/>
        </p:nvPicPr>
        <p:blipFill>
          <a:blip r:embed="rId3"/>
          <a:stretch/>
        </p:blipFill>
        <p:spPr>
          <a:xfrm>
            <a:off x="6324480" y="1752480"/>
            <a:ext cx="2646360" cy="206532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6"/>
          <p:cNvSpPr/>
          <p:nvPr/>
        </p:nvSpPr>
        <p:spPr>
          <a:xfrm>
            <a:off x="4501440" y="38098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7"/>
          <p:cNvSpPr/>
          <p:nvPr/>
        </p:nvSpPr>
        <p:spPr>
          <a:xfrm rot="16200000">
            <a:off x="2654640" y="253584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Eigen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8"/>
          <p:cNvSpPr/>
          <p:nvPr/>
        </p:nvSpPr>
        <p:spPr>
          <a:xfrm>
            <a:off x="7470000" y="38098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E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9"/>
          <p:cNvSpPr/>
          <p:nvPr/>
        </p:nvSpPr>
        <p:spPr>
          <a:xfrm>
            <a:off x="8079480" y="16765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W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0"/>
          <p:cNvSpPr/>
          <p:nvPr/>
        </p:nvSpPr>
        <p:spPr>
          <a:xfrm>
            <a:off x="8370360" y="205740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srcN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1"/>
          <p:cNvSpPr/>
          <p:nvPr/>
        </p:nvSpPr>
        <p:spPr>
          <a:xfrm>
            <a:off x="8081640" y="28195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|dstN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251460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lvl="1" marL="282240" indent="-108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499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Power Law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Richardson and Domingos, ‘01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spcBef>
                <a:spcPts val="601"/>
              </a:spcBef>
              <a:buClr>
                <a:srgbClr val="00297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34160" indent="-867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9" descr=""/>
          <p:cNvPicPr/>
          <p:nvPr/>
        </p:nvPicPr>
        <p:blipFill>
          <a:blip r:embed="rId4">
            <a:alphaModFix amt="21000"/>
          </a:blip>
          <a:stretch/>
        </p:blipFill>
        <p:spPr>
          <a:xfrm>
            <a:off x="533520" y="1828800"/>
            <a:ext cx="2622600" cy="1981080"/>
          </a:xfrm>
          <a:prstGeom prst="rect">
            <a:avLst/>
          </a:prstGeom>
          <a:ln w="0">
            <a:noFill/>
          </a:ln>
        </p:spPr>
      </p:pic>
      <p:sp>
        <p:nvSpPr>
          <p:cNvPr id="588" name="TextBox 33"/>
          <p:cNvSpPr/>
          <p:nvPr/>
        </p:nvSpPr>
        <p:spPr>
          <a:xfrm>
            <a:off x="1379160" y="38098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In-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4"/>
          <p:cNvSpPr/>
          <p:nvPr/>
        </p:nvSpPr>
        <p:spPr>
          <a:xfrm rot="16200000">
            <a:off x="18360" y="25783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7a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5"/>
          <p:cNvSpPr/>
          <p:nvPr/>
        </p:nvSpPr>
        <p:spPr>
          <a:xfrm>
            <a:off x="615240" y="4191120"/>
            <a:ext cx="27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inions who-trusts-whom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7"/>
          <p:cNvSpPr/>
          <p:nvPr/>
        </p:nvSpPr>
        <p:spPr>
          <a:xfrm>
            <a:off x="990720" y="2133720"/>
            <a:ext cx="1218960" cy="121896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>
            <a:off x="3809880" y="2286000"/>
            <a:ext cx="2210040" cy="533520"/>
          </a:xfrm>
          <a:prstGeom prst="line">
            <a:avLst/>
          </a:prstGeom>
          <a:ln w="19080">
            <a:solidFill>
              <a:srgbClr val="c64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1"/>
          <p:cNvSpPr/>
          <p:nvPr/>
        </p:nvSpPr>
        <p:spPr>
          <a:xfrm>
            <a:off x="2590920" y="3581280"/>
            <a:ext cx="228600" cy="152640"/>
          </a:xfrm>
          <a:prstGeom prst="ellipse">
            <a:avLst/>
          </a:prstGeom>
          <a:solidFill>
            <a:srgbClr val="ffff00">
              <a:alpha val="21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Graph Generator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297a"/>
                </a:solidFill>
                <a:latin typeface="Arial"/>
              </a:rPr>
              <a:t>Erdős</a:t>
            </a: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0297a"/>
                </a:solidFill>
                <a:latin typeface="Arial"/>
              </a:rPr>
              <a:t>Rényi (ER)</a:t>
            </a: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[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dő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ny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6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Small-wor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 [Watts, Strogatz ‘9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Preferential Attach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rabá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bert ‘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297a"/>
                </a:solidFill>
                <a:latin typeface="Arial"/>
              </a:rPr>
              <a:t>Edge Copying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models [Kumar et 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99],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berg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99]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Forest F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[Leskovec, Faloutsos ‘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Kroneck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s [Leskovec, Chakrabarti, Kleinberg, Faloutsos ‘0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7a"/>
                </a:solidFill>
                <a:latin typeface="Arial"/>
              </a:rPr>
              <a:t>Optimization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s [Carlson,Doyle,’00] [Fabrikant et al. ’0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eaa7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DCF7-5D7D-4311-96F2-C9360B1857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58640" y="1600200"/>
            <a:ext cx="822816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5440" indent="-227160">
              <a:lnSpc>
                <a:spcPct val="87000"/>
              </a:lnSpc>
              <a:spcBef>
                <a:spcPts val="700"/>
              </a:spcBef>
              <a:buClr>
                <a:srgbClr val="eaa700"/>
              </a:buClr>
              <a:buSzPct val="44000"/>
              <a:buFont typeface="Wingdings" charset="2"/>
              <a:buChar char=""/>
              <a:tabLst>
                <a:tab algn="l" pos="584280"/>
                <a:tab algn="l" pos="1181160"/>
                <a:tab algn="l" pos="1765440"/>
                <a:tab algn="l" pos="2362320"/>
                <a:tab algn="l" pos="2946240"/>
                <a:tab algn="l" pos="3543480"/>
                <a:tab algn="l" pos="4127400"/>
                <a:tab algn="l" pos="4724280"/>
                <a:tab algn="l" pos="5308560"/>
                <a:tab algn="l" pos="5892840"/>
                <a:tab algn="l" pos="6489720"/>
                <a:tab algn="l" pos="7074000"/>
                <a:tab algn="l" pos="7670880"/>
                <a:tab algn="l" pos="8255160"/>
                <a:tab algn="l" pos="8852040"/>
                <a:tab algn="l" pos="9435960"/>
                <a:tab algn="l" pos="10032840"/>
                <a:tab algn="l" pos="10617120"/>
                <a:tab algn="l" pos="11214000"/>
                <a:tab algn="l" pos="11798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and weight additions are bursty, and self-simil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227160">
              <a:lnSpc>
                <a:spcPct val="87000"/>
              </a:lnSpc>
              <a:spcBef>
                <a:spcPts val="700"/>
              </a:spcBef>
              <a:buClr>
                <a:srgbClr val="eaa700"/>
              </a:buClr>
              <a:buSzPct val="44000"/>
              <a:buFont typeface="Wingdings" charset="2"/>
              <a:buChar char=""/>
              <a:tabLst>
                <a:tab algn="l" pos="584280"/>
                <a:tab algn="l" pos="1181160"/>
                <a:tab algn="l" pos="1765440"/>
                <a:tab algn="l" pos="2362320"/>
                <a:tab algn="l" pos="2946240"/>
                <a:tab algn="l" pos="3543480"/>
                <a:tab algn="l" pos="4127400"/>
                <a:tab algn="l" pos="4724280"/>
                <a:tab algn="l" pos="5308560"/>
                <a:tab algn="l" pos="5892840"/>
                <a:tab algn="l" pos="6489720"/>
                <a:tab algn="l" pos="7074000"/>
                <a:tab algn="l" pos="7670880"/>
                <a:tab algn="l" pos="8255160"/>
                <a:tab algn="l" pos="8852040"/>
                <a:tab algn="l" pos="9435960"/>
                <a:tab algn="l" pos="10032840"/>
                <a:tab algn="l" pos="10617120"/>
                <a:tab algn="l" pos="11214000"/>
                <a:tab algn="l" pos="11798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y plots [Wang+’02] is a measure of burst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0" descr="netdeltaw.pdf"/>
          <p:cNvPicPr/>
          <p:nvPr/>
        </p:nvPicPr>
        <p:blipFill>
          <a:blip r:embed="rId2">
            <a:grayscl/>
          </a:blip>
          <a:stretch/>
        </p:blipFill>
        <p:spPr>
          <a:xfrm>
            <a:off x="457200" y="3429000"/>
            <a:ext cx="3352680" cy="259092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lIns="35640" rIns="43920" tIns="35640" bIns="35640" anchor="b">
            <a:noAutofit/>
          </a:bodyPr>
          <a:p>
            <a:pPr marL="11160" indent="0">
              <a:buNone/>
              <a:tabLst>
                <a:tab algn="l" pos="0"/>
                <a:tab algn="l" pos="63360"/>
                <a:tab algn="l" pos="660240"/>
                <a:tab algn="l" pos="1244520"/>
                <a:tab algn="l" pos="1841400"/>
                <a:tab algn="l" pos="2425680"/>
                <a:tab algn="l" pos="3009960"/>
                <a:tab algn="l" pos="3606840"/>
                <a:tab algn="l" pos="4191120"/>
                <a:tab algn="l" pos="4788000"/>
                <a:tab algn="l" pos="5372280"/>
                <a:tab algn="l" pos="5969160"/>
                <a:tab algn="l" pos="6553080"/>
                <a:tab algn="l" pos="7149960"/>
                <a:tab algn="l" pos="7734240"/>
                <a:tab algn="l" pos="8318520"/>
                <a:tab algn="l" pos="8915400"/>
                <a:tab algn="l" pos="9499680"/>
                <a:tab algn="l" pos="10096560"/>
                <a:tab algn="l" pos="10680840"/>
                <a:tab algn="l" pos="11277720"/>
                <a:tab algn="l" pos="1186164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Burstines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00" name="Rectangle 43"/>
          <p:cNvSpPr/>
          <p:nvPr/>
        </p:nvSpPr>
        <p:spPr>
          <a:xfrm>
            <a:off x="1978920" y="5867280"/>
            <a:ext cx="61128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297a"/>
                </a:solidFill>
                <a:latin typeface="Arial"/>
                <a:ea typeface="ヒラギノ角ゴ Pro W3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4"/>
          <p:cNvSpPr/>
          <p:nvPr/>
        </p:nvSpPr>
        <p:spPr>
          <a:xfrm rot="16200000">
            <a:off x="-50040" y="4469400"/>
            <a:ext cx="118584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r">
              <a:spcBef>
                <a:spcPts val="42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297a"/>
                </a:solidFill>
                <a:latin typeface="Arial"/>
                <a:ea typeface="ヒラギノ角ゴ Pro W3"/>
              </a:rPr>
              <a:t>Weigh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45"/>
          <p:cNvSpPr/>
          <p:nvPr/>
        </p:nvSpPr>
        <p:spPr>
          <a:xfrm>
            <a:off x="5262120" y="5867280"/>
            <a:ext cx="115380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297a"/>
                </a:solidFill>
                <a:latin typeface="Arial"/>
                <a:ea typeface="ヒラギノ角ゴ Pro W3"/>
              </a:rPr>
              <a:t>Resolu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6"/>
          <p:cNvSpPr/>
          <p:nvPr/>
        </p:nvSpPr>
        <p:spPr>
          <a:xfrm rot="16200000">
            <a:off x="3839040" y="4533840"/>
            <a:ext cx="87480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r">
              <a:spcBef>
                <a:spcPts val="42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297a"/>
                </a:solidFill>
                <a:latin typeface="Arial"/>
                <a:ea typeface="ヒラギノ角ゴ Pro W3"/>
              </a:rPr>
              <a:t>Entrop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7"/>
          <p:cNvSpPr/>
          <p:nvPr/>
        </p:nvSpPr>
        <p:spPr>
          <a:xfrm>
            <a:off x="4572000" y="3276720"/>
            <a:ext cx="29718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3" descr="net-ent.pdf"/>
          <p:cNvPicPr/>
          <p:nvPr/>
        </p:nvPicPr>
        <p:blipFill>
          <a:blip r:embed="rId3">
            <a:grayscl/>
          </a:blip>
          <a:srcRect l="0" t="6048" r="0" b="0"/>
          <a:stretch/>
        </p:blipFill>
        <p:spPr>
          <a:xfrm>
            <a:off x="3809880" y="3352680"/>
            <a:ext cx="4540320" cy="320688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029"/>
          <p:cNvGrpSpPr/>
          <p:nvPr/>
        </p:nvGrpSpPr>
        <p:grpSpPr>
          <a:xfrm>
            <a:off x="5181480" y="6248520"/>
            <a:ext cx="1598760" cy="311040"/>
            <a:chOff x="5181480" y="6248520"/>
            <a:chExt cx="1598760" cy="311040"/>
          </a:xfrm>
        </p:grpSpPr>
        <p:sp>
          <p:nvSpPr>
            <p:cNvPr id="607" name="AutoShape 1030"/>
            <p:cNvSpPr/>
            <p:nvPr/>
          </p:nvSpPr>
          <p:spPr>
            <a:xfrm>
              <a:off x="5181480" y="6288480"/>
              <a:ext cx="1598760" cy="227520"/>
            </a:xfrm>
            <a:prstGeom prst="roundRect">
              <a:avLst>
                <a:gd name="adj" fmla="val 5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31"/>
            <p:cNvSpPr/>
            <p:nvPr/>
          </p:nvSpPr>
          <p:spPr>
            <a:xfrm>
              <a:off x="5181480" y="6248520"/>
              <a:ext cx="15987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47000"/>
                </a:lnSpc>
                <a:spcBef>
                  <a:spcPts val="425"/>
                </a:spcBef>
                <a:tabLst>
                  <a:tab algn="l" pos="0"/>
                  <a:tab algn="l" pos="44280"/>
                  <a:tab algn="l" pos="490680"/>
                  <a:tab algn="l" pos="955800"/>
                  <a:tab algn="l" pos="1419120"/>
                  <a:tab algn="l" pos="1874880"/>
                  <a:tab algn="l" pos="2330280"/>
                  <a:tab algn="l" pos="2786040"/>
                  <a:tab algn="l" pos="3249720"/>
                  <a:tab algn="l" pos="3697200"/>
                  <a:tab algn="l" pos="4160880"/>
                  <a:tab algn="l" pos="4616280"/>
                  <a:tab algn="l" pos="5072040"/>
                  <a:tab algn="l" pos="5527800"/>
                  <a:tab algn="l" pos="5991120"/>
                  <a:tab algn="l" pos="6437160"/>
                  <a:tab algn="l" pos="6902280"/>
                  <a:tab algn="l" pos="7358040"/>
                  <a:tab algn="l" pos="7813800"/>
                  <a:tab algn="l" pos="8269200"/>
                  <a:tab algn="l" pos="8732880"/>
                  <a:tab algn="l" pos="9178920"/>
                  <a:tab algn="l" pos="96346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olu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1032"/>
          <p:cNvGrpSpPr/>
          <p:nvPr/>
        </p:nvGrpSpPr>
        <p:grpSpPr>
          <a:xfrm>
            <a:off x="3987720" y="4168440"/>
            <a:ext cx="312840" cy="1600200"/>
            <a:chOff x="3987720" y="4168440"/>
            <a:chExt cx="312840" cy="1600200"/>
          </a:xfrm>
        </p:grpSpPr>
        <p:sp>
          <p:nvSpPr>
            <p:cNvPr id="610" name="AutoShape 1033"/>
            <p:cNvSpPr/>
            <p:nvPr/>
          </p:nvSpPr>
          <p:spPr>
            <a:xfrm rot="16200000">
              <a:off x="3341880" y="4853880"/>
              <a:ext cx="1600200" cy="228960"/>
            </a:xfrm>
            <a:prstGeom prst="roundRect">
              <a:avLst>
                <a:gd name="adj" fmla="val 5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t" anchorCtr="1" vert="eaVer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034"/>
            <p:cNvSpPr/>
            <p:nvPr/>
          </p:nvSpPr>
          <p:spPr>
            <a:xfrm rot="16200000">
              <a:off x="3344400" y="4811760"/>
              <a:ext cx="159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47000"/>
                </a:lnSpc>
                <a:spcBef>
                  <a:spcPts val="425"/>
                </a:spcBef>
                <a:tabLst>
                  <a:tab algn="l" pos="0"/>
                  <a:tab algn="l" pos="44280"/>
                  <a:tab algn="l" pos="490680"/>
                  <a:tab algn="l" pos="955800"/>
                  <a:tab algn="l" pos="1419120"/>
                  <a:tab algn="l" pos="1874880"/>
                  <a:tab algn="l" pos="2330280"/>
                  <a:tab algn="l" pos="2786040"/>
                  <a:tab algn="l" pos="3249720"/>
                  <a:tab algn="l" pos="3697200"/>
                  <a:tab algn="l" pos="4160880"/>
                  <a:tab algn="l" pos="4616280"/>
                  <a:tab algn="l" pos="5072040"/>
                  <a:tab algn="l" pos="5527800"/>
                  <a:tab algn="l" pos="5991120"/>
                  <a:tab algn="l" pos="6437160"/>
                  <a:tab algn="l" pos="6902280"/>
                  <a:tab algn="l" pos="7358040"/>
                  <a:tab algn="l" pos="7813800"/>
                  <a:tab algn="l" pos="8269200"/>
                  <a:tab algn="l" pos="8732880"/>
                  <a:tab algn="l" pos="9178920"/>
                  <a:tab algn="l" pos="9634680"/>
                  <a:tab algn="l" pos="9644040"/>
                  <a:tab algn="l" pos="10287000"/>
                  <a:tab algn="l" pos="10929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ntrop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Line 1036"/>
          <p:cNvSpPr/>
          <p:nvPr/>
        </p:nvSpPr>
        <p:spPr>
          <a:xfrm>
            <a:off x="4398840" y="6021360"/>
            <a:ext cx="241956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0"/>
          <p:cNvSpPr/>
          <p:nvPr/>
        </p:nvSpPr>
        <p:spPr>
          <a:xfrm>
            <a:off x="4800600" y="2819520"/>
            <a:ext cx="2286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2200" indent="-223920" algn="ctr">
              <a:lnSpc>
                <a:spcPct val="76000"/>
              </a:lnSpc>
              <a:spcBef>
                <a:spcPts val="451"/>
              </a:spcBef>
              <a:tabLst>
                <a:tab algn="l" pos="0"/>
                <a:tab algn="l" pos="660240"/>
                <a:tab algn="l" pos="1244520"/>
                <a:tab algn="l" pos="1841400"/>
                <a:tab algn="l" pos="2425680"/>
                <a:tab algn="l" pos="3009960"/>
                <a:tab algn="l" pos="3606840"/>
                <a:tab algn="l" pos="4191120"/>
                <a:tab algn="l" pos="4788000"/>
                <a:tab algn="l" pos="5372280"/>
                <a:tab algn="l" pos="5969160"/>
                <a:tab algn="l" pos="6553080"/>
                <a:tab algn="l" pos="7149960"/>
                <a:tab algn="l" pos="7734240"/>
                <a:tab algn="l" pos="8318520"/>
                <a:tab algn="l" pos="8915400"/>
                <a:tab algn="l" pos="9499680"/>
                <a:tab algn="l" pos="10096560"/>
                <a:tab algn="l" pos="10680840"/>
                <a:tab algn="l" pos="11277720"/>
                <a:tab algn="l" pos="1186164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Bursty</a:t>
            </a: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223920" algn="ctr">
              <a:lnSpc>
                <a:spcPct val="76000"/>
              </a:lnSpc>
              <a:spcBef>
                <a:spcPts val="451"/>
              </a:spcBef>
              <a:tabLst>
                <a:tab algn="l" pos="0"/>
                <a:tab algn="l" pos="660240"/>
                <a:tab algn="l" pos="1244520"/>
                <a:tab algn="l" pos="1841400"/>
                <a:tab algn="l" pos="2425680"/>
                <a:tab algn="l" pos="3009960"/>
                <a:tab algn="l" pos="3606840"/>
                <a:tab algn="l" pos="4191120"/>
                <a:tab algn="l" pos="4788000"/>
                <a:tab algn="l" pos="5372280"/>
                <a:tab algn="l" pos="5969160"/>
                <a:tab algn="l" pos="6553080"/>
                <a:tab algn="l" pos="7149960"/>
                <a:tab algn="l" pos="7734240"/>
                <a:tab algn="l" pos="8318520"/>
                <a:tab algn="l" pos="8915400"/>
                <a:tab algn="l" pos="9499680"/>
                <a:tab algn="l" pos="10096560"/>
                <a:tab algn="l" pos="10680840"/>
                <a:tab algn="l" pos="11277720"/>
                <a:tab algn="l" pos="1186164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.2 &lt; sl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Merge 31"/>
          <p:cNvSpPr/>
          <p:nvPr/>
        </p:nvSpPr>
        <p:spPr>
          <a:xfrm rot="3955800">
            <a:off x="4853520" y="3980520"/>
            <a:ext cx="1879560" cy="2836800"/>
          </a:xfrm>
          <a:prstGeom prst="flowChartMerge">
            <a:avLst/>
          </a:prstGeom>
          <a:solidFill>
            <a:srgbClr val="660066">
              <a:alpha val="4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037"/>
          <p:cNvSpPr/>
          <p:nvPr/>
        </p:nvSpPr>
        <p:spPr>
          <a:xfrm>
            <a:off x="5181480" y="2590920"/>
            <a:ext cx="2892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360" tIns="0" bIns="0" anchor="t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44280"/>
                <a:tab algn="l" pos="509760"/>
                <a:tab algn="l" pos="955800"/>
                <a:tab algn="l" pos="1419120"/>
                <a:tab algn="l" pos="1874880"/>
                <a:tab algn="l" pos="2330280"/>
                <a:tab algn="l" pos="2786040"/>
                <a:tab algn="l" pos="3249720"/>
                <a:tab algn="l" pos="3697200"/>
                <a:tab algn="l" pos="4160880"/>
                <a:tab algn="l" pos="4616280"/>
                <a:tab algn="l" pos="5072040"/>
                <a:tab algn="l" pos="5527800"/>
                <a:tab algn="l" pos="5991120"/>
                <a:tab algn="l" pos="6437160"/>
                <a:tab algn="l" pos="6902280"/>
                <a:tab algn="l" pos="7358040"/>
                <a:tab algn="l" pos="7821720"/>
                <a:tab algn="l" pos="8269200"/>
                <a:tab algn="l" pos="8732880"/>
                <a:tab algn="l" pos="9198000"/>
                <a:tab algn="l" pos="96346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spcBef>
                <a:spcPts val="499"/>
              </a:spcBef>
              <a:tabLst>
                <a:tab algn="l" pos="0"/>
                <a:tab algn="l" pos="44280"/>
                <a:tab algn="l" pos="509760"/>
                <a:tab algn="l" pos="955800"/>
                <a:tab algn="l" pos="1419120"/>
                <a:tab algn="l" pos="1874880"/>
                <a:tab algn="l" pos="2330280"/>
                <a:tab algn="l" pos="2786040"/>
                <a:tab algn="l" pos="3249720"/>
                <a:tab algn="l" pos="3697200"/>
                <a:tab algn="l" pos="4160880"/>
                <a:tab algn="l" pos="4616280"/>
                <a:tab algn="l" pos="5072040"/>
                <a:tab algn="l" pos="5527800"/>
                <a:tab algn="l" pos="5991120"/>
                <a:tab algn="l" pos="6437160"/>
                <a:tab algn="l" pos="6902280"/>
                <a:tab algn="l" pos="7358040"/>
                <a:tab algn="l" pos="7821720"/>
                <a:tab algn="l" pos="8269200"/>
                <a:tab algn="l" pos="8732880"/>
                <a:tab algn="l" pos="9198000"/>
                <a:tab algn="l" pos="96346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7"/>
          <p:cNvSpPr/>
          <p:nvPr/>
        </p:nvSpPr>
        <p:spPr>
          <a:xfrm>
            <a:off x="5029200" y="3352680"/>
            <a:ext cx="2971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40"/>
          <p:cNvSpPr/>
          <p:nvPr/>
        </p:nvSpPr>
        <p:spPr>
          <a:xfrm flipV="1">
            <a:off x="4800600" y="3962160"/>
            <a:ext cx="3124080" cy="1904760"/>
          </a:xfrm>
          <a:prstGeom prst="line">
            <a:avLst/>
          </a:prstGeom>
          <a:ln w="38160">
            <a:solidFill>
              <a:srgbClr val="7030a0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41"/>
          <p:cNvSpPr/>
          <p:nvPr/>
        </p:nvSpPr>
        <p:spPr>
          <a:xfrm>
            <a:off x="6019920" y="5105520"/>
            <a:ext cx="1828800" cy="1440"/>
          </a:xfrm>
          <a:prstGeom prst="line">
            <a:avLst/>
          </a:prstGeom>
          <a:ln w="38160">
            <a:solidFill>
              <a:srgbClr val="7030a0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rc 42"/>
          <p:cNvSpPr/>
          <p:nvPr/>
        </p:nvSpPr>
        <p:spPr>
          <a:xfrm>
            <a:off x="6518160" y="4724280"/>
            <a:ext cx="222480" cy="679680"/>
          </a:xfrm>
          <a:prstGeom prst="pie">
            <a:avLst/>
          </a:prstGeom>
          <a:noFill/>
          <a:ln w="38160">
            <a:solidFill>
              <a:srgbClr val="7030a0">
                <a:alpha val="6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3"/>
          <p:cNvSpPr/>
          <p:nvPr/>
        </p:nvSpPr>
        <p:spPr>
          <a:xfrm>
            <a:off x="7093440" y="4572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op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035"/>
          <p:cNvSpPr/>
          <p:nvPr/>
        </p:nvSpPr>
        <p:spPr>
          <a:xfrm flipV="1">
            <a:off x="4419000" y="3505320"/>
            <a:ext cx="2361960" cy="2455920"/>
          </a:xfrm>
          <a:prstGeom prst="line">
            <a:avLst/>
          </a:prstGeom>
          <a:ln w="25560">
            <a:solidFill>
              <a:srgbClr val="d92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eaa7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a700"/>
                </a:solidFill>
                <a:latin typeface="Arial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and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graph generator: R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of 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10F2-9E5E-4062-85D0-33813C3F03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Times New Roman"/>
              </a:rPr>
              <a:t>Datasets</a:t>
            </a:r>
            <a:endParaRPr b="0" lang="en-US" sz="4400" spc="-1" strike="noStrike">
              <a:solidFill>
                <a:srgbClr val="00297a"/>
              </a:solidFill>
              <a:latin typeface="Times New Roman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DD33-7693-4B29-A648-474C81C9E5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4"/>
          <p:cNvSpPr/>
          <p:nvPr/>
        </p:nvSpPr>
        <p:spPr>
          <a:xfrm rot="16200000">
            <a:off x="6236280" y="306288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5"/>
          <p:cNvSpPr/>
          <p:nvPr/>
        </p:nvSpPr>
        <p:spPr>
          <a:xfrm rot="16200000">
            <a:off x="6240960" y="1530720"/>
            <a:ext cx="203400" cy="18864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7"/>
          <p:cNvSpPr/>
          <p:nvPr/>
        </p:nvSpPr>
        <p:spPr>
          <a:xfrm rot="16200000">
            <a:off x="6234840" y="2292840"/>
            <a:ext cx="203040" cy="189000"/>
          </a:xfrm>
          <a:prstGeom prst="ellipse">
            <a:avLst/>
          </a:prstGeom>
          <a:solidFill>
            <a:srgbClr val="00297a"/>
          </a:solidFill>
          <a:ln w="9360">
            <a:solidFill>
              <a:srgbClr val="002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8"/>
          <p:cNvSpPr/>
          <p:nvPr/>
        </p:nvSpPr>
        <p:spPr>
          <a:xfrm rot="16200000">
            <a:off x="7231680" y="336744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9"/>
          <p:cNvSpPr/>
          <p:nvPr/>
        </p:nvSpPr>
        <p:spPr>
          <a:xfrm rot="16200000">
            <a:off x="7236720" y="183600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0"/>
          <p:cNvSpPr/>
          <p:nvPr/>
        </p:nvSpPr>
        <p:spPr>
          <a:xfrm rot="16200000">
            <a:off x="7230240" y="10893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1"/>
          <p:cNvSpPr/>
          <p:nvPr/>
        </p:nvSpPr>
        <p:spPr>
          <a:xfrm rot="16200000">
            <a:off x="7230240" y="259776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AutoShape 19"/>
          <p:cNvCxnSpPr>
            <a:stCxn id="627" idx="4"/>
            <a:endCxn id="630" idx="0"/>
          </p:cNvCxnSpPr>
          <p:nvPr/>
        </p:nvCxnSpPr>
        <p:spPr>
          <a:xfrm>
            <a:off x="6432480" y="3157200"/>
            <a:ext cx="807120" cy="305640"/>
          </a:xfrm>
          <a:prstGeom prst="straightConnector1">
            <a:avLst/>
          </a:prstGeom>
          <a:ln w="92160">
            <a:solidFill>
              <a:srgbClr val="000000"/>
            </a:solidFill>
            <a:miter/>
          </a:ln>
        </p:spPr>
      </p:cxnSp>
      <p:cxnSp>
        <p:nvCxnSpPr>
          <p:cNvPr id="635" name="AutoShape 20"/>
          <p:cNvCxnSpPr>
            <a:stCxn id="627" idx="4"/>
            <a:endCxn id="633" idx="1"/>
          </p:cNvCxnSpPr>
          <p:nvPr/>
        </p:nvCxnSpPr>
        <p:spPr>
          <a:xfrm flipV="1">
            <a:off x="6432120" y="2763360"/>
            <a:ext cx="832680" cy="39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6" name="AutoShape 21"/>
          <p:cNvCxnSpPr>
            <a:stCxn id="627" idx="5"/>
            <a:endCxn id="631" idx="1"/>
          </p:cNvCxnSpPr>
          <p:nvPr/>
        </p:nvCxnSpPr>
        <p:spPr>
          <a:xfrm flipV="1">
            <a:off x="6404040" y="2003400"/>
            <a:ext cx="867600" cy="1083240"/>
          </a:xfrm>
          <a:prstGeom prst="straightConnector1">
            <a:avLst/>
          </a:prstGeom>
          <a:ln w="41400">
            <a:solidFill>
              <a:srgbClr val="000000"/>
            </a:solidFill>
            <a:miter/>
          </a:ln>
        </p:spPr>
      </p:cxnSp>
      <p:cxnSp>
        <p:nvCxnSpPr>
          <p:cNvPr id="637" name="AutoShape 26"/>
          <p:cNvCxnSpPr/>
          <p:nvPr/>
        </p:nvCxnSpPr>
        <p:spPr>
          <a:xfrm>
            <a:off x="6399720" y="1676160"/>
            <a:ext cx="856440" cy="1694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8" name="AutoShape 33"/>
          <p:cNvCxnSpPr>
            <a:stCxn id="628" idx="5"/>
            <a:endCxn id="632" idx="0"/>
          </p:cNvCxnSpPr>
          <p:nvPr/>
        </p:nvCxnSpPr>
        <p:spPr>
          <a:xfrm flipV="1">
            <a:off x="6408720" y="1185120"/>
            <a:ext cx="829440" cy="3690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639" name="AutoShape 35"/>
          <p:cNvCxnSpPr/>
          <p:nvPr/>
        </p:nvCxnSpPr>
        <p:spPr>
          <a:xfrm flipV="1">
            <a:off x="6408360" y="1995120"/>
            <a:ext cx="840600" cy="3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0" name=""/>
          <p:cNvSpPr/>
          <p:nvPr/>
        </p:nvSpPr>
        <p:spPr>
          <a:xfrm>
            <a:off x="533520" y="1752480"/>
            <a:ext cx="48006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a700"/>
                </a:solidFill>
                <a:latin typeface="Arial"/>
              </a:rPr>
              <a:t>Bi</a:t>
            </a:r>
            <a:r>
              <a:rPr b="0" i="1" lang="en-US" sz="1800" spc="-1" strike="noStrike">
                <a:solidFill>
                  <a:srgbClr val="00297a"/>
                </a:solidFill>
                <a:latin typeface="Arial"/>
              </a:rPr>
              <a:t>part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s: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N|     |E|    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AuthorConferenc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K,   22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KeywordConference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K,   23K, 25 y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horKeyword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K, 189K, 25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CampaignOrg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K,  877K, 28 y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555240" y="106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6:36:07Z</dcterms:created>
  <dc:creator>Jure Leskovec</dc:creator>
  <dc:description/>
  <dc:language>en-US</dc:language>
  <cp:lastModifiedBy>leman</cp:lastModifiedBy>
  <dcterms:modified xsi:type="dcterms:W3CDTF">2008-12-10T02:36:09Z</dcterms:modified>
  <cp:revision>739</cp:revision>
  <dc:subject/>
  <dc:title>Growth Power Law for Time Evolving Networks</dc:title>
</cp:coreProperties>
</file>