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D8B-A44D-4C79-968A-918749F2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we ca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um of real world graphs is not a well studied area. Little is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eigen-value is highly related to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4AC-225D-40CE-9BD0-ED23DD51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we ca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um of real world graphs is not a well studied area. Little is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eigen-value is highly related to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975-6F4F-4377-9474-9AEEBFA0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retler icin balon yap.. Mesela jump’lara isaret ederken.. Network traffic jumplar ic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lardaki farkin weightler nedeniyle oldugunu belirtmek yararli olabilir: dblp’de reoccurrence, digerinde actual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rica dblp AC slope bir onceki slayttakinden buyuk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A00-B6C6-42B7-AA2D-8F83649A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hsedilen datasetlerdeki node ve edge sayisi verilebil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0622-CC82-4335-A9A7-98ABD29F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9AB-F516-4E78-A518-C1ACE3839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not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if weighted deterministic version produces many nodes with the same weight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tochastic version not obvious in weighted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owerlaw exponents are constant over time while real networks are not that determinist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08B8-64F7-48BE-AF69-B001B35D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not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if weighted deterministic version produces many nodes with the same weight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tochastic version not obvious in weighted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owerlaw exponents are constant over time while real networks are not that determinist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4AC-B129-4063-90FE-E81056EC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25AE-FF0E-4D62-BE09-47EA0C6B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FC52-2273-400A-B495-C389455A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the distinguishing characteristics of graphs? What rules and patterns ho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m? When can we say that two different graphs are similar to each o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le there are many differences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phs, some patterns show up regular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METER: shortest path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document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, defined as the small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 of URL links that must be fo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navigate from one document to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. …two randomly cho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cuments on the web are on average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s away from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WER-LAWS: While the Gaussian distribution is common in nature, there are many cases where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ability of events far to the right of the mean is significantly higher than in Gauss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Internet, for example, most routers have a very low degree (perhaps h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ers), while a few routers have an extremely high degree (perhaps the core ro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the Internet backbone) [Faloutsos et al. 1999]. Power-law distributions attempt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el th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xamples of power laws in the real world: Examples of power law degr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 the Internet AS graph with exponent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−2.2 [Faloutsos et al. 1999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rnet router graph with exponent ∼2.48 [Faloutsos et al. 1999; Govindan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ngmunarunkit 2000], the in-degree and out-degree distributions of subsets of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 with exponents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 and 2.38−2.72, respectively [Barab´ asi and Albert 1999; Ku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 al. 1999; Broder et al. 2000], the in-degree distribution of the AfricanWeb grap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exponent 1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92 [Boldi et al. 2002], a citation graph with exponent 3 [Redner 1998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 of Web site sizes and traffic [Adamic and Huberman 2001], and 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s. Newman [2005] provides a comprehensive list of such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8D9C-C4C0-414D-B98B-213ED88FC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0C5E-E19C-4FA6-AD82-4B4D55DE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04D-581E-4179-84DB-BC9C8123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AC80-4D03-4936-B91D-081BBD42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1AD-9DDD-4AFB-A45B-08150118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F87A-D975-4E51-9C20-4E116421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73F-09B0-4C68-BCAB-D863922D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the distinguishing characteristics of graphs? What rules and patterns ho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m? When can we say that two different graphs are similar to each o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le there are many differences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phs, some patterns show up regular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METER: shortest path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document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, defined as the small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 of URL links that must be fo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navigate from one document to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. …two randomly cho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cuments on the web are on average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s away from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WER-LAWS: While the Gaussian distribution is common in nature, there are many cases where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ability of events far to the right of the mean is significantly higher than in Gauss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Internet, for example, most routers have a very low degree (perhaps h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ers), while a few routers have an extremely high degree (perhaps the core ro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the Internet backbone) [Faloutsos et al. 1999]. Power-law distributions attempt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el th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xamples of power laws in the real world: Examples of power law degr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 the Internet AS graph with exponent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−2.2 [Faloutsos et al. 1999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rnet router graph with exponent ∼2.48 [Faloutsos et al. 1999; Govindan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ngmunarunkit 2000], the in-degree and out-degree distributions of subsets of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 with exponents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 and 2.38−2.72, respectively [Barab´ asi and Albert 1999; Ku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 al. 1999; Broder et al. 2000], the in-degree distribution of the AfricanWeb grap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exponent 1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92 [Boldi et al. 2002], a citation graph with exponent 3 [Redner 1998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 of Web site sizes and traffic [Adamic and Huberman 2001], and 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s. Newman [2005] provides a comprehensive list of such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7AA-7676-43FB-B48C-62C6D0D3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eople from audience, doming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B04-7AB2-403F-AB6F-98B03387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4D6-872B-4DA0-9B7B-DCA3C1CD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burstiness we mea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EBF-B5E6-42DD-9E4A-88CCF7A5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A4F-6942-4B19-A9A3-9EC4CC8E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33F47-85A7-4C4E-8AB3-F630D54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F67B4-28FE-4B21-85E2-B6236E83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8D96-1DE4-4794-9964-CB7E1B6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00980-72EA-4632-89BB-0BD9E82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2F848-BC97-4283-A770-AE8B1F9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3A759-9A6E-46D8-B0A5-0E46C6AF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C6DA1-50BF-4580-97F0-45AF734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AAF18-51B0-4D21-BCE3-9F288A62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6A62F-57F8-4287-ADDE-C011E8D8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C37DE-0702-4CFE-A59B-A5099C78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B2A-0B36-4ADE-949C-8120E33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F850F-C68F-4BB9-8557-33517E8D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327D-2737-43D9-B345-D23F2C8B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51B83-3B4E-4C56-94F1-E4D7E560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4FEFC-1F0B-4FFF-94AA-3817908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2864-C919-48E2-BAC9-2670952A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6E6E2-7A13-4511-8658-7B29920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6AC1-D0EB-4759-AD5D-1A70883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663BC-FFD7-4D2E-AFB9-BCF1002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2E77-1B04-470B-B405-25F16AF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B731D-4F30-4DF3-97B0-D0B7837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4FF-3000-43BB-8043-4C0CB911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D8846-A361-4374-A452-53B0A5CC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CC469-CC6E-4D63-9493-ED54DFB0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3AF6-2DB5-48BA-A7E0-3486B27B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273BC-8315-46C5-87E7-2CAB46A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B672E-07A8-46C9-8CAC-5262520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AB35F-4568-492C-86CD-CB4F4A4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393AC-9E3B-4A7C-A6E1-269B088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801D8-A749-41EE-931D-2D36BCB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8FE50-1B79-4C37-ABB9-7DC6CE1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E5260-7D0F-4378-8834-8D7BD8AA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69DF-6031-4852-B806-671B98A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DEFA-8F5B-4B24-AACB-0A41259B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E473-E312-4973-8F69-A3762A37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CDED-084C-4EDA-B653-AA61AB8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A962A-91EC-430F-BF4A-DF3F26B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4DE09-C9D5-44C4-8506-F695154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83ADD-44E5-4A8F-B230-85505F2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ED34C-F70B-42D7-A7DC-77DAADF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B5B6B-B506-4956-8CCA-E22D022D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E2B3E-ED7D-4097-A1B5-C783EBC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E5E34-B093-4E6E-ACA5-B9E9C03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C02-E491-4DDC-B376-3D680E3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78F0D-6AF1-4732-B35F-5758941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3E989-5DF0-471F-8BE2-C57597A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63FBF-4B2C-4A24-A386-75E5AA56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ED839-5106-44D8-ACAB-73FFB725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3459-035F-4390-A347-08AA81D8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7F8DD-B013-439C-AFC2-46A79745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50A30-8903-429E-949D-82794910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BEBC6-27EB-4BD2-A05A-E615030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D317C-2971-4778-BAB9-E88D8DB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1E528-0EA9-4CF7-82A4-2DBD392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D552-80CA-4607-B9D0-4DB2D77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87C36-8E14-439B-BBEF-66542A6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D36B4-1F99-4A43-BB86-D742870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09377-7115-4514-B02D-78A6C7D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548D3-ED23-4726-A5E4-CC9C219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6B101-AEC1-4E7B-B9AF-EE03B3C0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66C40-1115-47B7-804B-F5105278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2763E-DCB2-4AF3-AC9A-980E930E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37E-0AD2-487D-8978-4FD75BB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1ECA-EA59-44A5-BC71-0690619A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B4D-4D24-406B-91D4-000EEC6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070-0CFB-4C14-BC9D-221E2FF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185-E314-4946-A1F6-C67470D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8A0C-2D7B-4FF5-877C-7CB83E4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601-1F11-4C39-B9CD-AFD1EF1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F1E-7764-4D42-98C0-A9FAFC07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3500-A8FD-4625-AA0C-7A38D6FA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0F9-F63C-4525-B63D-92AF4E05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2A0C-96F6-4D65-A55C-BAA82787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BECD-3B61-492A-BA1E-A7AFCE3A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0DF7-F613-4951-AE88-5E02BD1D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3296-110D-44E4-92C0-016B618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B8C1-3282-497A-AE24-646BBF46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402-3BD1-4A97-9925-5A67093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B021-5D04-48C3-AFCF-2D0EBA0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C9FE-EADA-4696-B879-3ACCC1F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AB8C-E767-412C-8290-5924BC1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B6C9-0F5C-4281-837C-994625B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DD40-A4F1-4776-9BEB-6C41D66E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2AC6-26B3-40AF-8767-1E8A3133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1AF7-D725-4C75-89A0-D439260C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D7E9-9A5A-4765-B5DB-AE48FB45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ECF1-AC38-4C28-9E91-01E3926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3F99-D095-401C-9316-0B7810FC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891-DDA3-4725-A415-2EBCDAFC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14B7-2271-4168-B194-2B93C4A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FAFC-F11A-4120-9401-D3DD180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1801-BBF3-4ECD-9D15-50BCFD3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DB43-165F-4669-92F4-3A92E7F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33A6D-9D7C-4246-BF6A-80AE117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ABF6-1214-4778-BDE7-41BFA96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083B-7B19-4C22-A37C-1ABEF50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6856-837A-4880-9B7F-8F72E0F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BE71-7ED1-4BAA-83AC-68583A4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2AA8-5EFB-48E3-9258-3E1A1CB1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015-25E9-4F2C-9900-B06E30C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A68E-7F98-4B07-94E4-55B9CC4F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5CD0-15E8-47D1-B255-D826868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D7E3-112D-47F7-8EF1-98DBC48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B09C-E983-4AC9-B80E-5E3A0DEC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7AE2-1963-4EA1-A9C1-C143226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B583-44E7-4105-A05D-0CDB8A7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301B-3810-4724-BEBE-2723EFA3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4C31-35DC-4661-A089-8D68B37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8A39-72BE-42BA-AC55-BC07D1B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3DDD-D882-401F-BAEF-23C8BC08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F37-B603-46AB-B02F-1E68C6B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5946-18EA-457B-90D9-15C7E0CD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D698B-578B-44FD-899E-C239659E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7F13-1A35-4107-AC3B-82F42275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C534-3C71-4342-B8AE-1F6FDDD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5189-DE64-4F00-B319-D321DB30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9175-3D60-4461-84E5-CC371BE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013E-5466-4712-9DE7-0C66BD1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038B-655D-4457-B5EF-52BA550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12AB-E800-4452-86E4-EC14BAC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DC8D-234F-4202-99FA-C4A3BC1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085-3E05-4EF9-856A-04BDFD5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1D55-2E86-4CA8-B8C1-1E75476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24F9F-66F2-4635-BF42-CF1557A3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461D-7688-40D4-8F13-4F1E87DA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F7F2-ADBC-4891-ADBB-CB130FFB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022A-6B1C-4A41-B7C6-C7A8A6F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B409-ACB8-430F-898B-859AA2F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06E2-C52D-45DA-A055-9309A04D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3924-CDF9-4E43-A3B4-6CCB980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C1302-2318-47EC-B759-694313D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A18E-779B-4624-B334-F14035EC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FDD-2A95-4CF3-9C06-F0D5453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7CE1-8C9A-46E3-8815-F26FF39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9E63-FB9E-461E-B8F9-E178499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CDAD-1583-47BB-B853-5657792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F1403-E78A-4FF2-88A7-71C83C98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C557-9FAB-491D-9EAD-608EBEE6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5105-58E2-4387-B872-3FD55E2D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C71C-D94E-4529-8A18-26013A6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8FBC-76B3-4B8B-8D79-C8E5B1C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26F8-3F7B-4A8C-928D-DDE7E30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D5351-35A9-413F-A9E6-084F68D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008-A147-4F64-9104-F255A98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27022-20D0-407C-A938-A11E32F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32927-A04B-4324-A797-1C27EB2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F594-37AA-4F7A-A867-3EFD096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35DF-249C-4F70-8D32-7196CED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B5557-737D-4486-BAC7-84AB489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CC248-F1FF-4252-ACD7-1445CB9C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AD857-ED35-4BBA-A34A-DD666B60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2228E-434E-4993-ACE7-E7BA3BDB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CC970-E7AD-4246-924A-23A1030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CFB88-D205-40F7-9B64-1B408033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F652-32FD-4DAF-9E26-98AB23CB1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ea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Object 16"/>
          <p:cNvGraphicFramePr/>
          <p:nvPr/>
        </p:nvGraphicFramePr>
        <p:xfrm>
          <a:off x="352440" y="152280"/>
          <a:ext cx="3636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152280"/>
                    <a:ext cx="363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Text Box 17"/>
          <p:cNvSpPr/>
          <p:nvPr/>
        </p:nvSpPr>
        <p:spPr>
          <a:xfrm>
            <a:off x="678240" y="87480"/>
            <a:ext cx="231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chool of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arnegie Me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8" descr=""/>
          <p:cNvPicPr/>
          <p:nvPr/>
        </p:nvPicPr>
        <p:blipFill>
          <a:blip r:embed="rId5"/>
          <a:stretch/>
        </p:blipFill>
        <p:spPr>
          <a:xfrm>
            <a:off x="8504280" y="152280"/>
            <a:ext cx="44748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3F8A-F33A-47C2-B0EE-97CC792A21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1DD5-A730-4604-BEF0-C575904FD5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0A5C-1ED8-47AA-9698-4A96F10FFD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348-CBA2-458A-B8E4-143AB0649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228600" y="3429000"/>
            <a:ext cx="2870280" cy="201600"/>
          </a:xfrm>
          <a:prstGeom prst="rect">
            <a:avLst/>
          </a:prstGeom>
          <a:solidFill>
            <a:srgbClr val="ea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98880" y="3429000"/>
            <a:ext cx="2870280" cy="201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969160" y="3429000"/>
            <a:ext cx="2869920" cy="20160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9EA-2A05-49D9-8181-CF3CB2211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8592-41D4-477A-98AA-2C651EEEC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46F8-F30D-421E-9F80-38324CCBC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858-4E3C-4DD9-82F0-8C6F690085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64E-6782-4DA6-A2B2-93A07DA02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231B-01AA-488D-A5FB-48801964D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14DF-ADE7-4318-9B06-66103207D0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6CB-FD44-4675-BA4F-6569A98706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7a"/>
                </a:solidFill>
                <a:latin typeface="Times New Roman"/>
              </a:rPr>
              <a:t>RTM: Laws and a Recursive Generator for Weighted </a:t>
            </a:r>
            <a:br>
              <a:rPr sz="4800"/>
            </a:br>
            <a:r>
              <a:rPr b="1" lang="en-US" sz="4800" spc="-1" strike="noStrike">
                <a:solidFill>
                  <a:srgbClr val="00297a"/>
                </a:solidFill>
                <a:latin typeface="Times New Roman"/>
              </a:rPr>
              <a:t>Time-Evolving Graphs</a:t>
            </a:r>
            <a:endParaRPr b="0" lang="en-US" sz="48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4a530"/>
                </a:solidFill>
                <a:latin typeface="Times New Roman"/>
              </a:rPr>
              <a:t>Leman Akoglu</a:t>
            </a:r>
            <a:r>
              <a:rPr b="0" lang="en-US" sz="2700" spc="-1" strike="noStrike">
                <a:solidFill>
                  <a:srgbClr val="00297a"/>
                </a:solidFill>
                <a:latin typeface="Times New Roman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97a"/>
                </a:solidFill>
                <a:latin typeface="Times New Roman"/>
              </a:rPr>
              <a:t>Mary McGlohon, Christos Falout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8686"/>
                </a:solidFill>
                <a:latin typeface="Arial"/>
                <a:ea typeface="Arial"/>
              </a:rPr>
              <a:t>Carnegie Mellon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8686"/>
                </a:solidFill>
                <a:latin typeface="Arial"/>
                <a:ea typeface="Arial"/>
              </a:rPr>
              <a:t>School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510A-10E8-4139-A5BE-E7AE146E34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228600" y="6010200"/>
            <a:ext cx="89154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675-0BC6-4EFA-A104-580FF9A265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9"/>
          <p:cNvCxnSpPr>
            <a:stCxn id="644" idx="4"/>
            <a:endCxn id="647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52" name="AutoShape 20"/>
          <p:cNvCxnSpPr>
            <a:stCxn id="644" idx="4"/>
            <a:endCxn id="650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AutoShape 21"/>
          <p:cNvCxnSpPr>
            <a:stCxn id="644" idx="5"/>
            <a:endCxn id="648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54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6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AutoShape 33"/>
          <p:cNvCxnSpPr/>
          <p:nvPr/>
        </p:nvCxnSpPr>
        <p:spPr>
          <a:xfrm flipV="1">
            <a:off x="6477120" y="129456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8" name="AutoShape 33"/>
          <p:cNvCxnSpPr/>
          <p:nvPr/>
        </p:nvCxnSpPr>
        <p:spPr>
          <a:xfrm flipV="1">
            <a:off x="6400800" y="109944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9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D20-DEF7-4EC8-B5DA-B0D30BA9D0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3"/>
          <p:cNvSpPr/>
          <p:nvPr/>
        </p:nvSpPr>
        <p:spPr>
          <a:xfrm rot="16200000">
            <a:off x="7383960" y="56455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 rot="16200000">
            <a:off x="6165000" y="495972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5"/>
          <p:cNvSpPr/>
          <p:nvPr/>
        </p:nvSpPr>
        <p:spPr>
          <a:xfrm rot="16200000">
            <a:off x="6240960" y="38167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6"/>
          <p:cNvSpPr/>
          <p:nvPr/>
        </p:nvSpPr>
        <p:spPr>
          <a:xfrm rot="16200000">
            <a:off x="6622200" y="57218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7"/>
          <p:cNvSpPr/>
          <p:nvPr/>
        </p:nvSpPr>
        <p:spPr>
          <a:xfrm rot="16200000">
            <a:off x="7688880" y="41216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AutoShape 30"/>
          <p:cNvCxnSpPr/>
          <p:nvPr/>
        </p:nvCxnSpPr>
        <p:spPr>
          <a:xfrm>
            <a:off x="6400800" y="3962520"/>
            <a:ext cx="1288080" cy="234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9" name="AutoShape 40"/>
          <p:cNvCxnSpPr/>
          <p:nvPr/>
        </p:nvCxnSpPr>
        <p:spPr>
          <a:xfrm flipH="1">
            <a:off x="6247800" y="4038120"/>
            <a:ext cx="7668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AutoShape 40"/>
          <p:cNvCxnSpPr>
            <a:stCxn id="667" idx="0"/>
          </p:cNvCxnSpPr>
          <p:nvPr/>
        </p:nvCxnSpPr>
        <p:spPr>
          <a:xfrm flipH="1">
            <a:off x="6324120" y="4217760"/>
            <a:ext cx="1372320" cy="7894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72" name="AutoShape 40"/>
          <p:cNvCxnSpPr>
            <a:stCxn id="666" idx="6"/>
            <a:endCxn id="665" idx="2"/>
          </p:cNvCxnSpPr>
          <p:nvPr/>
        </p:nvCxnSpPr>
        <p:spPr>
          <a:xfrm flipH="1" flipV="1">
            <a:off x="6341760" y="4014000"/>
            <a:ext cx="381600" cy="170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38160">
            <a:solidFill>
              <a:srgbClr val="00297a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533520" y="4267080"/>
            <a:ext cx="56480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Unipart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works: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  |E|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 BlogNet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K, 125K, 8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. NetworkTraffic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K,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AutoShape 19"/>
          <p:cNvCxnSpPr>
            <a:stCxn id="675" idx="4"/>
            <a:endCxn id="678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83" name="AutoShape 20"/>
          <p:cNvCxnSpPr>
            <a:stCxn id="675" idx="4"/>
            <a:endCxn id="681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4" name="AutoShape 21"/>
          <p:cNvCxnSpPr>
            <a:stCxn id="675" idx="5"/>
            <a:endCxn id="679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85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87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8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AD31-D562-4424-9264-572AF467AB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3"/>
          <p:cNvSpPr/>
          <p:nvPr/>
        </p:nvSpPr>
        <p:spPr>
          <a:xfrm rot="16200000">
            <a:off x="7383960" y="56455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4"/>
          <p:cNvSpPr/>
          <p:nvPr/>
        </p:nvSpPr>
        <p:spPr>
          <a:xfrm rot="16200000">
            <a:off x="6165000" y="495972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5"/>
          <p:cNvSpPr/>
          <p:nvPr/>
        </p:nvSpPr>
        <p:spPr>
          <a:xfrm rot="16200000">
            <a:off x="6240960" y="38167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6"/>
          <p:cNvSpPr/>
          <p:nvPr/>
        </p:nvSpPr>
        <p:spPr>
          <a:xfrm rot="16200000">
            <a:off x="6622200" y="57218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7"/>
          <p:cNvSpPr/>
          <p:nvPr/>
        </p:nvSpPr>
        <p:spPr>
          <a:xfrm rot="16200000">
            <a:off x="7688880" y="41216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AutoShape 30"/>
          <p:cNvCxnSpPr/>
          <p:nvPr/>
        </p:nvCxnSpPr>
        <p:spPr>
          <a:xfrm>
            <a:off x="6400800" y="3962520"/>
            <a:ext cx="1288080" cy="234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AutoShape 40"/>
          <p:cNvCxnSpPr/>
          <p:nvPr/>
        </p:nvCxnSpPr>
        <p:spPr>
          <a:xfrm flipH="1">
            <a:off x="6247800" y="4038120"/>
            <a:ext cx="7668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40"/>
          <p:cNvCxnSpPr>
            <a:stCxn id="697" idx="0"/>
          </p:cNvCxnSpPr>
          <p:nvPr/>
        </p:nvCxnSpPr>
        <p:spPr>
          <a:xfrm flipH="1">
            <a:off x="6324120" y="4217760"/>
            <a:ext cx="1372320" cy="7894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702" name="AutoShape 40"/>
          <p:cNvCxnSpPr>
            <a:stCxn id="696" idx="6"/>
            <a:endCxn id="695" idx="2"/>
          </p:cNvCxnSpPr>
          <p:nvPr/>
        </p:nvCxnSpPr>
        <p:spPr>
          <a:xfrm flipH="1" flipV="1">
            <a:off x="6341760" y="4014000"/>
            <a:ext cx="381600" cy="170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3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38160">
            <a:solidFill>
              <a:srgbClr val="00297a"/>
            </a:solidFill>
            <a:miter/>
          </a:ln>
        </p:spPr>
      </p:cxnSp>
      <p:sp>
        <p:nvSpPr>
          <p:cNvPr id="704" name=""/>
          <p:cNvSpPr/>
          <p:nvPr/>
        </p:nvSpPr>
        <p:spPr>
          <a:xfrm>
            <a:off x="533520" y="4267080"/>
            <a:ext cx="56480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Unipart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works: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  |E|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 BlogNet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K, 125K, 8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. NetworkTraffic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K,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AutoShape 19"/>
          <p:cNvCxnSpPr>
            <a:stCxn id="705" idx="4"/>
            <a:endCxn id="708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713" name="AutoShape 20"/>
          <p:cNvCxnSpPr>
            <a:stCxn id="705" idx="4"/>
            <a:endCxn id="711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4" name="AutoShape 21"/>
          <p:cNvCxnSpPr>
            <a:stCxn id="705" idx="5"/>
            <a:endCxn id="709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715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6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717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719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40"/>
          <p:cNvCxnSpPr/>
          <p:nvPr/>
        </p:nvCxnSpPr>
        <p:spPr>
          <a:xfrm flipH="1">
            <a:off x="7543440" y="4266720"/>
            <a:ext cx="288000" cy="1374120"/>
          </a:xfrm>
          <a:prstGeom prst="straightConnector1">
            <a:avLst/>
          </a:prstGeom>
          <a:ln w="9360">
            <a:solidFill>
              <a:srgbClr val="00297a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685280" y="487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50760">
            <a:solidFill>
              <a:srgbClr val="00297a"/>
            </a:solidFill>
            <a:miter/>
          </a:ln>
        </p:spPr>
      </p:cxnSp>
      <p:sp>
        <p:nvSpPr>
          <p:cNvPr id="725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29A-96C5-460F-968E-94602A0BE1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1: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(L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How does the 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djacency matrix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: Why should we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562A-57E2-4BDE-89AB-17362362AB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1: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(L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How does the 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djacency matrix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: Why should we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: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osely linked to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so relates to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epidemic thresh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AED-3DE7-4434-A08F-895437E004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438280" y="4419720"/>
            <a:ext cx="3048120" cy="123768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 ∝ E(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≤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92840" cy="32767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 (LPL) cont.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2860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nnected, undirected graph G with N nodes and E edges, without self-loops and multiple ed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≤ {2 (1 – 1/N) E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≤ c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6EE-BF12-4C84-A86E-12130A412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5"/>
          <p:cNvSpPr/>
          <p:nvPr/>
        </p:nvSpPr>
        <p:spPr>
          <a:xfrm>
            <a:off x="5193720" y="50292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LP Author-Confere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3610080" cy="2895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3606840" cy="28191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2: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,w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 (LW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33520" y="16002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How does th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BD7-1603-40E1-BF19-8B708F9371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3124080" y="2590920"/>
            <a:ext cx="3048120" cy="648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 ∝ E(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995040" y="61722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LP Author-Confere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9"/>
          <p:cNvSpPr/>
          <p:nvPr/>
        </p:nvSpPr>
        <p:spPr>
          <a:xfrm>
            <a:off x="6021720" y="61722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3" descr=""/>
          <p:cNvPicPr/>
          <p:nvPr/>
        </p:nvPicPr>
        <p:blipFill>
          <a:blip r:embed="rId2"/>
          <a:stretch/>
        </p:blipFill>
        <p:spPr>
          <a:xfrm>
            <a:off x="5391000" y="1905120"/>
            <a:ext cx="3753000" cy="28670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a700"/>
                </a:solidFill>
                <a:latin typeface="Times New Roman"/>
              </a:rPr>
              <a:t>Observation 3:</a:t>
            </a:r>
            <a:r>
              <a:rPr b="0" lang="en-US" sz="3600" spc="-1" strike="noStrike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297a"/>
                </a:solidFill>
                <a:latin typeface="Times New Roman"/>
              </a:rPr>
              <a:t>Edge Weights PL(EWPL)</a:t>
            </a:r>
            <a:endParaRPr b="0" lang="en-US" sz="36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04920" y="15235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How does th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dge relate to “popularity” if its adjacent n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547-5F8C-4729-9D6B-6807C2DFD7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7"/>
          <p:cNvSpPr/>
          <p:nvPr/>
        </p:nvSpPr>
        <p:spPr>
          <a:xfrm>
            <a:off x="6107760" y="4876920"/>
            <a:ext cx="2148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 Committee-t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914400" y="3124080"/>
            <a:ext cx="2666880" cy="648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4"/>
          <p:cNvSpPr/>
          <p:nvPr/>
        </p:nvSpPr>
        <p:spPr>
          <a:xfrm rot="16200000">
            <a:off x="1821600" y="4807440"/>
            <a:ext cx="203040" cy="189000"/>
          </a:xfrm>
          <a:prstGeom prst="ellipse">
            <a:avLst/>
          </a:prstGeom>
          <a:solidFill>
            <a:srgbClr val="006600"/>
          </a:solidFill>
          <a:ln w="190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7"/>
          <p:cNvSpPr/>
          <p:nvPr/>
        </p:nvSpPr>
        <p:spPr>
          <a:xfrm rot="16200000">
            <a:off x="3269520" y="4807800"/>
            <a:ext cx="203040" cy="188640"/>
          </a:xfrm>
          <a:prstGeom prst="ellipse">
            <a:avLst/>
          </a:prstGeom>
          <a:solidFill>
            <a:srgbClr val="006600"/>
          </a:solidFill>
          <a:ln w="190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7" name="AutoShape 30"/>
          <p:cNvCxnSpPr/>
          <p:nvPr/>
        </p:nvCxnSpPr>
        <p:spPr>
          <a:xfrm>
            <a:off x="533520" y="4723920"/>
            <a:ext cx="121968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8" name="AutoShape 40"/>
          <p:cNvCxnSpPr/>
          <p:nvPr/>
        </p:nvCxnSpPr>
        <p:spPr>
          <a:xfrm>
            <a:off x="838080" y="4191120"/>
            <a:ext cx="99144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AutoShape 40"/>
          <p:cNvCxnSpPr/>
          <p:nvPr/>
        </p:nvCxnSpPr>
        <p:spPr>
          <a:xfrm flipH="1">
            <a:off x="2056680" y="4876560"/>
            <a:ext cx="122004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760" name="AutoShape 40"/>
          <p:cNvCxnSpPr/>
          <p:nvPr/>
        </p:nvCxnSpPr>
        <p:spPr>
          <a:xfrm flipH="1">
            <a:off x="3504600" y="4190760"/>
            <a:ext cx="99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1" name=""/>
          <p:cNvSpPr/>
          <p:nvPr/>
        </p:nvSpPr>
        <p:spPr>
          <a:xfrm>
            <a:off x="2364120" y="44197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i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AutoShape 40"/>
          <p:cNvCxnSpPr>
            <a:endCxn id="755" idx="1"/>
          </p:cNvCxnSpPr>
          <p:nvPr/>
        </p:nvCxnSpPr>
        <p:spPr>
          <a:xfrm flipV="1">
            <a:off x="577440" y="4974840"/>
            <a:ext cx="118332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3" name="AutoShape 30"/>
          <p:cNvCxnSpPr/>
          <p:nvPr/>
        </p:nvCxnSpPr>
        <p:spPr>
          <a:xfrm>
            <a:off x="3505320" y="4952520"/>
            <a:ext cx="121968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2742840" y="4116240"/>
            <a:ext cx="1219320" cy="182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60" y="2896"/>
                </a:moveTo>
                <a:arcTo wR="10800" hR="10800" stAng="-2822492" swAng="4329131"/>
                <a:lnTo>
                  <a:pt x="10800" y="10800"/>
                </a:lnTo>
                <a:close/>
              </a:path>
              <a:path fill="none" w="21600" h="21600">
                <a:moveTo>
                  <a:pt x="18160" y="2896"/>
                </a:moveTo>
                <a:arcTo wR="10800" hR="10800" stAng="-2822492" swAng="4329131"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913680" y="4191120"/>
            <a:ext cx="1828440" cy="175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36" y="1194"/>
                </a:moveTo>
                <a:arcTo wR="10800" hR="10800" stAng="-3768178" swAng="6463773"/>
                <a:lnTo>
                  <a:pt x="10800" y="10800"/>
                </a:lnTo>
                <a:close/>
              </a:path>
              <a:path fill="none" w="21600" h="21600">
                <a:moveTo>
                  <a:pt x="15736" y="1194"/>
                </a:moveTo>
                <a:arcTo wR="10800" hR="10800" stAng="-3768178" swAng="6463773"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60440" y="5334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41520" y="5334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8520" y="464832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a7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600" y="4724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a7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2320" y="3124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A819-676C-44D9-A8C3-C08F79511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5230800" cy="5410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28600" y="144792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are popul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, commun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affic, call graph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3225-7C00-4D0B-9C64-165E8C6D23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251460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ter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 com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for </a:t>
            </a:r>
            <a:r>
              <a:rPr b="0" lang="en-US" sz="2400" spc="-1" strike="noStrike">
                <a:solidFill>
                  <a:srgbClr val="c64847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64847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28600" y="54100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ulation studies, what-if scenarios, future prediction,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a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alistic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s that will obey all the patterns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degre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ge weight power law (E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napshot power law (S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EC25-CDF0-4E1A-8941-2082D229A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nsification power law (D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(L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ight power law (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(L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74E-41C8-4B7A-B9E7-1D2C6D87F3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2D solution: Kronecker Produc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DE6-EB3E-431D-A071-7BE125A6A6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Content Placeholder 2"/>
          <p:cNvSpPr/>
          <p:nvPr/>
        </p:nvSpPr>
        <p:spPr>
          <a:xfrm>
            <a:off x="304920" y="15238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a700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cu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914400" y="2057400"/>
          <a:ext cx="16462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16462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2971800" y="1981080"/>
          <a:ext cx="2095560" cy="204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1981080"/>
                    <a:ext cx="209556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1219320" y="4114800"/>
          <a:ext cx="1143000" cy="223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4114800"/>
                    <a:ext cx="11430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590920" y="3962520"/>
          <a:ext cx="2990880" cy="26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90920" y="3962520"/>
                    <a:ext cx="2990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57754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ontent Placeholder 2"/>
          <p:cNvSpPr/>
          <p:nvPr/>
        </p:nvSpPr>
        <p:spPr>
          <a:xfrm>
            <a:off x="533412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a700"/>
                </a:solidFill>
                <a:latin typeface="Arial"/>
              </a:rPr>
              <a:t>Intu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ies within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f-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-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2D solution: Kronecker Produc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F499-187F-41EF-A4B7-F8FBE222E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796" name="Line 6"/>
          <p:cNvSpPr/>
          <p:nvPr/>
        </p:nvSpPr>
        <p:spPr>
          <a:xfrm>
            <a:off x="3886200" y="1600200"/>
            <a:ext cx="28440" cy="338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7"/>
          <p:cNvSpPr/>
          <p:nvPr/>
        </p:nvSpPr>
        <p:spPr>
          <a:xfrm>
            <a:off x="5029200" y="1600200"/>
            <a:ext cx="28440" cy="338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8"/>
          <p:cNvSpPr/>
          <p:nvPr/>
        </p:nvSpPr>
        <p:spPr>
          <a:xfrm flipV="1">
            <a:off x="2743200" y="2666880"/>
            <a:ext cx="3382920" cy="28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"/>
          <p:cNvSpPr/>
          <p:nvPr/>
        </p:nvSpPr>
        <p:spPr>
          <a:xfrm flipV="1">
            <a:off x="2743200" y="3809880"/>
            <a:ext cx="3382920" cy="28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2743200" y="1981080"/>
            <a:ext cx="1143000" cy="28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8"/>
          <p:cNvSpPr/>
          <p:nvPr/>
        </p:nvSpPr>
        <p:spPr>
          <a:xfrm flipV="1">
            <a:off x="2743200" y="2361960"/>
            <a:ext cx="1143000" cy="28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3505320" y="1600200"/>
            <a:ext cx="2844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3124080" y="1600200"/>
            <a:ext cx="2880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03AA-3D87-48D1-94B9-A522F38C46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25" dur="5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7efa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18334 E">
                                      <p:cBhvr>
                                        <p:cTn id="143" dur="5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C801-61CB-4B66-A801-3AC9F99325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49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37916 -0.18334 E">
                                      <p:cBhvr>
                                        <p:cTn id="167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35B-E0BD-427E-81F1-1B3AB0F1A4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3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73" dur="5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5125 -0.18334 E">
                                      <p:cBhvr>
                                        <p:cTn id="191" dur="5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451-4F97-43C4-B633-CC46241E72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4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97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65416 -0.18334 E">
                                      <p:cBhvr>
                                        <p:cTn id="212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5515-BFD9-4745-A32B-AFF0AD37F9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218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07223 E">
                                      <p:cBhvr>
                                        <p:cTn id="236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F790-52F4-4208-882C-1018AC08E7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90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242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0d8d7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5416 0.03889 E">
                                      <p:cBhvr>
                                        <p:cTn id="260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Burst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and Observ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ketch of pro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2495-6062-422B-ACC4-194FCD23C1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6EBF-406A-4C2C-ADC9-2442760B3D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90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42900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48320" y="2514600"/>
            <a:ext cx="1447560" cy="99072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48320" y="32767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86728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86728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0866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08660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297" dur="5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299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1" dur="5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3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5" dur="5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7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9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1" dur="5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3" dur="5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5" dur="5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7" dur="5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9" dur="5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104-2E2C-4D65-A1C2-4F8FB1457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325" dur="5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13889 E">
                                      <p:cBhvr>
                                        <p:cTn id="343" dur="5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F73-B04C-4A3B-871A-3A14C75AEF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2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429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349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37083 -0.13889 E">
                                      <p:cBhvr>
                                        <p:cTn id="367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FD1-81AE-4CA7-BDB4-8A13BEFFFE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429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791320" y="2057400"/>
            <a:ext cx="1447560" cy="99072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1028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2900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48320" y="2819520"/>
            <a:ext cx="1447560" cy="990360"/>
          </a:xfrm>
          <a:prstGeom prst="cube">
            <a:avLst>
              <a:gd name="adj" fmla="val 25000"/>
            </a:avLst>
          </a:prstGeom>
          <a:solidFill>
            <a:srgbClr val="0000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86728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80008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8660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006699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42900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339966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48320" y="3581280"/>
            <a:ext cx="144756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6728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00ff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08660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0000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200400" y="5029200"/>
            <a:ext cx="495288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40240" y="510552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971800" y="2514600"/>
            <a:ext cx="0" cy="236232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597040" y="335268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048120" y="1981080"/>
            <a:ext cx="457200" cy="4572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01600" y="182880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291C-4C02-4A6F-B329-63C7EDF58B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057400" y="2057400"/>
            <a:ext cx="5562720" cy="30481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752480" y="2819520"/>
            <a:ext cx="0" cy="22860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rot="16200000">
            <a:off x="698760" y="38001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s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5410080"/>
            <a:ext cx="495288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430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recip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057400" y="281952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209680" y="266688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362320" y="251460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236232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666880" y="220968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19520" y="2057400"/>
            <a:ext cx="4800600" cy="2286000"/>
          </a:xfrm>
          <a:prstGeom prst="rect">
            <a:avLst/>
          </a:prstGeom>
          <a:solidFill>
            <a:srgbClr val="ffcc00">
              <a:alpha val="2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486400" y="1523880"/>
            <a:ext cx="152388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29481"/>
              <a:gd name="adj5" fmla="val 144444"/>
              <a:gd name="adj6" fmla="val -55000"/>
            </a:avLst>
          </a:prstGeom>
          <a:solidFill>
            <a:srgbClr val="eaa700">
              <a:alpha val="52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736240" y="14619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t-sl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1752480" y="2057040"/>
            <a:ext cx="685800" cy="6858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8963600">
            <a:off x="1373400" y="1904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c97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BF91-B8D5-4CC2-8CD1-B855AF0069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685800" y="2362320"/>
            <a:ext cx="1143000" cy="106668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2057400"/>
            <a:ext cx="1523880" cy="13716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380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990720" y="2057400"/>
            <a:ext cx="121896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082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20868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24844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2988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23334 0 E">
                                      <p:cBhvr>
                                        <p:cTn id="529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L 0.43333 0.02222 E">
                                      <p:cBhvr>
                                        <p:cTn id="532" dur="5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63333 0.04444 E">
                                      <p:cBhvr>
                                        <p:cTn id="535" dur="5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0B6-8D81-4CBF-8F3B-92E72885C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30322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13236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037480" y="335268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018560" y="335268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2057400"/>
            <a:ext cx="1523880" cy="13716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6668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76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66880" y="2209680"/>
            <a:ext cx="1219320" cy="990720"/>
            <a:chOff x="2666880" y="2209680"/>
            <a:chExt cx="1219320" cy="990720"/>
          </a:xfrm>
        </p:grpSpPr>
        <p:sp>
          <p:nvSpPr>
            <p:cNvPr id="1077" name=""/>
            <p:cNvSpPr/>
            <p:nvPr/>
          </p:nvSpPr>
          <p:spPr>
            <a:xfrm>
              <a:off x="35812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63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7180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66880" y="28954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6880" y="26668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66880" y="24382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648320" y="2209680"/>
            <a:ext cx="121896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257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62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257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48320" y="2209680"/>
            <a:ext cx="1218960" cy="990720"/>
            <a:chOff x="4648320" y="2209680"/>
            <a:chExt cx="1218960" cy="990720"/>
          </a:xfrm>
        </p:grpSpPr>
        <p:sp>
          <p:nvSpPr>
            <p:cNvPr id="1109" name=""/>
            <p:cNvSpPr/>
            <p:nvPr/>
          </p:nvSpPr>
          <p:spPr>
            <a:xfrm>
              <a:off x="55623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5744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528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8320" y="28954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8320" y="26668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8320" y="24382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5530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1629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4674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1629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553080" y="2209680"/>
            <a:ext cx="1219320" cy="990720"/>
            <a:chOff x="6553080" y="2209680"/>
            <a:chExt cx="1219320" cy="990720"/>
          </a:xfrm>
        </p:grpSpPr>
        <p:sp>
          <p:nvSpPr>
            <p:cNvPr id="1141" name=""/>
            <p:cNvSpPr/>
            <p:nvPr/>
          </p:nvSpPr>
          <p:spPr>
            <a:xfrm>
              <a:off x="74674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625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5800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53080" y="28954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553080" y="26668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53080" y="24382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3278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6501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9550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4696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164720" y="28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3641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3641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6412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3641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6904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9736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78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5834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5012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9550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596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564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2692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2692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692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740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740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17400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17400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55524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8598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47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4696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828800" y="2666880"/>
            <a:ext cx="380880" cy="0"/>
          </a:xfrm>
          <a:prstGeom prst="line">
            <a:avLst/>
          </a:prstGeom>
          <a:ln w="38160">
            <a:solidFill>
              <a:srgbClr val="0029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4382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5812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164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83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596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956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638680" y="43290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38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6408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95288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055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495680" y="5256360"/>
            <a:ext cx="457200" cy="3682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572000" y="5257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4952520" y="457200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553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696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6312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6982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010280" y="441972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1629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553080" y="52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6312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464832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478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700992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1647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696080" y="52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7742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934320" y="4648320"/>
            <a:ext cx="83808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317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24680" y="464796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926840" y="47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0481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18364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724280" y="464832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4150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553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696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312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6982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010280" y="441972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1629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00992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1647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ketch of pro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9452-228E-40DC-900D-885917A7B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250" autoRev="1" fill="hold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500" fill="hold"/>
                                        <p:tgtEl>
                                          <p:spTgt spid="1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a7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FFC-D61A-47EE-A897-F223FCF28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3886200" y="1828800"/>
          <a:ext cx="4572000" cy="35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828800"/>
                    <a:ext cx="45720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TextBox 16"/>
          <p:cNvSpPr/>
          <p:nvPr/>
        </p:nvSpPr>
        <p:spPr>
          <a:xfrm>
            <a:off x="5656320" y="5410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16"/>
          <p:cNvSpPr/>
          <p:nvPr/>
        </p:nvSpPr>
        <p:spPr>
          <a:xfrm rot="16200000">
            <a:off x="3155400" y="33238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8970-39F5-468A-95AF-AA1802A5E3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16"/>
          <p:cNvSpPr/>
          <p:nvPr/>
        </p:nvSpPr>
        <p:spPr>
          <a:xfrm>
            <a:off x="5870160" y="54864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16"/>
          <p:cNvSpPr/>
          <p:nvPr/>
        </p:nvSpPr>
        <p:spPr>
          <a:xfrm rot="16200000">
            <a:off x="3167640" y="3159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48006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2" descr="blog.bmp"/>
          <p:cNvPicPr/>
          <p:nvPr/>
        </p:nvPicPr>
        <p:blipFill>
          <a:blip r:embed="rId2"/>
          <a:stretch/>
        </p:blipFill>
        <p:spPr>
          <a:xfrm>
            <a:off x="5181480" y="3124080"/>
            <a:ext cx="3138480" cy="24386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Patterns (I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09120" y="7617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lvl="1" marL="155880" indent="-5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buClr>
                <a:srgbClr val="00297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for the w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bert and Barabási, 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buClr>
                <a:srgbClr val="00297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6 for the Internet AS topology grap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outsos, Faloutsos, Faloutsos, 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inking di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skovec et al.‘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9760" indent="-47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6B52-BCAF-45D1-A12A-3D9D7A3BFB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5334120"/>
            <a:ext cx="3276360" cy="459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(x) = A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A&gt;0,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5"/>
          <p:cNvSpPr/>
          <p:nvPr/>
        </p:nvSpPr>
        <p:spPr>
          <a:xfrm>
            <a:off x="6939000" y="32767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63244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4"/>
          <p:cNvSpPr/>
          <p:nvPr/>
        </p:nvSpPr>
        <p:spPr>
          <a:xfrm rot="16200000">
            <a:off x="4375080" y="4082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B89-DD16-4826-A892-F1718B9306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16"/>
          <p:cNvSpPr/>
          <p:nvPr/>
        </p:nvSpPr>
        <p:spPr>
          <a:xfrm>
            <a:off x="5640120" y="54100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16"/>
          <p:cNvSpPr/>
          <p:nvPr/>
        </p:nvSpPr>
        <p:spPr>
          <a:xfrm rot="16200000">
            <a:off x="3312360" y="31572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3733920" y="1676520"/>
          <a:ext cx="4591080" cy="35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676520"/>
                    <a:ext cx="459108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872C-FFE7-4FB5-8972-C7C23A0609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16"/>
          <p:cNvSpPr/>
          <p:nvPr/>
        </p:nvSpPr>
        <p:spPr>
          <a:xfrm>
            <a:off x="5874480" y="54100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16"/>
          <p:cNvSpPr/>
          <p:nvPr/>
        </p:nvSpPr>
        <p:spPr>
          <a:xfrm rot="16200000">
            <a:off x="3282120" y="31561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W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3809880" y="1752480"/>
          <a:ext cx="4591080" cy="361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752480"/>
                    <a:ext cx="459108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5B3-46E9-4C86-A9C1-5144580CA9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3429000" y="1905120"/>
          <a:ext cx="464832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905120"/>
                    <a:ext cx="464832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02A-3BFA-41F4-8CD9-77E6210417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6"/>
          <p:cNvSpPr/>
          <p:nvPr/>
        </p:nvSpPr>
        <p:spPr>
          <a:xfrm>
            <a:off x="5337000" y="3429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6"/>
          <p:cNvSpPr/>
          <p:nvPr/>
        </p:nvSpPr>
        <p:spPr>
          <a:xfrm rot="16200000">
            <a:off x="3517200" y="227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4419720" y="1295280"/>
          <a:ext cx="2786040" cy="22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295280"/>
                    <a:ext cx="278604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4" name="TextBox 16"/>
          <p:cNvSpPr/>
          <p:nvPr/>
        </p:nvSpPr>
        <p:spPr>
          <a:xfrm>
            <a:off x="5323680" y="6095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Out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6"/>
          <p:cNvSpPr/>
          <p:nvPr/>
        </p:nvSpPr>
        <p:spPr>
          <a:xfrm rot="16200000">
            <a:off x="3506040" y="4865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Ou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4495680" y="3828960"/>
          <a:ext cx="2819520" cy="22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828960"/>
                    <a:ext cx="28195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CB9B-A730-42A3-B56C-A497968C1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4038480" y="1295280"/>
            <a:ext cx="335304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2" name=""/>
          <p:cNvGraphicFramePr/>
          <p:nvPr/>
        </p:nvGraphicFramePr>
        <p:xfrm>
          <a:off x="4114800" y="3809880"/>
          <a:ext cx="3352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09880"/>
                    <a:ext cx="3352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BFC-BB72-45C3-A910-3D191F4641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6"/>
          <p:cNvSpPr/>
          <p:nvPr/>
        </p:nvSpPr>
        <p:spPr>
          <a:xfrm>
            <a:off x="5639760" y="34290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Box 16"/>
          <p:cNvSpPr/>
          <p:nvPr/>
        </p:nvSpPr>
        <p:spPr>
          <a:xfrm rot="16200000">
            <a:off x="3861000" y="2275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λ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6"/>
          <p:cNvSpPr/>
          <p:nvPr/>
        </p:nvSpPr>
        <p:spPr>
          <a:xfrm>
            <a:off x="5639760" y="6095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16"/>
          <p:cNvSpPr/>
          <p:nvPr/>
        </p:nvSpPr>
        <p:spPr>
          <a:xfrm rot="16200000">
            <a:off x="3821400" y="467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λ1,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1" name=""/>
          <p:cNvGraphicFramePr/>
          <p:nvPr/>
        </p:nvGraphicFramePr>
        <p:xfrm>
          <a:off x="4343400" y="1219320"/>
          <a:ext cx="289548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219320"/>
                    <a:ext cx="2895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"/>
          <p:cNvGraphicFramePr/>
          <p:nvPr/>
        </p:nvGraphicFramePr>
        <p:xfrm>
          <a:off x="4343400" y="3809880"/>
          <a:ext cx="2971800" cy="22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809880"/>
                    <a:ext cx="297180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4771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 graphs, (un)weighted larges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igen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wer-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umber of e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       of an edge is related to the total weights       and       of its incident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ursiv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o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plication is a recursive method to generate (1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2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ime-evol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3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lf-simi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4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wer-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ture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version of R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the initial tenso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639E-DBE2-4EF9-B1F7-EB2EAE1F4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11480" y="2362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i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363760" y="2819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82720" y="2803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261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3"/>
          <p:cNvSpPr/>
          <p:nvPr/>
        </p:nvSpPr>
        <p:spPr>
          <a:xfrm>
            <a:off x="8686800" y="6477120"/>
            <a:ext cx="264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A4C68D4-1174-44F5-B814-A39D2166C9B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ontact u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2361960" y="1294920"/>
            <a:ext cx="609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 McGloh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cmu.edu/~mmcgl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cgloh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s Falout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cmu.edu/~chr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os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an Ako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drew.cmu.edu/~lako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oglu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Picture 4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1693800" cy="190512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5" descr=""/>
          <p:cNvPicPr/>
          <p:nvPr/>
        </p:nvPicPr>
        <p:blipFill>
          <a:blip r:embed="rId3"/>
          <a:srcRect l="10348" t="14426" r="6902" b="0"/>
          <a:stretch/>
        </p:blipFill>
        <p:spPr>
          <a:xfrm>
            <a:off x="533520" y="5029200"/>
            <a:ext cx="1676160" cy="165744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6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1600200" cy="15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Patterns (II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714640" y="2209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1E3-F2DF-4A61-997B-B22DFF5AEB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4"/>
          <p:cNvSpPr/>
          <p:nvPr/>
        </p:nvSpPr>
        <p:spPr>
          <a:xfrm>
            <a:off x="5853600" y="4191120"/>
            <a:ext cx="32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LP Keyword-to-Conferenc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2994120" cy="21337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27"/>
          <p:cNvSpPr/>
          <p:nvPr/>
        </p:nvSpPr>
        <p:spPr>
          <a:xfrm>
            <a:off x="3584520" y="41911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domain Internet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562360" y="25146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lvl="1" marL="215280" indent="-8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fication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skovec et al.‘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igh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cGloh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 al.‘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-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71800" y="25146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lvl="1" marL="28224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Power La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outsos et al.‘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5" descr="kcscat.bmp"/>
          <p:cNvPicPr/>
          <p:nvPr/>
        </p:nvPicPr>
        <p:blipFill>
          <a:blip r:embed="rId3"/>
          <a:stretch/>
        </p:blipFill>
        <p:spPr>
          <a:xfrm>
            <a:off x="6324480" y="1752480"/>
            <a:ext cx="2646360" cy="20653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1440" y="38098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7"/>
          <p:cNvSpPr/>
          <p:nvPr/>
        </p:nvSpPr>
        <p:spPr>
          <a:xfrm rot="16200000">
            <a:off x="2654640" y="25358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8"/>
          <p:cNvSpPr/>
          <p:nvPr/>
        </p:nvSpPr>
        <p:spPr>
          <a:xfrm>
            <a:off x="7470000" y="3809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8079480" y="16765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W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0"/>
          <p:cNvSpPr/>
          <p:nvPr/>
        </p:nvSpPr>
        <p:spPr>
          <a:xfrm>
            <a:off x="8370360" y="205740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src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1"/>
          <p:cNvSpPr/>
          <p:nvPr/>
        </p:nvSpPr>
        <p:spPr>
          <a:xfrm>
            <a:off x="8081640" y="28195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dst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25146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lvl="1" marL="28224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Power La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ichardson and Domingos, ‘01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9" descr=""/>
          <p:cNvPicPr/>
          <p:nvPr/>
        </p:nvPicPr>
        <p:blipFill>
          <a:blip r:embed="rId4">
            <a:alphaModFix amt="21000"/>
          </a:blip>
          <a:stretch/>
        </p:blipFill>
        <p:spPr>
          <a:xfrm>
            <a:off x="533520" y="1828800"/>
            <a:ext cx="2622600" cy="1981080"/>
          </a:xfrm>
          <a:prstGeom prst="rect">
            <a:avLst/>
          </a:prstGeom>
          <a:ln w="0">
            <a:noFill/>
          </a:ln>
        </p:spPr>
      </p:pic>
      <p:sp>
        <p:nvSpPr>
          <p:cNvPr id="588" name="TextBox 33"/>
          <p:cNvSpPr/>
          <p:nvPr/>
        </p:nvSpPr>
        <p:spPr>
          <a:xfrm>
            <a:off x="1379160" y="38098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4"/>
          <p:cNvSpPr/>
          <p:nvPr/>
        </p:nvSpPr>
        <p:spPr>
          <a:xfrm rot="16200000">
            <a:off x="18360" y="25783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5"/>
          <p:cNvSpPr/>
          <p:nvPr/>
        </p:nvSpPr>
        <p:spPr>
          <a:xfrm>
            <a:off x="615240" y="4191120"/>
            <a:ext cx="27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inions who-trusts-whom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7"/>
          <p:cNvSpPr/>
          <p:nvPr/>
        </p:nvSpPr>
        <p:spPr>
          <a:xfrm>
            <a:off x="990720" y="2133720"/>
            <a:ext cx="1218960" cy="12189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>
            <a:off x="3809880" y="2286000"/>
            <a:ext cx="2210040" cy="533520"/>
          </a:xfrm>
          <a:prstGeom prst="line">
            <a:avLst/>
          </a:prstGeom>
          <a:ln w="190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2590920" y="3581280"/>
            <a:ext cx="228600" cy="152640"/>
          </a:xfrm>
          <a:prstGeom prst="ellipse">
            <a:avLst/>
          </a:prstGeom>
          <a:solidFill>
            <a:srgbClr val="ffff00">
              <a:alpha val="21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Generator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297a"/>
                </a:solidFill>
                <a:latin typeface="Arial"/>
              </a:rPr>
              <a:t>Erdős</a:t>
            </a: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297a"/>
                </a:solidFill>
                <a:latin typeface="Arial"/>
              </a:rPr>
              <a:t>Rényi (ER)</a:t>
            </a: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[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dő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ny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6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Small-wor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 [Watts, Strogatz ‘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Preferential Attach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rabá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bert ‘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297a"/>
                </a:solidFill>
                <a:latin typeface="Arial"/>
              </a:rPr>
              <a:t>Edge Copying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models [Kumar 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99],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berg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99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Forest F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[Leskovec, Faloutsos ‘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Kroneck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[Leskovec, Chakrabarti, Kleinberg, Faloutsos ‘0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Optimization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s [Carlson,Doyle,’00] [Fabrikant et al. ’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E19-ACC6-406F-B570-86AF1ADFF8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8640" y="1600200"/>
            <a:ext cx="822816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5440" indent="-227160">
              <a:lnSpc>
                <a:spcPct val="87000"/>
              </a:lnSpc>
              <a:spcBef>
                <a:spcPts val="700"/>
              </a:spcBef>
              <a:buClr>
                <a:srgbClr val="eaa700"/>
              </a:buClr>
              <a:buSzPct val="44000"/>
              <a:buFont typeface="Wingdings" charset="2"/>
              <a:buChar char=""/>
              <a:tabLst>
                <a:tab algn="l" pos="584280"/>
                <a:tab algn="l" pos="1181160"/>
                <a:tab algn="l" pos="1765440"/>
                <a:tab algn="l" pos="2362320"/>
                <a:tab algn="l" pos="2946240"/>
                <a:tab algn="l" pos="3543480"/>
                <a:tab algn="l" pos="4127400"/>
                <a:tab algn="l" pos="4724280"/>
                <a:tab algn="l" pos="5308560"/>
                <a:tab algn="l" pos="5892840"/>
                <a:tab algn="l" pos="6489720"/>
                <a:tab algn="l" pos="7074000"/>
                <a:tab algn="l" pos="7670880"/>
                <a:tab algn="l" pos="8255160"/>
                <a:tab algn="l" pos="8852040"/>
                <a:tab algn="l" pos="9435960"/>
                <a:tab algn="l" pos="10032840"/>
                <a:tab algn="l" pos="10617120"/>
                <a:tab algn="l" pos="11214000"/>
                <a:tab algn="l" pos="11798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and weight additions are bursty, and self-simil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227160">
              <a:lnSpc>
                <a:spcPct val="87000"/>
              </a:lnSpc>
              <a:spcBef>
                <a:spcPts val="700"/>
              </a:spcBef>
              <a:buClr>
                <a:srgbClr val="eaa700"/>
              </a:buClr>
              <a:buSzPct val="44000"/>
              <a:buFont typeface="Wingdings" charset="2"/>
              <a:buChar char=""/>
              <a:tabLst>
                <a:tab algn="l" pos="584280"/>
                <a:tab algn="l" pos="1181160"/>
                <a:tab algn="l" pos="1765440"/>
                <a:tab algn="l" pos="2362320"/>
                <a:tab algn="l" pos="2946240"/>
                <a:tab algn="l" pos="3543480"/>
                <a:tab algn="l" pos="4127400"/>
                <a:tab algn="l" pos="4724280"/>
                <a:tab algn="l" pos="5308560"/>
                <a:tab algn="l" pos="5892840"/>
                <a:tab algn="l" pos="6489720"/>
                <a:tab algn="l" pos="7074000"/>
                <a:tab algn="l" pos="7670880"/>
                <a:tab algn="l" pos="8255160"/>
                <a:tab algn="l" pos="8852040"/>
                <a:tab algn="l" pos="9435960"/>
                <a:tab algn="l" pos="10032840"/>
                <a:tab algn="l" pos="10617120"/>
                <a:tab algn="l" pos="11214000"/>
                <a:tab algn="l" pos="11798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 plots [Wang+’02] is a measure of burst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0" descr="netdeltaw.pdf"/>
          <p:cNvPicPr/>
          <p:nvPr/>
        </p:nvPicPr>
        <p:blipFill>
          <a:blip r:embed="rId2">
            <a:grayscl/>
          </a:blip>
          <a:stretch/>
        </p:blipFill>
        <p:spPr>
          <a:xfrm>
            <a:off x="457200" y="3429000"/>
            <a:ext cx="3352680" cy="25909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35640" rIns="43920" tIns="35640" bIns="35640" anchor="b">
            <a:noAutofit/>
          </a:bodyPr>
          <a:p>
            <a:pPr marL="11160" indent="0">
              <a:buNone/>
              <a:tabLst>
                <a:tab algn="l" pos="0"/>
                <a:tab algn="l" pos="6336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Burstines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00" name="Rectangle 43"/>
          <p:cNvSpPr/>
          <p:nvPr/>
        </p:nvSpPr>
        <p:spPr>
          <a:xfrm>
            <a:off x="1978920" y="5867280"/>
            <a:ext cx="6112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4"/>
          <p:cNvSpPr/>
          <p:nvPr/>
        </p:nvSpPr>
        <p:spPr>
          <a:xfrm rot="16200000">
            <a:off x="-50040" y="4469400"/>
            <a:ext cx="118584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Weigh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5"/>
          <p:cNvSpPr/>
          <p:nvPr/>
        </p:nvSpPr>
        <p:spPr>
          <a:xfrm>
            <a:off x="5262120" y="5867280"/>
            <a:ext cx="115380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Resolu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6"/>
          <p:cNvSpPr/>
          <p:nvPr/>
        </p:nvSpPr>
        <p:spPr>
          <a:xfrm rot="16200000">
            <a:off x="3839040" y="4533840"/>
            <a:ext cx="87480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Entrop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7"/>
          <p:cNvSpPr/>
          <p:nvPr/>
        </p:nvSpPr>
        <p:spPr>
          <a:xfrm>
            <a:off x="4572000" y="3276720"/>
            <a:ext cx="29718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3" descr="net-ent.pdf"/>
          <p:cNvPicPr/>
          <p:nvPr/>
        </p:nvPicPr>
        <p:blipFill>
          <a:blip r:embed="rId3">
            <a:grayscl/>
          </a:blip>
          <a:srcRect l="0" t="6048" r="0" b="0"/>
          <a:stretch/>
        </p:blipFill>
        <p:spPr>
          <a:xfrm>
            <a:off x="3809880" y="3352680"/>
            <a:ext cx="4540320" cy="32068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029"/>
          <p:cNvGrpSpPr/>
          <p:nvPr/>
        </p:nvGrpSpPr>
        <p:grpSpPr>
          <a:xfrm>
            <a:off x="5181480" y="6248520"/>
            <a:ext cx="1598760" cy="311040"/>
            <a:chOff x="5181480" y="6248520"/>
            <a:chExt cx="1598760" cy="311040"/>
          </a:xfrm>
        </p:grpSpPr>
        <p:sp>
          <p:nvSpPr>
            <p:cNvPr id="607" name="AutoShape 1030"/>
            <p:cNvSpPr/>
            <p:nvPr/>
          </p:nvSpPr>
          <p:spPr>
            <a:xfrm>
              <a:off x="5181480" y="6288480"/>
              <a:ext cx="1598760" cy="227520"/>
            </a:xfrm>
            <a:prstGeom prst="roundRect">
              <a:avLst>
                <a:gd name="adj" fmla="val 5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31"/>
            <p:cNvSpPr/>
            <p:nvPr/>
          </p:nvSpPr>
          <p:spPr>
            <a:xfrm>
              <a:off x="5181480" y="6248520"/>
              <a:ext cx="1598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47000"/>
                </a:lnSpc>
                <a:spcBef>
                  <a:spcPts val="425"/>
                </a:spcBef>
                <a:tabLst>
                  <a:tab algn="l" pos="0"/>
                  <a:tab algn="l" pos="44280"/>
                  <a:tab algn="l" pos="490680"/>
                  <a:tab algn="l" pos="955800"/>
                  <a:tab algn="l" pos="1419120"/>
                  <a:tab algn="l" pos="1874880"/>
                  <a:tab algn="l" pos="2330280"/>
                  <a:tab algn="l" pos="2786040"/>
                  <a:tab algn="l" pos="3249720"/>
                  <a:tab algn="l" pos="3697200"/>
                  <a:tab algn="l" pos="4160880"/>
                  <a:tab algn="l" pos="4616280"/>
                  <a:tab algn="l" pos="5072040"/>
                  <a:tab algn="l" pos="5527800"/>
                  <a:tab algn="l" pos="5991120"/>
                  <a:tab algn="l" pos="6437160"/>
                  <a:tab algn="l" pos="6902280"/>
                  <a:tab algn="l" pos="7358040"/>
                  <a:tab algn="l" pos="7813800"/>
                  <a:tab algn="l" pos="8269200"/>
                  <a:tab algn="l" pos="8732880"/>
                  <a:tab algn="l" pos="9178920"/>
                  <a:tab algn="l" pos="96346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olu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032"/>
          <p:cNvGrpSpPr/>
          <p:nvPr/>
        </p:nvGrpSpPr>
        <p:grpSpPr>
          <a:xfrm>
            <a:off x="3987720" y="4168440"/>
            <a:ext cx="312840" cy="1600200"/>
            <a:chOff x="3987720" y="4168440"/>
            <a:chExt cx="312840" cy="1600200"/>
          </a:xfrm>
        </p:grpSpPr>
        <p:sp>
          <p:nvSpPr>
            <p:cNvPr id="610" name="AutoShape 1033"/>
            <p:cNvSpPr/>
            <p:nvPr/>
          </p:nvSpPr>
          <p:spPr>
            <a:xfrm rot="16200000">
              <a:off x="3341880" y="4853880"/>
              <a:ext cx="1600200" cy="228960"/>
            </a:xfrm>
            <a:prstGeom prst="roundRect">
              <a:avLst>
                <a:gd name="adj" fmla="val 5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t" anchorCtr="1" vert="eaVer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034"/>
            <p:cNvSpPr/>
            <p:nvPr/>
          </p:nvSpPr>
          <p:spPr>
            <a:xfrm rot="16200000">
              <a:off x="3344400" y="4811760"/>
              <a:ext cx="159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47000"/>
                </a:lnSpc>
                <a:spcBef>
                  <a:spcPts val="425"/>
                </a:spcBef>
                <a:tabLst>
                  <a:tab algn="l" pos="0"/>
                  <a:tab algn="l" pos="44280"/>
                  <a:tab algn="l" pos="490680"/>
                  <a:tab algn="l" pos="955800"/>
                  <a:tab algn="l" pos="1419120"/>
                  <a:tab algn="l" pos="1874880"/>
                  <a:tab algn="l" pos="2330280"/>
                  <a:tab algn="l" pos="2786040"/>
                  <a:tab algn="l" pos="3249720"/>
                  <a:tab algn="l" pos="3697200"/>
                  <a:tab algn="l" pos="4160880"/>
                  <a:tab algn="l" pos="4616280"/>
                  <a:tab algn="l" pos="5072040"/>
                  <a:tab algn="l" pos="5527800"/>
                  <a:tab algn="l" pos="5991120"/>
                  <a:tab algn="l" pos="6437160"/>
                  <a:tab algn="l" pos="6902280"/>
                  <a:tab algn="l" pos="7358040"/>
                  <a:tab algn="l" pos="7813800"/>
                  <a:tab algn="l" pos="8269200"/>
                  <a:tab algn="l" pos="8732880"/>
                  <a:tab algn="l" pos="9178920"/>
                  <a:tab algn="l" pos="96346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ntrop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Line 1036"/>
          <p:cNvSpPr/>
          <p:nvPr/>
        </p:nvSpPr>
        <p:spPr>
          <a:xfrm>
            <a:off x="4398840" y="6021360"/>
            <a:ext cx="24195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0"/>
          <p:cNvSpPr/>
          <p:nvPr/>
        </p:nvSpPr>
        <p:spPr>
          <a:xfrm>
            <a:off x="4800600" y="2819520"/>
            <a:ext cx="2286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2200" indent="-223920"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Bursty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223920"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2 &lt; sl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Merge 31"/>
          <p:cNvSpPr/>
          <p:nvPr/>
        </p:nvSpPr>
        <p:spPr>
          <a:xfrm rot="3955800">
            <a:off x="4853520" y="3980520"/>
            <a:ext cx="1879560" cy="2836800"/>
          </a:xfrm>
          <a:prstGeom prst="flowChartMerge">
            <a:avLst/>
          </a:prstGeom>
          <a:solidFill>
            <a:srgbClr val="660066">
              <a:alpha val="4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37"/>
          <p:cNvSpPr/>
          <p:nvPr/>
        </p:nvSpPr>
        <p:spPr>
          <a:xfrm>
            <a:off x="5181480" y="2590920"/>
            <a:ext cx="2892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360" tIns="0" bIns="0" anchor="t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44280"/>
                <a:tab algn="l" pos="509760"/>
                <a:tab algn="l" pos="955800"/>
                <a:tab algn="l" pos="1419120"/>
                <a:tab algn="l" pos="1874880"/>
                <a:tab algn="l" pos="2330280"/>
                <a:tab algn="l" pos="2786040"/>
                <a:tab algn="l" pos="3249720"/>
                <a:tab algn="l" pos="3697200"/>
                <a:tab algn="l" pos="4160880"/>
                <a:tab algn="l" pos="4616280"/>
                <a:tab algn="l" pos="5072040"/>
                <a:tab algn="l" pos="5527800"/>
                <a:tab algn="l" pos="5991120"/>
                <a:tab algn="l" pos="6437160"/>
                <a:tab algn="l" pos="6902280"/>
                <a:tab algn="l" pos="7358040"/>
                <a:tab algn="l" pos="7821720"/>
                <a:tab algn="l" pos="8269200"/>
                <a:tab algn="l" pos="8732880"/>
                <a:tab algn="l" pos="9198000"/>
                <a:tab algn="l" pos="96346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499"/>
              </a:spcBef>
              <a:tabLst>
                <a:tab algn="l" pos="0"/>
                <a:tab algn="l" pos="44280"/>
                <a:tab algn="l" pos="509760"/>
                <a:tab algn="l" pos="955800"/>
                <a:tab algn="l" pos="1419120"/>
                <a:tab algn="l" pos="1874880"/>
                <a:tab algn="l" pos="2330280"/>
                <a:tab algn="l" pos="2786040"/>
                <a:tab algn="l" pos="3249720"/>
                <a:tab algn="l" pos="3697200"/>
                <a:tab algn="l" pos="4160880"/>
                <a:tab algn="l" pos="4616280"/>
                <a:tab algn="l" pos="5072040"/>
                <a:tab algn="l" pos="5527800"/>
                <a:tab algn="l" pos="5991120"/>
                <a:tab algn="l" pos="6437160"/>
                <a:tab algn="l" pos="6902280"/>
                <a:tab algn="l" pos="7358040"/>
                <a:tab algn="l" pos="7821720"/>
                <a:tab algn="l" pos="8269200"/>
                <a:tab algn="l" pos="8732880"/>
                <a:tab algn="l" pos="9198000"/>
                <a:tab algn="l" pos="96346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7"/>
          <p:cNvSpPr/>
          <p:nvPr/>
        </p:nvSpPr>
        <p:spPr>
          <a:xfrm>
            <a:off x="5029200" y="3352680"/>
            <a:ext cx="2971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40"/>
          <p:cNvSpPr/>
          <p:nvPr/>
        </p:nvSpPr>
        <p:spPr>
          <a:xfrm flipV="1">
            <a:off x="4800600" y="3962160"/>
            <a:ext cx="3124080" cy="1904760"/>
          </a:xfrm>
          <a:prstGeom prst="line">
            <a:avLst/>
          </a:prstGeom>
          <a:ln w="38160">
            <a:solidFill>
              <a:srgbClr val="7030a0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41"/>
          <p:cNvSpPr/>
          <p:nvPr/>
        </p:nvSpPr>
        <p:spPr>
          <a:xfrm>
            <a:off x="6019920" y="5105520"/>
            <a:ext cx="1828800" cy="1440"/>
          </a:xfrm>
          <a:prstGeom prst="line">
            <a:avLst/>
          </a:prstGeom>
          <a:ln w="38160">
            <a:solidFill>
              <a:srgbClr val="7030a0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rc 42"/>
          <p:cNvSpPr/>
          <p:nvPr/>
        </p:nvSpPr>
        <p:spPr>
          <a:xfrm>
            <a:off x="6518160" y="4724280"/>
            <a:ext cx="222480" cy="679680"/>
          </a:xfrm>
          <a:prstGeom prst="pie">
            <a:avLst/>
          </a:prstGeom>
          <a:noFill/>
          <a:ln w="38160">
            <a:solidFill>
              <a:srgbClr val="7030a0">
                <a:alpha val="6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3"/>
          <p:cNvSpPr/>
          <p:nvPr/>
        </p:nvSpPr>
        <p:spPr>
          <a:xfrm>
            <a:off x="7093440" y="4572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035"/>
          <p:cNvSpPr/>
          <p:nvPr/>
        </p:nvSpPr>
        <p:spPr>
          <a:xfrm flipV="1">
            <a:off x="4419000" y="3505320"/>
            <a:ext cx="2361960" cy="2455920"/>
          </a:xfrm>
          <a:prstGeom prst="line">
            <a:avLst/>
          </a:prstGeom>
          <a:ln w="25560">
            <a:solidFill>
              <a:srgbClr val="d92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7ED-9576-41EF-828D-BB1A410386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9D3C-97EB-4E72-8149-EA760D27D6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AutoShape 19"/>
          <p:cNvCxnSpPr>
            <a:stCxn id="627" idx="4"/>
            <a:endCxn id="630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35" name="AutoShape 20"/>
          <p:cNvCxnSpPr>
            <a:stCxn id="627" idx="4"/>
            <a:endCxn id="633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AutoShape 21"/>
          <p:cNvCxnSpPr>
            <a:stCxn id="627" idx="5"/>
            <a:endCxn id="631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37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AutoShape 33"/>
          <p:cNvCxnSpPr>
            <a:stCxn id="628" idx="5"/>
            <a:endCxn id="632" idx="0"/>
          </p:cNvCxnSpPr>
          <p:nvPr/>
        </p:nvCxnSpPr>
        <p:spPr>
          <a:xfrm flipV="1">
            <a:off x="6408720" y="118512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39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5524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36:07Z</dcterms:created>
  <dc:creator>Jure Leskovec</dc:creator>
  <dc:description/>
  <dc:language>en-US</dc:language>
  <cp:lastModifiedBy>leman</cp:lastModifiedBy>
  <dcterms:modified xsi:type="dcterms:W3CDTF">2008-12-10T02:36:09Z</dcterms:modified>
  <cp:revision>739</cp:revision>
  <dc:subject/>
  <dc:title>Growth Power Law for Time Evolving Networks</dc:title>
</cp:coreProperties>
</file>