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42.png" ContentType="image/png"/>
  <Override PartName="/ppt/media/image43.png" ContentType="image/png"/>
  <Override PartName="/ppt/media/image33.png" ContentType="image/png"/>
  <Override PartName="/ppt/media/image45.png" ContentType="image/png"/>
  <Override PartName="/ppt/media/image5.png" ContentType="image/png"/>
  <Override PartName="/ppt/media/image38.png" ContentType="image/png"/>
  <Override PartName="/ppt/media/image8.jpeg" ContentType="image/jpeg"/>
  <Override PartName="/ppt/media/image46.png" ContentType="image/png"/>
  <Override PartName="/ppt/media/image47.png" ContentType="image/png"/>
  <Override PartName="/ppt/media/image35.gif" ContentType="image/gif"/>
  <Override PartName="/ppt/media/image28.png" ContentType="image/png"/>
  <Override PartName="/ppt/media/image7.jpeg" ContentType="image/jpeg"/>
  <Override PartName="/ppt/media/image20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dt" idx="3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497d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ftr" idx="3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 type="sldNum" idx="3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CE1C-29FB-4551-8EA5-0AC924CFC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1403-BCC9-4BAA-8AF0-883ABE0CE7D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recommend frie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recommend products (movies, books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CFAA-41C4-4D1E-A254-281764820B8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recommend frie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recommend products (movies, books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31B3-4056-4DEA-9339-9977F98E202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recommend frie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recommend products (movies, books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7C8D-9E0C-4AEA-A465-744A5AEFE4F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recommend frie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recommend products (movies, books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A562-582B-4F32-AB2E-8B6FA9499B0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recommend frie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recommend products (movies, books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AF0B-AE53-4ECD-B164-A1397089119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B137-6141-4FDA-9811-497EB9595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8919-E2C0-4CA7-885C-13974E50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E1448C-294C-4A66-9D51-1E661F81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CBDCC6-A9DF-4A4D-B91C-7D176974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8DC754-585F-4520-9091-0990EC94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713831-0EF9-44A1-925A-C7621351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49A537-9B92-4EF6-ABDE-26A4355D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16C81E-7F31-4E48-A4C4-DEE960C5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851451-085E-4312-A415-E89932CF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21B951-1006-4503-BA12-C588BCBA9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7ED024-A1E0-4739-A5DC-75774B633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B8997F-1F23-4D31-B6E4-8AB3190F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6780-7C8D-478F-BFC6-735D86C3E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1E70E9-465C-40F9-995D-91CD3557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AE6ADE-DC71-44E9-A124-BC9DF0C6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C8C7CD-A601-4E45-814F-AAB69836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7EF4E6-2AC3-4F2F-8841-C0218461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C1271B-03C5-4427-B8E9-4A7025B9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2D503D-57F5-4F04-A260-423624BF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98A1EE-E13D-49F5-AB1F-2E0FE8DB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3084A1-5CB8-4517-BBD7-E1C3790D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16E1E8-F026-4539-BD9F-3310BD77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952643-7A78-4DEF-A380-7C2BBCAA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84B8-F264-4D52-BFDA-061572AD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A6867F-F84F-4FE2-9501-538841DF6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BAD0-3AAF-4A4B-996E-8027DF6F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144BC8-BBD1-4C65-930B-6B884113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0F3897-87FE-42F5-B095-4BE14876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25B4C7-863E-4D44-882C-915A2ADE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88A04C-B61D-4006-A618-6A95C70F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441409-DF8F-404E-90AF-FD772FCE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53BC-74BA-4539-BD8B-67E06115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30D89F-D261-41EE-9C29-521F13C2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CE0DAD-9455-43D6-9CB6-8A4EBB9D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0748FB-5681-4790-BFEE-BB7CEE17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AAFFEA-2E7A-4C46-A73D-9999D08F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44887E-A177-4F4C-B126-86F58578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A49745-9243-49C5-98E3-A6C08EFCD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65695A-F256-4AE1-8427-589229BBC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3512C7-BC66-46C3-B184-6A76EC86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1FBAA0-25C6-4526-BD58-89EE789A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9AEEE0-C8D5-40E4-A8FD-66975281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2E4A-D538-4562-9A85-29487FCD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302EA1-67AA-4AFC-A274-6EC58FFF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6E0F4F-E5F4-4DA8-805C-BD759F0B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71E799-49A4-4782-889F-FB9C98A6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08336B-0FEF-43AF-B419-A0DCF44B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4961B5-06CB-44D5-BC21-BFA86F9A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733B11-AF6A-4B49-B783-57931122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13EAD7-8F51-4667-8450-2A7F8292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9C2847-DA88-4206-B581-81E1C5D2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7B0328-7ECD-40EA-BD00-42315746A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5A16FF-127F-4BA3-987A-DA1841BF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F5F5-34EC-4E2B-B5D4-D054A75B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B8A53C-9820-4284-BFC5-75B4129E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58D2FA-4F61-418A-BAF4-24C8A48B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FD979C-3D89-4C3E-8118-AD676531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4773CD-AD51-4138-B0F5-6D0C27D9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5F1E70-2162-4F9D-8DFB-59D390AC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630B42-9CF1-450D-917C-DFC5643B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74655A-1CAB-4018-9F48-1A731FBF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1157B9-21C3-452C-ABD1-8E901C8E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C3D536-CAE1-40F3-8750-4DB0FA1D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79AE5B-F41D-4FF5-8232-D660ADEA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729F-FA5A-46C9-B0FA-281435CB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8D8E8F-D7F6-47C9-A2B4-45D78816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595A10-6145-4141-BF18-43C1C103D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02BD3E-C4A7-4524-A774-CB3B190E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6A775F-5F32-49B4-BCF6-6E9F1DAB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39EFF4-471E-4B67-8F2F-E5A1F588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5A5BEA-4267-4289-A439-7BC17E1C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75DF73-0C50-43F7-B923-7CA2DEBA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451377-B678-4B87-8F10-678F5F03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4A5C7E-4FE7-42D1-B8F5-8781F6F1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8091E8-2208-47B1-AB86-8A53C208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C96C-9FC5-4D77-B055-2CF167D6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C87D5E-5FC6-4119-92BD-D2049B40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9A575E-BFE7-450D-AA25-246B5603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2666E6-A4FA-495C-A27A-405F76F3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8A7755-0E13-42E4-A570-6EA3502E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347127-8B3C-4AEF-AF35-AC9C52D2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E2B9EE-3700-4C09-8FF8-E68B40BC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C6E56C-877C-44F0-873B-C558BBEA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E2E2F5-AF42-4DD1-84A0-5E259C09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8E9A18-1862-40E7-8709-D4BC4514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F2A6D6-1B89-41A3-A62B-7371D692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5B5E-3368-4410-B271-FB1FAEC5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AC1FEB-370D-4100-B5E6-62B27F20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5400B6-3724-4425-9FF1-5139A95F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38386D-86C5-4D8D-A28C-97C03D13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21008B-3D95-44AC-AAF0-83DFD235B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8FA419-8415-4E5D-878F-2885BF6E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19FE12-B81E-4471-BD5F-9735F7545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B0663E-63EE-4C3A-B24A-F5733464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08B456-BE70-40B4-8B00-30F51465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1CA53A-788A-4B88-8AAE-A1AA2F7F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E0C092-402D-4744-969A-38895658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C28A-54A5-4C6A-A364-FBDD411A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B19244-1194-47C2-B4D9-00AA57B0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DF5236-74A6-4DC0-B415-CA259E4E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70CB6E-416A-4AC2-91DE-8A7CCA4C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B30EBD-E40A-4FF5-BF55-9981716E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6D8F85-FC15-4867-BD3B-B9DB64A3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07F73A-9FF4-49C7-9BEE-802F4E6D1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4DB9FD-7686-41B2-A1E5-2452B8D7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3F8A96-24A1-4536-8824-1118A7B18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0FD51C-2AC8-46E8-A67D-390B3770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5BB69B-1197-4A81-9540-3EEB37C3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751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751"/>
              </a:spcBef>
              <a:buClr>
                <a:srgbClr val="c0504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751"/>
              </a:spcBef>
              <a:buClr>
                <a:srgbClr val="4f81b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9E31-1CE6-4539-B5FC-951B4B2601DF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of 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2"/>
          <a:stretch/>
        </p:blipFill>
        <p:spPr>
          <a:xfrm>
            <a:off x="465120" y="6246720"/>
            <a:ext cx="1544760" cy="44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0" name="Object 9"/>
          <p:cNvGraphicFramePr/>
          <p:nvPr/>
        </p:nvGraphicFramePr>
        <p:xfrm>
          <a:off x="8488440" y="6330960"/>
          <a:ext cx="274680" cy="28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88440" y="6330960"/>
                    <a:ext cx="27468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2" name="Picture 11" descr="C:\Users\leman\Desktop\ibm-logo.jpg"/>
          <p:cNvPicPr/>
          <p:nvPr/>
        </p:nvPicPr>
        <p:blipFill>
          <a:blip r:embed="rId4">
            <a:grayscl/>
          </a:blip>
          <a:stretch/>
        </p:blipFill>
        <p:spPr>
          <a:xfrm>
            <a:off x="469800" y="6345360"/>
            <a:ext cx="525600" cy="24588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751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751"/>
              </a:spcBef>
              <a:buClr>
                <a:srgbClr val="c0504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751"/>
              </a:spcBef>
              <a:buClr>
                <a:srgbClr val="4f81b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CAED-E014-4773-9000-18C577CFC7CE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of 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22440" y="990720"/>
            <a:ext cx="7924680" cy="914400"/>
          </a:xfrm>
          <a:prstGeom prst="pi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851120" y="3230640"/>
            <a:ext cx="651168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751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751"/>
              </a:spcBef>
              <a:buClr>
                <a:srgbClr val="c0504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751"/>
              </a:spcBef>
              <a:buClr>
                <a:srgbClr val="4f81b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8" name="Object 9"/>
          <p:cNvGraphicFramePr/>
          <p:nvPr/>
        </p:nvGraphicFramePr>
        <p:xfrm>
          <a:off x="8488440" y="6330960"/>
          <a:ext cx="274680" cy="28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88440" y="6330960"/>
                    <a:ext cx="27468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" name="Picture 11" descr="C:\Users\leman\Desktop\ibm-logo.jpg"/>
          <p:cNvPicPr/>
          <p:nvPr/>
        </p:nvPicPr>
        <p:blipFill>
          <a:blip r:embed="rId4">
            <a:grayscl/>
          </a:blip>
          <a:stretch/>
        </p:blipFill>
        <p:spPr>
          <a:xfrm>
            <a:off x="469800" y="6345360"/>
            <a:ext cx="525600" cy="2458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751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751"/>
              </a:spcBef>
              <a:buClr>
                <a:srgbClr val="c0504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751"/>
              </a:spcBef>
              <a:buClr>
                <a:srgbClr val="4f81b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8"/>
          </p:nvPr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4FD1-5692-4E78-8216-657CBAD42C93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of 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Object 9"/>
          <p:cNvGraphicFramePr/>
          <p:nvPr/>
        </p:nvGraphicFramePr>
        <p:xfrm>
          <a:off x="8488440" y="6330960"/>
          <a:ext cx="274680" cy="28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88440" y="6330960"/>
                    <a:ext cx="27468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Picture 11" descr="C:\Users\leman\Desktop\ibm-logo.jpg"/>
          <p:cNvPicPr/>
          <p:nvPr/>
        </p:nvPicPr>
        <p:blipFill>
          <a:blip r:embed="rId4">
            <a:grayscl/>
          </a:blip>
          <a:stretch/>
        </p:blipFill>
        <p:spPr>
          <a:xfrm>
            <a:off x="469800" y="6345360"/>
            <a:ext cx="525600" cy="2458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751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751"/>
              </a:spcBef>
              <a:buClr>
                <a:srgbClr val="c0504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751"/>
              </a:spcBef>
              <a:buClr>
                <a:srgbClr val="4f81b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5ADD-5D0E-4816-950A-68066588D7C9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of 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0" name="Object 9"/>
          <p:cNvGraphicFramePr/>
          <p:nvPr/>
        </p:nvGraphicFramePr>
        <p:xfrm>
          <a:off x="8488440" y="6330960"/>
          <a:ext cx="274680" cy="28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88440" y="6330960"/>
                    <a:ext cx="27468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" name="Picture 11" descr="C:\Users\leman\Desktop\ibm-logo.jpg"/>
          <p:cNvPicPr/>
          <p:nvPr/>
        </p:nvPicPr>
        <p:blipFill>
          <a:blip r:embed="rId4">
            <a:grayscl/>
          </a:blip>
          <a:stretch/>
        </p:blipFill>
        <p:spPr>
          <a:xfrm>
            <a:off x="469800" y="6345360"/>
            <a:ext cx="525600" cy="2458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751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751"/>
              </a:spcBef>
              <a:buClr>
                <a:srgbClr val="c0504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751"/>
              </a:spcBef>
              <a:buClr>
                <a:srgbClr val="4f81b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4"/>
          </p:nvPr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66C1-E08C-4F90-954B-36D431B4696C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of 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6" name="Object 9"/>
          <p:cNvGraphicFramePr/>
          <p:nvPr/>
        </p:nvGraphicFramePr>
        <p:xfrm>
          <a:off x="8488440" y="6330960"/>
          <a:ext cx="274680" cy="28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88440" y="6330960"/>
                    <a:ext cx="27468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8" name="Picture 11" descr="C:\Users\leman\Desktop\ibm-logo.jpg"/>
          <p:cNvPicPr/>
          <p:nvPr/>
        </p:nvPicPr>
        <p:blipFill>
          <a:blip r:embed="rId4">
            <a:grayscl/>
          </a:blip>
          <a:stretch/>
        </p:blipFill>
        <p:spPr>
          <a:xfrm>
            <a:off x="469800" y="6345360"/>
            <a:ext cx="525600" cy="2458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751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751"/>
              </a:spcBef>
              <a:buClr>
                <a:srgbClr val="c0504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751"/>
              </a:spcBef>
              <a:buClr>
                <a:srgbClr val="4f81b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7"/>
          </p:nvPr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EFFA-163F-4AB2-8D09-80EAAF0198AB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of 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2" name="Object 9"/>
          <p:cNvGraphicFramePr/>
          <p:nvPr/>
        </p:nvGraphicFramePr>
        <p:xfrm>
          <a:off x="8488440" y="6330960"/>
          <a:ext cx="274680" cy="28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88440" y="6330960"/>
                    <a:ext cx="27468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4" name="Picture 11" descr="C:\Users\leman\Desktop\ibm-logo.jpg"/>
          <p:cNvPicPr/>
          <p:nvPr/>
        </p:nvPicPr>
        <p:blipFill>
          <a:blip r:embed="rId4">
            <a:grayscl/>
          </a:blip>
          <a:stretch/>
        </p:blipFill>
        <p:spPr>
          <a:xfrm>
            <a:off x="469800" y="6345360"/>
            <a:ext cx="525600" cy="24588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751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751"/>
              </a:spcBef>
              <a:buClr>
                <a:srgbClr val="c0504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751"/>
              </a:spcBef>
              <a:buClr>
                <a:srgbClr val="4f81b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0"/>
          </p:nvPr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C926-6A89-4E9C-B8B5-ED0827122629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of 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18" name="Object 9"/>
          <p:cNvGraphicFramePr/>
          <p:nvPr/>
        </p:nvGraphicFramePr>
        <p:xfrm>
          <a:off x="8488440" y="6330960"/>
          <a:ext cx="274680" cy="28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9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88440" y="6330960"/>
                    <a:ext cx="27468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0" name="Picture 11" descr="C:\Users\leman\Desktop\ibm-logo.jpg"/>
          <p:cNvPicPr/>
          <p:nvPr/>
        </p:nvPicPr>
        <p:blipFill>
          <a:blip r:embed="rId4">
            <a:grayscl/>
          </a:blip>
          <a:stretch/>
        </p:blipFill>
        <p:spPr>
          <a:xfrm>
            <a:off x="469800" y="6345360"/>
            <a:ext cx="525600" cy="24588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751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751"/>
              </a:spcBef>
              <a:buClr>
                <a:srgbClr val="c0504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751"/>
              </a:spcBef>
              <a:buClr>
                <a:srgbClr val="4f81b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3"/>
          </p:nvPr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3D4C-D2E6-4D2A-B4EE-3EFF9DD9323C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of 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64" name="Object 9"/>
          <p:cNvGraphicFramePr/>
          <p:nvPr/>
        </p:nvGraphicFramePr>
        <p:xfrm>
          <a:off x="8488440" y="6330960"/>
          <a:ext cx="274680" cy="28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5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88440" y="6330960"/>
                    <a:ext cx="27468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6" name="Picture 11" descr="C:\Users\leman\Desktop\ibm-logo.jpg"/>
          <p:cNvPicPr/>
          <p:nvPr/>
        </p:nvPicPr>
        <p:blipFill>
          <a:blip r:embed="rId4">
            <a:grayscl/>
          </a:blip>
          <a:stretch/>
        </p:blipFill>
        <p:spPr>
          <a:xfrm>
            <a:off x="469800" y="6345360"/>
            <a:ext cx="525600" cy="24588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751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751"/>
              </a:spcBef>
              <a:buClr>
                <a:srgbClr val="c0504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751"/>
              </a:spcBef>
              <a:buClr>
                <a:srgbClr val="4f81b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6"/>
          </p:nvPr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7697-DD38-4C54-A492-78A4855560DA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of 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21.png"/><Relationship Id="rId6" Type="http://schemas.openxmlformats.org/officeDocument/2006/relationships/image" Target="../media/image23.png"/><Relationship Id="rId7" Type="http://schemas.openxmlformats.org/officeDocument/2006/relationships/image" Target="../media/image38.png"/><Relationship Id="rId8" Type="http://schemas.openxmlformats.org/officeDocument/2006/relationships/image" Target="../media/image4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18.jpe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3.png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1.png"/><Relationship Id="rId3" Type="http://schemas.openxmlformats.org/officeDocument/2006/relationships/image" Target="../media/image35.gif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21.png"/><Relationship Id="rId6" Type="http://schemas.openxmlformats.org/officeDocument/2006/relationships/image" Target="../media/image23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6" descr=""/>
          <p:cNvPicPr/>
          <p:nvPr/>
        </p:nvPicPr>
        <p:blipFill>
          <a:blip r:embed="rId1"/>
          <a:stretch/>
        </p:blipFill>
        <p:spPr>
          <a:xfrm>
            <a:off x="0" y="4649760"/>
            <a:ext cx="9144000" cy="222264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49040" y="1149480"/>
            <a:ext cx="730404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  <a:ea typeface="바탕"/>
              </a:rPr>
              <a:t>ValuePick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바탕"/>
              </a:rPr>
              <a:t>: Towards a Value-Oriented Dual-Goal Recommender System</a:t>
            </a: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2031840" y="3234960"/>
            <a:ext cx="627408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Leman Akogl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Christos Falout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Rectangle 10"/>
          <p:cNvSpPr/>
          <p:nvPr/>
        </p:nvSpPr>
        <p:spPr>
          <a:xfrm>
            <a:off x="414360" y="4722840"/>
            <a:ext cx="820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OEDM in conjunction with ICDM 2010                       Sydney, Austral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5" name="Picture 10" descr=""/>
          <p:cNvPicPr/>
          <p:nvPr/>
        </p:nvPicPr>
        <p:blipFill>
          <a:blip r:embed="rId2"/>
          <a:stretch/>
        </p:blipFill>
        <p:spPr>
          <a:xfrm>
            <a:off x="4032360" y="3913200"/>
            <a:ext cx="2151000" cy="55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42472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Book Antiqua"/>
              </a:rPr>
              <a:t>ValuePick</a:t>
            </a:r>
            <a:r>
              <a:rPr b="0" lang="en-US" sz="4000" spc="-1" strike="noStrike">
                <a:solidFill>
                  <a:srgbClr val="1f497d"/>
                </a:solidFill>
                <a:latin typeface="Tahoma"/>
              </a:rPr>
              <a:t> ~ 0-1 Knapsack</a:t>
            </a: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pic>
        <p:nvPicPr>
          <p:cNvPr id="631" name="Picture 2" descr=""/>
          <p:cNvPicPr/>
          <p:nvPr/>
        </p:nvPicPr>
        <p:blipFill>
          <a:blip r:embed="rId1"/>
          <a:stretch/>
        </p:blipFill>
        <p:spPr>
          <a:xfrm>
            <a:off x="417600" y="1623960"/>
            <a:ext cx="5951520" cy="3575160"/>
          </a:xfrm>
          <a:prstGeom prst="rect">
            <a:avLst/>
          </a:prstGeom>
          <a:ln w="0">
            <a:noFill/>
          </a:ln>
        </p:spPr>
      </p:pic>
      <p:sp>
        <p:nvSpPr>
          <p:cNvPr id="632" name="TextBox 5"/>
          <p:cNvSpPr/>
          <p:nvPr/>
        </p:nvSpPr>
        <p:spPr>
          <a:xfrm>
            <a:off x="4376880" y="1058760"/>
            <a:ext cx="1162080" cy="550800"/>
          </a:xfrm>
          <a:prstGeom prst="rect">
            <a:avLst/>
          </a:pr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633" name="Straight Arrow Connector 6"/>
          <p:cNvCxnSpPr>
            <a:stCxn id="632" idx="1"/>
          </p:cNvCxnSpPr>
          <p:nvPr/>
        </p:nvCxnSpPr>
        <p:spPr>
          <a:xfrm flipH="1">
            <a:off x="3931560" y="1334160"/>
            <a:ext cx="445320" cy="586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4" name="TextBox 16"/>
          <p:cNvSpPr/>
          <p:nvPr/>
        </p:nvSpPr>
        <p:spPr>
          <a:xfrm>
            <a:off x="2081160" y="3230640"/>
            <a:ext cx="1798560" cy="1006560"/>
          </a:xfrm>
          <a:prstGeom prst="rect">
            <a:avLst/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Box 28"/>
          <p:cNvSpPr/>
          <p:nvPr/>
        </p:nvSpPr>
        <p:spPr>
          <a:xfrm>
            <a:off x="6745320" y="3975120"/>
            <a:ext cx="1915920" cy="1921320"/>
          </a:xfrm>
          <a:prstGeom prst="rect">
            <a:avLst/>
          </a:pr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maximum weight W allowed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636" name="Straight Arrow Connector 29"/>
          <p:cNvCxnSpPr>
            <a:stCxn id="635" idx="1"/>
          </p:cNvCxnSpPr>
          <p:nvPr/>
        </p:nvCxnSpPr>
        <p:spPr>
          <a:xfrm flipH="1" flipV="1">
            <a:off x="6212880" y="4659120"/>
            <a:ext cx="532440" cy="56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7" name="Rectangle 30"/>
          <p:cNvSpPr/>
          <p:nvPr/>
        </p:nvSpPr>
        <p:spPr>
          <a:xfrm>
            <a:off x="2625840" y="1973160"/>
            <a:ext cx="1646280" cy="587520"/>
          </a:xfrm>
          <a:prstGeom prst="rect">
            <a:avLst/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Rectangle 32"/>
          <p:cNvSpPr/>
          <p:nvPr/>
        </p:nvSpPr>
        <p:spPr>
          <a:xfrm>
            <a:off x="5481720" y="4514760"/>
            <a:ext cx="774720" cy="554040"/>
          </a:xfrm>
          <a:prstGeom prst="rect">
            <a:avLst/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Rectangle 33"/>
          <p:cNvSpPr/>
          <p:nvPr/>
        </p:nvSpPr>
        <p:spPr>
          <a:xfrm>
            <a:off x="3035160" y="4314960"/>
            <a:ext cx="1511280" cy="871560"/>
          </a:xfrm>
          <a:prstGeom prst="rect">
            <a:avLst/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Box 34"/>
          <p:cNvSpPr/>
          <p:nvPr/>
        </p:nvSpPr>
        <p:spPr>
          <a:xfrm>
            <a:off x="2730600" y="5616720"/>
            <a:ext cx="2950920" cy="1007640"/>
          </a:xfrm>
          <a:prstGeom prst="rect">
            <a:avLst/>
          </a:pr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weight of item i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641" name="Straight Arrow Connector 35"/>
          <p:cNvCxnSpPr>
            <a:endCxn id="639" idx="2"/>
          </p:cNvCxnSpPr>
          <p:nvPr/>
        </p:nvCxnSpPr>
        <p:spPr>
          <a:xfrm flipV="1">
            <a:off x="3512160" y="5185800"/>
            <a:ext cx="278280" cy="470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2" name="Horizontal Scroll 39"/>
          <p:cNvSpPr/>
          <p:nvPr/>
        </p:nvSpPr>
        <p:spPr>
          <a:xfrm>
            <a:off x="3970440" y="1247760"/>
            <a:ext cx="4701960" cy="3070080"/>
          </a:xfrm>
          <a:prstGeom prst="horizontalScroll">
            <a:avLst>
              <a:gd name="adj" fmla="val 12500"/>
            </a:avLst>
          </a:prstGeom>
          <a:solidFill>
            <a:srgbClr val="007635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e use CPLEX to solve our integer programming optimization problem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Slide Number Placeholder 15"/>
          <p:cNvSpPr/>
          <p:nvPr/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6E54-B1C4-446A-B04D-BA47857A06D1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of 1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7"/>
          <p:cNvSpPr/>
          <p:nvPr/>
        </p:nvSpPr>
        <p:spPr>
          <a:xfrm rot="5400000">
            <a:off x="8184600" y="624960"/>
            <a:ext cx="14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497d"/>
                </a:solidFill>
                <a:latin typeface="Tahoma"/>
              </a:rPr>
              <a:t>Pros and Cons of </a:t>
            </a:r>
            <a:r>
              <a:rPr b="1" lang="en-US" sz="4400" spc="-1" strike="noStrike">
                <a:solidFill>
                  <a:srgbClr val="1f497d"/>
                </a:solidFill>
                <a:latin typeface="Book Antiqua"/>
              </a:rPr>
              <a:t>ValuePick</a:t>
            </a: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798480" y="1242720"/>
            <a:ext cx="808344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Cons: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marketing, it is hard to predict the effect of an intervention in the marketing scheme, i.e., </a:t>
            </a:r>
            <a:r>
              <a:rPr b="0" lang="en-US" sz="2800" spc="-1" strike="noStrike">
                <a:solidFill>
                  <a:srgbClr val="00b050"/>
                </a:solidFill>
                <a:latin typeface="Tahoma"/>
              </a:rPr>
              <a:t>not clear how users will respond to ‘adjustments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Pro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ahoma"/>
              </a:rPr>
              <a:t>Tolerance </a:t>
            </a:r>
            <a:r>
              <a:rPr b="0" lang="el-GR" sz="2800" spc="-1" strike="noStrike">
                <a:solidFill>
                  <a:srgbClr val="00b050"/>
                </a:solidFill>
                <a:latin typeface="Tahoma"/>
              </a:rPr>
              <a:t>ζ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an flexibly (and even dynamically) control the `level-of-adjustment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rate same item differently at different times, i.e., </a:t>
            </a:r>
            <a:r>
              <a:rPr b="0" lang="en-US" sz="2800" spc="-1" strike="noStrike">
                <a:solidFill>
                  <a:srgbClr val="00b050"/>
                </a:solidFill>
                <a:latin typeface="Tahoma"/>
              </a:rPr>
              <a:t>users have natural variability in their deci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7" name="Picture 143" descr="sad2"/>
          <p:cNvPicPr/>
          <p:nvPr/>
        </p:nvPicPr>
        <p:blipFill>
          <a:blip r:embed="rId1"/>
          <a:stretch/>
        </p:blipFill>
        <p:spPr>
          <a:xfrm>
            <a:off x="345960" y="1827360"/>
            <a:ext cx="731880" cy="73152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42" descr="happy"/>
          <p:cNvPicPr/>
          <p:nvPr/>
        </p:nvPicPr>
        <p:blipFill>
          <a:blip r:embed="rId2"/>
          <a:stretch/>
        </p:blipFill>
        <p:spPr>
          <a:xfrm>
            <a:off x="287280" y="420516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649" name="Slide Number Placeholder 8"/>
          <p:cNvSpPr/>
          <p:nvPr/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6464-900D-4184-8A35-F1669C443749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of 1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497d"/>
                </a:solidFill>
                <a:latin typeface="Tahoma"/>
              </a:rPr>
              <a:t>Experimental Setup I</a:t>
            </a: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wo real network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ahoma"/>
              </a:rPr>
              <a:t>Netscience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– collaboration networ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ahoma"/>
              </a:rPr>
              <a:t>DBLP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– co-authorship networ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our recommendation schemes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c0504d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o Gain Optimization  (</a:t>
            </a:r>
            <a:r>
              <a:rPr b="0" lang="el-GR" sz="2600" spc="-1" strike="noStrike">
                <a:solidFill>
                  <a:srgbClr val="00b050"/>
                </a:solidFill>
                <a:latin typeface="Tahoma"/>
              </a:rPr>
              <a:t>ζ</a:t>
            </a:r>
            <a:r>
              <a:rPr b="0" lang="en-US" sz="2600" spc="-1" strike="noStrike">
                <a:solidFill>
                  <a:srgbClr val="00b050"/>
                </a:solidFill>
                <a:latin typeface="Tahoma"/>
              </a:rPr>
              <a:t> = 0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c0504d"/>
              </a:buClr>
              <a:buSzPct val="60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ValuePick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l-GR" sz="2600" spc="-1" strike="noStrike">
                <a:solidFill>
                  <a:srgbClr val="00b050"/>
                </a:solidFill>
                <a:latin typeface="Tahoma"/>
              </a:rPr>
              <a:t>ζ</a:t>
            </a:r>
            <a:r>
              <a:rPr b="0" lang="en-US" sz="2600" spc="-1" strike="noStrike">
                <a:solidFill>
                  <a:srgbClr val="00b050"/>
                </a:solidFill>
                <a:latin typeface="Tahoma"/>
              </a:rPr>
              <a:t> = 0.01, </a:t>
            </a:r>
            <a:r>
              <a:rPr b="0" lang="el-GR" sz="2600" spc="-1" strike="noStrike">
                <a:solidFill>
                  <a:srgbClr val="00b050"/>
                </a:solidFill>
                <a:latin typeface="Tahoma"/>
              </a:rPr>
              <a:t>ζ</a:t>
            </a:r>
            <a:r>
              <a:rPr b="0" lang="en-US" sz="2600" spc="-1" strike="noStrike">
                <a:solidFill>
                  <a:srgbClr val="00b050"/>
                </a:solidFill>
                <a:latin typeface="Tahoma"/>
              </a:rPr>
              <a:t> = 0.02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c0504d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ax Gain Optimization (</a:t>
            </a:r>
            <a:r>
              <a:rPr b="0" lang="el-GR" sz="2600" spc="-1" strike="noStrike">
                <a:solidFill>
                  <a:srgbClr val="00b050"/>
                </a:solidFill>
                <a:latin typeface="Tahoma"/>
              </a:rPr>
              <a:t>ζ</a:t>
            </a:r>
            <a:r>
              <a:rPr b="0" lang="en-US" sz="2600" spc="-1" strike="noStrike">
                <a:solidFill>
                  <a:srgbClr val="00b050"/>
                </a:solidFill>
                <a:latin typeface="Tahoma"/>
              </a:rPr>
              <a:t> = 1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c0504d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lue” is cent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Slide Number Placeholder 4"/>
          <p:cNvSpPr/>
          <p:nvPr/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2148-EFB1-432F-B88F-882032B0E490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of 1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497d"/>
                </a:solidFill>
                <a:latin typeface="Tahoma"/>
              </a:rPr>
              <a:t>Experimental Setup II</a:t>
            </a: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17520" y="1761840"/>
            <a:ext cx="8447040" cy="359892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n a recommendation scheme </a:t>
            </a:r>
            <a:r>
              <a:rPr b="0" lang="en-US" sz="4400" spc="-1" strike="noStrike">
                <a:solidFill>
                  <a:srgbClr val="0000ff"/>
                </a:solidFill>
                <a:latin typeface="CMMI6"/>
                <a:ea typeface="CMMI6"/>
              </a:rPr>
              <a:t>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246960" indent="-246960">
              <a:spcBef>
                <a:spcPts val="799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 </a:t>
            </a:r>
            <a:r>
              <a:rPr b="0" lang="en-US" sz="3200" spc="-1" strike="noStrike">
                <a:solidFill>
                  <a:srgbClr val="0000ff"/>
                </a:solidFill>
                <a:latin typeface="CMMI6"/>
                <a:ea typeface="CMMI6"/>
              </a:rPr>
              <a:t>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82040" indent="-234000">
              <a:spcBef>
                <a:spcPts val="799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node </a:t>
            </a:r>
            <a:r>
              <a:rPr b="0" lang="en-US" sz="3200" spc="-1" strike="noStrike">
                <a:solidFill>
                  <a:srgbClr val="0000ff"/>
                </a:solidFill>
                <a:latin typeface="CMMI6"/>
                <a:ea typeface="CMMI6"/>
              </a:rPr>
              <a:t>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735840" indent="-252720">
              <a:spcBef>
                <a:spcPts val="799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a set </a:t>
            </a:r>
            <a:r>
              <a:rPr b="0" lang="en-US" sz="2800" spc="-1" strike="noStrike">
                <a:solidFill>
                  <a:srgbClr val="0000ff"/>
                </a:solidFill>
                <a:latin typeface="CMBSY10"/>
                <a:ea typeface="CMBSY10"/>
              </a:rPr>
              <a:t>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recommendations to node </a:t>
            </a:r>
            <a:r>
              <a:rPr b="0" lang="en-US" sz="2800" spc="-1" strike="noStrike">
                <a:solidFill>
                  <a:srgbClr val="0000ff"/>
                </a:solidFill>
                <a:latin typeface="CMMI6"/>
                <a:ea typeface="CMMI6"/>
              </a:rPr>
              <a:t>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ing </a:t>
            </a:r>
            <a:r>
              <a:rPr b="0" lang="en-US" sz="3200" spc="-1" strike="noStrike">
                <a:solidFill>
                  <a:srgbClr val="0000ff"/>
                </a:solidFill>
                <a:latin typeface="CMMI6"/>
                <a:ea typeface="CMMI6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735840" indent="-252720">
              <a:spcBef>
                <a:spcPts val="60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</a:t>
            </a:r>
            <a:r>
              <a:rPr b="0" lang="en-US" sz="2800" spc="-1" strike="noStrike">
                <a:solidFill>
                  <a:srgbClr val="0000ff"/>
                </a:solidFill>
                <a:latin typeface="CMMI6"/>
                <a:ea typeface="CMMI6"/>
              </a:rPr>
              <a:t>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to node </a:t>
            </a:r>
            <a:r>
              <a:rPr b="0" lang="en-US" sz="2800" spc="-1" strike="noStrike">
                <a:solidFill>
                  <a:srgbClr val="0000ff"/>
                </a:solidFill>
                <a:latin typeface="CMMI6"/>
                <a:ea typeface="CMMI6"/>
              </a:rPr>
              <a:t>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ϵ</a:t>
            </a:r>
            <a:r>
              <a:rPr b="0" lang="en-US" sz="2800" spc="-1" strike="noStrike">
                <a:solidFill>
                  <a:srgbClr val="0000ff"/>
                </a:solidFill>
                <a:latin typeface="CMBSY10"/>
                <a:ea typeface="CMBSY10"/>
              </a:rPr>
              <a:t>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prob.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proximity(</a:t>
            </a:r>
            <a:r>
              <a:rPr b="0" lang="en-US" sz="2400" spc="-1" strike="noStrike">
                <a:solidFill>
                  <a:srgbClr val="0000ff"/>
                </a:solidFill>
                <a:latin typeface="CMMI6"/>
                <a:ea typeface="CMMI6"/>
              </a:rPr>
              <a:t>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CMMI6"/>
                <a:ea typeface="CMMI6"/>
              </a:rPr>
              <a:t>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82040" indent="-2340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compute proximity and centrality sc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735840" indent="-252720">
              <a:spcBef>
                <a:spcPts val="55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82040" indent="-23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6960" indent="-246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TextBox 4"/>
          <p:cNvSpPr/>
          <p:nvPr/>
        </p:nvSpPr>
        <p:spPr>
          <a:xfrm>
            <a:off x="237600" y="11066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imulation step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609840" y="5572080"/>
            <a:ext cx="35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We use </a:t>
            </a:r>
            <a:r>
              <a:rPr b="0" lang="en-US" sz="2800" spc="-1" strike="noStrike">
                <a:solidFill>
                  <a:srgbClr val="0000ff"/>
                </a:solidFill>
                <a:latin typeface="CMMI6"/>
                <a:ea typeface="CMMI6"/>
              </a:rPr>
              <a:t>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=5 and </a:t>
            </a:r>
            <a:r>
              <a:rPr b="0" lang="en-US" sz="2800" spc="-1" strike="noStrike">
                <a:solidFill>
                  <a:srgbClr val="0000ff"/>
                </a:solidFill>
                <a:latin typeface="CMMI6"/>
                <a:ea typeface="CMMI6"/>
              </a:rPr>
              <a:t>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=3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Slide Number Placeholder 6"/>
          <p:cNvSpPr/>
          <p:nvPr/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1493-2878-4214-8FB0-792372DC751F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of 1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497d"/>
                </a:solidFill>
                <a:latin typeface="Tahoma"/>
              </a:rPr>
              <a:t>Comparison of schemes</a:t>
            </a: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pic>
        <p:nvPicPr>
          <p:cNvPr id="659" name="Picture 2" descr=""/>
          <p:cNvPicPr/>
          <p:nvPr/>
        </p:nvPicPr>
        <p:blipFill>
          <a:blip r:embed="rId1"/>
          <a:stretch/>
        </p:blipFill>
        <p:spPr>
          <a:xfrm>
            <a:off x="279360" y="1219320"/>
            <a:ext cx="8307360" cy="3705120"/>
          </a:xfrm>
          <a:prstGeom prst="rect">
            <a:avLst/>
          </a:prstGeom>
          <a:ln w="0">
            <a:noFill/>
          </a:ln>
        </p:spPr>
      </p:pic>
      <p:sp>
        <p:nvSpPr>
          <p:cNvPr id="660" name="TextBox 6"/>
          <p:cNvSpPr/>
          <p:nvPr/>
        </p:nvSpPr>
        <p:spPr>
          <a:xfrm>
            <a:off x="720720" y="5113440"/>
            <a:ext cx="7854840" cy="1191240"/>
          </a:xfrm>
          <a:prstGeom prst="rect">
            <a:avLst/>
          </a:prstGeom>
          <a:solidFill>
            <a:srgbClr val="ffc00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ValueP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vides a balance between user satisfaction (high E), and vendor gain (small diameter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Rectangle 7"/>
          <p:cNvSpPr/>
          <p:nvPr/>
        </p:nvSpPr>
        <p:spPr>
          <a:xfrm rot="5400000">
            <a:off x="7973640" y="828360"/>
            <a:ext cx="194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ahoma"/>
              </a:rPr>
              <a:t>EXPERI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Slide Number Placeholder 8"/>
          <p:cNvSpPr/>
          <p:nvPr/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01B5-C841-4D73-8427-51FBA45C081A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of 1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497d"/>
                </a:solidFill>
                <a:latin typeface="Tahoma"/>
              </a:rPr>
              <a:t>Recommend by          heuristic   </a:t>
            </a: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664" name="TextBox 8"/>
          <p:cNvSpPr/>
          <p:nvPr/>
        </p:nvSpPr>
        <p:spPr>
          <a:xfrm>
            <a:off x="1114560" y="4910040"/>
            <a:ext cx="7048440" cy="825480"/>
          </a:xfrm>
          <a:prstGeom prst="rect">
            <a:avLst/>
          </a:prstGeom>
          <a:solidFill>
            <a:srgbClr val="ffc00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perturbation heuristics do not balance user satisfaction and vendor gain properl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5" name="Picture 2" descr=""/>
          <p:cNvPicPr/>
          <p:nvPr/>
        </p:nvPicPr>
        <p:blipFill>
          <a:blip r:embed="rId1"/>
          <a:stretch/>
        </p:blipFill>
        <p:spPr>
          <a:xfrm>
            <a:off x="471600" y="1212840"/>
            <a:ext cx="7985160" cy="362916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3" descr=""/>
          <p:cNvPicPr/>
          <p:nvPr/>
        </p:nvPicPr>
        <p:blipFill>
          <a:blip r:embed="rId2"/>
          <a:stretch/>
        </p:blipFill>
        <p:spPr>
          <a:xfrm>
            <a:off x="4295880" y="271440"/>
            <a:ext cx="1419120" cy="797040"/>
          </a:xfrm>
          <a:prstGeom prst="rect">
            <a:avLst/>
          </a:prstGeom>
          <a:ln w="0">
            <a:noFill/>
          </a:ln>
        </p:spPr>
      </p:pic>
      <p:sp>
        <p:nvSpPr>
          <p:cNvPr id="667" name="Rectangle 7"/>
          <p:cNvSpPr/>
          <p:nvPr/>
        </p:nvSpPr>
        <p:spPr>
          <a:xfrm rot="5400000">
            <a:off x="7973640" y="828360"/>
            <a:ext cx="194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ahoma"/>
              </a:rPr>
              <a:t>EXPERI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Slide Number Placeholder 14"/>
          <p:cNvSpPr/>
          <p:nvPr/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3EC4-8771-41E7-9058-6982BB6D3BC2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of 1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497d"/>
                </a:solidFill>
                <a:latin typeface="Tahoma"/>
              </a:rPr>
              <a:t>Computational complexity</a:t>
            </a: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670" name="Rectangle 7"/>
          <p:cNvSpPr/>
          <p:nvPr/>
        </p:nvSpPr>
        <p:spPr>
          <a:xfrm rot="5400000">
            <a:off x="7973640" y="828360"/>
            <a:ext cx="194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ahoma"/>
              </a:rPr>
              <a:t>EXPERI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Slide Number Placeholder 8"/>
          <p:cNvSpPr/>
          <p:nvPr/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0E3C-FFEE-4417-9CA9-8867FEBB4D99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of 1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2" name="Picture 7" descr=""/>
          <p:cNvPicPr/>
          <p:nvPr/>
        </p:nvPicPr>
        <p:blipFill>
          <a:blip r:embed="rId1"/>
          <a:stretch/>
        </p:blipFill>
        <p:spPr>
          <a:xfrm>
            <a:off x="476280" y="1643040"/>
            <a:ext cx="4471920" cy="3573360"/>
          </a:xfrm>
          <a:prstGeom prst="rect">
            <a:avLst/>
          </a:prstGeom>
          <a:ln w="0">
            <a:noFill/>
          </a:ln>
        </p:spPr>
      </p:pic>
      <p:sp>
        <p:nvSpPr>
          <p:cNvPr id="673" name="TextBox 7"/>
          <p:cNvSpPr/>
          <p:nvPr/>
        </p:nvSpPr>
        <p:spPr>
          <a:xfrm>
            <a:off x="5130720" y="1492200"/>
            <a:ext cx="3589560" cy="3691080"/>
          </a:xfrm>
          <a:prstGeom prst="rect">
            <a:avLst/>
          </a:prstGeom>
          <a:solidFill>
            <a:srgbClr val="ffc00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ing </a:t>
            </a:r>
            <a:r>
              <a:rPr b="1" lang="en-US" sz="2400" spc="-1" strike="noStrike">
                <a:solidFill>
                  <a:srgbClr val="000000"/>
                </a:solidFill>
                <a:latin typeface="CMMI8"/>
                <a:ea typeface="CMMI8"/>
              </a:rPr>
              <a:t>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luePick recommendations to a given node invol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finding PPR scor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O(#edg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- solving ValuePick  optimization w/ C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1/10 sec. to solve  among top 1K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497d"/>
                </a:solidFill>
                <a:latin typeface="Tahoma"/>
              </a:rPr>
              <a:t>Conclusions</a:t>
            </a: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57200" y="971280"/>
            <a:ext cx="8229600" cy="51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Tahoma"/>
              </a:rPr>
              <a:t>Problem formulation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 the “value” of recommendations into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Tahoma"/>
              </a:rPr>
              <a:t>Design of </a:t>
            </a:r>
            <a:r>
              <a:rPr b="1" lang="en-US" sz="3200" spc="-1" strike="noStrike">
                <a:solidFill>
                  <a:srgbClr val="00b050"/>
                </a:solidFill>
                <a:latin typeface="Book Antiqua"/>
              </a:rPr>
              <a:t>ValuePick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parsimoni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ingle parameter 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flexi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djust 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ζ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each user dynamical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gener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use any “value”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Tahoma"/>
              </a:rPr>
              <a:t>Performance stud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s to show proper trade of user acceptance in exchange for higher 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PLEX with fast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Slide Number Placeholder 4"/>
          <p:cNvSpPr/>
          <p:nvPr/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DF1B-33AB-454F-90DA-CF98D5F1AE62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of 1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19"/>
          <p:cNvGrpSpPr/>
          <p:nvPr/>
        </p:nvGrpSpPr>
        <p:grpSpPr>
          <a:xfrm>
            <a:off x="1976400" y="2745360"/>
            <a:ext cx="5473800" cy="3411000"/>
            <a:chOff x="1976400" y="2745360"/>
            <a:chExt cx="5473800" cy="3411000"/>
          </a:xfrm>
        </p:grpSpPr>
        <p:pic>
          <p:nvPicPr>
            <p:cNvPr id="678" name="Picture 16" descr=""/>
            <p:cNvPicPr/>
            <p:nvPr/>
          </p:nvPicPr>
          <p:blipFill>
            <a:blip r:embed="rId1"/>
            <a:stretch/>
          </p:blipFill>
          <p:spPr>
            <a:xfrm>
              <a:off x="3174480" y="3092400"/>
              <a:ext cx="3067200" cy="30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9" name="Picture 19" descr=""/>
            <p:cNvPicPr/>
            <p:nvPr/>
          </p:nvPicPr>
          <p:blipFill>
            <a:blip r:embed="rId2"/>
            <a:stretch/>
          </p:blipFill>
          <p:spPr>
            <a:xfrm>
              <a:off x="1976400" y="3442680"/>
              <a:ext cx="1606680" cy="18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18" descr=""/>
            <p:cNvPicPr/>
            <p:nvPr/>
          </p:nvPicPr>
          <p:blipFill>
            <a:blip r:embed="rId3"/>
            <a:stretch/>
          </p:blipFill>
          <p:spPr>
            <a:xfrm>
              <a:off x="5843520" y="2859120"/>
              <a:ext cx="1606680" cy="18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5" descr=""/>
            <p:cNvPicPr/>
            <p:nvPr/>
          </p:nvPicPr>
          <p:blipFill>
            <a:blip r:embed="rId4"/>
            <a:stretch/>
          </p:blipFill>
          <p:spPr>
            <a:xfrm rot="21077400">
              <a:off x="2229840" y="3093480"/>
              <a:ext cx="4617720" cy="22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2" name="Group 19"/>
          <p:cNvGrpSpPr/>
          <p:nvPr/>
        </p:nvGrpSpPr>
        <p:grpSpPr>
          <a:xfrm>
            <a:off x="1789200" y="3786120"/>
            <a:ext cx="5997600" cy="1754640"/>
            <a:chOff x="1789200" y="3786120"/>
            <a:chExt cx="5997600" cy="1754640"/>
          </a:xfrm>
        </p:grpSpPr>
        <p:sp>
          <p:nvSpPr>
            <p:cNvPr id="683" name="Text Box 9"/>
            <p:cNvSpPr/>
            <p:nvPr/>
          </p:nvSpPr>
          <p:spPr>
            <a:xfrm>
              <a:off x="1789200" y="4370400"/>
              <a:ext cx="2133720" cy="11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User  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4" name="Text Box 9"/>
            <p:cNvSpPr/>
            <p:nvPr/>
          </p:nvSpPr>
          <p:spPr>
            <a:xfrm>
              <a:off x="5925960" y="3786120"/>
              <a:ext cx="186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Vendor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685" name="Picture 2" descr=""/>
            <p:cNvPicPr/>
            <p:nvPr/>
          </p:nvPicPr>
          <p:blipFill>
            <a:blip r:embed="rId5"/>
            <a:stretch/>
          </p:blipFill>
          <p:spPr>
            <a:xfrm>
              <a:off x="6518520" y="4270320"/>
              <a:ext cx="290520" cy="395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6" name="Picture 5" descr=""/>
          <p:cNvPicPr/>
          <p:nvPr/>
        </p:nvPicPr>
        <p:blipFill>
          <a:blip r:embed="rId6"/>
          <a:stretch/>
        </p:blipFill>
        <p:spPr>
          <a:xfrm>
            <a:off x="2570040" y="4861080"/>
            <a:ext cx="392400" cy="353880"/>
          </a:xfrm>
          <a:prstGeom prst="rect">
            <a:avLst/>
          </a:prstGeom>
          <a:ln w="0">
            <a:noFill/>
          </a:ln>
        </p:spPr>
      </p:pic>
      <p:sp>
        <p:nvSpPr>
          <p:cNvPr id="687" name="Rectangle 28"/>
          <p:cNvSpPr/>
          <p:nvPr/>
        </p:nvSpPr>
        <p:spPr>
          <a:xfrm>
            <a:off x="7724520" y="2259000"/>
            <a:ext cx="3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b050"/>
                </a:solidFill>
                <a:latin typeface="Tahoma"/>
              </a:rPr>
              <a:t>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Right Brace 29"/>
          <p:cNvSpPr/>
          <p:nvPr/>
        </p:nvSpPr>
        <p:spPr>
          <a:xfrm>
            <a:off x="7199280" y="2233440"/>
            <a:ext cx="501840" cy="644760"/>
          </a:xfrm>
          <a:custGeom>
            <a:avLst/>
            <a:gdLst>
              <a:gd name="textAreaLeft" fmla="*/ 0 w 501840"/>
              <a:gd name="textAreaRight" fmla="*/ 181080 w 501840"/>
              <a:gd name="textAreaTop" fmla="*/ 12960 h 644760"/>
              <a:gd name="textAreaBottom" fmla="*/ 631800 h 64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99"/>
                  <a:pt x="10800" y="1397"/>
                </a:cubicBezTo>
                <a:lnTo>
                  <a:pt x="10800" y="9403"/>
                </a:lnTo>
                <a:cubicBezTo>
                  <a:pt x="10800" y="10102"/>
                  <a:pt x="16200" y="10800"/>
                  <a:pt x="21600" y="10800"/>
                </a:cubicBezTo>
                <a:cubicBezTo>
                  <a:pt x="16200" y="10800"/>
                  <a:pt x="10800" y="11499"/>
                  <a:pt x="10800" y="12197"/>
                </a:cubicBezTo>
                <a:lnTo>
                  <a:pt x="10800" y="20203"/>
                </a:lnTo>
                <a:cubicBezTo>
                  <a:pt x="10800" y="20902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9" name="Picture 15" descr=""/>
          <p:cNvPicPr/>
          <p:nvPr/>
        </p:nvPicPr>
        <p:blipFill>
          <a:blip r:embed="rId7"/>
          <a:stretch/>
        </p:blipFill>
        <p:spPr>
          <a:xfrm rot="20065800">
            <a:off x="2315880" y="3109680"/>
            <a:ext cx="4616280" cy="230040"/>
          </a:xfrm>
          <a:prstGeom prst="rect">
            <a:avLst/>
          </a:prstGeom>
          <a:ln w="0">
            <a:noFill/>
          </a:ln>
        </p:spPr>
      </p:pic>
      <p:cxnSp>
        <p:nvCxnSpPr>
          <p:cNvPr id="690" name="Curved Connector 45"/>
          <p:cNvCxnSpPr/>
          <p:nvPr/>
        </p:nvCxnSpPr>
        <p:spPr>
          <a:xfrm rot="10800000">
            <a:off x="2256840" y="3556800"/>
            <a:ext cx="284400" cy="664200"/>
          </a:xfrm>
          <a:prstGeom prst="curvedConnector5">
            <a:avLst>
              <a:gd name="adj1" fmla="val 189860"/>
              <a:gd name="adj2" fmla="val 50000"/>
              <a:gd name="adj3" fmla="val 189860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91" name="Curved Connector 51"/>
          <p:cNvCxnSpPr/>
          <p:nvPr/>
        </p:nvCxnSpPr>
        <p:spPr>
          <a:xfrm flipH="1" flipV="1">
            <a:off x="6706800" y="2228040"/>
            <a:ext cx="115200" cy="631080"/>
          </a:xfrm>
          <a:prstGeom prst="curvedConnector5">
            <a:avLst>
              <a:gd name="adj1" fmla="val -297178"/>
              <a:gd name="adj2" fmla="val 50000"/>
              <a:gd name="adj3" fmla="val -297178"/>
            </a:avLst>
          </a:prstGeom>
          <a:ln w="38160">
            <a:solidFill>
              <a:srgbClr val="ff0000"/>
            </a:solidFill>
            <a:miter/>
            <a:headEnd len="med" type="arrow" w="med"/>
          </a:ln>
        </p:spPr>
      </p:cxnSp>
      <p:sp>
        <p:nvSpPr>
          <p:cNvPr id="692" name=""/>
          <p:cNvSpPr txBox="1"/>
          <p:nvPr/>
        </p:nvSpPr>
        <p:spPr>
          <a:xfrm>
            <a:off x="681120" y="0"/>
            <a:ext cx="7183440" cy="23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88080" indent="-290520" algn="ctr">
              <a:lnSpc>
                <a:spcPct val="83000"/>
              </a:lnSpc>
              <a:spcBef>
                <a:spcPts val="9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88080" indent="-290520" algn="ctr">
              <a:lnSpc>
                <a:spcPct val="83000"/>
              </a:lnSpc>
              <a:spcBef>
                <a:spcPts val="9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88080" indent="-290520" algn="ctr">
              <a:lnSpc>
                <a:spcPct val="83000"/>
              </a:lnSpc>
              <a:spcBef>
                <a:spcPts val="9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ahoma"/>
              </a:rPr>
              <a:t>www.cs.cmu.edu/~lakoglu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88080" indent="-290520" algn="ctr">
              <a:lnSpc>
                <a:spcPct val="83000"/>
              </a:lnSpc>
              <a:spcBef>
                <a:spcPts val="9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ahoma"/>
              </a:rPr>
              <a:t>lakoglu@cs.cmu.edu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88080" indent="-290520">
              <a:spcBef>
                <a:spcPts val="90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3" name="Picture 2" descr=""/>
          <p:cNvPicPr/>
          <p:nvPr/>
        </p:nvPicPr>
        <p:blipFill>
          <a:blip r:embed="rId8"/>
          <a:stretch/>
        </p:blipFill>
        <p:spPr>
          <a:xfrm>
            <a:off x="4842000" y="4795920"/>
            <a:ext cx="963360" cy="830160"/>
          </a:xfrm>
          <a:prstGeom prst="rect">
            <a:avLst/>
          </a:prstGeom>
          <a:ln w="0">
            <a:noFill/>
          </a:ln>
        </p:spPr>
      </p:pic>
      <p:sp>
        <p:nvSpPr>
          <p:cNvPr id="694" name="Slide Number Placeholder 17"/>
          <p:cNvSpPr/>
          <p:nvPr/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7A39-5924-4DD2-9F26-1A3456ED474F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of 1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58920" y="182520"/>
            <a:ext cx="906912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ahoma"/>
              </a:rPr>
              <a:t>Recommender Systems</a:t>
            </a: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457200" y="5348160"/>
            <a:ext cx="836784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8" name="Picture 3" descr=""/>
          <p:cNvPicPr/>
          <p:nvPr/>
        </p:nvPicPr>
        <p:blipFill>
          <a:blip r:embed="rId1"/>
          <a:stretch/>
        </p:blipFill>
        <p:spPr>
          <a:xfrm>
            <a:off x="196920" y="1143000"/>
            <a:ext cx="3849480" cy="37101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" descr=""/>
          <p:cNvPicPr/>
          <p:nvPr/>
        </p:nvPicPr>
        <p:blipFill>
          <a:blip r:embed="rId2"/>
          <a:stretch/>
        </p:blipFill>
        <p:spPr>
          <a:xfrm>
            <a:off x="4689360" y="3703680"/>
            <a:ext cx="4179960" cy="1913040"/>
          </a:xfrm>
          <a:prstGeom prst="rect">
            <a:avLst/>
          </a:prstGeom>
          <a:ln w="0">
            <a:noFill/>
          </a:ln>
        </p:spPr>
      </p:pic>
      <p:grpSp>
        <p:nvGrpSpPr>
          <p:cNvPr id="470" name="Group 64"/>
          <p:cNvGrpSpPr/>
          <p:nvPr/>
        </p:nvGrpSpPr>
        <p:grpSpPr>
          <a:xfrm>
            <a:off x="5207040" y="1249200"/>
            <a:ext cx="1797120" cy="1916280"/>
            <a:chOff x="5207040" y="1249200"/>
            <a:chExt cx="1797120" cy="1916280"/>
          </a:xfrm>
        </p:grpSpPr>
        <p:pic>
          <p:nvPicPr>
            <p:cNvPr id="471" name="Picture 2" descr="C:\Documents and Settings\Samaneh\Desktop\images1.jpg"/>
            <p:cNvPicPr/>
            <p:nvPr/>
          </p:nvPicPr>
          <p:blipFill>
            <a:blip r:embed="rId3"/>
            <a:stretch/>
          </p:blipFill>
          <p:spPr>
            <a:xfrm>
              <a:off x="5812920" y="1975320"/>
              <a:ext cx="523080" cy="50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3" descr="C:\Documents and Settings\Samaneh\Desktop\2.jpg"/>
            <p:cNvPicPr/>
            <p:nvPr/>
          </p:nvPicPr>
          <p:blipFill>
            <a:blip r:embed="rId4"/>
            <a:stretch/>
          </p:blipFill>
          <p:spPr>
            <a:xfrm>
              <a:off x="5207400" y="1359720"/>
              <a:ext cx="568800" cy="7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Picture 6" descr="C:\Documents and Settings\Samaneh\Desktop\5.jpg"/>
            <p:cNvPicPr/>
            <p:nvPr/>
          </p:nvPicPr>
          <p:blipFill>
            <a:blip r:embed="rId5"/>
            <a:stretch/>
          </p:blipFill>
          <p:spPr>
            <a:xfrm>
              <a:off x="5207040" y="2280600"/>
              <a:ext cx="416160" cy="52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Picture 7" descr="C:\Documents and Settings\Samaneh\Desktop\6.jpg"/>
            <p:cNvPicPr/>
            <p:nvPr/>
          </p:nvPicPr>
          <p:blipFill>
            <a:blip r:embed="rId6"/>
            <a:stretch/>
          </p:blipFill>
          <p:spPr>
            <a:xfrm>
              <a:off x="6534720" y="2324160"/>
              <a:ext cx="294480" cy="49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Picture 12" descr="C:\Documents and Settings\Samaneh\Desktop\11.jpg"/>
            <p:cNvPicPr/>
            <p:nvPr/>
          </p:nvPicPr>
          <p:blipFill>
            <a:blip r:embed="rId7"/>
            <a:stretch/>
          </p:blipFill>
          <p:spPr>
            <a:xfrm>
              <a:off x="6519600" y="1605960"/>
              <a:ext cx="416160" cy="52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15" descr="C:\Documents and Settings\Samaneh\Desktop\14.jpg"/>
            <p:cNvPicPr/>
            <p:nvPr/>
          </p:nvPicPr>
          <p:blipFill>
            <a:blip r:embed="rId8"/>
            <a:stretch/>
          </p:blipFill>
          <p:spPr>
            <a:xfrm>
              <a:off x="6031440" y="1249200"/>
              <a:ext cx="258840" cy="40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5" descr="C:\Documents and Settings\Samaneh\Desktop\4.jpg"/>
            <p:cNvPicPr/>
            <p:nvPr/>
          </p:nvPicPr>
          <p:blipFill>
            <a:blip r:embed="rId9"/>
            <a:stretch/>
          </p:blipFill>
          <p:spPr>
            <a:xfrm>
              <a:off x="5957280" y="2720160"/>
              <a:ext cx="355320" cy="44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Oval 15" descr=""/>
            <p:cNvPicPr/>
            <p:nvPr/>
          </p:nvPicPr>
          <p:blipFill>
            <a:blip r:embed="rId10"/>
            <a:stretch/>
          </p:blipFill>
          <p:spPr>
            <a:xfrm>
              <a:off x="6955920" y="2426040"/>
              <a:ext cx="48240" cy="4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9" name="Picture 5" descr=""/>
          <p:cNvPicPr/>
          <p:nvPr/>
        </p:nvPicPr>
        <p:blipFill>
          <a:blip r:embed="rId11"/>
          <a:stretch/>
        </p:blipFill>
        <p:spPr>
          <a:xfrm>
            <a:off x="4255920" y="1905120"/>
            <a:ext cx="749520" cy="17953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" descr=""/>
          <p:cNvPicPr/>
          <p:nvPr/>
        </p:nvPicPr>
        <p:blipFill>
          <a:blip r:embed="rId12"/>
          <a:stretch/>
        </p:blipFill>
        <p:spPr>
          <a:xfrm>
            <a:off x="374760" y="1193760"/>
            <a:ext cx="1182600" cy="4460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7" descr=""/>
          <p:cNvPicPr/>
          <p:nvPr/>
        </p:nvPicPr>
        <p:blipFill>
          <a:blip r:embed="rId13"/>
          <a:stretch/>
        </p:blipFill>
        <p:spPr>
          <a:xfrm>
            <a:off x="7743960" y="3713040"/>
            <a:ext cx="1125360" cy="4525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8" descr="http://www.daltondefendersbowl.com/Pictures/amazon%20logo.jpg"/>
          <p:cNvPicPr/>
          <p:nvPr/>
        </p:nvPicPr>
        <p:blipFill>
          <a:blip r:embed="rId14"/>
          <a:srcRect l="12668" t="30754" r="12334" b="24759"/>
          <a:stretch/>
        </p:blipFill>
        <p:spPr>
          <a:xfrm>
            <a:off x="6880320" y="927000"/>
            <a:ext cx="1833480" cy="482760"/>
          </a:xfrm>
          <a:prstGeom prst="rect">
            <a:avLst/>
          </a:prstGeom>
          <a:ln w="0">
            <a:noFill/>
          </a:ln>
        </p:spPr>
      </p:pic>
      <p:sp>
        <p:nvSpPr>
          <p:cNvPr id="483" name="TextBox 19"/>
          <p:cNvSpPr/>
          <p:nvPr/>
        </p:nvSpPr>
        <p:spPr>
          <a:xfrm>
            <a:off x="550800" y="5016600"/>
            <a:ext cx="8327880" cy="1036080"/>
          </a:xfrm>
          <a:prstGeom prst="rect">
            <a:avLst/>
          </a:prstGeom>
          <a:solidFill>
            <a:srgbClr val="ffc00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recommender systems try to achiev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user satisf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Slide Number Placeholder 20"/>
          <p:cNvSpPr/>
          <p:nvPr/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0F92-1B1A-4AD6-8A05-CEBE5908B16A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of 1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58920" y="182520"/>
            <a:ext cx="906912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ahoma"/>
              </a:rPr>
              <a:t>Dual-goal Recommender Systems</a:t>
            </a: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86" name="Rectangle 2"/>
          <p:cNvSpPr/>
          <p:nvPr/>
        </p:nvSpPr>
        <p:spPr>
          <a:xfrm>
            <a:off x="457200" y="5348160"/>
            <a:ext cx="836784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7" name="Picture 2" descr="C:\Documents and Settings\Samaneh\Desktop\images1.jpg"/>
          <p:cNvPicPr/>
          <p:nvPr/>
        </p:nvPicPr>
        <p:blipFill>
          <a:blip r:embed="rId1"/>
          <a:stretch/>
        </p:blipFill>
        <p:spPr>
          <a:xfrm>
            <a:off x="6535800" y="1832040"/>
            <a:ext cx="527040" cy="5065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3" descr="C:\Documents and Settings\Samaneh\Desktop\2.jpg"/>
          <p:cNvPicPr/>
          <p:nvPr/>
        </p:nvPicPr>
        <p:blipFill>
          <a:blip r:embed="rId2"/>
          <a:stretch/>
        </p:blipFill>
        <p:spPr>
          <a:xfrm>
            <a:off x="5925960" y="1216080"/>
            <a:ext cx="573120" cy="71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6" descr="C:\Documents and Settings\Samaneh\Desktop\5.jpg"/>
          <p:cNvPicPr/>
          <p:nvPr/>
        </p:nvPicPr>
        <p:blipFill>
          <a:blip r:embed="rId3"/>
          <a:stretch/>
        </p:blipFill>
        <p:spPr>
          <a:xfrm>
            <a:off x="5925960" y="2136600"/>
            <a:ext cx="419400" cy="52236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7" descr="C:\Documents and Settings\Samaneh\Desktop\6.jpg"/>
          <p:cNvPicPr/>
          <p:nvPr/>
        </p:nvPicPr>
        <p:blipFill>
          <a:blip r:embed="rId4"/>
          <a:stretch/>
        </p:blipFill>
        <p:spPr>
          <a:xfrm>
            <a:off x="7262640" y="2181240"/>
            <a:ext cx="295560" cy="4921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2" descr="C:\Documents and Settings\Samaneh\Desktop\11.jpg"/>
          <p:cNvPicPr/>
          <p:nvPr/>
        </p:nvPicPr>
        <p:blipFill>
          <a:blip r:embed="rId5"/>
          <a:stretch/>
        </p:blipFill>
        <p:spPr>
          <a:xfrm>
            <a:off x="7246800" y="1461960"/>
            <a:ext cx="419400" cy="525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5" descr="C:\Documents and Settings\Samaneh\Desktop\14.jpg"/>
          <p:cNvPicPr/>
          <p:nvPr/>
        </p:nvPicPr>
        <p:blipFill>
          <a:blip r:embed="rId6"/>
          <a:stretch/>
        </p:blipFill>
        <p:spPr>
          <a:xfrm>
            <a:off x="6754680" y="1104840"/>
            <a:ext cx="262080" cy="4078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5" descr="C:\Documents and Settings\Samaneh\Desktop\4.jpg"/>
          <p:cNvPicPr/>
          <p:nvPr/>
        </p:nvPicPr>
        <p:blipFill>
          <a:blip r:embed="rId7"/>
          <a:stretch/>
        </p:blipFill>
        <p:spPr>
          <a:xfrm>
            <a:off x="6680160" y="2576520"/>
            <a:ext cx="358920" cy="444600"/>
          </a:xfrm>
          <a:prstGeom prst="rect">
            <a:avLst/>
          </a:prstGeom>
          <a:ln w="0">
            <a:noFill/>
          </a:ln>
        </p:spPr>
      </p:pic>
      <p:pic>
        <p:nvPicPr>
          <p:cNvPr id="494" name="Oval 15" descr=""/>
          <p:cNvPicPr/>
          <p:nvPr/>
        </p:nvPicPr>
        <p:blipFill>
          <a:blip r:embed="rId8"/>
          <a:stretch/>
        </p:blipFill>
        <p:spPr>
          <a:xfrm>
            <a:off x="7686720" y="2279520"/>
            <a:ext cx="49320" cy="558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5" descr=""/>
          <p:cNvPicPr/>
          <p:nvPr/>
        </p:nvPicPr>
        <p:blipFill>
          <a:blip r:embed="rId9"/>
          <a:stretch/>
        </p:blipFill>
        <p:spPr>
          <a:xfrm>
            <a:off x="576360" y="1343160"/>
            <a:ext cx="742680" cy="17953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8" descr="http://www.daltondefendersbowl.com/Pictures/amazon%20logo.jpg"/>
          <p:cNvPicPr/>
          <p:nvPr/>
        </p:nvPicPr>
        <p:blipFill>
          <a:blip r:embed="rId10"/>
          <a:srcRect l="12668" t="30754" r="12334" b="24759"/>
          <a:stretch/>
        </p:blipFill>
        <p:spPr>
          <a:xfrm>
            <a:off x="5956200" y="3387600"/>
            <a:ext cx="1833840" cy="482760"/>
          </a:xfrm>
          <a:prstGeom prst="rect">
            <a:avLst/>
          </a:prstGeom>
          <a:ln w="0">
            <a:noFill/>
          </a:ln>
        </p:spPr>
      </p:pic>
      <p:sp>
        <p:nvSpPr>
          <p:cNvPr id="497" name="TextBox 19"/>
          <p:cNvSpPr/>
          <p:nvPr/>
        </p:nvSpPr>
        <p:spPr>
          <a:xfrm>
            <a:off x="768240" y="4297320"/>
            <a:ext cx="7763040" cy="1978200"/>
          </a:xfrm>
          <a:prstGeom prst="rect">
            <a:avLst/>
          </a:prstGeom>
          <a:solidFill>
            <a:srgbClr val="ffc00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al-goal recommender systems try to achiev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1) high user satisfact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s well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2) high-“value” vendor 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1"/>
          <a:stretch/>
        </p:blipFill>
        <p:spPr>
          <a:xfrm>
            <a:off x="3984480" y="2579760"/>
            <a:ext cx="274680" cy="3841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2" descr=""/>
          <p:cNvPicPr/>
          <p:nvPr/>
        </p:nvPicPr>
        <p:blipFill>
          <a:blip r:embed="rId12"/>
          <a:stretch/>
        </p:blipFill>
        <p:spPr>
          <a:xfrm>
            <a:off x="3654360" y="1477800"/>
            <a:ext cx="273240" cy="3844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2" descr=""/>
          <p:cNvPicPr/>
          <p:nvPr/>
        </p:nvPicPr>
        <p:blipFill>
          <a:blip r:embed="rId13"/>
          <a:stretch/>
        </p:blipFill>
        <p:spPr>
          <a:xfrm>
            <a:off x="3629160" y="2576520"/>
            <a:ext cx="272880" cy="3841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4" descr=""/>
          <p:cNvPicPr/>
          <p:nvPr/>
        </p:nvPicPr>
        <p:blipFill>
          <a:blip r:embed="rId14"/>
          <a:stretch/>
        </p:blipFill>
        <p:spPr>
          <a:xfrm>
            <a:off x="3564000" y="1020600"/>
            <a:ext cx="1676160" cy="4287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"/>
          <p:cNvPicPr/>
          <p:nvPr/>
        </p:nvPicPr>
        <p:blipFill>
          <a:blip r:embed="rId15"/>
          <a:stretch/>
        </p:blipFill>
        <p:spPr>
          <a:xfrm>
            <a:off x="3559320" y="2152800"/>
            <a:ext cx="1676160" cy="4284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" descr=""/>
          <p:cNvPicPr/>
          <p:nvPr/>
        </p:nvPicPr>
        <p:blipFill>
          <a:blip r:embed="rId16"/>
          <a:stretch/>
        </p:blipFill>
        <p:spPr>
          <a:xfrm>
            <a:off x="404640" y="1327320"/>
            <a:ext cx="352440" cy="330120"/>
          </a:xfrm>
          <a:prstGeom prst="rect">
            <a:avLst/>
          </a:prstGeom>
          <a:ln w="0">
            <a:noFill/>
          </a:ln>
        </p:spPr>
      </p:pic>
      <p:sp>
        <p:nvSpPr>
          <p:cNvPr id="504" name="TextBox 29"/>
          <p:cNvSpPr/>
          <p:nvPr/>
        </p:nvSpPr>
        <p:spPr>
          <a:xfrm>
            <a:off x="436680" y="299880"/>
            <a:ext cx="2209680" cy="581400"/>
          </a:xfrm>
          <a:prstGeom prst="rect">
            <a:avLst/>
          </a:pr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“valu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7"/>
          <a:stretch/>
        </p:blipFill>
        <p:spPr>
          <a:xfrm>
            <a:off x="639720" y="366840"/>
            <a:ext cx="317520" cy="446040"/>
          </a:xfrm>
          <a:prstGeom prst="rect">
            <a:avLst/>
          </a:prstGeom>
          <a:ln w="0">
            <a:noFill/>
          </a:ln>
        </p:spPr>
      </p:pic>
      <p:sp>
        <p:nvSpPr>
          <p:cNvPr id="506" name="Horizontal Scroll 32"/>
          <p:cNvSpPr/>
          <p:nvPr/>
        </p:nvSpPr>
        <p:spPr>
          <a:xfrm>
            <a:off x="2990880" y="784080"/>
            <a:ext cx="3672000" cy="2820960"/>
          </a:xfrm>
          <a:prstGeom prst="horizontalScroll">
            <a:avLst>
              <a:gd name="adj" fmla="val 12500"/>
            </a:avLst>
          </a:prstGeom>
          <a:solidFill>
            <a:srgbClr val="007635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Trade-off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user satisfaction vs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vendor profi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Slide Number Placeholder 24"/>
          <p:cNvSpPr/>
          <p:nvPr/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4810-9FDF-4455-8240-28C775280D62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of 1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96296E-006 L -0.34288 -0.13519 E">
                                      <p:cBhvr>
                                        <p:cTn id="18" dur="500" fill="hold"/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0.4842 0.025 E">
                                      <p:cBhvr>
                                        <p:cTn id="21" dur="5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004 0.0287 L -0.59289 -0.04931 E">
                                      <p:cBhvr>
                                        <p:cTn id="45" dur="5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1111E-006 L -0.25868 0.04005 E">
                                      <p:cBhvr>
                                        <p:cTn id="47" dur="5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7037E-006 L 0.15868 0.11436 E">
                                      <p:cBhvr>
                                        <p:cTn id="63" dur="5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33333E-006 L 0.15296 0.11435 E">
                                      <p:cBhvr>
                                        <p:cTn id="65" dur="5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2" descr=""/>
          <p:cNvPicPr/>
          <p:nvPr/>
        </p:nvPicPr>
        <p:blipFill>
          <a:blip r:embed="rId1"/>
          <a:stretch/>
        </p:blipFill>
        <p:spPr>
          <a:xfrm>
            <a:off x="135000" y="542880"/>
            <a:ext cx="9009000" cy="559764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25"/>
          <p:cNvSpPr/>
          <p:nvPr/>
        </p:nvSpPr>
        <p:spPr>
          <a:xfrm>
            <a:off x="250920" y="784080"/>
            <a:ext cx="8777160" cy="530388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5348160"/>
            <a:ext cx="836784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2"/>
          <a:stretch/>
        </p:blipFill>
        <p:spPr>
          <a:xfrm>
            <a:off x="252360" y="1379520"/>
            <a:ext cx="4981680" cy="3629160"/>
          </a:xfrm>
          <a:prstGeom prst="rect">
            <a:avLst/>
          </a:prstGeom>
          <a:ln w="0">
            <a:noFill/>
          </a:ln>
        </p:spPr>
      </p:pic>
      <p:sp>
        <p:nvSpPr>
          <p:cNvPr id="512" name="TextBox 26"/>
          <p:cNvSpPr/>
          <p:nvPr/>
        </p:nvSpPr>
        <p:spPr>
          <a:xfrm>
            <a:off x="3735360" y="784080"/>
            <a:ext cx="4991040" cy="1007640"/>
          </a:xfrm>
          <a:prstGeom prst="rect">
            <a:avLst/>
          </a:pr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vertices ranked by proximity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TextBox 31"/>
          <p:cNvSpPr/>
          <p:nvPr/>
        </p:nvSpPr>
        <p:spPr>
          <a:xfrm>
            <a:off x="5762880" y="1528920"/>
            <a:ext cx="1028160" cy="55080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v253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TextBox 32"/>
          <p:cNvSpPr/>
          <p:nvPr/>
        </p:nvSpPr>
        <p:spPr>
          <a:xfrm>
            <a:off x="5758920" y="2073240"/>
            <a:ext cx="1028160" cy="5508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v162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TextBox 33"/>
          <p:cNvSpPr/>
          <p:nvPr/>
        </p:nvSpPr>
        <p:spPr>
          <a:xfrm>
            <a:off x="5772600" y="2620800"/>
            <a:ext cx="1028160" cy="5508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v261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TextBox 34"/>
          <p:cNvSpPr/>
          <p:nvPr/>
        </p:nvSpPr>
        <p:spPr>
          <a:xfrm>
            <a:off x="5785200" y="3170160"/>
            <a:ext cx="1028160" cy="550800"/>
          </a:xfrm>
          <a:prstGeom prst="rect">
            <a:avLst/>
          </a:prstGeom>
          <a:solidFill>
            <a:srgbClr val="ff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v327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TextBox 35"/>
          <p:cNvSpPr/>
          <p:nvPr/>
        </p:nvSpPr>
        <p:spPr>
          <a:xfrm>
            <a:off x="6197400" y="3718080"/>
            <a:ext cx="282960" cy="165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Oval 36"/>
          <p:cNvSpPr/>
          <p:nvPr/>
        </p:nvSpPr>
        <p:spPr>
          <a:xfrm>
            <a:off x="3182760" y="2079720"/>
            <a:ext cx="1476720" cy="103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Oval 37"/>
          <p:cNvSpPr/>
          <p:nvPr/>
        </p:nvSpPr>
        <p:spPr>
          <a:xfrm>
            <a:off x="5508720" y="1353960"/>
            <a:ext cx="1476360" cy="193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68200" y="182520"/>
            <a:ext cx="79498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ahoma"/>
              </a:rPr>
              <a:t>Dual-goal Recommender Systems</a:t>
            </a: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521" name="TextBox 54"/>
          <p:cNvSpPr/>
          <p:nvPr/>
        </p:nvSpPr>
        <p:spPr>
          <a:xfrm>
            <a:off x="5943600" y="5511960"/>
            <a:ext cx="3108240" cy="550800"/>
          </a:xfrm>
          <a:prstGeom prst="rect">
            <a:avLst/>
          </a:pr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network-“value”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2" name="Picture 6" descr=""/>
          <p:cNvPicPr/>
          <p:nvPr/>
        </p:nvPicPr>
        <p:blipFill>
          <a:blip r:embed="rId3"/>
          <a:stretch/>
        </p:blipFill>
        <p:spPr>
          <a:xfrm>
            <a:off x="7056360" y="1600200"/>
            <a:ext cx="1562040" cy="4190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"/>
          <p:cNvPicPr/>
          <p:nvPr/>
        </p:nvPicPr>
        <p:blipFill>
          <a:blip r:embed="rId4"/>
          <a:stretch/>
        </p:blipFill>
        <p:spPr>
          <a:xfrm>
            <a:off x="7027920" y="2174760"/>
            <a:ext cx="1619280" cy="41904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5"/>
          <a:stretch/>
        </p:blipFill>
        <p:spPr>
          <a:xfrm>
            <a:off x="7078680" y="2736720"/>
            <a:ext cx="1542960" cy="3906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9" descr=""/>
          <p:cNvPicPr/>
          <p:nvPr/>
        </p:nvPicPr>
        <p:blipFill>
          <a:blip r:embed="rId6"/>
          <a:stretch/>
        </p:blipFill>
        <p:spPr>
          <a:xfrm>
            <a:off x="7051680" y="3301920"/>
            <a:ext cx="1571760" cy="409680"/>
          </a:xfrm>
          <a:prstGeom prst="rect">
            <a:avLst/>
          </a:prstGeom>
          <a:ln w="0">
            <a:noFill/>
          </a:ln>
        </p:spPr>
      </p:pic>
      <p:cxnSp>
        <p:nvCxnSpPr>
          <p:cNvPr id="526" name="Straight Arrow Connector 61"/>
          <p:cNvCxnSpPr/>
          <p:nvPr/>
        </p:nvCxnSpPr>
        <p:spPr>
          <a:xfrm flipV="1">
            <a:off x="7183800" y="3839760"/>
            <a:ext cx="523080" cy="1581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7" name="Slide Number Placeholder 22"/>
          <p:cNvSpPr/>
          <p:nvPr/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DDED-F78C-44D2-8FE8-E79D51851BC9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of 1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8" name="Picture 22" descr=""/>
          <p:cNvPicPr/>
          <p:nvPr/>
        </p:nvPicPr>
        <p:blipFill>
          <a:blip r:embed="rId7"/>
          <a:stretch/>
        </p:blipFill>
        <p:spPr>
          <a:xfrm>
            <a:off x="2678040" y="2550960"/>
            <a:ext cx="465120" cy="231840"/>
          </a:xfrm>
          <a:prstGeom prst="rect">
            <a:avLst/>
          </a:prstGeom>
          <a:ln w="0">
            <a:noFill/>
          </a:ln>
        </p:spPr>
      </p:pic>
      <p:sp>
        <p:nvSpPr>
          <p:cNvPr id="529" name="TextBox 22"/>
          <p:cNvSpPr/>
          <p:nvPr/>
        </p:nvSpPr>
        <p:spPr>
          <a:xfrm>
            <a:off x="1851120" y="5327640"/>
            <a:ext cx="2384280" cy="1007640"/>
          </a:xfrm>
          <a:prstGeom prst="rect">
            <a:avLst/>
          </a:pr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query vertex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30" name="Straight Arrow Connector 23"/>
          <p:cNvCxnSpPr>
            <a:stCxn id="529" idx="0"/>
          </p:cNvCxnSpPr>
          <p:nvPr/>
        </p:nvCxnSpPr>
        <p:spPr>
          <a:xfrm flipV="1">
            <a:off x="3042000" y="4360320"/>
            <a:ext cx="567720" cy="9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"/>
          <p:cNvPicPr/>
          <p:nvPr/>
        </p:nvPicPr>
        <p:blipFill>
          <a:blip r:embed="rId1"/>
          <a:stretch/>
        </p:blipFill>
        <p:spPr>
          <a:xfrm>
            <a:off x="0" y="68256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25"/>
          <p:cNvSpPr/>
          <p:nvPr/>
        </p:nvSpPr>
        <p:spPr>
          <a:xfrm>
            <a:off x="209520" y="784080"/>
            <a:ext cx="8777160" cy="530388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457200" y="5348160"/>
            <a:ext cx="836784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Box 31"/>
          <p:cNvSpPr/>
          <p:nvPr/>
        </p:nvSpPr>
        <p:spPr>
          <a:xfrm>
            <a:off x="6024960" y="1554120"/>
            <a:ext cx="1028160" cy="55080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v253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TextBox 32"/>
          <p:cNvSpPr/>
          <p:nvPr/>
        </p:nvSpPr>
        <p:spPr>
          <a:xfrm>
            <a:off x="6020280" y="2098800"/>
            <a:ext cx="1028160" cy="5508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v162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TextBox 33"/>
          <p:cNvSpPr/>
          <p:nvPr/>
        </p:nvSpPr>
        <p:spPr>
          <a:xfrm>
            <a:off x="6032880" y="2647800"/>
            <a:ext cx="1028160" cy="5508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v261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TextBox 34"/>
          <p:cNvSpPr/>
          <p:nvPr/>
        </p:nvSpPr>
        <p:spPr>
          <a:xfrm>
            <a:off x="6045480" y="3195720"/>
            <a:ext cx="1028160" cy="550800"/>
          </a:xfrm>
          <a:prstGeom prst="rect">
            <a:avLst/>
          </a:prstGeom>
          <a:solidFill>
            <a:srgbClr val="ff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v327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TextBox 35"/>
          <p:cNvSpPr/>
          <p:nvPr/>
        </p:nvSpPr>
        <p:spPr>
          <a:xfrm>
            <a:off x="6457680" y="3822840"/>
            <a:ext cx="282960" cy="165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Oval 37"/>
          <p:cNvSpPr/>
          <p:nvPr/>
        </p:nvSpPr>
        <p:spPr>
          <a:xfrm>
            <a:off x="5783400" y="1379520"/>
            <a:ext cx="1474560" cy="1938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Arc 51"/>
          <p:cNvSpPr/>
          <p:nvPr/>
        </p:nvSpPr>
        <p:spPr>
          <a:xfrm flipH="1">
            <a:off x="5734080" y="2925720"/>
            <a:ext cx="719280" cy="627120"/>
          </a:xfrm>
          <a:prstGeom prst="pie">
            <a:avLst/>
          </a:prstGeom>
          <a:noFill/>
          <a:ln w="442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Freeform 18"/>
          <p:cNvSpPr/>
          <p:nvPr/>
        </p:nvSpPr>
        <p:spPr>
          <a:xfrm>
            <a:off x="2754360" y="2273400"/>
            <a:ext cx="2211480" cy="895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Freeform 21"/>
          <p:cNvSpPr/>
          <p:nvPr/>
        </p:nvSpPr>
        <p:spPr>
          <a:xfrm>
            <a:off x="2782800" y="2289240"/>
            <a:ext cx="2181240" cy="833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1168560" y="182520"/>
            <a:ext cx="79498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ahoma"/>
              </a:rPr>
              <a:t>Dual-goal Recommender System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TextBox 29"/>
          <p:cNvSpPr/>
          <p:nvPr/>
        </p:nvSpPr>
        <p:spPr>
          <a:xfrm>
            <a:off x="3735360" y="784080"/>
            <a:ext cx="4991040" cy="1007640"/>
          </a:xfrm>
          <a:prstGeom prst="rect">
            <a:avLst/>
          </a:pr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vertices ranked by proximity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5" name="Picture 6" descr=""/>
          <p:cNvPicPr/>
          <p:nvPr/>
        </p:nvPicPr>
        <p:blipFill>
          <a:blip r:embed="rId2"/>
          <a:stretch/>
        </p:blipFill>
        <p:spPr>
          <a:xfrm>
            <a:off x="7383600" y="1600200"/>
            <a:ext cx="1562040" cy="4190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"/>
          <p:cNvPicPr/>
          <p:nvPr/>
        </p:nvPicPr>
        <p:blipFill>
          <a:blip r:embed="rId3"/>
          <a:stretch/>
        </p:blipFill>
        <p:spPr>
          <a:xfrm>
            <a:off x="7354800" y="2174760"/>
            <a:ext cx="1619280" cy="4190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" descr=""/>
          <p:cNvPicPr/>
          <p:nvPr/>
        </p:nvPicPr>
        <p:blipFill>
          <a:blip r:embed="rId4"/>
          <a:stretch/>
        </p:blipFill>
        <p:spPr>
          <a:xfrm>
            <a:off x="7405560" y="2736720"/>
            <a:ext cx="1543320" cy="3906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9" descr=""/>
          <p:cNvPicPr/>
          <p:nvPr/>
        </p:nvPicPr>
        <p:blipFill>
          <a:blip r:embed="rId5"/>
          <a:stretch/>
        </p:blipFill>
        <p:spPr>
          <a:xfrm>
            <a:off x="7378560" y="3301920"/>
            <a:ext cx="1571760" cy="409680"/>
          </a:xfrm>
          <a:prstGeom prst="rect">
            <a:avLst/>
          </a:prstGeom>
          <a:ln w="0">
            <a:noFill/>
          </a:ln>
        </p:spPr>
      </p:pic>
      <p:sp>
        <p:nvSpPr>
          <p:cNvPr id="549" name="TextBox 41"/>
          <p:cNvSpPr/>
          <p:nvPr/>
        </p:nvSpPr>
        <p:spPr>
          <a:xfrm>
            <a:off x="5943600" y="5511960"/>
            <a:ext cx="3108240" cy="550800"/>
          </a:xfrm>
          <a:prstGeom prst="rect">
            <a:avLst/>
          </a:pr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network-“value”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50" name="Straight Arrow Connector 42"/>
          <p:cNvCxnSpPr/>
          <p:nvPr/>
        </p:nvCxnSpPr>
        <p:spPr>
          <a:xfrm flipV="1">
            <a:off x="7183800" y="3839760"/>
            <a:ext cx="523080" cy="1581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51" name="Picture 28" descr=""/>
          <p:cNvPicPr/>
          <p:nvPr/>
        </p:nvPicPr>
        <p:blipFill>
          <a:blip r:embed="rId6"/>
          <a:stretch/>
        </p:blipFill>
        <p:spPr>
          <a:xfrm>
            <a:off x="712800" y="1360440"/>
            <a:ext cx="4994280" cy="3645000"/>
          </a:xfrm>
          <a:prstGeom prst="rect">
            <a:avLst/>
          </a:prstGeom>
          <a:ln w="0">
            <a:noFill/>
          </a:ln>
        </p:spPr>
      </p:pic>
      <p:sp>
        <p:nvSpPr>
          <p:cNvPr id="552" name="Freeform 22"/>
          <p:cNvSpPr/>
          <p:nvPr/>
        </p:nvSpPr>
        <p:spPr>
          <a:xfrm>
            <a:off x="2873520" y="2139840"/>
            <a:ext cx="1998360" cy="9302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Slide Number Placeholder 28"/>
          <p:cNvSpPr/>
          <p:nvPr/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C593-35DD-4904-A587-8E6FDC323881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of 1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 L 0.00139 0.08773 E">
                                      <p:cBhvr>
                                        <p:cTn id="163" dur="5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00764 L -0.00157 -0.0743 E">
                                      <p:cBhvr>
                                        <p:cTn id="165" dur="5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7037E-007 L -0.00139 0.08564 E">
                                      <p:cBhvr>
                                        <p:cTn id="167" dur="5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07407E-006 L -0.00278 -0.0838 E">
                                      <p:cBhvr>
                                        <p:cTn id="169" dur="5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0" y="68256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25"/>
          <p:cNvSpPr/>
          <p:nvPr/>
        </p:nvSpPr>
        <p:spPr>
          <a:xfrm>
            <a:off x="209520" y="784080"/>
            <a:ext cx="8777160" cy="530388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68200" y="182520"/>
            <a:ext cx="79498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ahoma"/>
              </a:rPr>
              <a:t>Dual-goal Recommender Systems</a:t>
            </a: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557" name="Rectangle 2"/>
          <p:cNvSpPr/>
          <p:nvPr/>
        </p:nvSpPr>
        <p:spPr>
          <a:xfrm>
            <a:off x="457200" y="5348160"/>
            <a:ext cx="836784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TextBox 31"/>
          <p:cNvSpPr/>
          <p:nvPr/>
        </p:nvSpPr>
        <p:spPr>
          <a:xfrm>
            <a:off x="6077160" y="1554120"/>
            <a:ext cx="1028160" cy="55080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v253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TextBox 32"/>
          <p:cNvSpPr/>
          <p:nvPr/>
        </p:nvSpPr>
        <p:spPr>
          <a:xfrm>
            <a:off x="6072480" y="2098800"/>
            <a:ext cx="1028160" cy="5508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v162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TextBox 33"/>
          <p:cNvSpPr/>
          <p:nvPr/>
        </p:nvSpPr>
        <p:spPr>
          <a:xfrm>
            <a:off x="6085080" y="2647800"/>
            <a:ext cx="1028160" cy="5508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v261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TextBox 34"/>
          <p:cNvSpPr/>
          <p:nvPr/>
        </p:nvSpPr>
        <p:spPr>
          <a:xfrm>
            <a:off x="6098040" y="3195720"/>
            <a:ext cx="1028160" cy="550800"/>
          </a:xfrm>
          <a:prstGeom prst="rect">
            <a:avLst/>
          </a:prstGeom>
          <a:solidFill>
            <a:srgbClr val="ff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v327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TextBox 35"/>
          <p:cNvSpPr/>
          <p:nvPr/>
        </p:nvSpPr>
        <p:spPr>
          <a:xfrm>
            <a:off x="6510240" y="3822840"/>
            <a:ext cx="282960" cy="165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Oval 37"/>
          <p:cNvSpPr/>
          <p:nvPr/>
        </p:nvSpPr>
        <p:spPr>
          <a:xfrm>
            <a:off x="5834160" y="1379520"/>
            <a:ext cx="1476360" cy="1938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Arc 51"/>
          <p:cNvSpPr/>
          <p:nvPr/>
        </p:nvSpPr>
        <p:spPr>
          <a:xfrm flipH="1">
            <a:off x="5760360" y="1789200"/>
            <a:ext cx="600120" cy="1658880"/>
          </a:xfrm>
          <a:prstGeom prst="pie">
            <a:avLst/>
          </a:prstGeom>
          <a:noFill/>
          <a:ln w="442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Freeform 18"/>
          <p:cNvSpPr/>
          <p:nvPr/>
        </p:nvSpPr>
        <p:spPr>
          <a:xfrm>
            <a:off x="2754360" y="2273400"/>
            <a:ext cx="2211480" cy="895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Freeform 21"/>
          <p:cNvSpPr/>
          <p:nvPr/>
        </p:nvSpPr>
        <p:spPr>
          <a:xfrm>
            <a:off x="2782800" y="2289240"/>
            <a:ext cx="2181240" cy="833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TextBox 23"/>
          <p:cNvSpPr/>
          <p:nvPr/>
        </p:nvSpPr>
        <p:spPr>
          <a:xfrm>
            <a:off x="396720" y="274680"/>
            <a:ext cx="3110040" cy="1068840"/>
          </a:xfrm>
          <a:prstGeom prst="rect">
            <a:avLst/>
          </a:pr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-“value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TextBox 24"/>
          <p:cNvSpPr/>
          <p:nvPr/>
        </p:nvSpPr>
        <p:spPr>
          <a:xfrm>
            <a:off x="3735360" y="784080"/>
            <a:ext cx="4991040" cy="1007640"/>
          </a:xfrm>
          <a:prstGeom prst="rect">
            <a:avLst/>
          </a:pr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vertices ranked by proximity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9" name="Picture 6" descr=""/>
          <p:cNvPicPr/>
          <p:nvPr/>
        </p:nvPicPr>
        <p:blipFill>
          <a:blip r:embed="rId2"/>
          <a:stretch/>
        </p:blipFill>
        <p:spPr>
          <a:xfrm>
            <a:off x="7383600" y="1600200"/>
            <a:ext cx="1562040" cy="4190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7" descr=""/>
          <p:cNvPicPr/>
          <p:nvPr/>
        </p:nvPicPr>
        <p:blipFill>
          <a:blip r:embed="rId3"/>
          <a:stretch/>
        </p:blipFill>
        <p:spPr>
          <a:xfrm>
            <a:off x="7354800" y="2174760"/>
            <a:ext cx="1619280" cy="41904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8" descr=""/>
          <p:cNvPicPr/>
          <p:nvPr/>
        </p:nvPicPr>
        <p:blipFill>
          <a:blip r:embed="rId4"/>
          <a:stretch/>
        </p:blipFill>
        <p:spPr>
          <a:xfrm>
            <a:off x="7405560" y="2736720"/>
            <a:ext cx="1543320" cy="3906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"/>
          <p:cNvPicPr/>
          <p:nvPr/>
        </p:nvPicPr>
        <p:blipFill>
          <a:blip r:embed="rId5"/>
          <a:stretch/>
        </p:blipFill>
        <p:spPr>
          <a:xfrm>
            <a:off x="7378560" y="3301920"/>
            <a:ext cx="1571760" cy="409680"/>
          </a:xfrm>
          <a:prstGeom prst="rect">
            <a:avLst/>
          </a:prstGeom>
          <a:ln w="0">
            <a:noFill/>
          </a:ln>
        </p:spPr>
      </p:pic>
      <p:sp>
        <p:nvSpPr>
          <p:cNvPr id="573" name="TextBox 38"/>
          <p:cNvSpPr/>
          <p:nvPr/>
        </p:nvSpPr>
        <p:spPr>
          <a:xfrm>
            <a:off x="5943600" y="5511960"/>
            <a:ext cx="3108240" cy="550800"/>
          </a:xfrm>
          <a:prstGeom prst="rect">
            <a:avLst/>
          </a:pr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network-“value”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74" name="Straight Arrow Connector 39"/>
          <p:cNvCxnSpPr/>
          <p:nvPr/>
        </p:nvCxnSpPr>
        <p:spPr>
          <a:xfrm flipV="1">
            <a:off x="7183800" y="3839760"/>
            <a:ext cx="523080" cy="1581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75" name="Picture 30" descr=""/>
          <p:cNvPicPr/>
          <p:nvPr/>
        </p:nvPicPr>
        <p:blipFill>
          <a:blip r:embed="rId6"/>
          <a:stretch/>
        </p:blipFill>
        <p:spPr>
          <a:xfrm>
            <a:off x="687240" y="1371600"/>
            <a:ext cx="4943520" cy="3605040"/>
          </a:xfrm>
          <a:prstGeom prst="rect">
            <a:avLst/>
          </a:prstGeom>
          <a:ln w="0">
            <a:noFill/>
          </a:ln>
        </p:spPr>
      </p:pic>
      <p:sp>
        <p:nvSpPr>
          <p:cNvPr id="576" name="Freeform 22"/>
          <p:cNvSpPr/>
          <p:nvPr/>
        </p:nvSpPr>
        <p:spPr>
          <a:xfrm flipH="1" flipV="1">
            <a:off x="2938320" y="1972440"/>
            <a:ext cx="1881360" cy="1017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Horizontal Scroll 40"/>
          <p:cNvSpPr/>
          <p:nvPr/>
        </p:nvSpPr>
        <p:spPr>
          <a:xfrm>
            <a:off x="2835360" y="3187800"/>
            <a:ext cx="4467240" cy="3068640"/>
          </a:xfrm>
          <a:prstGeom prst="horizontalScroll">
            <a:avLst>
              <a:gd name="adj" fmla="val 12500"/>
            </a:avLst>
          </a:prstGeom>
          <a:solidFill>
            <a:srgbClr val="007635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Trade-off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user satisfaction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vs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network connectivity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Slide Number Placeholder 35"/>
          <p:cNvSpPr/>
          <p:nvPr/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F8EB-04EC-4467-A2F1-0F0CA1C197D3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of 1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0254 L -0.00261 -0.24306 E">
                                      <p:cBhvr>
                                        <p:cTn id="180" dur="50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44444E-006 L -0.00139 0.2419 E">
                                      <p:cBhvr>
                                        <p:cTn id="182" dur="5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44444E-006 L -0.00278 0.24167 E">
                                      <p:cBhvr>
                                        <p:cTn id="184" dur="5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7.40741E-007 L 0.00417 -0.2419 E">
                                      <p:cBhvr>
                                        <p:cTn id="186" dur="5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34"/>
          <p:cNvGrpSpPr/>
          <p:nvPr/>
        </p:nvGrpSpPr>
        <p:grpSpPr>
          <a:xfrm>
            <a:off x="2811600" y="2409840"/>
            <a:ext cx="5976720" cy="3670200"/>
            <a:chOff x="2811600" y="2409840"/>
            <a:chExt cx="5976720" cy="3670200"/>
          </a:xfrm>
        </p:grpSpPr>
        <p:pic>
          <p:nvPicPr>
            <p:cNvPr id="580" name="Picture 5" descr=""/>
            <p:cNvPicPr/>
            <p:nvPr/>
          </p:nvPicPr>
          <p:blipFill>
            <a:blip r:embed="rId1"/>
            <a:stretch/>
          </p:blipFill>
          <p:spPr>
            <a:xfrm>
              <a:off x="2811600" y="2409840"/>
              <a:ext cx="5697360" cy="3670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1" name="Group 19"/>
            <p:cNvGrpSpPr/>
            <p:nvPr/>
          </p:nvGrpSpPr>
          <p:grpSpPr>
            <a:xfrm>
              <a:off x="6927840" y="3546000"/>
              <a:ext cx="1860480" cy="860400"/>
              <a:chOff x="6927840" y="3546000"/>
              <a:chExt cx="1860480" cy="860400"/>
            </a:xfrm>
          </p:grpSpPr>
          <p:sp>
            <p:nvSpPr>
              <p:cNvPr id="582" name="Text Box 9"/>
              <p:cNvSpPr/>
              <p:nvPr/>
            </p:nvSpPr>
            <p:spPr>
              <a:xfrm>
                <a:off x="6927840" y="3546000"/>
                <a:ext cx="1860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ahoma"/>
                  </a:rPr>
                  <a:t>Vendor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583" name="Picture 2" descr=""/>
              <p:cNvPicPr/>
              <p:nvPr/>
            </p:nvPicPr>
            <p:blipFill>
              <a:blip r:embed="rId2"/>
              <a:stretch/>
            </p:blipFill>
            <p:spPr>
              <a:xfrm>
                <a:off x="7520400" y="4011120"/>
                <a:ext cx="290520" cy="39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84" name=""/>
          <p:cNvSpPr txBox="1"/>
          <p:nvPr/>
        </p:nvSpPr>
        <p:spPr>
          <a:xfrm>
            <a:off x="364680" y="965160"/>
            <a:ext cx="8418600" cy="27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 concer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ann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ake the </a:t>
            </a:r>
            <a:r>
              <a:rPr b="1" lang="en-US" sz="2800" spc="-1" strike="noStrike">
                <a:solidFill>
                  <a:srgbClr val="00b050"/>
                </a:solidFill>
                <a:latin typeface="Tahoma"/>
              </a:rPr>
              <a:t>highest valu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ations should still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reflect users’ lik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ly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358920" y="182520"/>
            <a:ext cx="9069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ahoma"/>
              </a:rPr>
              <a:t>Dual-goal Recommender System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Picture 42" descr="thinking-idea-animated-animation-smiley-emoticon-000339-large.gif"/>
          <p:cNvPicPr/>
          <p:nvPr/>
        </p:nvPicPr>
        <p:blipFill>
          <a:blip r:embed="rId3"/>
          <a:stretch/>
        </p:blipFill>
        <p:spPr>
          <a:xfrm>
            <a:off x="1108080" y="3797280"/>
            <a:ext cx="1095480" cy="1381320"/>
          </a:xfrm>
          <a:prstGeom prst="rect">
            <a:avLst/>
          </a:prstGeom>
          <a:ln w="0">
            <a:noFill/>
          </a:ln>
        </p:spPr>
      </p:pic>
      <p:sp>
        <p:nvSpPr>
          <p:cNvPr id="587" name="Slide Number Placeholder 43"/>
          <p:cNvSpPr/>
          <p:nvPr/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E39F-3BFD-4E03-9B81-AC55C0D715FC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of 1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2587680" y="5151600"/>
            <a:ext cx="2133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r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9" name="Picture 5" descr=""/>
          <p:cNvPicPr/>
          <p:nvPr/>
        </p:nvPicPr>
        <p:blipFill>
          <a:blip r:embed="rId4"/>
          <a:stretch/>
        </p:blipFill>
        <p:spPr>
          <a:xfrm>
            <a:off x="3436920" y="5630760"/>
            <a:ext cx="392040" cy="3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19"/>
          <p:cNvGrpSpPr/>
          <p:nvPr/>
        </p:nvGrpSpPr>
        <p:grpSpPr>
          <a:xfrm>
            <a:off x="1976400" y="2735640"/>
            <a:ext cx="5473800" cy="3411000"/>
            <a:chOff x="1976400" y="2735640"/>
            <a:chExt cx="5473800" cy="3411000"/>
          </a:xfrm>
        </p:grpSpPr>
        <p:pic>
          <p:nvPicPr>
            <p:cNvPr id="591" name="Picture 16" descr=""/>
            <p:cNvPicPr/>
            <p:nvPr/>
          </p:nvPicPr>
          <p:blipFill>
            <a:blip r:embed="rId1"/>
            <a:stretch/>
          </p:blipFill>
          <p:spPr>
            <a:xfrm>
              <a:off x="3174480" y="3082680"/>
              <a:ext cx="3067200" cy="30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Picture 19" descr=""/>
            <p:cNvPicPr/>
            <p:nvPr/>
          </p:nvPicPr>
          <p:blipFill>
            <a:blip r:embed="rId2"/>
            <a:stretch/>
          </p:blipFill>
          <p:spPr>
            <a:xfrm>
              <a:off x="1976400" y="3432960"/>
              <a:ext cx="1606680" cy="18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Picture 18" descr=""/>
            <p:cNvPicPr/>
            <p:nvPr/>
          </p:nvPicPr>
          <p:blipFill>
            <a:blip r:embed="rId3"/>
            <a:stretch/>
          </p:blipFill>
          <p:spPr>
            <a:xfrm>
              <a:off x="5843520" y="2849400"/>
              <a:ext cx="1606680" cy="18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Picture 15" descr=""/>
            <p:cNvPicPr/>
            <p:nvPr/>
          </p:nvPicPr>
          <p:blipFill>
            <a:blip r:embed="rId4"/>
            <a:stretch/>
          </p:blipFill>
          <p:spPr>
            <a:xfrm rot="21077400">
              <a:off x="2229840" y="3083760"/>
              <a:ext cx="4617720" cy="22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5" name="Group 19"/>
          <p:cNvGrpSpPr/>
          <p:nvPr/>
        </p:nvGrpSpPr>
        <p:grpSpPr>
          <a:xfrm>
            <a:off x="1789200" y="3776760"/>
            <a:ext cx="5997600" cy="1754640"/>
            <a:chOff x="1789200" y="3776760"/>
            <a:chExt cx="5997600" cy="1754640"/>
          </a:xfrm>
        </p:grpSpPr>
        <p:sp>
          <p:nvSpPr>
            <p:cNvPr id="596" name="Text Box 9"/>
            <p:cNvSpPr/>
            <p:nvPr/>
          </p:nvSpPr>
          <p:spPr>
            <a:xfrm>
              <a:off x="1789200" y="4361040"/>
              <a:ext cx="2133720" cy="11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User  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7" name="Text Box 9"/>
            <p:cNvSpPr/>
            <p:nvPr/>
          </p:nvSpPr>
          <p:spPr>
            <a:xfrm>
              <a:off x="5925960" y="3776760"/>
              <a:ext cx="186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Vendor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98" name="Picture 2" descr=""/>
            <p:cNvPicPr/>
            <p:nvPr/>
          </p:nvPicPr>
          <p:blipFill>
            <a:blip r:embed="rId5"/>
            <a:stretch/>
          </p:blipFill>
          <p:spPr>
            <a:xfrm>
              <a:off x="6518520" y="4260960"/>
              <a:ext cx="290520" cy="395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9" name="Picture 5" descr=""/>
          <p:cNvPicPr/>
          <p:nvPr/>
        </p:nvPicPr>
        <p:blipFill>
          <a:blip r:embed="rId6"/>
          <a:stretch/>
        </p:blipFill>
        <p:spPr>
          <a:xfrm>
            <a:off x="2570040" y="4851360"/>
            <a:ext cx="392400" cy="35388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 txBox="1"/>
          <p:nvPr/>
        </p:nvSpPr>
        <p:spPr>
          <a:xfrm>
            <a:off x="456840" y="798480"/>
            <a:ext cx="8263080" cy="15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ahoma"/>
              </a:rPr>
              <a:t>Careful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b050"/>
                </a:solidFill>
                <a:latin typeface="Tahoma"/>
              </a:rPr>
              <a:t>pertur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change the order of) the proximity-ranked </a:t>
            </a:r>
            <a:r>
              <a:rPr b="1" lang="en-US" sz="2800" spc="-1" strike="noStrike">
                <a:solidFill>
                  <a:srgbClr val="00b050"/>
                </a:solidFill>
                <a:latin typeface="Tahoma"/>
              </a:rPr>
              <a:t>list of recommend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by a </a:t>
            </a:r>
            <a:r>
              <a:rPr b="1" lang="en-US" sz="2800" spc="-1" strike="noStrike">
                <a:solidFill>
                  <a:srgbClr val="00b050"/>
                </a:solidFill>
                <a:latin typeface="Tahoma"/>
              </a:rPr>
              <a:t>tolera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for each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Rectangle 2"/>
          <p:cNvSpPr/>
          <p:nvPr/>
        </p:nvSpPr>
        <p:spPr>
          <a:xfrm>
            <a:off x="358920" y="182520"/>
            <a:ext cx="9069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Book Antiqua"/>
              </a:rPr>
              <a:t>ValuePick: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ain ide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Rectangle 4"/>
          <p:cNvSpPr/>
          <p:nvPr/>
        </p:nvSpPr>
        <p:spPr>
          <a:xfrm>
            <a:off x="5108040" y="1711440"/>
            <a:ext cx="3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b050"/>
                </a:solidFill>
                <a:latin typeface="Tahoma"/>
              </a:rPr>
              <a:t>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Rectangle 28"/>
          <p:cNvSpPr/>
          <p:nvPr/>
        </p:nvSpPr>
        <p:spPr>
          <a:xfrm>
            <a:off x="7724520" y="2249640"/>
            <a:ext cx="3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b050"/>
                </a:solidFill>
                <a:latin typeface="Tahoma"/>
              </a:rPr>
              <a:t>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Right Brace 29"/>
          <p:cNvSpPr/>
          <p:nvPr/>
        </p:nvSpPr>
        <p:spPr>
          <a:xfrm>
            <a:off x="7199280" y="2224080"/>
            <a:ext cx="501840" cy="644400"/>
          </a:xfrm>
          <a:custGeom>
            <a:avLst/>
            <a:gdLst>
              <a:gd name="textAreaLeft" fmla="*/ 0 w 501840"/>
              <a:gd name="textAreaRight" fmla="*/ 181080 w 501840"/>
              <a:gd name="textAreaTop" fmla="*/ 12960 h 644400"/>
              <a:gd name="textAreaBottom" fmla="*/ 631440 h 64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99"/>
                  <a:pt x="10800" y="1397"/>
                </a:cubicBezTo>
                <a:lnTo>
                  <a:pt x="10800" y="9403"/>
                </a:lnTo>
                <a:cubicBezTo>
                  <a:pt x="10800" y="10102"/>
                  <a:pt x="16200" y="10800"/>
                  <a:pt x="21600" y="10800"/>
                </a:cubicBezTo>
                <a:cubicBezTo>
                  <a:pt x="16200" y="10800"/>
                  <a:pt x="10800" y="11499"/>
                  <a:pt x="10800" y="12197"/>
                </a:cubicBezTo>
                <a:lnTo>
                  <a:pt x="10800" y="20203"/>
                </a:lnTo>
                <a:cubicBezTo>
                  <a:pt x="10800" y="20902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5" name="Picture 15" descr=""/>
          <p:cNvPicPr/>
          <p:nvPr/>
        </p:nvPicPr>
        <p:blipFill>
          <a:blip r:embed="rId7"/>
          <a:stretch/>
        </p:blipFill>
        <p:spPr>
          <a:xfrm rot="20065800">
            <a:off x="2316240" y="3099960"/>
            <a:ext cx="4616280" cy="230400"/>
          </a:xfrm>
          <a:prstGeom prst="rect">
            <a:avLst/>
          </a:prstGeom>
          <a:ln w="0">
            <a:noFill/>
          </a:ln>
        </p:spPr>
      </p:pic>
      <p:cxnSp>
        <p:nvCxnSpPr>
          <p:cNvPr id="606" name="Curved Connector 45"/>
          <p:cNvCxnSpPr/>
          <p:nvPr/>
        </p:nvCxnSpPr>
        <p:spPr>
          <a:xfrm rot="10800000">
            <a:off x="2256840" y="3547440"/>
            <a:ext cx="284400" cy="664200"/>
          </a:xfrm>
          <a:prstGeom prst="curvedConnector5">
            <a:avLst>
              <a:gd name="adj1" fmla="val 189860"/>
              <a:gd name="adj2" fmla="val 50000"/>
              <a:gd name="adj3" fmla="val 189860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07" name="Curved Connector 51"/>
          <p:cNvCxnSpPr/>
          <p:nvPr/>
        </p:nvCxnSpPr>
        <p:spPr>
          <a:xfrm flipH="1" flipV="1">
            <a:off x="6706800" y="2219040"/>
            <a:ext cx="115200" cy="630720"/>
          </a:xfrm>
          <a:prstGeom prst="curvedConnector5">
            <a:avLst>
              <a:gd name="adj1" fmla="val -297178"/>
              <a:gd name="adj2" fmla="val 49971"/>
              <a:gd name="adj3" fmla="val -297178"/>
            </a:avLst>
          </a:prstGeom>
          <a:ln w="38160">
            <a:solidFill>
              <a:srgbClr val="ff0000"/>
            </a:solidFill>
            <a:miter/>
            <a:headEnd len="med" type="arrow" w="med"/>
          </a:ln>
        </p:spPr>
      </p:cxnSp>
      <p:pic>
        <p:nvPicPr>
          <p:cNvPr id="608" name="Picture 2" descr=""/>
          <p:cNvPicPr/>
          <p:nvPr/>
        </p:nvPicPr>
        <p:blipFill>
          <a:blip r:embed="rId8"/>
          <a:stretch/>
        </p:blipFill>
        <p:spPr>
          <a:xfrm>
            <a:off x="785880" y="3676680"/>
            <a:ext cx="976320" cy="842760"/>
          </a:xfrm>
          <a:prstGeom prst="rect">
            <a:avLst/>
          </a:prstGeom>
          <a:ln w="0">
            <a:noFill/>
          </a:ln>
        </p:spPr>
      </p:pic>
      <p:sp>
        <p:nvSpPr>
          <p:cNvPr id="609" name="Slide Number Placeholder 58"/>
          <p:cNvSpPr/>
          <p:nvPr/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8444-44A7-4340-9AE0-A2A5319C68F1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of 1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1" descr=""/>
          <p:cNvPicPr/>
          <p:nvPr/>
        </p:nvPicPr>
        <p:blipFill>
          <a:blip r:embed="rId1"/>
          <a:stretch/>
        </p:blipFill>
        <p:spPr>
          <a:xfrm>
            <a:off x="190440" y="1617840"/>
            <a:ext cx="6191280" cy="35985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42472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Book Antiqua"/>
              </a:rPr>
              <a:t>ValuePick</a:t>
            </a:r>
            <a:r>
              <a:rPr b="0" lang="en-US" sz="4000" spc="-1" strike="noStrike">
                <a:solidFill>
                  <a:srgbClr val="1f497d"/>
                </a:solidFill>
                <a:latin typeface="Tahoma"/>
              </a:rPr>
              <a:t> Optimization Framework</a:t>
            </a: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612" name="TextBox 5"/>
          <p:cNvSpPr/>
          <p:nvPr/>
        </p:nvSpPr>
        <p:spPr>
          <a:xfrm>
            <a:off x="1933560" y="1044720"/>
            <a:ext cx="1384200" cy="1007640"/>
          </a:xfrm>
          <a:prstGeom prst="rect">
            <a:avLst/>
          </a:pr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value”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613" name="Straight Arrow Connector 6"/>
          <p:cNvCxnSpPr>
            <a:stCxn id="612" idx="2"/>
          </p:cNvCxnSpPr>
          <p:nvPr/>
        </p:nvCxnSpPr>
        <p:spPr>
          <a:xfrm>
            <a:off x="2625840" y="1598400"/>
            <a:ext cx="313200" cy="440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4" name="TextBox 10"/>
          <p:cNvSpPr/>
          <p:nvPr/>
        </p:nvSpPr>
        <p:spPr>
          <a:xfrm>
            <a:off x="3745080" y="1027080"/>
            <a:ext cx="1806480" cy="1007640"/>
          </a:xfrm>
          <a:prstGeom prst="rect">
            <a:avLst/>
          </a:pr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proximity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615" name="Straight Arrow Connector 11"/>
          <p:cNvCxnSpPr/>
          <p:nvPr/>
        </p:nvCxnSpPr>
        <p:spPr>
          <a:xfrm flipH="1">
            <a:off x="3827160" y="1566360"/>
            <a:ext cx="288000" cy="445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6" name="TextBox 15"/>
          <p:cNvSpPr/>
          <p:nvPr/>
        </p:nvSpPr>
        <p:spPr>
          <a:xfrm>
            <a:off x="4540320" y="1920960"/>
            <a:ext cx="671400" cy="554040"/>
          </a:xfrm>
          <a:prstGeom prst="rect">
            <a:avLst/>
          </a:prstGeom>
          <a:solidFill>
            <a:srgbClr val="92d05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TextBox 16"/>
          <p:cNvSpPr/>
          <p:nvPr/>
        </p:nvSpPr>
        <p:spPr>
          <a:xfrm>
            <a:off x="2055960" y="2773440"/>
            <a:ext cx="1836720" cy="1463760"/>
          </a:xfrm>
          <a:prstGeom prst="rect">
            <a:avLst/>
          </a:prstGeom>
          <a:solidFill>
            <a:srgbClr val="92d05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618" name="Straight Arrow Connector 18"/>
          <p:cNvCxnSpPr>
            <a:endCxn id="619" idx="3"/>
          </p:cNvCxnSpPr>
          <p:nvPr/>
        </p:nvCxnSpPr>
        <p:spPr>
          <a:xfrm flipH="1" flipV="1">
            <a:off x="5303160" y="2252160"/>
            <a:ext cx="680040" cy="334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0" name="TextBox 20"/>
          <p:cNvSpPr/>
          <p:nvPr/>
        </p:nvSpPr>
        <p:spPr>
          <a:xfrm>
            <a:off x="5996160" y="1636560"/>
            <a:ext cx="2990520" cy="2226960"/>
          </a:xfrm>
          <a:prstGeom prst="rect">
            <a:avLst/>
          </a:pr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expected ga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assuming proximity ~ acceptance prob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TextBox 28"/>
          <p:cNvSpPr/>
          <p:nvPr/>
        </p:nvSpPr>
        <p:spPr>
          <a:xfrm>
            <a:off x="7015320" y="3984480"/>
            <a:ext cx="1806480" cy="1559880"/>
          </a:xfrm>
          <a:prstGeom prst="rect">
            <a:avLst/>
          </a:pr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oleranc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ϵ [0,1]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622" name="Straight Arrow Connector 29"/>
          <p:cNvCxnSpPr>
            <a:stCxn id="621" idx="1"/>
            <a:endCxn id="623" idx="3"/>
          </p:cNvCxnSpPr>
          <p:nvPr/>
        </p:nvCxnSpPr>
        <p:spPr>
          <a:xfrm flipH="1">
            <a:off x="6381360" y="4537440"/>
            <a:ext cx="634320" cy="27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9" name="Rectangle 30"/>
          <p:cNvSpPr/>
          <p:nvPr/>
        </p:nvSpPr>
        <p:spPr>
          <a:xfrm>
            <a:off x="1946160" y="1763640"/>
            <a:ext cx="3357720" cy="979560"/>
          </a:xfrm>
          <a:prstGeom prst="rect">
            <a:avLst/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32"/>
          <p:cNvSpPr/>
          <p:nvPr/>
        </p:nvSpPr>
        <p:spPr>
          <a:xfrm>
            <a:off x="5607000" y="4533840"/>
            <a:ext cx="774720" cy="554040"/>
          </a:xfrm>
          <a:prstGeom prst="rect">
            <a:avLst/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Rectangle 33"/>
          <p:cNvSpPr/>
          <p:nvPr/>
        </p:nvSpPr>
        <p:spPr>
          <a:xfrm>
            <a:off x="3035160" y="4314960"/>
            <a:ext cx="557280" cy="479160"/>
          </a:xfrm>
          <a:prstGeom prst="rect">
            <a:avLst/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TextBox 34"/>
          <p:cNvSpPr/>
          <p:nvPr/>
        </p:nvSpPr>
        <p:spPr>
          <a:xfrm>
            <a:off x="2730600" y="5616720"/>
            <a:ext cx="4087800" cy="1464480"/>
          </a:xfrm>
          <a:prstGeom prst="rect">
            <a:avLst/>
          </a:pr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verage proximity score of original top-k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626" name="Straight Arrow Connector 35"/>
          <p:cNvCxnSpPr>
            <a:endCxn id="624" idx="2"/>
          </p:cNvCxnSpPr>
          <p:nvPr/>
        </p:nvCxnSpPr>
        <p:spPr>
          <a:xfrm flipH="1" flipV="1">
            <a:off x="3312720" y="4793400"/>
            <a:ext cx="200880" cy="862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7" name="TextBox 16"/>
          <p:cNvSpPr/>
          <p:nvPr/>
        </p:nvSpPr>
        <p:spPr>
          <a:xfrm>
            <a:off x="2552760" y="1901880"/>
            <a:ext cx="1787400" cy="554040"/>
          </a:xfrm>
          <a:prstGeom prst="rect">
            <a:avLst/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Slide Number Placeholder 39"/>
          <p:cNvSpPr/>
          <p:nvPr/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524A-4DE1-4AB4-9AF0-DD0FFFCE94C1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of 1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 rot="5400000">
            <a:off x="8184600" y="624960"/>
            <a:ext cx="14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20:05:00Z</dcterms:created>
  <dc:creator>Polo Chau</dc:creator>
  <dc:description/>
  <dc:language>en-US</dc:language>
  <cp:lastModifiedBy>School of Computer Science</cp:lastModifiedBy>
  <dcterms:modified xsi:type="dcterms:W3CDTF">2010-12-07T05:10:54Z</dcterms:modified>
  <cp:revision>914</cp:revision>
  <dc:subject/>
  <dc:title>Detecting Fraudulent Personalities in Networks of Online Auctioneers</dc:title>
</cp:coreProperties>
</file>