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42.png" ContentType="image/png"/>
  <Override PartName="/ppt/media/image43.png" ContentType="image/png"/>
  <Override PartName="/ppt/media/image33.png" ContentType="image/png"/>
  <Override PartName="/ppt/media/image45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46.png" ContentType="image/png"/>
  <Override PartName="/ppt/media/image47.png" ContentType="image/png"/>
  <Override PartName="/ppt/media/image35.gif" ContentType="image/gif"/>
  <Override PartName="/ppt/media/image28.png" ContentType="image/png"/>
  <Override PartName="/ppt/media/image7.jpeg" ContentType="image/jpeg"/>
  <Override PartName="/ppt/media/image2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3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A3B0-037A-406C-B8E7-746FA0B49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D26A-7EDB-49AD-8A09-D65E89CD2F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frie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products (movies, books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0133-B7C8-430C-9691-3ED880E1FF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frie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products (movies, books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57F6-ADB4-4AB6-AE53-C8CFA74C15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frie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products (movies, books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5FFA-134B-4F0B-BB90-57D4AAD18F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frie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products (movies, books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50AB-0A53-42C6-961B-AAE54D0065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frie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recommend products (movies, books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BB7A-7CD8-41EE-85D3-9B0394FE7C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3CC-4CAF-4957-8AEF-D0BEA063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F07-D8B1-4675-BAE8-DFC30D1A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4DCE1-B03F-4C1E-B4B2-857F6D90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951521-F1E8-4264-9F81-EB5B1A4D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CE12F7-76B2-48CB-9697-8379BF66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DBC4CC-BEEE-4D37-9982-C58B2BB4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9EF6D9-24DA-43DB-8B8D-E8CF2981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0DF2E2-E5FE-43E2-89FE-5ADFF16F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2CA3C9-607B-4B14-AD5F-11957ECF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079ECB-41E0-43CB-91B0-11670D25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2E6F76-6A07-404E-ABBA-596B7D39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54AC39-D487-483D-94A6-4F16EDEC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09D-7023-4295-9415-8AAA025E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2D360D-3011-431C-A215-364A8767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3F72CF-C00D-4066-9285-5E3C4DC8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9BB1D2-0373-4721-944B-E2952C73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76866A-B345-466F-BDBC-69C4BD2A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9CF061-E648-4466-B3B3-4224EF25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3E47FE-4AAF-4616-B1DF-B133D9DF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0D7C58-09AC-45FF-B07A-63D075FB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F730C7-898F-4FDE-8AC1-975275B7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1387E1-4B63-4AB5-800E-FAED9B2E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CA2A40-F3A2-4466-B20A-1F749721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36A-96A2-405D-9624-B38411A6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225CC1-CC9D-4FE1-91C7-5714B84F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42D-B491-46A9-B8D2-A7F75A5A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64094-670B-44F6-B4AF-195BC2FE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782D0-FA4B-456A-8E94-D41F9FD1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9EE9B-014C-4A76-BB76-141EDE28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59C7C-B95D-4438-A247-500A1CB1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C33BB-7A09-4B5F-A178-B6A434C9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7FE-890B-4B8A-9261-A4B602E0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D84A0-30EC-4519-8A17-4DE88288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34137-A9DE-45B7-A2B6-A7A6F479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7F200-93ED-4AC9-9212-6E641EB5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37C73-B68A-4048-A3BC-44B04D31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52B85-2BE8-44C8-B57E-38C78E9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64945-3A5C-4CB8-A1E4-472FCF09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38C15-CA9A-4F2E-BE30-21D10B3D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7DA52-F9F7-4D4A-8E5F-2D0F95F2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E1AC0D-F272-4726-AEA4-F2E1B868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FC68F8-D695-4928-A856-7015F4E1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BFB-8098-46B9-ACF7-59C092D7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5E52E-8E92-4A51-9083-56BFB851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47E9E-2C7F-4880-A479-46F72CA7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63B0F-B9F8-4813-BD51-5C111AB0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47662-6376-4E68-AA7D-C73CEF36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5FD57-4148-4A5E-ADEC-AA8AC683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6392F-107A-4683-8288-AF81CDB3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99646-AD87-46DB-ADCE-8ED05FAF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889F9-C4F6-4FD3-A1A4-8AD69647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93D312-9C25-4AB2-BE88-351B3083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73211-6E8E-4879-811A-23D6C70C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EDE-C073-4B8A-ADC9-3B15C09A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60F37-E053-4853-9AB6-FEED63EC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78819-A715-4E18-BCA7-6C8CA85A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FC991-DC90-44EC-A303-56EABF6F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1EAF2-1A8E-43E0-AEDF-11818330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7B65C-144F-40DD-A506-709249BF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53A4D-CD8C-4B6B-8DF0-F9B6FC87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883E5-5CCC-4E6A-AD4B-54574DDA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A4821-E0A3-4BF0-A280-A34C86DD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0C5E5-C7B3-4421-B3B2-2E049D1B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8A561-54E3-4EA5-8DC4-E948E09F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1F7-ED87-44F2-90AB-D00982E9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7BAD5-34CA-422A-88BB-18AAE9DC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40AEE-F5F4-4E81-BB51-6E3D8AF2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04D1E-4516-43D4-8772-B74CF2AA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D4506-EDC5-489B-9854-2DEE8F8F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8C577-6576-42A0-9B94-BE549B4E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6CC13-105D-4460-AE90-C31B0F37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98D55-8CA8-4315-A2D8-CE1FD08C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FD27A-5453-45DC-8408-9F7C4FFF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40F2A-95F7-4AAF-B758-B3B5170A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8AA1F4-05E1-4154-8B81-7AB09983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77A-118E-475A-A1A5-B72B6A2D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59D0C2-F098-435A-AC98-5E585661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9F91F-1014-4DEC-8F8A-11B2EFF2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73843-69E5-4F71-9FD3-DB902A4F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7745D4-A239-46BE-8FED-EEC5ACDF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24F18-2A63-4251-B5F2-EE0DD975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E30A9-87BA-4F66-A209-51A0807F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86EEB-D743-46B5-9C18-67D4CF08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47AD6-A534-48DA-B60F-22F4623F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72E23-1E55-42BE-96CA-76BC9374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FE14C-0F63-47F2-BBEA-9487611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7D9-1F1C-4A02-97FB-C6EC49E7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FA4C3-AC75-404D-B5B5-AC5ED2BD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6BF3C8-62D8-406A-89B5-0701B98E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FD716-082B-4D06-AAC2-E4DE73E7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923E4-FC41-404C-8953-4EC5F0AE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E758C-CAD0-4519-BE6C-A66DDF9C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2305A5-4D4D-4474-B7FE-AB62DFB6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543D61-02E3-477A-9649-6DAA3CE3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08955A-D311-49DB-97DC-951C5B10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AEB288-7E1E-406F-B9EA-43E013C7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2AABDF-CA31-4B4A-A872-1DE898FE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1EF-58B6-40C0-9ECE-A8ED5A3A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A738A3-4E9E-429F-A9E2-A101B385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F7F10E-59B3-4AD7-8757-90E6B13A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10642C-9514-4A61-ADB5-85D1F49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1417D4-92B1-49E5-9295-B2640FEF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710867-3D06-405A-A6F6-764A335B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4272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29BC0-CD40-43CA-902C-A979E94C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24272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3066CC-DBD2-46C4-AEB3-CF3C3F60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B46742-1448-40EC-98C9-EA980D7C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2B08AF-453E-42E1-BAE9-1021CFDC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6BF6E-6676-4821-B7F4-FA3C87BC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01C8-29AE-4852-A7F8-5EDE73BB294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/>
          <a:stretch/>
        </p:blipFill>
        <p:spPr>
          <a:xfrm>
            <a:off x="465120" y="6246720"/>
            <a:ext cx="1544760" cy="4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ECD8-1B01-4257-A331-F6A79227612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22440" y="990720"/>
            <a:ext cx="7924680" cy="91440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851120" y="3230640"/>
            <a:ext cx="65116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473D-7CC5-45E9-B3C5-2C555EB25AC5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FF8F-18FF-48A5-9C43-CA6E8914DF6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4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3BDB-E9A7-426D-8BAD-71AE808DA075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7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21F3-5524-4D50-A42F-27877B99DF3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0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0324-41A2-4AD7-986B-C140FA6F331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8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3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B2A2-F3E9-4EA5-B215-AC2CE37D738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4" name="Object 9"/>
          <p:cNvGraphicFramePr/>
          <p:nvPr/>
        </p:nvGraphicFramePr>
        <p:xfrm>
          <a:off x="8488440" y="6330960"/>
          <a:ext cx="274680" cy="28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8440" y="6330960"/>
                    <a:ext cx="2746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6" name="Picture 11" descr="C:\Users\leman\Desktop\ibm-logo.jpg"/>
          <p:cNvPicPr/>
          <p:nvPr/>
        </p:nvPicPr>
        <p:blipFill>
          <a:blip r:embed="rId4">
            <a:grayscl/>
          </a:blip>
          <a:stretch/>
        </p:blipFill>
        <p:spPr>
          <a:xfrm>
            <a:off x="469800" y="6345360"/>
            <a:ext cx="525600" cy="24588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51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22400" indent="-35100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339920" indent="-316080">
              <a:spcBef>
                <a:spcPts val="751"/>
              </a:spcBef>
              <a:buClr>
                <a:srgbClr val="c0504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681200" indent="-339840">
              <a:spcBef>
                <a:spcPts val="751"/>
              </a:spcBef>
              <a:buClr>
                <a:srgbClr val="4f81b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6"/>
          </p:nvPr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5D50-B8B8-4435-97EF-2C797A54B5B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21.png"/><Relationship Id="rId6" Type="http://schemas.openxmlformats.org/officeDocument/2006/relationships/image" Target="../media/image23.png"/><Relationship Id="rId7" Type="http://schemas.openxmlformats.org/officeDocument/2006/relationships/image" Target="../media/image38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18.jpe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png"/><Relationship Id="rId3" Type="http://schemas.openxmlformats.org/officeDocument/2006/relationships/image" Target="../media/image35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21.png"/><Relationship Id="rId6" Type="http://schemas.openxmlformats.org/officeDocument/2006/relationships/image" Target="../media/image23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6" descr=""/>
          <p:cNvPicPr/>
          <p:nvPr/>
        </p:nvPicPr>
        <p:blipFill>
          <a:blip r:embed="rId1"/>
          <a:stretch/>
        </p:blipFill>
        <p:spPr>
          <a:xfrm>
            <a:off x="0" y="4649760"/>
            <a:ext cx="9144000" cy="22226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9040" y="1149480"/>
            <a:ext cx="73040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  <a:ea typeface="바탕"/>
              </a:rPr>
              <a:t>ValuePic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바탕"/>
              </a:rPr>
              <a:t>: Towards a Value-Oriented Dual-Goal Recommender System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2031840" y="3234960"/>
            <a:ext cx="6274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Leman Akog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hristos Falout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414360" y="4722840"/>
            <a:ext cx="82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OEDM in conjunction with ICDM 2010                       Sydney, Austral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10" descr=""/>
          <p:cNvPicPr/>
          <p:nvPr/>
        </p:nvPicPr>
        <p:blipFill>
          <a:blip r:embed="rId2"/>
          <a:stretch/>
        </p:blipFill>
        <p:spPr>
          <a:xfrm>
            <a:off x="4032360" y="3913200"/>
            <a:ext cx="2151000" cy="5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2472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Book Antiqua"/>
              </a:rPr>
              <a:t>ValuePick</a:t>
            </a: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 ~ 0-1 Knapsack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417600" y="1623960"/>
            <a:ext cx="5951520" cy="35751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5"/>
          <p:cNvSpPr/>
          <p:nvPr/>
        </p:nvSpPr>
        <p:spPr>
          <a:xfrm>
            <a:off x="4376880" y="1058760"/>
            <a:ext cx="1162080" cy="55080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33" name="Straight Arrow Connector 6"/>
          <p:cNvCxnSpPr>
            <a:stCxn id="632" idx="1"/>
          </p:cNvCxnSpPr>
          <p:nvPr/>
        </p:nvCxnSpPr>
        <p:spPr>
          <a:xfrm flipH="1">
            <a:off x="3931560" y="1334160"/>
            <a:ext cx="445320" cy="586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4" name="TextBox 16"/>
          <p:cNvSpPr/>
          <p:nvPr/>
        </p:nvSpPr>
        <p:spPr>
          <a:xfrm>
            <a:off x="2081160" y="3230640"/>
            <a:ext cx="1798560" cy="100656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Box 28"/>
          <p:cNvSpPr/>
          <p:nvPr/>
        </p:nvSpPr>
        <p:spPr>
          <a:xfrm>
            <a:off x="6745320" y="3975120"/>
            <a:ext cx="1915920" cy="192132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aximum weight W allow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36" name="Straight Arrow Connector 29"/>
          <p:cNvCxnSpPr>
            <a:stCxn id="635" idx="1"/>
          </p:cNvCxnSpPr>
          <p:nvPr/>
        </p:nvCxnSpPr>
        <p:spPr>
          <a:xfrm flipH="1" flipV="1">
            <a:off x="6212880" y="4659120"/>
            <a:ext cx="532440" cy="56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7" name="Rectangle 30"/>
          <p:cNvSpPr/>
          <p:nvPr/>
        </p:nvSpPr>
        <p:spPr>
          <a:xfrm>
            <a:off x="2625840" y="1973160"/>
            <a:ext cx="1646280" cy="58752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Rectangle 32"/>
          <p:cNvSpPr/>
          <p:nvPr/>
        </p:nvSpPr>
        <p:spPr>
          <a:xfrm>
            <a:off x="5481720" y="4514760"/>
            <a:ext cx="774720" cy="55404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33"/>
          <p:cNvSpPr/>
          <p:nvPr/>
        </p:nvSpPr>
        <p:spPr>
          <a:xfrm>
            <a:off x="3035160" y="4314960"/>
            <a:ext cx="1511280" cy="87156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Box 34"/>
          <p:cNvSpPr/>
          <p:nvPr/>
        </p:nvSpPr>
        <p:spPr>
          <a:xfrm>
            <a:off x="2730600" y="5616720"/>
            <a:ext cx="295092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eight of item 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41" name="Straight Arrow Connector 35"/>
          <p:cNvCxnSpPr>
            <a:endCxn id="639" idx="2"/>
          </p:cNvCxnSpPr>
          <p:nvPr/>
        </p:nvCxnSpPr>
        <p:spPr>
          <a:xfrm flipV="1">
            <a:off x="3512160" y="5185800"/>
            <a:ext cx="278280" cy="470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2" name="Horizontal Scroll 39"/>
          <p:cNvSpPr/>
          <p:nvPr/>
        </p:nvSpPr>
        <p:spPr>
          <a:xfrm>
            <a:off x="3970440" y="1247760"/>
            <a:ext cx="4701960" cy="3070080"/>
          </a:xfrm>
          <a:prstGeom prst="horizontalScroll">
            <a:avLst>
              <a:gd name="adj" fmla="val 12500"/>
            </a:avLst>
          </a:prstGeom>
          <a:solidFill>
            <a:srgbClr val="00763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 use CPLEX to solve our integer programming optimization proble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Slide Number Placeholder 15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2108-6912-47B6-900E-EA0AF7F9AA80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7"/>
          <p:cNvSpPr/>
          <p:nvPr/>
        </p:nvSpPr>
        <p:spPr>
          <a:xfrm rot="5400000">
            <a:off x="8184600" y="62496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Pros and Cons of </a:t>
            </a:r>
            <a:r>
              <a:rPr b="1" lang="en-US" sz="4400" spc="-1" strike="noStrike">
                <a:solidFill>
                  <a:srgbClr val="1f497d"/>
                </a:solidFill>
                <a:latin typeface="Book Antiqua"/>
              </a:rPr>
              <a:t>ValuePick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798480" y="1242720"/>
            <a:ext cx="808344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Cons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marketing, it is hard to predict the effect of an intervention in the marketing scheme, i.e.,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not clear how users will respond to ‘adjustment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Pro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Tolerance </a:t>
            </a:r>
            <a:r>
              <a:rPr b="0" lang="el-GR" sz="2800" spc="-1" strike="noStrike">
                <a:solidFill>
                  <a:srgbClr val="00b050"/>
                </a:solidFill>
                <a:latin typeface="Tahoma"/>
              </a:rPr>
              <a:t>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flexibly (and even dynamically) control the `level-of-adjustment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2960" indent="-3121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ate same item differently at different times, i.e.,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users have natural variability in their deci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7" name="Picture 143" descr="sad2"/>
          <p:cNvPicPr/>
          <p:nvPr/>
        </p:nvPicPr>
        <p:blipFill>
          <a:blip r:embed="rId1"/>
          <a:stretch/>
        </p:blipFill>
        <p:spPr>
          <a:xfrm>
            <a:off x="345960" y="1827360"/>
            <a:ext cx="731880" cy="7315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42" descr="happy"/>
          <p:cNvPicPr/>
          <p:nvPr/>
        </p:nvPicPr>
        <p:blipFill>
          <a:blip r:embed="rId2"/>
          <a:stretch/>
        </p:blipFill>
        <p:spPr>
          <a:xfrm>
            <a:off x="287280" y="420516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649" name="Slide Number Placeholder 8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63A5-5F43-497B-A12E-A3D40485ACA7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Experimental Setup I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24272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wo real network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Netscienc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– collaboration n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ahoma"/>
              </a:rPr>
              <a:t>DBLP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– co-authorship n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 recommendation scheme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c0504d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 Gain Optimization  (</a:t>
            </a:r>
            <a:r>
              <a:rPr b="0" lang="el-GR" sz="2600" spc="-1" strike="noStrike">
                <a:solidFill>
                  <a:srgbClr val="00b050"/>
                </a:solidFill>
                <a:latin typeface="Tahoma"/>
              </a:rPr>
              <a:t>ζ</a:t>
            </a:r>
            <a:r>
              <a:rPr b="0" lang="en-US" sz="2600" spc="-1" strike="noStrike">
                <a:solidFill>
                  <a:srgbClr val="00b050"/>
                </a:solidFill>
                <a:latin typeface="Tahoma"/>
              </a:rPr>
              <a:t> = 0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c0504d"/>
              </a:buClr>
              <a:buSzPct val="6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ValuePick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l-GR" sz="2600" spc="-1" strike="noStrike">
                <a:solidFill>
                  <a:srgbClr val="00b050"/>
                </a:solidFill>
                <a:latin typeface="Tahoma"/>
              </a:rPr>
              <a:t>ζ</a:t>
            </a:r>
            <a:r>
              <a:rPr b="0" lang="en-US" sz="2600" spc="-1" strike="noStrike">
                <a:solidFill>
                  <a:srgbClr val="00b050"/>
                </a:solidFill>
                <a:latin typeface="Tahoma"/>
              </a:rPr>
              <a:t> = 0.01, </a:t>
            </a:r>
            <a:r>
              <a:rPr b="0" lang="el-GR" sz="2600" spc="-1" strike="noStrike">
                <a:solidFill>
                  <a:srgbClr val="00b050"/>
                </a:solidFill>
                <a:latin typeface="Tahoma"/>
              </a:rPr>
              <a:t>ζ</a:t>
            </a:r>
            <a:r>
              <a:rPr b="0" lang="en-US" sz="2600" spc="-1" strike="noStrike">
                <a:solidFill>
                  <a:srgbClr val="00b050"/>
                </a:solidFill>
                <a:latin typeface="Tahoma"/>
              </a:rPr>
              <a:t> = 0.02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c0504d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x Gain Optimization (</a:t>
            </a:r>
            <a:r>
              <a:rPr b="0" lang="el-GR" sz="2600" spc="-1" strike="noStrike">
                <a:solidFill>
                  <a:srgbClr val="00b050"/>
                </a:solidFill>
                <a:latin typeface="Tahoma"/>
              </a:rPr>
              <a:t>ζ</a:t>
            </a:r>
            <a:r>
              <a:rPr b="0" lang="en-US" sz="2600" spc="-1" strike="noStrike">
                <a:solidFill>
                  <a:srgbClr val="00b050"/>
                </a:solidFill>
                <a:latin typeface="Tahoma"/>
              </a:rPr>
              <a:t> = 1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49"/>
              </a:spcBef>
              <a:buClr>
                <a:srgbClr val="c0504d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” is cent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B978-8B7D-48FA-834B-AF7D3DA8E678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Experimental Setup II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17520" y="1761840"/>
            <a:ext cx="8447040" cy="359892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recommendation scheme </a:t>
            </a:r>
            <a:r>
              <a:rPr b="0" lang="en-US" sz="4400" spc="-1" strike="noStrike">
                <a:solidFill>
                  <a:srgbClr val="0000ff"/>
                </a:solidFill>
                <a:latin typeface="CMMI6"/>
                <a:ea typeface="CMMI6"/>
              </a:rPr>
              <a:t>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 </a:t>
            </a:r>
            <a:r>
              <a:rPr b="0" lang="en-US" sz="3200" spc="-1" strike="noStrike">
                <a:solidFill>
                  <a:srgbClr val="0000ff"/>
                </a:solidFill>
                <a:latin typeface="CMMI6"/>
                <a:ea typeface="CMMI6"/>
              </a:rPr>
              <a:t>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82040" indent="-234000">
              <a:spcBef>
                <a:spcPts val="799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node </a:t>
            </a:r>
            <a:r>
              <a:rPr b="0" lang="en-US" sz="3200" spc="-1" strike="noStrike">
                <a:solidFill>
                  <a:srgbClr val="0000ff"/>
                </a:solidFill>
                <a:latin typeface="CMMI6"/>
                <a:ea typeface="CMMI6"/>
              </a:rPr>
              <a:t>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35840" indent="-252720">
              <a:spcBef>
                <a:spcPts val="7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 set </a:t>
            </a:r>
            <a:r>
              <a:rPr b="0" lang="en-US" sz="2800" spc="-1" strike="noStrike">
                <a:solidFill>
                  <a:srgbClr val="0000ff"/>
                </a:solidFill>
                <a:latin typeface="CMBSY10"/>
                <a:ea typeface="CMBSY10"/>
              </a:rPr>
              <a:t>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recommendations to node </a:t>
            </a:r>
            <a:r>
              <a:rPr b="0" lang="en-US" sz="2800" spc="-1" strike="noStrike">
                <a:solidFill>
                  <a:srgbClr val="0000ff"/>
                </a:solidFill>
                <a:latin typeface="CMMI6"/>
                <a:ea typeface="CMMI6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</a:t>
            </a:r>
            <a:r>
              <a:rPr b="0" lang="en-US" sz="3200" spc="-1" strike="noStrike">
                <a:solidFill>
                  <a:srgbClr val="0000ff"/>
                </a:solidFill>
                <a:latin typeface="CMMI6"/>
                <a:ea typeface="CMMI6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35840" indent="-252720">
              <a:spcBef>
                <a:spcPts val="60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</a:t>
            </a:r>
            <a:r>
              <a:rPr b="0" lang="en-US" sz="2800" spc="-1" strike="noStrike">
                <a:solidFill>
                  <a:srgbClr val="0000ff"/>
                </a:solidFill>
                <a:latin typeface="CMMI6"/>
                <a:ea typeface="CMMI6"/>
              </a:rPr>
              <a:t>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to node </a:t>
            </a:r>
            <a:r>
              <a:rPr b="0" lang="en-US" sz="2800" spc="-1" strike="noStrike">
                <a:solidFill>
                  <a:srgbClr val="0000ff"/>
                </a:solidFill>
                <a:latin typeface="CMMI6"/>
                <a:ea typeface="CMMI6"/>
              </a:rPr>
              <a:t>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ϵ</a:t>
            </a:r>
            <a:r>
              <a:rPr b="0" lang="en-US" sz="2800" spc="-1" strike="noStrike">
                <a:solidFill>
                  <a:srgbClr val="0000ff"/>
                </a:solidFill>
                <a:latin typeface="CMBSY10"/>
                <a:ea typeface="CMBSY10"/>
              </a:rPr>
              <a:t>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ob.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roximity(</a:t>
            </a:r>
            <a:r>
              <a:rPr b="0" lang="en-US" sz="2400" spc="-1" strike="noStrike">
                <a:solidFill>
                  <a:srgbClr val="0000ff"/>
                </a:solidFill>
                <a:latin typeface="CMMI6"/>
                <a:ea typeface="CMMI6"/>
              </a:rPr>
              <a:t>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CMMI6"/>
                <a:ea typeface="CMMI6"/>
              </a:rPr>
              <a:t>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040" indent="-2340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compute proximity and centrality sc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35840" indent="-252720">
              <a:spcBef>
                <a:spcPts val="55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82040" indent="-23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Box 4"/>
          <p:cNvSpPr/>
          <p:nvPr/>
        </p:nvSpPr>
        <p:spPr>
          <a:xfrm>
            <a:off x="237600" y="1106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mulation step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609840" y="55720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e use </a:t>
            </a:r>
            <a:r>
              <a:rPr b="0" lang="en-US" sz="2800" spc="-1" strike="noStrike">
                <a:solidFill>
                  <a:srgbClr val="0000ff"/>
                </a:solidFill>
                <a:latin typeface="CMMI6"/>
                <a:ea typeface="CMMI6"/>
              </a:rPr>
              <a:t>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=5 and </a:t>
            </a:r>
            <a:r>
              <a:rPr b="0" lang="en-US" sz="2800" spc="-1" strike="noStrike">
                <a:solidFill>
                  <a:srgbClr val="0000ff"/>
                </a:solidFill>
                <a:latin typeface="CMMI6"/>
                <a:ea typeface="CMMI6"/>
              </a:rPr>
              <a:t>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=3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Slide Number Placeholder 6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BA96-69AA-4006-84AE-C4E28BABAB40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omparison of schemes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"/>
          <a:stretch/>
        </p:blipFill>
        <p:spPr>
          <a:xfrm>
            <a:off x="279360" y="1219320"/>
            <a:ext cx="8307360" cy="3705120"/>
          </a:xfrm>
          <a:prstGeom prst="rect">
            <a:avLst/>
          </a:prstGeom>
          <a:ln w="0">
            <a:noFill/>
          </a:ln>
        </p:spPr>
      </p:pic>
      <p:sp>
        <p:nvSpPr>
          <p:cNvPr id="660" name="TextBox 6"/>
          <p:cNvSpPr/>
          <p:nvPr/>
        </p:nvSpPr>
        <p:spPr>
          <a:xfrm>
            <a:off x="720720" y="5113440"/>
            <a:ext cx="7854840" cy="1191240"/>
          </a:xfrm>
          <a:prstGeom prst="rect">
            <a:avLst/>
          </a:pr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ValueP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vides a balance between user satisfaction (high E), and vendor gain (small diamete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8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B3D0-C9F2-4E32-B746-696898D61ED7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Recommend by          heuristic   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64" name="TextBox 8"/>
          <p:cNvSpPr/>
          <p:nvPr/>
        </p:nvSpPr>
        <p:spPr>
          <a:xfrm>
            <a:off x="1114560" y="4910040"/>
            <a:ext cx="7048440" cy="825480"/>
          </a:xfrm>
          <a:prstGeom prst="rect">
            <a:avLst/>
          </a:pr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perturbation heuristics do not balance user satisfaction and vendor gain properl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5" name="Picture 2" descr=""/>
          <p:cNvPicPr/>
          <p:nvPr/>
        </p:nvPicPr>
        <p:blipFill>
          <a:blip r:embed="rId1"/>
          <a:stretch/>
        </p:blipFill>
        <p:spPr>
          <a:xfrm>
            <a:off x="471600" y="1212840"/>
            <a:ext cx="7985160" cy="36291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3" descr=""/>
          <p:cNvPicPr/>
          <p:nvPr/>
        </p:nvPicPr>
        <p:blipFill>
          <a:blip r:embed="rId2"/>
          <a:stretch/>
        </p:blipFill>
        <p:spPr>
          <a:xfrm>
            <a:off x="4295880" y="271440"/>
            <a:ext cx="1419120" cy="79704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Slide Number Placeholder 14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A189-99B2-47E8-B84B-2EA1B785F797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omputational complexity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70" name="Rectangle 7"/>
          <p:cNvSpPr/>
          <p:nvPr/>
        </p:nvSpPr>
        <p:spPr>
          <a:xfrm rot="5400000">
            <a:off x="7973640" y="8283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Slide Number Placeholder 8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56E5-6530-4241-8B65-FA6D84876143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2" name="Picture 7" descr=""/>
          <p:cNvPicPr/>
          <p:nvPr/>
        </p:nvPicPr>
        <p:blipFill>
          <a:blip r:embed="rId1"/>
          <a:stretch/>
        </p:blipFill>
        <p:spPr>
          <a:xfrm>
            <a:off x="476280" y="1643040"/>
            <a:ext cx="4471920" cy="3573360"/>
          </a:xfrm>
          <a:prstGeom prst="rect">
            <a:avLst/>
          </a:prstGeom>
          <a:ln w="0">
            <a:noFill/>
          </a:ln>
        </p:spPr>
      </p:pic>
      <p:sp>
        <p:nvSpPr>
          <p:cNvPr id="673" name="TextBox 7"/>
          <p:cNvSpPr/>
          <p:nvPr/>
        </p:nvSpPr>
        <p:spPr>
          <a:xfrm>
            <a:off x="5130720" y="1492200"/>
            <a:ext cx="3589560" cy="3691080"/>
          </a:xfrm>
          <a:prstGeom prst="rect">
            <a:avLst/>
          </a:pr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ing </a:t>
            </a:r>
            <a:r>
              <a:rPr b="1" lang="en-US" sz="2400" spc="-1" strike="noStrike">
                <a:solidFill>
                  <a:srgbClr val="000000"/>
                </a:solidFill>
                <a:latin typeface="CMMI8"/>
                <a:ea typeface="CMMI8"/>
              </a:rPr>
              <a:t>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Pick recommendations to a given node invol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finding PPR scor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O(#edg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- solving ValuePick  optimization w/ C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1/10 sec. to solve  among top 1K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f497d"/>
                </a:solidFill>
                <a:latin typeface="Tahoma"/>
              </a:rPr>
              <a:t>Conclusions</a:t>
            </a:r>
            <a:endParaRPr b="0" lang="en-US" sz="4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97128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ahoma"/>
              </a:rPr>
              <a:t>Problem formulation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 the “value” of recommendations into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ahoma"/>
              </a:rPr>
              <a:t>Design of </a:t>
            </a:r>
            <a:r>
              <a:rPr b="1" lang="en-US" sz="3200" spc="-1" strike="noStrike">
                <a:solidFill>
                  <a:srgbClr val="00b050"/>
                </a:solidFill>
                <a:latin typeface="Book Antiqua"/>
              </a:rPr>
              <a:t>ValuePick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arsimoni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ingle parameter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lexi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just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each user dynamical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e any “value”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Tahoma"/>
              </a:rPr>
              <a:t>Performance stud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s to show proper trade of user acceptance in exchange for higher 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3120" indent="-3218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LEX with fast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D531-F6EB-42B3-BEAF-8075C408FDC3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19"/>
          <p:cNvGrpSpPr/>
          <p:nvPr/>
        </p:nvGrpSpPr>
        <p:grpSpPr>
          <a:xfrm>
            <a:off x="1976400" y="2745360"/>
            <a:ext cx="5473800" cy="3411000"/>
            <a:chOff x="1976400" y="2745360"/>
            <a:chExt cx="5473800" cy="3411000"/>
          </a:xfrm>
        </p:grpSpPr>
        <p:pic>
          <p:nvPicPr>
            <p:cNvPr id="678" name="Picture 16" descr=""/>
            <p:cNvPicPr/>
            <p:nvPr/>
          </p:nvPicPr>
          <p:blipFill>
            <a:blip r:embed="rId1"/>
            <a:stretch/>
          </p:blipFill>
          <p:spPr>
            <a:xfrm>
              <a:off x="3174480" y="3092400"/>
              <a:ext cx="3067200" cy="30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19" descr=""/>
            <p:cNvPicPr/>
            <p:nvPr/>
          </p:nvPicPr>
          <p:blipFill>
            <a:blip r:embed="rId2"/>
            <a:stretch/>
          </p:blipFill>
          <p:spPr>
            <a:xfrm>
              <a:off x="1976400" y="3442680"/>
              <a:ext cx="160668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8" descr=""/>
            <p:cNvPicPr/>
            <p:nvPr/>
          </p:nvPicPr>
          <p:blipFill>
            <a:blip r:embed="rId3"/>
            <a:stretch/>
          </p:blipFill>
          <p:spPr>
            <a:xfrm>
              <a:off x="5843520" y="2859120"/>
              <a:ext cx="160668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5" descr=""/>
            <p:cNvPicPr/>
            <p:nvPr/>
          </p:nvPicPr>
          <p:blipFill>
            <a:blip r:embed="rId4"/>
            <a:stretch/>
          </p:blipFill>
          <p:spPr>
            <a:xfrm rot="21077400">
              <a:off x="2229840" y="3093480"/>
              <a:ext cx="4617720" cy="22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2" name="Group 19"/>
          <p:cNvGrpSpPr/>
          <p:nvPr/>
        </p:nvGrpSpPr>
        <p:grpSpPr>
          <a:xfrm>
            <a:off x="1789200" y="3786120"/>
            <a:ext cx="5997600" cy="1754640"/>
            <a:chOff x="1789200" y="3786120"/>
            <a:chExt cx="5997600" cy="1754640"/>
          </a:xfrm>
        </p:grpSpPr>
        <p:sp>
          <p:nvSpPr>
            <p:cNvPr id="683" name="Text Box 9"/>
            <p:cNvSpPr/>
            <p:nvPr/>
          </p:nvSpPr>
          <p:spPr>
            <a:xfrm>
              <a:off x="1789200" y="4370400"/>
              <a:ext cx="213372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User 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Text Box 9"/>
            <p:cNvSpPr/>
            <p:nvPr/>
          </p:nvSpPr>
          <p:spPr>
            <a:xfrm>
              <a:off x="5925960" y="3786120"/>
              <a:ext cx="18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Vendor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85" name="Picture 2" descr=""/>
            <p:cNvPicPr/>
            <p:nvPr/>
          </p:nvPicPr>
          <p:blipFill>
            <a:blip r:embed="rId5"/>
            <a:stretch/>
          </p:blipFill>
          <p:spPr>
            <a:xfrm>
              <a:off x="6518520" y="4270320"/>
              <a:ext cx="290520" cy="3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6" name="Picture 5" descr=""/>
          <p:cNvPicPr/>
          <p:nvPr/>
        </p:nvPicPr>
        <p:blipFill>
          <a:blip r:embed="rId6"/>
          <a:stretch/>
        </p:blipFill>
        <p:spPr>
          <a:xfrm>
            <a:off x="2570040" y="4861080"/>
            <a:ext cx="392400" cy="35388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28"/>
          <p:cNvSpPr/>
          <p:nvPr/>
        </p:nvSpPr>
        <p:spPr>
          <a:xfrm>
            <a:off x="7724520" y="225900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b050"/>
                </a:solidFill>
                <a:latin typeface="Tahoma"/>
              </a:rPr>
              <a:t>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ight Brace 29"/>
          <p:cNvSpPr/>
          <p:nvPr/>
        </p:nvSpPr>
        <p:spPr>
          <a:xfrm>
            <a:off x="7199280" y="2233440"/>
            <a:ext cx="501840" cy="644760"/>
          </a:xfrm>
          <a:custGeom>
            <a:avLst/>
            <a:gdLst>
              <a:gd name="textAreaLeft" fmla="*/ 0 w 501840"/>
              <a:gd name="textAreaRight" fmla="*/ 181080 w 501840"/>
              <a:gd name="textAreaTop" fmla="*/ 12960 h 644760"/>
              <a:gd name="textAreaBottom" fmla="*/ 631800 h 64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9"/>
                  <a:pt x="10800" y="1397"/>
                </a:cubicBezTo>
                <a:lnTo>
                  <a:pt x="10800" y="9403"/>
                </a:lnTo>
                <a:cubicBezTo>
                  <a:pt x="10800" y="10102"/>
                  <a:pt x="16200" y="10800"/>
                  <a:pt x="21600" y="10800"/>
                </a:cubicBezTo>
                <a:cubicBezTo>
                  <a:pt x="16200" y="10800"/>
                  <a:pt x="10800" y="11499"/>
                  <a:pt x="10800" y="12197"/>
                </a:cubicBezTo>
                <a:lnTo>
                  <a:pt x="10800" y="20203"/>
                </a:lnTo>
                <a:cubicBezTo>
                  <a:pt x="10800" y="20902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9" name="Picture 15" descr=""/>
          <p:cNvPicPr/>
          <p:nvPr/>
        </p:nvPicPr>
        <p:blipFill>
          <a:blip r:embed="rId7"/>
          <a:stretch/>
        </p:blipFill>
        <p:spPr>
          <a:xfrm rot="20065800">
            <a:off x="2315880" y="3109680"/>
            <a:ext cx="4616280" cy="230040"/>
          </a:xfrm>
          <a:prstGeom prst="rect">
            <a:avLst/>
          </a:prstGeom>
          <a:ln w="0">
            <a:noFill/>
          </a:ln>
        </p:spPr>
      </p:pic>
      <p:cxnSp>
        <p:nvCxnSpPr>
          <p:cNvPr id="690" name="Curved Connector 45"/>
          <p:cNvCxnSpPr/>
          <p:nvPr/>
        </p:nvCxnSpPr>
        <p:spPr>
          <a:xfrm rot="10800000">
            <a:off x="2256840" y="3556800"/>
            <a:ext cx="284400" cy="664200"/>
          </a:xfrm>
          <a:prstGeom prst="curvedConnector5">
            <a:avLst>
              <a:gd name="adj1" fmla="val 189860"/>
              <a:gd name="adj2" fmla="val 50000"/>
              <a:gd name="adj3" fmla="val 189860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1" name="Curved Connector 51"/>
          <p:cNvCxnSpPr/>
          <p:nvPr/>
        </p:nvCxnSpPr>
        <p:spPr>
          <a:xfrm flipH="1" flipV="1">
            <a:off x="6706800" y="2228040"/>
            <a:ext cx="115200" cy="631080"/>
          </a:xfrm>
          <a:prstGeom prst="curvedConnector5">
            <a:avLst>
              <a:gd name="adj1" fmla="val -297178"/>
              <a:gd name="adj2" fmla="val 50000"/>
              <a:gd name="adj3" fmla="val -297178"/>
            </a:avLst>
          </a:prstGeom>
          <a:ln w="38160">
            <a:solidFill>
              <a:srgbClr val="ff0000"/>
            </a:solidFill>
            <a:miter/>
            <a:headEnd len="med" type="arrow" w="med"/>
          </a:ln>
        </p:spPr>
      </p:cxnSp>
      <p:sp>
        <p:nvSpPr>
          <p:cNvPr id="692" name=""/>
          <p:cNvSpPr txBox="1"/>
          <p:nvPr/>
        </p:nvSpPr>
        <p:spPr>
          <a:xfrm>
            <a:off x="681120" y="0"/>
            <a:ext cx="718344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88080" indent="-290520" algn="ctr">
              <a:lnSpc>
                <a:spcPct val="83000"/>
              </a:lnSpc>
              <a:spcBef>
                <a:spcPts val="9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88080" indent="-290520" algn="ctr">
              <a:lnSpc>
                <a:spcPct val="83000"/>
              </a:lnSpc>
              <a:spcBef>
                <a:spcPts val="9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88080" indent="-290520" algn="ctr">
              <a:lnSpc>
                <a:spcPct val="83000"/>
              </a:lnSpc>
              <a:spcBef>
                <a:spcPts val="9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www.cs.cmu.edu/~lakogl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88080" indent="-290520" algn="ctr">
              <a:lnSpc>
                <a:spcPct val="83000"/>
              </a:lnSpc>
              <a:spcBef>
                <a:spcPts val="9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lakoglu@cs.cmu.ed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88080" indent="-290520">
              <a:spcBef>
                <a:spcPts val="90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8"/>
          <a:stretch/>
        </p:blipFill>
        <p:spPr>
          <a:xfrm>
            <a:off x="4842000" y="4795920"/>
            <a:ext cx="963360" cy="830160"/>
          </a:xfrm>
          <a:prstGeom prst="rect">
            <a:avLst/>
          </a:prstGeom>
          <a:ln w="0">
            <a:noFill/>
          </a:ln>
        </p:spPr>
      </p:pic>
      <p:sp>
        <p:nvSpPr>
          <p:cNvPr id="694" name="Slide Number Placeholder 17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EFC7-E1FE-4041-A5D6-F975B6B27CF8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8920" y="182520"/>
            <a:ext cx="906912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Recommender Systems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457200" y="5348160"/>
            <a:ext cx="83678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196920" y="1143000"/>
            <a:ext cx="3849480" cy="3710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2"/>
          <a:stretch/>
        </p:blipFill>
        <p:spPr>
          <a:xfrm>
            <a:off x="4689360" y="3703680"/>
            <a:ext cx="4179960" cy="1913040"/>
          </a:xfrm>
          <a:prstGeom prst="rect">
            <a:avLst/>
          </a:prstGeom>
          <a:ln w="0">
            <a:noFill/>
          </a:ln>
        </p:spPr>
      </p:pic>
      <p:grpSp>
        <p:nvGrpSpPr>
          <p:cNvPr id="470" name="Group 64"/>
          <p:cNvGrpSpPr/>
          <p:nvPr/>
        </p:nvGrpSpPr>
        <p:grpSpPr>
          <a:xfrm>
            <a:off x="5207040" y="1249200"/>
            <a:ext cx="1797120" cy="1916280"/>
            <a:chOff x="5207040" y="1249200"/>
            <a:chExt cx="1797120" cy="1916280"/>
          </a:xfrm>
        </p:grpSpPr>
        <p:pic>
          <p:nvPicPr>
            <p:cNvPr id="471" name="Picture 2" descr="C:\Documents and Settings\Samaneh\Desktop\images1.jpg"/>
            <p:cNvPicPr/>
            <p:nvPr/>
          </p:nvPicPr>
          <p:blipFill>
            <a:blip r:embed="rId3"/>
            <a:stretch/>
          </p:blipFill>
          <p:spPr>
            <a:xfrm>
              <a:off x="5812920" y="1975320"/>
              <a:ext cx="523080" cy="5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3" descr="C:\Documents and Settings\Samaneh\Desktop\2.jpg"/>
            <p:cNvPicPr/>
            <p:nvPr/>
          </p:nvPicPr>
          <p:blipFill>
            <a:blip r:embed="rId4"/>
            <a:stretch/>
          </p:blipFill>
          <p:spPr>
            <a:xfrm>
              <a:off x="5207400" y="1359720"/>
              <a:ext cx="56880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6" descr="C:\Documents and Settings\Samaneh\Desktop\5.jpg"/>
            <p:cNvPicPr/>
            <p:nvPr/>
          </p:nvPicPr>
          <p:blipFill>
            <a:blip r:embed="rId5"/>
            <a:stretch/>
          </p:blipFill>
          <p:spPr>
            <a:xfrm>
              <a:off x="5207040" y="2280600"/>
              <a:ext cx="416160" cy="52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7" descr="C:\Documents and Settings\Samaneh\Desktop\6.jpg"/>
            <p:cNvPicPr/>
            <p:nvPr/>
          </p:nvPicPr>
          <p:blipFill>
            <a:blip r:embed="rId6"/>
            <a:stretch/>
          </p:blipFill>
          <p:spPr>
            <a:xfrm>
              <a:off x="6534720" y="2324160"/>
              <a:ext cx="294480" cy="49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12" descr="C:\Documents and Settings\Samaneh\Desktop\11.jpg"/>
            <p:cNvPicPr/>
            <p:nvPr/>
          </p:nvPicPr>
          <p:blipFill>
            <a:blip r:embed="rId7"/>
            <a:stretch/>
          </p:blipFill>
          <p:spPr>
            <a:xfrm>
              <a:off x="6519600" y="1605960"/>
              <a:ext cx="416160" cy="5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15" descr="C:\Documents and Settings\Samaneh\Desktop\14.jpg"/>
            <p:cNvPicPr/>
            <p:nvPr/>
          </p:nvPicPr>
          <p:blipFill>
            <a:blip r:embed="rId8"/>
            <a:stretch/>
          </p:blipFill>
          <p:spPr>
            <a:xfrm>
              <a:off x="6031440" y="1249200"/>
              <a:ext cx="258840" cy="40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5" descr="C:\Documents and Settings\Samaneh\Desktop\4.jpg"/>
            <p:cNvPicPr/>
            <p:nvPr/>
          </p:nvPicPr>
          <p:blipFill>
            <a:blip r:embed="rId9"/>
            <a:stretch/>
          </p:blipFill>
          <p:spPr>
            <a:xfrm>
              <a:off x="5957280" y="2720160"/>
              <a:ext cx="355320" cy="44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Oval 15" descr=""/>
            <p:cNvPicPr/>
            <p:nvPr/>
          </p:nvPicPr>
          <p:blipFill>
            <a:blip r:embed="rId10"/>
            <a:stretch/>
          </p:blipFill>
          <p:spPr>
            <a:xfrm>
              <a:off x="6955920" y="2426040"/>
              <a:ext cx="48240" cy="4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9" name="Picture 5" descr=""/>
          <p:cNvPicPr/>
          <p:nvPr/>
        </p:nvPicPr>
        <p:blipFill>
          <a:blip r:embed="rId11"/>
          <a:stretch/>
        </p:blipFill>
        <p:spPr>
          <a:xfrm>
            <a:off x="4255920" y="1905120"/>
            <a:ext cx="749520" cy="17953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12"/>
          <a:stretch/>
        </p:blipFill>
        <p:spPr>
          <a:xfrm>
            <a:off x="374760" y="1193760"/>
            <a:ext cx="1182600" cy="4460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"/>
          <p:cNvPicPr/>
          <p:nvPr/>
        </p:nvPicPr>
        <p:blipFill>
          <a:blip r:embed="rId13"/>
          <a:stretch/>
        </p:blipFill>
        <p:spPr>
          <a:xfrm>
            <a:off x="7743960" y="3713040"/>
            <a:ext cx="1125360" cy="4525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8" descr="http://www.daltondefendersbowl.com/Pictures/amazon%20logo.jpg"/>
          <p:cNvPicPr/>
          <p:nvPr/>
        </p:nvPicPr>
        <p:blipFill>
          <a:blip r:embed="rId14"/>
          <a:srcRect l="12668" t="30754" r="12334" b="24759"/>
          <a:stretch/>
        </p:blipFill>
        <p:spPr>
          <a:xfrm>
            <a:off x="6880320" y="927000"/>
            <a:ext cx="1833480" cy="4827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19"/>
          <p:cNvSpPr/>
          <p:nvPr/>
        </p:nvSpPr>
        <p:spPr>
          <a:xfrm>
            <a:off x="550800" y="5016600"/>
            <a:ext cx="8327880" cy="1036080"/>
          </a:xfrm>
          <a:prstGeom prst="rect">
            <a:avLst/>
          </a:pr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recommender systems try to achie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user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Slide Number Placeholder 20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3A3A-C91C-445C-8942-6594B0C0EF27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58920" y="182520"/>
            <a:ext cx="906912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Dual-goal Recommender Systems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457200" y="5348160"/>
            <a:ext cx="83678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Picture 2" descr="C:\Documents and Settings\Samaneh\Desktop\images1.jpg"/>
          <p:cNvPicPr/>
          <p:nvPr/>
        </p:nvPicPr>
        <p:blipFill>
          <a:blip r:embed="rId1"/>
          <a:stretch/>
        </p:blipFill>
        <p:spPr>
          <a:xfrm>
            <a:off x="6535800" y="1832040"/>
            <a:ext cx="527040" cy="5065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C:\Documents and Settings\Samaneh\Desktop\2.jpg"/>
          <p:cNvPicPr/>
          <p:nvPr/>
        </p:nvPicPr>
        <p:blipFill>
          <a:blip r:embed="rId2"/>
          <a:stretch/>
        </p:blipFill>
        <p:spPr>
          <a:xfrm>
            <a:off x="5925960" y="1216080"/>
            <a:ext cx="573120" cy="71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C:\Documents and Settings\Samaneh\Desktop\5.jpg"/>
          <p:cNvPicPr/>
          <p:nvPr/>
        </p:nvPicPr>
        <p:blipFill>
          <a:blip r:embed="rId3"/>
          <a:stretch/>
        </p:blipFill>
        <p:spPr>
          <a:xfrm>
            <a:off x="5925960" y="2136600"/>
            <a:ext cx="419400" cy="5223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C:\Documents and Settings\Samaneh\Desktop\6.jpg"/>
          <p:cNvPicPr/>
          <p:nvPr/>
        </p:nvPicPr>
        <p:blipFill>
          <a:blip r:embed="rId4"/>
          <a:stretch/>
        </p:blipFill>
        <p:spPr>
          <a:xfrm>
            <a:off x="7262640" y="2181240"/>
            <a:ext cx="295560" cy="4921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2" descr="C:\Documents and Settings\Samaneh\Desktop\11.jpg"/>
          <p:cNvPicPr/>
          <p:nvPr/>
        </p:nvPicPr>
        <p:blipFill>
          <a:blip r:embed="rId5"/>
          <a:stretch/>
        </p:blipFill>
        <p:spPr>
          <a:xfrm>
            <a:off x="7246800" y="1461960"/>
            <a:ext cx="419400" cy="525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5" descr="C:\Documents and Settings\Samaneh\Desktop\14.jpg"/>
          <p:cNvPicPr/>
          <p:nvPr/>
        </p:nvPicPr>
        <p:blipFill>
          <a:blip r:embed="rId6"/>
          <a:stretch/>
        </p:blipFill>
        <p:spPr>
          <a:xfrm>
            <a:off x="6754680" y="1104840"/>
            <a:ext cx="262080" cy="407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C:\Documents and Settings\Samaneh\Desktop\4.jpg"/>
          <p:cNvPicPr/>
          <p:nvPr/>
        </p:nvPicPr>
        <p:blipFill>
          <a:blip r:embed="rId7"/>
          <a:stretch/>
        </p:blipFill>
        <p:spPr>
          <a:xfrm>
            <a:off x="6680160" y="2576520"/>
            <a:ext cx="358920" cy="444600"/>
          </a:xfrm>
          <a:prstGeom prst="rect">
            <a:avLst/>
          </a:prstGeom>
          <a:ln w="0">
            <a:noFill/>
          </a:ln>
        </p:spPr>
      </p:pic>
      <p:pic>
        <p:nvPicPr>
          <p:cNvPr id="494" name="Oval 15" descr=""/>
          <p:cNvPicPr/>
          <p:nvPr/>
        </p:nvPicPr>
        <p:blipFill>
          <a:blip r:embed="rId8"/>
          <a:stretch/>
        </p:blipFill>
        <p:spPr>
          <a:xfrm>
            <a:off x="7686720" y="2279520"/>
            <a:ext cx="49320" cy="558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9"/>
          <a:stretch/>
        </p:blipFill>
        <p:spPr>
          <a:xfrm>
            <a:off x="576360" y="1343160"/>
            <a:ext cx="742680" cy="17953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8" descr="http://www.daltondefendersbowl.com/Pictures/amazon%20logo.jpg"/>
          <p:cNvPicPr/>
          <p:nvPr/>
        </p:nvPicPr>
        <p:blipFill>
          <a:blip r:embed="rId10"/>
          <a:srcRect l="12668" t="30754" r="12334" b="24759"/>
          <a:stretch/>
        </p:blipFill>
        <p:spPr>
          <a:xfrm>
            <a:off x="5956200" y="3387600"/>
            <a:ext cx="1833840" cy="482760"/>
          </a:xfrm>
          <a:prstGeom prst="rect">
            <a:avLst/>
          </a:prstGeom>
          <a:ln w="0">
            <a:noFill/>
          </a:ln>
        </p:spPr>
      </p:pic>
      <p:sp>
        <p:nvSpPr>
          <p:cNvPr id="497" name="TextBox 19"/>
          <p:cNvSpPr/>
          <p:nvPr/>
        </p:nvSpPr>
        <p:spPr>
          <a:xfrm>
            <a:off x="768240" y="4297320"/>
            <a:ext cx="7763040" cy="1978200"/>
          </a:xfrm>
          <a:prstGeom prst="rect">
            <a:avLst/>
          </a:pr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al-goal recommender systems try to achie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) high user satisfac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 high-“value” vendor 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1"/>
          <a:stretch/>
        </p:blipFill>
        <p:spPr>
          <a:xfrm>
            <a:off x="3984480" y="2579760"/>
            <a:ext cx="274680" cy="3841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"/>
          <p:cNvPicPr/>
          <p:nvPr/>
        </p:nvPicPr>
        <p:blipFill>
          <a:blip r:embed="rId12"/>
          <a:stretch/>
        </p:blipFill>
        <p:spPr>
          <a:xfrm>
            <a:off x="3654360" y="1477800"/>
            <a:ext cx="273240" cy="3844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13"/>
          <a:stretch/>
        </p:blipFill>
        <p:spPr>
          <a:xfrm>
            <a:off x="3629160" y="2576520"/>
            <a:ext cx="272880" cy="3841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"/>
          <p:cNvPicPr/>
          <p:nvPr/>
        </p:nvPicPr>
        <p:blipFill>
          <a:blip r:embed="rId14"/>
          <a:stretch/>
        </p:blipFill>
        <p:spPr>
          <a:xfrm>
            <a:off x="3564000" y="1020600"/>
            <a:ext cx="1676160" cy="428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"/>
          <p:cNvPicPr/>
          <p:nvPr/>
        </p:nvPicPr>
        <p:blipFill>
          <a:blip r:embed="rId15"/>
          <a:stretch/>
        </p:blipFill>
        <p:spPr>
          <a:xfrm>
            <a:off x="3559320" y="2152800"/>
            <a:ext cx="1676160" cy="428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"/>
          <p:cNvPicPr/>
          <p:nvPr/>
        </p:nvPicPr>
        <p:blipFill>
          <a:blip r:embed="rId16"/>
          <a:stretch/>
        </p:blipFill>
        <p:spPr>
          <a:xfrm>
            <a:off x="404640" y="1327320"/>
            <a:ext cx="352440" cy="330120"/>
          </a:xfrm>
          <a:prstGeom prst="rect">
            <a:avLst/>
          </a:prstGeom>
          <a:ln w="0">
            <a:noFill/>
          </a:ln>
        </p:spPr>
      </p:pic>
      <p:sp>
        <p:nvSpPr>
          <p:cNvPr id="504" name="TextBox 29"/>
          <p:cNvSpPr/>
          <p:nvPr/>
        </p:nvSpPr>
        <p:spPr>
          <a:xfrm>
            <a:off x="436680" y="299880"/>
            <a:ext cx="2209680" cy="58140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“valu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7"/>
          <a:stretch/>
        </p:blipFill>
        <p:spPr>
          <a:xfrm>
            <a:off x="639720" y="366840"/>
            <a:ext cx="317520" cy="446040"/>
          </a:xfrm>
          <a:prstGeom prst="rect">
            <a:avLst/>
          </a:prstGeom>
          <a:ln w="0">
            <a:noFill/>
          </a:ln>
        </p:spPr>
      </p:pic>
      <p:sp>
        <p:nvSpPr>
          <p:cNvPr id="506" name="Horizontal Scroll 32"/>
          <p:cNvSpPr/>
          <p:nvPr/>
        </p:nvSpPr>
        <p:spPr>
          <a:xfrm>
            <a:off x="2990880" y="784080"/>
            <a:ext cx="3672000" cy="2820960"/>
          </a:xfrm>
          <a:prstGeom prst="horizontalScroll">
            <a:avLst>
              <a:gd name="adj" fmla="val 12500"/>
            </a:avLst>
          </a:prstGeom>
          <a:solidFill>
            <a:srgbClr val="00763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Trade-off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r satisfaction vs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vendor profi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Slide Number Placeholder 24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0723-107B-4C72-93AC-5912C1C55C97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-0.34288 -0.13519 E">
                                      <p:cBhvr>
                                        <p:cTn id="18" dur="5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4842 0.025 E">
                                      <p:cBhvr>
                                        <p:cTn id="21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004 0.0287 L -0.59289 -0.04931 E">
                                      <p:cBhvr>
                                        <p:cTn id="45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L -0.25868 0.04005 E">
                                      <p:cBhvr>
                                        <p:cTn id="47" dur="5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L 0.15868 0.11436 E">
                                      <p:cBhvr>
                                        <p:cTn id="63" dur="5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15296 0.11435 E">
                                      <p:cBhvr>
                                        <p:cTn id="65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2" descr=""/>
          <p:cNvPicPr/>
          <p:nvPr/>
        </p:nvPicPr>
        <p:blipFill>
          <a:blip r:embed="rId1"/>
          <a:stretch/>
        </p:blipFill>
        <p:spPr>
          <a:xfrm>
            <a:off x="135000" y="542880"/>
            <a:ext cx="9009000" cy="55976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5"/>
          <p:cNvSpPr/>
          <p:nvPr/>
        </p:nvSpPr>
        <p:spPr>
          <a:xfrm>
            <a:off x="250920" y="784080"/>
            <a:ext cx="8777160" cy="53038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5348160"/>
            <a:ext cx="83678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2"/>
          <a:stretch/>
        </p:blipFill>
        <p:spPr>
          <a:xfrm>
            <a:off x="252360" y="1379520"/>
            <a:ext cx="4981680" cy="3629160"/>
          </a:xfrm>
          <a:prstGeom prst="rect">
            <a:avLst/>
          </a:prstGeom>
          <a:ln w="0">
            <a:noFill/>
          </a:ln>
        </p:spPr>
      </p:pic>
      <p:sp>
        <p:nvSpPr>
          <p:cNvPr id="512" name="TextBox 26"/>
          <p:cNvSpPr/>
          <p:nvPr/>
        </p:nvSpPr>
        <p:spPr>
          <a:xfrm>
            <a:off x="3735360" y="784080"/>
            <a:ext cx="499104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ertices ranked by proximit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Box 31"/>
          <p:cNvSpPr/>
          <p:nvPr/>
        </p:nvSpPr>
        <p:spPr>
          <a:xfrm>
            <a:off x="5762880" y="1528920"/>
            <a:ext cx="1028160" cy="5508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253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Box 32"/>
          <p:cNvSpPr/>
          <p:nvPr/>
        </p:nvSpPr>
        <p:spPr>
          <a:xfrm>
            <a:off x="5758920" y="2073240"/>
            <a:ext cx="1028160" cy="5508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16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Box 33"/>
          <p:cNvSpPr/>
          <p:nvPr/>
        </p:nvSpPr>
        <p:spPr>
          <a:xfrm>
            <a:off x="5772600" y="2620800"/>
            <a:ext cx="1028160" cy="550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26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Box 34"/>
          <p:cNvSpPr/>
          <p:nvPr/>
        </p:nvSpPr>
        <p:spPr>
          <a:xfrm>
            <a:off x="5785200" y="3170160"/>
            <a:ext cx="1028160" cy="550800"/>
          </a:xfrm>
          <a:prstGeom prst="rect">
            <a:avLst/>
          </a:prstGeom>
          <a:solidFill>
            <a:srgbClr val="ff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327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TextBox 35"/>
          <p:cNvSpPr/>
          <p:nvPr/>
        </p:nvSpPr>
        <p:spPr>
          <a:xfrm>
            <a:off x="6197400" y="3718080"/>
            <a:ext cx="282960" cy="165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Oval 36"/>
          <p:cNvSpPr/>
          <p:nvPr/>
        </p:nvSpPr>
        <p:spPr>
          <a:xfrm>
            <a:off x="3182760" y="2079720"/>
            <a:ext cx="1476720" cy="103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Oval 37"/>
          <p:cNvSpPr/>
          <p:nvPr/>
        </p:nvSpPr>
        <p:spPr>
          <a:xfrm>
            <a:off x="5508720" y="1353960"/>
            <a:ext cx="1476360" cy="193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68200" y="182520"/>
            <a:ext cx="79498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Dual-goal Recommender Systems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21" name="TextBox 54"/>
          <p:cNvSpPr/>
          <p:nvPr/>
        </p:nvSpPr>
        <p:spPr>
          <a:xfrm>
            <a:off x="5943600" y="5511960"/>
            <a:ext cx="3108240" cy="55080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etwork-“value”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Picture 6" descr=""/>
          <p:cNvPicPr/>
          <p:nvPr/>
        </p:nvPicPr>
        <p:blipFill>
          <a:blip r:embed="rId3"/>
          <a:stretch/>
        </p:blipFill>
        <p:spPr>
          <a:xfrm>
            <a:off x="7056360" y="1600200"/>
            <a:ext cx="1562040" cy="419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"/>
          <p:cNvPicPr/>
          <p:nvPr/>
        </p:nvPicPr>
        <p:blipFill>
          <a:blip r:embed="rId4"/>
          <a:stretch/>
        </p:blipFill>
        <p:spPr>
          <a:xfrm>
            <a:off x="7027920" y="2174760"/>
            <a:ext cx="1619280" cy="4190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5"/>
          <a:stretch/>
        </p:blipFill>
        <p:spPr>
          <a:xfrm>
            <a:off x="7078680" y="2736720"/>
            <a:ext cx="1542960" cy="3906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"/>
          <p:cNvPicPr/>
          <p:nvPr/>
        </p:nvPicPr>
        <p:blipFill>
          <a:blip r:embed="rId6"/>
          <a:stretch/>
        </p:blipFill>
        <p:spPr>
          <a:xfrm>
            <a:off x="7051680" y="3301920"/>
            <a:ext cx="1571760" cy="409680"/>
          </a:xfrm>
          <a:prstGeom prst="rect">
            <a:avLst/>
          </a:prstGeom>
          <a:ln w="0">
            <a:noFill/>
          </a:ln>
        </p:spPr>
      </p:pic>
      <p:cxnSp>
        <p:nvCxnSpPr>
          <p:cNvPr id="526" name="Straight Arrow Connector 61"/>
          <p:cNvCxnSpPr/>
          <p:nvPr/>
        </p:nvCxnSpPr>
        <p:spPr>
          <a:xfrm flipV="1">
            <a:off x="7183800" y="3839760"/>
            <a:ext cx="523080" cy="158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7" name="Slide Number Placeholder 22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E9AA-3C32-4230-85D0-2E57A5C45ACF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8" name="Picture 22" descr=""/>
          <p:cNvPicPr/>
          <p:nvPr/>
        </p:nvPicPr>
        <p:blipFill>
          <a:blip r:embed="rId7"/>
          <a:stretch/>
        </p:blipFill>
        <p:spPr>
          <a:xfrm>
            <a:off x="2678040" y="2550960"/>
            <a:ext cx="465120" cy="23184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2"/>
          <p:cNvSpPr/>
          <p:nvPr/>
        </p:nvSpPr>
        <p:spPr>
          <a:xfrm>
            <a:off x="1851120" y="5327640"/>
            <a:ext cx="238428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query vertex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0" name="Straight Arrow Connector 23"/>
          <p:cNvCxnSpPr>
            <a:stCxn id="529" idx="0"/>
          </p:cNvCxnSpPr>
          <p:nvPr/>
        </p:nvCxnSpPr>
        <p:spPr>
          <a:xfrm flipV="1">
            <a:off x="3042000" y="4360320"/>
            <a:ext cx="567720" cy="9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5"/>
          <p:cNvSpPr/>
          <p:nvPr/>
        </p:nvSpPr>
        <p:spPr>
          <a:xfrm>
            <a:off x="209520" y="784080"/>
            <a:ext cx="8777160" cy="53038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57200" y="5348160"/>
            <a:ext cx="83678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Box 31"/>
          <p:cNvSpPr/>
          <p:nvPr/>
        </p:nvSpPr>
        <p:spPr>
          <a:xfrm>
            <a:off x="6024960" y="1554120"/>
            <a:ext cx="1028160" cy="5508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253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Box 32"/>
          <p:cNvSpPr/>
          <p:nvPr/>
        </p:nvSpPr>
        <p:spPr>
          <a:xfrm>
            <a:off x="6020280" y="2098800"/>
            <a:ext cx="1028160" cy="5508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16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Box 33"/>
          <p:cNvSpPr/>
          <p:nvPr/>
        </p:nvSpPr>
        <p:spPr>
          <a:xfrm>
            <a:off x="6032880" y="2647800"/>
            <a:ext cx="1028160" cy="550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26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Box 34"/>
          <p:cNvSpPr/>
          <p:nvPr/>
        </p:nvSpPr>
        <p:spPr>
          <a:xfrm>
            <a:off x="6045480" y="3195720"/>
            <a:ext cx="1028160" cy="550800"/>
          </a:xfrm>
          <a:prstGeom prst="rect">
            <a:avLst/>
          </a:prstGeom>
          <a:solidFill>
            <a:srgbClr val="ff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327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Box 35"/>
          <p:cNvSpPr/>
          <p:nvPr/>
        </p:nvSpPr>
        <p:spPr>
          <a:xfrm>
            <a:off x="6457680" y="3822840"/>
            <a:ext cx="282960" cy="165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Oval 37"/>
          <p:cNvSpPr/>
          <p:nvPr/>
        </p:nvSpPr>
        <p:spPr>
          <a:xfrm>
            <a:off x="5783400" y="1379520"/>
            <a:ext cx="1474560" cy="1938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Arc 51"/>
          <p:cNvSpPr/>
          <p:nvPr/>
        </p:nvSpPr>
        <p:spPr>
          <a:xfrm flipH="1">
            <a:off x="5734080" y="2925720"/>
            <a:ext cx="719280" cy="627120"/>
          </a:xfrm>
          <a:prstGeom prst="pie">
            <a:avLst/>
          </a:prstGeom>
          <a:noFill/>
          <a:ln w="442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Freeform 18"/>
          <p:cNvSpPr/>
          <p:nvPr/>
        </p:nvSpPr>
        <p:spPr>
          <a:xfrm>
            <a:off x="2754360" y="2273400"/>
            <a:ext cx="2211480" cy="895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Freeform 21"/>
          <p:cNvSpPr/>
          <p:nvPr/>
        </p:nvSpPr>
        <p:spPr>
          <a:xfrm>
            <a:off x="2782800" y="2289240"/>
            <a:ext cx="2181240" cy="833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1168560" y="182520"/>
            <a:ext cx="79498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Dual-goal Recommender Syste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Box 29"/>
          <p:cNvSpPr/>
          <p:nvPr/>
        </p:nvSpPr>
        <p:spPr>
          <a:xfrm>
            <a:off x="3735360" y="784080"/>
            <a:ext cx="499104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ertices ranked by proximit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Picture 6" descr=""/>
          <p:cNvPicPr/>
          <p:nvPr/>
        </p:nvPicPr>
        <p:blipFill>
          <a:blip r:embed="rId2"/>
          <a:stretch/>
        </p:blipFill>
        <p:spPr>
          <a:xfrm>
            <a:off x="7383600" y="1600200"/>
            <a:ext cx="1562040" cy="4190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"/>
          <p:cNvPicPr/>
          <p:nvPr/>
        </p:nvPicPr>
        <p:blipFill>
          <a:blip r:embed="rId3"/>
          <a:stretch/>
        </p:blipFill>
        <p:spPr>
          <a:xfrm>
            <a:off x="7354800" y="2174760"/>
            <a:ext cx="1619280" cy="4190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"/>
          <p:cNvPicPr/>
          <p:nvPr/>
        </p:nvPicPr>
        <p:blipFill>
          <a:blip r:embed="rId4"/>
          <a:stretch/>
        </p:blipFill>
        <p:spPr>
          <a:xfrm>
            <a:off x="7405560" y="2736720"/>
            <a:ext cx="1543320" cy="3906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"/>
          <p:cNvPicPr/>
          <p:nvPr/>
        </p:nvPicPr>
        <p:blipFill>
          <a:blip r:embed="rId5"/>
          <a:stretch/>
        </p:blipFill>
        <p:spPr>
          <a:xfrm>
            <a:off x="7378560" y="3301920"/>
            <a:ext cx="1571760" cy="4096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41"/>
          <p:cNvSpPr/>
          <p:nvPr/>
        </p:nvSpPr>
        <p:spPr>
          <a:xfrm>
            <a:off x="5943600" y="5511960"/>
            <a:ext cx="3108240" cy="55080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etwork-“value”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50" name="Straight Arrow Connector 42"/>
          <p:cNvCxnSpPr/>
          <p:nvPr/>
        </p:nvCxnSpPr>
        <p:spPr>
          <a:xfrm flipV="1">
            <a:off x="7183800" y="3839760"/>
            <a:ext cx="523080" cy="158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1" name="Picture 28" descr=""/>
          <p:cNvPicPr/>
          <p:nvPr/>
        </p:nvPicPr>
        <p:blipFill>
          <a:blip r:embed="rId6"/>
          <a:stretch/>
        </p:blipFill>
        <p:spPr>
          <a:xfrm>
            <a:off x="712800" y="1360440"/>
            <a:ext cx="4994280" cy="3645000"/>
          </a:xfrm>
          <a:prstGeom prst="rect">
            <a:avLst/>
          </a:prstGeom>
          <a:ln w="0">
            <a:noFill/>
          </a:ln>
        </p:spPr>
      </p:pic>
      <p:sp>
        <p:nvSpPr>
          <p:cNvPr id="552" name="Freeform 22"/>
          <p:cNvSpPr/>
          <p:nvPr/>
        </p:nvSpPr>
        <p:spPr>
          <a:xfrm>
            <a:off x="2873520" y="2139840"/>
            <a:ext cx="1998360" cy="930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28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222F-3FBD-42CE-9618-20375C473E45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0.00139 0.08773 E">
                                      <p:cBhvr>
                                        <p:cTn id="163" dur="5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0764 L -0.00157 -0.0743 E">
                                      <p:cBhvr>
                                        <p:cTn id="165" dur="5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-0.00139 0.08564 E">
                                      <p:cBhvr>
                                        <p:cTn id="167" dur="5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-0.00278 -0.0838 E">
                                      <p:cBhvr>
                                        <p:cTn id="169" dur="5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5"/>
          <p:cNvSpPr/>
          <p:nvPr/>
        </p:nvSpPr>
        <p:spPr>
          <a:xfrm>
            <a:off x="209520" y="784080"/>
            <a:ext cx="8777160" cy="53038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68200" y="182520"/>
            <a:ext cx="79498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Dual-goal Recommender Systems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457200" y="5348160"/>
            <a:ext cx="83678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6077160" y="1554120"/>
            <a:ext cx="1028160" cy="5508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253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Box 32"/>
          <p:cNvSpPr/>
          <p:nvPr/>
        </p:nvSpPr>
        <p:spPr>
          <a:xfrm>
            <a:off x="6072480" y="2098800"/>
            <a:ext cx="1028160" cy="5508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162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Box 33"/>
          <p:cNvSpPr/>
          <p:nvPr/>
        </p:nvSpPr>
        <p:spPr>
          <a:xfrm>
            <a:off x="6085080" y="2647800"/>
            <a:ext cx="1028160" cy="550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26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TextBox 34"/>
          <p:cNvSpPr/>
          <p:nvPr/>
        </p:nvSpPr>
        <p:spPr>
          <a:xfrm>
            <a:off x="6098040" y="3195720"/>
            <a:ext cx="1028160" cy="550800"/>
          </a:xfrm>
          <a:prstGeom prst="rect">
            <a:avLst/>
          </a:prstGeom>
          <a:solidFill>
            <a:srgbClr val="ff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327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TextBox 35"/>
          <p:cNvSpPr/>
          <p:nvPr/>
        </p:nvSpPr>
        <p:spPr>
          <a:xfrm>
            <a:off x="6510240" y="3822840"/>
            <a:ext cx="282960" cy="165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Oval 37"/>
          <p:cNvSpPr/>
          <p:nvPr/>
        </p:nvSpPr>
        <p:spPr>
          <a:xfrm>
            <a:off x="5834160" y="1379520"/>
            <a:ext cx="1476360" cy="1938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Arc 51"/>
          <p:cNvSpPr/>
          <p:nvPr/>
        </p:nvSpPr>
        <p:spPr>
          <a:xfrm flipH="1">
            <a:off x="5760360" y="1789200"/>
            <a:ext cx="600120" cy="1658880"/>
          </a:xfrm>
          <a:prstGeom prst="pie">
            <a:avLst/>
          </a:prstGeom>
          <a:noFill/>
          <a:ln w="442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Freeform 18"/>
          <p:cNvSpPr/>
          <p:nvPr/>
        </p:nvSpPr>
        <p:spPr>
          <a:xfrm>
            <a:off x="2754360" y="2273400"/>
            <a:ext cx="2211480" cy="895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Freeform 21"/>
          <p:cNvSpPr/>
          <p:nvPr/>
        </p:nvSpPr>
        <p:spPr>
          <a:xfrm>
            <a:off x="2782800" y="2289240"/>
            <a:ext cx="2181240" cy="833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396720" y="274680"/>
            <a:ext cx="3110040" cy="10688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-“value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3735360" y="784080"/>
            <a:ext cx="499104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ertices ranked by proximit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2"/>
          <a:stretch/>
        </p:blipFill>
        <p:spPr>
          <a:xfrm>
            <a:off x="7383600" y="1600200"/>
            <a:ext cx="1562040" cy="4190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"/>
          <p:cNvPicPr/>
          <p:nvPr/>
        </p:nvPicPr>
        <p:blipFill>
          <a:blip r:embed="rId3"/>
          <a:stretch/>
        </p:blipFill>
        <p:spPr>
          <a:xfrm>
            <a:off x="7354800" y="2174760"/>
            <a:ext cx="1619280" cy="4190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"/>
          <p:cNvPicPr/>
          <p:nvPr/>
        </p:nvPicPr>
        <p:blipFill>
          <a:blip r:embed="rId4"/>
          <a:stretch/>
        </p:blipFill>
        <p:spPr>
          <a:xfrm>
            <a:off x="7405560" y="2736720"/>
            <a:ext cx="1543320" cy="3906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5"/>
          <a:stretch/>
        </p:blipFill>
        <p:spPr>
          <a:xfrm>
            <a:off x="7378560" y="3301920"/>
            <a:ext cx="1571760" cy="409680"/>
          </a:xfrm>
          <a:prstGeom prst="rect">
            <a:avLst/>
          </a:prstGeom>
          <a:ln w="0">
            <a:noFill/>
          </a:ln>
        </p:spPr>
      </p:pic>
      <p:sp>
        <p:nvSpPr>
          <p:cNvPr id="573" name="TextBox 38"/>
          <p:cNvSpPr/>
          <p:nvPr/>
        </p:nvSpPr>
        <p:spPr>
          <a:xfrm>
            <a:off x="5943600" y="5511960"/>
            <a:ext cx="3108240" cy="55080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etwork-“value”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74" name="Straight Arrow Connector 39"/>
          <p:cNvCxnSpPr/>
          <p:nvPr/>
        </p:nvCxnSpPr>
        <p:spPr>
          <a:xfrm flipV="1">
            <a:off x="7183800" y="3839760"/>
            <a:ext cx="523080" cy="158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75" name="Picture 30" descr=""/>
          <p:cNvPicPr/>
          <p:nvPr/>
        </p:nvPicPr>
        <p:blipFill>
          <a:blip r:embed="rId6"/>
          <a:stretch/>
        </p:blipFill>
        <p:spPr>
          <a:xfrm>
            <a:off x="687240" y="1371600"/>
            <a:ext cx="4943520" cy="3605040"/>
          </a:xfrm>
          <a:prstGeom prst="rect">
            <a:avLst/>
          </a:prstGeom>
          <a:ln w="0">
            <a:noFill/>
          </a:ln>
        </p:spPr>
      </p:pic>
      <p:sp>
        <p:nvSpPr>
          <p:cNvPr id="576" name="Freeform 22"/>
          <p:cNvSpPr/>
          <p:nvPr/>
        </p:nvSpPr>
        <p:spPr>
          <a:xfrm flipH="1" flipV="1">
            <a:off x="2938320" y="1972440"/>
            <a:ext cx="1881360" cy="1017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Horizontal Scroll 40"/>
          <p:cNvSpPr/>
          <p:nvPr/>
        </p:nvSpPr>
        <p:spPr>
          <a:xfrm>
            <a:off x="2835360" y="3187800"/>
            <a:ext cx="4467240" cy="3068640"/>
          </a:xfrm>
          <a:prstGeom prst="horizontalScroll">
            <a:avLst>
              <a:gd name="adj" fmla="val 12500"/>
            </a:avLst>
          </a:prstGeom>
          <a:solidFill>
            <a:srgbClr val="007635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Trade-off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r satisfaction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vs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etwork connectivit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35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D2F3-FC9C-4CEC-B666-51F8B812B337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254 L -0.00261 -0.24306 E">
                                      <p:cBhvr>
                                        <p:cTn id="180" dur="5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L -0.00139 0.2419 E">
                                      <p:cBhvr>
                                        <p:cTn id="182" dur="5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-0.00278 0.24167 E">
                                      <p:cBhvr>
                                        <p:cTn id="184" dur="5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0.00417 -0.2419 E">
                                      <p:cBhvr>
                                        <p:cTn id="186" dur="5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34"/>
          <p:cNvGrpSpPr/>
          <p:nvPr/>
        </p:nvGrpSpPr>
        <p:grpSpPr>
          <a:xfrm>
            <a:off x="2811600" y="2409840"/>
            <a:ext cx="5976720" cy="3670200"/>
            <a:chOff x="2811600" y="2409840"/>
            <a:chExt cx="5976720" cy="3670200"/>
          </a:xfrm>
        </p:grpSpPr>
        <p:pic>
          <p:nvPicPr>
            <p:cNvPr id="580" name="Picture 5" descr=""/>
            <p:cNvPicPr/>
            <p:nvPr/>
          </p:nvPicPr>
          <p:blipFill>
            <a:blip r:embed="rId1"/>
            <a:stretch/>
          </p:blipFill>
          <p:spPr>
            <a:xfrm>
              <a:off x="2811600" y="2409840"/>
              <a:ext cx="5697360" cy="367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1" name="Group 19"/>
            <p:cNvGrpSpPr/>
            <p:nvPr/>
          </p:nvGrpSpPr>
          <p:grpSpPr>
            <a:xfrm>
              <a:off x="6927840" y="3546000"/>
              <a:ext cx="1860480" cy="860400"/>
              <a:chOff x="6927840" y="3546000"/>
              <a:chExt cx="1860480" cy="860400"/>
            </a:xfrm>
          </p:grpSpPr>
          <p:sp>
            <p:nvSpPr>
              <p:cNvPr id="582" name="Text Box 9"/>
              <p:cNvSpPr/>
              <p:nvPr/>
            </p:nvSpPr>
            <p:spPr>
              <a:xfrm>
                <a:off x="6927840" y="3546000"/>
                <a:ext cx="1860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</a:rPr>
                  <a:t>Vendor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83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7520400" y="4011120"/>
                <a:ext cx="290520" cy="39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4" name=""/>
          <p:cNvSpPr txBox="1"/>
          <p:nvPr/>
        </p:nvSpPr>
        <p:spPr>
          <a:xfrm>
            <a:off x="364680" y="965160"/>
            <a:ext cx="8418600" cy="27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 concer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ke the </a:t>
            </a: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highest valu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ations should stil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flect users’ lik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ly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58920" y="182520"/>
            <a:ext cx="9069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Dual-goal Recommender Syste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Picture 42" descr="thinking-idea-animated-animation-smiley-emoticon-000339-large.gif"/>
          <p:cNvPicPr/>
          <p:nvPr/>
        </p:nvPicPr>
        <p:blipFill>
          <a:blip r:embed="rId3"/>
          <a:stretch/>
        </p:blipFill>
        <p:spPr>
          <a:xfrm>
            <a:off x="1108080" y="3797280"/>
            <a:ext cx="1095480" cy="1381320"/>
          </a:xfrm>
          <a:prstGeom prst="rect">
            <a:avLst/>
          </a:prstGeom>
          <a:ln w="0">
            <a:noFill/>
          </a:ln>
        </p:spPr>
      </p:pic>
      <p:sp>
        <p:nvSpPr>
          <p:cNvPr id="587" name="Slide Number Placeholder 43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293D-324C-49C2-8647-28A7557DEED5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2587680" y="5151600"/>
            <a:ext cx="2133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9" name="Picture 5" descr=""/>
          <p:cNvPicPr/>
          <p:nvPr/>
        </p:nvPicPr>
        <p:blipFill>
          <a:blip r:embed="rId4"/>
          <a:stretch/>
        </p:blipFill>
        <p:spPr>
          <a:xfrm>
            <a:off x="3436920" y="5630760"/>
            <a:ext cx="39204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19"/>
          <p:cNvGrpSpPr/>
          <p:nvPr/>
        </p:nvGrpSpPr>
        <p:grpSpPr>
          <a:xfrm>
            <a:off x="1976400" y="2735640"/>
            <a:ext cx="5473800" cy="3411000"/>
            <a:chOff x="1976400" y="2735640"/>
            <a:chExt cx="5473800" cy="3411000"/>
          </a:xfrm>
        </p:grpSpPr>
        <p:pic>
          <p:nvPicPr>
            <p:cNvPr id="591" name="Picture 16" descr=""/>
            <p:cNvPicPr/>
            <p:nvPr/>
          </p:nvPicPr>
          <p:blipFill>
            <a:blip r:embed="rId1"/>
            <a:stretch/>
          </p:blipFill>
          <p:spPr>
            <a:xfrm>
              <a:off x="3174480" y="3082680"/>
              <a:ext cx="3067200" cy="30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19" descr=""/>
            <p:cNvPicPr/>
            <p:nvPr/>
          </p:nvPicPr>
          <p:blipFill>
            <a:blip r:embed="rId2"/>
            <a:stretch/>
          </p:blipFill>
          <p:spPr>
            <a:xfrm>
              <a:off x="1976400" y="3432960"/>
              <a:ext cx="160668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8" descr=""/>
            <p:cNvPicPr/>
            <p:nvPr/>
          </p:nvPicPr>
          <p:blipFill>
            <a:blip r:embed="rId3"/>
            <a:stretch/>
          </p:blipFill>
          <p:spPr>
            <a:xfrm>
              <a:off x="5843520" y="2849400"/>
              <a:ext cx="160668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15" descr=""/>
            <p:cNvPicPr/>
            <p:nvPr/>
          </p:nvPicPr>
          <p:blipFill>
            <a:blip r:embed="rId4"/>
            <a:stretch/>
          </p:blipFill>
          <p:spPr>
            <a:xfrm rot="21077400">
              <a:off x="2229840" y="3083760"/>
              <a:ext cx="4617720" cy="22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19"/>
          <p:cNvGrpSpPr/>
          <p:nvPr/>
        </p:nvGrpSpPr>
        <p:grpSpPr>
          <a:xfrm>
            <a:off x="1789200" y="3776760"/>
            <a:ext cx="5997600" cy="1754640"/>
            <a:chOff x="1789200" y="3776760"/>
            <a:chExt cx="5997600" cy="1754640"/>
          </a:xfrm>
        </p:grpSpPr>
        <p:sp>
          <p:nvSpPr>
            <p:cNvPr id="596" name="Text Box 9"/>
            <p:cNvSpPr/>
            <p:nvPr/>
          </p:nvSpPr>
          <p:spPr>
            <a:xfrm>
              <a:off x="1789200" y="4361040"/>
              <a:ext cx="213372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User 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Text Box 9"/>
            <p:cNvSpPr/>
            <p:nvPr/>
          </p:nvSpPr>
          <p:spPr>
            <a:xfrm>
              <a:off x="5925960" y="3776760"/>
              <a:ext cx="18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Vendor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98" name="Picture 2" descr=""/>
            <p:cNvPicPr/>
            <p:nvPr/>
          </p:nvPicPr>
          <p:blipFill>
            <a:blip r:embed="rId5"/>
            <a:stretch/>
          </p:blipFill>
          <p:spPr>
            <a:xfrm>
              <a:off x="6518520" y="4260960"/>
              <a:ext cx="290520" cy="3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9" name="Picture 5" descr=""/>
          <p:cNvPicPr/>
          <p:nvPr/>
        </p:nvPicPr>
        <p:blipFill>
          <a:blip r:embed="rId6"/>
          <a:stretch/>
        </p:blipFill>
        <p:spPr>
          <a:xfrm>
            <a:off x="2570040" y="4851360"/>
            <a:ext cx="392400" cy="3538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798480"/>
            <a:ext cx="826308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Careful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pertur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change the order of) the proximity-ranked </a:t>
            </a: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list of recommend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by a </a:t>
            </a: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for each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Rectangle 2"/>
          <p:cNvSpPr/>
          <p:nvPr/>
        </p:nvSpPr>
        <p:spPr>
          <a:xfrm>
            <a:off x="358920" y="182520"/>
            <a:ext cx="9069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76092"/>
                </a:solidFill>
                <a:latin typeface="Book Antiqua"/>
              </a:rPr>
              <a:t>ValuePick: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in ide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5108040" y="171144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b050"/>
                </a:solidFill>
                <a:latin typeface="Tahoma"/>
              </a:rPr>
              <a:t>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7724520" y="224964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b050"/>
                </a:solidFill>
                <a:latin typeface="Tahoma"/>
              </a:rPr>
              <a:t>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ight Brace 29"/>
          <p:cNvSpPr/>
          <p:nvPr/>
        </p:nvSpPr>
        <p:spPr>
          <a:xfrm>
            <a:off x="7199280" y="2224080"/>
            <a:ext cx="501840" cy="644400"/>
          </a:xfrm>
          <a:custGeom>
            <a:avLst/>
            <a:gdLst>
              <a:gd name="textAreaLeft" fmla="*/ 0 w 501840"/>
              <a:gd name="textAreaRight" fmla="*/ 181080 w 501840"/>
              <a:gd name="textAreaTop" fmla="*/ 12960 h 644400"/>
              <a:gd name="textAreaBottom" fmla="*/ 631440 h 64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9"/>
                  <a:pt x="10800" y="1397"/>
                </a:cubicBezTo>
                <a:lnTo>
                  <a:pt x="10800" y="9403"/>
                </a:lnTo>
                <a:cubicBezTo>
                  <a:pt x="10800" y="10102"/>
                  <a:pt x="16200" y="10800"/>
                  <a:pt x="21600" y="10800"/>
                </a:cubicBezTo>
                <a:cubicBezTo>
                  <a:pt x="16200" y="10800"/>
                  <a:pt x="10800" y="11499"/>
                  <a:pt x="10800" y="12197"/>
                </a:cubicBezTo>
                <a:lnTo>
                  <a:pt x="10800" y="20203"/>
                </a:lnTo>
                <a:cubicBezTo>
                  <a:pt x="10800" y="20902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5" name="Picture 15" descr=""/>
          <p:cNvPicPr/>
          <p:nvPr/>
        </p:nvPicPr>
        <p:blipFill>
          <a:blip r:embed="rId7"/>
          <a:stretch/>
        </p:blipFill>
        <p:spPr>
          <a:xfrm rot="20065800">
            <a:off x="2316240" y="3099960"/>
            <a:ext cx="4616280" cy="230400"/>
          </a:xfrm>
          <a:prstGeom prst="rect">
            <a:avLst/>
          </a:prstGeom>
          <a:ln w="0">
            <a:noFill/>
          </a:ln>
        </p:spPr>
      </p:pic>
      <p:cxnSp>
        <p:nvCxnSpPr>
          <p:cNvPr id="606" name="Curved Connector 45"/>
          <p:cNvCxnSpPr/>
          <p:nvPr/>
        </p:nvCxnSpPr>
        <p:spPr>
          <a:xfrm rot="10800000">
            <a:off x="2256840" y="3547440"/>
            <a:ext cx="284400" cy="664200"/>
          </a:xfrm>
          <a:prstGeom prst="curvedConnector5">
            <a:avLst>
              <a:gd name="adj1" fmla="val 189860"/>
              <a:gd name="adj2" fmla="val 50000"/>
              <a:gd name="adj3" fmla="val 189860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7" name="Curved Connector 51"/>
          <p:cNvCxnSpPr/>
          <p:nvPr/>
        </p:nvCxnSpPr>
        <p:spPr>
          <a:xfrm flipH="1" flipV="1">
            <a:off x="6706800" y="2219040"/>
            <a:ext cx="115200" cy="630720"/>
          </a:xfrm>
          <a:prstGeom prst="curvedConnector5">
            <a:avLst>
              <a:gd name="adj1" fmla="val -297178"/>
              <a:gd name="adj2" fmla="val 49971"/>
              <a:gd name="adj3" fmla="val -297178"/>
            </a:avLst>
          </a:prstGeom>
          <a:ln w="38160">
            <a:solidFill>
              <a:srgbClr val="ff0000"/>
            </a:solidFill>
            <a:miter/>
            <a:headEnd len="med" type="arrow" w="med"/>
          </a:ln>
        </p:spPr>
      </p:cxnSp>
      <p:pic>
        <p:nvPicPr>
          <p:cNvPr id="608" name="Picture 2" descr=""/>
          <p:cNvPicPr/>
          <p:nvPr/>
        </p:nvPicPr>
        <p:blipFill>
          <a:blip r:embed="rId8"/>
          <a:stretch/>
        </p:blipFill>
        <p:spPr>
          <a:xfrm>
            <a:off x="785880" y="3676680"/>
            <a:ext cx="976320" cy="842760"/>
          </a:xfrm>
          <a:prstGeom prst="rect">
            <a:avLst/>
          </a:prstGeom>
          <a:ln w="0">
            <a:noFill/>
          </a:ln>
        </p:spPr>
      </p:pic>
      <p:sp>
        <p:nvSpPr>
          <p:cNvPr id="609" name="Slide Number Placeholder 58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C49D-72F3-499A-BFF8-42352F1256F3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1" descr=""/>
          <p:cNvPicPr/>
          <p:nvPr/>
        </p:nvPicPr>
        <p:blipFill>
          <a:blip r:embed="rId1"/>
          <a:stretch/>
        </p:blipFill>
        <p:spPr>
          <a:xfrm>
            <a:off x="190440" y="1617840"/>
            <a:ext cx="6191280" cy="35985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2472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Book Antiqua"/>
              </a:rPr>
              <a:t>ValuePick</a:t>
            </a: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 Optimization Framework</a:t>
            </a:r>
            <a:endParaRPr b="0" lang="en-US" sz="4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12" name="TextBox 5"/>
          <p:cNvSpPr/>
          <p:nvPr/>
        </p:nvSpPr>
        <p:spPr>
          <a:xfrm>
            <a:off x="1933560" y="1044720"/>
            <a:ext cx="138420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value”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13" name="Straight Arrow Connector 6"/>
          <p:cNvCxnSpPr>
            <a:stCxn id="612" idx="2"/>
          </p:cNvCxnSpPr>
          <p:nvPr/>
        </p:nvCxnSpPr>
        <p:spPr>
          <a:xfrm>
            <a:off x="2625840" y="1598400"/>
            <a:ext cx="313200" cy="44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4" name="TextBox 10"/>
          <p:cNvSpPr/>
          <p:nvPr/>
        </p:nvSpPr>
        <p:spPr>
          <a:xfrm>
            <a:off x="3745080" y="1027080"/>
            <a:ext cx="1806480" cy="100764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ximit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15" name="Straight Arrow Connector 11"/>
          <p:cNvCxnSpPr/>
          <p:nvPr/>
        </p:nvCxnSpPr>
        <p:spPr>
          <a:xfrm flipH="1">
            <a:off x="3827160" y="1566360"/>
            <a:ext cx="288000" cy="445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6" name="TextBox 15"/>
          <p:cNvSpPr/>
          <p:nvPr/>
        </p:nvSpPr>
        <p:spPr>
          <a:xfrm>
            <a:off x="4540320" y="1920960"/>
            <a:ext cx="671400" cy="554040"/>
          </a:xfrm>
          <a:prstGeom prst="rect">
            <a:avLst/>
          </a:prstGeom>
          <a:solidFill>
            <a:srgbClr val="92d05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Box 16"/>
          <p:cNvSpPr/>
          <p:nvPr/>
        </p:nvSpPr>
        <p:spPr>
          <a:xfrm>
            <a:off x="2055960" y="2773440"/>
            <a:ext cx="1836720" cy="1463760"/>
          </a:xfrm>
          <a:prstGeom prst="rect">
            <a:avLst/>
          </a:prstGeom>
          <a:solidFill>
            <a:srgbClr val="92d05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18" name="Straight Arrow Connector 18"/>
          <p:cNvCxnSpPr>
            <a:endCxn id="619" idx="3"/>
          </p:cNvCxnSpPr>
          <p:nvPr/>
        </p:nvCxnSpPr>
        <p:spPr>
          <a:xfrm flipH="1" flipV="1">
            <a:off x="5303160" y="2252160"/>
            <a:ext cx="680040" cy="334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0" name="TextBox 20"/>
          <p:cNvSpPr/>
          <p:nvPr/>
        </p:nvSpPr>
        <p:spPr>
          <a:xfrm>
            <a:off x="5996160" y="1636560"/>
            <a:ext cx="2990520" cy="222696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xpected ga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ssuming proximity ~ acceptance prob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TextBox 28"/>
          <p:cNvSpPr/>
          <p:nvPr/>
        </p:nvSpPr>
        <p:spPr>
          <a:xfrm>
            <a:off x="7015320" y="3984480"/>
            <a:ext cx="1806480" cy="155988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oleran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ϵ [0,1]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22" name="Straight Arrow Connector 29"/>
          <p:cNvCxnSpPr>
            <a:stCxn id="621" idx="1"/>
            <a:endCxn id="623" idx="3"/>
          </p:cNvCxnSpPr>
          <p:nvPr/>
        </p:nvCxnSpPr>
        <p:spPr>
          <a:xfrm flipH="1">
            <a:off x="6381360" y="4537440"/>
            <a:ext cx="634320" cy="27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9" name="Rectangle 30"/>
          <p:cNvSpPr/>
          <p:nvPr/>
        </p:nvSpPr>
        <p:spPr>
          <a:xfrm>
            <a:off x="1946160" y="1763640"/>
            <a:ext cx="3357720" cy="97956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32"/>
          <p:cNvSpPr/>
          <p:nvPr/>
        </p:nvSpPr>
        <p:spPr>
          <a:xfrm>
            <a:off x="5607000" y="4533840"/>
            <a:ext cx="774720" cy="55404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Rectangle 33"/>
          <p:cNvSpPr/>
          <p:nvPr/>
        </p:nvSpPr>
        <p:spPr>
          <a:xfrm>
            <a:off x="3035160" y="4314960"/>
            <a:ext cx="557280" cy="47916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Box 34"/>
          <p:cNvSpPr/>
          <p:nvPr/>
        </p:nvSpPr>
        <p:spPr>
          <a:xfrm>
            <a:off x="2730600" y="5616720"/>
            <a:ext cx="4087800" cy="1464480"/>
          </a:xfrm>
          <a:prstGeom prst="rect">
            <a:avLst/>
          </a:prstGeom>
          <a:solidFill>
            <a:srgbClr val="ffd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verage proximity score of original top-k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26" name="Straight Arrow Connector 35"/>
          <p:cNvCxnSpPr>
            <a:endCxn id="624" idx="2"/>
          </p:cNvCxnSpPr>
          <p:nvPr/>
        </p:nvCxnSpPr>
        <p:spPr>
          <a:xfrm flipH="1" flipV="1">
            <a:off x="3312720" y="4793400"/>
            <a:ext cx="200880" cy="86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7" name="TextBox 16"/>
          <p:cNvSpPr/>
          <p:nvPr/>
        </p:nvSpPr>
        <p:spPr>
          <a:xfrm>
            <a:off x="2552760" y="1901880"/>
            <a:ext cx="1787400" cy="55404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Slide Number Placeholder 39"/>
          <p:cNvSpPr/>
          <p:nvPr/>
        </p:nvSpPr>
        <p:spPr>
          <a:xfrm>
            <a:off x="624852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32B3-5F99-457C-BF85-1262264B36B5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of 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 rot="5400000">
            <a:off x="8184600" y="624960"/>
            <a:ext cx="14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0:05:00Z</dcterms:created>
  <dc:creator>Polo Chau</dc:creator>
  <dc:description/>
  <dc:language>en-US</dc:language>
  <cp:lastModifiedBy>School of Computer Science</cp:lastModifiedBy>
  <dcterms:modified xsi:type="dcterms:W3CDTF">2010-12-07T05:10:54Z</dcterms:modified>
  <cp:revision>914</cp:revision>
  <dc:subject/>
  <dc:title>Detecting Fraudulent Personalities in Networks of Online Auctioneers</dc:title>
</cp:coreProperties>
</file>