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891200" cy="2926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00C8-7E3B-4D70-AA0D-45F4CB06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B0A-C9A8-4BA2-B3D8-21415F236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383-7553-4502-9270-6CB8C1C7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3949992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16914240"/>
            <a:ext cx="3949992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15B-8A6E-4B6C-9C99-BCE289F6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D97-3379-4C5E-BF24-76FADE95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682776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840" y="682776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1691424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691424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840" y="1691424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1CD-D288-4C29-816F-73DCE3EA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6827760"/>
            <a:ext cx="39499920" cy="19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B7C-FB67-45FD-92F7-7843E0CC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3949992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BEB-A3B7-4854-9F53-CA15E317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76C-E2C3-4E60-B19D-D2BE824C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06E-2B4B-4EE5-83EA-42C8A39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1171080"/>
            <a:ext cx="39499920" cy="226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0A8-CBE1-46AC-82D3-4BCF4E66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DE2-AEF8-49E5-AF35-1B4B17F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D3F-DC40-410E-B96D-AD21DDE9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16914240"/>
            <a:ext cx="3949992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EAD-B570-4DE3-88E9-79A537F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640" y="6827760"/>
            <a:ext cx="3949992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26645760"/>
            <a:ext cx="102391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26645760"/>
            <a:ext cx="138967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26645760"/>
            <a:ext cx="102391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359-6C2E-4651-9E12-7926267E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660240"/>
            <a:ext cx="4095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tructure, Tie Persistence and Event Detecti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n Large Phone and SMS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392640" y="2624040"/>
          <a:ext cx="35696520" cy="2712960"/>
        </p:xfrm>
        <a:graphic>
          <a:graphicData uri="http://schemas.openxmlformats.org/drawingml/2006/table">
            <a:tbl>
              <a:tblPr/>
              <a:tblGrid>
                <a:gridCol w="35696520"/>
              </a:tblGrid>
              <a:tr h="295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eman Akoglu and Bhavana Dalv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{lakoglu , bbd} @cs.cmu.ed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arnegie Mellon University and iLa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223"/>
          <p:cNvSpPr/>
          <p:nvPr/>
        </p:nvSpPr>
        <p:spPr>
          <a:xfrm>
            <a:off x="615960" y="28667160"/>
            <a:ext cx="30614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Dataset used for this work w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s provid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Lab at Carnegie Mellon University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3"/>
          <p:cNvGrpSpPr/>
          <p:nvPr/>
        </p:nvGrpSpPr>
        <p:grpSpPr>
          <a:xfrm>
            <a:off x="1014480" y="5403960"/>
            <a:ext cx="41908320" cy="23066280"/>
            <a:chOff x="1014480" y="5403960"/>
            <a:chExt cx="41908320" cy="23066280"/>
          </a:xfrm>
        </p:grpSpPr>
        <p:sp>
          <p:nvSpPr>
            <p:cNvPr id="52" name="Text Box 13"/>
            <p:cNvSpPr/>
            <p:nvPr/>
          </p:nvSpPr>
          <p:spPr>
            <a:xfrm>
              <a:off x="21881160" y="6041160"/>
              <a:ext cx="6395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39"/>
            <p:cNvSpPr/>
            <p:nvPr/>
          </p:nvSpPr>
          <p:spPr>
            <a:xfrm>
              <a:off x="29982960" y="12771360"/>
              <a:ext cx="594972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6"/>
            <p:cNvGrpSpPr/>
            <p:nvPr/>
          </p:nvGrpSpPr>
          <p:grpSpPr>
            <a:xfrm>
              <a:off x="14146560" y="5475240"/>
              <a:ext cx="14684040" cy="5025960"/>
              <a:chOff x="14146560" y="5475240"/>
              <a:chExt cx="14684040" cy="5025960"/>
            </a:xfrm>
          </p:grpSpPr>
          <p:sp>
            <p:nvSpPr>
              <p:cNvPr id="55" name="Text Box 13"/>
              <p:cNvSpPr/>
              <p:nvPr/>
            </p:nvSpPr>
            <p:spPr>
              <a:xfrm>
                <a:off x="14146560" y="6507720"/>
                <a:ext cx="14684040" cy="39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Tie Persistence (TP) :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It is the stability of ties across time as number of time-ticks in which a link is observed, over the total number P of time-ticks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User Perseverance (UP) :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erseverance of a user is defined as the average of the persistence of all his/her ties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253"/>
              <p:cNvSpPr/>
              <p:nvPr/>
            </p:nvSpPr>
            <p:spPr>
              <a:xfrm>
                <a:off x="15861960" y="5475240"/>
                <a:ext cx="1240488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33cc"/>
                    </a:solidFill>
                    <a:latin typeface="Arial"/>
                  </a:rPr>
                  <a:t>Tie Persistence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3"/>
            <p:cNvSpPr/>
            <p:nvPr/>
          </p:nvSpPr>
          <p:spPr>
            <a:xfrm>
              <a:off x="29516760" y="15318000"/>
              <a:ext cx="132501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(2) Event Detec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fine a sliding window of size W (set to 5 days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nerate a correlation matrix C, with Cij being Pearson’s correlation between the time series of  pair (i,j)over window W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argest eigenvector of  C give the “activity” of each node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are “activity” vectors over time by taking dot product score Z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1 if same, 0 if perpendicular –flag for small Z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150"/>
            <p:cNvSpPr/>
            <p:nvPr/>
          </p:nvSpPr>
          <p:spPr>
            <a:xfrm>
              <a:off x="13594680" y="6304320"/>
              <a:ext cx="0" cy="2194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51"/>
            <p:cNvSpPr/>
            <p:nvPr/>
          </p:nvSpPr>
          <p:spPr>
            <a:xfrm>
              <a:off x="29135520" y="6304320"/>
              <a:ext cx="0" cy="2194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152"/>
            <p:cNvSpPr/>
            <p:nvPr/>
          </p:nvSpPr>
          <p:spPr>
            <a:xfrm>
              <a:off x="1424880" y="5403960"/>
              <a:ext cx="411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153"/>
            <p:cNvSpPr/>
            <p:nvPr/>
          </p:nvSpPr>
          <p:spPr>
            <a:xfrm flipV="1">
              <a:off x="1014480" y="28454400"/>
              <a:ext cx="41908320" cy="1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53"/>
            <p:cNvSpPr/>
            <p:nvPr/>
          </p:nvSpPr>
          <p:spPr>
            <a:xfrm>
              <a:off x="1843920" y="9446040"/>
              <a:ext cx="1240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Arial"/>
                </a:rPr>
                <a:t>Structure Analysi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65400" y="6238800"/>
            <a:ext cx="716256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53"/>
          <p:cNvSpPr/>
          <p:nvPr/>
        </p:nvSpPr>
        <p:spPr>
          <a:xfrm>
            <a:off x="1444680" y="5500800"/>
            <a:ext cx="1240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Phone and SMS net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18961200" y="19164240"/>
            <a:ext cx="4914720" cy="2444760"/>
          </a:xfrm>
          <a:prstGeom prst="rect">
            <a:avLst/>
          </a:prstGeom>
          <a:ln w="15840">
            <a:solidFill>
              <a:srgbClr val="2d2d8a"/>
            </a:solidFill>
            <a:miter/>
          </a:ln>
        </p:spPr>
      </p:pic>
      <p:grpSp>
        <p:nvGrpSpPr>
          <p:cNvPr id="66" name="Group 71"/>
          <p:cNvGrpSpPr/>
          <p:nvPr/>
        </p:nvGrpSpPr>
        <p:grpSpPr>
          <a:xfrm>
            <a:off x="16397280" y="7486560"/>
            <a:ext cx="12387240" cy="1106640"/>
            <a:chOff x="16397280" y="7486560"/>
            <a:chExt cx="12387240" cy="1106640"/>
          </a:xfrm>
        </p:grpSpPr>
        <p:pic>
          <p:nvPicPr>
            <p:cNvPr id="67" name="Picture 2" descr=""/>
            <p:cNvPicPr/>
            <p:nvPr/>
          </p:nvPicPr>
          <p:blipFill>
            <a:blip r:embed="rId3"/>
            <a:stretch/>
          </p:blipFill>
          <p:spPr>
            <a:xfrm>
              <a:off x="16397280" y="7486560"/>
              <a:ext cx="224856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"/>
            <p:cNvPicPr/>
            <p:nvPr/>
          </p:nvPicPr>
          <p:blipFill>
            <a:blip r:embed="rId4"/>
            <a:stretch/>
          </p:blipFill>
          <p:spPr>
            <a:xfrm>
              <a:off x="18916560" y="7547040"/>
              <a:ext cx="9867960" cy="4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" descr=""/>
            <p:cNvPicPr/>
            <p:nvPr/>
          </p:nvPicPr>
          <p:blipFill>
            <a:blip r:embed="rId5"/>
            <a:stretch/>
          </p:blipFill>
          <p:spPr>
            <a:xfrm>
              <a:off x="18959040" y="8065800"/>
              <a:ext cx="3977280" cy="45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23383800" y="13531680"/>
            <a:ext cx="1971720" cy="723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7"/>
          <a:stretch/>
        </p:blipFill>
        <p:spPr>
          <a:xfrm>
            <a:off x="25298280" y="13722480"/>
            <a:ext cx="1314720" cy="26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3770000" y="11950560"/>
          <a:ext cx="14976360" cy="3513240"/>
        </p:xfrm>
        <a:graphic>
          <a:graphicData uri="http://schemas.openxmlformats.org/drawingml/2006/table">
            <a:tbl>
              <a:tblPr/>
              <a:tblGrid>
                <a:gridCol w="7737480"/>
                <a:gridCol w="7238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 Attrib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 Attrib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rocity (R)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f the tie is reciprocal in time t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ee (K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5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gical Overlap (TO)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 Coefficient (C)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 reciprocity (r) :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ion of ties containing both incoming and outgoing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4" descr=""/>
          <p:cNvPicPr/>
          <p:nvPr/>
        </p:nvPicPr>
        <p:blipFill>
          <a:blip r:embed="rId8"/>
          <a:stretch/>
        </p:blipFill>
        <p:spPr>
          <a:xfrm>
            <a:off x="14408280" y="14135040"/>
            <a:ext cx="4327560" cy="1271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5"/>
          <p:cNvSpPr/>
          <p:nvPr/>
        </p:nvSpPr>
        <p:spPr>
          <a:xfrm>
            <a:off x="19445400" y="1395720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# common 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hape 7"/>
          <p:cNvCxnSpPr/>
          <p:nvPr/>
        </p:nvCxnSpPr>
        <p:spPr>
          <a:xfrm flipV="1" rot="10800000">
            <a:off x="18527040" y="14491800"/>
            <a:ext cx="948240" cy="186480"/>
          </a:xfrm>
          <a:prstGeom prst="curvedConnector5">
            <a:avLst>
              <a:gd name="adj1" fmla="val 49981"/>
              <a:gd name="adj2" fmla="val 49903"/>
              <a:gd name="adj3" fmla="val 49981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6" name="Shape 7"/>
          <p:cNvCxnSpPr/>
          <p:nvPr/>
        </p:nvCxnSpPr>
        <p:spPr>
          <a:xfrm rot="10800000">
            <a:off x="18627120" y="15145560"/>
            <a:ext cx="450000" cy="27684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349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77" name="TextBox 91"/>
          <p:cNvSpPr/>
          <p:nvPr/>
        </p:nvSpPr>
        <p:spPr>
          <a:xfrm>
            <a:off x="19104120" y="15033600"/>
            <a:ext cx="22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od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9"/>
          <a:stretch/>
        </p:blipFill>
        <p:spPr>
          <a:xfrm>
            <a:off x="22674240" y="13773240"/>
            <a:ext cx="1728720" cy="763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2"/>
          <p:cNvSpPr/>
          <p:nvPr/>
        </p:nvSpPr>
        <p:spPr>
          <a:xfrm>
            <a:off x="24987240" y="1383336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# triads in which node i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hape 7"/>
          <p:cNvCxnSpPr/>
          <p:nvPr/>
        </p:nvCxnSpPr>
        <p:spPr>
          <a:xfrm rot="10800000">
            <a:off x="24183360" y="14028120"/>
            <a:ext cx="775440" cy="1386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81" name="Diagram 131" descr=""/>
          <p:cNvPicPr/>
          <p:nvPr/>
        </p:nvPicPr>
        <p:blipFill>
          <a:blip r:embed="rId10"/>
          <a:stretch/>
        </p:blipFill>
        <p:spPr>
          <a:xfrm>
            <a:off x="14020920" y="9564840"/>
            <a:ext cx="14295240" cy="2408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75"/>
          <p:cNvGrpSpPr/>
          <p:nvPr/>
        </p:nvGrpSpPr>
        <p:grpSpPr>
          <a:xfrm>
            <a:off x="13735080" y="15609960"/>
            <a:ext cx="14916240" cy="3200400"/>
            <a:chOff x="13735080" y="15609960"/>
            <a:chExt cx="14916240" cy="3200400"/>
          </a:xfrm>
        </p:grpSpPr>
        <p:pic>
          <p:nvPicPr>
            <p:cNvPr id="83" name="Content Placeholder 4" descr=""/>
            <p:cNvPicPr/>
            <p:nvPr/>
          </p:nvPicPr>
          <p:blipFill>
            <a:blip r:embed="rId11"/>
            <a:stretch/>
          </p:blipFill>
          <p:spPr>
            <a:xfrm>
              <a:off x="13735080" y="15609960"/>
              <a:ext cx="91454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Content Placeholder 4" descr=""/>
            <p:cNvPicPr/>
            <p:nvPr/>
          </p:nvPicPr>
          <p:blipFill>
            <a:blip r:embed="rId12"/>
            <a:stretch/>
          </p:blipFill>
          <p:spPr>
            <a:xfrm>
              <a:off x="22826160" y="15615720"/>
              <a:ext cx="5825160" cy="259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66"/>
          <p:cNvGrpSpPr/>
          <p:nvPr/>
        </p:nvGrpSpPr>
        <p:grpSpPr>
          <a:xfrm>
            <a:off x="13789080" y="19156320"/>
            <a:ext cx="8823240" cy="5748480"/>
            <a:chOff x="13789080" y="19156320"/>
            <a:chExt cx="8823240" cy="5748480"/>
          </a:xfrm>
        </p:grpSpPr>
        <p:pic>
          <p:nvPicPr>
            <p:cNvPr id="86" name="Diagram 144" descr=""/>
            <p:cNvPicPr/>
            <p:nvPr/>
          </p:nvPicPr>
          <p:blipFill>
            <a:blip r:embed="rId13"/>
            <a:stretch/>
          </p:blipFill>
          <p:spPr>
            <a:xfrm>
              <a:off x="13843440" y="19156320"/>
              <a:ext cx="7129080" cy="28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Diagram 146" descr=""/>
            <p:cNvPicPr/>
            <p:nvPr/>
          </p:nvPicPr>
          <p:blipFill>
            <a:blip r:embed="rId14"/>
            <a:stretch/>
          </p:blipFill>
          <p:spPr>
            <a:xfrm>
              <a:off x="13789080" y="21354120"/>
              <a:ext cx="8823240" cy="355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88"/>
          <p:cNvGrpSpPr/>
          <p:nvPr/>
        </p:nvGrpSpPr>
        <p:grpSpPr>
          <a:xfrm>
            <a:off x="23899680" y="18175320"/>
            <a:ext cx="5056200" cy="7047000"/>
            <a:chOff x="23899680" y="18175320"/>
            <a:chExt cx="5056200" cy="7047000"/>
          </a:xfrm>
        </p:grpSpPr>
        <p:pic>
          <p:nvPicPr>
            <p:cNvPr id="89" name="Picture 5" descr=""/>
            <p:cNvPicPr/>
            <p:nvPr/>
          </p:nvPicPr>
          <p:blipFill>
            <a:blip r:embed="rId15"/>
            <a:stretch/>
          </p:blipFill>
          <p:spPr>
            <a:xfrm>
              <a:off x="23902920" y="18175320"/>
              <a:ext cx="5047560" cy="3522960"/>
            </a:xfrm>
            <a:prstGeom prst="rect">
              <a:avLst/>
            </a:prstGeom>
            <a:ln w="15840">
              <a:solidFill>
                <a:srgbClr val="2d2d8a"/>
              </a:solidFill>
              <a:miter/>
            </a:ln>
          </p:spPr>
        </p:pic>
        <p:pic>
          <p:nvPicPr>
            <p:cNvPr id="90" name="Picture 6" descr=""/>
            <p:cNvPicPr/>
            <p:nvPr/>
          </p:nvPicPr>
          <p:blipFill>
            <a:blip r:embed="rId16"/>
            <a:stretch/>
          </p:blipFill>
          <p:spPr>
            <a:xfrm>
              <a:off x="23899680" y="21741480"/>
              <a:ext cx="5056200" cy="3480840"/>
            </a:xfrm>
            <a:prstGeom prst="rect">
              <a:avLst/>
            </a:prstGeom>
            <a:ln w="15840">
              <a:solidFill>
                <a:srgbClr val="2d2d8a"/>
              </a:solidFill>
              <a:miter/>
            </a:ln>
          </p:spPr>
        </p:pic>
      </p:grpSp>
      <p:pic>
        <p:nvPicPr>
          <p:cNvPr id="91" name="Diagram 155" descr=""/>
          <p:cNvPicPr/>
          <p:nvPr/>
        </p:nvPicPr>
        <p:blipFill>
          <a:blip r:embed="rId17"/>
          <a:stretch/>
        </p:blipFill>
        <p:spPr>
          <a:xfrm>
            <a:off x="841320" y="10375920"/>
            <a:ext cx="12411000" cy="4205160"/>
          </a:xfrm>
          <a:prstGeom prst="rect">
            <a:avLst/>
          </a:prstGeom>
          <a:ln w="0">
            <a:noFill/>
          </a:ln>
        </p:spPr>
      </p:pic>
      <p:pic>
        <p:nvPicPr>
          <p:cNvPr id="92" name="Diagram 156" descr=""/>
          <p:cNvPicPr/>
          <p:nvPr/>
        </p:nvPicPr>
        <p:blipFill>
          <a:blip r:embed="rId18"/>
          <a:stretch/>
        </p:blipFill>
        <p:spPr>
          <a:xfrm>
            <a:off x="822240" y="25012800"/>
            <a:ext cx="12728520" cy="34066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157" descr=""/>
          <p:cNvPicPr/>
          <p:nvPr/>
        </p:nvPicPr>
        <p:blipFill>
          <a:blip r:embed="rId19"/>
          <a:stretch/>
        </p:blipFill>
        <p:spPr>
          <a:xfrm>
            <a:off x="13881240" y="25261920"/>
            <a:ext cx="15184440" cy="321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0"/>
          <a:stretch/>
        </p:blipFill>
        <p:spPr>
          <a:xfrm>
            <a:off x="1062000" y="17726040"/>
            <a:ext cx="7526520" cy="3362400"/>
          </a:xfrm>
          <a:prstGeom prst="rect">
            <a:avLst/>
          </a:prstGeom>
          <a:ln w="15840">
            <a:solidFill>
              <a:srgbClr val="2d2d8a"/>
            </a:solidFill>
            <a:miter/>
          </a:ln>
        </p:spPr>
      </p:pic>
      <p:pic>
        <p:nvPicPr>
          <p:cNvPr id="95" name="Picture 39" descr="scslogo.gif"/>
          <p:cNvPicPr/>
          <p:nvPr/>
        </p:nvPicPr>
        <p:blipFill>
          <a:blip r:embed="rId21"/>
          <a:stretch/>
        </p:blipFill>
        <p:spPr>
          <a:xfrm>
            <a:off x="38661840" y="849240"/>
            <a:ext cx="3373560" cy="350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CMU_logo.gif"/>
          <p:cNvPicPr/>
          <p:nvPr/>
        </p:nvPicPr>
        <p:blipFill>
          <a:blip r:embed="rId22"/>
          <a:stretch/>
        </p:blipFill>
        <p:spPr>
          <a:xfrm>
            <a:off x="1514520" y="771480"/>
            <a:ext cx="3429000" cy="3406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53"/>
          <p:cNvSpPr/>
          <p:nvPr/>
        </p:nvSpPr>
        <p:spPr>
          <a:xfrm>
            <a:off x="15616080" y="5508720"/>
            <a:ext cx="12404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Tie Persist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53"/>
          <p:cNvSpPr/>
          <p:nvPr/>
        </p:nvSpPr>
        <p:spPr>
          <a:xfrm>
            <a:off x="30206880" y="5468760"/>
            <a:ext cx="12404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Event Det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iagram 69" descr=""/>
          <p:cNvPicPr/>
          <p:nvPr/>
        </p:nvPicPr>
        <p:blipFill>
          <a:blip r:embed="rId23"/>
          <a:stretch/>
        </p:blipFill>
        <p:spPr>
          <a:xfrm>
            <a:off x="29571840" y="6626160"/>
            <a:ext cx="12990600" cy="295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4"/>
          <a:stretch/>
        </p:blipFill>
        <p:spPr>
          <a:xfrm>
            <a:off x="29352960" y="9801360"/>
            <a:ext cx="8931240" cy="5267160"/>
          </a:xfrm>
          <a:prstGeom prst="rect">
            <a:avLst/>
          </a:prstGeom>
          <a:ln w="50760">
            <a:solidFill>
              <a:srgbClr val="2d2d8a"/>
            </a:solidFill>
            <a:miter/>
          </a:ln>
        </p:spPr>
      </p:pic>
      <p:pic>
        <p:nvPicPr>
          <p:cNvPr id="101" name="Picture 3" descr=""/>
          <p:cNvPicPr/>
          <p:nvPr/>
        </p:nvPicPr>
        <p:blipFill>
          <a:blip r:embed="rId25"/>
          <a:stretch/>
        </p:blipFill>
        <p:spPr>
          <a:xfrm>
            <a:off x="29543400" y="19208880"/>
            <a:ext cx="4875120" cy="35589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26"/>
          <a:stretch/>
        </p:blipFill>
        <p:spPr>
          <a:xfrm>
            <a:off x="34506000" y="19208880"/>
            <a:ext cx="4311720" cy="35589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103" name="Picture 5" descr=""/>
          <p:cNvPicPr/>
          <p:nvPr/>
        </p:nvPicPr>
        <p:blipFill>
          <a:blip r:embed="rId27"/>
          <a:stretch/>
        </p:blipFill>
        <p:spPr>
          <a:xfrm>
            <a:off x="38904840" y="19208880"/>
            <a:ext cx="3938760" cy="35589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sp>
        <p:nvSpPr>
          <p:cNvPr id="104" name="Text Box 13"/>
          <p:cNvSpPr/>
          <p:nvPr/>
        </p:nvSpPr>
        <p:spPr>
          <a:xfrm>
            <a:off x="38368440" y="9353520"/>
            <a:ext cx="453204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 nodes with 12 network-features F: degree (number of contacts),  total weight (phone call duration)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xN time-series matrix per feature, T=183 days N=1,8M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3"/>
          <p:cNvSpPr/>
          <p:nvPr/>
        </p:nvSpPr>
        <p:spPr>
          <a:xfrm>
            <a:off x="29846520" y="22980600"/>
            <a:ext cx="1313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eft) Z score vs time with W=5 and F=inweight (number of calls receiv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10 days with the largest Z score is highlighted in red bars. (middle) u(t) vs r(t-1) for each node at T=Dec 26th. Top 5 nodes with the largest change is marked with red stars. (right) inweight vs time for the top 5 nodes marked –notice the change in calling behavior during the Christmas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Diagram 84" descr=""/>
          <p:cNvPicPr/>
          <p:nvPr/>
        </p:nvPicPr>
        <p:blipFill>
          <a:blip r:embed="rId28"/>
          <a:stretch/>
        </p:blipFill>
        <p:spPr>
          <a:xfrm>
            <a:off x="29194200" y="25206480"/>
            <a:ext cx="13795200" cy="321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5"/>
          <p:cNvGrpSpPr/>
          <p:nvPr/>
        </p:nvGrpSpPr>
        <p:grpSpPr>
          <a:xfrm>
            <a:off x="14706720" y="9601200"/>
            <a:ext cx="13515840" cy="609480"/>
            <a:chOff x="14706720" y="9601200"/>
            <a:chExt cx="13515840" cy="609480"/>
          </a:xfrm>
        </p:grpSpPr>
        <p:sp>
          <p:nvSpPr>
            <p:cNvPr id="108" name="Round Same Side Corner Rectangle 86"/>
            <p:cNvSpPr/>
            <p:nvPr/>
          </p:nvSpPr>
          <p:spPr>
            <a:xfrm rot="5400000">
              <a:off x="21159720" y="3147840"/>
              <a:ext cx="609480" cy="1351584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33480 h 13515840"/>
                <a:gd name="textAreaBottom" fmla="*/ 13516200 h 13515840"/>
              </a:gdLst>
              <a:ahLst/>
              <a:rect l="textAreaLeft" t="textAreaTop" r="textAreaRight" b="textAreaBottom"/>
              <a:pathLst>
                <a:path w="608378" h="11872014">
                  <a:moveTo>
                    <a:pt x="101398" y="0"/>
                  </a:moveTo>
                  <a:lnTo>
                    <a:pt x="506980" y="0"/>
                  </a:lnTo>
                  <a:lnTo>
                    <a:pt x="506980" y="0"/>
                  </a:lnTo>
                  <a:arcTo wR="101398" hR="101398" stAng="-5400000" swAng="5400000"/>
                  <a:lnTo>
                    <a:pt x="608378" y="11872014"/>
                  </a:lnTo>
                  <a:lnTo>
                    <a:pt x="0" y="11872014"/>
                  </a:lnTo>
                  <a:lnTo>
                    <a:pt x="0" y="101398"/>
                  </a:lnTo>
                  <a:lnTo>
                    <a:pt x="0" y="101398"/>
                  </a:lnTo>
                  <a:arcTo wR="101398" hR="101398" stAng="10800000" swAng="5400000"/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7a7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 Same Side Corner Rectangle 4"/>
            <p:cNvSpPr/>
            <p:nvPr/>
          </p:nvSpPr>
          <p:spPr>
            <a:xfrm>
              <a:off x="14706720" y="9630720"/>
              <a:ext cx="1348236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ow to predict whether a link will persist in the futur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 Same Side Corner Rectangle 4"/>
          <p:cNvSpPr/>
          <p:nvPr/>
        </p:nvSpPr>
        <p:spPr>
          <a:xfrm>
            <a:off x="14706720" y="11010960"/>
            <a:ext cx="13333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0160" tIns="20160" bIns="20160" anchor="ctr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ink and node attributes are important in predi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 70"/>
          <p:cNvSpPr/>
          <p:nvPr/>
        </p:nvSpPr>
        <p:spPr>
          <a:xfrm>
            <a:off x="8337600" y="6267600"/>
            <a:ext cx="5216400" cy="3038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ound 2M users, 50M edg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0M phone calls/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month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9"/>
          <a:stretch/>
        </p:blipFill>
        <p:spPr>
          <a:xfrm>
            <a:off x="1042920" y="21107520"/>
            <a:ext cx="12425400" cy="325728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sp>
        <p:nvSpPr>
          <p:cNvPr id="113" name="TextBox 96"/>
          <p:cNvSpPr/>
          <p:nvPr/>
        </p:nvSpPr>
        <p:spPr>
          <a:xfrm>
            <a:off x="1066680" y="24422040"/>
            <a:ext cx="12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 strength based on (a) # SMS                               (b) # Phone calls                                     (c) Duration of phone calls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Rectangle 100" descr=""/>
          <p:cNvPicPr/>
          <p:nvPr/>
        </p:nvPicPr>
        <p:blipFill>
          <a:blip r:embed="rId30"/>
          <a:stretch/>
        </p:blipFill>
        <p:spPr>
          <a:xfrm>
            <a:off x="10856880" y="14690880"/>
            <a:ext cx="804960" cy="70164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04" descr=""/>
          <p:cNvPicPr/>
          <p:nvPr/>
        </p:nvPicPr>
        <p:blipFill>
          <a:blip r:embed="rId31"/>
          <a:stretch/>
        </p:blipFill>
        <p:spPr>
          <a:xfrm>
            <a:off x="4211640" y="17598960"/>
            <a:ext cx="804960" cy="70164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05" descr=""/>
          <p:cNvPicPr/>
          <p:nvPr/>
        </p:nvPicPr>
        <p:blipFill>
          <a:blip r:embed="rId32"/>
          <a:stretch/>
        </p:blipFill>
        <p:spPr>
          <a:xfrm>
            <a:off x="841320" y="20970720"/>
            <a:ext cx="804960" cy="7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3"/>
          <a:stretch/>
        </p:blipFill>
        <p:spPr>
          <a:xfrm>
            <a:off x="8610480" y="15430680"/>
            <a:ext cx="4776840" cy="3395520"/>
          </a:xfrm>
          <a:prstGeom prst="rect">
            <a:avLst/>
          </a:prstGeom>
          <a:ln w="15840">
            <a:solidFill>
              <a:srgbClr val="3333cc"/>
            </a:solidFill>
            <a:miter/>
          </a:ln>
        </p:spPr>
      </p:pic>
      <p:pic>
        <p:nvPicPr>
          <p:cNvPr id="118" name="Picture 3" descr=""/>
          <p:cNvPicPr/>
          <p:nvPr/>
        </p:nvPicPr>
        <p:blipFill>
          <a:blip r:embed="rId34"/>
          <a:stretch/>
        </p:blipFill>
        <p:spPr>
          <a:xfrm>
            <a:off x="1066680" y="14525640"/>
            <a:ext cx="7520040" cy="318132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pic>
        <p:nvPicPr>
          <p:cNvPr id="119" name="Rectangle 99" descr=""/>
          <p:cNvPicPr/>
          <p:nvPr/>
        </p:nvPicPr>
        <p:blipFill>
          <a:blip r:embed="rId35"/>
          <a:stretch/>
        </p:blipFill>
        <p:spPr>
          <a:xfrm>
            <a:off x="4395960" y="14417640"/>
            <a:ext cx="8046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8:05:39Z</dcterms:created>
  <dc:creator>CAR</dc:creator>
  <dc:description/>
  <dc:language>en-US</dc:language>
  <cp:lastModifiedBy>LA</cp:lastModifiedBy>
  <dcterms:modified xsi:type="dcterms:W3CDTF">2010-07-24T04:53:03Z</dcterms:modified>
  <cp:revision>485</cp:revision>
  <dc:subject/>
  <dc:title>Slide 1</dc:title>
</cp:coreProperties>
</file>