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B50-7F9B-4FC8-8180-1FAFB111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44600"/>
            <a:ext cx="77724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680720"/>
            <a:ext cx="77724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50C-18F0-4623-8635-E5C7B8AE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44600"/>
            <a:ext cx="37926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44600"/>
            <a:ext cx="37926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680720"/>
            <a:ext cx="37926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680720"/>
            <a:ext cx="37926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27A-ADF7-45F6-9FBE-14632DA7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44600"/>
            <a:ext cx="2502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44600"/>
            <a:ext cx="2502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44600"/>
            <a:ext cx="2502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680720"/>
            <a:ext cx="2502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680720"/>
            <a:ext cx="2502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680720"/>
            <a:ext cx="25023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651-7306-44E9-B614-D9A27EAB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44600"/>
            <a:ext cx="77724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D1F-65B4-43F1-9497-728C4CFD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44600"/>
            <a:ext cx="77724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71F-CF97-4C45-9DB0-0D90A360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44600"/>
            <a:ext cx="3792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44600"/>
            <a:ext cx="3792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BDAE-5163-4778-829C-BB492D0D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6C0-91A0-4399-A8FF-0532D70E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90120"/>
            <a:ext cx="77724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82B-390F-4473-8966-BD7480C3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44600"/>
            <a:ext cx="37926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44600"/>
            <a:ext cx="3792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680720"/>
            <a:ext cx="37926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47C7-D952-4014-884D-693BFCB9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44600"/>
            <a:ext cx="3792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44600"/>
            <a:ext cx="37926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680720"/>
            <a:ext cx="37926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FBE-7954-4918-9423-F8FFF6F2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44600"/>
            <a:ext cx="37926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44600"/>
            <a:ext cx="37926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680720"/>
            <a:ext cx="77724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79F-0D87-4307-815F-8250C366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90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44600"/>
            <a:ext cx="77724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7081560"/>
            <a:ext cx="1905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X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81560"/>
            <a:ext cx="289584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Commerc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7081560"/>
            <a:ext cx="1905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5451-C2BB-4DC8-83B5-1D42A1EE1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71640"/>
            <a:ext cx="9144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Commer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3281400"/>
            <a:ext cx="711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 Tridas Mukhopadhy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, MS in Electronic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oitte Consulting Chair Professor of e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das@andrew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BED9-0058-4587-A231-F719CD75A5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2057400"/>
            <a:ext cx="2666880" cy="4343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5410080"/>
            <a:ext cx="2057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38862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1371600"/>
            <a:ext cx="3352680" cy="5486400"/>
          </a:xfrm>
          <a:prstGeom prst="upDownArrow">
            <a:avLst>
              <a:gd name="adj1" fmla="val 50000"/>
              <a:gd name="adj2" fmla="val 3257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276720"/>
            <a:ext cx="380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1828800"/>
            <a:ext cx="16765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a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s &amp;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24382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4343400"/>
            <a:ext cx="0" cy="1523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200" y="1828800"/>
            <a:ext cx="137160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et Fo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porate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762120" y="25142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62120" y="46479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057400"/>
            <a:ext cx="16765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er’s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1040" y="380880"/>
            <a:ext cx="65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s and the Exchange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29C-A73C-43E2-80FE-4F35E5DA5E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892840" y="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200" y="2849400"/>
            <a:ext cx="22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 Dictates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10200" y="485784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di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34080" y="2720880"/>
            <a:ext cx="20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 Controls Trans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34960" y="4792680"/>
            <a:ext cx="21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to 1-1 Nego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06680" y="11016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er’s Transaction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68480" y="2266920"/>
            <a:ext cx="3675240" cy="2525760"/>
          </a:xfrm>
          <a:prstGeom prst="pentag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16320" y="3044880"/>
            <a:ext cx="269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tening the Customer Pyram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14D1-0790-46DE-9D19-407849B582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235240" y="2332080"/>
            <a:ext cx="4775040" cy="2590920"/>
          </a:xfrm>
          <a:prstGeom prst="hexagon">
            <a:avLst>
              <a:gd name="adj" fmla="val 46075"/>
              <a:gd name="vf" fmla="val 11547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92840" y="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38560"/>
            <a:ext cx="22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gain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73520" y="4987800"/>
            <a:ext cx="25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forcement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02280" y="330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4987800"/>
            <a:ext cx="19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c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46240" y="310824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tion of Buyer’s Transaction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25760" y="18129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6600" y="1943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491-B27D-47B7-B788-746EC9389A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388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rating up the Pyram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65560" y="4210200"/>
            <a:ext cx="609480" cy="38880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75040" y="440388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073240"/>
            <a:ext cx="11174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23160" y="2266920"/>
            <a:ext cx="9144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8200" y="1619280"/>
            <a:ext cx="3149640" cy="1165320"/>
          </a:xfrm>
          <a:prstGeom prst="hexagon">
            <a:avLst>
              <a:gd name="adj" fmla="val 6757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7120" y="1878120"/>
            <a:ext cx="253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ed  pr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84800" y="3821040"/>
            <a:ext cx="2641680" cy="1166760"/>
          </a:xfrm>
          <a:prstGeom prst="hexagon">
            <a:avLst>
              <a:gd name="adj" fmla="val 56603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07240" y="4079880"/>
            <a:ext cx="193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41680" y="4403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200" y="3821040"/>
            <a:ext cx="2641680" cy="1166760"/>
          </a:xfrm>
          <a:prstGeom prst="hexagon">
            <a:avLst>
              <a:gd name="adj" fmla="val 56603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7960" y="38862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purchas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48400" y="1619280"/>
            <a:ext cx="3147840" cy="1165320"/>
          </a:xfrm>
          <a:prstGeom prst="hexagon">
            <a:avLst>
              <a:gd name="adj" fmla="val 67532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1878120"/>
            <a:ext cx="1930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-menu Pr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920" y="5894280"/>
            <a:ext cx="3352680" cy="1165320"/>
          </a:xfrm>
          <a:prstGeom prst="hexagon">
            <a:avLst>
              <a:gd name="adj" fmla="val 7192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7120" y="6087960"/>
            <a:ext cx="26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ed Web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78400" y="5894280"/>
            <a:ext cx="3352680" cy="1165320"/>
          </a:xfrm>
          <a:prstGeom prst="hexagon">
            <a:avLst>
              <a:gd name="adj" fmla="val 71926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84800" y="6087960"/>
            <a:ext cx="22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buyer’s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572000" y="2784600"/>
            <a:ext cx="3048120" cy="14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1523520" y="2784600"/>
            <a:ext cx="2845080" cy="14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703160" y="4599000"/>
            <a:ext cx="26542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599000"/>
            <a:ext cx="27795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CB8B-208E-431C-89B7-8BC16E14FF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774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-C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Distribu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Pric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Internet Business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Industry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A1A8-B474-4DC7-BF3C-F3288F2D9A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400800" y="712800"/>
            <a:ext cx="1828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40160" y="2655720"/>
            <a:ext cx="3962160" cy="2784600"/>
          </a:xfrm>
          <a:custGeom>
            <a:avLst/>
            <a:gdLst>
              <a:gd name="textAreaLeft" fmla="*/ 990360 w 3962160"/>
              <a:gd name="textAreaRight" fmla="*/ 2971800 w 3962160"/>
              <a:gd name="textAreaTop" fmla="*/ 696240 h 2784600"/>
              <a:gd name="textAreaBottom" fmla="*/ 2088720 h 2784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352680"/>
            <a:ext cx="213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Business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3755880"/>
            <a:ext cx="142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27400" y="1360440"/>
            <a:ext cx="250992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16320" y="1488960"/>
            <a:ext cx="237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stablish Internet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02320" y="3497400"/>
            <a:ext cx="228276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6440" y="3497400"/>
            <a:ext cx="2133720" cy="107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16320" y="5440320"/>
            <a:ext cx="2314440" cy="9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75520" y="3562200"/>
            <a:ext cx="253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Pirate the Valu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27400" y="5570640"/>
            <a:ext cx="24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Create Digit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3429000"/>
            <a:ext cx="203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reate a Customer Ma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8C8-20A1-42B5-AE89-B7FD8F8D1E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400800" y="712800"/>
            <a:ext cx="1828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40160" y="2655720"/>
            <a:ext cx="3962160" cy="2784600"/>
          </a:xfrm>
          <a:custGeom>
            <a:avLst/>
            <a:gdLst>
              <a:gd name="textAreaLeft" fmla="*/ 990360 w 3962160"/>
              <a:gd name="textAreaRight" fmla="*/ 2971800 w 3962160"/>
              <a:gd name="textAreaTop" fmla="*/ 696240 h 2784600"/>
              <a:gd name="textAreaBottom" fmla="*/ 2088720 h 2784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3276720"/>
            <a:ext cx="213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 Establish Internet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3755880"/>
            <a:ext cx="142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16320" y="1684440"/>
            <a:ext cx="237312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16320" y="1684440"/>
            <a:ext cx="237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line Customer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02320" y="3497400"/>
            <a:ext cx="2282760" cy="107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06440" y="3497400"/>
            <a:ext cx="213372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16320" y="5440320"/>
            <a:ext cx="2314440" cy="9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34080" y="3432240"/>
            <a:ext cx="218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 Customer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27400" y="5699160"/>
            <a:ext cx="24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7840" y="3627360"/>
            <a:ext cx="20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279-3C06-4E7B-B79B-64E6754141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400800" y="712800"/>
            <a:ext cx="1828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40160" y="2655720"/>
            <a:ext cx="3962160" cy="2784600"/>
          </a:xfrm>
          <a:custGeom>
            <a:avLst/>
            <a:gdLst>
              <a:gd name="textAreaLeft" fmla="*/ 990360 w 3962160"/>
              <a:gd name="textAreaRight" fmla="*/ 2971800 w 3962160"/>
              <a:gd name="textAreaTop" fmla="*/ 696240 h 2784600"/>
              <a:gd name="textAreaBottom" fmla="*/ 2088720 h 2784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95600" y="343224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 Pirate the Value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3755880"/>
            <a:ext cx="142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316320" y="1684440"/>
            <a:ext cx="237312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16320" y="1684440"/>
            <a:ext cx="237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idate the Valu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02320" y="3497400"/>
            <a:ext cx="228276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497400"/>
            <a:ext cx="254016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6320" y="5440320"/>
            <a:ext cx="2314440" cy="9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75520" y="375588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699160"/>
            <a:ext cx="24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627360"/>
            <a:ext cx="260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Intermedi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560-08FD-4482-B350-446FC9486D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400800" y="712800"/>
            <a:ext cx="1828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40160" y="2655720"/>
            <a:ext cx="3962160" cy="2784600"/>
          </a:xfrm>
          <a:custGeom>
            <a:avLst/>
            <a:gdLst>
              <a:gd name="textAreaLeft" fmla="*/ 990360 w 3962160"/>
              <a:gd name="textAreaRight" fmla="*/ 2971800 w 3962160"/>
              <a:gd name="textAreaTop" fmla="*/ 696240 h 2784600"/>
              <a:gd name="textAreaBottom" fmla="*/ 2088720 h 2784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95600" y="356220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Create Digital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3755880"/>
            <a:ext cx="142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16320" y="1684440"/>
            <a:ext cx="237312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16320" y="1812960"/>
            <a:ext cx="237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02320" y="3497400"/>
            <a:ext cx="228276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6440" y="3497400"/>
            <a:ext cx="213372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16320" y="5440320"/>
            <a:ext cx="2314440" cy="9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75520" y="375588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27400" y="5699160"/>
            <a:ext cx="24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7840" y="3627360"/>
            <a:ext cx="20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C515-61CA-46DF-A3D2-12E9990F99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400800" y="712800"/>
            <a:ext cx="1828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40160" y="2655720"/>
            <a:ext cx="3962160" cy="2784600"/>
          </a:xfrm>
          <a:custGeom>
            <a:avLst/>
            <a:gdLst>
              <a:gd name="textAreaLeft" fmla="*/ 990360 w 3962160"/>
              <a:gd name="textAreaRight" fmla="*/ 2971800 w 3962160"/>
              <a:gd name="textAreaTop" fmla="*/ 696240 h 2784600"/>
              <a:gd name="textAreaBottom" fmla="*/ 2088720 h 2784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429000"/>
            <a:ext cx="213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Create a Customer Mag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3755880"/>
            <a:ext cx="142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16320" y="1684440"/>
            <a:ext cx="237312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06680" y="1684440"/>
            <a:ext cx="23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 / Service Ma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02320" y="3497400"/>
            <a:ext cx="228276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6440" y="3497400"/>
            <a:ext cx="213372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16320" y="5440320"/>
            <a:ext cx="2314440" cy="9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02280" y="3627360"/>
            <a:ext cx="16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Ma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27400" y="5570640"/>
            <a:ext cx="24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Model Ma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7840" y="3627360"/>
            <a:ext cx="20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y Mag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8338-DC6D-4A94-9043-59E047F0DF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600" y="1036440"/>
            <a:ext cx="863604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eCommerce Fundamentals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5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Value Chain and Competi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eValue Crea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Ford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B2B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eMarketing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Free Market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Supply Chai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eServic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Digital good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Dell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Internet Strategie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95EE-EBAC-4D07-950D-3C53B14DA9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774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-C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Distribu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Pric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Business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Changing Industry Struc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0B8-5197-439B-AA2F-7851C38469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434960" y="453960"/>
            <a:ext cx="60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nging Industry Struc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juicyfruit" descr=""/>
          <p:cNvPicPr/>
          <p:nvPr/>
        </p:nvPicPr>
        <p:blipFill>
          <a:blip r:embed="rId1"/>
          <a:stretch/>
        </p:blipFill>
        <p:spPr>
          <a:xfrm>
            <a:off x="1165320" y="2655720"/>
            <a:ext cx="6454800" cy="28609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flipV="1">
            <a:off x="5648400" y="4209840"/>
            <a:ext cx="0" cy="453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303800" y="4016520"/>
            <a:ext cx="0" cy="4521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2921-C227-4BAE-960D-708F8E2BC81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NEW" descr=""/>
          <p:cNvPicPr/>
          <p:nvPr/>
        </p:nvPicPr>
        <p:blipFill>
          <a:blip r:embed="rId1"/>
          <a:stretch/>
        </p:blipFill>
        <p:spPr>
          <a:xfrm>
            <a:off x="2779560" y="0"/>
            <a:ext cx="3633840" cy="2833560"/>
          </a:xfrm>
          <a:prstGeom prst="rect">
            <a:avLst/>
          </a:prstGeom>
          <a:ln w="0">
            <a:noFill/>
          </a:ln>
        </p:spPr>
      </p:pic>
      <p:pic>
        <p:nvPicPr>
          <p:cNvPr id="217" name="SPIRAL" descr=""/>
          <p:cNvPicPr/>
          <p:nvPr/>
        </p:nvPicPr>
        <p:blipFill>
          <a:blip r:embed="rId2"/>
          <a:stretch/>
        </p:blipFill>
        <p:spPr>
          <a:xfrm>
            <a:off x="2868480" y="4145040"/>
            <a:ext cx="3756240" cy="29145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291456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y: Rich information exchange, rig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rarchy: Amorphous, permeable organizational boundaries, multiple al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7697-DC72-4403-A7FE-121D9CDE37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68200" y="1295280"/>
            <a:ext cx="179388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12160" y="1295280"/>
            <a:ext cx="176364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8200" y="3044880"/>
            <a:ext cx="1763640" cy="71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8200" y="4857840"/>
            <a:ext cx="176364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8200" y="6218280"/>
            <a:ext cx="176364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12160" y="3044880"/>
            <a:ext cx="1672920" cy="71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12160" y="4792680"/>
            <a:ext cx="1763640" cy="71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12160" y="6218280"/>
            <a:ext cx="1763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38280" y="1360440"/>
            <a:ext cx="1016280" cy="647640"/>
          </a:xfrm>
          <a:prstGeom prst="parallelogram">
            <a:avLst>
              <a:gd name="adj" fmla="val 392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1360440"/>
            <a:ext cx="1015920" cy="647640"/>
          </a:xfrm>
          <a:prstGeom prst="parallelogram">
            <a:avLst>
              <a:gd name="adj" fmla="val 392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775040" y="1360440"/>
            <a:ext cx="1016280" cy="647640"/>
          </a:xfrm>
          <a:prstGeom prst="parallelogram">
            <a:avLst>
              <a:gd name="adj" fmla="val 392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892840" y="1360440"/>
            <a:ext cx="1015920" cy="647640"/>
          </a:xfrm>
          <a:prstGeom prst="parallelogram">
            <a:avLst>
              <a:gd name="adj" fmla="val 392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49640" y="3044880"/>
            <a:ext cx="1015920" cy="647640"/>
          </a:xfrm>
          <a:prstGeom prst="parallelogram">
            <a:avLst>
              <a:gd name="adj" fmla="val 392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78440" y="3044880"/>
            <a:ext cx="1015920" cy="647640"/>
          </a:xfrm>
          <a:prstGeom prst="parallelogram">
            <a:avLst>
              <a:gd name="adj" fmla="val 392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43200" y="4987800"/>
            <a:ext cx="914400" cy="3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68960" y="4923000"/>
            <a:ext cx="1726920" cy="452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00280" y="6346800"/>
            <a:ext cx="30312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24160" y="6346800"/>
            <a:ext cx="30672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48400" y="6346800"/>
            <a:ext cx="303120" cy="19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27400" y="6735600"/>
            <a:ext cx="304920" cy="1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40200" y="6735600"/>
            <a:ext cx="304920" cy="1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554120"/>
            <a:ext cx="19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112160" y="148896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12160" y="323856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12160" y="498780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12160" y="634680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23856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511668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411960"/>
            <a:ext cx="20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75520" y="6735600"/>
            <a:ext cx="304560" cy="1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41680" y="841320"/>
            <a:ext cx="41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Value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44720" y="2590920"/>
            <a:ext cx="34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rink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41680" y="434016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Intermedi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09920" y="5829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 Market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ing the Value Ch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7C1C-D960-4707-B286-5C02DB1E22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895480" y="228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1066680"/>
            <a:ext cx="114300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57600" y="1066680"/>
            <a:ext cx="114300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066680"/>
            <a:ext cx="114300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4876920"/>
            <a:ext cx="129528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57800" y="3886200"/>
            <a:ext cx="1447920" cy="990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9520" y="5791320"/>
            <a:ext cx="129528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3962520"/>
            <a:ext cx="129528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5257800"/>
            <a:ext cx="129528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4120" y="5867280"/>
            <a:ext cx="1295280" cy="9144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828800" y="4571640"/>
            <a:ext cx="91440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5181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95480" y="40384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arch 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38480" y="44197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40384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stment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05720" y="4419720"/>
            <a:ext cx="144756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0120" y="533412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d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71800" y="594360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our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19920" y="4876920"/>
            <a:ext cx="0" cy="99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5334120"/>
            <a:ext cx="106668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6095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et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0666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ck off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12193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1828800" y="4647960"/>
            <a:ext cx="358128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5334120"/>
            <a:ext cx="38098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144792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00600" y="144792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32004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19320" y="220968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formation of  Retail Ban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9E5-0EFE-42E8-8D6C-354EA7789A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400800" y="712800"/>
            <a:ext cx="1828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40160" y="2655720"/>
            <a:ext cx="3962160" cy="2784600"/>
          </a:xfrm>
          <a:custGeom>
            <a:avLst/>
            <a:gdLst>
              <a:gd name="textAreaLeft" fmla="*/ 990360 w 3962160"/>
              <a:gd name="textAreaRight" fmla="*/ 2971800 w 3962160"/>
              <a:gd name="textAreaTop" fmla="*/ 696240 h 2784600"/>
              <a:gd name="textAreaBottom" fmla="*/ 2088720 h 2784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05320" y="3352680"/>
            <a:ext cx="213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ing Industry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3755880"/>
            <a:ext cx="142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44720" y="1684440"/>
            <a:ext cx="335304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68480" y="1812960"/>
            <a:ext cx="325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chain fra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02320" y="3497400"/>
            <a:ext cx="237348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3497400"/>
            <a:ext cx="254016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5440320"/>
            <a:ext cx="3251160" cy="9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5622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ing network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02320" y="3627360"/>
            <a:ext cx="26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gaining power 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5570640"/>
            <a:ext cx="325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ervices by 3rd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41C-123B-46F0-B39F-BAB7D79654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774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-C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17120" y="1447920"/>
            <a:ext cx="8426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Changing Distribution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Pric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Business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Industry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9AE-0CB8-4267-9464-EED2A29394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920" y="3951360"/>
            <a:ext cx="3317760" cy="2008080"/>
          </a:xfrm>
          <a:custGeom>
            <a:avLst/>
            <a:gdLst>
              <a:gd name="textAreaLeft" fmla="*/ 0 w 3317760"/>
              <a:gd name="textAreaRight" fmla="*/ 3318120 w 3317760"/>
              <a:gd name="textAreaTop" fmla="*/ 0 h 2008080"/>
              <a:gd name="textAreaBottom" fmla="*/ 2008440 h 2008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4727520"/>
            <a:ext cx="36748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ustrial Rev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ss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conomy of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10200" y="4727520"/>
            <a:ext cx="35859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rtation Rev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il &amp;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 and 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849400"/>
            <a:ext cx="26002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Marke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ographical R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de Regu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01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s of Current Distribu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89200" y="5051520"/>
            <a:ext cx="295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products at right place at the righ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7CE3-4B25-4D09-8127-9AFCC77274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w Landscape of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554120"/>
            <a:ext cx="380988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ion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sortment and 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960" y="1554120"/>
            <a:ext cx="380988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 of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ogenization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relevance of 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83080" y="1511280"/>
            <a:ext cx="12600" cy="5499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6400" y="2289240"/>
            <a:ext cx="699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C4B-D3CD-438C-AA40-FE682D82C1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72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ribution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ortment and s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rs: Few goods of large qua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s: Many goods of small qua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 size, delivery,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mate o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buyers for s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sellers for 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8863-D265-41F5-845A-F853CBBBD5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 Distribu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0732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923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283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4974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00280" y="1165320"/>
            <a:ext cx="0" cy="511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60920" y="1165320"/>
            <a:ext cx="0" cy="511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02280" y="1165320"/>
            <a:ext cx="0" cy="511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21000" y="129528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ssortment and s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60920" y="1488960"/>
            <a:ext cx="21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uti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902280" y="1488960"/>
            <a:ext cx="22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ar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397240"/>
            <a:ext cx="24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ath of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8200" y="4016520"/>
            <a:ext cx="24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mogenization of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505480"/>
            <a:ext cx="24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relevance of 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00280" y="2397240"/>
            <a:ext cx="197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ic Maker: Customer selects so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930920" y="2397240"/>
            <a:ext cx="1792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 Catalog On 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79560" y="5181480"/>
            <a:ext cx="170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 selling to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79560" y="3821040"/>
            <a:ext cx="161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l anytime on the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1920" y="5181480"/>
            <a:ext cx="2062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/Buyer location not limi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30920" y="5311800"/>
            <a:ext cx="188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dding on the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61200" y="2460600"/>
            <a:ext cx="143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from any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0200" y="3886200"/>
            <a:ext cx="188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ine updates vs. Web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1920" y="388620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b sites with links to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F75F-A764-49F3-82CC-8351002558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400800" y="712800"/>
            <a:ext cx="1828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40160" y="2655720"/>
            <a:ext cx="3962160" cy="2784600"/>
          </a:xfrm>
          <a:custGeom>
            <a:avLst/>
            <a:gdLst>
              <a:gd name="textAreaLeft" fmla="*/ 990360 w 3962160"/>
              <a:gd name="textAreaRight" fmla="*/ 2971800 w 3962160"/>
              <a:gd name="textAreaTop" fmla="*/ 696240 h 2784600"/>
              <a:gd name="textAreaBottom" fmla="*/ 2088720 h 27846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5600" y="36925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Term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3755880"/>
            <a:ext cx="142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6320" y="1684440"/>
            <a:ext cx="237312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16320" y="2008080"/>
            <a:ext cx="23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interme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02320" y="3497400"/>
            <a:ext cx="228276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6440" y="3497400"/>
            <a:ext cx="2133720" cy="97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16320" y="5440320"/>
            <a:ext cx="2314440" cy="97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75520" y="3755880"/>
            <a:ext cx="25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interme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27400" y="5699160"/>
            <a:ext cx="247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6440" y="3755880"/>
            <a:ext cx="203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DC3C-8F85-4FAB-9733-6FFF36AC69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774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-C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Distribu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Internet Pric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Business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Industry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DAF-1456-4944-899E-FA9189FA39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14:33:43Z</dcterms:created>
  <dc:creator>Tridas Mukopadhyay</dc:creator>
  <dc:description/>
  <dc:language>en-US</dc:language>
  <cp:lastModifiedBy>Tridas Mukopadhyay</cp:lastModifiedBy>
  <cp:lastPrinted>1999-06-20T18:34:42Z</cp:lastPrinted>
  <dcterms:modified xsi:type="dcterms:W3CDTF">2000-08-24T13:02:16Z</dcterms:modified>
  <cp:revision>27</cp:revision>
  <dc:subject/>
  <dc:title>The New Landscape of Distribution</dc:title>
</cp:coreProperties>
</file>