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0DB-79DA-4B38-AB51-D2BCDCF3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14FE-B719-4927-9B3E-17F9614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378-84A2-487A-B4A0-B44B18A8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2B1-8814-4FF5-A982-911DD763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2439-8F32-4D3D-BB7A-144750E8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885-8F81-4647-A70D-FB939A7A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68F-A067-4B2F-A4FE-F944C5F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245-7AF2-42A4-903E-13496D43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A44-D200-4EDD-8211-4587AE63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80D-435A-4A6B-BC5D-9480739D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5AA-1765-4C3A-9022-71870AA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1DD-C273-4A84-B45C-F09F3D3C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03E4-0088-4AB3-A363-CEC28A25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BCA-5F4B-4952-BA17-8699A7E0AC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n-line Publ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Fac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293-8F5C-4F5F-B224-1AF4D3E3F0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08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ritical Success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elling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, timely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customer for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ing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proper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198108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1600200"/>
            <a:ext cx="0" cy="441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EDD-4119-4759-B4A0-CE485B4ACC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400800" y="62856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1981080"/>
            <a:ext cx="3962520" cy="2971800"/>
          </a:xfrm>
          <a:custGeom>
            <a:avLst/>
            <a:gdLst>
              <a:gd name="textAreaLeft" fmla="*/ 990720 w 3962520"/>
              <a:gd name="textAreaRight" fmla="*/ 2972160 w 3962520"/>
              <a:gd name="textAreaTop" fmla="*/ 743040 h 2971800"/>
              <a:gd name="textAreaBottom" fmla="*/ 2229120 h 2971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66688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rivers of 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331488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14300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s in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0232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644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9528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0481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targ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495288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tekee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12408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749-70E6-4A68-802B-A031626CF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400800" y="62856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133720"/>
            <a:ext cx="4343400" cy="2895480"/>
          </a:xfrm>
          <a:custGeom>
            <a:avLst/>
            <a:gdLst>
              <a:gd name="textAreaLeft" fmla="*/ 1085760 w 4343400"/>
              <a:gd name="textAreaRight" fmla="*/ 3257640 w 4343400"/>
              <a:gd name="textAreaTop" fmla="*/ 723960 h 2895480"/>
              <a:gd name="textAreaBottom" fmla="*/ 2171880 h 28954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743200"/>
            <a:ext cx="251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On-line publishing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331488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12952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523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124080"/>
            <a:ext cx="213336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04812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10552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29400" y="3124080"/>
            <a:ext cx="233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51055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&amp; Just-i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276720"/>
            <a:ext cx="20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E9B6-09D1-4080-9745-4D0C09EC68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641680" y="2400480"/>
            <a:ext cx="3657600" cy="209520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2743200"/>
            <a:ext cx="254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igital Copyright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00440"/>
            <a:ext cx="26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Web Server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82120" y="2690640"/>
            <a:ext cx="304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1523880"/>
            <a:ext cx="25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Use of th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4343400"/>
            <a:ext cx="253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43434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Infrin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F5C-65F5-4C77-9FF7-03940DD06C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n-line Adverti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Fac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4EC-07F4-4EB6-94DC-FDC280A6C4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3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hy On-line Advertis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demograph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update and targ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reach (glob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media, inte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heaper (e.g., distribu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6E2-E0AE-4A87-9074-714264346E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57600" y="2743200"/>
            <a:ext cx="1905120" cy="1752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295280"/>
            <a:ext cx="175284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12952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048120"/>
            <a:ext cx="1600200" cy="99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31240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9528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9528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4952880"/>
            <a:ext cx="160020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9528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ner Swa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3716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ner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920" y="13716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d Ban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t L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1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5249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31240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 Ro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286000"/>
            <a:ext cx="27432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581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57400" y="4266720"/>
            <a:ext cx="182880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48320" y="4495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5333760" y="4266720"/>
            <a:ext cx="1904760" cy="1143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562720" y="3581280"/>
            <a:ext cx="16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257800" y="2286000"/>
            <a:ext cx="274320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2860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41A-F57D-488A-A351-F66310DB07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35240" y="1447920"/>
            <a:ext cx="4775040" cy="2895480"/>
          </a:xfrm>
          <a:prstGeom prst="hexagon">
            <a:avLst>
              <a:gd name="adj" fmla="val 4122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92840" y="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2362320"/>
            <a:ext cx="195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4514760"/>
            <a:ext cx="25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Cl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362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4400640"/>
            <a:ext cx="23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46240" y="2743200"/>
            <a:ext cx="3353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990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ts/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60020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n-line Advertising Effectiveness Measu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FBD-B302-4983-8838-32A2A7CB8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nline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2520" y="1542960"/>
            <a:ext cx="817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erchants, catalogs are for ad &amp; pro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ustomers, catalogs are for information and price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 of product database, directory and search capability and presentatio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with business processes cru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 Catalogs versus Dynamic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y-made versus Customized Catal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CE7C-4678-47CB-9F12-2EEF978F8C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DC0-A67B-4A70-98C8-7B81ABF7F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ustomized Catalo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44892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interesting parts out of the whole catalo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for aiding customers to concentrate on their nee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catalogs with branded, value-added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th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 their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ized prices, products, and display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 the system automatically identify the characteristics of customers based on the transaction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B6B-A372-455A-A8A7-E7686809A2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447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raditional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er decides on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er to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one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73520" y="456840"/>
            <a:ext cx="447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b 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lect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just broad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may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5C4-A854-4D99-A00E-0A90EB1F93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Changing Face of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9F9-0F9C-464A-B50C-39A3BDC9F0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52280"/>
            <a:ext cx="9144000" cy="81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mpact of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eb creates a level playing fie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ccess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elbow out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barrier to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not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create a mountain in a flat wor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active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, not just visual app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dumping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4791-AD08-4DE4-A447-E103DDEAE6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43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ype of Attrac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600200"/>
            <a:ext cx="2666880" cy="857160"/>
          </a:xfrm>
          <a:prstGeom prst="hexagon">
            <a:avLst>
              <a:gd name="adj" fmla="val 7778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7156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53080" y="1676520"/>
            <a:ext cx="2590920" cy="780840"/>
          </a:xfrm>
          <a:prstGeom prst="hexagon">
            <a:avLst>
              <a:gd name="adj" fmla="val 8295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54348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257800"/>
            <a:ext cx="2667240" cy="838080"/>
          </a:xfrm>
          <a:prstGeom prst="hexagon">
            <a:avLst>
              <a:gd name="adj" fmla="val 7956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416720" y="354348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5257800"/>
            <a:ext cx="1727280" cy="685800"/>
          </a:xfrm>
          <a:prstGeom prst="hexagon">
            <a:avLst>
              <a:gd name="adj" fmla="val 6296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5257800"/>
            <a:ext cx="1981080" cy="685800"/>
          </a:xfrm>
          <a:prstGeom prst="hexagon">
            <a:avLst>
              <a:gd name="adj" fmla="val 7221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2880" y="2457360"/>
            <a:ext cx="7416720" cy="28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12880" y="2457000"/>
            <a:ext cx="7416720" cy="280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65560" y="3714840"/>
            <a:ext cx="609480" cy="342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726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5040" y="388620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70480" y="2457000"/>
            <a:ext cx="0" cy="125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70480" y="405756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828800"/>
            <a:ext cx="111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6765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 P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190512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23160" y="20001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934320" y="1600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 Spons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429000"/>
            <a:ext cx="111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96080" y="365760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5334120"/>
            <a:ext cx="16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ft 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52578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way Inters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87CF-0434-4AE9-BDDD-21DD24C109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540160" y="457200"/>
            <a:ext cx="66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rvice Process Matri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1752480"/>
            <a:ext cx="6324480" cy="358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17524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0920" y="358128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19810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Sh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Fac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Mass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90920" y="5562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abor Inten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22096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action &amp;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9832400">
            <a:off x="4191120" y="3124080"/>
            <a:ext cx="2819160" cy="1143000"/>
          </a:xfrm>
          <a:prstGeom prst="leftArrow">
            <a:avLst>
              <a:gd name="adj1" fmla="val 50000"/>
              <a:gd name="adj2" fmla="val 61661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046-FFC0-4CAE-97C6-82F307C5ED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40160" y="457200"/>
            <a:ext cx="66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or’s G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1752480"/>
            <a:ext cx="6324480" cy="358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752480"/>
            <a:ext cx="0" cy="358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358128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2362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e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43434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Ma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55627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1981080"/>
            <a:ext cx="2209680" cy="32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9539000">
            <a:off x="4343400" y="3124080"/>
            <a:ext cx="2819520" cy="990720"/>
          </a:xfrm>
          <a:prstGeom prst="rightArrow">
            <a:avLst>
              <a:gd name="adj1" fmla="val 50000"/>
              <a:gd name="adj2" fmla="val 7114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B57-D94E-4BB1-9486-05EC9551FA0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17440" y="588636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 for Attr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28600"/>
            <a:ext cx="9144000" cy="34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tainable Attra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ase of Imitation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broch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ff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ut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nso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si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(exclusive feat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/ corporat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3657600"/>
            <a:ext cx="457200" cy="1905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3581280"/>
            <a:ext cx="2362320" cy="1981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96252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962520"/>
            <a:ext cx="76212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49568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41972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64832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9528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505320" y="3962160"/>
            <a:ext cx="99036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809880" y="39625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657600" y="3962160"/>
            <a:ext cx="83808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4495680" y="3733560"/>
            <a:ext cx="25909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3412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4952520"/>
            <a:ext cx="182880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4952880"/>
            <a:ext cx="190476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1480" y="4876560"/>
            <a:ext cx="190512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05520" y="4952880"/>
            <a:ext cx="19047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38098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41911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51814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800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486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315200" y="3505320"/>
            <a:ext cx="1600200" cy="19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peci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usto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56272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luence Fil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 Refract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Web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1972-C4C7-4872-8DD3-D42BFDA491F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400800" y="628560"/>
            <a:ext cx="1828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0" y="2133720"/>
            <a:ext cx="4419720" cy="2971800"/>
          </a:xfrm>
          <a:custGeom>
            <a:avLst/>
            <a:gdLst>
              <a:gd name="textAreaLeft" fmla="*/ 1104840 w 4419720"/>
              <a:gd name="textAreaRight" fmla="*/ 3314880 w 4419720"/>
              <a:gd name="textAreaTop" fmla="*/ 743040 h 2971800"/>
              <a:gd name="textAreaBottom" fmla="*/ 2229120 h 2971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81952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que Properties of Serv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314880"/>
            <a:ext cx="142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1219320"/>
            <a:ext cx="25905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1371600"/>
            <a:ext cx="27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3048120"/>
            <a:ext cx="213336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3124080"/>
            <a:ext cx="19555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510552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9400" y="3276720"/>
            <a:ext cx="22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2578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sh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280" y="32767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ang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E81-104B-40C2-985B-CAE3F735872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68200" y="0"/>
            <a:ext cx="7010640" cy="2971800"/>
          </a:xfrm>
          <a:custGeom>
            <a:avLst/>
            <a:gdLst>
              <a:gd name="textAreaLeft" fmla="*/ 0 w 7010640"/>
              <a:gd name="textAreaRight" fmla="*/ 7011000 w 701064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7120" y="285840"/>
            <a:ext cx="6604200" cy="27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 provide ev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eb to tangibilize the intan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in the cyber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ing 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68200" y="3086280"/>
            <a:ext cx="7010640" cy="3028680"/>
          </a:xfrm>
          <a:custGeom>
            <a:avLst/>
            <a:gdLst>
              <a:gd name="textAreaLeft" fmla="*/ 0 w 7010640"/>
              <a:gd name="textAreaRight" fmla="*/ 7011000 w 7010640"/>
              <a:gd name="textAreaTop" fmla="*/ 0 h 3028680"/>
              <a:gd name="textAreaBottom" fmla="*/ 3029040 h 30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3276720"/>
            <a:ext cx="660384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as a part-time 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through customer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industri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ing customer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38880" y="609480"/>
            <a:ext cx="234000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ang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multa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DC4-A0A5-4C22-95CF-993BF6F220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n-line Ba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Publ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-line Adverti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Face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1204-A6AC-40F0-AA8E-9AA4681B3B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7010280" cy="302904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3029040"/>
              <a:gd name="textAreaBottom" fmla="*/ 3029400 h 30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3200400"/>
            <a:ext cx="7010280" cy="2571840"/>
          </a:xfrm>
          <a:custGeom>
            <a:avLst/>
            <a:gdLst>
              <a:gd name="textAreaLeft" fmla="*/ 0 w 7010280"/>
              <a:gd name="textAreaRight" fmla="*/ 7010640 w 701028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7120" y="343080"/>
            <a:ext cx="5286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standardization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eavesdro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280" y="3772080"/>
            <a:ext cx="5384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supply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ing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07240" y="1143000"/>
            <a:ext cx="233676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eterogene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Man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erish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17E-70D7-4816-B22A-4D1CF4AB0F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igration to on-line media is re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models are b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velocities in different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4FB-059A-4D4C-B279-ADA66368DA8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8600"/>
            <a:ext cx="9144000" cy="61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ends in Retail Ba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bank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454-90E3-4A1D-8F71-82CF33EFE1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0644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3032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54560" y="3029040"/>
            <a:ext cx="1726920" cy="79992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7844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02320" y="3029040"/>
            <a:ext cx="1727280" cy="79992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343240"/>
            <a:ext cx="8331120" cy="211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52280"/>
            <a:ext cx="8128080" cy="16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Evolution of Distribution Channel Cha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3200400"/>
            <a:ext cx="932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143160"/>
            <a:ext cx="8128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25764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n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83360" y="3200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 Ban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7240" y="3200400"/>
            <a:ext cx="111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WW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6440" y="4057560"/>
            <a:ext cx="782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2880" y="4114800"/>
            <a:ext cx="69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duced cost per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578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B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C1B-754C-4BA2-8496-FE95F117B2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00800" y="628560"/>
            <a:ext cx="1828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0160" y="2133720"/>
            <a:ext cx="3962160" cy="281916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704880 h 2819160"/>
              <a:gd name="textAreaBottom" fmla="*/ 2114640 h 2819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743200"/>
            <a:ext cx="198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Home Banking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31488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2952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1295280"/>
            <a:ext cx="203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tary bank dial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0232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6440" y="3086280"/>
            <a:ext cx="2133720" cy="857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4952880"/>
            <a:ext cx="2133720" cy="857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3124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based ba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495288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-the-shelf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12408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lin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723-8EC5-4574-8EAF-AAA31C78D4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5800" y="533520"/>
          <a:ext cx="8143920" cy="75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8143920" cy="75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굴림"/>
              </a:rPr>
              <a:t>Traditional Banks vs. Cyber b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2166-9DD2-41DB-85D2-FBADBA1399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alue Cre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5800" y="838080"/>
          <a:ext cx="7927920" cy="55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7927920" cy="55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7F5-F0FD-4E9B-AA47-68A1EB0DE5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inancial Supply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PIRAL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858000" cy="54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395-369B-460C-8190-A542392C13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4:41:43Z</dcterms:created>
  <dc:creator>Tridas Mukopadhyay</dc:creator>
  <dc:description/>
  <dc:language>en-US</dc:language>
  <cp:lastModifiedBy>Tridas Mukopadhyay</cp:lastModifiedBy>
  <cp:lastPrinted>1999-06-21T13:49:53Z</cp:lastPrinted>
  <dcterms:modified xsi:type="dcterms:W3CDTF">2000-08-24T13:00:36Z</dcterms:modified>
  <cp:revision>62</cp:revision>
  <dc:subject/>
  <dc:title>No Slide Title</dc:title>
</cp:coreProperties>
</file>