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4C1-F148-4F3C-A14F-E5D6E9A2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28BE-C974-46C5-96FB-A102F28E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0F5-E5DA-4CF3-AD83-A20A0384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AA9-DD89-4FE2-B92C-CA013E6B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2176-FD7F-4407-9302-4F5C452A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E80A-5F77-42D8-9D5B-1038EB3F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817-A467-48ED-9E9C-BE8EB28B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41D-3B51-4E57-88B8-657D96F8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4A1-8E38-442C-91AC-B0BAFAAF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53C-0485-465D-BD4E-158FEE71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49C4-F303-49D6-AECA-02D66399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C649-0698-47D6-BC83-E67E08A2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6CC2-A6A8-4655-95A7-BF4979D27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BAB-51D9-4913-831E-631670762A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28600"/>
            <a:ext cx="9144000" cy="65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RP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requi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support for product and parts var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roduction schedule, inventory records, B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vorabl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BOM levels &g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lot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FD4-64D0-4B34-BFC4-EBA68DA985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6080" y="20001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Supply Chain Configu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Chai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959-288D-46A7-B921-3993DEA041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3999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pply Chain Management: Tr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6440" y="1257480"/>
            <a:ext cx="8737560" cy="54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manufacturers, retailers, customers &amp;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amline material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demand fluctuations, global sourcing, shorter life cycles, and lower brand loy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, growth, revenue enhan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information integration across th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4800600"/>
            <a:ext cx="0" cy="74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F5C-573B-40FE-AB76-1803D66A1B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914400"/>
            <a:ext cx="162576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914400"/>
            <a:ext cx="16254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18240" y="914400"/>
            <a:ext cx="162576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84880" y="914400"/>
            <a:ext cx="16254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2000160"/>
            <a:ext cx="162576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502320" y="2000160"/>
            <a:ext cx="162576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3029040"/>
            <a:ext cx="2235240" cy="743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172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2360" y="4172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07240" y="4172040"/>
            <a:ext cx="7110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32640" y="4172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5315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22360" y="5315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432640" y="5315040"/>
            <a:ext cx="71136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7240" y="5315040"/>
            <a:ext cx="7110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711360" y="1486080"/>
            <a:ext cx="1015920" cy="51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727280" y="1486080"/>
            <a:ext cx="1218960" cy="51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7315200" y="1486080"/>
            <a:ext cx="1219320" cy="51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6299280" y="1486080"/>
            <a:ext cx="1015920" cy="51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70480" y="2571840"/>
            <a:ext cx="2743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1625760" y="2571840"/>
            <a:ext cx="2844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4000680"/>
            <a:ext cx="853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920" y="4000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828800" y="4000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112160" y="4000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8839080" y="400068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70480" y="377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52680" y="428616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r 1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542916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r 2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4920" y="4743360"/>
            <a:ext cx="142236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27280" y="474336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320040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981080"/>
            <a:ext cx="162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Cent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77120" y="1981080"/>
            <a:ext cx="162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Center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02888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102888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84880" y="10857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518240" y="10857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upply chain for a Manufactur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112160" y="474336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1727280" y="4743360"/>
            <a:ext cx="528300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43434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523880" y="43434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08760" y="4343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432640" y="43434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486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22360" y="54864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07240" y="54864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432640" y="54864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470480" y="1486080"/>
            <a:ext cx="1727280" cy="154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6D9-41B5-4960-8C27-7ECD9651C6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ush-Based vs. Pull-Based Supply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57160"/>
            <a:ext cx="4267080" cy="142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629080"/>
            <a:ext cx="4267080" cy="142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400640"/>
            <a:ext cx="4267080" cy="142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143000"/>
            <a:ext cx="4267080" cy="142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2971800"/>
            <a:ext cx="4267080" cy="1428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743360"/>
            <a:ext cx="4267080" cy="150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114300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91456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325764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142884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6920" y="508644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743360"/>
            <a:ext cx="426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7621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47242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90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28954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3434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106668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219320"/>
            <a:ext cx="42670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ck Distribution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048120"/>
            <a:ext cx="42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er point based on fore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als, promotion, forward bu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800600"/>
            <a:ext cx="426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shelf inven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order 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33720" y="5829480"/>
            <a:ext cx="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6019920"/>
            <a:ext cx="34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87920" y="628560"/>
            <a:ext cx="32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Purc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7010280" y="85716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228600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05756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10280" y="2571840"/>
            <a:ext cx="0" cy="399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440064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76920" y="1447920"/>
            <a:ext cx="426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 data 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tual inventory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electronic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3276720"/>
            <a:ext cx="42670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electronic 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pping container ma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5105520"/>
            <a:ext cx="42670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 data drives 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cycle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ce shipping no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rcode 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542D-CCA3-44B9-B340-C87BF98156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228600"/>
            <a:ext cx="9144000" cy="74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upply Chain Dyna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me / product mix changes from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/ under-filled ship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shortages / breakd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 changes/ new products/ sales pro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rrors (e.g., forecasting err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D25-F3D8-4976-BB77-9EFC65D9D5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06440" y="1657080"/>
            <a:ext cx="386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perations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gate inventory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eks of 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ory tur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and material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age de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age on-time deliv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-product development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l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76920" y="1657440"/>
            <a:ext cx="38606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inancial Mea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e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72040" y="41371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78240" y="24382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21000" y="26668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68960" y="2629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2171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68960" y="4743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68960" y="520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331120" y="2171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31120" y="2571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311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331120" y="5200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331120" y="4743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8331120" y="42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8331120" y="3828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8331120" y="3428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36896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6896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4368960" y="4285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6896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5791320"/>
            <a:ext cx="80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7960" y="1542960"/>
            <a:ext cx="80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7960" y="2000160"/>
            <a:ext cx="80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01560" y="539640"/>
            <a:ext cx="611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-Chain Performance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ED3-C005-4773-93D5-4244AC5F36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tching Environments with Supply Ch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5760" y="966960"/>
          <a:ext cx="8501040" cy="78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66960"/>
                    <a:ext cx="8501040" cy="78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57200" y="1371600"/>
            <a:ext cx="812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62485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914400"/>
            <a:ext cx="812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3BB-AD56-4020-A995-9FDCE22ED7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Design Features for Supply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00040" y="857160"/>
          <a:ext cx="8167680" cy="598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857160"/>
                    <a:ext cx="8167680" cy="598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491-EE25-42AC-9B63-608EE08299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1136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Chain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Supply Chain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08E-E385-428F-8BA3-660C7BD08C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36B-B647-4C9E-9455-454A126EAB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mpetitive Advantage in the Supply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27280" y="1486080"/>
            <a:ext cx="7416720" cy="422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727280" y="360036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86400" y="1486080"/>
            <a:ext cx="0" cy="422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2057400"/>
            <a:ext cx="3657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owns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vantage to 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27280" y="4114800"/>
            <a:ext cx="375912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 in public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advantage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86400" y="2057400"/>
            <a:ext cx="406404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int design, full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adva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87920" y="4114800"/>
            <a:ext cx="3556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il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int ownership, some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adva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28800" y="58294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457360"/>
            <a:ext cx="172728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108576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and control of technological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8C9-4E70-46D4-8763-14507EF314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B2B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727280" y="1486080"/>
            <a:ext cx="7416720" cy="422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45160" y="2816640"/>
            <a:ext cx="2818440" cy="2443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056560" y="1793160"/>
            <a:ext cx="2891160" cy="23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1523880"/>
            <a:ext cx="731520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 s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al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part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ferred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 b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term con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t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45147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07240" y="1943280"/>
            <a:ext cx="14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56386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abo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352680" y="60199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60199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486080"/>
            <a:ext cx="19303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ver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9C5-745E-4EFD-92E8-304DD78F92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y on Compe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78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-supply i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di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nno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78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le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g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EA22-E16C-4A48-A8C5-0805C461A8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y on Collabo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673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vi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for marke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uring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78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erm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sal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cost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2EF9-F3B3-40C1-A428-FF579CDB04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844720" y="228600"/>
            <a:ext cx="3251160" cy="1314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533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design of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54560" y="743040"/>
            <a:ext cx="2438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154296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22360" y="1886040"/>
            <a:ext cx="62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00400" y="2590920"/>
            <a:ext cx="2946240" cy="331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2571840"/>
            <a:ext cx="2844720" cy="331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99280" y="2571840"/>
            <a:ext cx="2844720" cy="3314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>
            <a:stCxn id="352" idx="0"/>
            <a:endCxn id="354" idx="0"/>
          </p:cNvCxnSpPr>
          <p:nvPr/>
        </p:nvCxnSpPr>
        <p:spPr>
          <a:xfrm>
            <a:off x="1422000" y="1875960"/>
            <a:ext cx="1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57" name=""/>
          <p:cNvCxnSpPr/>
          <p:nvPr/>
        </p:nvCxnSpPr>
        <p:spPr>
          <a:xfrm>
            <a:off x="4571640" y="1828440"/>
            <a:ext cx="1080" cy="734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58" name=""/>
          <p:cNvSpPr/>
          <p:nvPr/>
        </p:nvSpPr>
        <p:spPr>
          <a:xfrm flipV="1">
            <a:off x="7721640" y="18856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200400"/>
            <a:ext cx="28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00400" y="3200400"/>
            <a:ext cx="2946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99280" y="3200400"/>
            <a:ext cx="28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2629080"/>
            <a:ext cx="2844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ze, Rational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KU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 rati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2819520"/>
            <a:ext cx="3048120" cy="27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ic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net / Extranet / 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-line catalo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-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ficient Consumer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action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99280" y="2685960"/>
            <a:ext cx="2844720" cy="32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Low Value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sour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red 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managed inven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ing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3AE0-6C5A-4CC6-BEFD-F84F99A9DC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800280"/>
            <a:ext cx="2235240" cy="48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8120" y="762120"/>
            <a:ext cx="2235240" cy="48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50292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440064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77208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314316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262908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542916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048120" y="508644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48120" y="472428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48120" y="43434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400068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2860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36576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194328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8120" y="29718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54296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120024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160020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8120" y="2362320"/>
            <a:ext cx="2235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990720"/>
            <a:ext cx="9144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1066680"/>
            <a:ext cx="132084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04920"/>
            <a:ext cx="55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urrent Focu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Required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86400" y="304920"/>
            <a:ext cx="3657600" cy="57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Activit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du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manufactu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cos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through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value purch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068-D40A-4B60-9CD5-6B67AC3477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hang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031840" y="1771560"/>
            <a:ext cx="0" cy="3714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031840" y="5486400"/>
            <a:ext cx="7112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31840" y="4572000"/>
            <a:ext cx="142272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775040" y="3143160"/>
            <a:ext cx="1422720" cy="23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454560" y="3886200"/>
            <a:ext cx="13204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197760" y="2514600"/>
            <a:ext cx="1320480" cy="2971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518240" y="1828800"/>
            <a:ext cx="1625760" cy="365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81080" y="4572000"/>
            <a:ext cx="1524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ick W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 r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54560" y="4057560"/>
            <a:ext cx="1422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sis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3276720"/>
            <a:ext cx="13460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proc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97760" y="2629080"/>
            <a:ext cx="1422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jor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416720" y="1886040"/>
            <a:ext cx="1727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Al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133720" y="360000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486400" y="211428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759120" y="285732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251160" y="308592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4978440" y="234288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908760" y="1542600"/>
            <a:ext cx="50796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3257640"/>
            <a:ext cx="20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038480" y="23623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689440" y="1771560"/>
            <a:ext cx="162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1886040"/>
            <a:ext cx="20318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I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mental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25760" y="5543640"/>
            <a:ext cx="75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Te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 Pl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C91-F390-4F64-9DAF-08B2FD9BFB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828800" y="2114640"/>
            <a:ext cx="7315200" cy="262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28800" y="34290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86400" y="2114640"/>
            <a:ext cx="0" cy="2628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930320" y="4857840"/>
            <a:ext cx="72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al Demand for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2114640"/>
            <a:ext cx="1422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930320" y="2514600"/>
            <a:ext cx="34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al Lead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38289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rtunistic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486400" y="39434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Initi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257184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y Chain                     Re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143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lection of Change Management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F167-8FD6-4A76-874F-C83BA09B833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get it r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ive chain is not without cos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of competitive sour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F2E-F133-483F-88AB-ED78FA8DCC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228600"/>
            <a:ext cx="9144000" cy="58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ll On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dvantages of Dell’s pull system of supply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Dell’s distribution system differ from other commonly used channels in the industry? What are its relative strengths and weakness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benefits of the Dell Online channel? What are the benefits of Dell’s Primer Pages? To its customer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at should Dell do to increase its online business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845-2F15-4EC7-A4C2-C3E2515DAA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ly Ch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Operations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Chain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Chai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9BA-05CF-463F-9EBB-777B9AACA4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71840"/>
            <a:ext cx="2133720" cy="131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56080" y="2571840"/>
            <a:ext cx="2133360" cy="131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10280" y="2571840"/>
            <a:ext cx="2133720" cy="131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015920" y="2057040"/>
            <a:ext cx="0" cy="51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026560" y="2057040"/>
            <a:ext cx="0" cy="51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673520" y="2057040"/>
            <a:ext cx="0" cy="51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15920" y="205740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802656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015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15920" y="4343400"/>
            <a:ext cx="7010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895480"/>
            <a:ext cx="4876560" cy="685800"/>
          </a:xfrm>
          <a:prstGeom prst="leftRightArrow">
            <a:avLst>
              <a:gd name="adj1" fmla="val 50000"/>
              <a:gd name="adj2" fmla="val 14155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15920" y="1028880"/>
            <a:ext cx="6908760" cy="723600"/>
          </a:xfrm>
          <a:prstGeom prst="leftArrow">
            <a:avLst>
              <a:gd name="adj1" fmla="val 50000"/>
              <a:gd name="adj2" fmla="val 238694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15920" y="4648320"/>
            <a:ext cx="7010640" cy="780840"/>
          </a:xfrm>
          <a:prstGeom prst="rightArrow">
            <a:avLst>
              <a:gd name="adj1" fmla="val 50000"/>
              <a:gd name="adj2" fmla="val 22445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02904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14600" y="2590920"/>
            <a:ext cx="406404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Fl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12160" y="291456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 / Suppli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480060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: Funds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4720" y="114300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/Services: Value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57600" y="16765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49640" y="440064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upply Chai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E05-4618-4F58-8C1E-678663825E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31840" y="685800"/>
            <a:ext cx="711360" cy="34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4686480"/>
            <a:ext cx="71136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686480"/>
            <a:ext cx="71100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73520" y="4686480"/>
            <a:ext cx="71136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4686480"/>
            <a:ext cx="71136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64040" y="1428840"/>
            <a:ext cx="711000" cy="342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914400"/>
            <a:ext cx="711360" cy="34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30320" y="1828800"/>
            <a:ext cx="711360" cy="34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59120" y="2286000"/>
            <a:ext cx="711360" cy="343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800280"/>
            <a:ext cx="2031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886040"/>
            <a:ext cx="2031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114640"/>
            <a:ext cx="20318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35240" y="74304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188604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148608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2343240"/>
            <a:ext cx="8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540160" y="1657080"/>
            <a:ext cx="1523880" cy="2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742840" y="857160"/>
            <a:ext cx="1523880" cy="571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40160" y="1028880"/>
            <a:ext cx="1523880" cy="125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165560" y="1771200"/>
            <a:ext cx="304920" cy="51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07240" y="1143000"/>
            <a:ext cx="2336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07240" y="1028880"/>
            <a:ext cx="23367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41680" y="743040"/>
            <a:ext cx="3454200" cy="2858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800280"/>
            <a:ext cx="3352680" cy="342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685800"/>
            <a:ext cx="6705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336760" y="1028880"/>
            <a:ext cx="0" cy="7999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641320" y="971280"/>
            <a:ext cx="1422360" cy="571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97760" y="971640"/>
            <a:ext cx="4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474336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4743360"/>
            <a:ext cx="111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83360" y="47433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010280" y="4400640"/>
            <a:ext cx="2133720" cy="34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286160"/>
            <a:ext cx="16257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0" y="4915080"/>
            <a:ext cx="1523880" cy="342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497196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4971960"/>
            <a:ext cx="11174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3360" y="497196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10280" y="4971960"/>
            <a:ext cx="2133720" cy="2286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00680"/>
            <a:ext cx="26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6 Cylinder Mid-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372280"/>
            <a:ext cx="25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4 Cylinder Co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5760" y="474336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49640" y="474336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4743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02320" y="4743360"/>
            <a:ext cx="50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71360"/>
            <a:ext cx="66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 Flows at Health Cli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1523880"/>
            <a:ext cx="39625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: Doctor (exam ro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Radiology (X r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: Triage (assess sever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: Bloo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: Pharm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2120"/>
            <a:ext cx="20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13680" y="38088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cal Ex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00200"/>
            <a:ext cx="19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ken 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1143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ken 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1337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76212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27280" y="3200400"/>
            <a:ext cx="58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ine Flows at Car Assembly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2743200"/>
            <a:ext cx="22096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: Front-end 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H: Hood attach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F: Fluid f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: Start-up &amp;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4343400"/>
            <a:ext cx="28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6 Cylinder Mid-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502920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4 Cylinder Comp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40160" y="5715000"/>
            <a:ext cx="41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peration Flo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F61-884E-4F82-AA94-A7EEA224B8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s Flow and Competitive Strate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485720"/>
            <a:ext cx="3784680" cy="46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xible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Vol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sig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Deli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470120" y="1486080"/>
            <a:ext cx="3784680" cy="45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ine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Deli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A52-FD31-4AA0-AB29-62910386D1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86000" y="1447920"/>
            <a:ext cx="0" cy="4000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54864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1371600"/>
            <a:ext cx="2743200" cy="1428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2743200"/>
            <a:ext cx="2743200" cy="14288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800" y="4000680"/>
            <a:ext cx="2743200" cy="1428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523880"/>
            <a:ext cx="2438280" cy="39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bled  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dominant 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flo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1523880"/>
            <a:ext cx="2539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le 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and die 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2971800"/>
            <a:ext cx="26413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ch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t sh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08760" y="4286160"/>
            <a:ext cx="22352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 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mbly  pl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il  refin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0920" y="5562720"/>
            <a:ext cx="619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Med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Volu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858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lationship between Flows and 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60B6-6C55-467A-973D-796502DFA5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" descr=""/>
          <p:cNvPicPr/>
          <p:nvPr/>
        </p:nvPicPr>
        <p:blipFill>
          <a:blip r:embed="rId1"/>
          <a:stretch/>
        </p:blipFill>
        <p:spPr>
          <a:xfrm>
            <a:off x="-39600" y="457200"/>
            <a:ext cx="9183600" cy="640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35240" y="4229280"/>
            <a:ext cx="1422360" cy="51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029040"/>
            <a:ext cx="162540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4040" y="4229280"/>
            <a:ext cx="1422360" cy="51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94360" y="4229280"/>
            <a:ext cx="1422360" cy="51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21640" y="4229280"/>
            <a:ext cx="1422360" cy="51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315040"/>
            <a:ext cx="14223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5315040"/>
            <a:ext cx="14223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64040" y="5315040"/>
            <a:ext cx="14223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94360" y="5315040"/>
            <a:ext cx="14223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64040" y="6229440"/>
            <a:ext cx="1422360" cy="51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89440" y="360036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6240" y="38862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388620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75040" y="388620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88620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32640" y="388620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46240" y="4743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117440" y="497196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17440" y="497196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46240" y="497196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5040" y="4743360"/>
            <a:ext cx="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75040" y="5029200"/>
            <a:ext cx="193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5720" y="502920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75040" y="582948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3143160"/>
            <a:ext cx="162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dder-back C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4267080"/>
            <a:ext cx="14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dder-back sub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67080"/>
            <a:ext cx="14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 subassemb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94360" y="440064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21640" y="440064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 sup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548640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548640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 sl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64040" y="548640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94360" y="5486400"/>
            <a:ext cx="14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 cu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248520"/>
            <a:ext cx="14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t-frame bo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2880" y="0"/>
            <a:ext cx="772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ill of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04D-46FB-45BD-8D78-DB6E0E65C6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2743200"/>
            <a:ext cx="22352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54560" y="2743200"/>
            <a:ext cx="22348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08760" y="2743200"/>
            <a:ext cx="22352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56080" y="914400"/>
            <a:ext cx="223524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54560" y="4686480"/>
            <a:ext cx="223488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143000"/>
            <a:ext cx="193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Production 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56080" y="3029040"/>
            <a:ext cx="19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P Explo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431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ntory Rec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0280" y="314316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l of 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54560" y="4915080"/>
            <a:ext cx="223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erials Requirements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35240" y="33148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89440" y="33148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73520" y="205740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886200"/>
            <a:ext cx="0" cy="800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terials Requirements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DFC-F618-470F-91A9-184E6BB523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6:37:44Z</dcterms:created>
  <dc:creator>Tridas Mukopadhyay</dc:creator>
  <dc:description/>
  <dc:language>en-US</dc:language>
  <cp:lastModifiedBy>Tridas Mukopadhyay</cp:lastModifiedBy>
  <cp:lastPrinted>1999-06-14T14:02:57Z</cp:lastPrinted>
  <dcterms:modified xsi:type="dcterms:W3CDTF">2000-08-24T12:59:49Z</dcterms:modified>
  <cp:revision>108</cp:revision>
  <dc:subject/>
  <dc:title>No Slide Title</dc:title>
</cp:coreProperties>
</file>