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A52-5F17-4A5F-B35F-9A0D3C132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F53-83A9-48D2-97C4-384AA78C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C61-6A71-4047-BF6E-66982361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B7E-BA2D-4234-86F7-0E944C00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D40-F70D-465E-927C-B0B221F3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BAC-5B7B-4AE2-9039-022226A0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CB2-7C34-4682-BB6B-49F8737F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0F3-6DDA-4D60-AB8E-AE97CB92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661-3EF4-4058-BA3B-966EC7A7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1BC-AF81-4FA8-81AB-0F54AF6F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6A7-D531-4090-AE59-276B7D1A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04D-7BD6-4F57-8AB4-36353384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A99B-D7C3-426F-B7DC-D6CEDEE98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8EF-41AE-429E-B377-49A5E0EE7D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31840" y="1657440"/>
            <a:ext cx="5689800" cy="3543120"/>
          </a:xfrm>
          <a:custGeom>
            <a:avLst/>
            <a:gdLst>
              <a:gd name="textAreaLeft" fmla="*/ 0 w 5689800"/>
              <a:gd name="textAreaRight" fmla="*/ 5690160 w 56898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1840" y="280044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Single Gateway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estination sites, A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853B-FEA8-4870-8EE5-13DC78E3AB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91440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2743200"/>
            <a:ext cx="5029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hieve Global Pres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1800flowers, HotHotHo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B52-8AEF-4196-8D81-7D697A3DC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743200"/>
            <a:ext cx="5588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 Role of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irtual viney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6EB-9171-4772-8A0D-E6EBD71EAE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2857680"/>
            <a:ext cx="477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gage in Micro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refly, Yah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0C1-7082-428F-A2FB-D602E052C6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41680" y="102888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743200"/>
            <a:ext cx="477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ck-in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ell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E854-39AE-417A-BF28-ECEC85B36C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38280" y="1657440"/>
            <a:ext cx="4800600" cy="3543120"/>
          </a:xfrm>
          <a:custGeom>
            <a:avLst/>
            <a:gdLst>
              <a:gd name="textAreaLeft" fmla="*/ 0 w 4800600"/>
              <a:gd name="textAreaRight" fmla="*/ 4800960 w 48006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40160" y="743040"/>
            <a:ext cx="4595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40160" y="5200560"/>
            <a:ext cx="4595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41680" y="1028880"/>
            <a:ext cx="44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40160" y="53722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26668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ke Use of Ext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cGraw-Hill (betaboo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868-0D25-4BBD-86B4-14FB89E8BA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743200"/>
            <a:ext cx="5105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 Controls Detail of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NN Int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5B0-0DD7-4545-8B2B-E609E3381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09680" y="1657440"/>
            <a:ext cx="5181840" cy="3543120"/>
          </a:xfrm>
          <a:custGeom>
            <a:avLst/>
            <a:gdLst>
              <a:gd name="textAreaLeft" fmla="*/ 0 w 5181840"/>
              <a:gd name="textAreaRight" fmla="*/ 5182200 w 518184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41680" y="85716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666880"/>
            <a:ext cx="594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sers Interact via Onlin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Edmund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N Sports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80EC-3348-4FD2-9415-9CFB25AD84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40160" y="53722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743200"/>
            <a:ext cx="4775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tomate Tasks Using Softwar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argain finder, Jung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F9E-D102-43C7-A96F-7ADA71F290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590920"/>
            <a:ext cx="4775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Online Decision Suppor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urner mania, Schwab IRA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0D4-7F5A-4B74-8E98-D3170BD918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FCC4-7107-400E-8ED6-188B7EDC8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41680" y="857160"/>
            <a:ext cx="447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38280" y="2743200"/>
            <a:ext cx="477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undle Information, Products,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DE1-FFCD-4A9E-B933-F58777B424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mpetitive Intelligence on the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mpetitor’s Web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related news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publicly available financial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give pr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 information delivery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earch compan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cit opinions in a chat ro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041A-2C29-430A-AF69-4AEEF06F3C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ush Technology for Competitive Intel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mpetitive Intelligence on the Internet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2152800"/>
            <a:ext cx="899172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rs to request updates of topics and deliver the latest records to users’ e-mail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corporate snoopers with lots of information, save search time and monitoring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ways push models can provide competitive intelligenc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186-1686-40F4-B773-A5AFFCB7A8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8380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ramework for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s uncover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internalize 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understand the pos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rnet  professionals throug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sitions for producing &amp; selling new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4BDC-9B51-46FB-97E2-96BB5A8D8D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85800"/>
            <a:ext cx="9144000" cy="53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and Part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yber-maturity of customers and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selective access to your intra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out for new services to int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 and Servi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ize old products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new information-based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mpeti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new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your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5AF-5C48-4F26-8661-551DB94E42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066680"/>
            <a:ext cx="82296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electronic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ries and Virtual Marke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intermediaries threatening you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rtunities for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with other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cquisition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33360" y="-324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4998-C509-4ABB-8979-A3C69FB722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25400" y="-3240"/>
            <a:ext cx="47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-C Strategy For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85800"/>
            <a:ext cx="9144000" cy="63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with intern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enable appropriate interna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Web-centric marke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digital branding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Sty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markets affecting electronic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markets affecting tradition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A1E9-3FE1-45F8-A921-C5A63FF9F0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C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questions should a strategic plan answ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6002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is Electronic Commerce going to change our busines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uncover new types of business opportuniti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we take advantage of new electronic linkages with customers and trading partner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 intermediaries be eliminated in the process?  Or do we become intermediaries ourselv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bring more buyers together electronically (and keep them there)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change the nature of our products and service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is the Internet affecting other companies more than our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2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manage and measure the evolution of our strategy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705-1356-4B66-B836-7D34A12BE55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types of business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gives five levers of value cre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n old-economy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CE22-DE43-4455-A2E0-4A8083EFE1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types of Value Cre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7965-E9EB-4405-AC83-F9993AEC6B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ve Dimensions of Commer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459-93BD-40C3-A959-801C345003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95520" y="1295280"/>
          <a:ext cx="754848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295280"/>
                    <a:ext cx="754848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828800" y="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 Value Creation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           Effectiveness           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47920"/>
            <a:ext cx="17272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508-F86F-4EA0-9621-20FDB7B6AA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4600" y="518148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41680" y="2743200"/>
            <a:ext cx="4368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ccelerate User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maz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7B0-676D-4E01-9BF0-1D71C240D3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40160" y="2800440"/>
            <a:ext cx="4876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iminate Information 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delity, Schw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6E4-6FA4-4B83-A505-F28EBA8D60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38280" y="1657440"/>
            <a:ext cx="4775400" cy="3543120"/>
          </a:xfrm>
          <a:custGeom>
            <a:avLst/>
            <a:gdLst>
              <a:gd name="textAreaLeft" fmla="*/ 0 w 4775400"/>
              <a:gd name="textAreaRight" fmla="*/ 4775760 w 477540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Strate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2743200"/>
            <a:ext cx="5079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 24X7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Travelocity, FAQ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C34-E58E-4465-85C7-B0DF48CCFD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31840" y="1657440"/>
            <a:ext cx="5588280" cy="3543120"/>
          </a:xfrm>
          <a:custGeom>
            <a:avLst/>
            <a:gdLst>
              <a:gd name="textAreaLeft" fmla="*/ 0 w 5588280"/>
              <a:gd name="textAreaRight" fmla="*/ 5588640 w 5588280"/>
              <a:gd name="textAreaTop" fmla="*/ 885600 h 3543120"/>
              <a:gd name="textAreaBottom" fmla="*/ 2657520 h 354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40160" y="74304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40160" y="5200560"/>
            <a:ext cx="45720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1680" y="102888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0160" y="5372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Lever: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31840" y="2743200"/>
            <a:ext cx="5791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Scale to Look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utobytell, Century 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07A-A1D3-4E20-89F6-1605D839CD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0T13:30:46Z</dcterms:created>
  <dc:creator>Tridas Mukopadhyay</dc:creator>
  <dc:description/>
  <dc:language>en-US</dc:language>
  <cp:lastModifiedBy>Tridas Mukopadhyay</cp:lastModifiedBy>
  <cp:lastPrinted>1999-10-01T15:39:27Z</cp:lastPrinted>
  <dcterms:modified xsi:type="dcterms:W3CDTF">2000-08-24T12:54:29Z</dcterms:modified>
  <cp:revision>48</cp:revision>
  <dc:subject/>
  <dc:title>No Slide Title</dc:title>
</cp:coreProperties>
</file>