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A14C-41D8-4E18-A83B-A5E8313B9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5BB6-D9B6-457A-90F5-B3D40D9C38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983D-4E99-4C29-9CDA-D1E0F922E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4916-E6B6-4F98-BE66-E3894BEEF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D587-C96C-46CE-83DC-E7208EFE2F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42CD-6EB0-496A-9EF7-6F20182C6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3F876-D340-45CE-9500-77371A97F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10C6-DEA4-4383-9BB2-F2615674C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C0E17-FF04-413F-8CA9-4EF4BA999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042D3-5B91-4DE1-A3D4-0317159B6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22E4-0EB9-4F74-948D-2BD1E49F8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DA3E-BFF7-425D-A5BE-DC07C7647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ADD5-0927-4C16-B13E-56362667A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008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76720" y="64008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Commerc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57160"/>
            <a:ext cx="914400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Commer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895480"/>
            <a:ext cx="711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or Tridas Mukhopadhy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, MS in Electronic 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oitte Consulting Chair Professor of e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das@andrew.cm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A74E-F071-4815-BAAA-DEBFDFC712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33720" y="0"/>
            <a:ext cx="41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28560"/>
            <a:ext cx="914400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Microsoft Office Suite, Cable TV, News Pa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bu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: compatibility across applications in the bu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: Reduce dispersion in consumer valuation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Word)=$75, P(Excel)=$75, Revenue=75*2+75*2=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undle)=$175, Revenue=175*2=$3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bu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d bu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ional pr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09680" y="2895480"/>
          <a:ext cx="3087720" cy="831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95480"/>
                    <a:ext cx="308772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6086-3F1E-414A-9266-F701BACF33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ications of Low Distribution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4296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istribution is easy, cheap and qu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 away free samples to sell content (information = experience goo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bitlegger” must advertise for business to his pe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 protection imposes costs on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FE62-2D47-4119-94B3-D8C78C1249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Switching Cost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xtern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38E1-0B40-458D-B81D-02A4D441F0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14400"/>
            <a:ext cx="914400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 Switching from PC to Mac?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to Unix?  Access to Orac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switching cost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s to customers and new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mall switching costs  are critical in mass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from current customer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’s total switching co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Supplier’s quality/cost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a premium from existing customers while offering discounts to new custo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A379-3410-473C-9F65-8833F05993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031840" y="457200"/>
            <a:ext cx="538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ock-In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775400" y="2513160"/>
            <a:ext cx="3453840" cy="217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914040" y="2400840"/>
            <a:ext cx="365688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4400" y="1943280"/>
            <a:ext cx="4062960" cy="205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70840" y="1886040"/>
            <a:ext cx="3656880" cy="2056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49640" y="1714680"/>
            <a:ext cx="29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d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n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0862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05720" y="31431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6AF7-CD2C-4248-A411-9C848A0E47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-Ins and 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 of Lock-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witch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ual commit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nsatory or liquidated da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able purch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ment of equipment; tends to decline as the du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-specific 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a new system, both direct costs and lo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ty; tends to rise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and databa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data to new format; tends to rise over time 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g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suppli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of new supplier; may rise over time if capabiliti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hard to find/main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co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buyer and seller search costs; includes learn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ut quality of altern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7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yalty program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lost benefits from incumbent supplier, plus possi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rebuild cumulative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804B4-1718-4718-B923-8A70E6627C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20840" y="22860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971640"/>
            <a:ext cx="6908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914400"/>
            <a:ext cx="88390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gain for discounts or support for swit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ason that your benefits (costs) from switching are small (lar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everage future purchases or your ability to influence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Seek protection from monopolistic exploitation down the 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Keep your options open via second sourc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atch out for creeping lock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600F-AD77-4148-8DC8-3707A63AF2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flipH="1">
            <a:off x="1219320" y="2514600"/>
            <a:ext cx="2946240" cy="194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9320" y="4457880"/>
            <a:ext cx="5587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57200"/>
            <a:ext cx="49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3184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4686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n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65560" y="2514600"/>
            <a:ext cx="2641680" cy="194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7AC96-4C5D-4E07-8142-E4A23A702E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27280" y="0"/>
            <a:ext cx="55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44560"/>
            <a:ext cx="9144000" cy="62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ng in an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head the whol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influential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a life-cycle 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market share is not a guaran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 buyers with hi switch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divergent interests of multiple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D355-BF33-4B32-8050-274814B15F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762120"/>
            <a:ext cx="91440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rage Customer Entren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value-add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loyalty programs and cumulative dis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rage Your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complementary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 access to your installed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differential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te searc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 1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ycle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er’s Lock-in  Strategies (Contd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A71E-2EB0-4B3C-A2BD-B314B60E8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7600" y="914400"/>
            <a:ext cx="863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eCommerce Fundamentals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5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Value Chain and Competi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eValue Creatio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Ford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B2B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6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eMarketing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Free Market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Supply Chain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eServic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8, 2:45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Digital good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8:45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 Dell Case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0:30 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6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 Internet Strategies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(September 13, 1:00 p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7BA6-AF3A-4D97-A4AA-5EC92867F2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Network Externaliti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4176-8452-47E3-923E-C7450075AC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26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xterna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of a product is affected by the number of 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Externalities: Telephone, Email, File sharing, 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externalities: over-crowding, congestion, pol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4720" y="571500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819520" y="2819520"/>
            <a:ext cx="0" cy="291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4191120"/>
            <a:ext cx="4853160" cy="1295280"/>
          </a:xfrm>
          <a:custGeom>
            <a:avLst/>
            <a:gdLst/>
            <a:ahLst/>
            <a:rect l="l" t="t" r="r" b="b"/>
            <a:pathLst>
              <a:path w="2293" h="1089">
                <a:moveTo>
                  <a:pt x="0" y="65"/>
                </a:moveTo>
                <a:cubicBezTo>
                  <a:pt x="189" y="0"/>
                  <a:pt x="278" y="48"/>
                  <a:pt x="554" y="54"/>
                </a:cubicBezTo>
                <a:cubicBezTo>
                  <a:pt x="632" y="67"/>
                  <a:pt x="720" y="87"/>
                  <a:pt x="789" y="129"/>
                </a:cubicBezTo>
                <a:cubicBezTo>
                  <a:pt x="923" y="209"/>
                  <a:pt x="1034" y="327"/>
                  <a:pt x="1173" y="395"/>
                </a:cubicBezTo>
                <a:cubicBezTo>
                  <a:pt x="1195" y="429"/>
                  <a:pt x="1224" y="440"/>
                  <a:pt x="1248" y="470"/>
                </a:cubicBezTo>
                <a:cubicBezTo>
                  <a:pt x="1290" y="522"/>
                  <a:pt x="1244" y="486"/>
                  <a:pt x="1301" y="523"/>
                </a:cubicBezTo>
                <a:cubicBezTo>
                  <a:pt x="1322" y="555"/>
                  <a:pt x="1355" y="577"/>
                  <a:pt x="1376" y="609"/>
                </a:cubicBezTo>
                <a:cubicBezTo>
                  <a:pt x="1401" y="647"/>
                  <a:pt x="1428" y="665"/>
                  <a:pt x="1461" y="694"/>
                </a:cubicBezTo>
                <a:cubicBezTo>
                  <a:pt x="1484" y="714"/>
                  <a:pt x="1500" y="741"/>
                  <a:pt x="1525" y="758"/>
                </a:cubicBezTo>
                <a:cubicBezTo>
                  <a:pt x="1582" y="796"/>
                  <a:pt x="1638" y="830"/>
                  <a:pt x="1696" y="865"/>
                </a:cubicBezTo>
                <a:cubicBezTo>
                  <a:pt x="1718" y="878"/>
                  <a:pt x="1742" y="889"/>
                  <a:pt x="1760" y="907"/>
                </a:cubicBezTo>
                <a:cubicBezTo>
                  <a:pt x="1767" y="914"/>
                  <a:pt x="1772" y="924"/>
                  <a:pt x="1781" y="929"/>
                </a:cubicBezTo>
                <a:cubicBezTo>
                  <a:pt x="1804" y="943"/>
                  <a:pt x="1832" y="947"/>
                  <a:pt x="1856" y="961"/>
                </a:cubicBezTo>
                <a:cubicBezTo>
                  <a:pt x="1867" y="967"/>
                  <a:pt x="1876" y="977"/>
                  <a:pt x="1888" y="982"/>
                </a:cubicBezTo>
                <a:cubicBezTo>
                  <a:pt x="1909" y="991"/>
                  <a:pt x="1952" y="1003"/>
                  <a:pt x="1952" y="1003"/>
                </a:cubicBezTo>
                <a:cubicBezTo>
                  <a:pt x="1989" y="1041"/>
                  <a:pt x="1963" y="1021"/>
                  <a:pt x="2037" y="1046"/>
                </a:cubicBezTo>
                <a:cubicBezTo>
                  <a:pt x="2128" y="1076"/>
                  <a:pt x="2194" y="1089"/>
                  <a:pt x="2293" y="1089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2895480"/>
            <a:ext cx="4718160" cy="1282680"/>
          </a:xfrm>
          <a:custGeom>
            <a:avLst/>
            <a:gdLst/>
            <a:ahLst/>
            <a:rect l="l" t="t" r="r" b="b"/>
            <a:pathLst>
              <a:path w="2229" h="1077">
                <a:moveTo>
                  <a:pt x="0" y="1077"/>
                </a:moveTo>
                <a:cubicBezTo>
                  <a:pt x="104" y="1045"/>
                  <a:pt x="271" y="1045"/>
                  <a:pt x="384" y="1035"/>
                </a:cubicBezTo>
                <a:cubicBezTo>
                  <a:pt x="468" y="1006"/>
                  <a:pt x="556" y="989"/>
                  <a:pt x="640" y="960"/>
                </a:cubicBezTo>
                <a:cubicBezTo>
                  <a:pt x="668" y="950"/>
                  <a:pt x="712" y="944"/>
                  <a:pt x="736" y="928"/>
                </a:cubicBezTo>
                <a:cubicBezTo>
                  <a:pt x="809" y="879"/>
                  <a:pt x="775" y="893"/>
                  <a:pt x="832" y="875"/>
                </a:cubicBezTo>
                <a:cubicBezTo>
                  <a:pt x="879" y="826"/>
                  <a:pt x="823" y="877"/>
                  <a:pt x="885" y="843"/>
                </a:cubicBezTo>
                <a:cubicBezTo>
                  <a:pt x="938" y="814"/>
                  <a:pt x="993" y="768"/>
                  <a:pt x="1034" y="725"/>
                </a:cubicBezTo>
                <a:cubicBezTo>
                  <a:pt x="1053" y="670"/>
                  <a:pt x="1093" y="618"/>
                  <a:pt x="1141" y="587"/>
                </a:cubicBezTo>
                <a:cubicBezTo>
                  <a:pt x="1161" y="557"/>
                  <a:pt x="1189" y="533"/>
                  <a:pt x="1205" y="501"/>
                </a:cubicBezTo>
                <a:cubicBezTo>
                  <a:pt x="1210" y="491"/>
                  <a:pt x="1209" y="478"/>
                  <a:pt x="1216" y="469"/>
                </a:cubicBezTo>
                <a:cubicBezTo>
                  <a:pt x="1224" y="459"/>
                  <a:pt x="1238" y="456"/>
                  <a:pt x="1248" y="448"/>
                </a:cubicBezTo>
                <a:cubicBezTo>
                  <a:pt x="1271" y="428"/>
                  <a:pt x="1287" y="401"/>
                  <a:pt x="1312" y="384"/>
                </a:cubicBezTo>
                <a:cubicBezTo>
                  <a:pt x="1323" y="377"/>
                  <a:pt x="1334" y="371"/>
                  <a:pt x="1344" y="363"/>
                </a:cubicBezTo>
                <a:cubicBezTo>
                  <a:pt x="1416" y="299"/>
                  <a:pt x="1487" y="235"/>
                  <a:pt x="1568" y="181"/>
                </a:cubicBezTo>
                <a:cubicBezTo>
                  <a:pt x="1622" y="145"/>
                  <a:pt x="1666" y="127"/>
                  <a:pt x="1728" y="107"/>
                </a:cubicBezTo>
                <a:cubicBezTo>
                  <a:pt x="1749" y="100"/>
                  <a:pt x="1771" y="92"/>
                  <a:pt x="1792" y="85"/>
                </a:cubicBezTo>
                <a:cubicBezTo>
                  <a:pt x="1803" y="82"/>
                  <a:pt x="1824" y="75"/>
                  <a:pt x="1824" y="75"/>
                </a:cubicBezTo>
                <a:cubicBezTo>
                  <a:pt x="1933" y="0"/>
                  <a:pt x="2104" y="0"/>
                  <a:pt x="222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18240" y="297180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823160" y="4971960"/>
            <a:ext cx="11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5791320"/>
            <a:ext cx="28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276720"/>
            <a:ext cx="142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4FB7-B154-4EBD-9454-BDF3BD6AF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0" cy="32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Feedback is potent in network economy [Nintendo, VH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 side economy of scale: Mark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side economy of scale: Cost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0292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ion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594360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19520" y="3200040"/>
            <a:ext cx="0" cy="2685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9436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3505320"/>
            <a:ext cx="5259240" cy="2425680"/>
          </a:xfrm>
          <a:custGeom>
            <a:avLst/>
            <a:gdLst/>
            <a:ahLst/>
            <a:rect l="l" t="t" r="r" b="b"/>
            <a:pathLst>
              <a:path w="2485" h="2037">
                <a:moveTo>
                  <a:pt x="0" y="2037"/>
                </a:moveTo>
                <a:cubicBezTo>
                  <a:pt x="53" y="2029"/>
                  <a:pt x="60" y="2030"/>
                  <a:pt x="106" y="2016"/>
                </a:cubicBezTo>
                <a:cubicBezTo>
                  <a:pt x="127" y="2010"/>
                  <a:pt x="170" y="1995"/>
                  <a:pt x="170" y="1995"/>
                </a:cubicBezTo>
                <a:cubicBezTo>
                  <a:pt x="221" y="1960"/>
                  <a:pt x="189" y="1978"/>
                  <a:pt x="266" y="1952"/>
                </a:cubicBezTo>
                <a:cubicBezTo>
                  <a:pt x="277" y="1948"/>
                  <a:pt x="298" y="1941"/>
                  <a:pt x="298" y="1941"/>
                </a:cubicBezTo>
                <a:cubicBezTo>
                  <a:pt x="343" y="1898"/>
                  <a:pt x="411" y="1905"/>
                  <a:pt x="469" y="1888"/>
                </a:cubicBezTo>
                <a:cubicBezTo>
                  <a:pt x="491" y="1882"/>
                  <a:pt x="533" y="1867"/>
                  <a:pt x="533" y="1867"/>
                </a:cubicBezTo>
                <a:cubicBezTo>
                  <a:pt x="584" y="1832"/>
                  <a:pt x="552" y="1850"/>
                  <a:pt x="629" y="1824"/>
                </a:cubicBezTo>
                <a:cubicBezTo>
                  <a:pt x="640" y="1820"/>
                  <a:pt x="650" y="1817"/>
                  <a:pt x="661" y="1813"/>
                </a:cubicBezTo>
                <a:cubicBezTo>
                  <a:pt x="672" y="1810"/>
                  <a:pt x="693" y="1803"/>
                  <a:pt x="693" y="1803"/>
                </a:cubicBezTo>
                <a:cubicBezTo>
                  <a:pt x="744" y="1752"/>
                  <a:pt x="717" y="1767"/>
                  <a:pt x="768" y="1749"/>
                </a:cubicBezTo>
                <a:cubicBezTo>
                  <a:pt x="854" y="1663"/>
                  <a:pt x="751" y="1756"/>
                  <a:pt x="832" y="1707"/>
                </a:cubicBezTo>
                <a:cubicBezTo>
                  <a:pt x="841" y="1702"/>
                  <a:pt x="845" y="1691"/>
                  <a:pt x="853" y="1685"/>
                </a:cubicBezTo>
                <a:cubicBezTo>
                  <a:pt x="873" y="1670"/>
                  <a:pt x="917" y="1643"/>
                  <a:pt x="917" y="1643"/>
                </a:cubicBezTo>
                <a:cubicBezTo>
                  <a:pt x="931" y="1622"/>
                  <a:pt x="942" y="1598"/>
                  <a:pt x="960" y="1579"/>
                </a:cubicBezTo>
                <a:cubicBezTo>
                  <a:pt x="967" y="1572"/>
                  <a:pt x="975" y="1565"/>
                  <a:pt x="981" y="1557"/>
                </a:cubicBezTo>
                <a:cubicBezTo>
                  <a:pt x="996" y="1536"/>
                  <a:pt x="1024" y="1493"/>
                  <a:pt x="1024" y="1493"/>
                </a:cubicBezTo>
                <a:cubicBezTo>
                  <a:pt x="1045" y="1427"/>
                  <a:pt x="1107" y="1378"/>
                  <a:pt x="1130" y="1312"/>
                </a:cubicBezTo>
                <a:cubicBezTo>
                  <a:pt x="1158" y="1231"/>
                  <a:pt x="1121" y="1331"/>
                  <a:pt x="1162" y="1248"/>
                </a:cubicBezTo>
                <a:cubicBezTo>
                  <a:pt x="1191" y="1189"/>
                  <a:pt x="1211" y="1121"/>
                  <a:pt x="1248" y="1067"/>
                </a:cubicBezTo>
                <a:cubicBezTo>
                  <a:pt x="1271" y="996"/>
                  <a:pt x="1302" y="926"/>
                  <a:pt x="1344" y="864"/>
                </a:cubicBezTo>
                <a:cubicBezTo>
                  <a:pt x="1403" y="684"/>
                  <a:pt x="1518" y="533"/>
                  <a:pt x="1632" y="384"/>
                </a:cubicBezTo>
                <a:cubicBezTo>
                  <a:pt x="1694" y="304"/>
                  <a:pt x="1752" y="219"/>
                  <a:pt x="1856" y="192"/>
                </a:cubicBezTo>
                <a:cubicBezTo>
                  <a:pt x="1972" y="114"/>
                  <a:pt x="2073" y="97"/>
                  <a:pt x="2208" y="64"/>
                </a:cubicBezTo>
                <a:cubicBezTo>
                  <a:pt x="2301" y="41"/>
                  <a:pt x="2389" y="17"/>
                  <a:pt x="248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05320"/>
            <a:ext cx="162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65560" y="4114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9280" y="31431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D049-5488-46D0-BFD1-369248373A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Ti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calfe: The value of a network is proportional to the square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supply-side and demand-side 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209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182880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77120" y="1828800"/>
            <a:ext cx="0" cy="12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y of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09680"/>
            <a:ext cx="3352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demand for 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demand for vari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175248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08760" y="175248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294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ike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03840" y="2286000"/>
            <a:ext cx="254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44720" y="6019920"/>
            <a:ext cx="629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819520" y="3352680"/>
            <a:ext cx="0" cy="268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819520" y="3886200"/>
            <a:ext cx="10362240" cy="422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mpatible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8098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to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3733920"/>
            <a:ext cx="1930320" cy="171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048120" y="4495680"/>
            <a:ext cx="9144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35268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4720" y="40006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iou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ACFED-2722-4A16-B88A-24700EC79D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144000" cy="35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king Positiv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 1.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: Backward (One-way) Compatibility: MS Office 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: Incumbent’s Intellectual Property Rights: C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ategy 2. 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  performance by ten times (Andy Gro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l to Early Adop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y unless a growing mar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44720" y="37717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44720" y="582948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1422360" y="4114800"/>
            <a:ext cx="853416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791320" y="4000320"/>
            <a:ext cx="812520" cy="571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64040" y="582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4267080"/>
            <a:ext cx="23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5486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82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97760" y="3772080"/>
            <a:ext cx="172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32C6-D9AB-408B-9099-8299840F85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144000" cy="35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 versu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lled base with switching costs (Int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r apprehension (Be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= Total industry value * You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 Openness: Int’l Telecom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: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: MS + 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: AT&amp;T before break-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43000" y="685800"/>
            <a:ext cx="71136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990720"/>
            <a:ext cx="711360" cy="28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844720" y="377172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4720" y="582948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1422360" y="4114800"/>
            <a:ext cx="8534160" cy="342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4720" y="4629240"/>
            <a:ext cx="3048120" cy="1200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46240" y="5886360"/>
            <a:ext cx="477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value added to the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7242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5029200"/>
            <a:ext cx="13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r Re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4572000"/>
            <a:ext cx="203040" cy="171360"/>
          </a:xfrm>
          <a:prstGeom prst="smileyFace">
            <a:avLst>
              <a:gd name="adj" fmla="val 92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94360" y="440064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3657600"/>
            <a:ext cx="264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i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12160" y="55436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7D4C-96C7-485A-B6C2-F367AB59A9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ic Network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82760" y="2292480"/>
          <a:ext cx="8388360" cy="48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2292480"/>
                    <a:ext cx="838836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6E80-C56C-43E4-B9C1-6CA64AD5CF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Assets in Network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65560" y="3714840"/>
            <a:ext cx="609480" cy="34272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75040" y="3886200"/>
            <a:ext cx="172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828800"/>
            <a:ext cx="11174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23160" y="2000160"/>
            <a:ext cx="9144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8200" y="1428840"/>
            <a:ext cx="3149640" cy="1028520"/>
          </a:xfrm>
          <a:prstGeom prst="hexagon">
            <a:avLst>
              <a:gd name="adj" fmla="val 7655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44792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alled base of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84800" y="3371760"/>
            <a:ext cx="2641680" cy="1028880"/>
          </a:xfrm>
          <a:prstGeom prst="hexagon">
            <a:avLst>
              <a:gd name="adj" fmla="val 64188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3657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895480" y="3885840"/>
            <a:ext cx="127008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94000"/>
            <a:ext cx="2909880" cy="1211400"/>
          </a:xfrm>
          <a:prstGeom prst="hexagon">
            <a:avLst>
              <a:gd name="adj" fmla="val 60052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2940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48400" y="1428840"/>
            <a:ext cx="3147840" cy="1028520"/>
          </a:xfrm>
          <a:prstGeom prst="hexagon">
            <a:avLst>
              <a:gd name="adj" fmla="val 7651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144792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5200560"/>
            <a:ext cx="3406680" cy="1028880"/>
          </a:xfrm>
          <a:prstGeom prst="hexagon">
            <a:avLst>
              <a:gd name="adj" fmla="val 82776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245200"/>
            <a:ext cx="264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over 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78400" y="5200560"/>
            <a:ext cx="3352680" cy="1028880"/>
          </a:xfrm>
          <a:prstGeom prst="hexagon">
            <a:avLst>
              <a:gd name="adj" fmla="val 81464"/>
              <a:gd name="vf" fmla="val 11547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5880" y="5257800"/>
            <a:ext cx="22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utation + Brand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2457000"/>
            <a:ext cx="3048120" cy="125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3520" y="2457000"/>
            <a:ext cx="2845080" cy="125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703160" y="4057560"/>
            <a:ext cx="265428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4057560"/>
            <a:ext cx="277956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8A17-8517-4CB3-832D-D82F3D52E3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que cost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ndle and Lock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52E6-A55C-4BB0-8872-C4F20C26AF2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13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gital 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 Co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xternal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7221-4C1C-46DB-B586-B2DC96687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12880" y="-36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/ Information 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7200"/>
            <a:ext cx="86360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igit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, music, movies, data, software, g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tainment value, business valu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ly to produce, cheap to re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unk cost of producing the 1st 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of each additional copy is small +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most unlimited capacity to repl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&gt; Production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Price =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019F-BE8A-4066-A5F2-420E91774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27280" y="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3520"/>
            <a:ext cx="8737560" cy="57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formation commodity market pushes price t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CD Phone B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90:  Transcribe phone books, price  &gt; 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on: Copies idea, price ~ $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: Free on the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dd value to raw information in to different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alize: Learn about customers through registration, billing and obse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Reduce average cost by increasing volume through reuse and resale in dominant firm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 Sh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Protect 1st mover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greed, Play t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0630-8555-41A1-B53D-DCE892E74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36760" y="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480"/>
            <a:ext cx="9144000" cy="57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sensi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 different prices to different groups (seniors, stud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on a single product (MS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ce customers early (newspapers in edu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transaction costs favor rentals (movie vid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22984-4F55-454A-A194-CE35C39F9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85480"/>
            <a:ext cx="853416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Information Produc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714680"/>
          <a:ext cx="9143640" cy="413676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mens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/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impat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interf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ice/Experien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ily/Weekly r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e re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sletter/Glos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ed of op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/F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D65E0-4E9B-4589-8C7E-F11B626683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ing Information Product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486080"/>
          <a:ext cx="9143640" cy="4114800"/>
        </p:xfrm>
        <a:graphic>
          <a:graphicData uri="http://schemas.openxmlformats.org/drawingml/2006/table">
            <a:tbl>
              <a:tblPr/>
              <a:tblGrid>
                <a:gridCol w="4571640"/>
                <a:gridCol w="457200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 Dimen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s/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w/Organiz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/Special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atur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al fun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hensive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th of 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noyanc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 price, no a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/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16818-B0CC-4AB6-A35D-57759272C1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0920" y="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vs.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end version: Keep price reasonable to make it attr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end version: Reduce quality so users would migrate to high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rs turn low end version to high e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on-line version help or deter off-line 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vers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D714-B6E1-4C0F-85E9-947294E6CF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02:13:02Z</dcterms:created>
  <dc:creator>Tridas Mukopadhyay</dc:creator>
  <dc:description/>
  <dc:language>en-US</dc:language>
  <cp:lastModifiedBy>Tridas Mukopadhyay</cp:lastModifiedBy>
  <cp:lastPrinted>1999-05-28T12:57:21Z</cp:lastPrinted>
  <dcterms:modified xsi:type="dcterms:W3CDTF">2000-08-24T13:01:11Z</dcterms:modified>
  <cp:revision>92</cp:revision>
  <dc:subject/>
  <dc:title>Information Goods</dc:title>
</cp:coreProperties>
</file>