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6EB-505E-40E6-94B9-F96CED69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783-FF05-4187-AE00-32B9F7A1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5C5-AB81-40C6-85E5-8A5712B9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C37-ED22-412E-A75D-39351B1D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0B8-11C9-419D-AE9F-45B4F6F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6DC-C10F-4E80-8F3A-0ACBAF18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694-765D-4D55-BB68-9FC4C7E8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556-ADE6-4E14-8077-BBE978CF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69F0-4023-4DB7-B5DA-DFABB968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DACA-D619-46D3-903A-5FCCD040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C95-73F7-4281-B9C7-A1651B26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CCF-B0F5-4DE2-9717-B44F2D5D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E9C1-1DBC-409F-9A8C-E4AC64E5E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167-D51A-4761-BF07-33A86E1CA3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4920" y="-14400"/>
          <a:ext cx="9074160" cy="6801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-14400"/>
                    <a:ext cx="9074160" cy="680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A176-90F5-4D10-8920-49AAC17F13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438280" y="457200"/>
            <a:ext cx="4114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914400"/>
            <a:ext cx="1612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imes New Roman"/>
              </a:rPr>
              <a:t>Entry Barri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prietary product differ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ess to distribu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bsolute cost advant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prietary learning cur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ccess to necessary inpu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vernment poli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ected retal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838080"/>
            <a:ext cx="1828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Times New Roman"/>
              </a:rPr>
              <a:t>Rivalry Determina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dustry grow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xed (or storage) cost/Value add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termittent overcapac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roduct differen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ncentration and bal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formational complex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versity of competi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rporate stak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it barri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5760" y="137160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 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2590920"/>
            <a:ext cx="13716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5909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us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t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365760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Int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f rival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3048120"/>
            <a:ext cx="10666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32004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10280" y="3200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4290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57440" y="34290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9051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8954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f suppl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2895480"/>
            <a:ext cx="11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of bu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7680" y="4038480"/>
            <a:ext cx="2893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Determinants of Suppliers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fferentiation of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witching costs of suppliers and firm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sence of substitute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lier concen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9rtance of volume to suppl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st relative to total purchase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act of inputs on cost or different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reat of forward integration relative to threat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ckward integration by firms in the indus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870360"/>
            <a:ext cx="29718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Determinants of Buyer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Bargaining Leve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concentration versus firm concent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volu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switching costs relative to firm switching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ility to backward integr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stitute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ull-throu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rice Sensi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ce/Total purch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 differ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d ident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act on quality/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profi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ision-makers’ incent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39200" y="5029200"/>
            <a:ext cx="1159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terminants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stitution Thre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lative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f substit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uyer propen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substitu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9400" y="4114800"/>
            <a:ext cx="115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re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ubstit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1360" y="4648320"/>
            <a:ext cx="107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tit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72000" y="41911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lements of Industry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038480" y="3084840"/>
            <a:ext cx="91404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941" y="20445"/>
                </a:moveTo>
                <a:arcTo wR="10800" hR="10800" stAng="7004232" swAng="17815586"/>
                <a:lnTo>
                  <a:pt x="10800" y="10800"/>
                </a:lnTo>
                <a:close/>
              </a:path>
              <a:path fill="none" w="21600" h="21600">
                <a:moveTo>
                  <a:pt x="5941" y="20445"/>
                </a:moveTo>
                <a:arcTo wR="10800" hR="10800" stAng="7004232" swAng="1781558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778280" y="3146040"/>
            <a:ext cx="69840" cy="3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048120"/>
            <a:ext cx="106668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86200" y="1219320"/>
            <a:ext cx="13716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648320"/>
            <a:ext cx="106704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9810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Threat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E3D-A21D-42FC-901E-0A2B92166F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mpact of Competitive Fo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0666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8840" y="5317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609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m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457200"/>
            <a:ext cx="21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otential Uses of IT to Combat Fo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143000"/>
            <a:ext cx="2667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new entr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ers’ bargaining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s’ bargaining 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substitute products or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ditional  intraindustry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1143000"/>
            <a:ext cx="259056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tantial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ices or inflation of incumbent’s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 forced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on encour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s ra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 quality and services (lab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returns 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iling on pr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and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143000"/>
            <a:ext cx="3276720" cy="51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entry barrier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o distribution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er 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ing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y barr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 of backward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price/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fine 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/ Services /  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0DE5-E4C4-4508-83C3-DA394F2F48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9800" y="2908440"/>
            <a:ext cx="1955880" cy="104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94240" y="1003320"/>
            <a:ext cx="19555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18320" y="2908440"/>
            <a:ext cx="1955880" cy="104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94240" y="4432320"/>
            <a:ext cx="1955520" cy="104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Wal-Mart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3440" y="2629080"/>
            <a:ext cx="274176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-Industry Rival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BU: Wal-M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vals: Kmart, Targe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ys R Us, Specialty 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31520" y="2895480"/>
            <a:ext cx="1510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4040" y="2927520"/>
            <a:ext cx="17208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rg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49320" y="4451400"/>
            <a:ext cx="1821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stit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990720"/>
            <a:ext cx="16826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Ent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4387680" y="366336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101640" y="305424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rot="16200000">
            <a:off x="4387680" y="206352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73360" y="3054240"/>
            <a:ext cx="368280" cy="74952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58080" y="4057560"/>
            <a:ext cx="308592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mall Town U.S.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 in Metropolit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s in the U.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adian and Mexi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Foreign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31840" y="5600880"/>
            <a:ext cx="28339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l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me Shopping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onic Sho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7120" y="4062240"/>
            <a:ext cx="2499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.S. Product Manufactur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Manufactur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Gover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/T Suppl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8320" y="1014480"/>
            <a:ext cx="3392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eign General Merchandisers or Discou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ed Retailer Shifting Strategy to Discounting or Megas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8760" y="5600880"/>
            <a:ext cx="18014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ing Cl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or-to-door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BF8-44B7-4C36-B0DD-C151E4D874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ld vs. New Ec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57480"/>
            <a:ext cx="447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 to fit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ic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compe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s fo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&amp; Exit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520" y="1199880"/>
            <a:ext cx="4470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ustry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ategic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hiloso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asis fo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al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6F55-C71B-44EF-9526-626AC71C38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15920" y="1943280"/>
            <a:ext cx="7010640" cy="3162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2819520"/>
            <a:ext cx="3149640" cy="10666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2819520"/>
            <a:ext cx="233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Rivalry from Existing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11430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16720" y="18288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ory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52388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Soci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198108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3080" y="3276720"/>
            <a:ext cx="142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441972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ntr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648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45720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 Cha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15429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23432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41972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25146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33720" y="33526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4572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695720" y="259092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019560" y="342900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467120" y="4495680"/>
            <a:ext cx="507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43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rces Affecting Compe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D40-AD1D-4ECD-BB7A-9A209DF30B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Strategic Positio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AC8-3C76-484B-926E-8AAD3FF6B3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080" y="152280"/>
            <a:ext cx="3639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Thru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085760"/>
            <a:ext cx="8610480" cy="56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: Reduce cost for sam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ion: Unique and appe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: New products, new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: Size is often a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iance: Can’t do it all, who may join han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6CAA-1806-4D65-B477-D54981D214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1371600"/>
            <a:ext cx="8915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: Size of  market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al: Make vs. Buy deci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: Domestic / foreign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: Range of related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5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Competitive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c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E75-105B-4187-8DC7-D9427725C3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5000" y="1447920"/>
            <a:ext cx="90090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basis of competition to disadva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entry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on litigation or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ower of customers or suppl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6440" y="0"/>
            <a:ext cx="83311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isks Of Strategic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04A4-8E83-4C63-A3BE-F4663A8173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D87-D3F9-4A43-BC5D-4762F539F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371600" y="695160"/>
            <a:ext cx="640080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430280" y="25146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990720"/>
            <a:ext cx="628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1880" y="1143000"/>
            <a:ext cx="1716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30280" y="30290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30280" y="35434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30280" y="40575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30280" y="45720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30280" y="20001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30280" y="14860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56080" y="9763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587920" y="9763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70720" y="1143000"/>
            <a:ext cx="1973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8200" y="1143000"/>
            <a:ext cx="1490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40040" y="16812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01760" y="2114640"/>
            <a:ext cx="6426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               COST         INNOVATION         GROWTH       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404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02320" y="20048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43440" y="2685960"/>
            <a:ext cx="1542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35480" y="3738600"/>
            <a:ext cx="2355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0481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47920" y="312408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312408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062240"/>
            <a:ext cx="0" cy="52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21080" y="4195800"/>
            <a:ext cx="113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64280" y="4195800"/>
            <a:ext cx="1949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35480" y="4767120"/>
            <a:ext cx="255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16200000">
            <a:off x="4389120" y="3382200"/>
            <a:ext cx="414360" cy="440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05320" y="5715000"/>
            <a:ext cx="2660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21640" y="576360"/>
            <a:ext cx="0" cy="475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22360" y="576360"/>
            <a:ext cx="0" cy="475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30280" y="5716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9400" y="5372280"/>
            <a:ext cx="25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30280" y="537228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0"/>
            <a:ext cx="868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OPTION GENER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30481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6EB-7AF5-4FBD-956F-F9EA58CAE80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05480" y="4191120"/>
            <a:ext cx="308268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5840" y="4191120"/>
            <a:ext cx="308268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3200400"/>
            <a:ext cx="21589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19880" y="2133720"/>
            <a:ext cx="9493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97160" y="2133720"/>
            <a:ext cx="135576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55840" y="2133720"/>
            <a:ext cx="186372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1143000"/>
            <a:ext cx="1963800" cy="476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809640"/>
            <a:ext cx="640080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22360" y="2629080"/>
            <a:ext cx="62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0280" y="10857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9440" y="1257480"/>
            <a:ext cx="134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30280" y="31431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2360" y="3657600"/>
            <a:ext cx="62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30280" y="41720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30280" y="468648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30280" y="211464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30280" y="16002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56080" y="109044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87920" y="1090440"/>
            <a:ext cx="0" cy="50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72160" y="1257480"/>
            <a:ext cx="153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ET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06760" y="1257480"/>
            <a:ext cx="118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676520"/>
            <a:ext cx="121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03200" y="2228760"/>
            <a:ext cx="6166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IATION                   COST                 INNOVATION               GROWTH             ALLI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6404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02320" y="21193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1440" y="2666880"/>
            <a:ext cx="94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0" y="3733920"/>
            <a:ext cx="158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1280" y="320040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3200400"/>
            <a:ext cx="162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10960" y="3200400"/>
            <a:ext cx="1621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417672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514960" y="4267080"/>
            <a:ext cx="70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4267080"/>
            <a:ext cx="1325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35120" y="4881600"/>
            <a:ext cx="166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rot="16200000">
            <a:off x="4372200" y="3284280"/>
            <a:ext cx="447840" cy="4403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5867280"/>
            <a:ext cx="373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721640" y="69048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22360" y="690480"/>
            <a:ext cx="0" cy="456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30280" y="6858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9400" y="5257800"/>
            <a:ext cx="2524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30280" y="5257800"/>
            <a:ext cx="262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6080"/>
            <a:ext cx="914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ederal Express Exam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200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312408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C5C-2591-49E3-8D2A-4931860E2AF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H="1">
            <a:off x="5283360" y="1828800"/>
            <a:ext cx="3403440" cy="2946240"/>
          </a:xfrm>
          <a:prstGeom prst="rightArrow">
            <a:avLst>
              <a:gd name="adj1" fmla="val 75000"/>
              <a:gd name="adj2" fmla="val 5776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92760" y="2592360"/>
            <a:ext cx="24033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46240" y="1314360"/>
            <a:ext cx="316260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11480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495288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828800"/>
            <a:ext cx="3098520" cy="2946240"/>
          </a:xfrm>
          <a:prstGeom prst="rightArrow">
            <a:avLst>
              <a:gd name="adj1" fmla="val 75000"/>
              <a:gd name="adj2" fmla="val 5323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6320" y="2495520"/>
            <a:ext cx="3520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61960" y="547200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lue to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1371600"/>
            <a:ext cx="304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24440" y="2697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302560" y="275040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3142080" y="2621880"/>
            <a:ext cx="2684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234120" y="4853160"/>
            <a:ext cx="2489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81240" y="4853160"/>
            <a:ext cx="189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720" y="3048120"/>
            <a:ext cx="2315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2971800"/>
            <a:ext cx="2603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2D1-727B-432E-81CC-16C08A7D743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H="1">
            <a:off x="5180760" y="1828800"/>
            <a:ext cx="3403800" cy="2946240"/>
          </a:xfrm>
          <a:prstGeom prst="rightArrow">
            <a:avLst>
              <a:gd name="adj1" fmla="val 75000"/>
              <a:gd name="adj2" fmla="val 577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5880" y="2438280"/>
            <a:ext cx="284508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ck, Bond and Mu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 T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 Option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titive  F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y Execution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s and Mone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in Financia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dial Respo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37040" y="1308240"/>
            <a:ext cx="2793960" cy="58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11480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952880" y="1892160"/>
            <a:ext cx="0" cy="3530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1040" y="1841400"/>
            <a:ext cx="3098520" cy="2946600"/>
          </a:xfrm>
          <a:prstGeom prst="rightArrow">
            <a:avLst>
              <a:gd name="adj1" fmla="val 75000"/>
              <a:gd name="adj2" fmla="val 5322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8560" y="2457360"/>
            <a:ext cx="19854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Based T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Brok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et Sm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Trans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Risk Analysi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61960" y="5472000"/>
            <a:ext cx="2874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alue to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1371600"/>
            <a:ext cx="269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/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24440" y="26971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2913480" y="2750400"/>
            <a:ext cx="2666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384360" y="2627280"/>
            <a:ext cx="280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rag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920" y="4857840"/>
            <a:ext cx="272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 Customer Bu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4680" y="4857840"/>
            <a:ext cx="21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-add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3880" y="304920"/>
            <a:ext cx="4314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to Customer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les Schwab &amp; 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CA4E-4709-4C0C-8889-5AC10E031BE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540160" y="5486400"/>
            <a:ext cx="1650960" cy="67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trategic Plann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70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118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54440" y="3054240"/>
            <a:ext cx="1587600" cy="189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97240" y="39625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54640" y="3962520"/>
            <a:ext cx="44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7040" y="1301760"/>
            <a:ext cx="1587600" cy="67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52680" y="4946400"/>
            <a:ext cx="0" cy="54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4654440"/>
            <a:ext cx="1822320" cy="90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457360"/>
            <a:ext cx="1828800" cy="9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09680" y="2901960"/>
            <a:ext cx="0" cy="181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822320" y="5105520"/>
            <a:ext cx="39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822320" y="2895480"/>
            <a:ext cx="39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09680" y="465444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16160" y="3962520"/>
            <a:ext cx="36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9800" y="2387520"/>
            <a:ext cx="1216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882320" y="2387520"/>
            <a:ext cx="1059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37160" y="2387520"/>
            <a:ext cx="118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6520" y="1778040"/>
            <a:ext cx="16110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0" y="2457360"/>
            <a:ext cx="1388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1080" y="4686480"/>
            <a:ext cx="1345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n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2640" y="4064040"/>
            <a:ext cx="13428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ter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20160" y="3298680"/>
            <a:ext cx="117648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Strate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ositio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5562720"/>
            <a:ext cx="19051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xplicit/ Implic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646160" y="3200400"/>
            <a:ext cx="142488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37480" y="3146400"/>
            <a:ext cx="12193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cou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ital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352680" y="1987560"/>
            <a:ext cx="0" cy="444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04840" y="1343160"/>
            <a:ext cx="871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1210-9E39-4A53-9468-007E212F30A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Process Reengine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104-9AA9-4F64-AE6C-D3728696F7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066680" y="0"/>
            <a:ext cx="774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371600"/>
            <a:ext cx="899784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 BP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Fundamental Rethink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Radical Redesig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usiness processes to achi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Dramatic Impro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Critical Performance Measu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7A6-4D90-4A11-B244-B2D681340D2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set of activities to produce output for customer/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 of inputs + Ordered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st, time, quality &amp; customer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ynamic view of  how value is c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, not  just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al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oss 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utdated marketing, selling and adm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0"/>
            <a:ext cx="39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ocess Defi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D39-A824-4FAA-B241-D5775D5248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96920" y="304812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Examples of Cross-Functional Proce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066680"/>
            <a:ext cx="20574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657600" y="1066680"/>
            <a:ext cx="213372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1066680"/>
            <a:ext cx="213372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1143000"/>
            <a:ext cx="16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 Analysis &amp; Market Re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81080" y="1219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12193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1219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77320" y="14479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3880" y="1752480"/>
            <a:ext cx="6477120" cy="685800"/>
          </a:xfrm>
          <a:prstGeom prst="rightArrow">
            <a:avLst>
              <a:gd name="adj1" fmla="val 50000"/>
              <a:gd name="adj2" fmla="val 236115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00200" y="1828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4191120"/>
            <a:ext cx="1218960" cy="99036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4191120"/>
            <a:ext cx="1600200" cy="9903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76720" y="4191120"/>
            <a:ext cx="1523880" cy="99036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19720" y="4191120"/>
            <a:ext cx="1447560" cy="990360"/>
          </a:xfrm>
          <a:custGeom>
            <a:avLst/>
            <a:gdLst>
              <a:gd name="textAreaLeft" fmla="*/ 0 w 1447560"/>
              <a:gd name="textAreaRight" fmla="*/ 1447920 w 1447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0080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1520" y="4191120"/>
            <a:ext cx="1371600" cy="99036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44956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         Proposal   Commitment Configuration   Credit       Delivery     Billing        Collection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52388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1523880" y="5181480"/>
            <a:ext cx="1219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3809880" y="51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5181480"/>
            <a:ext cx="14475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324480" y="5181480"/>
            <a:ext cx="609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324480" y="5181480"/>
            <a:ext cx="15242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19920" y="5181480"/>
            <a:ext cx="198108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56386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Manufactur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Fina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Logistics         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00160" y="2271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duct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659400" y="594216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9396-2BCB-49DC-8C2B-34E92B7BFB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514600" y="0"/>
            <a:ext cx="41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rinciples of B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685800"/>
            <a:ext cx="9144000" cy="56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out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i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 information processing with real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 distributed resources as centraliz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parallel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ch decision point with work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ture information once, and at the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708-1528-47CF-BD62-200C631DC6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etitiv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0D6-5BB8-4912-8D84-981662EB3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914400" y="228600"/>
            <a:ext cx="129528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09880" y="228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010280" y="228600"/>
            <a:ext cx="129564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1371600"/>
            <a:ext cx="129564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58000" y="137160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0" y="2438280"/>
            <a:ext cx="137160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438280"/>
            <a:ext cx="144756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4038480"/>
            <a:ext cx="129564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781680" y="4038480"/>
            <a:ext cx="129564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572000"/>
            <a:ext cx="1295280" cy="60948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5638680"/>
            <a:ext cx="137160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410080"/>
            <a:ext cx="1371600" cy="99072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914400" y="228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2860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Purchas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10280" y="3049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1680" y="419112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2120" y="1371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Purchase Order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666880" y="13716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Receiving 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1371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Rece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533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81480" y="53352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838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02" idx="2"/>
            <a:endCxn id="405" idx="1"/>
          </p:cNvCxnSpPr>
          <p:nvPr/>
        </p:nvCxnSpPr>
        <p:spPr>
          <a:xfrm flipH="1" rot="16200000">
            <a:off x="2151720" y="1400040"/>
            <a:ext cx="714960" cy="1972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505320" y="24382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 Payable (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0" y="2514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) Pa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7432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399" idx="2"/>
            <a:endCxn id="417" idx="0"/>
          </p:cNvCxnSpPr>
          <p:nvPr/>
        </p:nvCxnSpPr>
        <p:spPr>
          <a:xfrm rot="5400000">
            <a:off x="6271560" y="-15120"/>
            <a:ext cx="524160" cy="2248920"/>
          </a:xfrm>
          <a:prstGeom prst="bentConnector3">
            <a:avLst>
              <a:gd name="adj1" fmla="val 49072"/>
            </a:avLst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26" name=""/>
          <p:cNvSpPr/>
          <p:nvPr/>
        </p:nvSpPr>
        <p:spPr>
          <a:xfrm>
            <a:off x="5791320" y="762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4038120" y="1676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01" idx="2"/>
            <a:endCxn id="405" idx="0"/>
          </p:cNvCxnSpPr>
          <p:nvPr/>
        </p:nvCxnSpPr>
        <p:spPr>
          <a:xfrm flipH="1" rot="16200000">
            <a:off x="3589920" y="1790280"/>
            <a:ext cx="400680" cy="877320"/>
          </a:xfrm>
          <a:prstGeom prst="bentConnector3">
            <a:avLst>
              <a:gd name="adj1" fmla="val 546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772400" y="838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1523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4) 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403" idx="2"/>
            <a:endCxn id="405" idx="0"/>
          </p:cNvCxnSpPr>
          <p:nvPr/>
        </p:nvCxnSpPr>
        <p:spPr>
          <a:xfrm rot="5400000">
            <a:off x="5685840" y="571320"/>
            <a:ext cx="400680" cy="3315240"/>
          </a:xfrm>
          <a:prstGeom prst="bentConnector3">
            <a:avLst>
              <a:gd name="adj1" fmla="val 5467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2" name=""/>
          <p:cNvSpPr/>
          <p:nvPr/>
        </p:nvSpPr>
        <p:spPr>
          <a:xfrm>
            <a:off x="609480" y="40384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2" idx="3"/>
            <a:endCxn id="407" idx="1"/>
          </p:cNvCxnSpPr>
          <p:nvPr/>
        </p:nvCxnSpPr>
        <p:spPr>
          <a:xfrm>
            <a:off x="1905120" y="4329000"/>
            <a:ext cx="4867920" cy="15120"/>
          </a:xfrm>
          <a:prstGeom prst="curvedConnector5">
            <a:avLst>
              <a:gd name="adj1" fmla="val 50092"/>
              <a:gd name="adj2" fmla="val 48780"/>
              <a:gd name="adj3" fmla="val 50092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657600" y="4267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46483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07" idx="2"/>
            <a:endCxn id="408" idx="3"/>
          </p:cNvCxnSpPr>
          <p:nvPr/>
        </p:nvCxnSpPr>
        <p:spPr>
          <a:xfrm rot="5400000">
            <a:off x="6123960" y="3571560"/>
            <a:ext cx="219960" cy="2391840"/>
          </a:xfrm>
          <a:prstGeom prst="bentConnector2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5715000" y="44956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33920" y="4572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Recei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1905120" y="4876920"/>
            <a:ext cx="182880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594360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33920" y="5638680"/>
            <a:ext cx="1447560" cy="609840"/>
          </a:xfrm>
          <a:prstGeom prst="flowChartProcess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3920" y="56386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 Payable (1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181480" y="5943600"/>
            <a:ext cx="15242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62720" y="56386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620120" y="464796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96080" y="502920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56386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d &amp; Vendor Ba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7150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urement 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90720" y="33526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Ford’s Procurem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7339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576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B30-168A-4957-AFFB-424B797FCA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27880" y="0"/>
            <a:ext cx="866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ortgage Loan Processing at BANC 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" y="1447920"/>
            <a:ext cx="990720" cy="68580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828800" y="1447920"/>
            <a:ext cx="990720" cy="609480"/>
          </a:xfrm>
          <a:prstGeom prst="flowChartInputOutpu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914400"/>
            <a:ext cx="342900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05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248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48520" y="19051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62520" y="11430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6" idx="1"/>
          </p:cNvCxnSpPr>
          <p:nvPr/>
        </p:nvCxnSpPr>
        <p:spPr>
          <a:xfrm>
            <a:off x="4581000" y="1294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6" idx="3"/>
            <a:endCxn id="457" idx="1"/>
          </p:cNvCxnSpPr>
          <p:nvPr/>
        </p:nvCxnSpPr>
        <p:spPr>
          <a:xfrm>
            <a:off x="5724000" y="129492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7" idx="2"/>
            <a:endCxn id="458" idx="0"/>
          </p:cNvCxnSpPr>
          <p:nvPr/>
        </p:nvCxnSpPr>
        <p:spPr>
          <a:xfrm rot="5400000">
            <a:off x="5190480" y="533160"/>
            <a:ext cx="438840" cy="22867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5" name=""/>
          <p:cNvCxnSpPr>
            <a:stCxn id="458" idx="3"/>
            <a:endCxn id="459" idx="1"/>
          </p:cNvCxnSpPr>
          <p:nvPr/>
        </p:nvCxnSpPr>
        <p:spPr>
          <a:xfrm>
            <a:off x="4581000" y="20570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6" name=""/>
          <p:cNvCxnSpPr>
            <a:stCxn id="459" idx="3"/>
            <a:endCxn id="460" idx="1"/>
          </p:cNvCxnSpPr>
          <p:nvPr/>
        </p:nvCxnSpPr>
        <p:spPr>
          <a:xfrm>
            <a:off x="5724000" y="2057040"/>
            <a:ext cx="515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7924680" y="1219320"/>
            <a:ext cx="1067040" cy="99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17524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17524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62920" y="1676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38080" y="4191120"/>
            <a:ext cx="1067040" cy="838080"/>
          </a:xfrm>
          <a:prstGeom prst="flowChartPreparation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124080" y="3276720"/>
            <a:ext cx="3962520" cy="25905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24680" y="4114800"/>
            <a:ext cx="1067040" cy="99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45720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05120" y="457200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00600" y="35053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44197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5257800"/>
            <a:ext cx="60948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4419720"/>
            <a:ext cx="60948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4191120"/>
            <a:ext cx="685800" cy="609480"/>
          </a:xfrm>
          <a:prstGeom prst="flowChartMagneticDisk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4572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86400" y="457200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105520" y="4800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05520" y="3809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24680" y="44197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925760" y="1521000"/>
            <a:ext cx="10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14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8600" y="1523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9810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25909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k-to-Desk Approach: 17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5867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 Approach: 2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D503-9F34-4F4D-BA8A-CCBA6AB220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198600" y="0"/>
            <a:ext cx="4048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ole of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1280" y="762120"/>
            <a:ext cx="5585760" cy="51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performanc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custo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oriented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435040" y="304920"/>
            <a:ext cx="5068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Organizational Enabl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80480" y="1108080"/>
            <a:ext cx="783720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m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Benefits: Wider skill set, Quality of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uccess criteria: Leadership, Composition, Clarity of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Enablers: Empowerment, Participative decision mak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ensation: Incentives, Gain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reer paths: More horizontal, less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ork role rotation to create a shared mind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819520" y="228600"/>
            <a:ext cx="32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Myths of BP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71600" y="1219320"/>
            <a:ext cx="6807240" cy="55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no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 fresh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s the l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top-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ermanent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R vs.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737-AC8C-453A-A657-D465E9B05E1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chain includes information fl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barriers to 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-to-end process redesign &amp;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7FE-6A0A-44FF-8B62-74BC8C6417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9920" y="762120"/>
            <a:ext cx="8074080" cy="2209680"/>
          </a:xfrm>
          <a:custGeom>
            <a:avLst/>
            <a:gdLst>
              <a:gd name="textAreaLeft" fmla="*/ 0 w 8074080"/>
              <a:gd name="textAreaRight" fmla="*/ 8074440 w 807408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002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762120"/>
            <a:ext cx="1440" cy="3200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762120"/>
            <a:ext cx="1800" cy="32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37160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9144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14479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981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25146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2971800"/>
            <a:ext cx="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2971800"/>
            <a:ext cx="14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971800"/>
            <a:ext cx="180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297180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69560" y="3197160"/>
            <a:ext cx="13482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6680" y="319716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8640" y="320040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b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7960" y="327672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4040" y="3200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55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The 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90512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438280"/>
            <a:ext cx="586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334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create value for custom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51A-8B8D-433B-83FF-9AF74EE016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ur Support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990720"/>
          <a:ext cx="7772400" cy="5221080"/>
        </p:xfrm>
        <a:graphic>
          <a:graphicData uri="http://schemas.openxmlformats.org/drawingml/2006/table">
            <a:tbl>
              <a:tblPr/>
              <a:tblGrid>
                <a:gridCol w="2819160"/>
                <a:gridCol w="4953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ctiv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management, planning, finance, accounting, legal services,  government affairs, and quality manage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resource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ruiting, hiring, training, and develop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ing product and manufacturing proces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 or purchasing input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5C5-FDF5-4882-A3A6-BCF0D102D8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ve Primary Activ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066680"/>
          <a:ext cx="8229600" cy="5140440"/>
        </p:xfrm>
        <a:graphic>
          <a:graphicData uri="http://schemas.openxmlformats.org/drawingml/2006/table">
            <a:tbl>
              <a:tblPr/>
              <a:tblGrid>
                <a:gridCol w="2984400"/>
                <a:gridCol w="5245200"/>
              </a:tblGrid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bound log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s receiving, storing, and distribution to manufacturing premis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inputs into finished produc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bound logi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ing and distributing product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ing and s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ion and sales for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 to maintain or enhance product valu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D94-086E-4B30-83D1-631256C03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irline Industry Value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1447920"/>
            <a:ext cx="6934320" cy="4141800"/>
          </a:xfrm>
          <a:custGeom>
            <a:avLst/>
            <a:gdLst>
              <a:gd name="textAreaLeft" fmla="*/ 0 w 6934320"/>
              <a:gd name="textAreaRight" fmla="*/ 6934680 w 6934320"/>
              <a:gd name="textAreaTop" fmla="*/ 0 h 4141800"/>
              <a:gd name="textAreaBottom" fmla="*/ 4142160 h 414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34" y="0"/>
                </a:lnTo>
                <a:lnTo>
                  <a:pt x="21600" y="10800"/>
                </a:lnTo>
                <a:lnTo>
                  <a:pt x="1813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3505320"/>
            <a:ext cx="6934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3505320"/>
            <a:ext cx="0" cy="204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3581280"/>
            <a:ext cx="0" cy="204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64440" y="5680080"/>
            <a:ext cx="996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26520" y="5680080"/>
            <a:ext cx="1182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14600" y="5680080"/>
            <a:ext cx="1053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50400" y="5656320"/>
            <a:ext cx="12312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52280" y="5656320"/>
            <a:ext cx="1103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8960" y="1981080"/>
            <a:ext cx="600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8960" y="2514600"/>
            <a:ext cx="623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8960" y="3048120"/>
            <a:ext cx="654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9880" y="3263760"/>
            <a:ext cx="1172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400" y="265428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CHNOLOG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040" y="1968480"/>
            <a:ext cx="11368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MA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520" y="1511280"/>
            <a:ext cx="1348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12408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1972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781680" y="1980720"/>
            <a:ext cx="0" cy="16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3400" y="1542960"/>
            <a:ext cx="1763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    Accoun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9280" y="1542960"/>
            <a:ext cx="103032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08920" y="1541520"/>
            <a:ext cx="172656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     Commun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53240" y="1546200"/>
            <a:ext cx="117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2057400"/>
            <a:ext cx="1030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fety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18520" y="2022480"/>
            <a:ext cx="6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61520" y="2022480"/>
            <a:ext cx="6372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-f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7240" y="2590920"/>
            <a:ext cx="13075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gage Trac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1320" y="3780000"/>
            <a:ext cx="135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2840" y="3733920"/>
            <a:ext cx="11016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 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53040" y="3780000"/>
            <a:ext cx="11649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1280" y="3733920"/>
            <a:ext cx="14947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ket Cou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t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-boar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gage Hand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cket Off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3640" y="3657600"/>
            <a:ext cx="1517400" cy="19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enger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(Pri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Schedu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w Schedu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ies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cqui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03480" y="2479680"/>
            <a:ext cx="181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28160" y="3048120"/>
            <a:ext cx="1780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7960" y="2514600"/>
            <a:ext cx="11462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99960" y="3772080"/>
            <a:ext cx="17751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t  Baggage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aint Follow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9440" y="3733920"/>
            <a:ext cx="14814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gage 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tal C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el Re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7960" y="33526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4960" y="3352680"/>
            <a:ext cx="1689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4640" y="2590920"/>
            <a:ext cx="3182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Reservation System, In-flight System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ght Scheduling System, Yield Management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56520" y="2022480"/>
            <a:ext cx="7131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gg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1600" y="1946160"/>
            <a:ext cx="109296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ight, route 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ield anal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B95A-9F81-4775-A0BE-FF51B9C9267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80520" y="-36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Valu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371600"/>
            <a:ext cx="86868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rifying Value Chain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realize significant margins by consolidating parts of the value chain to my custo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create significant value for customers by reducing the number of entities they have to deal with in the value ch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New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offer additional information of transaction service to my existing customer b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use my ability to attract customers to generate new sources of revenue, such as advertising or sales of complementary produc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9C1-0F18-4BF2-ABCB-C340C5BA41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7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11360" y="159984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Arial"/>
              </a:rPr>
              <a:t>Competitiv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os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Re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F12-3834-49BE-A898-A8572E12AC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14:32:28Z</dcterms:created>
  <dc:creator>Tridas Mukopadhyay</dc:creator>
  <dc:description/>
  <dc:language>en-US</dc:language>
  <cp:lastModifiedBy>Tridas Mukopadhyay</cp:lastModifiedBy>
  <dcterms:modified xsi:type="dcterms:W3CDTF">2000-08-24T12:52:12Z</dcterms:modified>
  <cp:revision>91</cp:revision>
  <dc:subject/>
  <dc:title>No Slide Title</dc:title>
</cp:coreProperties>
</file>