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215-8260-4B9A-B3ED-CF6C15EF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802-1A33-4998-961D-3280D587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F1F-5EED-4796-839F-5288C8B2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214-12BA-42E2-BDA5-CBDB6880E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425A-7E4D-423A-BB09-81D8D0DC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961F-BDA1-49DD-819F-6281A7C5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8900-D40C-4837-8D89-0EAA392D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D3F-8EAA-4737-96A6-0544EEEA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692-5681-40AF-8BE1-949E6E49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8A4B-036B-4CC5-80C2-2D1C3927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503-6ED8-46A6-A8D8-A6120994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A41-18CE-4D8C-8019-BBC75232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ssion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Commer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3A0B-ACC3-4250-B942-188E75F90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5716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mmer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895480"/>
            <a:ext cx="711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Tridas Mukhopadhy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MS in Electronic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oitte Consulting Chair Professor of e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das@andrew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9EC-BA85-4FB8-9074-11BF8F1AE50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3333cc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Party e-Requisition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52680"/>
            <a:ext cx="9144000" cy="30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Success Fa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expert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t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/Fast mover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Operating Resource Mgt System from Ar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t3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4876560" cy="343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E15-452C-4674-A603-2755FE2DAB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quirements of e-Procurem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00280"/>
            <a:ext cx="28447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86040"/>
            <a:ext cx="28447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29040"/>
            <a:ext cx="28447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172040"/>
            <a:ext cx="28447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372280"/>
            <a:ext cx="284472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85800"/>
            <a:ext cx="28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ing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943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086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r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114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ing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54864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56080" y="1028880"/>
            <a:ext cx="5587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Mgt, Quotations, Negot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s Received, Source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256840" y="38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3200400"/>
            <a:ext cx="52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, Price, Lea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43434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Contracts, Dis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5543640"/>
            <a:ext cx="46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ing, Overheads, Co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44720" y="11430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720" y="2228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44720" y="3371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4720" y="4514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57150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343-3DC5-4B54-9E62-9144CD53E6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Proc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Metamed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ion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B82-E3F8-416A-BC7E-6D44271B9B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Key Drivers of B2B Ado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28880"/>
            <a:ext cx="8331120" cy="63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 and glob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sav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re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-tim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and taxatio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C5D-A1F5-4577-8EBC-DD0D729151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52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2B Revenue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43000"/>
            <a:ext cx="914400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s (Buying and sell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ction Com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savings 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Sub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licen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C5AB-8821-4402-807F-D54B710847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19520" y="1676520"/>
            <a:ext cx="3657600" cy="3028680"/>
          </a:xfrm>
          <a:prstGeom prst="hexagon">
            <a:avLst>
              <a:gd name="adj" fmla="val 30191"/>
              <a:gd name="vf" fmla="val 11547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457200"/>
            <a:ext cx="284472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Marke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673520" y="1028880"/>
            <a:ext cx="0" cy="62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37160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ed suppl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2209680"/>
            <a:ext cx="172728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229280"/>
            <a:ext cx="27432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727280" y="3943440"/>
            <a:ext cx="142236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5334120"/>
            <a:ext cx="2133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search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00600" y="47242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97760" y="4172040"/>
            <a:ext cx="253980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comparison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197760" y="3886200"/>
            <a:ext cx="1320480" cy="28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02320" y="1371600"/>
            <a:ext cx="264168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workflow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095520" y="2209680"/>
            <a:ext cx="1295640" cy="247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362320"/>
            <a:ext cx="2819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arkets ready for intermed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E26-86BB-4E9B-9D83-C147C9CA55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13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xample: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6 trillion, fragmented, High search costs, out dated high cost proc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Connec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change for bulk 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atch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change for petrochem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dex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etplace &amp; procurement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-Chemica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edit verification, delivery fulfi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8AF-DB07-48C8-A866-02AF5B1AC9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09680" y="1949400"/>
            <a:ext cx="4572000" cy="2144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2286000"/>
            <a:ext cx="30477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0"/>
            <a:ext cx="7315200" cy="192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0"/>
            <a:ext cx="7823160" cy="18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ulti-vendor catalo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posted,  Product comparison, Custo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yer/ Seller: Lower transaction costs, more r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Buy: Catalogs of over 60 electronic distribu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102200"/>
            <a:ext cx="44956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102200"/>
            <a:ext cx="4343400" cy="1942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2520"/>
            <a:ext cx="41148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u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led / open b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a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3962520"/>
            <a:ext cx="436896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cha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ay negotiations, 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d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Connect, Che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F1D3-3922-4B82-9BBC-7BAA698723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termediary vs. Metamedi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t3" descr=""/>
          <p:cNvPicPr/>
          <p:nvPr/>
        </p:nvPicPr>
        <p:blipFill>
          <a:blip r:embed="rId1"/>
          <a:stretch/>
        </p:blipFill>
        <p:spPr>
          <a:xfrm>
            <a:off x="0" y="1257480"/>
            <a:ext cx="9144000" cy="473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AEC-3436-40DF-BF0D-8407174A10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19520" y="2057400"/>
            <a:ext cx="3352680" cy="3048120"/>
          </a:xfrm>
          <a:prstGeom prst="pentagon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8908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Origins of Intermedi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604800"/>
            <a:ext cx="2514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941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362320"/>
            <a:ext cx="2514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2200" y="2438280"/>
            <a:ext cx="2514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4908600"/>
            <a:ext cx="2514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4952880"/>
            <a:ext cx="251460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743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72200" y="25542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51102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BCB-1E6B-4002-B873-B84A56C007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600" y="914400"/>
            <a:ext cx="8636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eCommerce Fundamentals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5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Value Chain and Competi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eValue Crea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Ford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B2B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eMarketing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Free Market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Supply Chai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eServic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Digital good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ell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Internet Strategie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300-F7F5-485E-A01D-E52D6C33AF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igins of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3809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ll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catalog, transaction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product information and transaction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eller to multi-vendor catal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am Micro &amp; its resellers for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site by three steel 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0" y="533160"/>
            <a:ext cx="4114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u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og or reverse a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transaction costs, product information and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supplier participation, multi-buyer market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IS TPN procurement to market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Three automakers’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5119-BC38-4EEA-96EB-B50B8936D9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igins of Intermedi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739800"/>
            <a:ext cx="0" cy="541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99280" y="800280"/>
            <a:ext cx="0" cy="5410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7621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oftware Provi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7621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fo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7621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net P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295280"/>
            <a:ext cx="914400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 internal,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rage exi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 inertia in external work-flow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marke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sted name, no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Virtual community, no      Speed,  neutrality, market experience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procurement experience    but accept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ba, Commerce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Asian Sources: publ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-Steel on its own One: Procurement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Electronic Components                            por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acle Exchange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SeaFax: Credit rating to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Mark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seafood exch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E0A2-232F-4C7A-851A-340B035364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Proc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Intermediation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2B1-E9BD-4235-A915-6AE3AC8A18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38280" y="1612800"/>
            <a:ext cx="3581640" cy="3125880"/>
          </a:xfrm>
          <a:custGeom>
            <a:avLst/>
            <a:gdLst>
              <a:gd name="textAreaLeft" fmla="*/ 895320 w 3581640"/>
              <a:gd name="textAreaRight" fmla="*/ 2686320 w 3581640"/>
              <a:gd name="textAreaTop" fmla="*/ 781560 h 3125880"/>
              <a:gd name="textAreaBottom" fmla="*/ 2344680 h 31258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487600"/>
            <a:ext cx="193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2B Buying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201600"/>
            <a:ext cx="396252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40320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arch Costs due to large number of se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4360" y="2590920"/>
            <a:ext cx="3149640" cy="1511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25909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r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flow and  transaction costs from many orders &amp; dependent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800600"/>
            <a:ext cx="297180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4908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enishm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inued reliance on old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819520"/>
            <a:ext cx="243828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890800"/>
            <a:ext cx="2438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fill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costs to avoid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0C53-74E8-4AC7-A5AF-078FEFCABF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formation Ineffici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(error, labor, time), multi-par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ng Partner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local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Informa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, features, availability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y Chai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rs, legacy ch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C90E-8324-4FA9-92B9-CA4933D330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057400" y="1657440"/>
            <a:ext cx="4724280" cy="3124080"/>
          </a:xfrm>
          <a:custGeom>
            <a:avLst/>
            <a:gdLst>
              <a:gd name="textAreaLeft" fmla="*/ 1181160 w 4724280"/>
              <a:gd name="textAreaRight" fmla="*/ 3543480 w 4724280"/>
              <a:gd name="textAreaTop" fmla="*/ 780840 h 3124080"/>
              <a:gd name="textAreaBottom" fmla="*/ 2343240 h 312408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2487600"/>
            <a:ext cx="254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alue Creation by Intermedi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44720" y="228600"/>
            <a:ext cx="297180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628560"/>
            <a:ext cx="317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Information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81680" y="2590920"/>
            <a:ext cx="236232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2890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Price / Qua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4800600"/>
            <a:ext cx="297180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5334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Liqu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85960"/>
            <a:ext cx="205740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16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B99F-EAE7-4280-BDB9-FEEBEEE654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666880" y="2457360"/>
            <a:ext cx="3657600" cy="2584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3352680"/>
            <a:ext cx="253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mprove Information Flow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1076400"/>
            <a:ext cx="297180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4114800"/>
            <a:ext cx="274320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114800"/>
            <a:ext cx="266688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12096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communication channel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4235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the number of  buyer-seller chann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4480" y="40384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the number of communication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AE8C-7307-4165-9546-E908BA2D39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201600"/>
            <a:ext cx="2361960" cy="5411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2743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duce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83808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52388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15100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275580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35268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268200"/>
            <a:ext cx="2361960" cy="5410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83808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144792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213372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77120" y="388620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4419720"/>
            <a:ext cx="23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380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ing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44784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ing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9828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fillmen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00800" y="91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fillmen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447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13716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209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flow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3080" y="28195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flow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2811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3886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267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77120" y="4800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648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lk Chemic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57150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3967-3EA6-4AD7-A3C1-8F6373214D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mprove Price / Q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1295280"/>
            <a:ext cx="0" cy="388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5181480"/>
            <a:ext cx="5486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371600"/>
            <a:ext cx="14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 /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53341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el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2133360" y="-1524600"/>
            <a:ext cx="7009200" cy="609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-2513520" y="-153000"/>
            <a:ext cx="9752400" cy="48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-303840" y="-1829160"/>
            <a:ext cx="5333040" cy="65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14479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 from more se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13716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cost of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cost of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3DEA-2BEE-466A-A19F-C84194F59D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Build Liquid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41400"/>
            <a:ext cx="312408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3600" y="1076400"/>
            <a:ext cx="2971800" cy="1065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773600"/>
            <a:ext cx="342900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38680" y="4840200"/>
            <a:ext cx="3505320" cy="106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941400"/>
            <a:ext cx="314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automation leads to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d Velo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18040" y="1008000"/>
            <a:ext cx="3225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marketplace leads to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d Rea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2895480"/>
            <a:ext cx="2946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d Reach + Improved Velocity = Liquid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975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liquid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ings more buyers and se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680" y="5029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liquid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 sell goods /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647960" y="2209680"/>
            <a:ext cx="28954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52480" y="2209680"/>
            <a:ext cx="28195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1752480" y="4114800"/>
            <a:ext cx="2819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4114800"/>
            <a:ext cx="28195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8FC-37F2-4380-BAED-BDC8752FD5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2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E-Proc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medi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mediation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BBD8-B212-44F3-88F4-E37A4622F1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1066680"/>
            <a:ext cx="175248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971800"/>
            <a:ext cx="203184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800600"/>
            <a:ext cx="175248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514600" y="4419720"/>
            <a:ext cx="1752480" cy="990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1066680"/>
            <a:ext cx="175248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2971800"/>
            <a:ext cx="21337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4800600"/>
            <a:ext cx="175284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3429000"/>
            <a:ext cx="190512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4400" y="20574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9625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27" idx="3"/>
            <a:endCxn id="229" idx="0"/>
          </p:cNvCxnSpPr>
          <p:nvPr/>
        </p:nvCxnSpPr>
        <p:spPr>
          <a:xfrm>
            <a:off x="2045880" y="3467160"/>
            <a:ext cx="1345320" cy="93888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7" name=""/>
          <p:cNvCxnSpPr>
            <a:stCxn id="229" idx="2"/>
            <a:endCxn id="228" idx="3"/>
          </p:cNvCxnSpPr>
          <p:nvPr/>
        </p:nvCxnSpPr>
        <p:spPr>
          <a:xfrm flipV="1" rot="16200000">
            <a:off x="2513880" y="4547520"/>
            <a:ext cx="129240" cy="1624680"/>
          </a:xfrm>
          <a:prstGeom prst="bentConnector4">
            <a:avLst>
              <a:gd name="adj1" fmla="val -166480"/>
              <a:gd name="adj2" fmla="val 77415"/>
            </a:avLst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8" name=""/>
          <p:cNvCxnSpPr>
            <a:stCxn id="230" idx="3"/>
            <a:endCxn id="233" idx="0"/>
          </p:cNvCxnSpPr>
          <p:nvPr/>
        </p:nvCxnSpPr>
        <p:spPr>
          <a:xfrm>
            <a:off x="6872400" y="1562040"/>
            <a:ext cx="1319760" cy="185328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3" idx="2"/>
            <a:endCxn id="232" idx="3"/>
          </p:cNvCxnSpPr>
          <p:nvPr/>
        </p:nvCxnSpPr>
        <p:spPr>
          <a:xfrm rot="5400000">
            <a:off x="7138080" y="4242960"/>
            <a:ext cx="862920" cy="124380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0" y="1371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14479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0258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3025800"/>
            <a:ext cx="238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Intermedi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510552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5029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4419720"/>
            <a:ext cx="175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hannel Facilit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Facilitator   vs.   Channel Compet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213680" y="3505320"/>
            <a:ext cx="19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hannel Compet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75F-6FA6-445E-9D38-321888FF6F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752480" y="2286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arket Dynam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523880"/>
            <a:ext cx="914400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onnection proportional to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market proportional to buyer-sell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increases if each participant can be either buyer or sel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accelerates if multiple transactions occur before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4AEA-27A4-4F21-9764-295557345E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Procurement is a mu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any intermedia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demonium to continu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93D-776A-4488-9745-02D176C7F88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106668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does FreeMarkets OnLine create value for its customers? How is it different from existing/traditional model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role does the Internet and information technologies play in its value chai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w would you assess the company's business model? What are its strengths and weakness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ich of the following alternatives the company should choose in order to go forward to sca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rizontal market expansion or vertical market domina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hnology and user support subscription licens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ed purchasing information systems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eeMarket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E95-4922-4BA6-AFD2-BC76808072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99960"/>
            <a:ext cx="9144000" cy="54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lectronic Data Interchange (ED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to Business exchange of standardized documents in electronic form (e.g., Invoice, Purchase or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developed in the 196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barriers: lack of standards, telecom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ergence of  industry, national, international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heavily by large companies (e.g., Fortune 1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re-structuring  business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E1F-A229-4D86-8A72-DAC082A4E1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52280"/>
            <a:ext cx="9144000" cy="65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on EDI Applications in B2B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 Response (QR): POS data to 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Stock Replenishment: Supplier manages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s Management: JI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Customer Response (ECR): Grocery industry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d Receipt Settlement: No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ve Forecasting and Replenishment: Sharing fore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646-2850-4C88-B4FC-491A20FBED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24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alue Added Networks (V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: Translation, security, auditability,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: High price, Connect time + mailbox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6324480" cy="379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572-ABA1-4759-A7D8-07A73E91B3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6338880"/>
            <a:ext cx="78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-Procurement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curemen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and error p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icient search for trading partn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information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chain in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om task to proces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t1" descr=""/>
          <p:cNvPicPr/>
          <p:nvPr/>
        </p:nvPicPr>
        <p:blipFill>
          <a:blip r:embed="rId1"/>
          <a:stretch/>
        </p:blipFill>
        <p:spPr>
          <a:xfrm>
            <a:off x="1371600" y="3276720"/>
            <a:ext cx="5791320" cy="317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D6F-D5F5-4E4D-B1B4-B331727B95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7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duction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w materials and  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d by production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buyer init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pproval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egree of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-spec driv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91120" y="-360"/>
            <a:ext cx="49528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on-Production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&amp; computer suppli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O supplies;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, not schedu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init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al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auto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og 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AC0D-4B80-4069-99BE-5E02B5BD9C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rocurement at Microsoft: MS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857160"/>
            <a:ext cx="9144000" cy="22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ume, low $ operating resource proc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and validations on th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tracking with direct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 $3 billion annual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2" descr=""/>
          <p:cNvPicPr/>
          <p:nvPr/>
        </p:nvPicPr>
        <p:blipFill>
          <a:blip r:embed="rId1"/>
          <a:stretch/>
        </p:blipFill>
        <p:spPr>
          <a:xfrm>
            <a:off x="1523880" y="3075120"/>
            <a:ext cx="6477120" cy="365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5CE-6D65-441C-A516-E6D8A48EC3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2T15:43:59Z</dcterms:created>
  <dc:creator>Tridas Mukopadhyay</dc:creator>
  <dc:description/>
  <dc:language>en-US</dc:language>
  <cp:lastModifiedBy>Tridas Mukopadhyay</cp:lastModifiedBy>
  <dcterms:modified xsi:type="dcterms:W3CDTF">2000-08-24T12:55:24Z</dcterms:modified>
  <cp:revision>52</cp:revision>
  <dc:subject/>
  <dc:title>Characteristics of B2B Markets</dc:title>
</cp:coreProperties>
</file>