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58288" cy="6872288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6480" y="41338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820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40280" y="19843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648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820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40280" y="41338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6480" y="7740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1338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43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6480" y="41338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278000"/>
            <a:ext cx="9145440" cy="154080"/>
            <a:chOff x="0" y="1278000"/>
            <a:chExt cx="9145440" cy="154080"/>
          </a:xfrm>
        </p:grpSpPr>
        <p:sp>
          <p:nvSpPr>
            <p:cNvPr id="1" name=""/>
            <p:cNvSpPr/>
            <p:nvPr/>
          </p:nvSpPr>
          <p:spPr>
            <a:xfrm>
              <a:off x="0" y="1278000"/>
              <a:ext cx="9145440" cy="75960"/>
            </a:xfrm>
            <a:prstGeom prst="rect">
              <a:avLst/>
            </a:prstGeom>
            <a:gradFill rotWithShape="0">
              <a:gsLst>
                <a:gs pos="0">
                  <a:srgbClr val="19327c"/>
                </a:gs>
                <a:gs pos="50000">
                  <a:srgbClr val="3365fb"/>
                </a:gs>
                <a:gs pos="100000">
                  <a:srgbClr val="1932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393920"/>
              <a:ext cx="9145440" cy="38160"/>
            </a:xfrm>
            <a:prstGeom prst="rect">
              <a:avLst/>
            </a:prstGeom>
            <a:gradFill rotWithShape="0">
              <a:gsLst>
                <a:gs pos="0">
                  <a:srgbClr val="af001b"/>
                </a:gs>
                <a:gs pos="50000">
                  <a:srgbClr val="fc0128"/>
                </a:gs>
                <a:gs pos="100000">
                  <a:srgbClr val="af001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59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17320" y="6567480"/>
            <a:ext cx="1787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ter A. Steenkiste, SCS, CMU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23880" y="642636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91B2-82BF-40DC-8B34-716ECB3279A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rotocol Stac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mitations of the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ayered Mode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layers are not always cleanly sepa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layer dependencies in implementations for performance reas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dependencies in the standards (header checksu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ayers not always well defi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, presentation, application lay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layers have “sublayer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layers well defined in the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are not really standardiz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hard to mix and match layers from independent implem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cross-layer assumptions, e.g. buffer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1600" y="66600"/>
            <a:ext cx="7464240" cy="114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he Internet Protocol Suit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29" name=""/>
          <p:cNvSpPr/>
          <p:nvPr/>
        </p:nvSpPr>
        <p:spPr>
          <a:xfrm>
            <a:off x="1314360" y="2209680"/>
            <a:ext cx="149724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14360" y="2665440"/>
            <a:ext cx="1497240" cy="4334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14360" y="3124080"/>
            <a:ext cx="149724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14360" y="3579840"/>
            <a:ext cx="149724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14360" y="4037040"/>
            <a:ext cx="149724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14360" y="4494240"/>
            <a:ext cx="149724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14360" y="4951440"/>
            <a:ext cx="149724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835360" y="4091040"/>
            <a:ext cx="3408120" cy="177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80560" y="4143240"/>
            <a:ext cx="2364480" cy="28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6600"/>
          </a:solidFill>
          <a:ln cap="rnd"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81640" y="4143240"/>
            <a:ext cx="2364480" cy="282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37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379"/>
              </a:path>
            </a:pathLst>
          </a:custGeom>
          <a:solidFill>
            <a:srgbClr val="ff6600"/>
          </a:solidFill>
          <a:ln cap="rnd"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5321880" y="504720"/>
            <a:ext cx="2463120" cy="352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37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379"/>
              </a:path>
            </a:pathLst>
          </a:custGeom>
          <a:solidFill>
            <a:srgbClr val="ff6600"/>
          </a:solidFill>
          <a:ln cap="rnd"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5342400" y="504720"/>
            <a:ext cx="2421360" cy="352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6600"/>
          </a:solidFill>
          <a:ln cap="rnd"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226692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4120" y="5543640"/>
            <a:ext cx="23619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10160" y="3951360"/>
            <a:ext cx="304920" cy="228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943240" y="3470400"/>
            <a:ext cx="1248840" cy="363960"/>
            <a:chOff x="5943240" y="3470400"/>
            <a:chExt cx="1248840" cy="363960"/>
          </a:xfrm>
        </p:grpSpPr>
        <p:sp>
          <p:nvSpPr>
            <p:cNvPr id="245" name=""/>
            <p:cNvSpPr/>
            <p:nvPr/>
          </p:nvSpPr>
          <p:spPr>
            <a:xfrm>
              <a:off x="5943240" y="3470400"/>
              <a:ext cx="6638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2720" y="3470400"/>
              <a:ext cx="639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5961960" y="4538520"/>
            <a:ext cx="121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3080" y="4997520"/>
            <a:ext cx="1108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89880" y="2478240"/>
            <a:ext cx="155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84480" y="2782800"/>
            <a:ext cx="156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38280" y="3089160"/>
            <a:ext cx="105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57913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Hourgla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1240" y="66600"/>
            <a:ext cx="7311960" cy="1154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levant Standardization Bod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U-TS (formerly CCITT) - Telecommunications Sector of the International Telecommunications Un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vernment representatives (PTTs/State Departm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ble for international “recommendatio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 - telecom committee reporting to American National Standards Institu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1/ANSI formulate US pos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/adapt ITU standards for US 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US in I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O - International Standards Organ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s a broad range of 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re Bod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- Institute of Electrical and Electronics Engine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ible for many LAN physical layer and datalink layer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TF - Internet Engineering Task F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for network layer and “higher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ization based on working documents (Internet drafts) and proposed standards (Request for Comm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“open” standards orga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 For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 membership mostly manufactur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ly rapid evolution of recommend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Technolog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Technolog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rchite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network technolog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s to the ho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n Internetwor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62" name=""/>
          <p:cNvSpPr/>
          <p:nvPr/>
        </p:nvSpPr>
        <p:spPr>
          <a:xfrm>
            <a:off x="1536840" y="3137040"/>
            <a:ext cx="181584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7040" y="4121280"/>
            <a:ext cx="1828800" cy="990360"/>
          </a:xfrm>
          <a:prstGeom prst="ellipse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11440" y="3130560"/>
            <a:ext cx="1828800" cy="990720"/>
          </a:xfrm>
          <a:prstGeom prst="ellipse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54440" y="4044960"/>
            <a:ext cx="1828800" cy="990720"/>
          </a:xfrm>
          <a:prstGeom prst="ellipse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99000" y="2984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0520" y="511812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51640" y="50418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80040" y="20700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98400" y="3441600"/>
            <a:ext cx="819000" cy="444240"/>
            <a:chOff x="698400" y="3441600"/>
            <a:chExt cx="819000" cy="444240"/>
          </a:xfrm>
        </p:grpSpPr>
        <p:sp>
          <p:nvSpPr>
            <p:cNvPr id="271" name=""/>
            <p:cNvSpPr/>
            <p:nvPr/>
          </p:nvSpPr>
          <p:spPr>
            <a:xfrm>
              <a:off x="698400" y="3441600"/>
              <a:ext cx="596880" cy="44424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14360" y="3664440"/>
              <a:ext cx="20304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334280" y="3289320"/>
            <a:ext cx="742680" cy="444600"/>
            <a:chOff x="7334280" y="3289320"/>
            <a:chExt cx="742680" cy="444600"/>
          </a:xfrm>
        </p:grpSpPr>
        <p:sp>
          <p:nvSpPr>
            <p:cNvPr id="274" name=""/>
            <p:cNvSpPr/>
            <p:nvPr/>
          </p:nvSpPr>
          <p:spPr>
            <a:xfrm>
              <a:off x="7479000" y="3289320"/>
              <a:ext cx="597960" cy="44460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34280" y="3511800"/>
              <a:ext cx="12564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880240" y="4889520"/>
            <a:ext cx="29196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80240" y="3898800"/>
            <a:ext cx="291960" cy="2923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32320" y="4432320"/>
            <a:ext cx="291960" cy="2905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98800" y="4051440"/>
            <a:ext cx="29232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5800" y="3975120"/>
            <a:ext cx="29232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55800" y="4965840"/>
            <a:ext cx="29232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70400" y="3441600"/>
            <a:ext cx="292320" cy="2923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37240" y="2984400"/>
            <a:ext cx="291960" cy="2923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89320" y="3441600"/>
            <a:ext cx="291960" cy="29232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27600" y="2832120"/>
            <a:ext cx="292320" cy="291960"/>
          </a:xfrm>
          <a:prstGeom prst="rect">
            <a:avLst/>
          </a:prstGeom>
          <a:solidFill>
            <a:srgbClr val="fe9b03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488360" y="5349960"/>
            <a:ext cx="741240" cy="445680"/>
            <a:chOff x="7488360" y="5349960"/>
            <a:chExt cx="741240" cy="445680"/>
          </a:xfrm>
        </p:grpSpPr>
        <p:sp>
          <p:nvSpPr>
            <p:cNvPr id="287" name=""/>
            <p:cNvSpPr/>
            <p:nvPr/>
          </p:nvSpPr>
          <p:spPr>
            <a:xfrm>
              <a:off x="7632720" y="5349960"/>
              <a:ext cx="596880" cy="4456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88360" y="5573160"/>
              <a:ext cx="1252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113520" y="2297160"/>
            <a:ext cx="742680" cy="444240"/>
            <a:chOff x="6113520" y="2297160"/>
            <a:chExt cx="742680" cy="444240"/>
          </a:xfrm>
        </p:grpSpPr>
        <p:sp>
          <p:nvSpPr>
            <p:cNvPr id="290" name=""/>
            <p:cNvSpPr/>
            <p:nvPr/>
          </p:nvSpPr>
          <p:spPr>
            <a:xfrm>
              <a:off x="6257880" y="2297160"/>
              <a:ext cx="598320" cy="44424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13520" y="2519280"/>
              <a:ext cx="1252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22440" y="5349960"/>
            <a:ext cx="818640" cy="443880"/>
            <a:chOff x="622440" y="5349960"/>
            <a:chExt cx="818640" cy="443880"/>
          </a:xfrm>
        </p:grpSpPr>
        <p:sp>
          <p:nvSpPr>
            <p:cNvPr id="293" name=""/>
            <p:cNvSpPr/>
            <p:nvPr/>
          </p:nvSpPr>
          <p:spPr>
            <a:xfrm>
              <a:off x="622440" y="5349960"/>
              <a:ext cx="596520" cy="4438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38040" y="5572800"/>
              <a:ext cx="20304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444840" y="2297160"/>
            <a:ext cx="820440" cy="442800"/>
            <a:chOff x="3444840" y="2297160"/>
            <a:chExt cx="820440" cy="442800"/>
          </a:xfrm>
        </p:grpSpPr>
        <p:sp>
          <p:nvSpPr>
            <p:cNvPr id="296" name=""/>
            <p:cNvSpPr/>
            <p:nvPr/>
          </p:nvSpPr>
          <p:spPr>
            <a:xfrm>
              <a:off x="3444840" y="2297160"/>
              <a:ext cx="597960" cy="44280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1880" y="2519280"/>
              <a:ext cx="20340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290760" y="5425920"/>
            <a:ext cx="742680" cy="446040"/>
            <a:chOff x="3290760" y="5425920"/>
            <a:chExt cx="742680" cy="446040"/>
          </a:xfrm>
        </p:grpSpPr>
        <p:sp>
          <p:nvSpPr>
            <p:cNvPr id="299" name=""/>
            <p:cNvSpPr/>
            <p:nvPr/>
          </p:nvSpPr>
          <p:spPr>
            <a:xfrm>
              <a:off x="3435120" y="5425920"/>
              <a:ext cx="598320" cy="44604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90760" y="5648760"/>
              <a:ext cx="12528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792840" y="5941800"/>
            <a:ext cx="596880" cy="617400"/>
            <a:chOff x="6792840" y="5941800"/>
            <a:chExt cx="596880" cy="617400"/>
          </a:xfrm>
        </p:grpSpPr>
        <p:sp>
          <p:nvSpPr>
            <p:cNvPr id="302" name=""/>
            <p:cNvSpPr/>
            <p:nvPr/>
          </p:nvSpPr>
          <p:spPr>
            <a:xfrm>
              <a:off x="6792840" y="6113880"/>
              <a:ext cx="596880" cy="44532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092720" y="5941800"/>
              <a:ext cx="3240" cy="17820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877000" y="5941800"/>
            <a:ext cx="597960" cy="617400"/>
            <a:chOff x="5877000" y="5941800"/>
            <a:chExt cx="597960" cy="617400"/>
          </a:xfrm>
        </p:grpSpPr>
        <p:sp>
          <p:nvSpPr>
            <p:cNvPr id="305" name=""/>
            <p:cNvSpPr/>
            <p:nvPr/>
          </p:nvSpPr>
          <p:spPr>
            <a:xfrm>
              <a:off x="5877000" y="6113880"/>
              <a:ext cx="597960" cy="44532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177600" y="5941800"/>
              <a:ext cx="3240" cy="17820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147760" y="2525760"/>
            <a:ext cx="596880" cy="591840"/>
            <a:chOff x="2147760" y="2525760"/>
            <a:chExt cx="596880" cy="591840"/>
          </a:xfrm>
        </p:grpSpPr>
        <p:sp>
          <p:nvSpPr>
            <p:cNvPr id="308" name=""/>
            <p:cNvSpPr/>
            <p:nvPr/>
          </p:nvSpPr>
          <p:spPr>
            <a:xfrm>
              <a:off x="2147760" y="2525760"/>
              <a:ext cx="596880" cy="4438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428560" y="2990160"/>
              <a:ext cx="30240" cy="12744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18240" y="5349960"/>
            <a:ext cx="820080" cy="443880"/>
            <a:chOff x="4818240" y="5349960"/>
            <a:chExt cx="820080" cy="443880"/>
          </a:xfrm>
        </p:grpSpPr>
        <p:sp>
          <p:nvSpPr>
            <p:cNvPr id="311" name=""/>
            <p:cNvSpPr/>
            <p:nvPr/>
          </p:nvSpPr>
          <p:spPr>
            <a:xfrm>
              <a:off x="4818240" y="5349960"/>
              <a:ext cx="597600" cy="4438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5280" y="5572800"/>
              <a:ext cx="203040" cy="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612800" y="4586400"/>
            <a:ext cx="598320" cy="591840"/>
            <a:chOff x="1612800" y="4586400"/>
            <a:chExt cx="598320" cy="591840"/>
          </a:xfrm>
        </p:grpSpPr>
        <p:sp>
          <p:nvSpPr>
            <p:cNvPr id="314" name=""/>
            <p:cNvSpPr/>
            <p:nvPr/>
          </p:nvSpPr>
          <p:spPr>
            <a:xfrm>
              <a:off x="1612800" y="4586400"/>
              <a:ext cx="598320" cy="4438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894320" y="5050800"/>
              <a:ext cx="30240" cy="12744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353200" y="1533600"/>
            <a:ext cx="596880" cy="590400"/>
            <a:chOff x="5353200" y="1533600"/>
            <a:chExt cx="596880" cy="590400"/>
          </a:xfrm>
        </p:grpSpPr>
        <p:sp>
          <p:nvSpPr>
            <p:cNvPr id="317" name=""/>
            <p:cNvSpPr/>
            <p:nvPr/>
          </p:nvSpPr>
          <p:spPr>
            <a:xfrm>
              <a:off x="5353200" y="1533600"/>
              <a:ext cx="596880" cy="44280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634000" y="1997280"/>
              <a:ext cx="30240" cy="12672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361040" y="1533600"/>
            <a:ext cx="596880" cy="590400"/>
            <a:chOff x="4361040" y="1533600"/>
            <a:chExt cx="596880" cy="590400"/>
          </a:xfrm>
        </p:grpSpPr>
        <p:sp>
          <p:nvSpPr>
            <p:cNvPr id="320" name=""/>
            <p:cNvSpPr/>
            <p:nvPr/>
          </p:nvSpPr>
          <p:spPr>
            <a:xfrm>
              <a:off x="4361040" y="1533600"/>
              <a:ext cx="596880" cy="44280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641840" y="1997280"/>
              <a:ext cx="30240" cy="12672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716880" y="3803400"/>
            <a:ext cx="596880" cy="617400"/>
            <a:chOff x="6716880" y="3803400"/>
            <a:chExt cx="596880" cy="617400"/>
          </a:xfrm>
        </p:grpSpPr>
        <p:sp>
          <p:nvSpPr>
            <p:cNvPr id="323" name=""/>
            <p:cNvSpPr/>
            <p:nvPr/>
          </p:nvSpPr>
          <p:spPr>
            <a:xfrm>
              <a:off x="6716880" y="3975480"/>
              <a:ext cx="596880" cy="44532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3365fb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7017120" y="3803400"/>
              <a:ext cx="2880" cy="178200"/>
            </a:xfrm>
            <a:prstGeom prst="line">
              <a:avLst/>
            </a:prstGeom>
            <a:ln w="2556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rnet Service Provider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Internet services to custom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 task is providing connectivity between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s can provide service on multiple sca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: e.g. aggregate the traffic of smaller busin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al: next level of aggre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and Interna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point travel may be handled by several ISPs on its way to its destin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its way up a hierarchy (local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between ISPs at the sam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source ISP does not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ccess Networ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communication between hosts in the same local area or provide access path to the wide-area networks (ISP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vely and technology-wise typically quite different from I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exploits the smaller physical distances and high concentration of h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ion is easier if propagation delays are 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concentration of hosts can simplify wiring and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networks often combine a group of host that are part of the same organ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act on administration, security, charging policies, 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Access Points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AP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s where major ISP connect their networks so they can easily exchange traffi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is often co-lo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located in major metropolitan area so it can also provide network access to a large number of custom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ve arrangements between ISPs are often bilateral in na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Ps A and B agree to support certain routes and certain amounts of traffic for each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set up has to match these agre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sta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technolog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 protoc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protoc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of serv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ing research at Carnegie Mell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re Network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networks are switch-ba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are high-end rou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ed by the “fattest” pipes that are technically feasible and commercially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s consist of single-mode optical fib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use wavelength division multiplexing to send multiple channels (colors) over the fi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te of single channel matches the highest port speed of electronic switches (e.g. 622 Mbs, 2.4 Gb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through the backbone is primarily driven by policies and not so much by efficien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rangements and other poli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on this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181480" y="4038480"/>
            <a:ext cx="9907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4038480"/>
            <a:ext cx="9907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43800" y="2666880"/>
            <a:ext cx="9907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2666880"/>
            <a:ext cx="9907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outer Architectur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5000"/>
          </a:bodyPr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s in packets in one interface and has to forward them to an output interface based on the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ig inters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dea for bridges, switches, routers: address look up diff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processor manages the switch and executes higher level protoco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routing, management, 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witch fabric directs the traffic to the right output po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put and output ports deal with transmission and reception of pack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248520" y="2666880"/>
            <a:ext cx="1218960" cy="25146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b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274320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57800" y="3276720"/>
            <a:ext cx="8380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57800" y="4114800"/>
            <a:ext cx="8380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464832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0120" y="2743200"/>
            <a:ext cx="8380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0120" y="327672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4114800"/>
            <a:ext cx="8380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20120" y="4648320"/>
            <a:ext cx="83808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582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458200" y="4419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45820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458200" y="3505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8520" y="1981080"/>
            <a:ext cx="1218960" cy="60984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ccess Networ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area networks (LAN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adcast 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 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from the ho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reless networ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thernet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EEE 802.3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1600200"/>
            <a:ext cx="73152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7000"/>
              </a:lnSpc>
              <a:spcBef>
                <a:spcPts val="29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5480" y="32004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body “hears” the packet but only receiver accepts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 for broadcast and multicast pa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ier-sense multiple access with collision detection (CSMA/CD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sense for signal on cable before they 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s check for “collisions”, multiple packets that are on the wire at the sam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ase of contention, hosts wait for random amount of time to (re)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38080" y="2895480"/>
            <a:ext cx="373392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10960" y="23875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09760" y="267984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5360" y="23875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24160" y="267984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39760" y="23875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38560" y="267984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54160" y="23875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52960" y="267984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57440" y="17524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56240" y="2044800"/>
            <a:ext cx="1149480" cy="774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1840" y="17524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70640" y="2044800"/>
            <a:ext cx="311040" cy="774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86240" y="17524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7009920" y="2044800"/>
            <a:ext cx="374760" cy="850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00640" y="17524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009920" y="2044800"/>
            <a:ext cx="1289160" cy="8506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29040" y="2743200"/>
            <a:ext cx="57240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Bridges and Switch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6840" y="1599840"/>
            <a:ext cx="7385040" cy="182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22840" indent="-222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e keeps track of the source address of every packet on every lin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s this information to learn what segment hosts are 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s packets only on segment of destination h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haves like a swit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 packets are still forwarded everyw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600" indent="-1782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s aggregate bandwidth of the netwo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 case: one host per segment - Ethernet swi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489600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949040" y="43815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478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63440" y="4381560"/>
            <a:ext cx="610560" cy="28440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622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77840" y="43815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766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92240" y="43815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910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06640" y="43815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5440" y="467352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00600" y="596268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49040" y="6192720"/>
            <a:ext cx="610560" cy="2844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478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63440" y="61927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622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77840" y="6192720"/>
            <a:ext cx="610560" cy="284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766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92240" y="61927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910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06640" y="619272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05440" y="5969160"/>
            <a:ext cx="0" cy="21564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2720" y="437976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1520" y="467208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2720" y="6191280"/>
            <a:ext cx="610560" cy="2844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1520" y="5967360"/>
            <a:ext cx="0" cy="2160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596268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4896000"/>
            <a:ext cx="243828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43400" y="4896000"/>
            <a:ext cx="0" cy="106668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4896000"/>
            <a:ext cx="0" cy="106668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14800" y="5124600"/>
            <a:ext cx="9144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EEE 802 Networks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AC in the LAN and MA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addressing at MAC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48 bit IEEE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3 (Ethern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5 (Token ring)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-based media access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6 (Distributed queue dual bu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ation-based access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Ethernet: 100 Mbit/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bit Ethernet: 1000 Mbit/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y Ethernet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45520" indent="-245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man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plug in the host and it basically 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onfiguration at the datalink lay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-ba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rt explains the easy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LAN protocols (e.g. ARP) rely on broadc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ing would be harder without AR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having natural broadcast capabilities adds a lot of complexity to a 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ba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adcast-based: limits bandwidth since each packets consumes the bandwidth of the entir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9680" indent="-196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Ethernet switches reduce impact of this probl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hysical Layer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 the LA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18" name=""/>
          <p:cNvSpPr/>
          <p:nvPr/>
        </p:nvSpPr>
        <p:spPr>
          <a:xfrm>
            <a:off x="221040" y="1649520"/>
            <a:ext cx="86846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Transmit/rece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Com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C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machine room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not yet defined; co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4 pairs of UTP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 fiber 6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S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BASE-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 fiber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S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2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BASE-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 fi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0BASE-L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isted p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BASE-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2p of UTP5/2-4p of UT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M fi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BASE-S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rot="16200000">
            <a:off x="7039080" y="2836440"/>
            <a:ext cx="685800" cy="121932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o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770520" y="4932000"/>
            <a:ext cx="1219320" cy="685800"/>
            <a:chOff x="6770520" y="4932000"/>
            <a:chExt cx="1219320" cy="685800"/>
          </a:xfrm>
        </p:grpSpPr>
        <p:sp>
          <p:nvSpPr>
            <p:cNvPr id="421" name=""/>
            <p:cNvSpPr/>
            <p:nvPr/>
          </p:nvSpPr>
          <p:spPr>
            <a:xfrm rot="16200000">
              <a:off x="7037280" y="4665240"/>
              <a:ext cx="685800" cy="12193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17400" y="507672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loor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770520" y="4017600"/>
            <a:ext cx="1219320" cy="685800"/>
            <a:chOff x="6770520" y="4017600"/>
            <a:chExt cx="1219320" cy="685800"/>
          </a:xfrm>
        </p:grpSpPr>
        <p:sp>
          <p:nvSpPr>
            <p:cNvPr id="424" name=""/>
            <p:cNvSpPr/>
            <p:nvPr/>
          </p:nvSpPr>
          <p:spPr>
            <a:xfrm rot="16200000">
              <a:off x="7037280" y="3750840"/>
              <a:ext cx="685800" cy="12193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33240" y="416232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loor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70520" y="2188800"/>
            <a:ext cx="1219320" cy="685800"/>
            <a:chOff x="6770520" y="2188800"/>
            <a:chExt cx="1219320" cy="685800"/>
          </a:xfrm>
        </p:grpSpPr>
        <p:sp>
          <p:nvSpPr>
            <p:cNvPr id="427" name=""/>
            <p:cNvSpPr/>
            <p:nvPr/>
          </p:nvSpPr>
          <p:spPr>
            <a:xfrm rot="16200000">
              <a:off x="7037280" y="1922040"/>
              <a:ext cx="685800" cy="1219320"/>
            </a:xfrm>
            <a:prstGeom prst="ellipse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17400" y="233352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loor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 LAN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figur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4496040" cy="434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or 100 Mbit/second connectivity to the desk top using switch or hubs in wiring clos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or 1000 Mbit/second switch fabric between wiring closets or flo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simplified by having wiring based on star topology with wiring closet in the cen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manager can manage capacity in two way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ed of individual lin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b/bridge/switch tradeo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6608880" y="51606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6608880" y="42462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6608880" y="33318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6608880" y="24174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5808600" y="47034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808600" y="287460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5884920" y="4779720"/>
            <a:ext cx="838080" cy="533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5884920" y="2950920"/>
            <a:ext cx="838080" cy="533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884560" y="4322880"/>
            <a:ext cx="76212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884560" y="2494080"/>
            <a:ext cx="762120" cy="4572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884920" y="3026880"/>
            <a:ext cx="0" cy="17528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nnectivity to the Hom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D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4120" y="2666880"/>
            <a:ext cx="2361960" cy="2286000"/>
          </a:xfrm>
          <a:prstGeom prst="cloudCallout">
            <a:avLst>
              <a:gd name="adj1" fmla="val 1546"/>
              <a:gd name="adj2" fmla="val 14791"/>
            </a:avLst>
          </a:prstGeom>
          <a:solidFill>
            <a:srgbClr val="c1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: Web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clicks on UR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browser sends a message to the web ser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retrieves file specified in request and sends it as a message to the brows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 interprets the file and displays it on the brows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438280"/>
            <a:ext cx="1219320" cy="762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4114800"/>
            <a:ext cx="1295280" cy="7621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048120"/>
            <a:ext cx="990360" cy="99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3276720"/>
            <a:ext cx="990360" cy="990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dem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162920" cy="22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08440" indent="-208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m offers a bit strea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ssive signal processing has dramatically increased the available throughput - beats the Nyquist limit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440" indent="-208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P: Serial Line 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to sent IP packets with minimum fra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cks authentication, error detection, non-IP support, 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08440" indent="-2084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: Point-to-Point Pack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framing, error control, and testing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negotiate choice of higher layer protocols, IP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-1666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support unreliable and reliable transmi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981080" y="579132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4800600"/>
            <a:ext cx="6858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648320"/>
            <a:ext cx="1447560" cy="175248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81680" y="52578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81680" y="54864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81680" y="57150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81680" y="59436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61722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52578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38880" y="54864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8880" y="57150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59436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38880" y="61722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52578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96080" y="54864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57150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59436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6172200"/>
            <a:ext cx="381240" cy="1522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62320" y="58672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6720" y="5257800"/>
            <a:ext cx="2133360" cy="1295280"/>
          </a:xfrm>
          <a:prstGeom prst="cloudCallout">
            <a:avLst>
              <a:gd name="adj1" fmla="val -1486"/>
              <a:gd name="adj2" fmla="val -269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5572080"/>
            <a:ext cx="1468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71600" y="54100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0" y="288"/>
                </a:lnTo>
                <a:lnTo>
                  <a:pt x="384" y="288"/>
                </a:lnTo>
              </a:path>
            </a:pathLst>
          </a:custGeom>
          <a:noFill/>
          <a:ln w="507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5029200"/>
            <a:ext cx="4953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153280" y="58672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grated Services Digital Network (ISDN)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21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DN integrates voice and data servi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a set of bit pipes that can be used for voice, data, signa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d by using time multiplex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ic rate ISDN offers to 64Kbs data bit pipes and one 16 Kbs signaling chann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66680" y="4495680"/>
            <a:ext cx="685800" cy="6098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705720" y="4343400"/>
            <a:ext cx="1447560" cy="175248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2320" y="55627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4952880"/>
            <a:ext cx="2133360" cy="1295640"/>
          </a:xfrm>
          <a:prstGeom prst="cloudCallout">
            <a:avLst>
              <a:gd name="adj1" fmla="val -1486"/>
              <a:gd name="adj2" fmla="val 3185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657600" y="5267160"/>
            <a:ext cx="1468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71600" y="51055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0" y="288"/>
                </a:lnTo>
                <a:lnTo>
                  <a:pt x="384" y="288"/>
                </a:lnTo>
              </a:path>
            </a:pathLst>
          </a:custGeom>
          <a:noFill/>
          <a:ln w="507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4724280"/>
            <a:ext cx="4953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153280" y="55627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5257800"/>
            <a:ext cx="1295280" cy="99072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5410080"/>
            <a:ext cx="68580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5867280"/>
            <a:ext cx="68580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5715000"/>
            <a:ext cx="5335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66680" y="6019920"/>
            <a:ext cx="5335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igital Subscriber 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96480" y="1676520"/>
            <a:ext cx="7162920" cy="258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ueeze more bandwidth out of the telephone line using advanced signal proc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ymmetric digital subscriber line (ADS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“download” bandwidth, e.g. video on demand or web surf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T1 incoming path, 64 Kbs outgoing pa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ymmetric) digital subscriber line (DS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bandwidth both ways, e.g. 768 Kb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66680" y="4572000"/>
            <a:ext cx="6858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4419720"/>
            <a:ext cx="1447560" cy="175248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62320" y="56386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05320" y="5029200"/>
            <a:ext cx="2133360" cy="1295280"/>
          </a:xfrm>
          <a:prstGeom prst="cloudCallout">
            <a:avLst>
              <a:gd name="adj1" fmla="val -5060"/>
              <a:gd name="adj2" fmla="val -2694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5343480"/>
            <a:ext cx="1468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1814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0"/>
                </a:moveTo>
                <a:lnTo>
                  <a:pt x="0" y="288"/>
                </a:lnTo>
                <a:lnTo>
                  <a:pt x="384" y="288"/>
                </a:lnTo>
              </a:path>
            </a:pathLst>
          </a:custGeom>
          <a:noFill/>
          <a:ln w="5076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4800600"/>
            <a:ext cx="49532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153280" y="56386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5334120"/>
            <a:ext cx="1523880" cy="990360"/>
          </a:xfrm>
          <a:prstGeom prst="rect">
            <a:avLst/>
          </a:prstGeom>
          <a:solidFill>
            <a:srgbClr val="cecece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5638680"/>
            <a:ext cx="685800" cy="38124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43000" y="5943600"/>
            <a:ext cx="5335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able Modem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ble infrastructure for data servi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erently has more bandwid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st mile is a shared infrastructure that was designed for broadcas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ing: the bandwidth is shared by us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27 Mbs shared incoming path; 768 Kbs common outgoing pa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90920" y="4267080"/>
            <a:ext cx="4876560" cy="533520"/>
            <a:chOff x="2590920" y="4267080"/>
            <a:chExt cx="4876560" cy="533520"/>
          </a:xfrm>
        </p:grpSpPr>
        <p:sp>
          <p:nvSpPr>
            <p:cNvPr id="501" name=""/>
            <p:cNvSpPr/>
            <p:nvPr/>
          </p:nvSpPr>
          <p:spPr>
            <a:xfrm>
              <a:off x="2590920" y="4800600"/>
              <a:ext cx="48765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2408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8620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4832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7220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34320" y="457200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895480" y="4267080"/>
              <a:ext cx="457200" cy="304920"/>
              <a:chOff x="2895480" y="4267080"/>
              <a:chExt cx="457200" cy="304920"/>
            </a:xfrm>
          </p:grpSpPr>
          <p:sp>
            <p:nvSpPr>
              <p:cNvPr id="509" name=""/>
              <p:cNvSpPr/>
              <p:nvPr/>
            </p:nvSpPr>
            <p:spPr>
              <a:xfrm>
                <a:off x="289548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9548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3657600" y="4267080"/>
              <a:ext cx="457200" cy="304920"/>
              <a:chOff x="3657600" y="4267080"/>
              <a:chExt cx="457200" cy="304920"/>
            </a:xfrm>
          </p:grpSpPr>
          <p:sp>
            <p:nvSpPr>
              <p:cNvPr id="512" name=""/>
              <p:cNvSpPr/>
              <p:nvPr/>
            </p:nvSpPr>
            <p:spPr>
              <a:xfrm>
                <a:off x="365760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5760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4419720" y="4267080"/>
              <a:ext cx="457200" cy="304920"/>
              <a:chOff x="4419720" y="4267080"/>
              <a:chExt cx="457200" cy="304920"/>
            </a:xfrm>
          </p:grpSpPr>
          <p:sp>
            <p:nvSpPr>
              <p:cNvPr id="515" name=""/>
              <p:cNvSpPr/>
              <p:nvPr/>
            </p:nvSpPr>
            <p:spPr>
              <a:xfrm>
                <a:off x="441972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1972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181480" y="4267080"/>
              <a:ext cx="457200" cy="304920"/>
              <a:chOff x="5181480" y="4267080"/>
              <a:chExt cx="457200" cy="304920"/>
            </a:xfrm>
          </p:grpSpPr>
          <p:sp>
            <p:nvSpPr>
              <p:cNvPr id="518" name=""/>
              <p:cNvSpPr/>
              <p:nvPr/>
            </p:nvSpPr>
            <p:spPr>
              <a:xfrm>
                <a:off x="518148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18148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5943600" y="4267080"/>
              <a:ext cx="457200" cy="304920"/>
              <a:chOff x="5943600" y="4267080"/>
              <a:chExt cx="457200" cy="304920"/>
            </a:xfrm>
          </p:grpSpPr>
          <p:sp>
            <p:nvSpPr>
              <p:cNvPr id="521" name=""/>
              <p:cNvSpPr/>
              <p:nvPr/>
            </p:nvSpPr>
            <p:spPr>
              <a:xfrm>
                <a:off x="594360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94360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6705720" y="4267080"/>
              <a:ext cx="457200" cy="304920"/>
              <a:chOff x="6705720" y="4267080"/>
              <a:chExt cx="457200" cy="304920"/>
            </a:xfrm>
          </p:grpSpPr>
          <p:sp>
            <p:nvSpPr>
              <p:cNvPr id="524" name=""/>
              <p:cNvSpPr/>
              <p:nvPr/>
            </p:nvSpPr>
            <p:spPr>
              <a:xfrm>
                <a:off x="6705720" y="441972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05720" y="426708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2590920" y="5029200"/>
            <a:ext cx="4876560" cy="533520"/>
            <a:chOff x="2590920" y="5029200"/>
            <a:chExt cx="4876560" cy="533520"/>
          </a:xfrm>
        </p:grpSpPr>
        <p:sp>
          <p:nvSpPr>
            <p:cNvPr id="527" name=""/>
            <p:cNvSpPr/>
            <p:nvPr/>
          </p:nvSpPr>
          <p:spPr>
            <a:xfrm>
              <a:off x="2590920" y="5562720"/>
              <a:ext cx="48765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2408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8620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4832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41008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7220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34320" y="5334120"/>
              <a:ext cx="0" cy="22860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895480" y="5029200"/>
              <a:ext cx="457200" cy="304920"/>
              <a:chOff x="2895480" y="5029200"/>
              <a:chExt cx="457200" cy="304920"/>
            </a:xfrm>
          </p:grpSpPr>
          <p:sp>
            <p:nvSpPr>
              <p:cNvPr id="535" name=""/>
              <p:cNvSpPr/>
              <p:nvPr/>
            </p:nvSpPr>
            <p:spPr>
              <a:xfrm>
                <a:off x="289548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9548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3657600" y="5029200"/>
              <a:ext cx="457200" cy="304920"/>
              <a:chOff x="3657600" y="5029200"/>
              <a:chExt cx="457200" cy="304920"/>
            </a:xfrm>
          </p:grpSpPr>
          <p:sp>
            <p:nvSpPr>
              <p:cNvPr id="538" name=""/>
              <p:cNvSpPr/>
              <p:nvPr/>
            </p:nvSpPr>
            <p:spPr>
              <a:xfrm>
                <a:off x="365760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65760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419720" y="5029200"/>
              <a:ext cx="457200" cy="304920"/>
              <a:chOff x="4419720" y="5029200"/>
              <a:chExt cx="457200" cy="304920"/>
            </a:xfrm>
          </p:grpSpPr>
          <p:sp>
            <p:nvSpPr>
              <p:cNvPr id="541" name=""/>
              <p:cNvSpPr/>
              <p:nvPr/>
            </p:nvSpPr>
            <p:spPr>
              <a:xfrm>
                <a:off x="441972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41972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5181480" y="5029200"/>
              <a:ext cx="457200" cy="304920"/>
              <a:chOff x="5181480" y="5029200"/>
              <a:chExt cx="457200" cy="304920"/>
            </a:xfrm>
          </p:grpSpPr>
          <p:sp>
            <p:nvSpPr>
              <p:cNvPr id="544" name=""/>
              <p:cNvSpPr/>
              <p:nvPr/>
            </p:nvSpPr>
            <p:spPr>
              <a:xfrm>
                <a:off x="518148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18148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5943600" y="5029200"/>
              <a:ext cx="457200" cy="304920"/>
              <a:chOff x="5943600" y="5029200"/>
              <a:chExt cx="457200" cy="304920"/>
            </a:xfrm>
          </p:grpSpPr>
          <p:sp>
            <p:nvSpPr>
              <p:cNvPr id="547" name=""/>
              <p:cNvSpPr/>
              <p:nvPr/>
            </p:nvSpPr>
            <p:spPr>
              <a:xfrm>
                <a:off x="594360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94360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6705720" y="5029200"/>
              <a:ext cx="457200" cy="304920"/>
              <a:chOff x="6705720" y="5029200"/>
              <a:chExt cx="457200" cy="304920"/>
            </a:xfrm>
          </p:grpSpPr>
          <p:sp>
            <p:nvSpPr>
              <p:cNvPr id="550" name=""/>
              <p:cNvSpPr/>
              <p:nvPr/>
            </p:nvSpPr>
            <p:spPr>
              <a:xfrm>
                <a:off x="6705720" y="5181840"/>
                <a:ext cx="457200" cy="15228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05720" y="5029200"/>
                <a:ext cx="457200" cy="15264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590920" y="5791320"/>
            <a:ext cx="4876560" cy="533160"/>
            <a:chOff x="2590920" y="5791320"/>
            <a:chExt cx="4876560" cy="533160"/>
          </a:xfrm>
        </p:grpSpPr>
        <p:sp>
          <p:nvSpPr>
            <p:cNvPr id="553" name=""/>
            <p:cNvSpPr/>
            <p:nvPr/>
          </p:nvSpPr>
          <p:spPr>
            <a:xfrm>
              <a:off x="2590920" y="6324480"/>
              <a:ext cx="48765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2408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8620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4832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1008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7220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4320" y="6095880"/>
              <a:ext cx="0" cy="228240"/>
            </a:xfrm>
            <a:prstGeom prst="line">
              <a:avLst/>
            </a:prstGeom>
            <a:ln w="2844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2895480" y="5791320"/>
              <a:ext cx="457200" cy="304200"/>
              <a:chOff x="2895480" y="5791320"/>
              <a:chExt cx="457200" cy="304200"/>
            </a:xfrm>
          </p:grpSpPr>
          <p:sp>
            <p:nvSpPr>
              <p:cNvPr id="561" name=""/>
              <p:cNvSpPr/>
              <p:nvPr/>
            </p:nvSpPr>
            <p:spPr>
              <a:xfrm>
                <a:off x="289548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89548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3657600" y="5791320"/>
              <a:ext cx="457200" cy="304200"/>
              <a:chOff x="3657600" y="5791320"/>
              <a:chExt cx="457200" cy="304200"/>
            </a:xfrm>
          </p:grpSpPr>
          <p:sp>
            <p:nvSpPr>
              <p:cNvPr id="564" name=""/>
              <p:cNvSpPr/>
              <p:nvPr/>
            </p:nvSpPr>
            <p:spPr>
              <a:xfrm>
                <a:off x="365760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5760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4419720" y="5791320"/>
              <a:ext cx="457200" cy="304200"/>
              <a:chOff x="4419720" y="5791320"/>
              <a:chExt cx="457200" cy="304200"/>
            </a:xfrm>
          </p:grpSpPr>
          <p:sp>
            <p:nvSpPr>
              <p:cNvPr id="567" name=""/>
              <p:cNvSpPr/>
              <p:nvPr/>
            </p:nvSpPr>
            <p:spPr>
              <a:xfrm>
                <a:off x="441972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1972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181480" y="5791320"/>
              <a:ext cx="457200" cy="304200"/>
              <a:chOff x="5181480" y="5791320"/>
              <a:chExt cx="457200" cy="304200"/>
            </a:xfrm>
          </p:grpSpPr>
          <p:sp>
            <p:nvSpPr>
              <p:cNvPr id="570" name=""/>
              <p:cNvSpPr/>
              <p:nvPr/>
            </p:nvSpPr>
            <p:spPr>
              <a:xfrm>
                <a:off x="518148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148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943600" y="5791320"/>
              <a:ext cx="457200" cy="304200"/>
              <a:chOff x="5943600" y="5791320"/>
              <a:chExt cx="457200" cy="304200"/>
            </a:xfrm>
          </p:grpSpPr>
          <p:sp>
            <p:nvSpPr>
              <p:cNvPr id="573" name=""/>
              <p:cNvSpPr/>
              <p:nvPr/>
            </p:nvSpPr>
            <p:spPr>
              <a:xfrm>
                <a:off x="594360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4360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705720" y="5791320"/>
              <a:ext cx="457200" cy="304200"/>
              <a:chOff x="6705720" y="5791320"/>
              <a:chExt cx="457200" cy="304200"/>
            </a:xfrm>
          </p:grpSpPr>
          <p:sp>
            <p:nvSpPr>
              <p:cNvPr id="576" name=""/>
              <p:cNvSpPr/>
              <p:nvPr/>
            </p:nvSpPr>
            <p:spPr>
              <a:xfrm>
                <a:off x="6705720" y="5943600"/>
                <a:ext cx="457200" cy="151920"/>
              </a:xfrm>
              <a:prstGeom prst="rect">
                <a:avLst/>
              </a:prstGeom>
              <a:solidFill>
                <a:srgbClr val="fe9b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705720" y="5791320"/>
                <a:ext cx="457200" cy="152280"/>
              </a:xfrm>
              <a:custGeom>
                <a:avLst/>
                <a:gdLst/>
                <a:ahLst/>
                <a:rect l="l" t="t" r="r" b="b"/>
                <a:pathLst>
                  <a:path w="288" h="96">
                    <a:moveTo>
                      <a:pt x="0" y="96"/>
                    </a:moveTo>
                    <a:lnTo>
                      <a:pt x="96" y="0"/>
                    </a:lnTo>
                    <a:lnTo>
                      <a:pt x="192" y="0"/>
                    </a:lnTo>
                    <a:lnTo>
                      <a:pt x="288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8" name=""/>
          <p:cNvSpPr/>
          <p:nvPr/>
        </p:nvSpPr>
        <p:spPr>
          <a:xfrm>
            <a:off x="2133720" y="457200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133720" y="533412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133720" y="609588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990720" y="4800600"/>
            <a:ext cx="1371600" cy="6858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990720" y="5486400"/>
            <a:ext cx="1371600" cy="8380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914400" y="5486400"/>
            <a:ext cx="1447920" cy="76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4724280"/>
            <a:ext cx="1371600" cy="16002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mparis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ms use “worst case” techn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o fit within a voice channel so encoding subopt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DN can be more aggress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t is old technology by n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L is highly optimized for the transmission med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there are some constraints on dis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modem uses a transmission medium that has inherently a higher bandwidth, but the network architecture will limit throughpu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broadcasting, not for point-point 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Access Network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basestation that functions as an edge router in the wired infra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EE 802.11 wireless networ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becoming very popular in LA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digital packet data (CDPD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s spectrum with cellular telephon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grams are sent over idle chann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s of 10s of Kbit/second of shared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-altitude satellit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at ~750 km, in circular (polar) or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viewed a cellular with cells mov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75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, www.iridium.com, www.teledesic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el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9843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ell corresponds to the area covered by a “base station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ing the power avoids interference between cel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reu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different frequencies between adjacent cells can reduce interfere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typically drops if there are too many users in the cel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ed number of chan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users require support for handof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3657600"/>
            <a:ext cx="990720" cy="914400"/>
            <a:chOff x="5257800" y="3657600"/>
            <a:chExt cx="990720" cy="914400"/>
          </a:xfrm>
        </p:grpSpPr>
        <p:sp>
          <p:nvSpPr>
            <p:cNvPr id="592" name="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486400" y="457200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257800" y="36576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19920" y="41148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9920" y="36576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57800" y="41148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095880" y="4191120"/>
            <a:ext cx="990720" cy="914400"/>
            <a:chOff x="6095880" y="4191120"/>
            <a:chExt cx="990720" cy="914400"/>
          </a:xfrm>
        </p:grpSpPr>
        <p:sp>
          <p:nvSpPr>
            <p:cNvPr id="599" name=""/>
            <p:cNvSpPr/>
            <p:nvPr/>
          </p:nvSpPr>
          <p:spPr>
            <a:xfrm>
              <a:off x="6324480" y="41911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24480" y="51055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095880" y="41911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6858000" y="46483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58000" y="41911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5880" y="46483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095880" y="2209680"/>
            <a:ext cx="990720" cy="914400"/>
            <a:chOff x="6095880" y="2209680"/>
            <a:chExt cx="990720" cy="914400"/>
          </a:xfrm>
        </p:grpSpPr>
        <p:sp>
          <p:nvSpPr>
            <p:cNvPr id="606" name=""/>
            <p:cNvSpPr/>
            <p:nvPr/>
          </p:nvSpPr>
          <p:spPr>
            <a:xfrm>
              <a:off x="6324480" y="22096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4480" y="31240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6095880" y="22096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858000" y="26668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0" y="22096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26668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095880" y="3200400"/>
            <a:ext cx="990720" cy="914400"/>
            <a:chOff x="6095880" y="3200400"/>
            <a:chExt cx="990720" cy="914400"/>
          </a:xfrm>
        </p:grpSpPr>
        <p:sp>
          <p:nvSpPr>
            <p:cNvPr id="613" name=""/>
            <p:cNvSpPr/>
            <p:nvPr/>
          </p:nvSpPr>
          <p:spPr>
            <a:xfrm>
              <a:off x="6324480" y="320040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24480" y="411480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6095880" y="32004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858000" y="36576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58000" y="32004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95880" y="365760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257800" y="2666880"/>
            <a:ext cx="990720" cy="914400"/>
            <a:chOff x="5257800" y="2666880"/>
            <a:chExt cx="990720" cy="914400"/>
          </a:xfrm>
        </p:grpSpPr>
        <p:sp>
          <p:nvSpPr>
            <p:cNvPr id="620" name=""/>
            <p:cNvSpPr/>
            <p:nvPr/>
          </p:nvSpPr>
          <p:spPr>
            <a:xfrm>
              <a:off x="5486400" y="26668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86400" y="35812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257800" y="26668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019920" y="31240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19920" y="26668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57800" y="31240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934320" y="4724280"/>
            <a:ext cx="990000" cy="914400"/>
            <a:chOff x="6934320" y="4724280"/>
            <a:chExt cx="990000" cy="914400"/>
          </a:xfrm>
        </p:grpSpPr>
        <p:sp>
          <p:nvSpPr>
            <p:cNvPr id="627" name=""/>
            <p:cNvSpPr/>
            <p:nvPr/>
          </p:nvSpPr>
          <p:spPr>
            <a:xfrm>
              <a:off x="7162560" y="472428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62560" y="563868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934320" y="472428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7696080" y="518148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96080" y="472428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34320" y="518148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934320" y="2743200"/>
            <a:ext cx="990000" cy="914400"/>
            <a:chOff x="6934320" y="2743200"/>
            <a:chExt cx="990000" cy="914400"/>
          </a:xfrm>
        </p:grpSpPr>
        <p:sp>
          <p:nvSpPr>
            <p:cNvPr id="634" name=""/>
            <p:cNvSpPr/>
            <p:nvPr/>
          </p:nvSpPr>
          <p:spPr>
            <a:xfrm>
              <a:off x="7162560" y="274320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62560" y="365760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6934320" y="274320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7696080" y="320040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96080" y="274320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34320" y="320040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6934320" y="3733920"/>
            <a:ext cx="990000" cy="914400"/>
            <a:chOff x="6934320" y="3733920"/>
            <a:chExt cx="990000" cy="914400"/>
          </a:xfrm>
        </p:grpSpPr>
        <p:sp>
          <p:nvSpPr>
            <p:cNvPr id="641" name=""/>
            <p:cNvSpPr/>
            <p:nvPr/>
          </p:nvSpPr>
          <p:spPr>
            <a:xfrm>
              <a:off x="7162560" y="373392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62560" y="4648320"/>
              <a:ext cx="53316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6934320" y="373392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696080" y="419112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96080" y="373392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34320" y="4191120"/>
              <a:ext cx="22824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257800" y="4648320"/>
            <a:ext cx="990720" cy="914400"/>
            <a:chOff x="5257800" y="4648320"/>
            <a:chExt cx="990720" cy="914400"/>
          </a:xfrm>
        </p:grpSpPr>
        <p:sp>
          <p:nvSpPr>
            <p:cNvPr id="648" name=""/>
            <p:cNvSpPr/>
            <p:nvPr/>
          </p:nvSpPr>
          <p:spPr>
            <a:xfrm>
              <a:off x="5486400" y="46483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86400" y="55627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5257800" y="46483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6019920" y="51055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19920" y="46483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7800" y="51055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7772400" y="4267080"/>
            <a:ext cx="990720" cy="914400"/>
            <a:chOff x="7772400" y="4267080"/>
            <a:chExt cx="990720" cy="914400"/>
          </a:xfrm>
        </p:grpSpPr>
        <p:sp>
          <p:nvSpPr>
            <p:cNvPr id="655" name=""/>
            <p:cNvSpPr/>
            <p:nvPr/>
          </p:nvSpPr>
          <p:spPr>
            <a:xfrm>
              <a:off x="8001000" y="42670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01000" y="518148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772400" y="42670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8534520" y="47242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534520" y="42670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72400" y="472428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772400" y="3276720"/>
            <a:ext cx="990720" cy="914400"/>
            <a:chOff x="7772400" y="3276720"/>
            <a:chExt cx="990720" cy="914400"/>
          </a:xfrm>
        </p:grpSpPr>
        <p:sp>
          <p:nvSpPr>
            <p:cNvPr id="662" name=""/>
            <p:cNvSpPr/>
            <p:nvPr/>
          </p:nvSpPr>
          <p:spPr>
            <a:xfrm>
              <a:off x="8001000" y="32767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01000" y="4191120"/>
              <a:ext cx="53352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7772400" y="32767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8534520" y="37339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534520" y="32767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772400" y="3733920"/>
              <a:ext cx="228600" cy="4572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ireless LANs: 802.11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ally wireless Ethernet in each ce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er cannot detect collision, so collision avoidance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ack after correct rece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goes through a basest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ed to the wired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supports other operating modes, e.g.  point coordination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tation controls the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end to specific stations and invite a station to transm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ion period for new stations to request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arely cleanly sepa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tter consumes bandwidth in multiple ce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frequencies helps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bility Suppor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61760" y="1984320"/>
            <a:ext cx="374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stations periodically invite new stations to join th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 stations listen for invite messages and basestations and select 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ly based on signal streng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 to be willing to leave old station, but avoid quick chan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62720" y="1981080"/>
            <a:ext cx="1371600" cy="1371600"/>
          </a:xfrm>
          <a:prstGeom prst="ellipse">
            <a:avLst/>
          </a:prstGeom>
          <a:noFill/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400800" y="2362320"/>
            <a:ext cx="1371600" cy="144756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81480" y="3048120"/>
            <a:ext cx="1676520" cy="167616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53080" y="3505320"/>
            <a:ext cx="1295640" cy="1371600"/>
          </a:xfrm>
          <a:prstGeom prst="ellipse">
            <a:avLst/>
          </a:prstGeom>
          <a:noFill/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4648320"/>
            <a:ext cx="1371600" cy="137160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81680" y="4572000"/>
            <a:ext cx="1143000" cy="114300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2514600"/>
            <a:ext cx="1371600" cy="137160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oduction to Networking: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he Internet Protocol - IP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ter Steenkis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of Computer 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ttp://www.cs.cmu.edu/~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But Many Things Happen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Under the Cover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rowser and client have to speak a common language (protocol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the server must be able to understand the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can lose packets, so the hosts must be able to recover lost pa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another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does not consist of a single network but of multiple diverse networ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area networks, ISPs, home access networks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networks must carry packets using very diverse technolog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ber, twisted pair, wireless, satellite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ddr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Name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net protoc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rnetwork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4" name=""/>
          <p:cNvSpPr/>
          <p:nvPr/>
        </p:nvSpPr>
        <p:spPr>
          <a:xfrm>
            <a:off x="1536840" y="3137040"/>
            <a:ext cx="181584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03520" y="4127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ver SO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17920" y="31370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60920" y="40514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499000" y="2984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460520" y="511812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651640" y="50418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D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80040" y="20700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802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98400" y="344160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80440" y="328932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14360" y="3664080"/>
            <a:ext cx="20340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334280" y="351144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80240" y="488952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80240" y="38988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32320" y="4432320"/>
            <a:ext cx="291960" cy="2905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98800" y="405144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55800" y="397512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55800" y="496584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70400" y="3441600"/>
            <a:ext cx="29232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37240" y="29844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89320" y="34416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27600" y="283212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85800" y="54100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01760" y="563256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505320" y="22096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21280" y="243216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0120" y="533412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473960" y="555624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72200" y="22096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26040" y="243216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rnetworking Issu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ing and addr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structure the name and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forwarding and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 a packet with an address, how do we get t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gment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versing networks with different maximum packet siz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inating IP-level activities in different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ditional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dressing in IP v4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96480" y="1679400"/>
            <a:ext cx="7162920" cy="220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48000"/>
          </a:bodyPr>
          <a:p>
            <a:pPr marL="137160" indent="-137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host has an internet addr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1094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128.2.209.1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es are hierarchi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1094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contains hint about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l design: 4 classes of subn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ddress space used to be assigned by the Internet Assigned Numbers Authority (IAN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1094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http://www.iana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92360" y="3695760"/>
            <a:ext cx="8110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29000" y="36957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52880" y="3695760"/>
            <a:ext cx="203220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98640" y="4394160"/>
            <a:ext cx="5105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4640" bIns="4464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dec" pos="1055520"/>
                <a:tab algn="dec" pos="2301840"/>
                <a:tab algn="dec" pos="4159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dec" pos="1055520"/>
                <a:tab algn="dec" pos="2301840"/>
                <a:tab algn="dec" pos="4159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dec" pos="1055520"/>
                <a:tab algn="dec" pos="2301840"/>
                <a:tab algn="dec" pos="4159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tabLst>
                <a:tab algn="l" pos="0"/>
                <a:tab algn="dec" pos="1055520"/>
                <a:tab algn="dec" pos="2301840"/>
                <a:tab algn="dec" pos="4159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      1110                      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otivation for Address Structur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ical structure gives a hint about the location that can be used to simplify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with postal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hat happens when your machine mov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assign subnet address spaces that are appropriate for the size of the organiz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mall number of large sp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smaller sp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what happens when your organization grow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D corresponds to multica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 address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P Addressing: Problem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NA was running out of class C addr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-based addressing does not use space effici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tables in the network core grow too fast as a result of the success of the Inter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 many network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out of IP address space: too many h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-bit address is not sufficient on the long ru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ion of solu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less Inter-Domain Routing (CID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address assig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with 128 bi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hort-term Solutions to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dress Space Crunch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9648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ssignment of IP addr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 an IP address for duration that it is needed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dial up 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supported by the Dynamic Host Configuration Protocol (DHC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private address spa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large organizations have hosts that do not need direct access to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talk to other host in the organization, 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application level gateways to talk to hosts outside of the orga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ANA set aside blocks of address space for use inside such organiz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-21024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Network Address Translation (NAT) boxes (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lassless Inter-Domain Routing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(CIDR)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96480" y="19051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ddress space more efficiently by relaxing the strict address struc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of network address is vari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of network can be made to fit size of organ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internet service providers hand out blocks of addresses to their custom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s the size of the address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exceptions to CID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organizations, organizations with multiple ISPs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overall it has been very success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5029200" y="2209680"/>
            <a:ext cx="3276720" cy="411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Does Routing Do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404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 specifies how routers jointly collect information about the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ting protocols must be standard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algorithm uses network information to select appropriate routes and to set up the routing 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forwarding engine performs route lookup in the routing 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which interface should a packet be forwarded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81480" y="4343400"/>
            <a:ext cx="2971800" cy="18288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72200" y="4876920"/>
            <a:ext cx="990720" cy="838080"/>
          </a:xfrm>
          <a:prstGeom prst="rect">
            <a:avLst/>
          </a:prstGeom>
          <a:solidFill>
            <a:srgbClr val="fe9b03"/>
          </a:solidFill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o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4495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7242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81480" y="43434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24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724280" y="510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81480" y="48006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7242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724280" y="5562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181480" y="52578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2428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242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81480" y="57150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8153280" y="4495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815328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696080" y="43434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8153280" y="4952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8153280" y="510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696080" y="48006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8153280" y="5410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8153280" y="5562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7696080" y="52578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815328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81532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7696080" y="5715000"/>
            <a:ext cx="457200" cy="4572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81480" y="2362320"/>
            <a:ext cx="2971800" cy="18288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86400" y="2514600"/>
            <a:ext cx="1143000" cy="6094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6400" y="3429000"/>
            <a:ext cx="1143000" cy="6094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01992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3124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095880" y="4038480"/>
            <a:ext cx="5335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934320" y="2895480"/>
            <a:ext cx="1066680" cy="609840"/>
          </a:xfrm>
          <a:prstGeom prst="rect">
            <a:avLst/>
          </a:prstGeom>
          <a:solidFill>
            <a:srgbClr val="ffc5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093280" y="19810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ing 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26560" y="156204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 rou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Packet Forwarding based on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etwork Identifier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9" name=""/>
          <p:cNvSpPr/>
          <p:nvPr/>
        </p:nvSpPr>
        <p:spPr>
          <a:xfrm>
            <a:off x="1536840" y="3137040"/>
            <a:ext cx="181584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03520" y="4127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S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517920" y="31370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S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60920" y="40514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S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99000" y="298440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60520" y="511812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651640" y="50418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280040" y="207000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98400" y="344160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480440" y="328932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314360" y="3664080"/>
            <a:ext cx="20340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4280" y="351144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80240" y="488952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880240" y="38988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32320" y="4432320"/>
            <a:ext cx="291960" cy="2905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98800" y="405144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55800" y="397512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55800" y="496584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3441600"/>
            <a:ext cx="29232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737240" y="29844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289320" y="344160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27600" y="283212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54100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301760" y="563256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505320" y="22096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121280" y="243216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620120" y="533412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73960" y="555624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72200" y="220968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026040" y="243216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941040" y="5867280"/>
            <a:ext cx="1038960" cy="368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Ne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371600" y="3581280"/>
            <a:ext cx="6095880" cy="2133360"/>
            <a:chOff x="1371600" y="3581280"/>
            <a:chExt cx="6095880" cy="2133360"/>
          </a:xfrm>
        </p:grpSpPr>
        <p:sp>
          <p:nvSpPr>
            <p:cNvPr id="801" name=""/>
            <p:cNvSpPr/>
            <p:nvPr/>
          </p:nvSpPr>
          <p:spPr>
            <a:xfrm flipV="1">
              <a:off x="1371600" y="5105160"/>
              <a:ext cx="1371600" cy="609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4191120" y="3657600"/>
              <a:ext cx="1066680" cy="3808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3048120" y="4343040"/>
              <a:ext cx="838080" cy="60948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5562720" y="3581280"/>
              <a:ext cx="1904760" cy="763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51200" y="1523880"/>
            <a:ext cx="2169720" cy="1556280"/>
            <a:chOff x="151200" y="1523880"/>
            <a:chExt cx="2169720" cy="1556280"/>
          </a:xfrm>
        </p:grpSpPr>
        <p:sp>
          <p:nvSpPr>
            <p:cNvPr id="806" name=""/>
            <p:cNvSpPr/>
            <p:nvPr/>
          </p:nvSpPr>
          <p:spPr>
            <a:xfrm>
              <a:off x="457200" y="1523880"/>
              <a:ext cx="838080" cy="30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7200" y="2133720"/>
              <a:ext cx="838080" cy="3045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7200" y="1828800"/>
              <a:ext cx="838080" cy="30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57200" y="2438280"/>
              <a:ext cx="838080" cy="30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295280" y="1523880"/>
              <a:ext cx="838440" cy="304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5280" y="2133720"/>
              <a:ext cx="838440" cy="30456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95280" y="1828800"/>
              <a:ext cx="838440" cy="304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95280" y="2438280"/>
              <a:ext cx="838440" cy="30492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1200" y="2681280"/>
              <a:ext cx="216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warding 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What Makes Networking Hard?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95280" y="3657600"/>
            <a:ext cx="6773400" cy="1242000"/>
            <a:chOff x="1295280" y="3657600"/>
            <a:chExt cx="6773400" cy="1242000"/>
          </a:xfrm>
        </p:grpSpPr>
        <p:grpSp>
          <p:nvGrpSpPr>
            <p:cNvPr id="58" name=""/>
            <p:cNvGrpSpPr/>
            <p:nvPr/>
          </p:nvGrpSpPr>
          <p:grpSpPr>
            <a:xfrm>
              <a:off x="1295280" y="3657600"/>
              <a:ext cx="6773400" cy="1242000"/>
              <a:chOff x="1295280" y="3657600"/>
              <a:chExt cx="6773400" cy="1242000"/>
            </a:xfrm>
          </p:grpSpPr>
          <p:sp>
            <p:nvSpPr>
              <p:cNvPr id="59" name=""/>
              <p:cNvSpPr/>
              <p:nvPr/>
            </p:nvSpPr>
            <p:spPr>
              <a:xfrm>
                <a:off x="6986520" y="4610880"/>
                <a:ext cx="716400" cy="13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7207560" y="4078440"/>
                <a:ext cx="57132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36280" y="4243320"/>
                <a:ext cx="74160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040640" y="4365360"/>
                <a:ext cx="497520" cy="42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4098240" y="4357080"/>
                <a:ext cx="9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537800" y="4365360"/>
                <a:ext cx="599400" cy="42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4553640" y="4235760"/>
                <a:ext cx="1589400" cy="575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181200" y="4235760"/>
                <a:ext cx="93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181200" y="4243320"/>
                <a:ext cx="792360" cy="35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181200" y="4227840"/>
                <a:ext cx="939600" cy="53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6249960" y="4595760"/>
                <a:ext cx="650160" cy="164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3362760" y="3779280"/>
                <a:ext cx="1345680" cy="385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47600" y="3974760"/>
                <a:ext cx="279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904040" y="4195080"/>
                <a:ext cx="411480" cy="43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685840" y="3926520"/>
                <a:ext cx="548640" cy="30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86400" y="3779280"/>
                <a:ext cx="1190880" cy="16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16240" y="4195080"/>
                <a:ext cx="497520" cy="43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2374200" y="4187520"/>
                <a:ext cx="9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2813400" y="4197960"/>
                <a:ext cx="599400" cy="42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413520" y="4197960"/>
                <a:ext cx="568440" cy="13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828880" y="4329360"/>
                <a:ext cx="1300320" cy="31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278080" y="3771720"/>
                <a:ext cx="756720" cy="37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987000" y="3865680"/>
                <a:ext cx="670320" cy="44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1538640" y="4235760"/>
                <a:ext cx="7617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83240" y="3837240"/>
                <a:ext cx="403560" cy="49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74200" y="4266360"/>
                <a:ext cx="1068840" cy="524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35160" y="3771720"/>
                <a:ext cx="329760" cy="41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5229360" y="4228200"/>
                <a:ext cx="9367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26440" y="414432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512120" y="463140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635920" y="450936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03000" y="414432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927400" y="414432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927400" y="463140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952160" y="418536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64360" y="369828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43040" y="463140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36440" y="381996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20560" y="406332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9680" y="4266360"/>
                <a:ext cx="390960" cy="20232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57960" y="365760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80960" y="4509360"/>
                <a:ext cx="390960" cy="2026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4520" y="426636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4520" y="390132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14320" y="450936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95280" y="424116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592280" y="3779280"/>
                <a:ext cx="434160" cy="26820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924560" y="3900600"/>
              <a:ext cx="365760" cy="3650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290320" y="4144320"/>
              <a:ext cx="1097280" cy="1213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87600" y="4144680"/>
              <a:ext cx="609840" cy="243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997800" y="4266000"/>
              <a:ext cx="1097280" cy="1216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95080" y="4266000"/>
              <a:ext cx="974880" cy="4870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070320" y="4265640"/>
              <a:ext cx="974880" cy="4870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045560" y="4022280"/>
              <a:ext cx="853560" cy="243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256800" y="167652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4800" y="245268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9600" y="511956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57720" y="53341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1480" y="30481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98240" y="510552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ter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47280" y="2209680"/>
            <a:ext cx="203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ter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any protoc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3400" y="5638680"/>
            <a:ext cx="189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idge HW/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2440" y="199548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6760" y="243828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4680" y="464832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6000" y="495288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2362320"/>
            <a:ext cx="53352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828440" y="2895480"/>
            <a:ext cx="1522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62120" y="3962520"/>
            <a:ext cx="8380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00040" y="3429000"/>
            <a:ext cx="1522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05120" y="40381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3429000"/>
            <a:ext cx="152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647960" y="297180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895480"/>
            <a:ext cx="763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2057400"/>
            <a:ext cx="83808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924320" y="2819520"/>
            <a:ext cx="2286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8076960" y="4114800"/>
            <a:ext cx="60948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095880" y="4876920"/>
            <a:ext cx="15264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733920" y="4419720"/>
            <a:ext cx="1522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419720" y="4876920"/>
            <a:ext cx="7596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315200" y="4114800"/>
            <a:ext cx="38088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outing Requirement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s to large numbers of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mptotic properties mat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ust in the presence of failur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ized algorithms unacceptable because they form a single point of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errors should not result in disa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apts to changes in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 or node err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sensitive rou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s high quality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number of hops, low load, 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axonomy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5000"/>
          </a:bodyPr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ersus adaptive (load sensitiv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the route depend only on static topology information or also on the load condi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p-by-hop versus source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s determined one hop at a time or preplan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omputed versus on dema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s are looked up in a precomputed table or are calculated for each packet/connection requ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ized versus 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are how are routing decisions m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tate versus distance vect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mmonly used routing mechanis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ykstra’s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hortest Path Algorithm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356480" y="2670120"/>
            <a:ext cx="6275160" cy="2817360"/>
            <a:chOff x="1356480" y="2670120"/>
            <a:chExt cx="6275160" cy="2817360"/>
          </a:xfrm>
        </p:grpSpPr>
        <p:sp>
          <p:nvSpPr>
            <p:cNvPr id="821" name=""/>
            <p:cNvSpPr/>
            <p:nvPr/>
          </p:nvSpPr>
          <p:spPr>
            <a:xfrm>
              <a:off x="3308400" y="3057480"/>
              <a:ext cx="23112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0480" y="3660480"/>
              <a:ext cx="46116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356480" y="3660480"/>
              <a:ext cx="51300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622120" y="2670120"/>
              <a:ext cx="51300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08400" y="4962240"/>
              <a:ext cx="231120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33280" y="4573440"/>
              <a:ext cx="48708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42480" y="4573440"/>
              <a:ext cx="51300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1784520" y="3108240"/>
              <a:ext cx="1015920" cy="736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84520" y="4225680"/>
              <a:ext cx="1015920" cy="6336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127920" y="4174920"/>
              <a:ext cx="1015920" cy="73656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27920" y="3082680"/>
              <a:ext cx="1015920" cy="63504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054240" y="3311280"/>
              <a:ext cx="0" cy="132084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73760" y="3311280"/>
              <a:ext cx="0" cy="132084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3232080" y="3183840"/>
              <a:ext cx="2463840" cy="165132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232080" y="3235320"/>
              <a:ext cx="2463840" cy="154908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615000" y="297324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15000" y="457488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52880" y="373680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024080" y="267012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46320" y="335592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95480" y="433224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76720" y="503208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635200" y="388764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90720" y="320328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14400" y="4484520"/>
              <a:ext cx="351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01160" y="2670120"/>
              <a:ext cx="513000" cy="63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7086600" y="3584520"/>
            <a:ext cx="609480" cy="75888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5563440" y="2209680"/>
            <a:ext cx="668160" cy="3507480"/>
            <a:chOff x="5563440" y="2209680"/>
            <a:chExt cx="668160" cy="3507480"/>
          </a:xfrm>
        </p:grpSpPr>
        <p:sp>
          <p:nvSpPr>
            <p:cNvPr id="849" name=""/>
            <p:cNvSpPr/>
            <p:nvPr/>
          </p:nvSpPr>
          <p:spPr>
            <a:xfrm>
              <a:off x="5639400" y="531828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2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63440" y="220968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3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2667960" y="1905120"/>
            <a:ext cx="3487680" cy="3812040"/>
            <a:chOff x="2667960" y="1905120"/>
            <a:chExt cx="3487680" cy="3812040"/>
          </a:xfrm>
        </p:grpSpPr>
        <p:sp>
          <p:nvSpPr>
            <p:cNvPr id="852" name=""/>
            <p:cNvSpPr/>
            <p:nvPr/>
          </p:nvSpPr>
          <p:spPr>
            <a:xfrm>
              <a:off x="2744280" y="22096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5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67960" y="53182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6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563440" y="190512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3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667960" y="1905120"/>
            <a:ext cx="682200" cy="4208760"/>
            <a:chOff x="2667960" y="1905120"/>
            <a:chExt cx="682200" cy="4208760"/>
          </a:xfrm>
        </p:grpSpPr>
        <p:sp>
          <p:nvSpPr>
            <p:cNvPr id="856" name=""/>
            <p:cNvSpPr/>
            <p:nvPr/>
          </p:nvSpPr>
          <p:spPr>
            <a:xfrm>
              <a:off x="2667960" y="571500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6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744280" y="190512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5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666880" y="1905120"/>
            <a:ext cx="3505320" cy="3733200"/>
            <a:chOff x="2666880" y="1905120"/>
            <a:chExt cx="3505320" cy="3733200"/>
          </a:xfrm>
        </p:grpSpPr>
        <p:sp>
          <p:nvSpPr>
            <p:cNvPr id="859" name=""/>
            <p:cNvSpPr/>
            <p:nvPr/>
          </p:nvSpPr>
          <p:spPr>
            <a:xfrm>
              <a:off x="5563440" y="190512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3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743200" y="2361960"/>
              <a:ext cx="609480" cy="15228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62720" y="2590920"/>
              <a:ext cx="609480" cy="75888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2666880" y="5486040"/>
              <a:ext cx="609840" cy="15228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666880" y="1905120"/>
            <a:ext cx="685800" cy="4114800"/>
            <a:chOff x="2666880" y="1905120"/>
            <a:chExt cx="685800" cy="4114800"/>
          </a:xfrm>
        </p:grpSpPr>
        <p:sp>
          <p:nvSpPr>
            <p:cNvPr id="864" name=""/>
            <p:cNvSpPr/>
            <p:nvPr/>
          </p:nvSpPr>
          <p:spPr>
            <a:xfrm flipV="1">
              <a:off x="2666880" y="5867280"/>
              <a:ext cx="609840" cy="15264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745720" y="190512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5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43200" y="2590920"/>
              <a:ext cx="609480" cy="75888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86880" y="3809880"/>
            <a:ext cx="2588760" cy="2684880"/>
            <a:chOff x="686880" y="3809880"/>
            <a:chExt cx="2588760" cy="2684880"/>
          </a:xfrm>
        </p:grpSpPr>
        <p:sp>
          <p:nvSpPr>
            <p:cNvPr id="868" name=""/>
            <p:cNvSpPr/>
            <p:nvPr/>
          </p:nvSpPr>
          <p:spPr>
            <a:xfrm>
              <a:off x="2669760" y="60958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6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86880" y="38098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00"/>
                  </a:solidFill>
                  <a:latin typeface="Times New Roman"/>
                </a:rPr>
                <a:t>6,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"/>
          <p:cNvSpPr/>
          <p:nvPr/>
        </p:nvSpPr>
        <p:spPr>
          <a:xfrm>
            <a:off x="686880" y="4191120"/>
            <a:ext cx="605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6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685800" y="3962160"/>
            <a:ext cx="2590920" cy="2532600"/>
            <a:chOff x="685800" y="3962160"/>
            <a:chExt cx="2590920" cy="2532600"/>
          </a:xfrm>
        </p:grpSpPr>
        <p:sp>
          <p:nvSpPr>
            <p:cNvPr id="872" name=""/>
            <p:cNvSpPr/>
            <p:nvPr/>
          </p:nvSpPr>
          <p:spPr>
            <a:xfrm>
              <a:off x="2669760" y="609588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6,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685800" y="3962160"/>
              <a:ext cx="609480" cy="15228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66880" y="4495680"/>
              <a:ext cx="609840" cy="75888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688320" y="3657600"/>
            <a:ext cx="1216800" cy="932400"/>
            <a:chOff x="688320" y="3657600"/>
            <a:chExt cx="1216800" cy="932400"/>
          </a:xfrm>
        </p:grpSpPr>
        <p:sp>
          <p:nvSpPr>
            <p:cNvPr id="876" name=""/>
            <p:cNvSpPr/>
            <p:nvPr/>
          </p:nvSpPr>
          <p:spPr>
            <a:xfrm>
              <a:off x="688320" y="4191120"/>
              <a:ext cx="6058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6,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95280" y="3657600"/>
              <a:ext cx="609840" cy="75888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562720" y="2361960"/>
            <a:ext cx="668880" cy="3371040"/>
            <a:chOff x="5562720" y="2361960"/>
            <a:chExt cx="668880" cy="3371040"/>
          </a:xfrm>
        </p:grpSpPr>
        <p:sp>
          <p:nvSpPr>
            <p:cNvPr id="879" name=""/>
            <p:cNvSpPr/>
            <p:nvPr/>
          </p:nvSpPr>
          <p:spPr>
            <a:xfrm>
              <a:off x="5562720" y="4495680"/>
              <a:ext cx="609480" cy="762120"/>
            </a:xfrm>
            <a:prstGeom prst="ellipse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639400" y="5334120"/>
              <a:ext cx="592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Times New Roman"/>
                </a:rPr>
                <a:t>2, 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5562720" y="2361960"/>
              <a:ext cx="609480" cy="15228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Link State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7554960" cy="4122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node collects information about the network topology and link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periodically sends information about its immediate topology to all other nodes using floo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includes neighbors and link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ime-to-live field is used to expire old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 execute Dijkstra’s algorithm loc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local forwarding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ount of state information limits scalabi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ntire network topology is broadcasted over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node has to store the entire network top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looding Algorithm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al is to distribute information without knowing the topolog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ant for routing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ode sends the packet to all its neighb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ode drops incoming packets that are old or duplic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sequence numb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incoming packets are forwarded on all outgoing links, other than the one the packet came in 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6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791320" y="4876920"/>
            <a:ext cx="30456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238880" y="4876920"/>
            <a:ext cx="30492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086600" y="2514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324480" y="2666880"/>
            <a:ext cx="914400" cy="1219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7391160" y="3809880"/>
            <a:ext cx="685800" cy="1219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886200"/>
            <a:ext cx="1067040" cy="11430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943600" y="3886200"/>
            <a:ext cx="380880" cy="11430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238880" y="2666880"/>
            <a:ext cx="838440" cy="11430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943600" y="5029200"/>
            <a:ext cx="14479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172200" y="3733920"/>
            <a:ext cx="304920" cy="30456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171840" y="3124080"/>
            <a:ext cx="838440" cy="1600200"/>
            <a:chOff x="6171840" y="3124080"/>
            <a:chExt cx="838440" cy="1600200"/>
          </a:xfrm>
        </p:grpSpPr>
        <p:sp>
          <p:nvSpPr>
            <p:cNvPr id="898" name=""/>
            <p:cNvSpPr/>
            <p:nvPr/>
          </p:nvSpPr>
          <p:spPr>
            <a:xfrm flipV="1">
              <a:off x="6705720" y="3124080"/>
              <a:ext cx="304560" cy="457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05720" y="4114800"/>
              <a:ext cx="304560" cy="3808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171840" y="4267080"/>
              <a:ext cx="152280" cy="457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791320" y="2514600"/>
            <a:ext cx="1752480" cy="2666880"/>
            <a:chOff x="5791320" y="2514600"/>
            <a:chExt cx="1752480" cy="2666880"/>
          </a:xfrm>
        </p:grpSpPr>
        <p:grpSp>
          <p:nvGrpSpPr>
            <p:cNvPr id="902" name=""/>
            <p:cNvGrpSpPr/>
            <p:nvPr/>
          </p:nvGrpSpPr>
          <p:grpSpPr>
            <a:xfrm>
              <a:off x="5791320" y="2514600"/>
              <a:ext cx="1752480" cy="2666880"/>
              <a:chOff x="5791320" y="2514600"/>
              <a:chExt cx="1752480" cy="2666880"/>
            </a:xfrm>
          </p:grpSpPr>
          <p:sp>
            <p:nvSpPr>
              <p:cNvPr id="903" name=""/>
              <p:cNvSpPr/>
              <p:nvPr/>
            </p:nvSpPr>
            <p:spPr>
              <a:xfrm>
                <a:off x="7238880" y="4876920"/>
                <a:ext cx="304920" cy="30456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086600" y="2514600"/>
                <a:ext cx="304920" cy="30492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791320" y="4876920"/>
                <a:ext cx="304560" cy="30456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6171840" y="3124080"/>
              <a:ext cx="838440" cy="1600200"/>
              <a:chOff x="6171840" y="3124080"/>
              <a:chExt cx="838440" cy="1600200"/>
            </a:xfrm>
          </p:grpSpPr>
          <p:sp>
            <p:nvSpPr>
              <p:cNvPr id="907" name=""/>
              <p:cNvSpPr/>
              <p:nvPr/>
            </p:nvSpPr>
            <p:spPr>
              <a:xfrm flipV="1">
                <a:off x="6705720" y="3124080"/>
                <a:ext cx="304560" cy="4572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705720" y="4114800"/>
                <a:ext cx="304560" cy="38088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6171840" y="4267080"/>
                <a:ext cx="152280" cy="4572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0" name=""/>
          <p:cNvGrpSpPr/>
          <p:nvPr/>
        </p:nvGrpSpPr>
        <p:grpSpPr>
          <a:xfrm>
            <a:off x="6477120" y="3048120"/>
            <a:ext cx="1523880" cy="2057400"/>
            <a:chOff x="6477120" y="3048120"/>
            <a:chExt cx="1523880" cy="2057400"/>
          </a:xfrm>
        </p:grpSpPr>
        <p:sp>
          <p:nvSpPr>
            <p:cNvPr id="911" name=""/>
            <p:cNvSpPr/>
            <p:nvPr/>
          </p:nvSpPr>
          <p:spPr>
            <a:xfrm flipV="1">
              <a:off x="7696080" y="4190760"/>
              <a:ext cx="304920" cy="5331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20120" y="3048120"/>
              <a:ext cx="304560" cy="3808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77120" y="5105520"/>
              <a:ext cx="457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77120" y="4952880"/>
              <a:ext cx="457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6477120" y="3048120"/>
            <a:ext cx="1752480" cy="2057400"/>
            <a:chOff x="6477120" y="3048120"/>
            <a:chExt cx="1752480" cy="2057400"/>
          </a:xfrm>
        </p:grpSpPr>
        <p:sp>
          <p:nvSpPr>
            <p:cNvPr id="916" name=""/>
            <p:cNvSpPr/>
            <p:nvPr/>
          </p:nvSpPr>
          <p:spPr>
            <a:xfrm>
              <a:off x="7924680" y="3657600"/>
              <a:ext cx="304920" cy="30492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696080" y="4190760"/>
              <a:ext cx="304920" cy="5331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620120" y="3048120"/>
              <a:ext cx="304560" cy="3808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477120" y="5105520"/>
              <a:ext cx="457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77120" y="4952880"/>
              <a:ext cx="457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istance Vector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964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0000"/>
          </a:bodyPr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node knows its neighbors and the cost of getting to the neighb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node keeps a routing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 + cost + outgoing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node sends the (destination + cost) vector to its neighb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ming updates are used to execute one iteration of Dijkstra’s algorithm (Bellman-Ford algorith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that cost can sometimes increase: have to accept the higher cost from nodes that are on shortest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re updates sen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ever information changes: fast propa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7040" indent="-205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odically: provides robustness against node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Common Propert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7000"/>
          </a:bodyPr>
          <a:p>
            <a:pPr marL="248400" indent="-2484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urvive node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ack of) reachability information continues to propa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can result in temporary problems (e.g. routing loo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 to eliminate old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s st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s life time of err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ndan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s the system more robu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8400" indent="-2484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” sta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that is periodically upd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6520" indent="-19872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survive node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a short interruption of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ierarchical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29400" cy="4121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level routing based on intra-domain and inter-domain routing to improve scal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es the structure of the address space (next lecture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ven in part by business/management concer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network information is kept inter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s with specific service providers at bound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536840" y="4654440"/>
            <a:ext cx="181584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603520" y="564516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17920" y="465444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660920" y="556884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499000" y="450216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463840" y="373392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8400" y="495936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80440" y="480708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314360" y="5181480"/>
            <a:ext cx="20340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334280" y="5029200"/>
            <a:ext cx="12708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880240" y="541656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432320" y="5950080"/>
            <a:ext cx="291960" cy="2905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98800" y="5568840"/>
            <a:ext cx="29232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755800" y="549288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270400" y="4959360"/>
            <a:ext cx="29232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743200" y="449568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89320" y="495936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11760" y="4495680"/>
            <a:ext cx="291960" cy="29232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47880" y="593712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463840" y="615960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89120" y="387360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305080" y="409572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22920" y="586116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477120" y="6083280"/>
            <a:ext cx="12672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356000" y="3873600"/>
            <a:ext cx="596880" cy="44424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210200" y="4095720"/>
            <a:ext cx="12672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172200" y="47242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705720" y="48006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629400" y="51055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867280" y="48895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261120" y="519444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48769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00600" y="49528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724280" y="5257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962520" y="49528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80040" y="5257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8769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21040" y="5041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603520" y="51814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41400" y="49528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994040" y="5257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365640" y="38862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746520" y="41148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19520" y="42037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213000" y="43560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76720" y="58672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051440" y="60325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81280" y="60958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971800" y="59436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24080" y="62485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562720" y="59562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943600" y="586728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867280" y="61722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194440" y="579132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105520" y="6172200"/>
            <a:ext cx="139680" cy="139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4724280" y="5638320"/>
            <a:ext cx="1828800" cy="610200"/>
            <a:chOff x="4724280" y="5638320"/>
            <a:chExt cx="1828800" cy="610200"/>
          </a:xfrm>
        </p:grpSpPr>
        <p:sp>
          <p:nvSpPr>
            <p:cNvPr id="983" name=""/>
            <p:cNvSpPr/>
            <p:nvPr/>
          </p:nvSpPr>
          <p:spPr>
            <a:xfrm>
              <a:off x="5638680" y="6019920"/>
              <a:ext cx="228600" cy="1522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4724280" y="5638320"/>
              <a:ext cx="1828800" cy="610200"/>
              <a:chOff x="4724280" y="5638320"/>
              <a:chExt cx="1828800" cy="610200"/>
            </a:xfrm>
          </p:grpSpPr>
          <p:sp>
            <p:nvSpPr>
              <p:cNvPr id="985" name=""/>
              <p:cNvSpPr/>
              <p:nvPr/>
            </p:nvSpPr>
            <p:spPr>
              <a:xfrm flipV="1">
                <a:off x="4724280" y="5866920"/>
                <a:ext cx="457200" cy="22860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5638680" y="5638320"/>
                <a:ext cx="228600" cy="3049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34120" y="5867280"/>
                <a:ext cx="228600" cy="1526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5638680" y="5943600"/>
                <a:ext cx="304920" cy="763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257800" y="6248520"/>
                <a:ext cx="60948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5943600" y="6019560"/>
                <a:ext cx="76320" cy="15228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6019920" y="6095880"/>
                <a:ext cx="533160" cy="1526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5181480" y="5943240"/>
                <a:ext cx="76320" cy="22860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6019920" y="5714640"/>
                <a:ext cx="75960" cy="15228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724280" y="6172200"/>
                <a:ext cx="381240" cy="7632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5" name=""/>
          <p:cNvGrpSpPr/>
          <p:nvPr/>
        </p:nvGrpSpPr>
        <p:grpSpPr>
          <a:xfrm>
            <a:off x="2895480" y="4572000"/>
            <a:ext cx="3200400" cy="1523880"/>
            <a:chOff x="2895480" y="4572000"/>
            <a:chExt cx="3200400" cy="1523880"/>
          </a:xfrm>
        </p:grpSpPr>
        <p:sp>
          <p:nvSpPr>
            <p:cNvPr id="996" name=""/>
            <p:cNvSpPr/>
            <p:nvPr/>
          </p:nvSpPr>
          <p:spPr>
            <a:xfrm flipV="1">
              <a:off x="2895480" y="5105520"/>
              <a:ext cx="457200" cy="38088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4038480" y="4723920"/>
              <a:ext cx="76320" cy="83844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048120" y="5715000"/>
              <a:ext cx="838080" cy="7632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95480" y="5715000"/>
              <a:ext cx="1524240" cy="38088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3505320" y="4723920"/>
              <a:ext cx="457200" cy="38124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971800" y="4572000"/>
              <a:ext cx="990720" cy="7632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4114800" y="5105160"/>
              <a:ext cx="1143000" cy="53316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86400" y="5029200"/>
              <a:ext cx="609480" cy="45720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4724280" y="5638680"/>
              <a:ext cx="1219320" cy="45720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114800" y="5791320"/>
              <a:ext cx="304920" cy="22860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191120" y="4724280"/>
              <a:ext cx="1066680" cy="304920"/>
            </a:xfrm>
            <a:prstGeom prst="line">
              <a:avLst/>
            </a:prstGeom>
            <a:ln w="50760">
              <a:solidFill>
                <a:srgbClr val="fe9b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ra- versus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nter-domain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concerns itself with routing inside the autonomous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ween two hosts in the 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ween host and boundary rou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ween two boundary rou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know about the structure of the world outside the 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undary routers represent the connectivity to the outside wor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54440" y="2133720"/>
            <a:ext cx="3803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concerns itself with routing between boundary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livious to the internal structure of the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-router links can be physical or virtu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= single lin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rtual = path consisting of sequence of lin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intra-domain routing for packet transport between boundary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virtual lin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70880" y="146376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Intra-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469840" y="1463760"/>
            <a:ext cx="25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Inter-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Information Protocol (RIP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est-hop distance vector protocol for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domain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Shortest Path First (OSPF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, load balancing, multiple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-domain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der Gateway Protocol (BGP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tises complete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domain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 PNNI protocol: multi-level hierarchical link state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sensi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 Layer Network Mode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933480" y="1644480"/>
            <a:ext cx="73152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720" rIns="63720" tIns="25560" bIns="25560" anchor="t">
            <a:spAutoFit/>
          </a:bodyPr>
          <a:p>
            <a:pPr marL="343080" indent="-343080">
              <a:lnSpc>
                <a:spcPct val="97000"/>
              </a:lnSpc>
              <a:spcBef>
                <a:spcPts val="2900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n Systems Interconnection (OSI)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540160"/>
            <a:ext cx="1498680" cy="431640"/>
          </a:xfrm>
          <a:prstGeom prst="rect">
            <a:avLst/>
          </a:prstGeom>
          <a:solidFill>
            <a:srgbClr val="fc0128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9973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4545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9117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368960"/>
            <a:ext cx="149868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261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2833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1760" y="53722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760" y="49150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1760" y="44578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1760" y="40006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760" y="35434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1760" y="30844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1760" y="2629080"/>
            <a:ext cx="254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720" rIns="637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49560" y="4349880"/>
            <a:ext cx="149868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49560" y="480708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49560" y="526428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547992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502272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56552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736720"/>
            <a:ext cx="4190760" cy="129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69080" y="2540160"/>
            <a:ext cx="1498680" cy="431640"/>
          </a:xfrm>
          <a:prstGeom prst="rect">
            <a:avLst/>
          </a:prstGeom>
          <a:solidFill>
            <a:srgbClr val="fc0128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9080" y="29973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69080" y="34545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69080" y="3911760"/>
            <a:ext cx="1498680" cy="43164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4368960"/>
            <a:ext cx="1498680" cy="4302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69080" y="48261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69080" y="5283360"/>
            <a:ext cx="1498680" cy="4316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549900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504180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4584600"/>
            <a:ext cx="132084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3206880"/>
            <a:ext cx="4190760" cy="12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664080"/>
            <a:ext cx="4190760" cy="12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4121280"/>
            <a:ext cx="4190760" cy="126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ulticas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30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s sent by a sender are received by more than one recei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replicates the pac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the communication overhead on the sender, making it possible to send to a large number of rece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reduces bandwidth consumption in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issues/challeng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(receiver) multicast group membership manag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route packe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routers forward multicast packe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ulticast Rout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on” of point-to-point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 message over shared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tions possible but difficult if the receivers are not know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used in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2540160" y="4552560"/>
            <a:ext cx="939600" cy="6606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432160" y="5181480"/>
            <a:ext cx="1352520" cy="362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835440" y="5181120"/>
            <a:ext cx="882720" cy="4143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35440" y="5595840"/>
            <a:ext cx="1092240" cy="4809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530520" y="4578480"/>
            <a:ext cx="109224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4749840" y="4171680"/>
            <a:ext cx="863640" cy="43164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673520" y="4603680"/>
            <a:ext cx="1015920" cy="3301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664240" y="3885840"/>
            <a:ext cx="1492200" cy="3366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664240" y="4222800"/>
            <a:ext cx="958680" cy="2728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5740560" y="4800600"/>
            <a:ext cx="1415880" cy="18432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816520" y="4984920"/>
            <a:ext cx="959040" cy="42516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978440" y="5466960"/>
            <a:ext cx="711000" cy="6606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978440" y="6127920"/>
            <a:ext cx="2178000" cy="12060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870440" y="5695560"/>
            <a:ext cx="1276200" cy="47628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46560" y="4419720"/>
            <a:ext cx="30456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010280" y="3740040"/>
            <a:ext cx="381240" cy="38124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19920" y="5492880"/>
            <a:ext cx="38088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0" y="5035680"/>
            <a:ext cx="38088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934320" y="6026040"/>
            <a:ext cx="380880" cy="38124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553080" y="5264280"/>
            <a:ext cx="38124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477120" y="4349880"/>
            <a:ext cx="38088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934320" y="4654440"/>
            <a:ext cx="380880" cy="38124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638680" y="5264280"/>
            <a:ext cx="38124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632560" y="4800600"/>
            <a:ext cx="30456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79920" y="40384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65520" y="4419720"/>
            <a:ext cx="304920" cy="3045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51120" y="541008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94120" y="5943600"/>
            <a:ext cx="30492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65120" y="5181480"/>
            <a:ext cx="109224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400480" y="5022720"/>
            <a:ext cx="304560" cy="30492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289160" y="5029200"/>
            <a:ext cx="380880" cy="380880"/>
          </a:xfrm>
          <a:prstGeom prst="ellipse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Group Managemen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89000"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strategy depends on us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quickly does membership chan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ions on memb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of the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: focus on large groups that can change rapidly and with little control over membershi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algorithm (scalability, ag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-initiated management (scalability, ag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er does not have list of receivers (scalability, ag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Group Management Protocol (IGMP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s jointly keep track of member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es on multicast (e.g. Ethernet) in leaf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defines how receivers contact routers to join a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Hop-by-Hop Packet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orwarding in the Internet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52" name=""/>
          <p:cNvSpPr/>
          <p:nvPr/>
        </p:nvSpPr>
        <p:spPr>
          <a:xfrm>
            <a:off x="1841400" y="198108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09880" y="1981080"/>
            <a:ext cx="1816200" cy="97812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803920" y="1994040"/>
            <a:ext cx="1816200" cy="977760"/>
          </a:xfrm>
          <a:prstGeom prst="ellipse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03320" y="228600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785000" y="2298600"/>
            <a:ext cx="596880" cy="444600"/>
          </a:xfrm>
          <a:prstGeom prst="rect">
            <a:avLst/>
          </a:prstGeom>
          <a:solidFill>
            <a:srgbClr val="3365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619280" y="2508120"/>
            <a:ext cx="20304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639200" y="2521080"/>
            <a:ext cx="12672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575320" y="228600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94240" y="2286000"/>
            <a:ext cx="291960" cy="291960"/>
          </a:xfrm>
          <a:prstGeom prst="rect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819520" y="474012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143000" y="3368520"/>
            <a:ext cx="304920" cy="3049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05320" y="405432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209680" y="474012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324480" y="474012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010280" y="4740120"/>
            <a:ext cx="228600" cy="228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362320" y="4968720"/>
            <a:ext cx="53316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lnTo>
                  <a:pt x="0" y="192"/>
                </a:lnTo>
                <a:lnTo>
                  <a:pt x="336" y="192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477120" y="4968720"/>
            <a:ext cx="60948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lnTo>
                  <a:pt x="0" y="192"/>
                </a:lnTo>
                <a:lnTo>
                  <a:pt x="336" y="192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71800" y="4435560"/>
            <a:ext cx="60948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336"/>
                </a:moveTo>
                <a:lnTo>
                  <a:pt x="0" y="528"/>
                </a:lnTo>
                <a:lnTo>
                  <a:pt x="432" y="528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638680" y="405432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5943600" y="4435560"/>
            <a:ext cx="457200" cy="83808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336"/>
                </a:moveTo>
                <a:lnTo>
                  <a:pt x="0" y="528"/>
                </a:lnTo>
                <a:lnTo>
                  <a:pt x="432" y="528"/>
                </a:lnTo>
                <a:lnTo>
                  <a:pt x="432" y="0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924680" y="3368520"/>
            <a:ext cx="304920" cy="30492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295280" y="3673440"/>
            <a:ext cx="990720" cy="1600200"/>
          </a:xfrm>
          <a:custGeom>
            <a:avLst/>
            <a:gdLst/>
            <a:ahLst/>
            <a:rect l="l" t="t" r="r" b="b"/>
            <a:pathLst>
              <a:path w="720" h="1008">
                <a:moveTo>
                  <a:pt x="0" y="0"/>
                </a:moveTo>
                <a:lnTo>
                  <a:pt x="0" y="1008"/>
                </a:lnTo>
                <a:lnTo>
                  <a:pt x="720" y="1008"/>
                </a:lnTo>
                <a:lnTo>
                  <a:pt x="720" y="816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162920" y="3673440"/>
            <a:ext cx="914400" cy="1600200"/>
          </a:xfrm>
          <a:custGeom>
            <a:avLst/>
            <a:gdLst/>
            <a:ahLst/>
            <a:rect l="l" t="t" r="r" b="b"/>
            <a:pathLst>
              <a:path w="720" h="1008">
                <a:moveTo>
                  <a:pt x="0" y="0"/>
                </a:moveTo>
                <a:lnTo>
                  <a:pt x="0" y="1008"/>
                </a:lnTo>
                <a:lnTo>
                  <a:pt x="720" y="1008"/>
                </a:lnTo>
                <a:lnTo>
                  <a:pt x="720" y="816"/>
                </a:lnTo>
              </a:path>
            </a:pathLst>
          </a:custGeom>
          <a:noFill/>
          <a:ln w="2844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13840" y="3352680"/>
            <a:ext cx="308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038480" y="4038480"/>
            <a:ext cx="38124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572000" y="40384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105520" y="4038480"/>
            <a:ext cx="380880" cy="38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733920" y="4419720"/>
            <a:ext cx="38088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0" y="528"/>
                </a:lnTo>
                <a:lnTo>
                  <a:pt x="240" y="528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267080" y="441972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0" y="528"/>
                </a:lnTo>
                <a:lnTo>
                  <a:pt x="240" y="528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876920" y="4419720"/>
            <a:ext cx="38088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0" y="528"/>
                </a:lnTo>
                <a:lnTo>
                  <a:pt x="240" y="528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410080" y="4419720"/>
            <a:ext cx="381240" cy="838080"/>
          </a:xfrm>
          <a:custGeom>
            <a:avLst/>
            <a:gdLst/>
            <a:ahLst/>
            <a:rect l="l" t="t" r="r" b="b"/>
            <a:pathLst>
              <a:path w="240" h="528">
                <a:moveTo>
                  <a:pt x="0" y="0"/>
                </a:moveTo>
                <a:lnTo>
                  <a:pt x="0" y="528"/>
                </a:lnTo>
                <a:lnTo>
                  <a:pt x="240" y="528"/>
                </a:lnTo>
                <a:lnTo>
                  <a:pt x="240" y="0"/>
                </a:lnTo>
              </a:path>
            </a:pathLst>
          </a:custGeom>
          <a:noFill/>
          <a:ln w="1908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 flipV="1">
            <a:off x="4723920" y="5257440"/>
            <a:ext cx="38124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1294920" y="5257440"/>
            <a:ext cx="38124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662840" y="5329080"/>
            <a:ext cx="2764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e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hop IP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04800" y="5319720"/>
            <a:ext cx="254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ute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going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ransl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 -&gt; (IP) destination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look up: cache +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 address -&gt; next hop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up in routing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address -&gt; physical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resolution protocol (AR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bility: should work for large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ness: the right answer in a dynamic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ustness: can survive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: cac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omain Name System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96840" y="1752480"/>
            <a:ext cx="7385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“names” into IP addr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: adding new names, changing the name-address mapping, delete names, supporting short cuts, and sec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challenge is scale: large number of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 uses a hierarchical naming schem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waii.cmcl.cs.cmu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idea: a separate authority for the name y.z... manages the name space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y.z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MCL lab manage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cmcl.cs.cm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cience manage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cs.cm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U manages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cmu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ing authority is 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InterNIC for .com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NS Server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432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NS server is responsible for maintaining the name-address mapping in a specific doma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cs.cmu.ed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twork manager can add, remove, or change mapping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s can send requests to the server to translate a name into an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how do you find the server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ively contact the parent in the hierarchical name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ing is used to speed up the lookup of frequently used na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95880" y="3184560"/>
            <a:ext cx="1752840" cy="9907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6324480" y="4174920"/>
            <a:ext cx="0" cy="99036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7620120" y="4174920"/>
            <a:ext cx="0" cy="152388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223960" y="5214960"/>
            <a:ext cx="21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waii.cs.cm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789520" y="179712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DNS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324480" y="2193840"/>
            <a:ext cx="0" cy="99072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7620120" y="2193840"/>
            <a:ext cx="0" cy="9907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854400" y="57754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8.17.4.1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Name Lookup Example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Recursive Querie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5791320"/>
            <a:ext cx="175248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cs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14400" y="4419720"/>
            <a:ext cx="175248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657600" y="1828800"/>
            <a:ext cx="175248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ot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867280" y="3352680"/>
            <a:ext cx="175284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cb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867280" y="4724280"/>
            <a:ext cx="1752840" cy="68580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.ucb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1447920" y="51051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05520" y="2514600"/>
            <a:ext cx="152388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1599840" y="2514600"/>
            <a:ext cx="2438280" cy="1905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133720" y="51051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9880" y="198108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cs.ucb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867280" y="5867280"/>
            <a:ext cx="175284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cs.ucb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1904760" y="2514600"/>
            <a:ext cx="243828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6400800" y="403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7086600" y="403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724280" y="2514600"/>
            <a:ext cx="152424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RP: 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Address Resolution Protocol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242640" y="1668600"/>
            <a:ext cx="4405320" cy="4122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ver physical address given an internet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 request to nodes on local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ation will respond with MAC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nation saves internet + physical address of requesting 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ode keeps cache to limit overhe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out old ent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roadcast LANs often use ARP serv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MA ARP (NARP) for non-broadcast, multi-acc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365800" y="3359160"/>
            <a:ext cx="307332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35880" y="351144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702560" y="351144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68840" y="3511440"/>
            <a:ext cx="457200" cy="4572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574600" y="2970360"/>
            <a:ext cx="29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641640" y="2970360"/>
            <a:ext cx="29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712640" y="2970360"/>
            <a:ext cx="284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71240" y="56880"/>
            <a:ext cx="7173720" cy="1144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Pv4 Protocol Function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174080" cy="4121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layer that is not end to 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less best-effort packet delive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er shows what functions are provi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836800" y="3827520"/>
            <a:ext cx="8906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/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753000" y="3827520"/>
            <a:ext cx="8888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667400" y="3827520"/>
            <a:ext cx="18032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836800" y="4210200"/>
            <a:ext cx="180504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67400" y="4210200"/>
            <a:ext cx="180324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ags/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836800" y="4589640"/>
            <a:ext cx="8906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753000" y="4589640"/>
            <a:ext cx="8888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7400" y="4589640"/>
            <a:ext cx="18032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.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836800" y="4971960"/>
            <a:ext cx="3633840" cy="3542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836800" y="5351400"/>
            <a:ext cx="3633840" cy="3571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ination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836800" y="5734080"/>
            <a:ext cx="3633840" cy="3538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tions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SI Function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Physical: transmission of a bit strea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 Data link: flow control, framing, error det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 Network: switching and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 Transport: reliable end to end delive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5) Session: managing logical conne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6) Presentation: data transform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7) Application: specific uses, e.g. mail, file transfer, telnet, network manage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88200" y="5799240"/>
            <a:ext cx="6269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xing takes place in multiple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ultiplexing and</a:t>
            </a:r>
            <a:br>
              <a:rPr sz="3600"/>
            </a:b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Demultiplex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 field specifies which transport protocol (layer 4) should interpret the pack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identifiers are controlled by I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orm of multiplexing and demultiplexing happens at each lay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Link Control (LLC) header in datalink layer (layer 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467480" y="3962520"/>
            <a:ext cx="9144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7620120" y="3733560"/>
            <a:ext cx="30456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924680" y="37335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7924680" y="3657240"/>
            <a:ext cx="0" cy="30492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467480" y="3276720"/>
            <a:ext cx="9144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 flipV="1">
            <a:off x="7620120" y="3047760"/>
            <a:ext cx="30456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7924680" y="30477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7924680" y="2971440"/>
            <a:ext cx="0" cy="30492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86400" y="3962520"/>
            <a:ext cx="9144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638320" y="37335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5943600" y="37335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943600" y="3657240"/>
            <a:ext cx="0" cy="30492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486400" y="3276720"/>
            <a:ext cx="914400" cy="3808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 flipV="1">
            <a:off x="5638320" y="30477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5943600" y="3047760"/>
            <a:ext cx="304920" cy="22860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943600" y="2971440"/>
            <a:ext cx="0" cy="304920"/>
          </a:xfrm>
          <a:prstGeom prst="line">
            <a:avLst/>
          </a:prstGeom>
          <a:ln w="1908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943600" y="4343400"/>
            <a:ext cx="1981080" cy="380880"/>
          </a:xfrm>
          <a:custGeom>
            <a:avLst/>
            <a:gdLst/>
            <a:ahLst/>
            <a:rect l="l" t="t" r="r" b="b"/>
            <a:pathLst>
              <a:path w="1248" h="240">
                <a:moveTo>
                  <a:pt x="0" y="0"/>
                </a:moveTo>
                <a:lnTo>
                  <a:pt x="0" y="240"/>
                </a:lnTo>
                <a:lnTo>
                  <a:pt x="1248" y="240"/>
                </a:lnTo>
                <a:lnTo>
                  <a:pt x="1248" y="0"/>
                </a:ln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Time to liv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drop packets that are stuck in an infinite loop in the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ppen because of route inconsist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ment TTL field in each hop and drop packet if it reaches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eld is initialized by se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outer that drops the packet notifies the send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as basis for trace too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sequence of packets with TTL set to 1, 2, 3, .. until the destination is reac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of ICMP replies identifies current ro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ragment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834840" y="1809360"/>
            <a:ext cx="7242120" cy="413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networks have a different maximum transfer unit (MTU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blem can occur if packet is routed onto network with a smaller MT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FDDI (4500B) onto Ethernet (1500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break packet into smaller frag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fragment has identifier and sequence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 reassembles packet before handing it up in the stac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ive would be to reassemble when entering network with larger MT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er can disable fragmentation using fla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Fragmentation Example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63" name=""/>
          <p:cNvSpPr/>
          <p:nvPr/>
        </p:nvSpPr>
        <p:spPr>
          <a:xfrm>
            <a:off x="2222640" y="2222640"/>
            <a:ext cx="901440" cy="52056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213000" y="2222640"/>
            <a:ext cx="4178520" cy="52056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22440" y="4203720"/>
            <a:ext cx="901440" cy="5191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612800" y="4203720"/>
            <a:ext cx="1435320" cy="519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508640" y="4203720"/>
            <a:ext cx="1434960" cy="519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251840" y="4203720"/>
            <a:ext cx="1282680" cy="519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441600" y="4203720"/>
            <a:ext cx="901800" cy="5191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261120" y="4203720"/>
            <a:ext cx="901800" cy="519120"/>
          </a:xfrm>
          <a:prstGeom prst="rect">
            <a:avLst/>
          </a:prstGeom>
          <a:solidFill>
            <a:srgbClr val="919191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1593720" y="2762280"/>
            <a:ext cx="162576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3041640" y="2762280"/>
            <a:ext cx="162576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4489560" y="2762280"/>
            <a:ext cx="17784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937120" y="2762280"/>
            <a:ext cx="17784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14960" y="2762280"/>
            <a:ext cx="111780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410600" y="2762280"/>
            <a:ext cx="1117440" cy="142236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99000" y="5575320"/>
            <a:ext cx="1206720" cy="52056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755800" y="5575320"/>
            <a:ext cx="1816200" cy="52056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660920" y="5575320"/>
            <a:ext cx="749160" cy="52056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rot="10800000">
            <a:off x="1072080" y="3920760"/>
            <a:ext cx="3174480" cy="195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443" swAng="5403443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443" swAng="5403443"/>
              </a:path>
            </a:pathLst>
          </a:custGeom>
          <a:noFill/>
          <a:ln cap="rnd" w="255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5054760" y="2743200"/>
            <a:ext cx="3632040" cy="66024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CMP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996840" y="1983960"/>
            <a:ext cx="3422880" cy="4264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Control Message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errors to sen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ire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ired packe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gmentation probl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used as the basis for tracing and information retriev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054760" y="3429000"/>
            <a:ext cx="8888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969160" y="3429000"/>
            <a:ext cx="8888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883560" y="3429000"/>
            <a:ext cx="1803240" cy="35568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054760" y="3809880"/>
            <a:ext cx="3632040" cy="66060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MP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P v6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6840" y="1746360"/>
            <a:ext cx="4343400" cy="4883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generation” 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urgent issue: increasing address sp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8 bit address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ified header for faster proc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ther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for guaranteed services: priority and flow 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s handled as “next header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s overhead of handling o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027760" y="2362320"/>
            <a:ext cx="890280" cy="357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/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943600" y="2362320"/>
            <a:ext cx="2741760" cy="357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9200" y="2819520"/>
            <a:ext cx="1805040" cy="35388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858000" y="2819520"/>
            <a:ext cx="888840" cy="357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772400" y="2819520"/>
            <a:ext cx="914400" cy="35712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p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029200" y="3276720"/>
            <a:ext cx="3657600" cy="137160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29200" y="4722840"/>
            <a:ext cx="3657600" cy="1371600"/>
          </a:xfrm>
          <a:prstGeom prst="rect">
            <a:avLst/>
          </a:prstGeom>
          <a:solidFill>
            <a:srgbClr val="114ffb"/>
          </a:solidFill>
          <a:ln w="0">
            <a:noFill/>
          </a:ln>
          <a:effectLst>
            <a:outerShdw dist="63504" dir="2216091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tination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IPv6 Addressing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996480" y="198396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 bit addresses with complex struc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format for local configuration, geographical addressing, IPv4 backwards compatible, 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r-based unicast addressing extends the format used in IPv4 with CI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058840" y="5105520"/>
            <a:ext cx="11430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295280" y="5105520"/>
            <a:ext cx="6876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278160" y="5105520"/>
            <a:ext cx="114300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935760" y="5105520"/>
            <a:ext cx="60948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943600" y="5105520"/>
            <a:ext cx="91584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97480" y="5105520"/>
            <a:ext cx="1407960" cy="609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cr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Migration from IPv4 to IPv6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4000"/>
          </a:bodyPr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with IP v4 is necessary for gradual deploy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echanism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stack operation: IP v6 nodes support both address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ing: tunnel IP v6 packets through IP v4 clou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fortunately there is little motivation for any one organization to move to IP v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allenge is the existing hosts (using IPv4 address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benefit unless one can consistently use IP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no longer talk to IPv4 n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tching address space through address translation seems to work reasonably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Some Tools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96480" y="1984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: check whether a host exists and measure the roundtrip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odping: send as fast as you can - not very friend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route: find the path to a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ICMP, as described ear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char: more recent tool that tries to measure the bandwidth of each link on the path to a hos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ats on the network pretty heavi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lookup: uses DNS to find IP address of ho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OSI Motivation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16880" cy="4122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7000"/>
          </a:bodyPr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ayer provides services to the layer above, using services provided by the layer be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layer encapsulates/encodes/fragments data from the layer abo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two way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level protocols (e.g. TCP/IP, Appletalk) can run on multiple lower lay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higher level protocols can share a single physical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naturally creates independent modu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ers can be implemented and modified in iso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3365f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not true in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4114800"/>
            <a:ext cx="1447560" cy="1676520"/>
          </a:xfrm>
          <a:prstGeom prst="cloudCallout">
            <a:avLst>
              <a:gd name="adj1" fmla="val -44847"/>
              <a:gd name="adj2" fmla="val -2555"/>
            </a:avLst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191120"/>
            <a:ext cx="1447920" cy="1676160"/>
          </a:xfrm>
          <a:prstGeom prst="cloudCallout">
            <a:avLst>
              <a:gd name="adj1" fmla="val -44847"/>
              <a:gd name="adj2" fmla="val -2555"/>
            </a:avLst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4114800"/>
            <a:ext cx="1447920" cy="1676520"/>
          </a:xfrm>
          <a:prstGeom prst="cloudCallout">
            <a:avLst>
              <a:gd name="adj1" fmla="val -44847"/>
              <a:gd name="adj2" fmla="val -2555"/>
            </a:avLst>
          </a:prstGeom>
          <a:solidFill>
            <a:srgbClr val="c1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6480" y="774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4ffb"/>
                </a:solidFill>
                <a:latin typeface="Book Antiqua"/>
              </a:rPr>
              <a:t>Example Revisited</a:t>
            </a:r>
            <a:endParaRPr b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2457360"/>
            <a:ext cx="1498680" cy="89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69360" y="2457360"/>
            <a:ext cx="1498320" cy="895320"/>
          </a:xfrm>
          <a:prstGeom prst="rect">
            <a:avLst/>
          </a:prstGeom>
          <a:solidFill>
            <a:srgbClr val="114ffb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889360"/>
            <a:ext cx="5778720" cy="6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29400" y="4743360"/>
            <a:ext cx="2438280" cy="432000"/>
            <a:chOff x="6629400" y="4743360"/>
            <a:chExt cx="2438280" cy="432000"/>
          </a:xfrm>
        </p:grpSpPr>
        <p:sp>
          <p:nvSpPr>
            <p:cNvPr id="189" name=""/>
            <p:cNvSpPr/>
            <p:nvPr/>
          </p:nvSpPr>
          <p:spPr>
            <a:xfrm>
              <a:off x="7569360" y="4743360"/>
              <a:ext cx="149832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29400" y="4952880"/>
              <a:ext cx="90180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191120" y="4724280"/>
            <a:ext cx="2438280" cy="432000"/>
            <a:chOff x="4191120" y="4724280"/>
            <a:chExt cx="2438280" cy="432000"/>
          </a:xfrm>
        </p:grpSpPr>
        <p:sp>
          <p:nvSpPr>
            <p:cNvPr id="192" name=""/>
            <p:cNvSpPr/>
            <p:nvPr/>
          </p:nvSpPr>
          <p:spPr>
            <a:xfrm>
              <a:off x="5130720" y="472428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91120" y="4952880"/>
              <a:ext cx="90144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219560" y="24796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3165480"/>
            <a:ext cx="8839080" cy="638280"/>
            <a:chOff x="228600" y="3165480"/>
            <a:chExt cx="8839080" cy="638280"/>
          </a:xfrm>
        </p:grpSpPr>
        <p:sp>
          <p:nvSpPr>
            <p:cNvPr id="196" name=""/>
            <p:cNvSpPr/>
            <p:nvPr/>
          </p:nvSpPr>
          <p:spPr>
            <a:xfrm>
              <a:off x="228600" y="337176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9360" y="3371760"/>
              <a:ext cx="149832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2480" y="3581280"/>
              <a:ext cx="577872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27400" y="316548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c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28600" y="3622680"/>
            <a:ext cx="8839080" cy="638280"/>
            <a:chOff x="228600" y="3622680"/>
            <a:chExt cx="8839080" cy="638280"/>
          </a:xfrm>
        </p:grpSpPr>
        <p:sp>
          <p:nvSpPr>
            <p:cNvPr id="201" name=""/>
            <p:cNvSpPr/>
            <p:nvPr/>
          </p:nvSpPr>
          <p:spPr>
            <a:xfrm>
              <a:off x="228600" y="382896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9360" y="3828960"/>
              <a:ext cx="149832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2480" y="4038480"/>
              <a:ext cx="577872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22160" y="36226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" y="4079880"/>
            <a:ext cx="8839080" cy="636480"/>
            <a:chOff x="228600" y="4079880"/>
            <a:chExt cx="8839080" cy="636480"/>
          </a:xfrm>
        </p:grpSpPr>
        <p:sp>
          <p:nvSpPr>
            <p:cNvPr id="206" name=""/>
            <p:cNvSpPr/>
            <p:nvPr/>
          </p:nvSpPr>
          <p:spPr>
            <a:xfrm>
              <a:off x="228600" y="4286160"/>
              <a:ext cx="1498680" cy="4302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69360" y="4286160"/>
              <a:ext cx="1498320" cy="4302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30720" y="4267080"/>
              <a:ext cx="1498680" cy="4302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66880" y="4267080"/>
              <a:ext cx="1498680" cy="4302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4495680"/>
              <a:ext cx="91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52480" y="4495680"/>
              <a:ext cx="91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1120" y="4495680"/>
              <a:ext cx="91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65440" y="407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28600" y="4724280"/>
            <a:ext cx="3936960" cy="451080"/>
            <a:chOff x="228600" y="4724280"/>
            <a:chExt cx="3936960" cy="451080"/>
          </a:xfrm>
        </p:grpSpPr>
        <p:sp>
          <p:nvSpPr>
            <p:cNvPr id="215" name=""/>
            <p:cNvSpPr/>
            <p:nvPr/>
          </p:nvSpPr>
          <p:spPr>
            <a:xfrm>
              <a:off x="228600" y="474336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472428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52480" y="4952880"/>
              <a:ext cx="90180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28600" y="5181480"/>
            <a:ext cx="8839080" cy="451080"/>
            <a:chOff x="228600" y="5181480"/>
            <a:chExt cx="8839080" cy="451080"/>
          </a:xfrm>
        </p:grpSpPr>
        <p:sp>
          <p:nvSpPr>
            <p:cNvPr id="219" name=""/>
            <p:cNvSpPr/>
            <p:nvPr/>
          </p:nvSpPr>
          <p:spPr>
            <a:xfrm>
              <a:off x="228600" y="520056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69360" y="5200560"/>
              <a:ext cx="149832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518148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6880" y="5181480"/>
              <a:ext cx="1498680" cy="432000"/>
            </a:xfrm>
            <a:prstGeom prst="rect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29400" y="5410080"/>
              <a:ext cx="90180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2480" y="5410080"/>
              <a:ext cx="90180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1120" y="5410080"/>
              <a:ext cx="901440" cy="6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6T14:02:43Z</dcterms:created>
  <dc:creator>Campus User</dc:creator>
  <dc:description/>
  <dc:language>en-US</dc:language>
  <cp:lastModifiedBy>Valued Gateway Client</cp:lastModifiedBy>
  <cp:lastPrinted>2000-03-08T22:39:43Z</cp:lastPrinted>
  <dcterms:modified xsi:type="dcterms:W3CDTF">2000-09-25T14:14:10Z</dcterms:modified>
  <cp:revision>122</cp:revision>
  <dc:subject/>
  <dc:title>Darwin: Customizable  Resource Management for  Value-added Services  http://www.cs.cmu.edu/~darwin  </dc:title>
</cp:coreProperties>
</file>