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14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884760"/>
            <a:ext cx="685800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21333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8847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38847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220788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1760" y="2133360"/>
            <a:ext cx="220788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0160" y="2133360"/>
            <a:ext cx="220788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884760"/>
            <a:ext cx="220788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1760" y="3884760"/>
            <a:ext cx="220788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0160" y="3884760"/>
            <a:ext cx="220788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3346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2133360"/>
            <a:ext cx="3346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162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2133360"/>
            <a:ext cx="3346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8847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3346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21333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38847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2133360"/>
            <a:ext cx="334656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884760"/>
            <a:ext cx="6858000" cy="15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2858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2858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2858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4" marL="285840" indent="-2858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5" marL="2858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6" marL="2858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" name=""/>
          <p:cNvSpPr/>
          <p:nvPr/>
        </p:nvSpPr>
        <p:spPr>
          <a:xfrm>
            <a:off x="1041480" y="1752480"/>
            <a:ext cx="70610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00" y="6431040"/>
            <a:ext cx="217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Carnegie Mel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637480" y="6194520"/>
            <a:ext cx="38592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240" y="1320840"/>
            <a:ext cx="765828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3160" y="180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formation and Decision Systems for Supply Chain Management: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n Overview of Research within CIMDS/ICLL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9000" y="3743280"/>
            <a:ext cx="6634080" cy="17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tephen F. Smith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irector, Intelligent Coordination &amp; Logistics Laboratory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he Robotics Institute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ittsburgh PA 15213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fs@cs.cmu.edu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412-268-8811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414360"/>
            <a:ext cx="7576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enter for Integrated Manufacturing Decision Systems (CIMDS)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61560" y="1782360"/>
            <a:ext cx="7324920" cy="33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Research Themes: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07240" indent="-16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etter decision making tools for each stage of the manufacturing life cycle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07240" indent="-16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etter manufacturing performance through tighter integration of organizational decision-making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11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erspective: Intelligent systems technologies can provide enabling basis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11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rganization: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07240" indent="-16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Laboratories/Projects covering different functional areas: design, process planning, production scheduling, monitoring and diagnosis, distribu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07240" indent="-168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Enterprise Integration Laboratory to address architectural issu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5560" y="596520"/>
            <a:ext cx="7345440" cy="100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urrent CIMDS Research Group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91268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8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apid Manufacturing [David Bourne]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ustom manufacturing in reasonable time and at reasonable cost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telligent Measurement &amp; Control [Mel Seigel]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ensing, monitoring and control of complex physical processe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telligent User Interfaces [Steve Roth]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Visualization, exploration, analysis and manipulation of complex data set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telligent Agents [Katia Sycara]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oftware agents for monitoring &amp; execution of user tasks, for matching services, and for information management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telligent Coordination and Logistics [Steve Smith]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oftware tools for complex organizational planning, scheduling and control problem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48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2680" y="291600"/>
            <a:ext cx="8775720" cy="10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telligent Coordination &amp; Logistics Lab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0480" y="1909440"/>
            <a:ext cx="7950240" cy="337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cus: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Innovative, knowledge-based technologies for complex organizational planning and scheduling problem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2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Research Themes and Thrust Areas: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49644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ich representations of domain constraint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90288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Constraint-Based Planning and Scheduling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marL="49644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Planning and Scheduling is a collaborative search proces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90288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Mixed-Initiative Problem Solving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marL="49644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Planning and Scheduling is an iterative change proces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90288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Continuous Planning and Execution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marL="49644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Different domains present different challeng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902880" indent="-180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Configurable System Architecture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8" name=""/>
          <p:cNvSpPr/>
          <p:nvPr/>
        </p:nvSpPr>
        <p:spPr>
          <a:xfrm>
            <a:off x="3819600" y="6002280"/>
            <a:ext cx="434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5760" y="1092240"/>
            <a:ext cx="53647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Dr. Stephen F. Smith,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he Robotics Institute, 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Constraint-Based Scheduling Model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38240" y="4594320"/>
            <a:ext cx="6727680" cy="14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Properties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deling Generality/Expressiven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cremental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2" name=""/>
          <p:cNvSpPr/>
          <p:nvPr/>
        </p:nvSpPr>
        <p:spPr>
          <a:xfrm>
            <a:off x="3459240" y="2548080"/>
            <a:ext cx="2813040" cy="164592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Active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(Current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87360" y="2678040"/>
            <a:ext cx="1685880" cy="160812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51320" y="3882960"/>
            <a:ext cx="2811240" cy="54468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06320" y="3983040"/>
            <a:ext cx="289332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Constraint 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3320" y="3003480"/>
            <a:ext cx="18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Comm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trategi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Heu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19320" y="349884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65840" y="2727360"/>
            <a:ext cx="1673280" cy="1581120"/>
          </a:xfrm>
          <a:prstGeom prst="rect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20280" y="3065400"/>
            <a:ext cx="13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0960" y="350820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64800" y="2022480"/>
            <a:ext cx="20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mpon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Focus on Constraint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01600" y="194112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Representations to allow reasoning about constraint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lternative relaxations, Importance, Inter-dependenc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Texture” Measur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1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straint-Directed Search Strategie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ottleneck analysis and contention-based focus of atten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lack-based heuristic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1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straint-Directed Scheduling Architecture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Integration of multiple scheduling method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eactive scheduling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Planning &amp; Scheduling Research at CMU RI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5" name=""/>
          <p:cNvSpPr/>
          <p:nvPr/>
        </p:nvSpPr>
        <p:spPr>
          <a:xfrm>
            <a:off x="376200" y="1905120"/>
            <a:ext cx="8318520" cy="42624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5920" y="1905120"/>
            <a:ext cx="5338800" cy="1023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4040" y="3097080"/>
            <a:ext cx="8321400" cy="3068640"/>
          </a:xfrm>
          <a:prstGeom prst="rtTriangl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6200" y="4740120"/>
            <a:ext cx="1177920" cy="142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8840" y="5662440"/>
            <a:ext cx="376200" cy="38160"/>
          </a:xfrm>
          <a:prstGeom prst="line">
            <a:avLst/>
          </a:prstGeom>
          <a:ln w="25560">
            <a:solidFill>
              <a:srgbClr val="2006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0280" y="3282840"/>
            <a:ext cx="971280" cy="604800"/>
          </a:xfrm>
          <a:prstGeom prst="roundRect">
            <a:avLst>
              <a:gd name="adj" fmla="val 15139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9720" y="3276720"/>
            <a:ext cx="127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A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Times New Roman"/>
              </a:rPr>
              <a:t>Air Campaign Schedu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18360" y="3803400"/>
            <a:ext cx="1203120" cy="5490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43880" y="2685960"/>
            <a:ext cx="1415880" cy="784440"/>
            <a:chOff x="443880" y="2685960"/>
            <a:chExt cx="1415880" cy="784440"/>
          </a:xfrm>
        </p:grpSpPr>
        <p:sp>
          <p:nvSpPr>
            <p:cNvPr id="174" name=""/>
            <p:cNvSpPr/>
            <p:nvPr/>
          </p:nvSpPr>
          <p:spPr>
            <a:xfrm>
              <a:off x="479520" y="2703600"/>
              <a:ext cx="1317600" cy="766800"/>
            </a:xfrm>
            <a:prstGeom prst="roundRect">
              <a:avLst>
                <a:gd name="adj" fmla="val 14556"/>
              </a:avLst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19080" y="2685960"/>
              <a:ext cx="47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920" y="2852640"/>
              <a:ext cx="1060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Constraint-Dir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9280" y="2949480"/>
              <a:ext cx="664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400" y="3156120"/>
              <a:ext cx="1231560" cy="288720"/>
            </a:xfrm>
            <a:prstGeom prst="roundRect">
              <a:avLst>
                <a:gd name="adj" fmla="val 34338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4760" y="3124080"/>
              <a:ext cx="1173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Westinghouse Turbi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3880" y="3238560"/>
              <a:ext cx="1415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Components Plant  (WTC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013120" y="3622680"/>
            <a:ext cx="1251720" cy="1194120"/>
            <a:chOff x="2013120" y="3622680"/>
            <a:chExt cx="1251720" cy="1194120"/>
          </a:xfrm>
        </p:grpSpPr>
        <p:sp>
          <p:nvSpPr>
            <p:cNvPr id="182" name=""/>
            <p:cNvSpPr/>
            <p:nvPr/>
          </p:nvSpPr>
          <p:spPr>
            <a:xfrm>
              <a:off x="2013120" y="3648240"/>
              <a:ext cx="1239840" cy="1137960"/>
            </a:xfrm>
            <a:prstGeom prst="roundRect">
              <a:avLst>
                <a:gd name="adj" fmla="val 9491"/>
              </a:avLst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7720" y="3622680"/>
              <a:ext cx="53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2080" y="3787920"/>
              <a:ext cx="820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Opportunistic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76560" y="3884760"/>
              <a:ext cx="960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Multi-Perspec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15880" y="3981600"/>
              <a:ext cx="664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43000" y="4164120"/>
              <a:ext cx="1168560" cy="588960"/>
            </a:xfrm>
            <a:prstGeom prst="roundRect">
              <a:avLst>
                <a:gd name="adj" fmla="val 18370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022840" y="4194000"/>
              <a:ext cx="1242000" cy="622800"/>
              <a:chOff x="2022840" y="4194000"/>
              <a:chExt cx="1242000" cy="622800"/>
            </a:xfrm>
          </p:grpSpPr>
          <p:sp>
            <p:nvSpPr>
              <p:cNvPr id="189" name=""/>
              <p:cNvSpPr/>
              <p:nvPr/>
            </p:nvSpPr>
            <p:spPr>
              <a:xfrm>
                <a:off x="2024280" y="4194000"/>
                <a:ext cx="11887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WTCP (Westinghous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22840" y="4290840"/>
                <a:ext cx="12420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TCM Board Line (IBM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23200" y="4387680"/>
                <a:ext cx="902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Beer Produc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25720" y="4484520"/>
                <a:ext cx="1063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(HRI/Mitsubish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23200" y="4579920"/>
                <a:ext cx="11826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Times New Roman"/>
                  </a:rPr>
                  <a:t>Trans. Assembly  (G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3560760" y="1971720"/>
            <a:ext cx="1269360" cy="908640"/>
            <a:chOff x="3560760" y="1971720"/>
            <a:chExt cx="1269360" cy="908640"/>
          </a:xfrm>
        </p:grpSpPr>
        <p:sp>
          <p:nvSpPr>
            <p:cNvPr id="195" name=""/>
            <p:cNvSpPr/>
            <p:nvPr/>
          </p:nvSpPr>
          <p:spPr>
            <a:xfrm>
              <a:off x="3560760" y="1989360"/>
              <a:ext cx="1220760" cy="880920"/>
            </a:xfrm>
            <a:prstGeom prst="roundRect">
              <a:avLst>
                <a:gd name="adj" fmla="val 12051"/>
              </a:avLst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2440" y="1971720"/>
              <a:ext cx="573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H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22680" y="2138400"/>
              <a:ext cx="106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Integrated 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22400" y="2235240"/>
              <a:ext cx="855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</a:rPr>
                <a:t>and 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84520" y="2481480"/>
              <a:ext cx="1163520" cy="355680"/>
            </a:xfrm>
            <a:prstGeom prst="roundRect">
              <a:avLst>
                <a:gd name="adj" fmla="val 29176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9560" y="2503800"/>
              <a:ext cx="12405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Hubble Space Telesco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SWAS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76600" y="2548080"/>
              <a:ext cx="18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74800" y="2643480"/>
              <a:ext cx="1094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432160" y="2308320"/>
            <a:ext cx="690480" cy="614160"/>
          </a:xfrm>
          <a:prstGeom prst="roundRect">
            <a:avLst>
              <a:gd name="adj" fmla="val 18125"/>
            </a:avLst>
          </a:prstGeom>
          <a:solidFill>
            <a:srgbClr val="200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78240" y="2341440"/>
            <a:ext cx="618840" cy="34308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77520" y="23097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00680"/>
                </a:solidFill>
                <a:latin typeface="Times New Roman"/>
              </a:rPr>
              <a:t>A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3200" y="2471760"/>
            <a:ext cx="61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00680"/>
                </a:solidFill>
                <a:latin typeface="Times New Roman"/>
              </a:rPr>
              <a:t>(INT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45120" y="263700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Wafer F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55920" y="2733840"/>
            <a:ext cx="61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2602080"/>
            <a:ext cx="735120" cy="615960"/>
          </a:xfrm>
          <a:prstGeom prst="roundRect">
            <a:avLst>
              <a:gd name="adj" fmla="val 18370"/>
            </a:avLst>
          </a:prstGeom>
          <a:solidFill>
            <a:srgbClr val="1b0791"/>
          </a:solidFill>
          <a:ln w="12600">
            <a:solidFill>
              <a:srgbClr val="1b0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65640" y="2627280"/>
            <a:ext cx="619200" cy="34308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52320" y="2606760"/>
            <a:ext cx="68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b0791"/>
                </a:solidFill>
                <a:latin typeface="Times New Roman"/>
              </a:rPr>
              <a:t>KB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4040" y="2760840"/>
            <a:ext cx="472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b0791"/>
                </a:solidFill>
                <a:latin typeface="Times New Roman"/>
              </a:rPr>
              <a:t>(CG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63120" y="2932200"/>
            <a:ext cx="595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Logistic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83560" y="3014640"/>
            <a:ext cx="816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Planning Sh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883560" y="4205160"/>
            <a:ext cx="1592280" cy="758880"/>
            <a:chOff x="6883560" y="4205160"/>
            <a:chExt cx="1592280" cy="758880"/>
          </a:xfrm>
        </p:grpSpPr>
        <p:sp>
          <p:nvSpPr>
            <p:cNvPr id="216" name=""/>
            <p:cNvSpPr/>
            <p:nvPr/>
          </p:nvSpPr>
          <p:spPr>
            <a:xfrm>
              <a:off x="6977160" y="4205160"/>
              <a:ext cx="1373400" cy="758880"/>
            </a:xfrm>
            <a:prstGeom prst="roundRect">
              <a:avLst>
                <a:gd name="adj" fmla="val 15139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83560" y="4241880"/>
              <a:ext cx="159228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DITOPS-VISAGE: 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Collaborati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Multi-Perspecti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Times New Roman"/>
                </a:rPr>
                <a:t>Planning &amp; Schedul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098800" y="5065560"/>
            <a:ext cx="1036440" cy="603360"/>
          </a:xfrm>
          <a:prstGeom prst="roundRect">
            <a:avLst>
              <a:gd name="adj" fmla="val 17167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13720" y="5072040"/>
            <a:ext cx="72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CD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46320" y="5348160"/>
            <a:ext cx="933480" cy="247680"/>
          </a:xfrm>
          <a:prstGeom prst="roundRect">
            <a:avLst>
              <a:gd name="adj" fmla="val 39528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42360" y="5357880"/>
            <a:ext cx="94356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PFDD Analys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and Re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52800" y="5405400"/>
            <a:ext cx="880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4880" y="5602320"/>
            <a:ext cx="1022400" cy="595440"/>
          </a:xfrm>
          <a:prstGeom prst="roundRect">
            <a:avLst>
              <a:gd name="adj" fmla="val 17384"/>
            </a:avLst>
          </a:prstGeom>
          <a:solidFill>
            <a:srgbClr val="200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86280" y="5626080"/>
            <a:ext cx="947520" cy="33516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7440" y="55767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00680"/>
                </a:solidFill>
                <a:latin typeface="Times New Roman"/>
              </a:rPr>
              <a:t>D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0" y="5730840"/>
            <a:ext cx="1013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00680"/>
                </a:solidFill>
                <a:latin typeface="Times New Roman"/>
              </a:rPr>
              <a:t>(BBN, ASC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46760" y="5937120"/>
            <a:ext cx="807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US Transc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73680" y="6033960"/>
            <a:ext cx="96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Depl.oy.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7680" y="4830840"/>
            <a:ext cx="1269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CMU  Developed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440" y="5254560"/>
            <a:ext cx="12556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b0791"/>
                </a:solidFill>
                <a:latin typeface="Times New Roman"/>
              </a:rPr>
              <a:t>Derivative Operational Syste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120" y="5649840"/>
            <a:ext cx="116856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Technology Tran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558880" y="3009600"/>
            <a:ext cx="106560" cy="555480"/>
          </a:xfrm>
          <a:prstGeom prst="line">
            <a:avLst/>
          </a:prstGeom>
          <a:ln w="25560">
            <a:solidFill>
              <a:srgbClr val="1b079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662360" y="2925720"/>
            <a:ext cx="439920" cy="270000"/>
          </a:xfrm>
          <a:prstGeom prst="line">
            <a:avLst/>
          </a:prstGeom>
          <a:ln w="25560">
            <a:solidFill>
              <a:srgbClr val="1b079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416560" y="3704760"/>
            <a:ext cx="455760" cy="4143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65400" y="3519360"/>
            <a:ext cx="660240" cy="5493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712960" y="2717280"/>
            <a:ext cx="809640" cy="855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14880" y="3836520"/>
            <a:ext cx="388800" cy="127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32160" y="4503600"/>
            <a:ext cx="763560" cy="3794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303720" y="4370400"/>
            <a:ext cx="1228680" cy="38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175360" y="3470400"/>
            <a:ext cx="689040" cy="1108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228840" y="5046480"/>
            <a:ext cx="763560" cy="2379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28840" y="5533920"/>
            <a:ext cx="646200" cy="298440"/>
          </a:xfrm>
          <a:prstGeom prst="line">
            <a:avLst/>
          </a:prstGeom>
          <a:ln w="25560">
            <a:solidFill>
              <a:srgbClr val="1b079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867200" y="2274480"/>
            <a:ext cx="1562040" cy="120600"/>
          </a:xfrm>
          <a:prstGeom prst="line">
            <a:avLst/>
          </a:prstGeom>
          <a:ln w="25560">
            <a:solidFill>
              <a:srgbClr val="1b0791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62360" y="3232080"/>
            <a:ext cx="1311120" cy="852480"/>
          </a:xfrm>
          <a:prstGeom prst="roundRect">
            <a:avLst>
              <a:gd name="adj" fmla="val 10296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5200" y="3651120"/>
            <a:ext cx="1247760" cy="384480"/>
          </a:xfrm>
          <a:prstGeom prst="roundRect">
            <a:avLst>
              <a:gd name="adj" fmla="val 22736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40480" y="3205080"/>
            <a:ext cx="116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MICRO-B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3360600"/>
            <a:ext cx="1095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Micro-Opportunis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7720" y="3465360"/>
            <a:ext cx="822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03280" y="3460680"/>
            <a:ext cx="664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71720" y="3733920"/>
            <a:ext cx="1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81440" y="3654360"/>
            <a:ext cx="1341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McDonnel Douglas F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Job Shop 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Printed Wire Assembly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1320" y="5033880"/>
            <a:ext cx="292320" cy="17316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74800" y="5119560"/>
            <a:ext cx="225360" cy="63720"/>
          </a:xfrm>
          <a:prstGeom prst="roundRect">
            <a:avLst>
              <a:gd name="adj" fmla="val 34338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3400" y="5432400"/>
            <a:ext cx="291960" cy="173160"/>
          </a:xfrm>
          <a:prstGeom prst="roundRect">
            <a:avLst>
              <a:gd name="adj" fmla="val 34338"/>
            </a:avLst>
          </a:prstGeom>
          <a:solidFill>
            <a:srgbClr val="1b0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7160" y="5457960"/>
            <a:ext cx="250920" cy="7272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12600">
            <a:solidFill>
              <a:srgbClr val="1b0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000" y="5899320"/>
            <a:ext cx="292320" cy="172800"/>
          </a:xfrm>
          <a:prstGeom prst="roundRect">
            <a:avLst>
              <a:gd name="adj" fmla="val 34338"/>
            </a:avLst>
          </a:prstGeom>
          <a:solidFill>
            <a:srgbClr val="f3d451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4040" y="5929200"/>
            <a:ext cx="217440" cy="7488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14400" y="4160880"/>
            <a:ext cx="1748160" cy="880560"/>
            <a:chOff x="4514400" y="4160880"/>
            <a:chExt cx="1748160" cy="880560"/>
          </a:xfrm>
        </p:grpSpPr>
        <p:sp>
          <p:nvSpPr>
            <p:cNvPr id="259" name=""/>
            <p:cNvSpPr/>
            <p:nvPr/>
          </p:nvSpPr>
          <p:spPr>
            <a:xfrm>
              <a:off x="4610880" y="4160880"/>
              <a:ext cx="1625760" cy="880560"/>
            </a:xfrm>
            <a:prstGeom prst="roundRect">
              <a:avLst>
                <a:gd name="adj" fmla="val 15296"/>
              </a:avLst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14400" y="4239360"/>
              <a:ext cx="17481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Palatino"/>
                </a:rPr>
                <a:t>OZONE: 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Configur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                             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Planning &amp;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                           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Schedul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                      </a:t>
              </a:r>
              <a:r>
                <a:rPr b="1" i="1" lang="en-US" sz="900" spc="-1" strike="noStrike">
                  <a:solidFill>
                    <a:srgbClr val="ffffff"/>
                  </a:solidFill>
                  <a:latin typeface="Palatino"/>
                </a:rPr>
                <a:t>Toolk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65560" y="4454640"/>
            <a:ext cx="1190520" cy="1004760"/>
          </a:xfrm>
          <a:prstGeom prst="roundRect">
            <a:avLst>
              <a:gd name="adj" fmla="val 13514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1640" y="4435560"/>
            <a:ext cx="749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DI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17480" y="4594320"/>
            <a:ext cx="89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Mixed-Initi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73120" y="4691160"/>
            <a:ext cx="1194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Planning &amp; 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06960" y="4911840"/>
            <a:ext cx="1114200" cy="514080"/>
          </a:xfrm>
          <a:prstGeom prst="roundRect">
            <a:avLst>
              <a:gd name="adj" fmla="val 1837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09480" y="4933800"/>
            <a:ext cx="1152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Military Crisis-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09840" y="5021280"/>
            <a:ext cx="1129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Deployment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61040" y="5218200"/>
            <a:ext cx="693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Re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19560" y="5126040"/>
            <a:ext cx="1057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Medical Evac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31000" y="3054240"/>
            <a:ext cx="1331640" cy="792360"/>
          </a:xfrm>
          <a:prstGeom prst="roundRect">
            <a:avLst>
              <a:gd name="adj" fmla="val 10296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4920" y="3222720"/>
            <a:ext cx="1428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c0128"/>
                </a:solidFill>
                <a:latin typeface="Times New Roman"/>
              </a:rPr>
              <a:t>Integrated Process Planning &amp; Production Schedu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04080" y="3544920"/>
            <a:ext cx="1211040" cy="245880"/>
          </a:xfrm>
          <a:prstGeom prst="roundRect">
            <a:avLst>
              <a:gd name="adj" fmla="val 22736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31680" y="305604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IP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3306600"/>
            <a:ext cx="822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9720" y="3475080"/>
            <a:ext cx="1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79960" y="3548160"/>
            <a:ext cx="928800" cy="1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Raythe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315120" y="4554000"/>
            <a:ext cx="608040" cy="32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78360" y="5300640"/>
            <a:ext cx="1163880" cy="700200"/>
          </a:xfrm>
          <a:prstGeom prst="roundRect">
            <a:avLst>
              <a:gd name="adj" fmla="val 15139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32640" y="5319720"/>
            <a:ext cx="1296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Barrel Allocator: </a:t>
            </a:r>
            <a:r>
              <a:rPr b="1" i="1" lang="en-US" sz="900" spc="-1" strike="noStrike">
                <a:solidFill>
                  <a:srgbClr val="ffffff"/>
                </a:solidFill>
                <a:latin typeface="Times New Roman"/>
              </a:rPr>
              <a:t>Continuous, Interleaved  Planning &amp; Schedu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29160" y="5151600"/>
            <a:ext cx="300240" cy="15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89720" y="2033640"/>
            <a:ext cx="1082520" cy="585720"/>
          </a:xfrm>
          <a:prstGeom prst="roundRect">
            <a:avLst>
              <a:gd name="adj" fmla="val 13958"/>
            </a:avLst>
          </a:prstGeom>
          <a:solidFill>
            <a:srgbClr val="1b07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35800" y="2089080"/>
            <a:ext cx="993600" cy="34920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83240" y="2068560"/>
            <a:ext cx="1087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b0791"/>
                </a:solidFill>
                <a:latin typeface="Times New Roman"/>
              </a:rPr>
              <a:t>Deep Spa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b0791"/>
                </a:solidFill>
                <a:latin typeface="Times New Roman"/>
              </a:rPr>
              <a:t>(NAS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19960" y="242424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Mission Plan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0680" y="3554280"/>
            <a:ext cx="933480" cy="14954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26440" y="5268960"/>
            <a:ext cx="1174680" cy="834840"/>
          </a:xfrm>
          <a:prstGeom prst="roundRect">
            <a:avLst>
              <a:gd name="adj" fmla="val 13958"/>
            </a:avLst>
          </a:prstGeom>
          <a:solidFill>
            <a:srgbClr val="f3d451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72520" y="5321160"/>
            <a:ext cx="1077840" cy="478080"/>
          </a:xfrm>
          <a:prstGeom prst="roundRect">
            <a:avLst>
              <a:gd name="adj" fmla="val 34338"/>
            </a:avLst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43880" y="5286240"/>
            <a:ext cx="72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</a:rPr>
              <a:t>C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32640" y="5457960"/>
            <a:ext cx="90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Times New Roman"/>
              </a:rPr>
              <a:t>(CMU, BBN, LOGIC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76280" y="5783400"/>
            <a:ext cx="68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Times New Roman"/>
              </a:rPr>
              <a:t>US  AMC</a:t>
            </a: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25000" y="5900760"/>
            <a:ext cx="1187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c0128"/>
                </a:solidFill>
                <a:latin typeface="Times New Roman"/>
              </a:rPr>
              <a:t>Air Fleet Schedu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8880" y="2055960"/>
            <a:ext cx="191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57080" y="5748480"/>
            <a:ext cx="195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65840" y="2455920"/>
            <a:ext cx="851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The IP3S Project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2920" y="1950840"/>
            <a:ext cx="7291440" cy="33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Objective: 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 decision-support tool for integrated process planning and production scheduling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72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Problem: </a:t>
            </a: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The “wall” between engineering and manufacturing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6916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ocess alternatives evaluated without regard to current shop condi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569160" indent="-18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oduction managed under fixed process assump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569160" indent="-189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sult: unnecessarily long lead-times, increased production costs and inefficiencie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72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tarting Point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69160" indent="-189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IPPI Process Planning System (Raytheon Corp.)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69160" indent="-189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Micro-BOSS Factory Scheduling System (CMU)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P3S: Integrated Process Plann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and Production Scheduling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600" y="2408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ncurrent development and dynamic revision of integrated process-planning/production-scheduling solution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arly consideration of resource capacities and load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irect visibility of process alternativ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Mixed-initiative decision support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teractive exploration of alternative tradeoffs and solu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ltiple levels of user intera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ordination with outside information source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mmon representation for process planning and production scheduling inform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Portability and ease of integration with legacy systems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9" name=""/>
          <p:cNvSpPr/>
          <p:nvPr/>
        </p:nvSpPr>
        <p:spPr>
          <a:xfrm>
            <a:off x="584640" y="1881360"/>
            <a:ext cx="66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 architectural issues and system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3800" y="1865160"/>
            <a:ext cx="6984720" cy="4600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IP3S Architecture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533680" y="1971720"/>
            <a:ext cx="40258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ASCOT: A Multi-Agent Supply Chain Coordination Tool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06480" y="20412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Motivations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Without tight coordination, the benefits of finite capacity scheduling tools </a:t>
            </a: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are lost at the interface between facilit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usiness decisions need to be evaluated with respect to their resource and material requirements </a:t>
            </a: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across the supply chai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A Supply Chain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36720" y="1889280"/>
            <a:ext cx="7557840" cy="32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A network of autonomous or semi-autonomous business units collectively responsible for procurement, manufacture and delivery of a set of related product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"/>
          <p:cNvSpPr/>
          <p:nvPr/>
        </p:nvSpPr>
        <p:spPr>
          <a:xfrm>
            <a:off x="4121280" y="3989520"/>
            <a:ext cx="53172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8040" y="4726080"/>
            <a:ext cx="53172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49640" y="3730680"/>
            <a:ext cx="53172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73400" y="4348080"/>
            <a:ext cx="53172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68720" y="5059440"/>
            <a:ext cx="53172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2960" y="3456000"/>
            <a:ext cx="53172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06720" y="4073400"/>
            <a:ext cx="53172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01680" y="4784760"/>
            <a:ext cx="53208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90880" y="5405400"/>
            <a:ext cx="53172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38240" y="3432240"/>
            <a:ext cx="374760" cy="325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9400" y="3882960"/>
            <a:ext cx="374760" cy="325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57320" y="5356080"/>
            <a:ext cx="374760" cy="325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8480" y="4848120"/>
            <a:ext cx="374400" cy="325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4340160"/>
            <a:ext cx="374760" cy="325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8880" y="3689280"/>
            <a:ext cx="53172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67440" y="4824360"/>
            <a:ext cx="53172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15000" y="3362400"/>
            <a:ext cx="53208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38760" y="3979800"/>
            <a:ext cx="53208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4080" y="4691160"/>
            <a:ext cx="531720" cy="32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2920" y="5311800"/>
            <a:ext cx="532080" cy="32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77040" y="296712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13760" y="3274920"/>
            <a:ext cx="22068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97920" y="378936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58040" y="4135320"/>
            <a:ext cx="22068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44000" y="453564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86760" y="550404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86760" y="5176800"/>
            <a:ext cx="22068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26360" y="486900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83760" y="467208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78720" y="5330880"/>
            <a:ext cx="220680" cy="195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12200" y="3941640"/>
            <a:ext cx="220680" cy="195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21560" y="3110040"/>
            <a:ext cx="220680" cy="195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155000" y="3120840"/>
            <a:ext cx="1049040" cy="32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192800" y="3186000"/>
            <a:ext cx="1322640" cy="3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167600" y="3393720"/>
            <a:ext cx="107460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92800" y="3912840"/>
            <a:ext cx="103680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192800" y="4041360"/>
            <a:ext cx="1322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19800" y="4197240"/>
            <a:ext cx="110016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153200" y="4624200"/>
            <a:ext cx="114156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167600" y="4780080"/>
            <a:ext cx="13730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40600" y="4923000"/>
            <a:ext cx="11793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153200" y="5273640"/>
            <a:ext cx="1076400" cy="1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7600" y="5442120"/>
            <a:ext cx="1347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53200" y="5557680"/>
            <a:ext cx="1141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9400" y="5000760"/>
            <a:ext cx="90648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729400" y="4844520"/>
            <a:ext cx="9190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29400" y="3860640"/>
            <a:ext cx="919080" cy="2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29400" y="3575160"/>
            <a:ext cx="89352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53000" y="3925800"/>
            <a:ext cx="54432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0" y="4857840"/>
            <a:ext cx="50652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719160" y="4546440"/>
            <a:ext cx="414360" cy="3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668760" y="4884840"/>
            <a:ext cx="46512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693600" y="4145040"/>
            <a:ext cx="42732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668760" y="3925440"/>
            <a:ext cx="47952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617560" y="3627000"/>
            <a:ext cx="57132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17920" y="3925800"/>
            <a:ext cx="54432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631960" y="4573440"/>
            <a:ext cx="54288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644920" y="4287960"/>
            <a:ext cx="5299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617560" y="4987440"/>
            <a:ext cx="57132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17560" y="5259240"/>
            <a:ext cx="5713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77800" y="557064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452600" y="5000400"/>
            <a:ext cx="66024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464840" y="4950000"/>
            <a:ext cx="64764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440000" y="4508280"/>
            <a:ext cx="6350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52240" y="4262400"/>
            <a:ext cx="68580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40000" y="4067280"/>
            <a:ext cx="6602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412640" y="3692520"/>
            <a:ext cx="687240" cy="3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399680" y="3587760"/>
            <a:ext cx="7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0040" y="35877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000" y="5851440"/>
            <a:ext cx="138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Raw 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Ven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0960" y="5886360"/>
            <a:ext cx="1040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Tier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1920" y="5649840"/>
            <a:ext cx="1040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Tier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82440" y="5180040"/>
            <a:ext cx="1447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Manufactu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29600" y="5681520"/>
            <a:ext cx="1291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53360" y="5897520"/>
            <a:ext cx="907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Ret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7920" y="5907240"/>
            <a:ext cx="1056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160" y="3178080"/>
            <a:ext cx="1646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Flow of 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4560" y="3189240"/>
            <a:ext cx="1608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Flow of 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86280" y="3095640"/>
            <a:ext cx="1270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1640" y="3090960"/>
            <a:ext cx="1270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57600" y="30020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905360" y="30002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MASCOT Approach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9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Multilevel Agent-based Architectur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Dynamic coordination with other agent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Wrappering of legacy planning and scheduling system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mpatibility with emerging standard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Dynamic (re)configura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685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Palatino"/>
              </a:rPr>
              <a:t>Coordination Protocol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Lateral - Tight yet robust synchronization is dynamically maintained between upstream and downstream facilit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Vertical - Consistency is dynamically maintained and selectively validated across multiple abstraction level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8640" y="1270080"/>
            <a:ext cx="7307280" cy="5195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ASCOT Agent Architecture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765440" y="1343160"/>
            <a:ext cx="5635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68120" y="1347840"/>
            <a:ext cx="8812440" cy="5130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ASCOT Agent Environment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4160" y="1495440"/>
            <a:ext cx="86868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Analysis of Lateral Coordination Protocol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732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Lead-Neg/C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 reference policy relying on historical leadtime data to estimate delivery dates for prospective order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FCS-Neg/C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imilar to Lead-Neg/C, except that it relies on FC schedules in its top-tier estimates (i.e., the agent that directly receives a bid uses FCS, but relies on leadtime assumptions for its suppliers)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ync-Neg/C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elies on FC calculations at each tier across the supply chain to respond to requests for bid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Assumption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051680" cy="337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Each supply chain entity can have multiple suppliers and customer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Make-to-order, lot-for-lot operation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chedules are regenerated on a daily basis, following the incorporation of new requests for bid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 request for bid can be accepted as is, accepted with a relaxed delivery date, or rejected; only profitable bids are submitted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22440" y="2436840"/>
            <a:ext cx="7762680" cy="4068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ASCO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Performance Evaluation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9" name=""/>
          <p:cNvSpPr/>
          <p:nvPr/>
        </p:nvSpPr>
        <p:spPr>
          <a:xfrm>
            <a:off x="1422000" y="1905120"/>
            <a:ext cx="63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Comparison (average nominal load of 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311560" y="2460600"/>
            <a:ext cx="46479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80920" y="2436840"/>
            <a:ext cx="7426440" cy="3757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ASCO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Performance Evaluation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618240" cy="3276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63480" y="1889280"/>
            <a:ext cx="78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of profit to variations in the number of bid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Transportation and Logistic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Traditionally, supply chain networks were designed to minimize transportation costs by maximizing shipment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714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Modern approaches attempt to capitalize on transportation and logistics flexibility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51240" indent="-217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hared transport capacity, inter-modal delivery, cross-docking and pool distribution options, streamlined product flow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714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sequence: </a:t>
            </a: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Increasing need for better logistics planning and scheduling tool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51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OZONE Scheduling Framework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60120" y="2042640"/>
            <a:ext cx="7661160" cy="33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Configurable systems for continuous, mixed-initiative scheduling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426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Design Perspective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mprehensive constraint representation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Incremental solution change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apid construction of application system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426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Application Experiences and System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DITOPS Transportation Scheduler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MC Airlift and Tanker Mission Scheduler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ir Ops Force Allocation Prototype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459840" y="5597640"/>
            <a:ext cx="696600" cy="332280"/>
            <a:chOff x="6459840" y="5597640"/>
            <a:chExt cx="696600" cy="332280"/>
          </a:xfrm>
        </p:grpSpPr>
        <p:sp>
          <p:nvSpPr>
            <p:cNvPr id="330" name=""/>
            <p:cNvSpPr/>
            <p:nvPr/>
          </p:nvSpPr>
          <p:spPr>
            <a:xfrm>
              <a:off x="6497640" y="5599440"/>
              <a:ext cx="608040" cy="30780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59840" y="5597640"/>
              <a:ext cx="696600" cy="33228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Balanc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648480" y="2909880"/>
            <a:ext cx="1814400" cy="71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Active Dat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"/>
              </a:rPr>
              <a:t>(Current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OZONE Component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4" name=""/>
          <p:cNvSpPr/>
          <p:nvPr/>
        </p:nvSpPr>
        <p:spPr>
          <a:xfrm>
            <a:off x="294120" y="2476440"/>
            <a:ext cx="396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ustomizable Library of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odeling Primi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3760" y="3317760"/>
            <a:ext cx="663480" cy="24624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6960" y="3279600"/>
            <a:ext cx="655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Prod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6960" y="3422520"/>
            <a:ext cx="663480" cy="2476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0720" y="3386160"/>
            <a:ext cx="82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98720" y="3537000"/>
            <a:ext cx="664920" cy="2476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9640" y="349740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Refue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54480" y="3328920"/>
            <a:ext cx="664920" cy="2476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720" y="3284640"/>
            <a:ext cx="39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Par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84480" y="3427560"/>
            <a:ext cx="665280" cy="24912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24160" y="339732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27280" y="3513240"/>
            <a:ext cx="614520" cy="2602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00720" y="3486240"/>
            <a:ext cx="51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rot="16200000">
            <a:off x="1255680" y="3876840"/>
            <a:ext cx="184320" cy="41040"/>
          </a:xfrm>
          <a:prstGeom prst="rightArrow">
            <a:avLst>
              <a:gd name="adj1" fmla="val 50000"/>
              <a:gd name="adj2" fmla="val 224582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rot="16200000">
            <a:off x="2861280" y="3869640"/>
            <a:ext cx="182880" cy="41040"/>
          </a:xfrm>
          <a:prstGeom prst="rightArrow">
            <a:avLst>
              <a:gd name="adj1" fmla="val 50000"/>
              <a:gd name="adj2" fmla="val 22282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3200" y="3821040"/>
            <a:ext cx="655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Specializ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89440" y="3821040"/>
            <a:ext cx="655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Specializ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5257800"/>
            <a:ext cx="662040" cy="2523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5360" y="5227560"/>
            <a:ext cx="64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Machi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0480" y="5199120"/>
            <a:ext cx="665280" cy="2188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0520" y="5221440"/>
            <a:ext cx="51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Aircra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93680" y="5118120"/>
            <a:ext cx="635040" cy="2188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66400" y="5124600"/>
            <a:ext cx="515160" cy="210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ffff"/>
                </a:solidFill>
                <a:latin typeface="Times New Roman"/>
              </a:rPr>
              <a:t>Tank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4320" y="5300640"/>
            <a:ext cx="685800" cy="27324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42760" y="5283360"/>
            <a:ext cx="61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67120" y="5229360"/>
            <a:ext cx="664920" cy="2523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60720" y="5186520"/>
            <a:ext cx="64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Mov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58880" y="5153040"/>
            <a:ext cx="546120" cy="2649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79760" y="5129280"/>
            <a:ext cx="538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2836800" y="4946040"/>
            <a:ext cx="161640" cy="60480"/>
          </a:xfrm>
          <a:prstGeom prst="rightArrow">
            <a:avLst>
              <a:gd name="adj1" fmla="val 50000"/>
              <a:gd name="adj2" fmla="val 13364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1285200" y="4953600"/>
            <a:ext cx="160200" cy="60120"/>
          </a:xfrm>
          <a:prstGeom prst="rightArrow">
            <a:avLst>
              <a:gd name="adj1" fmla="val 50000"/>
              <a:gd name="adj2" fmla="val 13324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2560" y="4865760"/>
            <a:ext cx="671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Specializ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68920" y="4911840"/>
            <a:ext cx="655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Specializ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51120" y="4602240"/>
            <a:ext cx="557280" cy="25560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27000" y="4608360"/>
            <a:ext cx="626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De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51120" y="4037040"/>
            <a:ext cx="550800" cy="25704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38160" y="404496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36800" y="4602240"/>
            <a:ext cx="556920" cy="25560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4594320"/>
            <a:ext cx="69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19440" y="4354560"/>
            <a:ext cx="642600" cy="23652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71200" y="4354560"/>
            <a:ext cx="73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Constra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04760" y="4037040"/>
            <a:ext cx="582840" cy="25092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37520" y="4035600"/>
            <a:ext cx="57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A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13320" y="3836880"/>
            <a:ext cx="68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du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25960" y="4319640"/>
            <a:ext cx="62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atisf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4600" y="4325760"/>
            <a:ext cx="66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qu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12080" y="4678200"/>
            <a:ext cx="62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mp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04440" y="4329000"/>
            <a:ext cx="62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mp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68600" y="4129200"/>
            <a:ext cx="659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Restri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614600" y="4645080"/>
            <a:ext cx="215640" cy="10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465280" y="4630680"/>
            <a:ext cx="230400" cy="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58800" y="4218120"/>
            <a:ext cx="223560" cy="12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1603080" y="4239720"/>
            <a:ext cx="212760" cy="1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25480" y="4044960"/>
            <a:ext cx="95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192320" y="4325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105000" y="4327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7320" y="1974960"/>
            <a:ext cx="3018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onstraint-Based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94720" y="4325760"/>
            <a:ext cx="2783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Library of Schedul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schedul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75200" y="2976480"/>
            <a:ext cx="5191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81680" y="3726000"/>
            <a:ext cx="687240" cy="28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6920" y="2933640"/>
            <a:ext cx="69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P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15240" y="3957480"/>
            <a:ext cx="1648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82000" y="3957480"/>
            <a:ext cx="1648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48400" y="3957480"/>
            <a:ext cx="16524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15160" y="3957480"/>
            <a:ext cx="16524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81920" y="3957480"/>
            <a:ext cx="16524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49520" y="36370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alatino"/>
              </a:rPr>
              <a:t>Post or Retra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10280" y="3690720"/>
            <a:ext cx="50760" cy="22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54960" y="3456000"/>
            <a:ext cx="1809720" cy="1587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8020080" y="3665520"/>
            <a:ext cx="252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82360" y="4084560"/>
            <a:ext cx="73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93480" y="3435480"/>
            <a:ext cx="168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73480" y="248292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Execu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56440" y="2706840"/>
            <a:ext cx="1440" cy="18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86880" y="2712960"/>
            <a:ext cx="1440" cy="18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6760" y="2909880"/>
            <a:ext cx="1073160" cy="15876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5840" y="2870280"/>
            <a:ext cx="123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External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962680" y="333540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968800" y="34750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962680" y="340524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419880" y="327816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84800" y="4976640"/>
            <a:ext cx="735120" cy="30816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53120" y="496260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CSP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24680" y="5021280"/>
            <a:ext cx="608040" cy="30780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54920" y="5019840"/>
            <a:ext cx="5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Re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82960" y="5573880"/>
            <a:ext cx="735120" cy="30780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alatino"/>
              </a:rPr>
              <a:t>Tank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alatino"/>
              </a:rPr>
              <a:t>Assig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59240" y="5808600"/>
            <a:ext cx="735120" cy="3081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alatino"/>
              </a:rPr>
              <a:t>Airl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alatino"/>
              </a:rPr>
              <a:t>Al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42200" y="5726160"/>
            <a:ext cx="608040" cy="30780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3920" y="5718240"/>
            <a:ext cx="676800" cy="3322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emp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02560" y="5884920"/>
            <a:ext cx="608040" cy="30780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5120" y="5883120"/>
            <a:ext cx="685800" cy="33228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sour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5194440" y="5283360"/>
            <a:ext cx="34272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5600880" y="5308200"/>
            <a:ext cx="101520" cy="4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06880" y="5334120"/>
            <a:ext cx="46980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238880" y="5334120"/>
            <a:ext cx="7632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40760" y="5346720"/>
            <a:ext cx="33012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63960" y="3403440"/>
            <a:ext cx="406440" cy="851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863960" y="2527200"/>
            <a:ext cx="508320" cy="78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35440" y="2921040"/>
            <a:ext cx="977760" cy="44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37240" y="3289320"/>
            <a:ext cx="190440" cy="165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45080" y="3225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99200" y="3071880"/>
            <a:ext cx="20772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3120" y="339552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Palatino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29240" y="3664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upply Chain Issue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figuration - Design of network structure based on such factors as lead-time, transportation costs, currency fluctuations, market opportunitie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97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ordination - Routine management of material flows from source to user, involving sourcing, purchasing, capacity planning, shop floor control, inventory control, distribution, logistics and information exchange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97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tracts - Control of material flow over longer horizons based on such factors as supplier reliability, demand forecasts, quantity discounts, flexibility, etc.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Spreadsheet-like” Scheduling Model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17080" y="2004480"/>
            <a:ext cx="716940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User directly manipulates decisions and/or constraints, and system indicates consequence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39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imple Constraint-Based Framework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76000" indent="-191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user interactively makes decisions; system provides deductive constraint management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9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xtended mod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76000" indent="-191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user manipulates high-level problem structures;  specified changes isolate scheduling sub-problem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76000" indent="-191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execution of change provides, from user perspective, comparable “propagation of effects”  (typically heuristic)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5913360"/>
            <a:ext cx="91440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3680" y="1154160"/>
            <a:ext cx="855360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7840" y="203040"/>
            <a:ext cx="88009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RREL ALLOCATOR: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dvanced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cheduling for the USAF Air Mobility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642000" y="5423040"/>
            <a:ext cx="2298960" cy="41904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6769080" y="5977080"/>
            <a:ext cx="1190160" cy="588600"/>
            <a:chOff x="6769080" y="5977080"/>
            <a:chExt cx="1190160" cy="588600"/>
          </a:xfrm>
        </p:grpSpPr>
        <p:sp>
          <p:nvSpPr>
            <p:cNvPr id="445" name=""/>
            <p:cNvSpPr/>
            <p:nvPr/>
          </p:nvSpPr>
          <p:spPr>
            <a:xfrm>
              <a:off x="6771600" y="5996160"/>
              <a:ext cx="1187640" cy="531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ece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77800" y="6012720"/>
              <a:ext cx="911520" cy="505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2c1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74120" y="6003000"/>
              <a:ext cx="1173600" cy="52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69080" y="6275160"/>
              <a:ext cx="117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22080" y="6003000"/>
              <a:ext cx="8568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01" y="21583"/>
                  </a:moveTo>
                  <a:arcTo wR="10800" hR="10800" stAng="5590919" swAng="21476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01" y="21583"/>
                  </a:moveTo>
                  <a:arcTo wR="10800" hR="10800" stAng="5590919" swAng="214765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4360" y="6007320"/>
              <a:ext cx="506880" cy="5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24" y="21572"/>
                  </a:moveTo>
                  <a:arcTo wR="10800" hR="10800" stAng="5647128" swAng="214861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24" y="21572"/>
                  </a:moveTo>
                  <a:arcTo wR="10800" hR="10800" stAng="5647128" swAng="214861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35120" y="5977080"/>
              <a:ext cx="60876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1011"/>
                  </a:moveTo>
                  <a:arcTo wR="10800" hR="10800" stAng="67205" swAng="1079938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1011"/>
                  </a:moveTo>
                  <a:arcTo wR="10800" hR="10800" stAng="67205" swAng="107993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85520" y="6419520"/>
              <a:ext cx="608760" cy="14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944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4640" y="6354360"/>
              <a:ext cx="955800" cy="12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45720" y="6014160"/>
              <a:ext cx="166320" cy="5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22" y="21576"/>
                  </a:moveTo>
                  <a:arcTo wR="10800" hR="10800" stAng="5169908" swAng="21483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22" y="21576"/>
                  </a:moveTo>
                  <a:arcTo wR="10800" hR="10800" stAng="5169908" swAng="214837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4640" y="6060240"/>
              <a:ext cx="95580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73"/>
                  </a:moveTo>
                  <a:arcTo wR="10800" hR="10800" stAng="-72362" swAng="10944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73"/>
                  </a:moveTo>
                  <a:arcTo wR="10800" hR="10800" stAng="-72362" swAng="10944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17320" y="6082200"/>
              <a:ext cx="1098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1" lang="en-US" sz="20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096400" y="5915160"/>
            <a:ext cx="733320" cy="676080"/>
            <a:chOff x="8096400" y="5915160"/>
            <a:chExt cx="733320" cy="676080"/>
          </a:xfrm>
        </p:grpSpPr>
        <p:sp>
          <p:nvSpPr>
            <p:cNvPr id="458" name=""/>
            <p:cNvSpPr/>
            <p:nvPr/>
          </p:nvSpPr>
          <p:spPr>
            <a:xfrm>
              <a:off x="8096400" y="5915160"/>
              <a:ext cx="721800" cy="676080"/>
            </a:xfrm>
            <a:custGeom>
              <a:avLst/>
              <a:gdLst/>
              <a:ahLst/>
              <a:rect l="l" t="t" r="r" b="b"/>
              <a:pathLst>
                <a:path w="695" h="630">
                  <a:moveTo>
                    <a:pt x="76" y="76"/>
                  </a:moveTo>
                  <a:lnTo>
                    <a:pt x="159" y="0"/>
                  </a:lnTo>
                  <a:lnTo>
                    <a:pt x="535" y="0"/>
                  </a:lnTo>
                  <a:lnTo>
                    <a:pt x="621" y="78"/>
                  </a:lnTo>
                  <a:lnTo>
                    <a:pt x="589" y="151"/>
                  </a:lnTo>
                  <a:lnTo>
                    <a:pt x="581" y="236"/>
                  </a:lnTo>
                  <a:lnTo>
                    <a:pt x="594" y="312"/>
                  </a:lnTo>
                  <a:lnTo>
                    <a:pt x="616" y="295"/>
                  </a:lnTo>
                  <a:lnTo>
                    <a:pt x="640" y="288"/>
                  </a:lnTo>
                  <a:lnTo>
                    <a:pt x="653" y="300"/>
                  </a:lnTo>
                  <a:lnTo>
                    <a:pt x="653" y="327"/>
                  </a:lnTo>
                  <a:lnTo>
                    <a:pt x="694" y="395"/>
                  </a:lnTo>
                  <a:lnTo>
                    <a:pt x="670" y="412"/>
                  </a:lnTo>
                  <a:lnTo>
                    <a:pt x="656" y="410"/>
                  </a:lnTo>
                  <a:lnTo>
                    <a:pt x="640" y="458"/>
                  </a:lnTo>
                  <a:lnTo>
                    <a:pt x="597" y="505"/>
                  </a:lnTo>
                  <a:lnTo>
                    <a:pt x="543" y="536"/>
                  </a:lnTo>
                  <a:lnTo>
                    <a:pt x="486" y="561"/>
                  </a:lnTo>
                  <a:lnTo>
                    <a:pt x="440" y="578"/>
                  </a:lnTo>
                  <a:lnTo>
                    <a:pt x="402" y="595"/>
                  </a:lnTo>
                  <a:lnTo>
                    <a:pt x="348" y="629"/>
                  </a:lnTo>
                  <a:lnTo>
                    <a:pt x="329" y="622"/>
                  </a:lnTo>
                  <a:lnTo>
                    <a:pt x="316" y="609"/>
                  </a:lnTo>
                  <a:lnTo>
                    <a:pt x="262" y="583"/>
                  </a:lnTo>
                  <a:lnTo>
                    <a:pt x="227" y="568"/>
                  </a:lnTo>
                  <a:lnTo>
                    <a:pt x="203" y="561"/>
                  </a:lnTo>
                  <a:lnTo>
                    <a:pt x="173" y="546"/>
                  </a:lnTo>
                  <a:lnTo>
                    <a:pt x="143" y="529"/>
                  </a:lnTo>
                  <a:lnTo>
                    <a:pt x="116" y="512"/>
                  </a:lnTo>
                  <a:lnTo>
                    <a:pt x="84" y="490"/>
                  </a:lnTo>
                  <a:lnTo>
                    <a:pt x="65" y="468"/>
                  </a:lnTo>
                  <a:lnTo>
                    <a:pt x="46" y="441"/>
                  </a:lnTo>
                  <a:lnTo>
                    <a:pt x="35" y="419"/>
                  </a:lnTo>
                  <a:lnTo>
                    <a:pt x="35" y="410"/>
                  </a:lnTo>
                  <a:lnTo>
                    <a:pt x="19" y="410"/>
                  </a:lnTo>
                  <a:lnTo>
                    <a:pt x="5" y="395"/>
                  </a:lnTo>
                  <a:lnTo>
                    <a:pt x="0" y="385"/>
                  </a:lnTo>
                  <a:lnTo>
                    <a:pt x="16" y="375"/>
                  </a:lnTo>
                  <a:lnTo>
                    <a:pt x="32" y="351"/>
                  </a:lnTo>
                  <a:lnTo>
                    <a:pt x="41" y="332"/>
                  </a:lnTo>
                  <a:lnTo>
                    <a:pt x="46" y="319"/>
                  </a:lnTo>
                  <a:lnTo>
                    <a:pt x="43" y="305"/>
                  </a:lnTo>
                  <a:lnTo>
                    <a:pt x="46" y="290"/>
                  </a:lnTo>
                  <a:lnTo>
                    <a:pt x="54" y="285"/>
                  </a:lnTo>
                  <a:lnTo>
                    <a:pt x="68" y="288"/>
                  </a:lnTo>
                  <a:lnTo>
                    <a:pt x="84" y="293"/>
                  </a:lnTo>
                  <a:lnTo>
                    <a:pt x="89" y="302"/>
                  </a:lnTo>
                  <a:lnTo>
                    <a:pt x="97" y="293"/>
                  </a:lnTo>
                  <a:lnTo>
                    <a:pt x="111" y="263"/>
                  </a:lnTo>
                  <a:lnTo>
                    <a:pt x="113" y="224"/>
                  </a:lnTo>
                  <a:lnTo>
                    <a:pt x="111" y="185"/>
                  </a:lnTo>
                  <a:lnTo>
                    <a:pt x="105" y="154"/>
                  </a:lnTo>
                  <a:lnTo>
                    <a:pt x="97" y="127"/>
                  </a:lnTo>
                  <a:lnTo>
                    <a:pt x="89" y="110"/>
                  </a:lnTo>
                  <a:lnTo>
                    <a:pt x="76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2"/>
            <a:stretch/>
          </p:blipFill>
          <p:spPr>
            <a:xfrm>
              <a:off x="8103600" y="5915160"/>
              <a:ext cx="72612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"/>
          <p:cNvSpPr/>
          <p:nvPr/>
        </p:nvSpPr>
        <p:spPr>
          <a:xfrm>
            <a:off x="0" y="2928960"/>
            <a:ext cx="809640" cy="12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65240" y="1432080"/>
            <a:ext cx="3105000" cy="2735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54200" y="1746360"/>
            <a:ext cx="2705040" cy="246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576600" y="2603520"/>
            <a:ext cx="2614320" cy="2247840"/>
            <a:chOff x="3576600" y="2603520"/>
            <a:chExt cx="2614320" cy="2247840"/>
          </a:xfrm>
        </p:grpSpPr>
        <p:grpSp>
          <p:nvGrpSpPr>
            <p:cNvPr id="464" name=""/>
            <p:cNvGrpSpPr/>
            <p:nvPr/>
          </p:nvGrpSpPr>
          <p:grpSpPr>
            <a:xfrm>
              <a:off x="3576600" y="2603520"/>
              <a:ext cx="2521440" cy="2247840"/>
              <a:chOff x="3576600" y="2603520"/>
              <a:chExt cx="2521440" cy="2247840"/>
            </a:xfrm>
          </p:grpSpPr>
          <p:pic>
            <p:nvPicPr>
              <p:cNvPr id="4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8520" y="2834280"/>
                <a:ext cx="2369520" cy="201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3576600" y="2603520"/>
                <a:ext cx="795960" cy="11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970440" y="2724480"/>
                <a:ext cx="671040" cy="30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993840" y="4534560"/>
              <a:ext cx="219708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4179960" y="1495440"/>
            <a:ext cx="1825560" cy="14335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5008680" y="2201760"/>
            <a:ext cx="395280" cy="1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024520" y="1549440"/>
            <a:ext cx="38556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5024520" y="1968120"/>
            <a:ext cx="360360" cy="9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1747800" y="1822320"/>
            <a:ext cx="2108160" cy="1773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2516040" y="3495600"/>
            <a:ext cx="1619280" cy="997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 flipH="1">
            <a:off x="2496960" y="2979720"/>
            <a:ext cx="51624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92560" y="2979720"/>
            <a:ext cx="79668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44960" y="2975040"/>
            <a:ext cx="101520" cy="4744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8"/>
          <a:stretch/>
        </p:blipFill>
        <p:spPr>
          <a:xfrm>
            <a:off x="291960" y="2693880"/>
            <a:ext cx="1895760" cy="1925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758960" y="1812960"/>
            <a:ext cx="3175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728720" y="2170080"/>
            <a:ext cx="703440" cy="7048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0920" y="1795320"/>
            <a:ext cx="41436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17840" y="2182680"/>
            <a:ext cx="1886040" cy="96228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9"/>
          <a:stretch/>
        </p:blipFill>
        <p:spPr>
          <a:xfrm>
            <a:off x="903240" y="1719360"/>
            <a:ext cx="917640" cy="919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35200" y="1866960"/>
            <a:ext cx="2378160" cy="475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49520" y="1881360"/>
            <a:ext cx="368280" cy="1998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08640" y="2593800"/>
            <a:ext cx="162216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2. Review Aircraft Commitmen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81720" y="4473720"/>
            <a:ext cx="147456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5. Generate and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Tanker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72600" y="3616200"/>
            <a:ext cx="165276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3. Compare  Alter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(Re)Allocation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7840" y="4229280"/>
            <a:ext cx="168264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4. Identify 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Merging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52640" y="2182680"/>
            <a:ext cx="1357560" cy="459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1. Generate Mission 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19120" y="2211120"/>
            <a:ext cx="330120" cy="214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5234040"/>
            <a:ext cx="6461280" cy="1410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65240">
              <a:lnSpc>
                <a:spcPct val="90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timized utilization of AMC aircraft &amp; aircr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65240">
              <a:lnSpc>
                <a:spcPct val="90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apid re-allocation of assets to respond to unexpected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65240">
              <a:lnSpc>
                <a:spcPct val="90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ternative courses of action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1600" y="1392120"/>
            <a:ext cx="2581200" cy="3666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lnSpc>
                <a:spcPct val="85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cremental, Constraint-guide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85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Continuous planning and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85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nfigurable Scheduling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85000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Rapid application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 flipV="1">
            <a:off x="4460760" y="2428560"/>
            <a:ext cx="20880" cy="77940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54480" y="4044960"/>
            <a:ext cx="917640" cy="7826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966000" y="2739960"/>
            <a:ext cx="1104840" cy="309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48200" y="2265480"/>
            <a:ext cx="1105200" cy="309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51440" y="1995480"/>
            <a:ext cx="1206360" cy="34308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840" y="466560"/>
            <a:ext cx="7629480" cy="10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AMC Mission Planning, Scheduling and Execution Proces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203184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ting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66640" y="224460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80120" y="2712960"/>
            <a:ext cx="96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22400" y="2722680"/>
            <a:ext cx="1104840" cy="309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22480" y="273528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27120" y="2281320"/>
            <a:ext cx="1105200" cy="309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77600" y="2262240"/>
            <a:ext cx="85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76520" y="3300480"/>
            <a:ext cx="2052720" cy="7333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93680" y="3459240"/>
            <a:ext cx="157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rrel 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4120" y="3102120"/>
            <a:ext cx="1566720" cy="56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97240" y="2679840"/>
            <a:ext cx="703440" cy="58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622400" y="2441520"/>
            <a:ext cx="3348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198760" y="2679840"/>
            <a:ext cx="811080" cy="58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638680" y="3084480"/>
            <a:ext cx="1424160" cy="48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5040" y="1938240"/>
            <a:ext cx="216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7960" y="3610080"/>
            <a:ext cx="250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source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81360" y="4843440"/>
            <a:ext cx="1747800" cy="64764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95920" y="4826160"/>
            <a:ext cx="1832040" cy="66168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6280" y="500868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X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00400" y="4889520"/>
            <a:ext cx="148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t Schedu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t 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675240" y="4102200"/>
            <a:ext cx="5587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56600" y="4730760"/>
            <a:ext cx="168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86480" y="5240160"/>
            <a:ext cx="92052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65400" y="5559480"/>
            <a:ext cx="23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40680" y="4197240"/>
            <a:ext cx="1915920" cy="28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ng/MDS Assig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622760" y="5037120"/>
            <a:ext cx="998640" cy="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014640" y="2717640"/>
            <a:ext cx="711360" cy="6098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2201400" y="2971440"/>
            <a:ext cx="1320840" cy="50796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24440" y="4284720"/>
            <a:ext cx="17830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Times New Roman"/>
              </a:rPr>
              <a:t>Detailed Assignmen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Times New Roman"/>
              </a:rPr>
              <a:t>Status,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52560" y="2990880"/>
            <a:ext cx="91152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Times New Roman"/>
              </a:rPr>
              <a:t>Problem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c0128"/>
                </a:solidFill>
                <a:latin typeface="Times New Roman"/>
              </a:rPr>
              <a:t>Rev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94520" y="2592360"/>
            <a:ext cx="23590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ssions, Recommended 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425920" y="2700360"/>
            <a:ext cx="866880" cy="6602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26000" y="2921040"/>
            <a:ext cx="1343160" cy="541440"/>
          </a:xfrm>
          <a:prstGeom prst="line">
            <a:avLst/>
          </a:prstGeom>
          <a:ln w="12600">
            <a:solidFill>
              <a:srgbClr val="fc0128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63000" y="5348160"/>
            <a:ext cx="749880" cy="28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as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31560" y="1974960"/>
            <a:ext cx="1166040" cy="4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ques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72480" y="2227320"/>
            <a:ext cx="5000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Problem Characteristic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71560" y="1874880"/>
            <a:ext cx="7778880" cy="32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ission requirement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52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tinerary, Earliest pickup, latest drop-off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52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quired ground times (onload, offload, refuel,…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52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iority classes (service levels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51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Resource constraint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52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ng aircraft and crew capacities (contracted and fenced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52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ircraft range, speed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52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rew duty da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20840" y="239760"/>
            <a:ext cx="4952880" cy="35290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595440" y="2765520"/>
            <a:ext cx="6324480" cy="3697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5010120" y="163440"/>
            <a:ext cx="397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84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The AMC Barrel Allocat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1841040"/>
            <a:ext cx="782028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ay-to-Day Management of Airlift &amp; Tanker Assets at the USAF Air Mobility Command (AMC)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656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echnical Capabilities: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Mixed-Initiative Allocation of Airlift Resourc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1062720" indent="-212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Flexible control over degree of automation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2" marL="1062720" indent="-212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Flexible specification of </a:t>
            </a:r>
            <a:r>
              <a:rPr b="0" i="1" lang="en-US" sz="2200" spc="-1" strike="noStrike">
                <a:solidFill>
                  <a:srgbClr val="000000"/>
                </a:solidFill>
                <a:latin typeface="Palatino"/>
              </a:rPr>
              <a:t>Relaxable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 Constraint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2" marL="1062720" indent="-2124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ordinated, graphical visualization and manipulation of schedules/constraint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Incremental Manipulation of Mission Schedul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656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832040" y="5369040"/>
            <a:ext cx="6055560" cy="716400"/>
            <a:chOff x="1832040" y="5369040"/>
            <a:chExt cx="6055560" cy="716400"/>
          </a:xfrm>
        </p:grpSpPr>
        <p:sp>
          <p:nvSpPr>
            <p:cNvPr id="544" name=""/>
            <p:cNvSpPr/>
            <p:nvPr/>
          </p:nvSpPr>
          <p:spPr>
            <a:xfrm>
              <a:off x="2852640" y="5702400"/>
              <a:ext cx="365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32040" y="5381640"/>
              <a:ext cx="116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nim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25280" y="536904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-optim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rom scra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Insert Barrel Allocat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Demonstration Here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248520" cy="47768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6691320" cy="3844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-89280" y="47520"/>
            <a:ext cx="28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Unassig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334120" cy="30528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943600" cy="18493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5715000" cy="2120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57040" y="2398680"/>
            <a:ext cx="300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Feasible Resourc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617840" y="3341520"/>
            <a:ext cx="6500520" cy="2986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326880" y="444600"/>
            <a:ext cx="5867640" cy="2736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327720" y="484200"/>
            <a:ext cx="22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omp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2120" y="2852640"/>
            <a:ext cx="1227240" cy="204624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357840 h 2046240"/>
              <a:gd name="textAreaBottom" fmla="*/ 1483560 h 20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3d45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Current Trends and Problem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283520" cy="33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Increased globalization of business has led companies to focus increasingly on core competencie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Greater reliance on outsourcing &amp; trading partner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484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Greater complexity in managing fulfillment proces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Visibility of end-market demand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Uncertainty of manufacturing capacity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484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ome Consequence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To avoid stockouts, companies build for all scenario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-198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uilding to inventory has side effect of increased defect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9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66840" y="1116000"/>
            <a:ext cx="8348400" cy="48801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366920" y="210960"/>
            <a:ext cx="63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Results of Mission Mer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3201840" y="311040"/>
            <a:ext cx="5695920" cy="5695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1033560"/>
            <a:ext cx="3160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ombining Two Missions to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Technical Basis: Parameterizable Search Procedure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4" name=""/>
          <p:cNvSpPr/>
          <p:nvPr/>
        </p:nvSpPr>
        <p:spPr>
          <a:xfrm>
            <a:off x="2801880" y="4016520"/>
            <a:ext cx="4024440" cy="99720"/>
          </a:xfrm>
          <a:prstGeom prst="rect">
            <a:avLst/>
          </a:prstGeom>
          <a:solidFill>
            <a:srgbClr val="cecece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75160" y="2943360"/>
            <a:ext cx="2641320" cy="101520"/>
          </a:xfrm>
          <a:prstGeom prst="rect">
            <a:avLst/>
          </a:prstGeom>
          <a:solidFill>
            <a:srgbClr val="cecece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55680" y="4335480"/>
            <a:ext cx="619200" cy="35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3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51200" y="4329000"/>
            <a:ext cx="609480" cy="35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2,3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20960" y="4335480"/>
            <a:ext cx="569880" cy="34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4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31880" y="434664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525760" y="3800520"/>
            <a:ext cx="91584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195360" y="3817800"/>
            <a:ext cx="33948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006800" y="3795840"/>
            <a:ext cx="411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49640" y="3198960"/>
            <a:ext cx="880920" cy="60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30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18080" y="3784680"/>
            <a:ext cx="64152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79800" y="1851120"/>
            <a:ext cx="1811520" cy="91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ignMis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141, [t1,t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728520" y="2739960"/>
            <a:ext cx="79380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18280" y="2709720"/>
            <a:ext cx="85248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933800" y="3164040"/>
            <a:ext cx="754200" cy="63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60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80160" y="3160800"/>
            <a:ext cx="792000" cy="636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62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64040" y="3206880"/>
            <a:ext cx="819000" cy="60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437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490640" y="2773440"/>
            <a:ext cx="222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18120" y="2757600"/>
            <a:ext cx="1555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02120" y="432900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54360" y="3824280"/>
            <a:ext cx="11448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65720" y="4363920"/>
            <a:ext cx="560160" cy="33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2,4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05400" y="3801960"/>
            <a:ext cx="717840" cy="5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50000" y="4356000"/>
            <a:ext cx="585720" cy="32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27440" y="434196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40640" y="4341960"/>
            <a:ext cx="608040" cy="336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91160" y="434484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80200" y="3807000"/>
            <a:ext cx="12060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05240" y="4370400"/>
            <a:ext cx="579600" cy="3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22920" y="2678040"/>
            <a:ext cx="1375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93680" y="3890880"/>
            <a:ext cx="1293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Interv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98720" y="3098880"/>
            <a:ext cx="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84320" y="4241880"/>
            <a:ext cx="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27560" y="5353200"/>
            <a:ext cx="127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746080" y="4781160"/>
            <a:ext cx="1531800" cy="68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357880" y="4797000"/>
            <a:ext cx="1419120" cy="60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468240" y="4726080"/>
            <a:ext cx="94788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4136760" y="4757400"/>
            <a:ext cx="52524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8520" y="5076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97760" y="5883120"/>
            <a:ext cx="5884920" cy="475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asib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- &lt;Ge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Ge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Interval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Eva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MinComplet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Configuration Option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4960" y="2082960"/>
            <a:ext cx="7896240" cy="340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easible -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RequestedRe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Interval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Eva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MinCompletion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0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&lt;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RequestedRe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DelayInt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Eva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MinTardines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&gt;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0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ver-Allocate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&lt;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RequestedRe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OverInt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Eva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MinOverUsage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&gt;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0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ump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– &lt;Ge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"/>
              </a:rPr>
              <a:t>RequestedRe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Ge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"/>
              </a:rPr>
              <a:t>BumpInt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Ev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"/>
              </a:rPr>
              <a:t>MinDisrupt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80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Alternative-MDS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- &lt; 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AlternRe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Ge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Intervals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, Eva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alatino"/>
              </a:rPr>
              <a:t>MinCompletion</a:t>
            </a: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&gt;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0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omposite Relaxation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- …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Compare Option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7" name=""/>
          <p:cNvSpPr/>
          <p:nvPr/>
        </p:nvSpPr>
        <p:spPr>
          <a:xfrm>
            <a:off x="3460680" y="2111400"/>
            <a:ext cx="1478160" cy="1152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Gen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36920" y="3897360"/>
            <a:ext cx="1478160" cy="1152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v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llo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08840" y="3906720"/>
            <a:ext cx="1477800" cy="1152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lt. Airc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7880" y="3914640"/>
            <a:ext cx="1477800" cy="1152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0160" y="3911760"/>
            <a:ext cx="1477800" cy="1152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04960" y="5437080"/>
            <a:ext cx="1744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n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3640" y="5433840"/>
            <a:ext cx="1744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AlternR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n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77320" y="5408640"/>
            <a:ext cx="1703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nOver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49880" y="5403960"/>
            <a:ext cx="1744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AlternR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n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593720" y="3200400"/>
            <a:ext cx="225432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355920" y="3263760"/>
            <a:ext cx="674640" cy="66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05320" y="3238560"/>
            <a:ext cx="674640" cy="66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613400" y="3186000"/>
            <a:ext cx="230652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3040" y="5013360"/>
            <a:ext cx="0" cy="452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49720" y="5037120"/>
            <a:ext cx="0" cy="452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97600" y="5033880"/>
            <a:ext cx="0" cy="452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45400" y="5019840"/>
            <a:ext cx="0" cy="452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23880" y="4025880"/>
            <a:ext cx="5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4840" y="635040"/>
            <a:ext cx="7538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ority-Based Pre-Emp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6" name=""/>
          <p:cNvSpPr/>
          <p:nvPr/>
        </p:nvSpPr>
        <p:spPr>
          <a:xfrm>
            <a:off x="2814480" y="4378320"/>
            <a:ext cx="4024440" cy="100080"/>
          </a:xfrm>
          <a:prstGeom prst="rect">
            <a:avLst/>
          </a:prstGeom>
          <a:solidFill>
            <a:srgbClr val="cecece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3305160"/>
            <a:ext cx="2641680" cy="101520"/>
          </a:xfrm>
          <a:prstGeom prst="rect">
            <a:avLst/>
          </a:prstGeom>
          <a:solidFill>
            <a:srgbClr val="cecece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68640" y="4697280"/>
            <a:ext cx="618840" cy="35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3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63800" y="4691160"/>
            <a:ext cx="609480" cy="35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2,3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33920" y="4697280"/>
            <a:ext cx="569880" cy="34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4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44480" y="470844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38000" y="4162320"/>
            <a:ext cx="91620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208320" y="4179960"/>
            <a:ext cx="33984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19040" y="4157640"/>
            <a:ext cx="41148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62240" y="3560760"/>
            <a:ext cx="881280" cy="60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30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30680" y="4146480"/>
            <a:ext cx="641520" cy="5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92400" y="2120760"/>
            <a:ext cx="1837080" cy="1011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signMis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141, [t1,t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741480" y="3102120"/>
            <a:ext cx="79380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0880" y="3071880"/>
            <a:ext cx="85248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46760" y="3525840"/>
            <a:ext cx="753840" cy="63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60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92760" y="3522600"/>
            <a:ext cx="792360" cy="636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62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76640" y="3568680"/>
            <a:ext cx="819360" cy="60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437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M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503600" y="3135240"/>
            <a:ext cx="22248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30720" y="3119400"/>
            <a:ext cx="15552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14720" y="469116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67320" y="4186080"/>
            <a:ext cx="11412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78320" y="4726080"/>
            <a:ext cx="560520" cy="33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2,4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318360" y="4164120"/>
            <a:ext cx="717480" cy="51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2600" y="4718160"/>
            <a:ext cx="585720" cy="320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40400" y="470376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3240" y="4703760"/>
            <a:ext cx="608040" cy="336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03760" y="4707000"/>
            <a:ext cx="359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92800" y="4168800"/>
            <a:ext cx="12060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8200" y="4732200"/>
            <a:ext cx="579240" cy="3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Palatino"/>
              </a:rPr>
              <a:t>1,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35520" y="3040200"/>
            <a:ext cx="1375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07720" y="4162320"/>
            <a:ext cx="130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Bump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11320" y="3460680"/>
            <a:ext cx="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96920" y="460368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64640" y="5715000"/>
            <a:ext cx="1540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Eval</a:t>
            </a:r>
            <a:r>
              <a:rPr b="1" lang="en-US" sz="2200" spc="-1" strike="noStrike" baseline="-25000">
                <a:solidFill>
                  <a:srgbClr val="cc0000"/>
                </a:solidFill>
                <a:latin typeface="Times New Roman"/>
              </a:rPr>
              <a:t>MinDisru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2758680" y="5143320"/>
            <a:ext cx="1531800" cy="68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370480" y="5159520"/>
            <a:ext cx="1419120" cy="599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3481560" y="5087880"/>
            <a:ext cx="94752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4149720" y="5119200"/>
            <a:ext cx="52560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21120" y="5438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31520" y="595080"/>
            <a:ext cx="7785000" cy="104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ority-Based Pre-Emp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87160" y="5214600"/>
            <a:ext cx="785628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v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Palatino"/>
              </a:rPr>
              <a:t>MinDisrupt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=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Palatino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* #pre-emptions +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* priority-level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67" name=""/>
          <p:cNvSpPr/>
          <p:nvPr/>
        </p:nvSpPr>
        <p:spPr>
          <a:xfrm>
            <a:off x="1879560" y="3770280"/>
            <a:ext cx="5637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1320" y="3032280"/>
            <a:ext cx="4716360" cy="725400"/>
          </a:xfrm>
          <a:prstGeom prst="rect">
            <a:avLst/>
          </a:prstGeom>
          <a:solidFill>
            <a:srgbClr val="f3d4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93920" y="3589200"/>
            <a:ext cx="959040" cy="1828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86000" y="3330720"/>
            <a:ext cx="422280" cy="43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49800" y="3498840"/>
            <a:ext cx="1763640" cy="2588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51200" y="2708280"/>
            <a:ext cx="2901960" cy="128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40400" y="271620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quired Tim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0920" y="3059280"/>
            <a:ext cx="12474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03320" y="4005360"/>
            <a:ext cx="30747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re-emp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lower priority) 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5144760" y="3666600"/>
            <a:ext cx="74916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3446640" y="3679920"/>
            <a:ext cx="2255760" cy="63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98120" y="2227320"/>
            <a:ext cx="1951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Higher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6427800" y="2602080"/>
            <a:ext cx="993600" cy="54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AMPS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Advanced Scheduling Effor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6720" y="1944360"/>
            <a:ext cx="7624800" cy="35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rrel Allocator installed as part of CAMPS 2.0 release in Nov, 1999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ystem currently undergoing operational testing (initial roll-out to users’ desks in April, 2000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tinuing development aimed at expanded use by other offices at AMC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253280" cy="9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ActiveLets: Light-weight Planning &amp; Scheduling Component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Vision: Mobile and dynamically configurable planning and scheduling tool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Internet-based delivery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mposable tools for automated or semi-automated generation, revision, and analysis of plans and schedul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nfigurable for both stand-alone applications and collaborative decision-making and coordina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1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tarting Point: 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-185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Generalize from Barrel Allocator to provide parameterizable components for integrated logistics planning and scheduling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5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upply Chain Re-engineering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17440" y="196524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-2084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Opportunities for significant performance gain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0040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.g., HP Deskjet Printer - 18% reduction in inventory costs through delayed product differenti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08440" indent="-2084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However,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0040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npredictable performance impact, limited view of future, politically and emotional charged circumstances, complex interacting proces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50040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ow to analyze alternatives and assess ris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08440" indent="-2084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Approache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0040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Qualitative analysis (Benchmarking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sights into current trends but not prescriptiv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50040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ustomized simulation analysi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ime consuming to develop and model specific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50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The Opportunity of B2B Commerce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entralized markets will create unprecedented levels of market transparency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ice, availability, supplier, produc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4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ompanies will use these marketplaces as “e-hubs” to synchronize operations within their demand and supply chain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82840" indent="-19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anies will substitute information for inven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4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Partnering and specialization will become increasingly important driver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60040" y="582480"/>
            <a:ext cx="74739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A Multi-Agent Supply Chain Modeling and Simulation Framework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207200" cy="33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Goal: Rapid development of simulation models for supply chain re-engineering analysi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455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Approach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nalysis of 3 distinct SC domain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lass library of components for configuring alternative supply chain networks (nodes, organizational structure, coordination policies)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Explicit communication between SC Agent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Locality of purview, constraints and objective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imultaneous analysis from different organizational perspectives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tructure of Supply Chain Library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9" name=""/>
          <p:cNvSpPr/>
          <p:nvPr/>
        </p:nvSpPr>
        <p:spPr>
          <a:xfrm>
            <a:off x="3254760" y="2139840"/>
            <a:ext cx="225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pply Chain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89880" y="311004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tructural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33440" y="31464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Control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0680" y="41688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87120" y="41781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Transpor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58920" y="411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10160" y="41194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17520" y="41162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00400" y="41004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60080" y="409716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-41040" y="48862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Reta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4880" y="51814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Distribu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7360" y="548964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Manufactu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30080" y="503244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90560" y="54435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Veh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08760" y="50245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Lo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1880" y="546408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66200" y="4444920"/>
            <a:ext cx="42732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933120" y="4444920"/>
            <a:ext cx="65160" cy="72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27160" y="4444920"/>
            <a:ext cx="401760" cy="10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17520" y="4432320"/>
            <a:ext cx="83052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73440" y="4444920"/>
            <a:ext cx="0" cy="9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9080" y="3433680"/>
            <a:ext cx="3618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061640" y="3421080"/>
            <a:ext cx="1128600" cy="72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2449080" y="2449440"/>
            <a:ext cx="1762200" cy="64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44920" y="2449440"/>
            <a:ext cx="128268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314960" y="3408480"/>
            <a:ext cx="1231920" cy="7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5182920" y="3395520"/>
            <a:ext cx="492120" cy="72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57920" y="3421080"/>
            <a:ext cx="323640" cy="7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51600" y="3408480"/>
            <a:ext cx="106200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81560" y="3408480"/>
            <a:ext cx="2111400" cy="69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784320" y="4392720"/>
            <a:ext cx="4014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6800" y="4392720"/>
            <a:ext cx="0" cy="10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98760" y="498780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Centr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98000" y="530856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Decentr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21760" y="498168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49800" y="563868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06000" y="497376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Con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46240" y="550224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Real-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249400" y="50450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Period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884480" y="4392720"/>
            <a:ext cx="20772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22880" y="4392720"/>
            <a:ext cx="34920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039000" y="4419720"/>
            <a:ext cx="10296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259680" y="4392720"/>
            <a:ext cx="452160" cy="12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65800" y="4405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853040" y="4405320"/>
            <a:ext cx="361800" cy="10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19960" y="4392720"/>
            <a:ext cx="41436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An Example: Impact of Supplier Information on Supply Chain Performance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228600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haring of supplier information leads to better performance both in terms of cost and 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haring of supplier information is beneficial to all organizational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liers would be willing to sha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Basic Scenario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0" name=""/>
          <p:cNvSpPr/>
          <p:nvPr/>
        </p:nvSpPr>
        <p:spPr>
          <a:xfrm>
            <a:off x="817560" y="2711520"/>
            <a:ext cx="1895400" cy="1123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Manufactur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08480" y="3424320"/>
            <a:ext cx="1895400" cy="1123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upplier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334040" y="1908000"/>
            <a:ext cx="1895400" cy="1124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upplier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2786040" y="2538360"/>
            <a:ext cx="1479600" cy="4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2792520" y="3352320"/>
            <a:ext cx="1434960" cy="54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09360" y="217800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44280" y="371952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90680" y="4735440"/>
            <a:ext cx="6748560" cy="12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upplier 1 is less expensive (P1&lt;P2) but also less reliable (V1&gt;V2)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34360" indent="-234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Manufacturer and Supplier Costs: Procurement Costs, Holding Costs, Stock Out Cost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8" name=""/>
          <p:cNvSpPr/>
          <p:nvPr/>
        </p:nvSpPr>
        <p:spPr>
          <a:xfrm>
            <a:off x="6314400" y="20797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Unit price: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llocation Var.: V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31680" y="366552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Unit price: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llocation Var.: 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Alternative Model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48640" cy="60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Manufacturer Inventory Policy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2" name=""/>
          <p:cNvSpPr/>
          <p:nvPr/>
        </p:nvSpPr>
        <p:spPr>
          <a:xfrm>
            <a:off x="1641600" y="2649600"/>
            <a:ext cx="571500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427560" y="2649600"/>
            <a:ext cx="2124000" cy="388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43640" y="2649600"/>
            <a:ext cx="1822320" cy="3888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97000" y="4575240"/>
            <a:ext cx="654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del 1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-ordering based on historical data on suppliers (a and b are constant across perio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del 2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-ordering based on shared supplier capacity info. (a and b updated each perio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del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Only supplier 1 shares capacity inf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90040" y="30052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67320" y="3032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650960" y="3040200"/>
            <a:ext cx="60422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08800" y="3097080"/>
            <a:ext cx="1467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n-hand inven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17400" y="3024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54360" y="3505320"/>
            <a:ext cx="3552480" cy="916920"/>
            <a:chOff x="2754360" y="3505320"/>
            <a:chExt cx="3552480" cy="916920"/>
          </a:xfrm>
        </p:grpSpPr>
        <p:sp>
          <p:nvSpPr>
            <p:cNvPr id="762" name=""/>
            <p:cNvSpPr/>
            <p:nvPr/>
          </p:nvSpPr>
          <p:spPr>
            <a:xfrm>
              <a:off x="2767320" y="3575160"/>
              <a:ext cx="925200" cy="21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56160" y="3844800"/>
              <a:ext cx="925560" cy="217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54360" y="4124160"/>
              <a:ext cx="925560" cy="2178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52120" y="3505320"/>
              <a:ext cx="275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Order from b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Order from Supplie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o Or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ensitivity of Inventory Policy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88640" y="5635800"/>
            <a:ext cx="6738840" cy="99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b’ - b = Change in b                   a’ - a = Change in a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8" name=""/>
          <p:cNvSpPr/>
          <p:nvPr/>
        </p:nvSpPr>
        <p:spPr>
          <a:xfrm>
            <a:off x="1486080" y="2249640"/>
            <a:ext cx="571500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1680" y="2249640"/>
            <a:ext cx="2124360" cy="388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88120" y="2249640"/>
            <a:ext cx="1822320" cy="3888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34520" y="26049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11440" y="2631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95440" y="2639880"/>
            <a:ext cx="604188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53280" y="2697120"/>
            <a:ext cx="1467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n-hand inven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61880" y="262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598840" y="3105000"/>
            <a:ext cx="3552480" cy="916920"/>
            <a:chOff x="2598840" y="3105000"/>
            <a:chExt cx="3552480" cy="916920"/>
          </a:xfrm>
        </p:grpSpPr>
        <p:sp>
          <p:nvSpPr>
            <p:cNvPr id="777" name=""/>
            <p:cNvSpPr/>
            <p:nvPr/>
          </p:nvSpPr>
          <p:spPr>
            <a:xfrm>
              <a:off x="2611800" y="3174840"/>
              <a:ext cx="925200" cy="21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00640" y="3444480"/>
              <a:ext cx="925560" cy="217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98840" y="3723840"/>
              <a:ext cx="925560" cy="2178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96600" y="3105000"/>
              <a:ext cx="275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Order from b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Order from Supplier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o Or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420920" y="4226040"/>
            <a:ext cx="571500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22960" y="4226040"/>
            <a:ext cx="1822320" cy="38880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371040" y="46162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30280" y="4616280"/>
            <a:ext cx="604224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6720" y="4600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33760" y="4226040"/>
            <a:ext cx="2332080" cy="398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17880" y="46083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37280" y="499104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Increase in Variance of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equence of events each period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160640" y="197928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1. Supplier allocations are generated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2. This information is (or is not) shared with Manufacturer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3. Based on this information (or expected values) orders are placed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4. Suppliers supply full order quantity or part of it (if more than capacity allocation)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5. Stochastic demand occurs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6. Maximum possible demand is satisfied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7. Unfilled demand is lost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ummary of Result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33560" y="1989000"/>
            <a:ext cx="7240320" cy="33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Information sharing reduces total supply chain cost and increases quality of service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346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enefit increases on both counts as unreliability of Supplier 1 increas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2840" indent="-222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Information sharing is beneficial to Manufacturer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2840" indent="-222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upplier 1 profits increase with information sharing 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2840" indent="-222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upplier 2 profits </a:t>
            </a:r>
            <a:r>
              <a:rPr b="1" i="1" lang="en-US" sz="2200" spc="-1" strike="noStrike">
                <a:solidFill>
                  <a:srgbClr val="000000"/>
                </a:solidFill>
                <a:latin typeface="Palatino"/>
              </a:rPr>
              <a:t>decrease</a:t>
            </a: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 with information sharing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346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mpetitive advantage (i.e., ability to deliver more reliably) is lost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2840" indent="-222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If Supplier 2 does not share information but Supplier 1 does, Supplier 2 profits </a:t>
            </a:r>
            <a:r>
              <a:rPr b="1" i="1" lang="en-US" sz="2200" spc="-1" strike="noStrike">
                <a:solidFill>
                  <a:srgbClr val="000000"/>
                </a:solidFill>
                <a:latin typeface="Palatino"/>
              </a:rPr>
              <a:t>decrease further</a:t>
            </a: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22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53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tatus of Modeling Framework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Modeling components incorporated into IBM supply chain analysis tool called BPMAT 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57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Subsequent evolution into Supply Chain Analyzer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17040" indent="-205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Used by IBM Consulting within E-Business Group at IBM Yorktown Height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17040" indent="-205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1998 Winner of annual INFORMS award for highest impact applica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17040" indent="-205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2/2000 - sold to I2 Technolog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57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tinuing collaboration (through graduate student participation) on next-generation SCA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Autonomous Agents Approaches to Coordination and Scheduling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17200" y="1965240"/>
            <a:ext cx="7311960" cy="337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istribute decision-making among individual entities (machines, tools, parts, operators; manufacturers, suppliers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pecify local behaviors and protocols for intera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obust, emergent global behavior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7" name=""/>
          <p:cNvSpPr/>
          <p:nvPr/>
        </p:nvSpPr>
        <p:spPr>
          <a:xfrm>
            <a:off x="909720" y="3840120"/>
            <a:ext cx="35496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Conventional Approa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entralized decis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aking: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mmand &amp;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equential schedu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and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13360" y="3844800"/>
            <a:ext cx="3330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Autonomous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ocal autonom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xecutional robus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ontext &amp; 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Local decision-ma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when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E-Marketplace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ntent Management 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Order Matching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Buyer-Seller Aggrega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Procurement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Order configura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68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utur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Order fulfillment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E-commerce operation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4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GM Paint Shop Example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0" name=""/>
          <p:cNvSpPr/>
          <p:nvPr/>
        </p:nvSpPr>
        <p:spPr>
          <a:xfrm>
            <a:off x="2057400" y="2743200"/>
            <a:ext cx="144792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Disp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5880" y="2133720"/>
            <a:ext cx="91440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95880" y="4267080"/>
            <a:ext cx="914400" cy="15242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809880" y="266652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886200" y="297144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3962520"/>
            <a:ext cx="1981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4343400"/>
            <a:ext cx="198108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8716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B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443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B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04360" y="3505320"/>
            <a:ext cx="175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nnoun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(new tru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88400" y="2817720"/>
            <a:ext cx="2049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Bid paramet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- same color as 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tr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- space in que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- empty que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3960" y="4722840"/>
            <a:ext cx="393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If bid for same color then a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else if empty booth then a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Palatino"/>
              </a:rPr>
              <a:t>else if queue space then awar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Tradeoff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22320" y="1912680"/>
            <a:ext cx="7507440" cy="345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Advantages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mplexity reduction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Simple, configurable software system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obustness to changing circumstances, component failur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More stable computational load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455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Problems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No understanding of global optima (or how to achieve global behavior that attends to specific performance goals)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589680" indent="-196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Prediction only at aggregate level (can become unstable)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DICORE: Distributed Coordination of Resource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09128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Project Goal: Improve the global performance characteristics of autonomous agents approaches to scheduling and coordination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marL="2858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alatino"/>
              </a:rPr>
              <a:t>Issues:</a:t>
            </a:r>
            <a:endParaRPr b="1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mparative analysis of coordination policies and protocol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Incorporation of projection and look-ahead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daptive decision policie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Research Direction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Generating robust schedul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terleaved planning and schedul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lan and schedule visualiz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istributed resource manage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ight-weight scheduling compone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54200" y="2795760"/>
            <a:ext cx="7493040" cy="33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http://www.cs.cmu.edu/afs/cs/project/ozone/www/icllab.html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E-Commerce “Operations”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035840" cy="33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ccurate due date promising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eal-time product availability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Coordination of multiple line items to minimize shipping cost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Real-time shipping statu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Flexible service level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Available to promise, capable to promise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Intelligent alternatives to fill demand and optimize along various dimension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  <a:p>
            <a:pPr lvl="1" marL="630720" indent="-210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"/>
              </a:rPr>
              <a:t>Order integration across multiple manufacturers</a:t>
            </a:r>
            <a:endParaRPr b="0" lang="en-US" sz="2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Obstacles and Challenges</a:t>
            </a:r>
            <a:endParaRPr b="1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184880" cy="32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ransactions must flow to back-end ERP system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62320" indent="-18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urrently about 5% of internet exchanges have some integ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34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RP systems are not designed to support real-time connectivity and decision-making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62320" indent="-18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ore flexible information management, planning and scheduling technologies needed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34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uture: Migration of ERP functions from behind the firewall to shared, internet services associated with e-hub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6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6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6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Outline of Talk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2040" y="1874520"/>
            <a:ext cx="7620120" cy="32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14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Integrating &amp; Optimizing the Manufacturing Enterpris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140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IMDS goals, organization, &amp; research thru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214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ecision Systems for Supply Chain Managemen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140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istorical Perspective - Constraint-based factory schedul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5140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P3S/MASCO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tegrated Process Planning &amp; Production Schedul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ulti-Agent Coordination of Suppliers and Mfgrs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5140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zone/Ditops/BA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tegrated transportation and logistics planning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-weight, configurable planning &amp; scheduling tool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5140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CA: Multi-Agent Simulation of Supply Chain Dynami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51408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ICORE: Autonomous Agents Scheduling &amp; Coordin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51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51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214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01:16:20Z</dcterms:created>
  <dc:creator>Steve Smith</dc:creator>
  <dc:description/>
  <dc:language>en-US</dc:language>
  <cp:lastModifiedBy>John T. Grasso</cp:lastModifiedBy>
  <cp:lastPrinted>2000-06-27T14:49:10Z</cp:lastPrinted>
  <dcterms:modified xsi:type="dcterms:W3CDTF">2000-07-27T20:58:49Z</dcterms:modified>
  <cp:revision>99</cp:revision>
  <dc:subject/>
  <dc:title>Continuous, Mixed-Initiative Scheduling for Integrated Air Campaign Plan Development: PMR Progress Report</dc:title>
</cp:coreProperties>
</file>