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8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9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rt shows where the costs lie in a typical credit card compan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0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10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0280" y="16282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10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0280" y="4135680"/>
            <a:ext cx="273240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66400"/>
            <a:ext cx="8381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0320" y="41356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0320" y="1628280"/>
            <a:ext cx="41414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4135680"/>
            <a:ext cx="8486640" cy="2289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86000" indent="-154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-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3880" indent="-152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2480" y="1285920"/>
            <a:ext cx="7980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6280" y="92160"/>
            <a:ext cx="8817120" cy="650232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9080" y="6586560"/>
            <a:ext cx="18572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 algn="ctr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1999  Marvin A. Sir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00920" y="6586560"/>
            <a:ext cx="11145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28440" bIns="28440" anchor="t">
            <a:spAutoFit/>
          </a:bodyPr>
          <a:p>
            <a:pPr marL="388800" indent="-388800"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89388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9F2A89-DBB3-45FA-96C2-AF9ABE9207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9680" y="95400"/>
            <a:ext cx="525600" cy="522000"/>
          </a:xfrm>
          <a:custGeom>
            <a:avLst/>
            <a:gdLst/>
            <a:ahLst/>
            <a:rect l="l" t="t" r="r" b="b"/>
            <a:pathLst>
              <a:path w="331" h="329">
                <a:moveTo>
                  <a:pt x="57" y="328"/>
                </a:moveTo>
                <a:lnTo>
                  <a:pt x="0" y="61"/>
                </a:lnTo>
                <a:lnTo>
                  <a:pt x="273" y="0"/>
                </a:lnTo>
                <a:lnTo>
                  <a:pt x="330" y="263"/>
                </a:lnTo>
                <a:lnTo>
                  <a:pt x="57" y="3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3480" y="125280"/>
            <a:ext cx="6753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rneg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7160" y="208080"/>
            <a:ext cx="62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ll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4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 Payment Systems and 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vin Sirb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Engineering and Public Poli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duate School of Industrial Administ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ttsburgh, Pa U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netbil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putational Efficien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key encryption and decryption are computationally expensiv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Pentium 90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28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C4 symmetric cryptograph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15,230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en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31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SA decryption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17 kb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Public Key to encrypt a symmetric key; use symmetric key to encrypt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==&gt; B     E(M, K), E(K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RSA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9800" y="1425600"/>
            <a:ext cx="8134560" cy="4533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the fact that factoring the product of two large primes is very difficul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s may be 512 - 1024 bits lo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ion and Decryption are commutat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D(M) = D(E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Using Public Keys for Signa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4000"/>
          </a:bodyPr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 Message M, computer a Message Digest,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 H(M) using the Private key of the sender,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d M, D(H(M)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cipient uses sender’s public key, 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verify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8680" indent="-238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E(D(H(M))) matches H(M) computed on the received message, th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ssage must have been signed by the send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sender knows 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8880" indent="-1908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has not been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4080" indent="-194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easible to create an altered message which computes to the same H(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OBTAINING PUBLIC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wants to communicate securely with B, how can A obtain B’s public key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A trusts a third party call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Authorit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well know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asks the CA for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 returns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ertifica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ed by the C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(M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{B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ertificate is a message signed by the trusted CA asserting that B’s public key is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mmercial Certificate Authoriti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ern Tele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(Lotus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onfidence in Certificat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“identity certificate” would  you trust mo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I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membership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ver’s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passport to issue, you must provide extensive proof of identity to the issu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isign offers multip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ublic Key Certificates which vary by how much of an effort Verisign makes to assure the identity of the person named in the certific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tomicity in Electronic Commer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ity:  money is not lost or created in a trans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ity:  Money is exchanged for goods in an atomic transa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  Merchant can prove what consumer ordered and consumer can prove what merchant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icrosoft Authenticode or Sun’s signed Java applets, can prove that software came from a particular author and was not alt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orders signed by consumer allow proof of what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rnet-Based Payment Model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e transmission of credit card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a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he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ized online aggegation accou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057400"/>
            <a:ext cx="1454040" cy="404640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67120" y="2057400"/>
            <a:ext cx="1409760" cy="4062240"/>
          </a:xfrm>
          <a:prstGeom prst="rect">
            <a:avLst/>
          </a:prstGeom>
          <a:gradFill rotWithShape="0">
            <a:gsLst>
              <a:gs pos="0">
                <a:srgbClr val="880000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49840" y="2057400"/>
            <a:ext cx="1513080" cy="407988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200" spc="-1" strike="noStrike">
                <a:solidFill>
                  <a:srgbClr val="232323"/>
                </a:solidFill>
                <a:latin typeface="Times New Roman"/>
              </a:rPr>
              <a:t>Internet Payment Transaction Ranges</a:t>
            </a:r>
            <a:endParaRPr b="1" lang="en-US" sz="3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5760" y="2516040"/>
            <a:ext cx="153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Black"/>
              </a:rPr>
              <a:t>Pay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4000" y="2122560"/>
            <a:ext cx="1609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5200" y="2122560"/>
            <a:ext cx="153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8200" y="2122560"/>
            <a:ext cx="1609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 Black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14800"/>
            <a:ext cx="8512200" cy="7621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8200" y="4307040"/>
            <a:ext cx="23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4000" y="4307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4160" y="4307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1520" y="4307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206880"/>
            <a:ext cx="8526240" cy="6793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720" y="3348000"/>
            <a:ext cx="1327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4160" y="3348000"/>
            <a:ext cx="1420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84920" y="3348000"/>
            <a:ext cx="12711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1520" y="334800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2880" y="5105520"/>
            <a:ext cx="8512200" cy="691920"/>
          </a:xfrm>
          <a:prstGeom prst="rect">
            <a:avLst/>
          </a:prstGeom>
          <a:gradFill rotWithShape="0">
            <a:gsLst>
              <a:gs pos="0">
                <a:srgbClr val="2d5ae0"/>
              </a:gs>
              <a:gs pos="100000">
                <a:srgbClr val="3365fb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0120" y="5234040"/>
            <a:ext cx="122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4160" y="5234040"/>
            <a:ext cx="1457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4000" y="5234040"/>
            <a:ext cx="1533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1520" y="5234040"/>
            <a:ext cx="13809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0.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6720" y="6275520"/>
            <a:ext cx="368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urce:  Digital Equipment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Info Sent Direct to Merchant  (Netscape Model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51120" y="2389320"/>
            <a:ext cx="100080" cy="3433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14120" y="400860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22960" y="1631880"/>
            <a:ext cx="1517760" cy="81288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9720" y="1932120"/>
            <a:ext cx="3205080" cy="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2400" y="1746360"/>
            <a:ext cx="14248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dit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quir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92680" y="1517760"/>
            <a:ext cx="1476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48160" y="2533680"/>
            <a:ext cx="2685960" cy="3733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8000"/>
          </a:bodyPr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sends card # direct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ilar to today’s phone or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trust merchant with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760" indent="-248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transaction cos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Informatio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arket Structur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-304920" y="762120"/>
          <a:ext cx="10058400" cy="514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762120"/>
                    <a:ext cx="100584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Intermediary Model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(CyberCash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461360" y="3384720"/>
            <a:ext cx="1517400" cy="812520"/>
            <a:chOff x="7461360" y="3384720"/>
            <a:chExt cx="1517400" cy="812520"/>
          </a:xfrm>
        </p:grpSpPr>
        <p:sp>
          <p:nvSpPr>
            <p:cNvPr id="172" name=""/>
            <p:cNvSpPr/>
            <p:nvPr/>
          </p:nvSpPr>
          <p:spPr>
            <a:xfrm>
              <a:off x="7461360" y="3384720"/>
              <a:ext cx="1517400" cy="81252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800" y="34974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180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Cybercash gateway to acquir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s to credit card card co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99240" y="4699080"/>
            <a:ext cx="1289160" cy="869760"/>
          </a:xfrm>
          <a:prstGeom prst="ellipse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040" y="4944960"/>
            <a:ext cx="138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yberC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761240" y="4281120"/>
            <a:ext cx="214200" cy="544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Credit Card Transactions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  </a:t>
            </a:r>
            <a:br>
              <a:rPr sz="1800"/>
            </a:b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232323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447920" y="1981080"/>
          <a:ext cx="68706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68706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86880" y="6546960"/>
            <a:ext cx="220536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2323"/>
                </a:solidFill>
                <a:latin typeface="Times New Roman"/>
              </a:rPr>
              <a:t>copyright CyberCash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ybercash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consumer and merchant have public key pai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gateway maintains list of public keys of consumers and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uses her private key to sign payment authorization and hash of transaction de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uses his private key to sign invo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bercash verifies both signatures before communicating with ban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ssible for merchant to forge consumer’s sign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60480" y="2898720"/>
            <a:ext cx="5237280" cy="2719440"/>
          </a:xfrm>
          <a:custGeom>
            <a:avLst/>
            <a:gdLst/>
            <a:ahLst/>
            <a:rect l="l" t="t" r="r" b="b"/>
            <a:pathLst>
              <a:path w="3299" h="1713">
                <a:moveTo>
                  <a:pt x="3298" y="1173"/>
                </a:moveTo>
                <a:lnTo>
                  <a:pt x="3293" y="1099"/>
                </a:lnTo>
                <a:lnTo>
                  <a:pt x="3264" y="986"/>
                </a:lnTo>
                <a:lnTo>
                  <a:pt x="3212" y="894"/>
                </a:lnTo>
                <a:lnTo>
                  <a:pt x="3187" y="863"/>
                </a:lnTo>
                <a:lnTo>
                  <a:pt x="3157" y="837"/>
                </a:lnTo>
                <a:lnTo>
                  <a:pt x="3092" y="800"/>
                </a:lnTo>
                <a:lnTo>
                  <a:pt x="3000" y="783"/>
                </a:lnTo>
                <a:lnTo>
                  <a:pt x="2980" y="785"/>
                </a:lnTo>
                <a:lnTo>
                  <a:pt x="2877" y="815"/>
                </a:lnTo>
                <a:lnTo>
                  <a:pt x="2896" y="808"/>
                </a:lnTo>
                <a:lnTo>
                  <a:pt x="2988" y="784"/>
                </a:lnTo>
                <a:lnTo>
                  <a:pt x="2986" y="748"/>
                </a:lnTo>
                <a:lnTo>
                  <a:pt x="2970" y="721"/>
                </a:lnTo>
                <a:lnTo>
                  <a:pt x="2929" y="673"/>
                </a:lnTo>
                <a:lnTo>
                  <a:pt x="2857" y="626"/>
                </a:lnTo>
                <a:lnTo>
                  <a:pt x="2793" y="614"/>
                </a:lnTo>
                <a:lnTo>
                  <a:pt x="2748" y="621"/>
                </a:lnTo>
                <a:lnTo>
                  <a:pt x="2792" y="613"/>
                </a:lnTo>
                <a:lnTo>
                  <a:pt x="2844" y="622"/>
                </a:lnTo>
                <a:lnTo>
                  <a:pt x="2854" y="603"/>
                </a:lnTo>
                <a:lnTo>
                  <a:pt x="2866" y="539"/>
                </a:lnTo>
                <a:lnTo>
                  <a:pt x="2864" y="413"/>
                </a:lnTo>
                <a:lnTo>
                  <a:pt x="2826" y="280"/>
                </a:lnTo>
                <a:lnTo>
                  <a:pt x="2808" y="247"/>
                </a:lnTo>
                <a:lnTo>
                  <a:pt x="2789" y="216"/>
                </a:lnTo>
                <a:lnTo>
                  <a:pt x="2768" y="187"/>
                </a:lnTo>
                <a:lnTo>
                  <a:pt x="2745" y="162"/>
                </a:lnTo>
                <a:lnTo>
                  <a:pt x="2720" y="140"/>
                </a:lnTo>
                <a:lnTo>
                  <a:pt x="2636" y="97"/>
                </a:lnTo>
                <a:lnTo>
                  <a:pt x="2545" y="81"/>
                </a:lnTo>
                <a:lnTo>
                  <a:pt x="2477" y="89"/>
                </a:lnTo>
                <a:lnTo>
                  <a:pt x="2386" y="132"/>
                </a:lnTo>
                <a:lnTo>
                  <a:pt x="2358" y="154"/>
                </a:lnTo>
                <a:lnTo>
                  <a:pt x="2333" y="179"/>
                </a:lnTo>
                <a:lnTo>
                  <a:pt x="2310" y="207"/>
                </a:lnTo>
                <a:lnTo>
                  <a:pt x="2289" y="239"/>
                </a:lnTo>
                <a:lnTo>
                  <a:pt x="2271" y="274"/>
                </a:lnTo>
                <a:lnTo>
                  <a:pt x="2231" y="395"/>
                </a:lnTo>
                <a:lnTo>
                  <a:pt x="2261" y="296"/>
                </a:lnTo>
                <a:lnTo>
                  <a:pt x="2260" y="266"/>
                </a:lnTo>
                <a:lnTo>
                  <a:pt x="2217" y="224"/>
                </a:lnTo>
                <a:lnTo>
                  <a:pt x="2164" y="195"/>
                </a:lnTo>
                <a:lnTo>
                  <a:pt x="2073" y="180"/>
                </a:lnTo>
                <a:lnTo>
                  <a:pt x="1995" y="197"/>
                </a:lnTo>
                <a:lnTo>
                  <a:pt x="1922" y="246"/>
                </a:lnTo>
                <a:lnTo>
                  <a:pt x="1895" y="275"/>
                </a:lnTo>
                <a:lnTo>
                  <a:pt x="1871" y="310"/>
                </a:lnTo>
                <a:lnTo>
                  <a:pt x="1840" y="374"/>
                </a:lnTo>
                <a:lnTo>
                  <a:pt x="1899" y="273"/>
                </a:lnTo>
                <a:lnTo>
                  <a:pt x="1889" y="237"/>
                </a:lnTo>
                <a:lnTo>
                  <a:pt x="1859" y="180"/>
                </a:lnTo>
                <a:lnTo>
                  <a:pt x="1788" y="90"/>
                </a:lnTo>
                <a:lnTo>
                  <a:pt x="1703" y="36"/>
                </a:lnTo>
                <a:lnTo>
                  <a:pt x="1610" y="16"/>
                </a:lnTo>
                <a:lnTo>
                  <a:pt x="1586" y="16"/>
                </a:lnTo>
                <a:lnTo>
                  <a:pt x="1495" y="36"/>
                </a:lnTo>
                <a:lnTo>
                  <a:pt x="1410" y="88"/>
                </a:lnTo>
                <a:lnTo>
                  <a:pt x="1339" y="172"/>
                </a:lnTo>
                <a:lnTo>
                  <a:pt x="1289" y="286"/>
                </a:lnTo>
                <a:lnTo>
                  <a:pt x="1297" y="260"/>
                </a:lnTo>
                <a:lnTo>
                  <a:pt x="1348" y="158"/>
                </a:lnTo>
                <a:lnTo>
                  <a:pt x="1342" y="117"/>
                </a:lnTo>
                <a:lnTo>
                  <a:pt x="1301" y="75"/>
                </a:lnTo>
                <a:lnTo>
                  <a:pt x="1205" y="20"/>
                </a:lnTo>
                <a:lnTo>
                  <a:pt x="1100" y="0"/>
                </a:lnTo>
                <a:lnTo>
                  <a:pt x="968" y="27"/>
                </a:lnTo>
                <a:lnTo>
                  <a:pt x="871" y="89"/>
                </a:lnTo>
                <a:lnTo>
                  <a:pt x="792" y="189"/>
                </a:lnTo>
                <a:lnTo>
                  <a:pt x="740" y="326"/>
                </a:lnTo>
                <a:lnTo>
                  <a:pt x="722" y="499"/>
                </a:lnTo>
                <a:lnTo>
                  <a:pt x="722" y="476"/>
                </a:lnTo>
                <a:lnTo>
                  <a:pt x="733" y="359"/>
                </a:lnTo>
                <a:lnTo>
                  <a:pt x="694" y="358"/>
                </a:lnTo>
                <a:lnTo>
                  <a:pt x="641" y="382"/>
                </a:lnTo>
                <a:lnTo>
                  <a:pt x="590" y="420"/>
                </a:lnTo>
                <a:lnTo>
                  <a:pt x="566" y="443"/>
                </a:lnTo>
                <a:lnTo>
                  <a:pt x="544" y="469"/>
                </a:lnTo>
                <a:lnTo>
                  <a:pt x="523" y="498"/>
                </a:lnTo>
                <a:lnTo>
                  <a:pt x="504" y="529"/>
                </a:lnTo>
                <a:lnTo>
                  <a:pt x="488" y="563"/>
                </a:lnTo>
                <a:lnTo>
                  <a:pt x="475" y="599"/>
                </a:lnTo>
                <a:lnTo>
                  <a:pt x="460" y="658"/>
                </a:lnTo>
                <a:lnTo>
                  <a:pt x="456" y="785"/>
                </a:lnTo>
                <a:lnTo>
                  <a:pt x="457" y="682"/>
                </a:lnTo>
                <a:lnTo>
                  <a:pt x="434" y="675"/>
                </a:lnTo>
                <a:lnTo>
                  <a:pt x="401" y="693"/>
                </a:lnTo>
                <a:lnTo>
                  <a:pt x="334" y="753"/>
                </a:lnTo>
                <a:lnTo>
                  <a:pt x="292" y="819"/>
                </a:lnTo>
                <a:lnTo>
                  <a:pt x="263" y="911"/>
                </a:lnTo>
                <a:lnTo>
                  <a:pt x="291" y="822"/>
                </a:lnTo>
                <a:lnTo>
                  <a:pt x="251" y="823"/>
                </a:lnTo>
                <a:lnTo>
                  <a:pt x="223" y="830"/>
                </a:lnTo>
                <a:lnTo>
                  <a:pt x="143" y="874"/>
                </a:lnTo>
                <a:lnTo>
                  <a:pt x="75" y="943"/>
                </a:lnTo>
                <a:lnTo>
                  <a:pt x="56" y="970"/>
                </a:lnTo>
                <a:lnTo>
                  <a:pt x="25" y="1031"/>
                </a:lnTo>
                <a:lnTo>
                  <a:pt x="0" y="1133"/>
                </a:lnTo>
                <a:lnTo>
                  <a:pt x="7" y="1275"/>
                </a:lnTo>
                <a:lnTo>
                  <a:pt x="39" y="1373"/>
                </a:lnTo>
                <a:lnTo>
                  <a:pt x="91" y="1457"/>
                </a:lnTo>
                <a:lnTo>
                  <a:pt x="160" y="1519"/>
                </a:lnTo>
                <a:lnTo>
                  <a:pt x="245" y="1555"/>
                </a:lnTo>
                <a:lnTo>
                  <a:pt x="332" y="1556"/>
                </a:lnTo>
                <a:lnTo>
                  <a:pt x="408" y="1531"/>
                </a:lnTo>
                <a:lnTo>
                  <a:pt x="493" y="1465"/>
                </a:lnTo>
                <a:lnTo>
                  <a:pt x="554" y="1374"/>
                </a:lnTo>
                <a:lnTo>
                  <a:pt x="581" y="1294"/>
                </a:lnTo>
                <a:lnTo>
                  <a:pt x="573" y="1324"/>
                </a:lnTo>
                <a:lnTo>
                  <a:pt x="533" y="1411"/>
                </a:lnTo>
                <a:lnTo>
                  <a:pt x="528" y="1454"/>
                </a:lnTo>
                <a:lnTo>
                  <a:pt x="570" y="1549"/>
                </a:lnTo>
                <a:lnTo>
                  <a:pt x="634" y="1624"/>
                </a:lnTo>
                <a:lnTo>
                  <a:pt x="713" y="1672"/>
                </a:lnTo>
                <a:lnTo>
                  <a:pt x="801" y="1692"/>
                </a:lnTo>
                <a:lnTo>
                  <a:pt x="890" y="1679"/>
                </a:lnTo>
                <a:lnTo>
                  <a:pt x="973" y="1628"/>
                </a:lnTo>
                <a:lnTo>
                  <a:pt x="1027" y="1563"/>
                </a:lnTo>
                <a:lnTo>
                  <a:pt x="1082" y="1438"/>
                </a:lnTo>
                <a:lnTo>
                  <a:pt x="1031" y="1558"/>
                </a:lnTo>
                <a:lnTo>
                  <a:pt x="1055" y="1590"/>
                </a:lnTo>
                <a:lnTo>
                  <a:pt x="1074" y="1611"/>
                </a:lnTo>
                <a:lnTo>
                  <a:pt x="1148" y="1658"/>
                </a:lnTo>
                <a:lnTo>
                  <a:pt x="1223" y="1677"/>
                </a:lnTo>
                <a:lnTo>
                  <a:pt x="1321" y="1661"/>
                </a:lnTo>
                <a:lnTo>
                  <a:pt x="1404" y="1607"/>
                </a:lnTo>
                <a:lnTo>
                  <a:pt x="1482" y="1508"/>
                </a:lnTo>
                <a:lnTo>
                  <a:pt x="1465" y="1535"/>
                </a:lnTo>
                <a:lnTo>
                  <a:pt x="1382" y="1625"/>
                </a:lnTo>
                <a:lnTo>
                  <a:pt x="1413" y="1662"/>
                </a:lnTo>
                <a:lnTo>
                  <a:pt x="1440" y="1679"/>
                </a:lnTo>
                <a:lnTo>
                  <a:pt x="1470" y="1694"/>
                </a:lnTo>
                <a:lnTo>
                  <a:pt x="1573" y="1712"/>
                </a:lnTo>
                <a:lnTo>
                  <a:pt x="1663" y="1692"/>
                </a:lnTo>
                <a:lnTo>
                  <a:pt x="1748" y="1635"/>
                </a:lnTo>
                <a:lnTo>
                  <a:pt x="1807" y="1557"/>
                </a:lnTo>
                <a:lnTo>
                  <a:pt x="1862" y="1415"/>
                </a:lnTo>
                <a:lnTo>
                  <a:pt x="1814" y="1545"/>
                </a:lnTo>
                <a:lnTo>
                  <a:pt x="1825" y="1569"/>
                </a:lnTo>
                <a:lnTo>
                  <a:pt x="1840" y="1587"/>
                </a:lnTo>
                <a:lnTo>
                  <a:pt x="1916" y="1651"/>
                </a:lnTo>
                <a:lnTo>
                  <a:pt x="2067" y="1706"/>
                </a:lnTo>
                <a:lnTo>
                  <a:pt x="2237" y="1698"/>
                </a:lnTo>
                <a:lnTo>
                  <a:pt x="2377" y="1626"/>
                </a:lnTo>
                <a:lnTo>
                  <a:pt x="2404" y="1604"/>
                </a:lnTo>
                <a:lnTo>
                  <a:pt x="2429" y="1578"/>
                </a:lnTo>
                <a:lnTo>
                  <a:pt x="2453" y="1549"/>
                </a:lnTo>
                <a:lnTo>
                  <a:pt x="2476" y="1518"/>
                </a:lnTo>
                <a:lnTo>
                  <a:pt x="2498" y="1482"/>
                </a:lnTo>
                <a:lnTo>
                  <a:pt x="2518" y="1444"/>
                </a:lnTo>
                <a:lnTo>
                  <a:pt x="2537" y="1402"/>
                </a:lnTo>
                <a:lnTo>
                  <a:pt x="2555" y="1356"/>
                </a:lnTo>
                <a:lnTo>
                  <a:pt x="2570" y="1306"/>
                </a:lnTo>
                <a:lnTo>
                  <a:pt x="2557" y="1353"/>
                </a:lnTo>
                <a:lnTo>
                  <a:pt x="2496" y="1485"/>
                </a:lnTo>
                <a:lnTo>
                  <a:pt x="2495" y="1506"/>
                </a:lnTo>
                <a:lnTo>
                  <a:pt x="2528" y="1545"/>
                </a:lnTo>
                <a:lnTo>
                  <a:pt x="2579" y="1580"/>
                </a:lnTo>
                <a:lnTo>
                  <a:pt x="2677" y="1606"/>
                </a:lnTo>
                <a:lnTo>
                  <a:pt x="2767" y="1592"/>
                </a:lnTo>
                <a:lnTo>
                  <a:pt x="2835" y="1548"/>
                </a:lnTo>
                <a:lnTo>
                  <a:pt x="2897" y="1468"/>
                </a:lnTo>
                <a:lnTo>
                  <a:pt x="2944" y="1347"/>
                </a:lnTo>
                <a:lnTo>
                  <a:pt x="2937" y="1373"/>
                </a:lnTo>
                <a:lnTo>
                  <a:pt x="2885" y="1486"/>
                </a:lnTo>
                <a:lnTo>
                  <a:pt x="2898" y="1511"/>
                </a:lnTo>
                <a:lnTo>
                  <a:pt x="2941" y="1525"/>
                </a:lnTo>
                <a:lnTo>
                  <a:pt x="3039" y="1529"/>
                </a:lnTo>
                <a:lnTo>
                  <a:pt x="3128" y="1494"/>
                </a:lnTo>
                <a:lnTo>
                  <a:pt x="3201" y="1430"/>
                </a:lnTo>
                <a:lnTo>
                  <a:pt x="3225" y="1398"/>
                </a:lnTo>
                <a:lnTo>
                  <a:pt x="3247" y="1365"/>
                </a:lnTo>
                <a:lnTo>
                  <a:pt x="3265" y="1329"/>
                </a:lnTo>
                <a:lnTo>
                  <a:pt x="3284" y="1271"/>
                </a:lnTo>
                <a:lnTo>
                  <a:pt x="3298" y="1173"/>
                </a:lnTo>
              </a:path>
            </a:pathLst>
          </a:custGeom>
          <a:gradFill rotWithShape="0">
            <a:gsLst>
              <a:gs pos="0">
                <a:srgbClr val="438e00"/>
              </a:gs>
              <a:gs pos="100000">
                <a:srgbClr val="3b7f00"/>
              </a:gs>
            </a:gsLst>
            <a:path path="rect">
              <a:fillToRect l="50000" t="50000" r="50000" b="50000"/>
            </a:path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19000" y="225360"/>
            <a:ext cx="7353360" cy="7272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it Card Acquirer On the Net (SET)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90920" y="2381400"/>
            <a:ext cx="45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622920" y="4565520"/>
            <a:ext cx="1517760" cy="812880"/>
            <a:chOff x="6622920" y="4565520"/>
            <a:chExt cx="1517760" cy="812880"/>
          </a:xfrm>
        </p:grpSpPr>
        <p:sp>
          <p:nvSpPr>
            <p:cNvPr id="221" name=""/>
            <p:cNvSpPr/>
            <p:nvPr/>
          </p:nvSpPr>
          <p:spPr>
            <a:xfrm>
              <a:off x="6622920" y="4565520"/>
              <a:ext cx="1517760" cy="812880"/>
            </a:xfrm>
            <a:prstGeom prst="roundRect">
              <a:avLst>
                <a:gd name="adj" fmla="val 12486"/>
              </a:avLst>
            </a:prstGeom>
            <a:solidFill>
              <a:srgbClr val="474747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42360" y="4678200"/>
              <a:ext cx="1424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redit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r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0240" y="2127240"/>
            <a:ext cx="14540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nne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03520" y="3132000"/>
            <a:ext cx="1033200" cy="38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23680" y="4160880"/>
            <a:ext cx="1299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8120" y="2419200"/>
            <a:ext cx="3295440" cy="2533680"/>
            <a:chOff x="3048120" y="2419200"/>
            <a:chExt cx="3295440" cy="2533680"/>
          </a:xfrm>
        </p:grpSpPr>
        <p:sp>
          <p:nvSpPr>
            <p:cNvPr id="229" name=""/>
            <p:cNvSpPr/>
            <p:nvPr/>
          </p:nvSpPr>
          <p:spPr>
            <a:xfrm>
              <a:off x="3048120" y="24192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76720" y="25909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05320" y="27622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33920" y="29336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62520" y="31050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32767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34480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48320" y="36194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57840" y="37908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86440" y="39625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15040" y="413388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43640" y="430524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72240" y="4476600"/>
              <a:ext cx="342720" cy="3049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00840" y="4648320"/>
              <a:ext cx="342720" cy="3045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590920" y="240840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8120" y="2370240"/>
            <a:ext cx="0" cy="3357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52720" y="2552760"/>
            <a:ext cx="3659040" cy="3259080"/>
          </a:xfrm>
          <a:custGeom>
            <a:avLst/>
            <a:gdLst/>
            <a:ahLst/>
            <a:rect l="l" t="t" r="r" b="b"/>
            <a:pathLst>
              <a:path w="2305" h="2053">
                <a:moveTo>
                  <a:pt x="0" y="2052"/>
                </a:moveTo>
                <a:lnTo>
                  <a:pt x="24" y="0"/>
                </a:lnTo>
                <a:lnTo>
                  <a:pt x="2304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2986200" y="2338200"/>
            <a:ext cx="3649680" cy="2716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60400" y="2998800"/>
            <a:ext cx="1719360" cy="4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69760" y="1628280"/>
            <a:ext cx="5288040" cy="18543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consumer’s card inf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nternet for reaching acquir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s expensive credit card 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T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065240" y="182412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754680" y="1725480"/>
            <a:ext cx="800280" cy="635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666800" y="5052960"/>
            <a:ext cx="1965240" cy="1231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84400" y="18478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21906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84400" y="25336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4400" y="28764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84400" y="321948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84400" y="3562200"/>
            <a:ext cx="43862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93440" y="1479600"/>
            <a:ext cx="2760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Request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42680" y="1879560"/>
            <a:ext cx="286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Acknowledg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67040" y="2260440"/>
            <a:ext cx="2212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Purchas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99600" y="2584440"/>
            <a:ext cx="354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Purchase Order 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31920" y="2889360"/>
            <a:ext cx="1883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.  Status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80520" y="3287880"/>
            <a:ext cx="358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Purchase status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24360" y="2743200"/>
            <a:ext cx="2884320" cy="2401920"/>
          </a:xfrm>
          <a:custGeom>
            <a:avLst/>
            <a:gdLst/>
            <a:ahLst/>
            <a:rect l="l" t="t" r="r" b="b"/>
            <a:pathLst>
              <a:path w="1817" h="1513">
                <a:moveTo>
                  <a:pt x="1816" y="0"/>
                </a:moveTo>
                <a:lnTo>
                  <a:pt x="1816" y="1512"/>
                </a:lnTo>
                <a:lnTo>
                  <a:pt x="0" y="15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05440" y="2895480"/>
            <a:ext cx="2923920" cy="2630520"/>
          </a:xfrm>
          <a:custGeom>
            <a:avLst/>
            <a:gdLst/>
            <a:ahLst/>
            <a:rect l="l" t="t" r="r" b="b"/>
            <a:pathLst>
              <a:path w="1842" h="1657">
                <a:moveTo>
                  <a:pt x="1841" y="0"/>
                </a:moveTo>
                <a:lnTo>
                  <a:pt x="1841" y="1656"/>
                </a:lnTo>
                <a:lnTo>
                  <a:pt x="0" y="16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120" y="2876400"/>
            <a:ext cx="3381480" cy="2935440"/>
          </a:xfrm>
          <a:custGeom>
            <a:avLst/>
            <a:gdLst/>
            <a:ahLst/>
            <a:rect l="l" t="t" r="r" b="b"/>
            <a:pathLst>
              <a:path w="2130" h="1849">
                <a:moveTo>
                  <a:pt x="2129" y="0"/>
                </a:moveTo>
                <a:lnTo>
                  <a:pt x="2129" y="1848"/>
                </a:lnTo>
                <a:lnTo>
                  <a:pt x="0" y="18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48040" y="2952720"/>
            <a:ext cx="3811680" cy="3183120"/>
          </a:xfrm>
          <a:custGeom>
            <a:avLst/>
            <a:gdLst/>
            <a:ahLst/>
            <a:rect l="l" t="t" r="r" b="b"/>
            <a:pathLst>
              <a:path w="2401" h="2005">
                <a:moveTo>
                  <a:pt x="2400" y="0"/>
                </a:moveTo>
                <a:lnTo>
                  <a:pt x="2400" y="2004"/>
                </a:lnTo>
                <a:lnTo>
                  <a:pt x="0" y="200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96200" y="4811760"/>
            <a:ext cx="3037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Customer paym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7560" y="5192640"/>
            <a:ext cx="269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Verify custom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07240" y="5554800"/>
            <a:ext cx="2415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  Request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77080" y="5859360"/>
            <a:ext cx="227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  Verify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3840" y="121284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1360" y="109872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720" y="6278400"/>
            <a:ext cx="2820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 Acquirer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tal Cash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t strings as tokens representing value (amount, serial #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sued by banks (similar to 19th century bank not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 to protect integ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o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be easily duplicated.  Must prevent double spending by monitoring serial number re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igicash Mode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570040" y="5805360"/>
            <a:ext cx="833400" cy="639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2335320" y="1744560"/>
            <a:ext cx="799920" cy="635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924560" y="13460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5640" y="606888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8880" y="3213000"/>
            <a:ext cx="1479600" cy="546120"/>
          </a:xfrm>
          <a:prstGeom prst="roundRect">
            <a:avLst>
              <a:gd name="adj" fmla="val 12486"/>
            </a:avLst>
          </a:prstGeom>
          <a:solidFill>
            <a:srgbClr val="232323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3760" y="3325680"/>
            <a:ext cx="739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1499760" y="3843360"/>
            <a:ext cx="1096920" cy="2030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671480" y="3805200"/>
            <a:ext cx="1097280" cy="20304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814120" y="2357280"/>
            <a:ext cx="220680" cy="347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33680" y="2389320"/>
            <a:ext cx="1077840" cy="785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398600" y="2338200"/>
            <a:ext cx="976320" cy="88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38360" y="46022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62000" y="404964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76400" y="28702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75580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14680" y="256536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5400" y="1409400"/>
            <a:ext cx="5086440" cy="4724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asks Bank for Digicas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sends Digicash bits to consu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sends Digicash to merchant in pay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checks that Digicash has not been double sp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verifies that Digicash is vali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,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cting double sp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2600" indent="-183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bustness against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9200" y="2089080"/>
            <a:ext cx="7779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Millic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6880" y="2133720"/>
            <a:ext cx="7991640" cy="3657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9000"/>
          </a:bodyPr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q’s (DEC) micropayment syste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-specific currency, call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r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scrip from brok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hecks for double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down to 0.1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920" indent="-18036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down to 0.002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ed to minimize cryp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trial in Jap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518000" y="4648320"/>
            <a:ext cx="4283280" cy="1995480"/>
            <a:chOff x="4518000" y="4648320"/>
            <a:chExt cx="4283280" cy="1995480"/>
          </a:xfrm>
        </p:grpSpPr>
        <p:grpSp>
          <p:nvGrpSpPr>
            <p:cNvPr id="308" name=""/>
            <p:cNvGrpSpPr/>
            <p:nvPr/>
          </p:nvGrpSpPr>
          <p:grpSpPr>
            <a:xfrm>
              <a:off x="7340760" y="4648320"/>
              <a:ext cx="1460520" cy="774720"/>
              <a:chOff x="7340760" y="4648320"/>
              <a:chExt cx="1460520" cy="774720"/>
            </a:xfrm>
          </p:grpSpPr>
          <p:sp>
            <p:nvSpPr>
              <p:cNvPr id="309" name=""/>
              <p:cNvSpPr/>
              <p:nvPr/>
            </p:nvSpPr>
            <p:spPr>
              <a:xfrm>
                <a:off x="734076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6400" y="4648320"/>
                <a:ext cx="111780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648200" y="4730760"/>
              <a:ext cx="905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18000" y="5821200"/>
              <a:ext cx="1843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15200" y="4800600"/>
              <a:ext cx="10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558200" y="5494320"/>
              <a:ext cx="715680" cy="7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5754600" y="5436720"/>
              <a:ext cx="563760" cy="56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485120" y="5551560"/>
              <a:ext cx="465120" cy="40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02240" y="5003640"/>
              <a:ext cx="10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5840" y="5553000"/>
              <a:ext cx="668520" cy="66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978440" y="4648320"/>
              <a:ext cx="1460520" cy="774720"/>
              <a:chOff x="4978440" y="4648320"/>
              <a:chExt cx="1460520" cy="774720"/>
            </a:xfrm>
          </p:grpSpPr>
          <p:sp>
            <p:nvSpPr>
              <p:cNvPr id="320" name=""/>
              <p:cNvSpPr/>
              <p:nvPr/>
            </p:nvSpPr>
            <p:spPr>
              <a:xfrm>
                <a:off x="4978440" y="5295960"/>
                <a:ext cx="1460520" cy="127080"/>
              </a:xfrm>
              <a:prstGeom prst="parallelogram">
                <a:avLst>
                  <a:gd name="adj" fmla="val 255824"/>
                </a:avLst>
              </a:prstGeom>
              <a:gradFill rotWithShape="0">
                <a:gsLst>
                  <a:gs pos="0">
                    <a:srgbClr val="f2e7cb"/>
                  </a:gs>
                  <a:gs pos="100000">
                    <a:srgbClr val="e8d29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94440" y="4648320"/>
                <a:ext cx="1117440" cy="577800"/>
              </a:xfrm>
              <a:prstGeom prst="rect">
                <a:avLst/>
              </a:prstGeom>
              <a:solidFill>
                <a:srgbClr val="003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134040" y="6426360"/>
              <a:ext cx="1460520" cy="126720"/>
            </a:xfrm>
            <a:prstGeom prst="parallelogram">
              <a:avLst>
                <a:gd name="adj" fmla="val 256550"/>
              </a:avLst>
            </a:prstGeom>
            <a:gradFill rotWithShape="0">
              <a:gsLst>
                <a:gs pos="0">
                  <a:srgbClr val="f2e7cb"/>
                </a:gs>
                <a:gs pos="100000">
                  <a:srgbClr val="e8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50040" y="5778360"/>
              <a:ext cx="1117440" cy="5781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36200" y="4782960"/>
              <a:ext cx="101196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31840" y="5938920"/>
              <a:ext cx="7560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113600" y="2946240"/>
            <a:ext cx="1407960" cy="563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Digital Check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7840" y="132372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issue signed drafts on online bank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do online or delayed cle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r through existing bank systems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ttach remittanc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428480" y="3249720"/>
            <a:ext cx="6483960" cy="3040560"/>
            <a:chOff x="1428480" y="3249720"/>
            <a:chExt cx="6483960" cy="3040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978200" y="3652920"/>
              <a:ext cx="83340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172728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6442200" y="3573360"/>
              <a:ext cx="93348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6242040" y="481644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693880" y="3981600"/>
              <a:ext cx="387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53400" y="431316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967120" y="544824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28360" y="328788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29880" y="324972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28480" y="595476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31800" y="593568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58800" y="3630600"/>
              <a:ext cx="189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Che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005280" y="561960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3800" y="4030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70680" y="43354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22880" y="50212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22880" y="570708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20" y="45720"/>
            <a:ext cx="9110880" cy="1028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Check Concep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2880" y="2341440"/>
            <a:ext cx="1297080" cy="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8280" y="2557440"/>
            <a:ext cx="1397160" cy="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24600" y="2033640"/>
            <a:ext cx="574560" cy="1920960"/>
            <a:chOff x="5124600" y="2033640"/>
            <a:chExt cx="574560" cy="1920960"/>
          </a:xfrm>
        </p:grpSpPr>
        <p:sp>
          <p:nvSpPr>
            <p:cNvPr id="353" name=""/>
            <p:cNvSpPr/>
            <p:nvPr/>
          </p:nvSpPr>
          <p:spPr>
            <a:xfrm>
              <a:off x="5124600" y="2147760"/>
              <a:ext cx="574560" cy="201600"/>
            </a:xfrm>
            <a:custGeom>
              <a:avLst/>
              <a:gdLst/>
              <a:ahLst/>
              <a:rect l="l" t="t" r="r" b="b"/>
              <a:pathLst>
                <a:path w="362" h="127">
                  <a:moveTo>
                    <a:pt x="0" y="75"/>
                  </a:moveTo>
                  <a:lnTo>
                    <a:pt x="206" y="126"/>
                  </a:lnTo>
                  <a:lnTo>
                    <a:pt x="361" y="37"/>
                  </a:lnTo>
                  <a:lnTo>
                    <a:pt x="172" y="0"/>
                  </a:lnTo>
                  <a:lnTo>
                    <a:pt x="0" y="75"/>
                  </a:lnTo>
                </a:path>
              </a:pathLst>
            </a:custGeom>
            <a:solidFill>
              <a:srgbClr val="df3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24600" y="2268360"/>
              <a:ext cx="326880" cy="1686240"/>
            </a:xfrm>
            <a:custGeom>
              <a:avLst/>
              <a:gdLst/>
              <a:ahLst/>
              <a:rect l="l" t="t" r="r" b="b"/>
              <a:pathLst>
                <a:path w="206" h="1062">
                  <a:moveTo>
                    <a:pt x="0" y="0"/>
                  </a:moveTo>
                  <a:lnTo>
                    <a:pt x="205" y="55"/>
                  </a:lnTo>
                  <a:lnTo>
                    <a:pt x="205" y="1061"/>
                  </a:lnTo>
                  <a:lnTo>
                    <a:pt x="162" y="1038"/>
                  </a:lnTo>
                  <a:lnTo>
                    <a:pt x="162" y="911"/>
                  </a:lnTo>
                  <a:lnTo>
                    <a:pt x="104" y="874"/>
                  </a:lnTo>
                  <a:lnTo>
                    <a:pt x="104" y="988"/>
                  </a:lnTo>
                  <a:lnTo>
                    <a:pt x="72" y="964"/>
                  </a:lnTo>
                  <a:lnTo>
                    <a:pt x="72" y="851"/>
                  </a:lnTo>
                  <a:lnTo>
                    <a:pt x="26" y="818"/>
                  </a:lnTo>
                  <a:lnTo>
                    <a:pt x="26" y="932"/>
                  </a:lnTo>
                  <a:lnTo>
                    <a:pt x="0" y="914"/>
                  </a:lnTo>
                  <a:lnTo>
                    <a:pt x="0" y="0"/>
                  </a:lnTo>
                </a:path>
              </a:pathLst>
            </a:custGeom>
            <a:solidFill>
              <a:srgbClr val="ff5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130720" y="2033640"/>
              <a:ext cx="568440" cy="1920960"/>
              <a:chOff x="5130720" y="2033640"/>
              <a:chExt cx="568440" cy="192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5456160" y="2208240"/>
                <a:ext cx="243000" cy="1746360"/>
              </a:xfrm>
              <a:custGeom>
                <a:avLst/>
                <a:gdLst/>
                <a:ahLst/>
                <a:rect l="l" t="t" r="r" b="b"/>
                <a:pathLst>
                  <a:path w="153" h="1100">
                    <a:moveTo>
                      <a:pt x="0" y="93"/>
                    </a:moveTo>
                    <a:lnTo>
                      <a:pt x="150" y="0"/>
                    </a:lnTo>
                    <a:lnTo>
                      <a:pt x="152" y="850"/>
                    </a:lnTo>
                    <a:lnTo>
                      <a:pt x="0" y="1099"/>
                    </a:lnTo>
                    <a:lnTo>
                      <a:pt x="0" y="93"/>
                    </a:lnTo>
                  </a:path>
                </a:pathLst>
              </a:custGeom>
              <a:solidFill>
                <a:srgbClr val="d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5292720" y="3654360"/>
                <a:ext cx="92160" cy="182520"/>
                <a:chOff x="5292720" y="3654360"/>
                <a:chExt cx="92160" cy="1825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345280" y="3691080"/>
                  <a:ext cx="39600" cy="126720"/>
                </a:xfrm>
                <a:custGeom>
                  <a:avLst/>
                  <a:gdLst/>
                  <a:ahLst/>
                  <a:rect l="l" t="t" r="r" b="b"/>
                  <a:pathLst>
                    <a:path w="25" h="80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24" y="79"/>
                      </a:lnTo>
                      <a:lnTo>
                        <a:pt x="2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292720" y="3654360"/>
                  <a:ext cx="49320" cy="182520"/>
                </a:xfrm>
                <a:custGeom>
                  <a:avLst/>
                  <a:gdLst/>
                  <a:ahLst/>
                  <a:rect l="l" t="t" r="r" b="b"/>
                  <a:pathLst>
                    <a:path w="31" h="115">
                      <a:moveTo>
                        <a:pt x="0" y="0"/>
                      </a:moveTo>
                      <a:lnTo>
                        <a:pt x="0" y="114"/>
                      </a:lnTo>
                      <a:lnTo>
                        <a:pt x="30" y="81"/>
                      </a:lnTo>
                      <a:lnTo>
                        <a:pt x="3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164200" y="3565440"/>
                <a:ext cx="93600" cy="184320"/>
                <a:chOff x="5164200" y="3565440"/>
                <a:chExt cx="93600" cy="1843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221440" y="3600360"/>
                  <a:ext cx="36360" cy="127080"/>
                </a:xfrm>
                <a:custGeom>
                  <a:avLst/>
                  <a:gdLst/>
                  <a:ahLst/>
                  <a:rect l="l" t="t" r="r" b="b"/>
                  <a:pathLst>
                    <a:path w="23" h="80">
                      <a:moveTo>
                        <a:pt x="0" y="0"/>
                      </a:moveTo>
                      <a:lnTo>
                        <a:pt x="0" y="61"/>
                      </a:lnTo>
                      <a:lnTo>
                        <a:pt x="22" y="79"/>
                      </a:lnTo>
                      <a:lnTo>
                        <a:pt x="2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164200" y="3565440"/>
                  <a:ext cx="50760" cy="184320"/>
                </a:xfrm>
                <a:custGeom>
                  <a:avLst/>
                  <a:gdLst/>
                  <a:ahLst/>
                  <a:rect l="l" t="t" r="r" b="b"/>
                  <a:pathLst>
                    <a:path w="32" h="116">
                      <a:moveTo>
                        <a:pt x="0" y="0"/>
                      </a:moveTo>
                      <a:lnTo>
                        <a:pt x="0" y="115"/>
                      </a:lnTo>
                      <a:lnTo>
                        <a:pt x="31" y="83"/>
                      </a:lnTo>
                      <a:lnTo>
                        <a:pt x="31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130720" y="2306520"/>
                <a:ext cx="300240" cy="1333440"/>
                <a:chOff x="5130720" y="2306520"/>
                <a:chExt cx="300240" cy="13334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146560" y="2316240"/>
                  <a:ext cx="265320" cy="1323720"/>
                </a:xfrm>
                <a:custGeom>
                  <a:avLst/>
                  <a:gdLst/>
                  <a:ahLst/>
                  <a:rect l="l" t="t" r="r" b="b"/>
                  <a:pathLst>
                    <a:path w="167" h="834">
                      <a:moveTo>
                        <a:pt x="0" y="0"/>
                      </a:moveTo>
                      <a:lnTo>
                        <a:pt x="166" y="44"/>
                      </a:lnTo>
                      <a:lnTo>
                        <a:pt x="166" y="833"/>
                      </a:lnTo>
                      <a:lnTo>
                        <a:pt x="1" y="72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5130720" y="2306520"/>
                  <a:ext cx="300240" cy="1308240"/>
                  <a:chOff x="5130720" y="2306520"/>
                  <a:chExt cx="300240" cy="130824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35400" y="3306600"/>
                    <a:ext cx="2955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00">
                        <a:moveTo>
                          <a:pt x="0" y="0"/>
                        </a:moveTo>
                        <a:lnTo>
                          <a:pt x="185" y="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130720" y="3137040"/>
                    <a:ext cx="3002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88">
                        <a:moveTo>
                          <a:pt x="0" y="0"/>
                        </a:moveTo>
                        <a:lnTo>
                          <a:pt x="188" y="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140440" y="2965320"/>
                    <a:ext cx="2905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79">
                        <a:moveTo>
                          <a:pt x="0" y="0"/>
                        </a:moveTo>
                        <a:lnTo>
                          <a:pt x="182" y="7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135400" y="2786040"/>
                    <a:ext cx="2923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71">
                        <a:moveTo>
                          <a:pt x="0" y="0"/>
                        </a:moveTo>
                        <a:lnTo>
                          <a:pt x="183" y="7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141880" y="2614680"/>
                    <a:ext cx="285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59">
                        <a:moveTo>
                          <a:pt x="0" y="0"/>
                        </a:moveTo>
                        <a:lnTo>
                          <a:pt x="179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130720" y="2454120"/>
                    <a:ext cx="29376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52">
                        <a:moveTo>
                          <a:pt x="0" y="0"/>
                        </a:moveTo>
                        <a:lnTo>
                          <a:pt x="184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200560" y="2306520"/>
                    <a:ext cx="180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69">
                        <a:moveTo>
                          <a:pt x="0" y="0"/>
                        </a:moveTo>
                        <a:lnTo>
                          <a:pt x="0" y="76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268960" y="2327400"/>
                    <a:ext cx="144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88">
                        <a:moveTo>
                          <a:pt x="0" y="0"/>
                        </a:moveTo>
                        <a:lnTo>
                          <a:pt x="0" y="787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40240" y="2344680"/>
                    <a:ext cx="1800" cy="127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800">
                        <a:moveTo>
                          <a:pt x="0" y="0"/>
                        </a:moveTo>
                        <a:lnTo>
                          <a:pt x="0" y="79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5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5249880" y="2033640"/>
                <a:ext cx="338040" cy="263520"/>
                <a:chOff x="5249880" y="2033640"/>
                <a:chExt cx="338040" cy="263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5249880" y="2033640"/>
                  <a:ext cx="338040" cy="263520"/>
                  <a:chOff x="5249880" y="2033640"/>
                  <a:chExt cx="338040" cy="26352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5249880" y="2033640"/>
                    <a:ext cx="3380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64">
                        <a:moveTo>
                          <a:pt x="0" y="41"/>
                        </a:moveTo>
                        <a:lnTo>
                          <a:pt x="123" y="63"/>
                        </a:lnTo>
                        <a:lnTo>
                          <a:pt x="212" y="21"/>
                        </a:lnTo>
                        <a:lnTo>
                          <a:pt x="92" y="0"/>
                        </a:lnTo>
                        <a:lnTo>
                          <a:pt x="0" y="41"/>
                        </a:lnTo>
                      </a:path>
                    </a:pathLst>
                  </a:custGeom>
                  <a:solidFill>
                    <a:srgbClr val="df3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450040" y="2071800"/>
                    <a:ext cx="1378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42">
                        <a:moveTo>
                          <a:pt x="0" y="43"/>
                        </a:moveTo>
                        <a:lnTo>
                          <a:pt x="86" y="0"/>
                        </a:lnTo>
                        <a:lnTo>
                          <a:pt x="86" y="89"/>
                        </a:lnTo>
                        <a:lnTo>
                          <a:pt x="0" y="141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5249880" y="2100240"/>
                    <a:ext cx="19368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24">
                        <a:moveTo>
                          <a:pt x="121" y="23"/>
                        </a:moveTo>
                        <a:lnTo>
                          <a:pt x="121" y="123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  <a:lnTo>
                          <a:pt x="121" y="23"/>
                        </a:lnTo>
                      </a:path>
                    </a:pathLst>
                  </a:custGeom>
                  <a:solidFill>
                    <a:srgbClr val="ff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5273640" y="2136600"/>
                  <a:ext cx="111240" cy="38160"/>
                </a:xfrm>
                <a:custGeom>
                  <a:avLst/>
                  <a:gdLst/>
                  <a:ahLst/>
                  <a:rect l="l" t="t" r="r" b="b"/>
                  <a:pathLst>
                    <a:path w="70" h="24">
                      <a:moveTo>
                        <a:pt x="0" y="0"/>
                      </a:moveTo>
                      <a:lnTo>
                        <a:pt x="69" y="9"/>
                      </a:lnTo>
                      <a:lnTo>
                        <a:pt x="69" y="23"/>
                      </a:lnTo>
                      <a:lnTo>
                        <a:pt x="0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1" name=""/>
          <p:cNvSpPr/>
          <p:nvPr/>
        </p:nvSpPr>
        <p:spPr>
          <a:xfrm>
            <a:off x="6999120" y="2189160"/>
            <a:ext cx="444600" cy="291960"/>
          </a:xfrm>
          <a:prstGeom prst="roundRect">
            <a:avLst>
              <a:gd name="adj" fmla="val 12486"/>
            </a:avLst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037280" y="2220840"/>
            <a:ext cx="139680" cy="889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802480" y="1978200"/>
            <a:ext cx="923760" cy="714240"/>
            <a:chOff x="5802480" y="1978200"/>
            <a:chExt cx="923760" cy="714240"/>
          </a:xfrm>
        </p:grpSpPr>
        <p:grpSp>
          <p:nvGrpSpPr>
            <p:cNvPr id="384" name=""/>
            <p:cNvGrpSpPr/>
            <p:nvPr/>
          </p:nvGrpSpPr>
          <p:grpSpPr>
            <a:xfrm>
              <a:off x="5802480" y="2581200"/>
              <a:ext cx="923760" cy="111240"/>
              <a:chOff x="5802480" y="2581200"/>
              <a:chExt cx="923760" cy="11124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5802480" y="2581200"/>
                <a:ext cx="923760" cy="111240"/>
                <a:chOff x="5802480" y="2581200"/>
                <a:chExt cx="923760" cy="1112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810400" y="2690640"/>
                  <a:ext cx="89820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02480" y="258120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829480" y="259236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904000" y="2590920"/>
                <a:ext cx="726840" cy="34920"/>
                <a:chOff x="5904000" y="2590920"/>
                <a:chExt cx="726840" cy="349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904000" y="2590920"/>
                  <a:ext cx="30240" cy="2700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973840" y="2590920"/>
                  <a:ext cx="115920" cy="2700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121440" y="2590920"/>
                  <a:ext cx="111240" cy="2700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253200" y="2590920"/>
                  <a:ext cx="112680" cy="2700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388200" y="2590920"/>
                  <a:ext cx="100080" cy="2700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6508800" y="2598840"/>
                  <a:ext cx="12204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5875200" y="2617920"/>
                <a:ext cx="766800" cy="42840"/>
                <a:chOff x="5875200" y="2617920"/>
                <a:chExt cx="766800" cy="4284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5942160" y="2619360"/>
                  <a:ext cx="379440" cy="38160"/>
                  <a:chOff x="5942160" y="2619360"/>
                  <a:chExt cx="379440" cy="3816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5942160" y="2619360"/>
                    <a:ext cx="3585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5956200" y="2631960"/>
                    <a:ext cx="365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5961240" y="2643120"/>
                    <a:ext cx="317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5969160" y="265572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5875200" y="2624040"/>
                  <a:ext cx="65160" cy="25560"/>
                  <a:chOff x="5875200" y="2624040"/>
                  <a:chExt cx="65160" cy="255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891040" y="262404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84920" y="2637000"/>
                    <a:ext cx="363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875200" y="264780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6" name=""/>
                <p:cNvGrpSpPr/>
                <p:nvPr/>
              </p:nvGrpSpPr>
              <p:grpSpPr>
                <a:xfrm>
                  <a:off x="6022800" y="2617920"/>
                  <a:ext cx="347760" cy="39600"/>
                  <a:chOff x="6022800" y="2617920"/>
                  <a:chExt cx="347760" cy="3960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>
                    <a:off x="6022800" y="265572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6316560" y="2617920"/>
                    <a:ext cx="507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329520" y="2631960"/>
                    <a:ext cx="41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302520" y="2643120"/>
                    <a:ext cx="68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6246720" y="265572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291360" y="2655720"/>
                    <a:ext cx="75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386400" y="2624040"/>
                  <a:ext cx="109800" cy="34920"/>
                  <a:chOff x="6386400" y="2624040"/>
                  <a:chExt cx="109800" cy="3492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6386400" y="2624040"/>
                    <a:ext cx="103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6400800" y="2639880"/>
                    <a:ext cx="90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6402240" y="2657520"/>
                    <a:ext cx="9396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512040" y="2624040"/>
                  <a:ext cx="129960" cy="36720"/>
                  <a:chOff x="6512040" y="2624040"/>
                  <a:chExt cx="129960" cy="36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6521400" y="2624040"/>
                    <a:ext cx="98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512040" y="2637000"/>
                    <a:ext cx="81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521400" y="264780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518160" y="265896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607080" y="2638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615000" y="265428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4" name=""/>
            <p:cNvGrpSpPr/>
            <p:nvPr/>
          </p:nvGrpSpPr>
          <p:grpSpPr>
            <a:xfrm>
              <a:off x="5981760" y="1978200"/>
              <a:ext cx="588960" cy="599760"/>
              <a:chOff x="5981760" y="1978200"/>
              <a:chExt cx="588960" cy="59976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981760" y="2362320"/>
                <a:ext cx="588960" cy="215640"/>
                <a:chOff x="5981760" y="2362320"/>
                <a:chExt cx="588960" cy="2156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981760" y="2362320"/>
                  <a:ext cx="588960" cy="215640"/>
                  <a:chOff x="5981760" y="2362320"/>
                  <a:chExt cx="588960" cy="21564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981760" y="2362320"/>
                    <a:ext cx="588960" cy="215640"/>
                    <a:chOff x="5981760" y="2362320"/>
                    <a:chExt cx="588960" cy="215640"/>
                  </a:xfrm>
                </p:grpSpPr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5981760" y="2362320"/>
                      <a:ext cx="587160" cy="215640"/>
                      <a:chOff x="5981760" y="2362320"/>
                      <a:chExt cx="587160" cy="21564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5981760" y="2362320"/>
                        <a:ext cx="587160" cy="215640"/>
                        <a:chOff x="5981760" y="2362320"/>
                        <a:chExt cx="587160" cy="21564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5986440" y="2424240"/>
                          <a:ext cx="565200" cy="15372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5981760" y="2362320"/>
                          <a:ext cx="587160" cy="55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5">
                              <a:moveTo>
                                <a:pt x="0" y="34"/>
                              </a:moveTo>
                              <a:lnTo>
                                <a:pt x="369" y="34"/>
                              </a:lnTo>
                              <a:lnTo>
                                <a:pt x="334" y="0"/>
                              </a:lnTo>
                              <a:lnTo>
                                <a:pt x="39" y="0"/>
                              </a:lnTo>
                              <a:lnTo>
                                <a:pt x="0" y="34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991120" y="2406600"/>
                        <a:ext cx="5698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9" h="17">
                            <a:moveTo>
                              <a:pt x="0" y="0"/>
                            </a:moveTo>
                            <a:lnTo>
                              <a:pt x="358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5997600" y="2549520"/>
                      <a:ext cx="573120" cy="28440"/>
                      <a:chOff x="5997600" y="2549520"/>
                      <a:chExt cx="573120" cy="28440"/>
                    </a:xfrm>
                  </p:grpSpPr>
                  <p:grpSp>
                    <p:nvGrpSpPr>
                      <p:cNvPr id="434" name=""/>
                      <p:cNvGrpSpPr/>
                      <p:nvPr/>
                    </p:nvGrpSpPr>
                    <p:grpSpPr>
                      <a:xfrm>
                        <a:off x="5997600" y="2549520"/>
                        <a:ext cx="295200" cy="28440"/>
                        <a:chOff x="5997600" y="2549520"/>
                        <a:chExt cx="295200" cy="28440"/>
                      </a:xfrm>
                    </p:grpSpPr>
                    <p:grpSp>
                      <p:nvGrpSpPr>
                        <p:cNvPr id="435" name=""/>
                        <p:cNvGrpSpPr/>
                        <p:nvPr/>
                      </p:nvGrpSpPr>
                      <p:grpSpPr>
                        <a:xfrm>
                          <a:off x="5997600" y="2550960"/>
                          <a:ext cx="156960" cy="27000"/>
                          <a:chOff x="5997600" y="2550960"/>
                          <a:chExt cx="156960" cy="27000"/>
                        </a:xfrm>
                      </p:grpSpPr>
                      <p:grpSp>
                        <p:nvGrpSpPr>
                          <p:cNvPr id="436" name=""/>
                          <p:cNvGrpSpPr/>
                          <p:nvPr/>
                        </p:nvGrpSpPr>
                        <p:grpSpPr>
                          <a:xfrm>
                            <a:off x="5997600" y="2550960"/>
                            <a:ext cx="87120" cy="27000"/>
                            <a:chOff x="5997600" y="2550960"/>
                            <a:chExt cx="87120" cy="27000"/>
                          </a:xfrm>
                        </p:grpSpPr>
                        <p:grpSp>
                          <p:nvGrpSpPr>
                            <p:cNvPr id="437" name=""/>
                            <p:cNvGrpSpPr/>
                            <p:nvPr/>
                          </p:nvGrpSpPr>
                          <p:grpSpPr>
                            <a:xfrm>
                              <a:off x="5997600" y="2550960"/>
                              <a:ext cx="52200" cy="27000"/>
                              <a:chOff x="5997600" y="2550960"/>
                              <a:chExt cx="52200" cy="27000"/>
                            </a:xfrm>
                          </p:grpSpPr>
                          <p:grpSp>
                            <p:nvGrpSpPr>
                              <p:cNvPr id="438" name=""/>
                              <p:cNvGrpSpPr/>
                              <p:nvPr/>
                            </p:nvGrpSpPr>
                            <p:grpSpPr>
                              <a:xfrm>
                                <a:off x="5997600" y="2550960"/>
                                <a:ext cx="34920" cy="27000"/>
                                <a:chOff x="59976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39" name=""/>
                                <p:cNvSpPr/>
                                <p:nvPr/>
                              </p:nvSpPr>
                              <p:spPr>
                                <a:xfrm>
                                  <a:off x="59976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0" name=""/>
                                <p:cNvSpPr/>
                                <p:nvPr/>
                              </p:nvSpPr>
                              <p:spPr>
                                <a:xfrm>
                                  <a:off x="6005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1" name=""/>
                              <p:cNvGrpSpPr/>
                              <p:nvPr/>
                            </p:nvGrpSpPr>
                            <p:grpSpPr>
                              <a:xfrm>
                                <a:off x="6014880" y="2550960"/>
                                <a:ext cx="34920" cy="27000"/>
                                <a:chOff x="601488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2" name=""/>
                                <p:cNvSpPr/>
                                <p:nvPr/>
                              </p:nvSpPr>
                              <p:spPr>
                                <a:xfrm>
                                  <a:off x="60148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3" name=""/>
                                <p:cNvSpPr/>
                                <p:nvPr/>
                              </p:nvSpPr>
                              <p:spPr>
                                <a:xfrm>
                                  <a:off x="6022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44" name=""/>
                            <p:cNvGrpSpPr/>
                            <p:nvPr/>
                          </p:nvGrpSpPr>
                          <p:grpSpPr>
                            <a:xfrm>
                              <a:off x="6032520" y="2550960"/>
                              <a:ext cx="52200" cy="27000"/>
                              <a:chOff x="6032520" y="2550960"/>
                              <a:chExt cx="52200" cy="27000"/>
                            </a:xfrm>
                          </p:grpSpPr>
                          <p:grpSp>
                            <p:nvGrpSpPr>
                              <p:cNvPr id="445" name=""/>
                              <p:cNvGrpSpPr/>
                              <p:nvPr/>
                            </p:nvGrpSpPr>
                            <p:grpSpPr>
                              <a:xfrm>
                                <a:off x="6032520" y="2550960"/>
                                <a:ext cx="34920" cy="27000"/>
                                <a:chOff x="603252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6" name=""/>
                                <p:cNvSpPr/>
                                <p:nvPr/>
                              </p:nvSpPr>
                              <p:spPr>
                                <a:xfrm>
                                  <a:off x="60325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7" name=""/>
                                <p:cNvSpPr/>
                                <p:nvPr/>
                              </p:nvSpPr>
                              <p:spPr>
                                <a:xfrm>
                                  <a:off x="6040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8" name=""/>
                              <p:cNvGrpSpPr/>
                              <p:nvPr/>
                            </p:nvGrpSpPr>
                            <p:grpSpPr>
                              <a:xfrm>
                                <a:off x="6049800" y="2550960"/>
                                <a:ext cx="34920" cy="27000"/>
                                <a:chOff x="604980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49" name=""/>
                                <p:cNvSpPr/>
                                <p:nvPr/>
                              </p:nvSpPr>
                              <p:spPr>
                                <a:xfrm>
                                  <a:off x="604980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0" name=""/>
                                <p:cNvSpPr/>
                                <p:nvPr/>
                              </p:nvSpPr>
                              <p:spPr>
                                <a:xfrm>
                                  <a:off x="605808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51" name=""/>
                          <p:cNvGrpSpPr/>
                          <p:nvPr/>
                        </p:nvGrpSpPr>
                        <p:grpSpPr>
                          <a:xfrm>
                            <a:off x="6067440" y="2550960"/>
                            <a:ext cx="87120" cy="27000"/>
                            <a:chOff x="6067440" y="2550960"/>
                            <a:chExt cx="87120" cy="27000"/>
                          </a:xfrm>
                        </p:grpSpPr>
                        <p:grpSp>
                          <p:nvGrpSpPr>
                            <p:cNvPr id="452" name=""/>
                            <p:cNvGrpSpPr/>
                            <p:nvPr/>
                          </p:nvGrpSpPr>
                          <p:grpSpPr>
                            <a:xfrm>
                              <a:off x="6067440" y="2550960"/>
                              <a:ext cx="52200" cy="27000"/>
                              <a:chOff x="6067440" y="2550960"/>
                              <a:chExt cx="52200" cy="27000"/>
                            </a:xfrm>
                          </p:grpSpPr>
                          <p:grpSp>
                            <p:nvGrpSpPr>
                              <p:cNvPr id="453" name=""/>
                              <p:cNvGrpSpPr/>
                              <p:nvPr/>
                            </p:nvGrpSpPr>
                            <p:grpSpPr>
                              <a:xfrm>
                                <a:off x="6067440" y="2550960"/>
                                <a:ext cx="34920" cy="27000"/>
                                <a:chOff x="60674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54" name=""/>
                                <p:cNvSpPr/>
                                <p:nvPr/>
                              </p:nvSpPr>
                              <p:spPr>
                                <a:xfrm>
                                  <a:off x="60674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5" name=""/>
                                <p:cNvSpPr/>
                                <p:nvPr/>
                              </p:nvSpPr>
                              <p:spPr>
                                <a:xfrm>
                                  <a:off x="607536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6083280" y="2550960"/>
                                <a:ext cx="36360" cy="27000"/>
                                <a:chOff x="608328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57" name=""/>
                                <p:cNvSpPr/>
                                <p:nvPr/>
                              </p:nvSpPr>
                              <p:spPr>
                                <a:xfrm>
                                  <a:off x="6083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/>
                                <p:nvPr/>
                              </p:nvSpPr>
                              <p:spPr>
                                <a:xfrm>
                                  <a:off x="609300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9" name=""/>
                            <p:cNvGrpSpPr/>
                            <p:nvPr/>
                          </p:nvGrpSpPr>
                          <p:grpSpPr>
                            <a:xfrm>
                              <a:off x="6100920" y="2550960"/>
                              <a:ext cx="53640" cy="27000"/>
                              <a:chOff x="6100920" y="2550960"/>
                              <a:chExt cx="53640" cy="27000"/>
                            </a:xfrm>
                          </p:grpSpPr>
                          <p:grpSp>
                            <p:nvGrpSpPr>
                              <p:cNvPr id="460" name=""/>
                              <p:cNvGrpSpPr/>
                              <p:nvPr/>
                            </p:nvGrpSpPr>
                            <p:grpSpPr>
                              <a:xfrm>
                                <a:off x="6100920" y="2550960"/>
                                <a:ext cx="36360" cy="27000"/>
                                <a:chOff x="6100920" y="2550960"/>
                                <a:chExt cx="36360" cy="27000"/>
                              </a:xfrm>
                            </p:grpSpPr>
                            <p:sp>
                              <p:nvSpPr>
                                <p:cNvPr id="461" name=""/>
                                <p:cNvSpPr/>
                                <p:nvPr/>
                              </p:nvSpPr>
                              <p:spPr>
                                <a:xfrm>
                                  <a:off x="610092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2" name=""/>
                                <p:cNvSpPr/>
                                <p:nvPr/>
                              </p:nvSpPr>
                              <p:spPr>
                                <a:xfrm>
                                  <a:off x="611028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3" name=""/>
                              <p:cNvGrpSpPr/>
                              <p:nvPr/>
                            </p:nvGrpSpPr>
                            <p:grpSpPr>
                              <a:xfrm>
                                <a:off x="6119640" y="2550960"/>
                                <a:ext cx="34920" cy="27000"/>
                                <a:chOff x="6119640" y="2550960"/>
                                <a:chExt cx="34920" cy="27000"/>
                              </a:xfrm>
                            </p:grpSpPr>
                            <p:sp>
                              <p:nvSpPr>
                                <p:cNvPr id="464" name=""/>
                                <p:cNvSpPr/>
                                <p:nvPr/>
                              </p:nvSpPr>
                              <p:spPr>
                                <a:xfrm>
                                  <a:off x="6119640" y="255096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5" name=""/>
                                <p:cNvSpPr/>
                                <p:nvPr/>
                              </p:nvSpPr>
                              <p:spPr>
                                <a:xfrm>
                                  <a:off x="6127920" y="2550960"/>
                                  <a:ext cx="2664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466" name=""/>
                        <p:cNvGrpSpPr/>
                        <p:nvPr/>
                      </p:nvGrpSpPr>
                      <p:grpSpPr>
                        <a:xfrm>
                          <a:off x="6135840" y="2549520"/>
                          <a:ext cx="156960" cy="27000"/>
                          <a:chOff x="6135840" y="2549520"/>
                          <a:chExt cx="156960" cy="27000"/>
                        </a:xfrm>
                      </p:grpSpPr>
                      <p:grpSp>
                        <p:nvGrpSpPr>
                          <p:cNvPr id="467" name=""/>
                          <p:cNvGrpSpPr/>
                          <p:nvPr/>
                        </p:nvGrpSpPr>
                        <p:grpSpPr>
                          <a:xfrm>
                            <a:off x="6135840" y="2549520"/>
                            <a:ext cx="88920" cy="27000"/>
                            <a:chOff x="6135840" y="2549520"/>
                            <a:chExt cx="88920" cy="27000"/>
                          </a:xfrm>
                        </p:grpSpPr>
                        <p:grpSp>
                          <p:nvGrpSpPr>
                            <p:cNvPr id="468" name=""/>
                            <p:cNvGrpSpPr/>
                            <p:nvPr/>
                          </p:nvGrpSpPr>
                          <p:grpSpPr>
                            <a:xfrm>
                              <a:off x="6135840" y="2549520"/>
                              <a:ext cx="54000" cy="27000"/>
                              <a:chOff x="6135840" y="2549520"/>
                              <a:chExt cx="54000" cy="27000"/>
                            </a:xfrm>
                          </p:grpSpPr>
                          <p:grpSp>
                            <p:nvGrpSpPr>
                              <p:cNvPr id="469" name=""/>
                              <p:cNvGrpSpPr/>
                              <p:nvPr/>
                            </p:nvGrpSpPr>
                            <p:grpSpPr>
                              <a:xfrm>
                                <a:off x="6135840" y="2549520"/>
                                <a:ext cx="36360" cy="27000"/>
                                <a:chOff x="61358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0" name=""/>
                                <p:cNvSpPr/>
                                <p:nvPr/>
                              </p:nvSpPr>
                              <p:spPr>
                                <a:xfrm>
                                  <a:off x="6135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1" name=""/>
                                <p:cNvSpPr/>
                                <p:nvPr/>
                              </p:nvSpPr>
                              <p:spPr>
                                <a:xfrm>
                                  <a:off x="614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2" name=""/>
                              <p:cNvGrpSpPr/>
                              <p:nvPr/>
                            </p:nvGrpSpPr>
                            <p:grpSpPr>
                              <a:xfrm>
                                <a:off x="6153120" y="2549520"/>
                                <a:ext cx="36720" cy="27000"/>
                                <a:chOff x="61531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73" name=""/>
                                <p:cNvSpPr/>
                                <p:nvPr/>
                              </p:nvSpPr>
                              <p:spPr>
                                <a:xfrm>
                                  <a:off x="615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4" name=""/>
                                <p:cNvSpPr/>
                                <p:nvPr/>
                              </p:nvSpPr>
                              <p:spPr>
                                <a:xfrm>
                                  <a:off x="61628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75" name=""/>
                            <p:cNvGrpSpPr/>
                            <p:nvPr/>
                          </p:nvGrpSpPr>
                          <p:grpSpPr>
                            <a:xfrm>
                              <a:off x="6170760" y="2549520"/>
                              <a:ext cx="54000" cy="27000"/>
                              <a:chOff x="6170760" y="2549520"/>
                              <a:chExt cx="54000" cy="27000"/>
                            </a:xfrm>
                          </p:grpSpPr>
                          <p:grpSp>
                            <p:nvGrpSpPr>
                              <p:cNvPr id="476" name=""/>
                              <p:cNvGrpSpPr/>
                              <p:nvPr/>
                            </p:nvGrpSpPr>
                            <p:grpSpPr>
                              <a:xfrm>
                                <a:off x="6170760" y="2549520"/>
                                <a:ext cx="36360" cy="27000"/>
                                <a:chOff x="61707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77" name=""/>
                                <p:cNvSpPr/>
                                <p:nvPr/>
                              </p:nvSpPr>
                              <p:spPr>
                                <a:xfrm>
                                  <a:off x="6170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78" name=""/>
                                <p:cNvSpPr/>
                                <p:nvPr/>
                              </p:nvSpPr>
                              <p:spPr>
                                <a:xfrm>
                                  <a:off x="6180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79" name=""/>
                              <p:cNvGrpSpPr/>
                              <p:nvPr/>
                            </p:nvGrpSpPr>
                            <p:grpSpPr>
                              <a:xfrm>
                                <a:off x="6188040" y="2549520"/>
                                <a:ext cx="36720" cy="27000"/>
                                <a:chOff x="618804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0" name=""/>
                                <p:cNvSpPr/>
                                <p:nvPr/>
                              </p:nvSpPr>
                              <p:spPr>
                                <a:xfrm>
                                  <a:off x="618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1" name=""/>
                                <p:cNvSpPr/>
                                <p:nvPr/>
                              </p:nvSpPr>
                              <p:spPr>
                                <a:xfrm>
                                  <a:off x="61977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82" name=""/>
                          <p:cNvGrpSpPr/>
                          <p:nvPr/>
                        </p:nvGrpSpPr>
                        <p:grpSpPr>
                          <a:xfrm>
                            <a:off x="6205680" y="2549520"/>
                            <a:ext cx="87120" cy="27000"/>
                            <a:chOff x="6205680" y="2549520"/>
                            <a:chExt cx="87120" cy="27000"/>
                          </a:xfrm>
                        </p:grpSpPr>
                        <p:grpSp>
                          <p:nvGrpSpPr>
                            <p:cNvPr id="483" name=""/>
                            <p:cNvGrpSpPr/>
                            <p:nvPr/>
                          </p:nvGrpSpPr>
                          <p:grpSpPr>
                            <a:xfrm>
                              <a:off x="6205680" y="2549520"/>
                              <a:ext cx="54000" cy="27000"/>
                              <a:chOff x="6205680" y="2549520"/>
                              <a:chExt cx="54000" cy="27000"/>
                            </a:xfrm>
                          </p:grpSpPr>
                          <p:grpSp>
                            <p:nvGrpSpPr>
                              <p:cNvPr id="484" name=""/>
                              <p:cNvGrpSpPr/>
                              <p:nvPr/>
                            </p:nvGrpSpPr>
                            <p:grpSpPr>
                              <a:xfrm>
                                <a:off x="6205680" y="2549520"/>
                                <a:ext cx="36360" cy="27000"/>
                                <a:chOff x="62056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485" name=""/>
                                <p:cNvSpPr/>
                                <p:nvPr/>
                              </p:nvSpPr>
                              <p:spPr>
                                <a:xfrm>
                                  <a:off x="6205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6" name=""/>
                                <p:cNvSpPr/>
                                <p:nvPr/>
                              </p:nvSpPr>
                              <p:spPr>
                                <a:xfrm>
                                  <a:off x="6215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87" name=""/>
                              <p:cNvGrpSpPr/>
                              <p:nvPr/>
                            </p:nvGrpSpPr>
                            <p:grpSpPr>
                              <a:xfrm>
                                <a:off x="6222960" y="2549520"/>
                                <a:ext cx="36720" cy="27000"/>
                                <a:chOff x="622296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488" name=""/>
                                <p:cNvSpPr/>
                                <p:nvPr/>
                              </p:nvSpPr>
                              <p:spPr>
                                <a:xfrm>
                                  <a:off x="6222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89" name=""/>
                                <p:cNvSpPr/>
                                <p:nvPr/>
                              </p:nvSpPr>
                              <p:spPr>
                                <a:xfrm>
                                  <a:off x="62326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90" name=""/>
                            <p:cNvGrpSpPr/>
                            <p:nvPr/>
                          </p:nvGrpSpPr>
                          <p:grpSpPr>
                            <a:xfrm>
                              <a:off x="6240600" y="2549520"/>
                              <a:ext cx="52200" cy="27000"/>
                              <a:chOff x="6240600" y="2549520"/>
                              <a:chExt cx="52200" cy="27000"/>
                            </a:xfrm>
                          </p:grpSpPr>
                          <p:grpSp>
                            <p:nvGrpSpPr>
                              <p:cNvPr id="491" name=""/>
                              <p:cNvGrpSpPr/>
                              <p:nvPr/>
                            </p:nvGrpSpPr>
                            <p:grpSpPr>
                              <a:xfrm>
                                <a:off x="6240600" y="2549520"/>
                                <a:ext cx="34920" cy="27000"/>
                                <a:chOff x="62406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2" name=""/>
                                <p:cNvSpPr/>
                                <p:nvPr/>
                              </p:nvSpPr>
                              <p:spPr>
                                <a:xfrm>
                                  <a:off x="62406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3" name=""/>
                                <p:cNvSpPr/>
                                <p:nvPr/>
                              </p:nvSpPr>
                              <p:spPr>
                                <a:xfrm>
                                  <a:off x="6248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94" name=""/>
                              <p:cNvGrpSpPr/>
                              <p:nvPr/>
                            </p:nvGrpSpPr>
                            <p:grpSpPr>
                              <a:xfrm>
                                <a:off x="6257880" y="2549520"/>
                                <a:ext cx="34920" cy="27000"/>
                                <a:chOff x="625788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495" name=""/>
                                <p:cNvSpPr/>
                                <p:nvPr/>
                              </p:nvSpPr>
                              <p:spPr>
                                <a:xfrm>
                                  <a:off x="6257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6" name=""/>
                                <p:cNvSpPr/>
                                <p:nvPr/>
                              </p:nvSpPr>
                              <p:spPr>
                                <a:xfrm>
                                  <a:off x="626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497" name=""/>
                      <p:cNvGrpSpPr/>
                      <p:nvPr/>
                    </p:nvGrpSpPr>
                    <p:grpSpPr>
                      <a:xfrm>
                        <a:off x="6275520" y="2549520"/>
                        <a:ext cx="295200" cy="27000"/>
                        <a:chOff x="6275520" y="2549520"/>
                        <a:chExt cx="295200" cy="27000"/>
                      </a:xfrm>
                    </p:grpSpPr>
                    <p:grpSp>
                      <p:nvGrpSpPr>
                        <p:cNvPr id="498" name=""/>
                        <p:cNvGrpSpPr/>
                        <p:nvPr/>
                      </p:nvGrpSpPr>
                      <p:grpSpPr>
                        <a:xfrm>
                          <a:off x="6275520" y="2549520"/>
                          <a:ext cx="156960" cy="27000"/>
                          <a:chOff x="6275520" y="2549520"/>
                          <a:chExt cx="156960" cy="27000"/>
                        </a:xfrm>
                      </p:grpSpPr>
                      <p:grpSp>
                        <p:nvGrpSpPr>
                          <p:cNvPr id="499" name=""/>
                          <p:cNvGrpSpPr/>
                          <p:nvPr/>
                        </p:nvGrpSpPr>
                        <p:grpSpPr>
                          <a:xfrm>
                            <a:off x="6275520" y="2549520"/>
                            <a:ext cx="87120" cy="27000"/>
                            <a:chOff x="6275520" y="2549520"/>
                            <a:chExt cx="87120" cy="27000"/>
                          </a:xfrm>
                        </p:grpSpPr>
                        <p:grpSp>
                          <p:nvGrpSpPr>
                            <p:cNvPr id="500" name=""/>
                            <p:cNvGrpSpPr/>
                            <p:nvPr/>
                          </p:nvGrpSpPr>
                          <p:grpSpPr>
                            <a:xfrm>
                              <a:off x="6275520" y="2549520"/>
                              <a:ext cx="52200" cy="27000"/>
                              <a:chOff x="627552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1" name=""/>
                              <p:cNvGrpSpPr/>
                              <p:nvPr/>
                            </p:nvGrpSpPr>
                            <p:grpSpPr>
                              <a:xfrm>
                                <a:off x="6275520" y="2549520"/>
                                <a:ext cx="34920" cy="27000"/>
                                <a:chOff x="62755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2" name=""/>
                                <p:cNvSpPr/>
                                <p:nvPr/>
                              </p:nvSpPr>
                              <p:spPr>
                                <a:xfrm>
                                  <a:off x="62755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3" name=""/>
                                <p:cNvSpPr/>
                                <p:nvPr/>
                              </p:nvSpPr>
                              <p:spPr>
                                <a:xfrm>
                                  <a:off x="6283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04" name=""/>
                              <p:cNvGrpSpPr/>
                              <p:nvPr/>
                            </p:nvGrpSpPr>
                            <p:grpSpPr>
                              <a:xfrm>
                                <a:off x="6292800" y="2549520"/>
                                <a:ext cx="34920" cy="27000"/>
                                <a:chOff x="6292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5" name=""/>
                                <p:cNvSpPr/>
                                <p:nvPr/>
                              </p:nvSpPr>
                              <p:spPr>
                                <a:xfrm>
                                  <a:off x="6292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06" name=""/>
                                <p:cNvSpPr/>
                                <p:nvPr/>
                              </p:nvSpPr>
                              <p:spPr>
                                <a:xfrm>
                                  <a:off x="6300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07" name=""/>
                            <p:cNvGrpSpPr/>
                            <p:nvPr/>
                          </p:nvGrpSpPr>
                          <p:grpSpPr>
                            <a:xfrm>
                              <a:off x="6310440" y="2549520"/>
                              <a:ext cx="52200" cy="27000"/>
                              <a:chOff x="6310440" y="2549520"/>
                              <a:chExt cx="52200" cy="27000"/>
                            </a:xfrm>
                          </p:grpSpPr>
                          <p:grpSp>
                            <p:nvGrpSpPr>
                              <p:cNvPr id="508" name=""/>
                              <p:cNvGrpSpPr/>
                              <p:nvPr/>
                            </p:nvGrpSpPr>
                            <p:grpSpPr>
                              <a:xfrm>
                                <a:off x="6310440" y="2549520"/>
                                <a:ext cx="34920" cy="27000"/>
                                <a:chOff x="63104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09" name=""/>
                                <p:cNvSpPr/>
                                <p:nvPr/>
                              </p:nvSpPr>
                              <p:spPr>
                                <a:xfrm>
                                  <a:off x="63104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0" name=""/>
                                <p:cNvSpPr/>
                                <p:nvPr/>
                              </p:nvSpPr>
                              <p:spPr>
                                <a:xfrm>
                                  <a:off x="6318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1" name=""/>
                              <p:cNvGrpSpPr/>
                              <p:nvPr/>
                            </p:nvGrpSpPr>
                            <p:grpSpPr>
                              <a:xfrm>
                                <a:off x="6327720" y="2549520"/>
                                <a:ext cx="34920" cy="27000"/>
                                <a:chOff x="632772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2" name=""/>
                                <p:cNvSpPr/>
                                <p:nvPr/>
                              </p:nvSpPr>
                              <p:spPr>
                                <a:xfrm>
                                  <a:off x="6327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3" name=""/>
                                <p:cNvSpPr/>
                                <p:nvPr/>
                              </p:nvSpPr>
                              <p:spPr>
                                <a:xfrm>
                                  <a:off x="6335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14" name=""/>
                          <p:cNvGrpSpPr/>
                          <p:nvPr/>
                        </p:nvGrpSpPr>
                        <p:grpSpPr>
                          <a:xfrm>
                            <a:off x="6345360" y="2549520"/>
                            <a:ext cx="87120" cy="27000"/>
                            <a:chOff x="6345360" y="2549520"/>
                            <a:chExt cx="87120" cy="27000"/>
                          </a:xfrm>
                        </p:grpSpPr>
                        <p:grpSp>
                          <p:nvGrpSpPr>
                            <p:cNvPr id="515" name=""/>
                            <p:cNvGrpSpPr/>
                            <p:nvPr/>
                          </p:nvGrpSpPr>
                          <p:grpSpPr>
                            <a:xfrm>
                              <a:off x="6345360" y="2549520"/>
                              <a:ext cx="52200" cy="27000"/>
                              <a:chOff x="6345360" y="2549520"/>
                              <a:chExt cx="52200" cy="27000"/>
                            </a:xfrm>
                          </p:grpSpPr>
                          <p:grpSp>
                            <p:nvGrpSpPr>
                              <p:cNvPr id="516" name=""/>
                              <p:cNvGrpSpPr/>
                              <p:nvPr/>
                            </p:nvGrpSpPr>
                            <p:grpSpPr>
                              <a:xfrm>
                                <a:off x="6345360" y="2549520"/>
                                <a:ext cx="34920" cy="27000"/>
                                <a:chOff x="63453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17" name=""/>
                                <p:cNvSpPr/>
                                <p:nvPr/>
                              </p:nvSpPr>
                              <p:spPr>
                                <a:xfrm>
                                  <a:off x="63453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18" name=""/>
                                <p:cNvSpPr/>
                                <p:nvPr/>
                              </p:nvSpPr>
                              <p:spPr>
                                <a:xfrm>
                                  <a:off x="63532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19" name=""/>
                              <p:cNvGrpSpPr/>
                              <p:nvPr/>
                            </p:nvGrpSpPr>
                            <p:grpSpPr>
                              <a:xfrm>
                                <a:off x="6362640" y="2549520"/>
                                <a:ext cx="34920" cy="27000"/>
                                <a:chOff x="63626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20" name=""/>
                                <p:cNvSpPr/>
                                <p:nvPr/>
                              </p:nvSpPr>
                              <p:spPr>
                                <a:xfrm>
                                  <a:off x="63626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1" name=""/>
                                <p:cNvSpPr/>
                                <p:nvPr/>
                              </p:nvSpPr>
                              <p:spPr>
                                <a:xfrm>
                                  <a:off x="63705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22" name=""/>
                            <p:cNvGrpSpPr/>
                            <p:nvPr/>
                          </p:nvGrpSpPr>
                          <p:grpSpPr>
                            <a:xfrm>
                              <a:off x="6378480" y="2549520"/>
                              <a:ext cx="54000" cy="27000"/>
                              <a:chOff x="6378480" y="2549520"/>
                              <a:chExt cx="54000" cy="27000"/>
                            </a:xfrm>
                          </p:grpSpPr>
                          <p:grpSp>
                            <p:nvGrpSpPr>
                              <p:cNvPr id="523" name=""/>
                              <p:cNvGrpSpPr/>
                              <p:nvPr/>
                            </p:nvGrpSpPr>
                            <p:grpSpPr>
                              <a:xfrm>
                                <a:off x="6378480" y="2549520"/>
                                <a:ext cx="36720" cy="27000"/>
                                <a:chOff x="637848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24" name=""/>
                                <p:cNvSpPr/>
                                <p:nvPr/>
                              </p:nvSpPr>
                              <p:spPr>
                                <a:xfrm>
                                  <a:off x="6378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5" name=""/>
                                <p:cNvSpPr/>
                                <p:nvPr/>
                              </p:nvSpPr>
                              <p:spPr>
                                <a:xfrm>
                                  <a:off x="6388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26" name=""/>
                              <p:cNvGrpSpPr/>
                              <p:nvPr/>
                            </p:nvGrpSpPr>
                            <p:grpSpPr>
                              <a:xfrm>
                                <a:off x="6396120" y="2549520"/>
                                <a:ext cx="36360" cy="27000"/>
                                <a:chOff x="639612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27" name=""/>
                                <p:cNvSpPr/>
                                <p:nvPr/>
                              </p:nvSpPr>
                              <p:spPr>
                                <a:xfrm>
                                  <a:off x="6396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28" name=""/>
                                <p:cNvSpPr/>
                                <p:nvPr/>
                              </p:nvSpPr>
                              <p:spPr>
                                <a:xfrm>
                                  <a:off x="64054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529" name=""/>
                        <p:cNvGrpSpPr/>
                        <p:nvPr/>
                      </p:nvGrpSpPr>
                      <p:grpSpPr>
                        <a:xfrm>
                          <a:off x="6415200" y="2549520"/>
                          <a:ext cx="155520" cy="27000"/>
                          <a:chOff x="6415200" y="2549520"/>
                          <a:chExt cx="155520" cy="27000"/>
                        </a:xfrm>
                      </p:grpSpPr>
                      <p:grpSp>
                        <p:nvGrpSpPr>
                          <p:cNvPr id="530" name=""/>
                          <p:cNvGrpSpPr/>
                          <p:nvPr/>
                        </p:nvGrpSpPr>
                        <p:grpSpPr>
                          <a:xfrm>
                            <a:off x="6415200" y="2549520"/>
                            <a:ext cx="87120" cy="27000"/>
                            <a:chOff x="6415200" y="2549520"/>
                            <a:chExt cx="87120" cy="27000"/>
                          </a:xfrm>
                        </p:grpSpPr>
                        <p:grpSp>
                          <p:nvGrpSpPr>
                            <p:cNvPr id="531" name=""/>
                            <p:cNvGrpSpPr/>
                            <p:nvPr/>
                          </p:nvGrpSpPr>
                          <p:grpSpPr>
                            <a:xfrm>
                              <a:off x="6415200" y="2549520"/>
                              <a:ext cx="52200" cy="27000"/>
                              <a:chOff x="6415200" y="2549520"/>
                              <a:chExt cx="52200" cy="27000"/>
                            </a:xfrm>
                          </p:grpSpPr>
                          <p:grpSp>
                            <p:nvGrpSpPr>
                              <p:cNvPr id="532" name=""/>
                              <p:cNvGrpSpPr/>
                              <p:nvPr/>
                            </p:nvGrpSpPr>
                            <p:grpSpPr>
                              <a:xfrm>
                                <a:off x="6415200" y="2549520"/>
                                <a:ext cx="34920" cy="27000"/>
                                <a:chOff x="64152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33" name=""/>
                                <p:cNvSpPr/>
                                <p:nvPr/>
                              </p:nvSpPr>
                              <p:spPr>
                                <a:xfrm>
                                  <a:off x="64152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4" name=""/>
                                <p:cNvSpPr/>
                                <p:nvPr/>
                              </p:nvSpPr>
                              <p:spPr>
                                <a:xfrm>
                                  <a:off x="64231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35" name=""/>
                              <p:cNvGrpSpPr/>
                              <p:nvPr/>
                            </p:nvGrpSpPr>
                            <p:grpSpPr>
                              <a:xfrm>
                                <a:off x="6431040" y="2549520"/>
                                <a:ext cx="36360" cy="27000"/>
                                <a:chOff x="643104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36" name=""/>
                                <p:cNvSpPr/>
                                <p:nvPr/>
                              </p:nvSpPr>
                              <p:spPr>
                                <a:xfrm>
                                  <a:off x="6431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7" name=""/>
                                <p:cNvSpPr/>
                                <p:nvPr/>
                              </p:nvSpPr>
                              <p:spPr>
                                <a:xfrm>
                                  <a:off x="64404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38" name=""/>
                            <p:cNvGrpSpPr/>
                            <p:nvPr/>
                          </p:nvGrpSpPr>
                          <p:grpSpPr>
                            <a:xfrm>
                              <a:off x="6448320" y="2549520"/>
                              <a:ext cx="54000" cy="27000"/>
                              <a:chOff x="6448320" y="2549520"/>
                              <a:chExt cx="54000" cy="27000"/>
                            </a:xfrm>
                          </p:grpSpPr>
                          <p:grpSp>
                            <p:nvGrpSpPr>
                              <p:cNvPr id="539" name=""/>
                              <p:cNvGrpSpPr/>
                              <p:nvPr/>
                            </p:nvGrpSpPr>
                            <p:grpSpPr>
                              <a:xfrm>
                                <a:off x="6448320" y="2549520"/>
                                <a:ext cx="36720" cy="27000"/>
                                <a:chOff x="6448320" y="2549520"/>
                                <a:chExt cx="36720" cy="27000"/>
                              </a:xfrm>
                            </p:grpSpPr>
                            <p:sp>
                              <p:nvSpPr>
                                <p:cNvPr id="540" name=""/>
                                <p:cNvSpPr/>
                                <p:nvPr/>
                              </p:nvSpPr>
                              <p:spPr>
                                <a:xfrm>
                                  <a:off x="6448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1" name=""/>
                                <p:cNvSpPr/>
                                <p:nvPr/>
                              </p:nvSpPr>
                              <p:spPr>
                                <a:xfrm>
                                  <a:off x="64580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2" name=""/>
                              <p:cNvGrpSpPr/>
                              <p:nvPr/>
                            </p:nvGrpSpPr>
                            <p:grpSpPr>
                              <a:xfrm>
                                <a:off x="6465960" y="2549520"/>
                                <a:ext cx="36360" cy="27000"/>
                                <a:chOff x="646596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43" name=""/>
                                <p:cNvSpPr/>
                                <p:nvPr/>
                              </p:nvSpPr>
                              <p:spPr>
                                <a:xfrm>
                                  <a:off x="64659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4" name=""/>
                                <p:cNvSpPr/>
                                <p:nvPr/>
                              </p:nvSpPr>
                              <p:spPr>
                                <a:xfrm>
                                  <a:off x="64753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45" name=""/>
                          <p:cNvGrpSpPr/>
                          <p:nvPr/>
                        </p:nvGrpSpPr>
                        <p:grpSpPr>
                          <a:xfrm>
                            <a:off x="6483240" y="2549520"/>
                            <a:ext cx="87480" cy="27000"/>
                            <a:chOff x="6483240" y="2549520"/>
                            <a:chExt cx="87480" cy="27000"/>
                          </a:xfrm>
                        </p:grpSpPr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6483240" y="2549520"/>
                              <a:ext cx="54000" cy="27000"/>
                              <a:chOff x="6483240" y="2549520"/>
                              <a:chExt cx="54000" cy="27000"/>
                            </a:xfrm>
                          </p:grpSpPr>
                          <p:grpSp>
                            <p:nvGrpSpPr>
                              <p:cNvPr id="547" name=""/>
                              <p:cNvGrpSpPr/>
                              <p:nvPr/>
                            </p:nvGrpSpPr>
                            <p:grpSpPr>
                              <a:xfrm>
                                <a:off x="6483240" y="2549520"/>
                                <a:ext cx="34920" cy="27000"/>
                                <a:chOff x="648324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48" name=""/>
                                <p:cNvSpPr/>
                                <p:nvPr/>
                              </p:nvSpPr>
                              <p:spPr>
                                <a:xfrm>
                                  <a:off x="6483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9" name=""/>
                                <p:cNvSpPr/>
                                <p:nvPr/>
                              </p:nvSpPr>
                              <p:spPr>
                                <a:xfrm>
                                  <a:off x="6491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0" name=""/>
                              <p:cNvGrpSpPr/>
                              <p:nvPr/>
                            </p:nvGrpSpPr>
                            <p:grpSpPr>
                              <a:xfrm>
                                <a:off x="6500880" y="2549520"/>
                                <a:ext cx="36360" cy="27000"/>
                                <a:chOff x="6500880" y="2549520"/>
                                <a:chExt cx="36360" cy="27000"/>
                              </a:xfrm>
                            </p:grpSpPr>
                            <p:sp>
                              <p:nvSpPr>
                                <p:cNvPr id="551" name=""/>
                                <p:cNvSpPr/>
                                <p:nvPr/>
                              </p:nvSpPr>
                              <p:spPr>
                                <a:xfrm>
                                  <a:off x="65008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2" name=""/>
                                <p:cNvSpPr/>
                                <p:nvPr/>
                              </p:nvSpPr>
                              <p:spPr>
                                <a:xfrm>
                                  <a:off x="651024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3" name=""/>
                            <p:cNvGrpSpPr/>
                            <p:nvPr/>
                          </p:nvGrpSpPr>
                          <p:grpSpPr>
                            <a:xfrm>
                              <a:off x="6518160" y="2549520"/>
                              <a:ext cx="52560" cy="27000"/>
                              <a:chOff x="6518160" y="2549520"/>
                              <a:chExt cx="52560" cy="27000"/>
                            </a:xfrm>
                          </p:grpSpPr>
                          <p:grpSp>
                            <p:nvGrpSpPr>
                              <p:cNvPr id="554" name=""/>
                              <p:cNvGrpSpPr/>
                              <p:nvPr/>
                            </p:nvGrpSpPr>
                            <p:grpSpPr>
                              <a:xfrm>
                                <a:off x="6518160" y="2549520"/>
                                <a:ext cx="34920" cy="27000"/>
                                <a:chOff x="651816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5" name=""/>
                                <p:cNvSpPr/>
                                <p:nvPr/>
                              </p:nvSpPr>
                              <p:spPr>
                                <a:xfrm>
                                  <a:off x="651816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6" name=""/>
                                <p:cNvSpPr/>
                                <p:nvPr/>
                              </p:nvSpPr>
                              <p:spPr>
                                <a:xfrm>
                                  <a:off x="652608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7" name=""/>
                              <p:cNvGrpSpPr/>
                              <p:nvPr/>
                            </p:nvGrpSpPr>
                            <p:grpSpPr>
                              <a:xfrm>
                                <a:off x="6535800" y="2549520"/>
                                <a:ext cx="34920" cy="27000"/>
                                <a:chOff x="6535800" y="2549520"/>
                                <a:chExt cx="34920" cy="27000"/>
                              </a:xfrm>
                            </p:grpSpPr>
                            <p:sp>
                              <p:nvSpPr>
                                <p:cNvPr id="558" name=""/>
                                <p:cNvSpPr/>
                                <p:nvPr/>
                              </p:nvSpPr>
                              <p:spPr>
                                <a:xfrm>
                                  <a:off x="653580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9" name=""/>
                                <p:cNvSpPr/>
                                <p:nvPr/>
                              </p:nvSpPr>
                              <p:spPr>
                                <a:xfrm>
                                  <a:off x="6543720" y="2549520"/>
                                  <a:ext cx="27000" cy="27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17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6"/>
                                      </a:lnTo>
                                      <a:lnTo>
                                        <a:pt x="16" y="16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9800" bIns="-19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6002280" y="2438280"/>
                    <a:ext cx="533520" cy="66960"/>
                    <a:chOff x="6002280" y="2438280"/>
                    <a:chExt cx="533520" cy="669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6002280" y="2438280"/>
                      <a:ext cx="98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6122880" y="2438280"/>
                      <a:ext cx="14940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6294600" y="2438280"/>
                      <a:ext cx="1616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6478560" y="2438280"/>
                      <a:ext cx="57240" cy="66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0160" bIns="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5" name=""/>
                <p:cNvGrpSpPr/>
                <p:nvPr/>
              </p:nvGrpSpPr>
              <p:grpSpPr>
                <a:xfrm>
                  <a:off x="6488280" y="2446200"/>
                  <a:ext cx="39600" cy="36720"/>
                  <a:chOff x="6488280" y="2446200"/>
                  <a:chExt cx="39600" cy="3672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6512040" y="2448000"/>
                    <a:ext cx="7920" cy="20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515280" y="24591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6488280" y="2446200"/>
                    <a:ext cx="12600" cy="36720"/>
                    <a:chOff x="6488280" y="2446200"/>
                    <a:chExt cx="12600" cy="367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6488280" y="2446200"/>
                      <a:ext cx="12600" cy="129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6488280" y="2470320"/>
                      <a:ext cx="12600" cy="12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71" name=""/>
                <p:cNvGrpSpPr/>
                <p:nvPr/>
              </p:nvGrpSpPr>
              <p:grpSpPr>
                <a:xfrm>
                  <a:off x="6129360" y="2444760"/>
                  <a:ext cx="138240" cy="49320"/>
                  <a:chOff x="6129360" y="2444760"/>
                  <a:chExt cx="138240" cy="49320"/>
                </a:xfrm>
              </p:grpSpPr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6129360" y="2449440"/>
                    <a:ext cx="138240" cy="33480"/>
                    <a:chOff x="6129360" y="2449440"/>
                    <a:chExt cx="138240" cy="3348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6180120" y="2449440"/>
                      <a:ext cx="36360" cy="111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6180120" y="2459160"/>
                      <a:ext cx="3636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6129360" y="2457360"/>
                      <a:ext cx="138240" cy="25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76" name=""/>
                  <p:cNvSpPr/>
                  <p:nvPr/>
                </p:nvSpPr>
                <p:spPr>
                  <a:xfrm>
                    <a:off x="6129360" y="2444760"/>
                    <a:ext cx="12600" cy="1260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249960" y="2487600"/>
                    <a:ext cx="7920" cy="64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5997600" y="2498760"/>
                  <a:ext cx="125280" cy="27000"/>
                  <a:chOff x="5997600" y="2498760"/>
                  <a:chExt cx="125280" cy="27000"/>
                </a:xfrm>
              </p:grpSpPr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997600" y="2498760"/>
                    <a:ext cx="73080" cy="27000"/>
                    <a:chOff x="5997600" y="2498760"/>
                    <a:chExt cx="73080" cy="27000"/>
                  </a:xfrm>
                </p:grpSpPr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5997600" y="2498760"/>
                      <a:ext cx="47520" cy="27000"/>
                      <a:chOff x="5997600" y="2498760"/>
                      <a:chExt cx="47520" cy="27000"/>
                    </a:xfrm>
                  </p:grpSpPr>
                  <p:grpSp>
                    <p:nvGrpSpPr>
                      <p:cNvPr id="581" name=""/>
                      <p:cNvGrpSpPr/>
                      <p:nvPr/>
                    </p:nvGrpSpPr>
                    <p:grpSpPr>
                      <a:xfrm>
                        <a:off x="5997600" y="2498760"/>
                        <a:ext cx="33480" cy="27000"/>
                        <a:chOff x="5997600" y="2498760"/>
                        <a:chExt cx="33480" cy="27000"/>
                      </a:xfrm>
                    </p:grpSpPr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5997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6004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84" name=""/>
                      <p:cNvGrpSpPr/>
                      <p:nvPr/>
                    </p:nvGrpSpPr>
                    <p:grpSpPr>
                      <a:xfrm>
                        <a:off x="6010200" y="2498760"/>
                        <a:ext cx="34920" cy="27000"/>
                        <a:chOff x="6010200" y="2498760"/>
                        <a:chExt cx="34920" cy="27000"/>
                      </a:xfrm>
                    </p:grpSpPr>
                    <p:sp>
                      <p:nvSpPr>
                        <p:cNvPr id="585" name=""/>
                        <p:cNvSpPr/>
                        <p:nvPr/>
                      </p:nvSpPr>
                      <p:spPr>
                        <a:xfrm>
                          <a:off x="6010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6" name=""/>
                        <p:cNvSpPr/>
                        <p:nvPr/>
                      </p:nvSpPr>
                      <p:spPr>
                        <a:xfrm>
                          <a:off x="601812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7" name=""/>
                    <p:cNvGrpSpPr/>
                    <p:nvPr/>
                  </p:nvGrpSpPr>
                  <p:grpSpPr>
                    <a:xfrm>
                      <a:off x="6024600" y="2498760"/>
                      <a:ext cx="46080" cy="27000"/>
                      <a:chOff x="6024600" y="2498760"/>
                      <a:chExt cx="46080" cy="27000"/>
                    </a:xfrm>
                  </p:grpSpPr>
                  <p:grpSp>
                    <p:nvGrpSpPr>
                      <p:cNvPr id="588" name=""/>
                      <p:cNvGrpSpPr/>
                      <p:nvPr/>
                    </p:nvGrpSpPr>
                    <p:grpSpPr>
                      <a:xfrm>
                        <a:off x="6024600" y="2498760"/>
                        <a:ext cx="33480" cy="27000"/>
                        <a:chOff x="6024600" y="2498760"/>
                        <a:chExt cx="33480" cy="27000"/>
                      </a:xfrm>
                    </p:grpSpPr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0246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"/>
                        <p:cNvSpPr/>
                        <p:nvPr/>
                      </p:nvSpPr>
                      <p:spPr>
                        <a:xfrm>
                          <a:off x="60310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1" name=""/>
                      <p:cNvGrpSpPr/>
                      <p:nvPr/>
                    </p:nvGrpSpPr>
                    <p:grpSpPr>
                      <a:xfrm>
                        <a:off x="6037200" y="2498760"/>
                        <a:ext cx="33480" cy="27000"/>
                        <a:chOff x="6037200" y="2498760"/>
                        <a:chExt cx="33480" cy="27000"/>
                      </a:xfrm>
                    </p:grpSpPr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>
                          <a:off x="6037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6043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6049800" y="2498760"/>
                    <a:ext cx="73080" cy="27000"/>
                    <a:chOff x="6049800" y="2498760"/>
                    <a:chExt cx="73080" cy="27000"/>
                  </a:xfrm>
                </p:grpSpPr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6049800" y="2498760"/>
                      <a:ext cx="47880" cy="27000"/>
                      <a:chOff x="6049800" y="2498760"/>
                      <a:chExt cx="47880" cy="27000"/>
                    </a:xfrm>
                  </p:grpSpPr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6049800" y="2498760"/>
                        <a:ext cx="33480" cy="27000"/>
                        <a:chOff x="6049800" y="2498760"/>
                        <a:chExt cx="33480" cy="27000"/>
                      </a:xfrm>
                    </p:grpSpPr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6049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6056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9" name=""/>
                      <p:cNvGrpSpPr/>
                      <p:nvPr/>
                    </p:nvGrpSpPr>
                    <p:grpSpPr>
                      <a:xfrm>
                        <a:off x="6064200" y="2498760"/>
                        <a:ext cx="33480" cy="27000"/>
                        <a:chOff x="6064200" y="2498760"/>
                        <a:chExt cx="33480" cy="27000"/>
                      </a:xfrm>
                    </p:grpSpPr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60642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60706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6076800" y="2498760"/>
                      <a:ext cx="46080" cy="27000"/>
                      <a:chOff x="6076800" y="2498760"/>
                      <a:chExt cx="46080" cy="2700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6076800" y="2498760"/>
                        <a:ext cx="33480" cy="27000"/>
                        <a:chOff x="6076800" y="2498760"/>
                        <a:chExt cx="33480" cy="2700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607680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60832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6089760" y="2498760"/>
                        <a:ext cx="33120" cy="27000"/>
                        <a:chOff x="6089760" y="2498760"/>
                        <a:chExt cx="33120" cy="2700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608976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6095880" y="249876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09" name=""/>
                <p:cNvSpPr/>
                <p:nvPr/>
              </p:nvSpPr>
              <p:spPr>
                <a:xfrm>
                  <a:off x="5996160" y="2481120"/>
                  <a:ext cx="558720" cy="27000"/>
                </a:xfrm>
                <a:custGeom>
                  <a:avLst/>
                  <a:gdLst/>
                  <a:ahLst/>
                  <a:rect l="l" t="t" r="r" b="b"/>
                  <a:pathLst>
                    <a:path w="352" h="17">
                      <a:moveTo>
                        <a:pt x="0" y="12"/>
                      </a:moveTo>
                      <a:lnTo>
                        <a:pt x="154" y="12"/>
                      </a:lnTo>
                      <a:lnTo>
                        <a:pt x="154" y="0"/>
                      </a:lnTo>
                      <a:lnTo>
                        <a:pt x="179" y="0"/>
                      </a:lnTo>
                      <a:lnTo>
                        <a:pt x="179" y="16"/>
                      </a:lnTo>
                      <a:lnTo>
                        <a:pt x="351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6073920" y="2320920"/>
                <a:ext cx="403200" cy="65160"/>
                <a:chOff x="6073920" y="2320920"/>
                <a:chExt cx="403200" cy="65160"/>
              </a:xfrm>
            </p:grpSpPr>
            <p:grpSp>
              <p:nvGrpSpPr>
                <p:cNvPr id="611" name=""/>
                <p:cNvGrpSpPr/>
                <p:nvPr/>
              </p:nvGrpSpPr>
              <p:grpSpPr>
                <a:xfrm>
                  <a:off x="6073920" y="2346480"/>
                  <a:ext cx="403200" cy="39600"/>
                  <a:chOff x="6073920" y="2346480"/>
                  <a:chExt cx="403200" cy="3960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>
                    <a:off x="6073920" y="2346480"/>
                    <a:ext cx="4032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54" h="19">
                        <a:moveTo>
                          <a:pt x="0" y="18"/>
                        </a:moveTo>
                        <a:lnTo>
                          <a:pt x="253" y="18"/>
                        </a:lnTo>
                        <a:lnTo>
                          <a:pt x="238" y="0"/>
                        </a:lnTo>
                        <a:lnTo>
                          <a:pt x="15" y="0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080040" y="2381400"/>
                    <a:ext cx="378000" cy="46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4" name=""/>
                <p:cNvSpPr/>
                <p:nvPr/>
              </p:nvSpPr>
              <p:spPr>
                <a:xfrm>
                  <a:off x="6165720" y="2320920"/>
                  <a:ext cx="216000" cy="55440"/>
                </a:xfrm>
                <a:custGeom>
                  <a:avLst/>
                  <a:gdLst/>
                  <a:ahLst/>
                  <a:rect l="l" t="t" r="r" b="b"/>
                  <a:pathLst>
                    <a:path w="136" h="35">
                      <a:moveTo>
                        <a:pt x="0" y="19"/>
                      </a:moveTo>
                      <a:lnTo>
                        <a:pt x="0" y="0"/>
                      </a:lnTo>
                      <a:lnTo>
                        <a:pt x="135" y="0"/>
                      </a:lnTo>
                      <a:lnTo>
                        <a:pt x="135" y="20"/>
                      </a:lnTo>
                      <a:lnTo>
                        <a:pt x="134" y="22"/>
                      </a:lnTo>
                      <a:lnTo>
                        <a:pt x="133" y="23"/>
                      </a:lnTo>
                      <a:lnTo>
                        <a:pt x="130" y="25"/>
                      </a:lnTo>
                      <a:lnTo>
                        <a:pt x="127" y="26"/>
                      </a:lnTo>
                      <a:lnTo>
                        <a:pt x="124" y="27"/>
                      </a:lnTo>
                      <a:lnTo>
                        <a:pt x="120" y="29"/>
                      </a:lnTo>
                      <a:lnTo>
                        <a:pt x="116" y="30"/>
                      </a:lnTo>
                      <a:lnTo>
                        <a:pt x="111" y="30"/>
                      </a:lnTo>
                      <a:lnTo>
                        <a:pt x="106" y="31"/>
                      </a:lnTo>
                      <a:lnTo>
                        <a:pt x="99" y="32"/>
                      </a:lnTo>
                      <a:lnTo>
                        <a:pt x="93" y="33"/>
                      </a:lnTo>
                      <a:lnTo>
                        <a:pt x="88" y="33"/>
                      </a:lnTo>
                      <a:lnTo>
                        <a:pt x="81" y="34"/>
                      </a:lnTo>
                      <a:lnTo>
                        <a:pt x="74" y="34"/>
                      </a:lnTo>
                      <a:lnTo>
                        <a:pt x="64" y="34"/>
                      </a:lnTo>
                      <a:lnTo>
                        <a:pt x="55" y="34"/>
                      </a:lnTo>
                      <a:lnTo>
                        <a:pt x="47" y="33"/>
                      </a:lnTo>
                      <a:lnTo>
                        <a:pt x="40" y="33"/>
                      </a:lnTo>
                      <a:lnTo>
                        <a:pt x="34" y="32"/>
                      </a:lnTo>
                      <a:lnTo>
                        <a:pt x="29" y="31"/>
                      </a:lnTo>
                      <a:lnTo>
                        <a:pt x="22" y="30"/>
                      </a:lnTo>
                      <a:lnTo>
                        <a:pt x="17" y="29"/>
                      </a:lnTo>
                      <a:lnTo>
                        <a:pt x="13" y="28"/>
                      </a:lnTo>
                      <a:lnTo>
                        <a:pt x="9" y="26"/>
                      </a:lnTo>
                      <a:lnTo>
                        <a:pt x="6" y="25"/>
                      </a:lnTo>
                      <a:lnTo>
                        <a:pt x="4" y="24"/>
                      </a:lnTo>
                      <a:lnTo>
                        <a:pt x="2" y="23"/>
                      </a:lnTo>
                      <a:lnTo>
                        <a:pt x="1" y="21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31080" y="1978200"/>
                <a:ext cx="475920" cy="345960"/>
                <a:chOff x="6031080" y="1978200"/>
                <a:chExt cx="475920" cy="345960"/>
              </a:xfrm>
            </p:grpSpPr>
            <p:grpSp>
              <p:nvGrpSpPr>
                <p:cNvPr id="616" name=""/>
                <p:cNvGrpSpPr/>
                <p:nvPr/>
              </p:nvGrpSpPr>
              <p:grpSpPr>
                <a:xfrm>
                  <a:off x="6031080" y="1978200"/>
                  <a:ext cx="475920" cy="338040"/>
                  <a:chOff x="6031080" y="1978200"/>
                  <a:chExt cx="475920" cy="33804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6031080" y="1978200"/>
                    <a:ext cx="475920" cy="338040"/>
                  </a:xfrm>
                  <a:prstGeom prst="roundRect">
                    <a:avLst>
                      <a:gd name="adj" fmla="val 1221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6086520" y="2017800"/>
                    <a:ext cx="365040" cy="258840"/>
                  </a:xfrm>
                  <a:prstGeom prst="roundRect">
                    <a:avLst>
                      <a:gd name="adj" fmla="val 12273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108840" y="2033640"/>
                    <a:ext cx="320400" cy="226800"/>
                  </a:xfrm>
                  <a:prstGeom prst="roundRect">
                    <a:avLst>
                      <a:gd name="adj" fmla="val 11935"/>
                    </a:avLst>
                  </a:prstGeom>
                  <a:solidFill>
                    <a:srgbClr val="c0fef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0" name=""/>
                <p:cNvSpPr/>
                <p:nvPr/>
              </p:nvSpPr>
              <p:spPr>
                <a:xfrm>
                  <a:off x="6446880" y="2311560"/>
                  <a:ext cx="12600" cy="12600"/>
                </a:xfrm>
                <a:prstGeom prst="rect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"/>
          <p:cNvSpPr/>
          <p:nvPr/>
        </p:nvSpPr>
        <p:spPr>
          <a:xfrm>
            <a:off x="5865840" y="1332000"/>
            <a:ext cx="69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1120" y="263520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5320" y="2787480"/>
            <a:ext cx="91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1592280" y="2016000"/>
            <a:ext cx="923760" cy="714600"/>
            <a:chOff x="1592280" y="2016000"/>
            <a:chExt cx="923760" cy="714600"/>
          </a:xfrm>
        </p:grpSpPr>
        <p:grpSp>
          <p:nvGrpSpPr>
            <p:cNvPr id="625" name=""/>
            <p:cNvGrpSpPr/>
            <p:nvPr/>
          </p:nvGrpSpPr>
          <p:grpSpPr>
            <a:xfrm>
              <a:off x="1771560" y="2400480"/>
              <a:ext cx="588960" cy="215640"/>
              <a:chOff x="1771560" y="2400480"/>
              <a:chExt cx="588960" cy="215640"/>
            </a:xfrm>
          </p:grpSpPr>
          <p:grpSp>
            <p:nvGrpSpPr>
              <p:cNvPr id="626" name=""/>
              <p:cNvGrpSpPr/>
              <p:nvPr/>
            </p:nvGrpSpPr>
            <p:grpSpPr>
              <a:xfrm>
                <a:off x="1771560" y="2400480"/>
                <a:ext cx="588960" cy="215640"/>
                <a:chOff x="1771560" y="2400480"/>
                <a:chExt cx="588960" cy="21564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1771560" y="2400480"/>
                  <a:ext cx="588960" cy="215640"/>
                  <a:chOff x="1771560" y="2400480"/>
                  <a:chExt cx="588960" cy="21564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1771560" y="2400480"/>
                    <a:ext cx="587520" cy="215640"/>
                    <a:chOff x="1771560" y="2400480"/>
                    <a:chExt cx="587520" cy="215640"/>
                  </a:xfrm>
                </p:grpSpPr>
                <p:grpSp>
                  <p:nvGrpSpPr>
                    <p:cNvPr id="629" name=""/>
                    <p:cNvGrpSpPr/>
                    <p:nvPr/>
                  </p:nvGrpSpPr>
                  <p:grpSpPr>
                    <a:xfrm>
                      <a:off x="1771560" y="2400480"/>
                      <a:ext cx="587520" cy="215640"/>
                      <a:chOff x="1771560" y="2400480"/>
                      <a:chExt cx="587520" cy="215640"/>
                    </a:xfrm>
                  </p:grpSpPr>
                  <p:sp>
                    <p:nvSpPr>
                      <p:cNvPr id="630" name=""/>
                      <p:cNvSpPr/>
                      <p:nvPr/>
                    </p:nvSpPr>
                    <p:spPr>
                      <a:xfrm>
                        <a:off x="1776240" y="2462040"/>
                        <a:ext cx="565200" cy="15408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1771560" y="2400480"/>
                        <a:ext cx="58752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5">
                            <a:moveTo>
                              <a:pt x="0" y="34"/>
                            </a:moveTo>
                            <a:lnTo>
                              <a:pt x="369" y="34"/>
                            </a:lnTo>
                            <a:lnTo>
                              <a:pt x="334" y="0"/>
                            </a:lnTo>
                            <a:lnTo>
                              <a:pt x="39" y="0"/>
                            </a:lnTo>
                            <a:lnTo>
                              <a:pt x="0" y="34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781280" y="2444760"/>
                      <a:ext cx="56988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17">
                          <a:moveTo>
                            <a:pt x="0" y="0"/>
                          </a:moveTo>
                          <a:lnTo>
                            <a:pt x="35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" name=""/>
                  <p:cNvGrpSpPr/>
                  <p:nvPr/>
                </p:nvGrpSpPr>
                <p:grpSpPr>
                  <a:xfrm>
                    <a:off x="1787400" y="2587680"/>
                    <a:ext cx="573120" cy="28440"/>
                    <a:chOff x="1787400" y="2587680"/>
                    <a:chExt cx="573120" cy="28440"/>
                  </a:xfrm>
                </p:grpSpPr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1787400" y="2587680"/>
                      <a:ext cx="295560" cy="28440"/>
                      <a:chOff x="1787400" y="2587680"/>
                      <a:chExt cx="295560" cy="28440"/>
                    </a:xfrm>
                  </p:grpSpPr>
                  <p:grpSp>
                    <p:nvGrpSpPr>
                      <p:cNvPr id="635" name=""/>
                      <p:cNvGrpSpPr/>
                      <p:nvPr/>
                    </p:nvGrpSpPr>
                    <p:grpSpPr>
                      <a:xfrm>
                        <a:off x="1787400" y="2589120"/>
                        <a:ext cx="157320" cy="27000"/>
                        <a:chOff x="1787400" y="2589120"/>
                        <a:chExt cx="157320" cy="27000"/>
                      </a:xfrm>
                    </p:grpSpPr>
                    <p:grpSp>
                      <p:nvGrpSpPr>
                        <p:cNvPr id="636" name=""/>
                        <p:cNvGrpSpPr/>
                        <p:nvPr/>
                      </p:nvGrpSpPr>
                      <p:grpSpPr>
                        <a:xfrm>
                          <a:off x="1787400" y="2589120"/>
                          <a:ext cx="87480" cy="27000"/>
                          <a:chOff x="1787400" y="2589120"/>
                          <a:chExt cx="87480" cy="27000"/>
                        </a:xfrm>
                      </p:grpSpPr>
                      <p:grpSp>
                        <p:nvGrpSpPr>
                          <p:cNvPr id="637" name=""/>
                          <p:cNvGrpSpPr/>
                          <p:nvPr/>
                        </p:nvGrpSpPr>
                        <p:grpSpPr>
                          <a:xfrm>
                            <a:off x="1787400" y="2589120"/>
                            <a:ext cx="52560" cy="27000"/>
                            <a:chOff x="1787400" y="2589120"/>
                            <a:chExt cx="52560" cy="27000"/>
                          </a:xfrm>
                        </p:grpSpPr>
                        <p:grpSp>
                          <p:nvGrpSpPr>
                            <p:cNvPr id="638" name=""/>
                            <p:cNvGrpSpPr/>
                            <p:nvPr/>
                          </p:nvGrpSpPr>
                          <p:grpSpPr>
                            <a:xfrm>
                              <a:off x="1787400" y="2589120"/>
                              <a:ext cx="34920" cy="27000"/>
                              <a:chOff x="1787400" y="2589120"/>
                              <a:chExt cx="34920" cy="27000"/>
                            </a:xfrm>
                          </p:grpSpPr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17874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1795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1805040" y="2589120"/>
                              <a:ext cx="34920" cy="27000"/>
                              <a:chOff x="1805040" y="2589120"/>
                              <a:chExt cx="34920" cy="2700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18050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1812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44" name=""/>
                          <p:cNvGrpSpPr/>
                          <p:nvPr/>
                        </p:nvGrpSpPr>
                        <p:grpSpPr>
                          <a:xfrm>
                            <a:off x="1822320" y="2589120"/>
                            <a:ext cx="52560" cy="27000"/>
                            <a:chOff x="1822320" y="2589120"/>
                            <a:chExt cx="52560" cy="27000"/>
                          </a:xfrm>
                        </p:grpSpPr>
                        <p:grpSp>
                          <p:nvGrpSpPr>
                            <p:cNvPr id="645" name=""/>
                            <p:cNvGrpSpPr/>
                            <p:nvPr/>
                          </p:nvGrpSpPr>
                          <p:grpSpPr>
                            <a:xfrm>
                              <a:off x="1822320" y="2589120"/>
                              <a:ext cx="34920" cy="27000"/>
                              <a:chOff x="1822320" y="2589120"/>
                              <a:chExt cx="34920" cy="27000"/>
                            </a:xfrm>
                          </p:grpSpPr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18223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" name=""/>
                              <p:cNvSpPr/>
                              <p:nvPr/>
                            </p:nvSpPr>
                            <p:spPr>
                              <a:xfrm>
                                <a:off x="1830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1839960" y="2589120"/>
                              <a:ext cx="34920" cy="27000"/>
                              <a:chOff x="1839960" y="2589120"/>
                              <a:chExt cx="34920" cy="2700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18399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18478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51" name=""/>
                        <p:cNvGrpSpPr/>
                        <p:nvPr/>
                      </p:nvGrpSpPr>
                      <p:grpSpPr>
                        <a:xfrm>
                          <a:off x="1857240" y="2589120"/>
                          <a:ext cx="87480" cy="27000"/>
                          <a:chOff x="1857240" y="2589120"/>
                          <a:chExt cx="87480" cy="27000"/>
                        </a:xfrm>
                      </p:grpSpPr>
                      <p:grpSp>
                        <p:nvGrpSpPr>
                          <p:cNvPr id="652" name=""/>
                          <p:cNvGrpSpPr/>
                          <p:nvPr/>
                        </p:nvGrpSpPr>
                        <p:grpSpPr>
                          <a:xfrm>
                            <a:off x="1857240" y="2589120"/>
                            <a:ext cx="52560" cy="27000"/>
                            <a:chOff x="1857240" y="2589120"/>
                            <a:chExt cx="52560" cy="27000"/>
                          </a:xfrm>
                        </p:grpSpPr>
                        <p:grpSp>
                          <p:nvGrpSpPr>
                            <p:cNvPr id="653" name=""/>
                            <p:cNvGrpSpPr/>
                            <p:nvPr/>
                          </p:nvGrpSpPr>
                          <p:grpSpPr>
                            <a:xfrm>
                              <a:off x="1857240" y="2589120"/>
                              <a:ext cx="34920" cy="27000"/>
                              <a:chOff x="1857240" y="2589120"/>
                              <a:chExt cx="34920" cy="27000"/>
                            </a:xfrm>
                          </p:grpSpPr>
                          <p:sp>
                            <p:nvSpPr>
                              <p:cNvPr id="654" name=""/>
                              <p:cNvSpPr/>
                              <p:nvPr/>
                            </p:nvSpPr>
                            <p:spPr>
                              <a:xfrm>
                                <a:off x="185724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5" name=""/>
                              <p:cNvSpPr/>
                              <p:nvPr/>
                            </p:nvSpPr>
                            <p:spPr>
                              <a:xfrm>
                                <a:off x="186516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6" name=""/>
                            <p:cNvGrpSpPr/>
                            <p:nvPr/>
                          </p:nvGrpSpPr>
                          <p:grpSpPr>
                            <a:xfrm>
                              <a:off x="1873080" y="2589120"/>
                              <a:ext cx="36720" cy="27000"/>
                              <a:chOff x="1873080" y="2589120"/>
                              <a:chExt cx="36720" cy="27000"/>
                            </a:xfrm>
                          </p:grpSpPr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1873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1882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9" name=""/>
                          <p:cNvGrpSpPr/>
                          <p:nvPr/>
                        </p:nvGrpSpPr>
                        <p:grpSpPr>
                          <a:xfrm>
                            <a:off x="1890720" y="2589120"/>
                            <a:ext cx="54000" cy="27000"/>
                            <a:chOff x="1890720" y="2589120"/>
                            <a:chExt cx="54000" cy="27000"/>
                          </a:xfrm>
                        </p:grpSpPr>
                        <p:grpSp>
                          <p:nvGrpSpPr>
                            <p:cNvPr id="660" name=""/>
                            <p:cNvGrpSpPr/>
                            <p:nvPr/>
                          </p:nvGrpSpPr>
                          <p:grpSpPr>
                            <a:xfrm>
                              <a:off x="1890720" y="2589120"/>
                              <a:ext cx="36360" cy="27000"/>
                              <a:chOff x="1890720" y="2589120"/>
                              <a:chExt cx="36360" cy="27000"/>
                            </a:xfrm>
                          </p:grpSpPr>
                          <p:sp>
                            <p:nvSpPr>
                              <p:cNvPr id="661" name=""/>
                              <p:cNvSpPr/>
                              <p:nvPr/>
                            </p:nvSpPr>
                            <p:spPr>
                              <a:xfrm>
                                <a:off x="1890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2" name=""/>
                              <p:cNvSpPr/>
                              <p:nvPr/>
                            </p:nvSpPr>
                            <p:spPr>
                              <a:xfrm>
                                <a:off x="190008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3" name=""/>
                            <p:cNvGrpSpPr/>
                            <p:nvPr/>
                          </p:nvGrpSpPr>
                          <p:grpSpPr>
                            <a:xfrm>
                              <a:off x="1909800" y="2589120"/>
                              <a:ext cx="34920" cy="27000"/>
                              <a:chOff x="1909800" y="2589120"/>
                              <a:chExt cx="34920" cy="27000"/>
                            </a:xfrm>
                          </p:grpSpPr>
                          <p:sp>
                            <p:nvSpPr>
                              <p:cNvPr id="664" name=""/>
                              <p:cNvSpPr/>
                              <p:nvPr/>
                            </p:nvSpPr>
                            <p:spPr>
                              <a:xfrm>
                                <a:off x="190980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1917720" y="258912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66" name=""/>
                      <p:cNvGrpSpPr/>
                      <p:nvPr/>
                    </p:nvGrpSpPr>
                    <p:grpSpPr>
                      <a:xfrm>
                        <a:off x="1925640" y="2587680"/>
                        <a:ext cx="157320" cy="27000"/>
                        <a:chOff x="1925640" y="2587680"/>
                        <a:chExt cx="157320" cy="27000"/>
                      </a:xfrm>
                    </p:grpSpPr>
                    <p:grpSp>
                      <p:nvGrpSpPr>
                        <p:cNvPr id="667" name=""/>
                        <p:cNvGrpSpPr/>
                        <p:nvPr/>
                      </p:nvGrpSpPr>
                      <p:grpSpPr>
                        <a:xfrm>
                          <a:off x="1925640" y="2587680"/>
                          <a:ext cx="88920" cy="27000"/>
                          <a:chOff x="1925640" y="2587680"/>
                          <a:chExt cx="88920" cy="27000"/>
                        </a:xfrm>
                      </p:grpSpPr>
                      <p:grpSp>
                        <p:nvGrpSpPr>
                          <p:cNvPr id="668" name=""/>
                          <p:cNvGrpSpPr/>
                          <p:nvPr/>
                        </p:nvGrpSpPr>
                        <p:grpSpPr>
                          <a:xfrm>
                            <a:off x="1925640" y="2587680"/>
                            <a:ext cx="54000" cy="27000"/>
                            <a:chOff x="1925640" y="2587680"/>
                            <a:chExt cx="54000" cy="27000"/>
                          </a:xfrm>
                        </p:grpSpPr>
                        <p:grpSp>
                          <p:nvGrpSpPr>
                            <p:cNvPr id="669" name=""/>
                            <p:cNvGrpSpPr/>
                            <p:nvPr/>
                          </p:nvGrpSpPr>
                          <p:grpSpPr>
                            <a:xfrm>
                              <a:off x="1925640" y="2587680"/>
                              <a:ext cx="36360" cy="27000"/>
                              <a:chOff x="1925640" y="2587680"/>
                              <a:chExt cx="36360" cy="27000"/>
                            </a:xfrm>
                          </p:grpSpPr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192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193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1943280" y="2587680"/>
                              <a:ext cx="36360" cy="27000"/>
                              <a:chOff x="1943280" y="2587680"/>
                              <a:chExt cx="36360" cy="2700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194328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1952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5" name=""/>
                          <p:cNvGrpSpPr/>
                          <p:nvPr/>
                        </p:nvGrpSpPr>
                        <p:grpSpPr>
                          <a:xfrm>
                            <a:off x="1960560" y="2587680"/>
                            <a:ext cx="54000" cy="27000"/>
                            <a:chOff x="1960560" y="2587680"/>
                            <a:chExt cx="54000" cy="27000"/>
                          </a:xfrm>
                        </p:grpSpPr>
                        <p:grpSp>
                          <p:nvGrpSpPr>
                            <p:cNvPr id="676" name=""/>
                            <p:cNvGrpSpPr/>
                            <p:nvPr/>
                          </p:nvGrpSpPr>
                          <p:grpSpPr>
                            <a:xfrm>
                              <a:off x="1960560" y="2587680"/>
                              <a:ext cx="36360" cy="27000"/>
                              <a:chOff x="1960560" y="2587680"/>
                              <a:chExt cx="36360" cy="27000"/>
                            </a:xfrm>
                          </p:grpSpPr>
                          <p:sp>
                            <p:nvSpPr>
                              <p:cNvPr id="677" name=""/>
                              <p:cNvSpPr/>
                              <p:nvPr/>
                            </p:nvSpPr>
                            <p:spPr>
                              <a:xfrm>
                                <a:off x="196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8" name=""/>
                              <p:cNvSpPr/>
                              <p:nvPr/>
                            </p:nvSpPr>
                            <p:spPr>
                              <a:xfrm>
                                <a:off x="1969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79" name=""/>
                            <p:cNvGrpSpPr/>
                            <p:nvPr/>
                          </p:nvGrpSpPr>
                          <p:grpSpPr>
                            <a:xfrm>
                              <a:off x="1978200" y="2587680"/>
                              <a:ext cx="36360" cy="27000"/>
                              <a:chOff x="1978200" y="2587680"/>
                              <a:chExt cx="36360" cy="27000"/>
                            </a:xfrm>
                          </p:grpSpPr>
                          <p:sp>
                            <p:nvSpPr>
                              <p:cNvPr id="680" name=""/>
                              <p:cNvSpPr/>
                              <p:nvPr/>
                            </p:nvSpPr>
                            <p:spPr>
                              <a:xfrm>
                                <a:off x="197820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1987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82" name=""/>
                        <p:cNvGrpSpPr/>
                        <p:nvPr/>
                      </p:nvGrpSpPr>
                      <p:grpSpPr>
                        <a:xfrm>
                          <a:off x="1995480" y="2587680"/>
                          <a:ext cx="87480" cy="27000"/>
                          <a:chOff x="1995480" y="2587680"/>
                          <a:chExt cx="87480" cy="27000"/>
                        </a:xfrm>
                      </p:grpSpPr>
                      <p:grpSp>
                        <p:nvGrpSpPr>
                          <p:cNvPr id="683" name=""/>
                          <p:cNvGrpSpPr/>
                          <p:nvPr/>
                        </p:nvGrpSpPr>
                        <p:grpSpPr>
                          <a:xfrm>
                            <a:off x="1995480" y="2587680"/>
                            <a:ext cx="54000" cy="27000"/>
                            <a:chOff x="1995480" y="2587680"/>
                            <a:chExt cx="54000" cy="27000"/>
                          </a:xfrm>
                        </p:grpSpPr>
                        <p:grpSp>
                          <p:nvGrpSpPr>
                            <p:cNvPr id="684" name=""/>
                            <p:cNvGrpSpPr/>
                            <p:nvPr/>
                          </p:nvGrpSpPr>
                          <p:grpSpPr>
                            <a:xfrm>
                              <a:off x="1995480" y="2587680"/>
                              <a:ext cx="36360" cy="27000"/>
                              <a:chOff x="1995480" y="2587680"/>
                              <a:chExt cx="36360" cy="27000"/>
                            </a:xfrm>
                          </p:grpSpPr>
                          <p:sp>
                            <p:nvSpPr>
                              <p:cNvPr id="685" name=""/>
                              <p:cNvSpPr/>
                              <p:nvPr/>
                            </p:nvSpPr>
                            <p:spPr>
                              <a:xfrm>
                                <a:off x="199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6" name=""/>
                              <p:cNvSpPr/>
                              <p:nvPr/>
                            </p:nvSpPr>
                            <p:spPr>
                              <a:xfrm>
                                <a:off x="2004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87" name=""/>
                            <p:cNvGrpSpPr/>
                            <p:nvPr/>
                          </p:nvGrpSpPr>
                          <p:grpSpPr>
                            <a:xfrm>
                              <a:off x="2013120" y="2587680"/>
                              <a:ext cx="36360" cy="27000"/>
                              <a:chOff x="2013120" y="2587680"/>
                              <a:chExt cx="36360" cy="27000"/>
                            </a:xfrm>
                          </p:grpSpPr>
                          <p:sp>
                            <p:nvSpPr>
                              <p:cNvPr id="688" name=""/>
                              <p:cNvSpPr/>
                              <p:nvPr/>
                            </p:nvSpPr>
                            <p:spPr>
                              <a:xfrm>
                                <a:off x="2013120" y="2587680"/>
                                <a:ext cx="2664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2022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90" name=""/>
                          <p:cNvGrpSpPr/>
                          <p:nvPr/>
                        </p:nvGrpSpPr>
                        <p:grpSpPr>
                          <a:xfrm>
                            <a:off x="2030400" y="2587680"/>
                            <a:ext cx="52560" cy="27000"/>
                            <a:chOff x="2030400" y="2587680"/>
                            <a:chExt cx="52560" cy="27000"/>
                          </a:xfrm>
                        </p:grpSpPr>
                        <p:grpSp>
                          <p:nvGrpSpPr>
                            <p:cNvPr id="691" name=""/>
                            <p:cNvGrpSpPr/>
                            <p:nvPr/>
                          </p:nvGrpSpPr>
                          <p:grpSpPr>
                            <a:xfrm>
                              <a:off x="2030400" y="2587680"/>
                              <a:ext cx="34920" cy="27000"/>
                              <a:chOff x="2030400" y="2587680"/>
                              <a:chExt cx="34920" cy="27000"/>
                            </a:xfrm>
                          </p:grpSpPr>
                          <p:sp>
                            <p:nvSpPr>
                              <p:cNvPr id="692" name=""/>
                              <p:cNvSpPr/>
                              <p:nvPr/>
                            </p:nvSpPr>
                            <p:spPr>
                              <a:xfrm>
                                <a:off x="203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3" name=""/>
                              <p:cNvSpPr/>
                              <p:nvPr/>
                            </p:nvSpPr>
                            <p:spPr>
                              <a:xfrm>
                                <a:off x="203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94" name=""/>
                            <p:cNvGrpSpPr/>
                            <p:nvPr/>
                          </p:nvGrpSpPr>
                          <p:grpSpPr>
                            <a:xfrm>
                              <a:off x="2048040" y="2587680"/>
                              <a:ext cx="34920" cy="27000"/>
                              <a:chOff x="2048040" y="2587680"/>
                              <a:chExt cx="34920" cy="27000"/>
                            </a:xfrm>
                          </p:grpSpPr>
                          <p:sp>
                            <p:nvSpPr>
                              <p:cNvPr id="695" name=""/>
                              <p:cNvSpPr/>
                              <p:nvPr/>
                            </p:nvSpPr>
                            <p:spPr>
                              <a:xfrm>
                                <a:off x="20480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6" name=""/>
                              <p:cNvSpPr/>
                              <p:nvPr/>
                            </p:nvSpPr>
                            <p:spPr>
                              <a:xfrm>
                                <a:off x="2055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2065320" y="2587680"/>
                      <a:ext cx="295200" cy="27000"/>
                      <a:chOff x="2065320" y="2587680"/>
                      <a:chExt cx="295200" cy="27000"/>
                    </a:xfrm>
                  </p:grpSpPr>
                  <p:grpSp>
                    <p:nvGrpSpPr>
                      <p:cNvPr id="698" name=""/>
                      <p:cNvGrpSpPr/>
                      <p:nvPr/>
                    </p:nvGrpSpPr>
                    <p:grpSpPr>
                      <a:xfrm>
                        <a:off x="2065320" y="2587680"/>
                        <a:ext cx="157320" cy="27000"/>
                        <a:chOff x="2065320" y="2587680"/>
                        <a:chExt cx="157320" cy="27000"/>
                      </a:xfrm>
                    </p:grpSpPr>
                    <p:grpSp>
                      <p:nvGrpSpPr>
                        <p:cNvPr id="699" name=""/>
                        <p:cNvGrpSpPr/>
                        <p:nvPr/>
                      </p:nvGrpSpPr>
                      <p:grpSpPr>
                        <a:xfrm>
                          <a:off x="2065320" y="2587680"/>
                          <a:ext cx="87480" cy="27000"/>
                          <a:chOff x="2065320" y="2587680"/>
                          <a:chExt cx="87480" cy="27000"/>
                        </a:xfrm>
                      </p:grpSpPr>
                      <p:grpSp>
                        <p:nvGrpSpPr>
                          <p:cNvPr id="700" name=""/>
                          <p:cNvGrpSpPr/>
                          <p:nvPr/>
                        </p:nvGrpSpPr>
                        <p:grpSpPr>
                          <a:xfrm>
                            <a:off x="2065320" y="2587680"/>
                            <a:ext cx="52560" cy="27000"/>
                            <a:chOff x="2065320" y="2587680"/>
                            <a:chExt cx="52560" cy="27000"/>
                          </a:xfrm>
                        </p:grpSpPr>
                        <p:grpSp>
                          <p:nvGrpSpPr>
                            <p:cNvPr id="701" name=""/>
                            <p:cNvGrpSpPr/>
                            <p:nvPr/>
                          </p:nvGrpSpPr>
                          <p:grpSpPr>
                            <a:xfrm>
                              <a:off x="2065320" y="2587680"/>
                              <a:ext cx="34920" cy="27000"/>
                              <a:chOff x="2065320" y="2587680"/>
                              <a:chExt cx="34920" cy="27000"/>
                            </a:xfrm>
                          </p:grpSpPr>
                          <p:sp>
                            <p:nvSpPr>
                              <p:cNvPr id="702" name=""/>
                              <p:cNvSpPr/>
                              <p:nvPr/>
                            </p:nvSpPr>
                            <p:spPr>
                              <a:xfrm>
                                <a:off x="2065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3" name=""/>
                              <p:cNvSpPr/>
                              <p:nvPr/>
                            </p:nvSpPr>
                            <p:spPr>
                              <a:xfrm>
                                <a:off x="2073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04" name=""/>
                            <p:cNvGrpSpPr/>
                            <p:nvPr/>
                          </p:nvGrpSpPr>
                          <p:grpSpPr>
                            <a:xfrm>
                              <a:off x="2082960" y="2587680"/>
                              <a:ext cx="34920" cy="27000"/>
                              <a:chOff x="2082960" y="2587680"/>
                              <a:chExt cx="34920" cy="27000"/>
                            </a:xfrm>
                          </p:grpSpPr>
                          <p:sp>
                            <p:nvSpPr>
                              <p:cNvPr id="705" name=""/>
                              <p:cNvSpPr/>
                              <p:nvPr/>
                            </p:nvSpPr>
                            <p:spPr>
                              <a:xfrm>
                                <a:off x="20829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" name=""/>
                              <p:cNvSpPr/>
                              <p:nvPr/>
                            </p:nvSpPr>
                            <p:spPr>
                              <a:xfrm>
                                <a:off x="2090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07" name=""/>
                          <p:cNvGrpSpPr/>
                          <p:nvPr/>
                        </p:nvGrpSpPr>
                        <p:grpSpPr>
                          <a:xfrm>
                            <a:off x="2100240" y="2587680"/>
                            <a:ext cx="52560" cy="27000"/>
                            <a:chOff x="2100240" y="2587680"/>
                            <a:chExt cx="52560" cy="27000"/>
                          </a:xfrm>
                        </p:grpSpPr>
                        <p:grpSp>
                          <p:nvGrpSpPr>
                            <p:cNvPr id="708" name=""/>
                            <p:cNvGrpSpPr/>
                            <p:nvPr/>
                          </p:nvGrpSpPr>
                          <p:grpSpPr>
                            <a:xfrm>
                              <a:off x="2100240" y="2587680"/>
                              <a:ext cx="34920" cy="27000"/>
                              <a:chOff x="2100240" y="2587680"/>
                              <a:chExt cx="34920" cy="27000"/>
                            </a:xfrm>
                          </p:grpSpPr>
                          <p:sp>
                            <p:nvSpPr>
                              <p:cNvPr id="709" name=""/>
                              <p:cNvSpPr/>
                              <p:nvPr/>
                            </p:nvSpPr>
                            <p:spPr>
                              <a:xfrm>
                                <a:off x="2100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0" name=""/>
                              <p:cNvSpPr/>
                              <p:nvPr/>
                            </p:nvSpPr>
                            <p:spPr>
                              <a:xfrm>
                                <a:off x="2108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1" name=""/>
                            <p:cNvGrpSpPr/>
                            <p:nvPr/>
                          </p:nvGrpSpPr>
                          <p:grpSpPr>
                            <a:xfrm>
                              <a:off x="2117880" y="2587680"/>
                              <a:ext cx="34920" cy="27000"/>
                              <a:chOff x="2117880" y="2587680"/>
                              <a:chExt cx="34920" cy="27000"/>
                            </a:xfrm>
                          </p:grpSpPr>
                          <p:sp>
                            <p:nvSpPr>
                              <p:cNvPr id="712" name=""/>
                              <p:cNvSpPr/>
                              <p:nvPr/>
                            </p:nvSpPr>
                            <p:spPr>
                              <a:xfrm>
                                <a:off x="21178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3" name=""/>
                              <p:cNvSpPr/>
                              <p:nvPr/>
                            </p:nvSpPr>
                            <p:spPr>
                              <a:xfrm>
                                <a:off x="2125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14" name=""/>
                        <p:cNvGrpSpPr/>
                        <p:nvPr/>
                      </p:nvGrpSpPr>
                      <p:grpSpPr>
                        <a:xfrm>
                          <a:off x="2135160" y="2587680"/>
                          <a:ext cx="87480" cy="27000"/>
                          <a:chOff x="2135160" y="2587680"/>
                          <a:chExt cx="87480" cy="27000"/>
                        </a:xfrm>
                      </p:grpSpPr>
                      <p:grpSp>
                        <p:nvGrpSpPr>
                          <p:cNvPr id="715" name=""/>
                          <p:cNvGrpSpPr/>
                          <p:nvPr/>
                        </p:nvGrpSpPr>
                        <p:grpSpPr>
                          <a:xfrm>
                            <a:off x="2135160" y="2587680"/>
                            <a:ext cx="52560" cy="27000"/>
                            <a:chOff x="2135160" y="2587680"/>
                            <a:chExt cx="52560" cy="27000"/>
                          </a:xfrm>
                        </p:grpSpPr>
                        <p:grpSp>
                          <p:nvGrpSpPr>
                            <p:cNvPr id="716" name=""/>
                            <p:cNvGrpSpPr/>
                            <p:nvPr/>
                          </p:nvGrpSpPr>
                          <p:grpSpPr>
                            <a:xfrm>
                              <a:off x="2135160" y="2587680"/>
                              <a:ext cx="34920" cy="27000"/>
                              <a:chOff x="2135160" y="2587680"/>
                              <a:chExt cx="34920" cy="27000"/>
                            </a:xfrm>
                          </p:grpSpPr>
                          <p:sp>
                            <p:nvSpPr>
                              <p:cNvPr id="717" name=""/>
                              <p:cNvSpPr/>
                              <p:nvPr/>
                            </p:nvSpPr>
                            <p:spPr>
                              <a:xfrm>
                                <a:off x="21351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8" name=""/>
                              <p:cNvSpPr/>
                              <p:nvPr/>
                            </p:nvSpPr>
                            <p:spPr>
                              <a:xfrm>
                                <a:off x="21430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19" name=""/>
                            <p:cNvGrpSpPr/>
                            <p:nvPr/>
                          </p:nvGrpSpPr>
                          <p:grpSpPr>
                            <a:xfrm>
                              <a:off x="2152800" y="2587680"/>
                              <a:ext cx="34920" cy="27000"/>
                              <a:chOff x="2152800" y="2587680"/>
                              <a:chExt cx="34920" cy="27000"/>
                            </a:xfrm>
                          </p:grpSpPr>
                          <p:sp>
                            <p:nvSpPr>
                              <p:cNvPr id="720" name=""/>
                              <p:cNvSpPr/>
                              <p:nvPr/>
                            </p:nvSpPr>
                            <p:spPr>
                              <a:xfrm>
                                <a:off x="21528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1" name=""/>
                              <p:cNvSpPr/>
                              <p:nvPr/>
                            </p:nvSpPr>
                            <p:spPr>
                              <a:xfrm>
                                <a:off x="21607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22" name=""/>
                          <p:cNvGrpSpPr/>
                          <p:nvPr/>
                        </p:nvGrpSpPr>
                        <p:grpSpPr>
                          <a:xfrm>
                            <a:off x="2168640" y="2587680"/>
                            <a:ext cx="54000" cy="27000"/>
                            <a:chOff x="2168640" y="2587680"/>
                            <a:chExt cx="54000" cy="27000"/>
                          </a:xfrm>
                        </p:grpSpPr>
                        <p:grpSp>
                          <p:nvGrpSpPr>
                            <p:cNvPr id="723" name=""/>
                            <p:cNvGrpSpPr/>
                            <p:nvPr/>
                          </p:nvGrpSpPr>
                          <p:grpSpPr>
                            <a:xfrm>
                              <a:off x="2168640" y="2587680"/>
                              <a:ext cx="36360" cy="27000"/>
                              <a:chOff x="2168640" y="2587680"/>
                              <a:chExt cx="36360" cy="27000"/>
                            </a:xfrm>
                          </p:grpSpPr>
                          <p:sp>
                            <p:nvSpPr>
                              <p:cNvPr id="724" name=""/>
                              <p:cNvSpPr/>
                              <p:nvPr/>
                            </p:nvSpPr>
                            <p:spPr>
                              <a:xfrm>
                                <a:off x="2168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5" name=""/>
                              <p:cNvSpPr/>
                              <p:nvPr/>
                            </p:nvSpPr>
                            <p:spPr>
                              <a:xfrm>
                                <a:off x="2178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26" name=""/>
                            <p:cNvGrpSpPr/>
                            <p:nvPr/>
                          </p:nvGrpSpPr>
                          <p:grpSpPr>
                            <a:xfrm>
                              <a:off x="2185920" y="2587680"/>
                              <a:ext cx="36720" cy="27000"/>
                              <a:chOff x="2185920" y="2587680"/>
                              <a:chExt cx="36720" cy="27000"/>
                            </a:xfrm>
                          </p:grpSpPr>
                          <p:sp>
                            <p:nvSpPr>
                              <p:cNvPr id="727" name=""/>
                              <p:cNvSpPr/>
                              <p:nvPr/>
                            </p:nvSpPr>
                            <p:spPr>
                              <a:xfrm>
                                <a:off x="2185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8" name=""/>
                              <p:cNvSpPr/>
                              <p:nvPr/>
                            </p:nvSpPr>
                            <p:spPr>
                              <a:xfrm>
                                <a:off x="21956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2205000" y="2587680"/>
                        <a:ext cx="155520" cy="27000"/>
                        <a:chOff x="2205000" y="2587680"/>
                        <a:chExt cx="155520" cy="27000"/>
                      </a:xfrm>
                    </p:grpSpPr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2205000" y="2587680"/>
                          <a:ext cx="87480" cy="27000"/>
                          <a:chOff x="2205000" y="2587680"/>
                          <a:chExt cx="87480" cy="27000"/>
                        </a:xfrm>
                      </p:grpSpPr>
                      <p:grpSp>
                        <p:nvGrpSpPr>
                          <p:cNvPr id="731" name=""/>
                          <p:cNvGrpSpPr/>
                          <p:nvPr/>
                        </p:nvGrpSpPr>
                        <p:grpSpPr>
                          <a:xfrm>
                            <a:off x="2205000" y="2587680"/>
                            <a:ext cx="52560" cy="27000"/>
                            <a:chOff x="2205000" y="2587680"/>
                            <a:chExt cx="52560" cy="27000"/>
                          </a:xfrm>
                        </p:grpSpPr>
                        <p:grpSp>
                          <p:nvGrpSpPr>
                            <p:cNvPr id="732" name=""/>
                            <p:cNvGrpSpPr/>
                            <p:nvPr/>
                          </p:nvGrpSpPr>
                          <p:grpSpPr>
                            <a:xfrm>
                              <a:off x="2205000" y="2587680"/>
                              <a:ext cx="34920" cy="27000"/>
                              <a:chOff x="2205000" y="2587680"/>
                              <a:chExt cx="34920" cy="27000"/>
                            </a:xfrm>
                          </p:grpSpPr>
                          <p:sp>
                            <p:nvSpPr>
                              <p:cNvPr id="733" name=""/>
                              <p:cNvSpPr/>
                              <p:nvPr/>
                            </p:nvSpPr>
                            <p:spPr>
                              <a:xfrm>
                                <a:off x="22050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4" name=""/>
                              <p:cNvSpPr/>
                              <p:nvPr/>
                            </p:nvSpPr>
                            <p:spPr>
                              <a:xfrm>
                                <a:off x="22129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35" name=""/>
                            <p:cNvGrpSpPr/>
                            <p:nvPr/>
                          </p:nvGrpSpPr>
                          <p:grpSpPr>
                            <a:xfrm>
                              <a:off x="2220840" y="2587680"/>
                              <a:ext cx="36720" cy="27000"/>
                              <a:chOff x="2220840" y="2587680"/>
                              <a:chExt cx="36720" cy="27000"/>
                            </a:xfrm>
                          </p:grpSpPr>
                          <p:sp>
                            <p:nvSpPr>
                              <p:cNvPr id="736" name=""/>
                              <p:cNvSpPr/>
                              <p:nvPr/>
                            </p:nvSpPr>
                            <p:spPr>
                              <a:xfrm>
                                <a:off x="2220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37" name=""/>
                              <p:cNvSpPr/>
                              <p:nvPr/>
                            </p:nvSpPr>
                            <p:spPr>
                              <a:xfrm>
                                <a:off x="22305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38" name=""/>
                          <p:cNvGrpSpPr/>
                          <p:nvPr/>
                        </p:nvGrpSpPr>
                        <p:grpSpPr>
                          <a:xfrm>
                            <a:off x="2238480" y="2587680"/>
                            <a:ext cx="54000" cy="27000"/>
                            <a:chOff x="2238480" y="2587680"/>
                            <a:chExt cx="54000" cy="27000"/>
                          </a:xfrm>
                        </p:grpSpPr>
                        <p:grpSp>
                          <p:nvGrpSpPr>
                            <p:cNvPr id="739" name=""/>
                            <p:cNvGrpSpPr/>
                            <p:nvPr/>
                          </p:nvGrpSpPr>
                          <p:grpSpPr>
                            <a:xfrm>
                              <a:off x="2238480" y="2587680"/>
                              <a:ext cx="36360" cy="27000"/>
                              <a:chOff x="2238480" y="2587680"/>
                              <a:chExt cx="36360" cy="27000"/>
                            </a:xfrm>
                          </p:grpSpPr>
                          <p:sp>
                            <p:nvSpPr>
                              <p:cNvPr id="740" name=""/>
                              <p:cNvSpPr/>
                              <p:nvPr/>
                            </p:nvSpPr>
                            <p:spPr>
                              <a:xfrm>
                                <a:off x="2238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1" name=""/>
                              <p:cNvSpPr/>
                              <p:nvPr/>
                            </p:nvSpPr>
                            <p:spPr>
                              <a:xfrm>
                                <a:off x="22478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42" name=""/>
                            <p:cNvGrpSpPr/>
                            <p:nvPr/>
                          </p:nvGrpSpPr>
                          <p:grpSpPr>
                            <a:xfrm>
                              <a:off x="2255760" y="2587680"/>
                              <a:ext cx="36720" cy="27000"/>
                              <a:chOff x="2255760" y="2587680"/>
                              <a:chExt cx="36720" cy="27000"/>
                            </a:xfrm>
                          </p:grpSpPr>
                          <p:sp>
                            <p:nvSpPr>
                              <p:cNvPr id="743" name=""/>
                              <p:cNvSpPr/>
                              <p:nvPr/>
                            </p:nvSpPr>
                            <p:spPr>
                              <a:xfrm>
                                <a:off x="225576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4" name=""/>
                              <p:cNvSpPr/>
                              <p:nvPr/>
                            </p:nvSpPr>
                            <p:spPr>
                              <a:xfrm>
                                <a:off x="22654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2273400" y="2587680"/>
                          <a:ext cx="87120" cy="27000"/>
                          <a:chOff x="2273400" y="2587680"/>
                          <a:chExt cx="87120" cy="27000"/>
                        </a:xfrm>
                      </p:grpSpPr>
                      <p:grpSp>
                        <p:nvGrpSpPr>
                          <p:cNvPr id="746" name=""/>
                          <p:cNvGrpSpPr/>
                          <p:nvPr/>
                        </p:nvGrpSpPr>
                        <p:grpSpPr>
                          <a:xfrm>
                            <a:off x="2273400" y="2587680"/>
                            <a:ext cx="54000" cy="27000"/>
                            <a:chOff x="2273400" y="2587680"/>
                            <a:chExt cx="54000" cy="27000"/>
                          </a:xfrm>
                        </p:grpSpPr>
                        <p:grpSp>
                          <p:nvGrpSpPr>
                            <p:cNvPr id="747" name=""/>
                            <p:cNvGrpSpPr/>
                            <p:nvPr/>
                          </p:nvGrpSpPr>
                          <p:grpSpPr>
                            <a:xfrm>
                              <a:off x="2273400" y="2587680"/>
                              <a:ext cx="34920" cy="27000"/>
                              <a:chOff x="2273400" y="2587680"/>
                              <a:chExt cx="34920" cy="27000"/>
                            </a:xfrm>
                          </p:grpSpPr>
                          <p:sp>
                            <p:nvSpPr>
                              <p:cNvPr id="748" name=""/>
                              <p:cNvSpPr/>
                              <p:nvPr/>
                            </p:nvSpPr>
                            <p:spPr>
                              <a:xfrm>
                                <a:off x="2273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49" name=""/>
                              <p:cNvSpPr/>
                              <p:nvPr/>
                            </p:nvSpPr>
                            <p:spPr>
                              <a:xfrm>
                                <a:off x="2281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0" name=""/>
                            <p:cNvGrpSpPr/>
                            <p:nvPr/>
                          </p:nvGrpSpPr>
                          <p:grpSpPr>
                            <a:xfrm>
                              <a:off x="2290680" y="2587680"/>
                              <a:ext cx="36720" cy="27000"/>
                              <a:chOff x="2290680" y="2587680"/>
                              <a:chExt cx="36720" cy="27000"/>
                            </a:xfrm>
                          </p:grpSpPr>
                          <p:sp>
                            <p:nvSpPr>
                              <p:cNvPr id="751" name=""/>
                              <p:cNvSpPr/>
                              <p:nvPr/>
                            </p:nvSpPr>
                            <p:spPr>
                              <a:xfrm>
                                <a:off x="229068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2" name=""/>
                              <p:cNvSpPr/>
                              <p:nvPr/>
                            </p:nvSpPr>
                            <p:spPr>
                              <a:xfrm>
                                <a:off x="23004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753" name=""/>
                          <p:cNvGrpSpPr/>
                          <p:nvPr/>
                        </p:nvGrpSpPr>
                        <p:grpSpPr>
                          <a:xfrm>
                            <a:off x="2308320" y="2587680"/>
                            <a:ext cx="52200" cy="27000"/>
                            <a:chOff x="2308320" y="2587680"/>
                            <a:chExt cx="52200" cy="27000"/>
                          </a:xfrm>
                        </p:grpSpPr>
                        <p:grpSp>
                          <p:nvGrpSpPr>
                            <p:cNvPr id="754" name=""/>
                            <p:cNvGrpSpPr/>
                            <p:nvPr/>
                          </p:nvGrpSpPr>
                          <p:grpSpPr>
                            <a:xfrm>
                              <a:off x="2308320" y="2587680"/>
                              <a:ext cx="34920" cy="27000"/>
                              <a:chOff x="2308320" y="2587680"/>
                              <a:chExt cx="34920" cy="27000"/>
                            </a:xfrm>
                          </p:grpSpPr>
                          <p:sp>
                            <p:nvSpPr>
                              <p:cNvPr id="755" name=""/>
                              <p:cNvSpPr/>
                              <p:nvPr/>
                            </p:nvSpPr>
                            <p:spPr>
                              <a:xfrm>
                                <a:off x="23083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6" name=""/>
                              <p:cNvSpPr/>
                              <p:nvPr/>
                            </p:nvSpPr>
                            <p:spPr>
                              <a:xfrm>
                                <a:off x="231624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757" name=""/>
                            <p:cNvGrpSpPr/>
                            <p:nvPr/>
                          </p:nvGrpSpPr>
                          <p:grpSpPr>
                            <a:xfrm>
                              <a:off x="2325600" y="2587680"/>
                              <a:ext cx="34920" cy="27000"/>
                              <a:chOff x="2325600" y="2587680"/>
                              <a:chExt cx="34920" cy="27000"/>
                            </a:xfrm>
                          </p:grpSpPr>
                          <p:sp>
                            <p:nvSpPr>
                              <p:cNvPr id="758" name=""/>
                              <p:cNvSpPr/>
                              <p:nvPr/>
                            </p:nvSpPr>
                            <p:spPr>
                              <a:xfrm>
                                <a:off x="232560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9" name=""/>
                              <p:cNvSpPr/>
                              <p:nvPr/>
                            </p:nvSpPr>
                            <p:spPr>
                              <a:xfrm>
                                <a:off x="2333520" y="2587680"/>
                                <a:ext cx="27000" cy="27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9800" bIns="-19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760" name=""/>
                <p:cNvGrpSpPr/>
                <p:nvPr/>
              </p:nvGrpSpPr>
              <p:grpSpPr>
                <a:xfrm>
                  <a:off x="1792440" y="2476440"/>
                  <a:ext cx="533160" cy="66600"/>
                  <a:chOff x="1792440" y="2476440"/>
                  <a:chExt cx="533160" cy="66600"/>
                </a:xfrm>
              </p:grpSpPr>
              <p:sp>
                <p:nvSpPr>
                  <p:cNvPr id="761" name=""/>
                  <p:cNvSpPr/>
                  <p:nvPr/>
                </p:nvSpPr>
                <p:spPr>
                  <a:xfrm>
                    <a:off x="1792440" y="2476440"/>
                    <a:ext cx="9828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913040" y="2476440"/>
                    <a:ext cx="1490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2084400" y="2476440"/>
                    <a:ext cx="16200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2268360" y="2476440"/>
                    <a:ext cx="57240" cy="66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5" name=""/>
              <p:cNvGrpSpPr/>
              <p:nvPr/>
            </p:nvGrpSpPr>
            <p:grpSpPr>
              <a:xfrm>
                <a:off x="2278080" y="2484360"/>
                <a:ext cx="39600" cy="36720"/>
                <a:chOff x="2278080" y="2484360"/>
                <a:chExt cx="39600" cy="3672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301840" y="2486160"/>
                  <a:ext cx="7920" cy="20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305080" y="2496960"/>
                  <a:ext cx="1260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"/>
                <p:cNvGrpSpPr/>
                <p:nvPr/>
              </p:nvGrpSpPr>
              <p:grpSpPr>
                <a:xfrm>
                  <a:off x="2278080" y="2484360"/>
                  <a:ext cx="12600" cy="36720"/>
                  <a:chOff x="2278080" y="2484360"/>
                  <a:chExt cx="12600" cy="3672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2278080" y="2484360"/>
                    <a:ext cx="12600" cy="12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2278080" y="2508120"/>
                    <a:ext cx="1260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"/>
              <p:cNvGrpSpPr/>
              <p:nvPr/>
            </p:nvGrpSpPr>
            <p:grpSpPr>
              <a:xfrm>
                <a:off x="1919160" y="2482920"/>
                <a:ext cx="138240" cy="49320"/>
                <a:chOff x="1919160" y="2482920"/>
                <a:chExt cx="138240" cy="49320"/>
              </a:xfrm>
            </p:grpSpPr>
            <p:grpSp>
              <p:nvGrpSpPr>
                <p:cNvPr id="772" name=""/>
                <p:cNvGrpSpPr/>
                <p:nvPr/>
              </p:nvGrpSpPr>
              <p:grpSpPr>
                <a:xfrm>
                  <a:off x="1919160" y="2487600"/>
                  <a:ext cx="138240" cy="33480"/>
                  <a:chOff x="1919160" y="2487600"/>
                  <a:chExt cx="138240" cy="3348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1969920" y="2487600"/>
                    <a:ext cx="36720" cy="111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969920" y="2496960"/>
                    <a:ext cx="367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919160" y="2495520"/>
                    <a:ext cx="138240" cy="2556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" name=""/>
                <p:cNvSpPr/>
                <p:nvPr/>
              </p:nvSpPr>
              <p:spPr>
                <a:xfrm>
                  <a:off x="1919160" y="2482920"/>
                  <a:ext cx="12960" cy="126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039760" y="2525760"/>
                  <a:ext cx="8280" cy="64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1787400" y="2536920"/>
                <a:ext cx="125640" cy="27000"/>
                <a:chOff x="1787400" y="2536920"/>
                <a:chExt cx="125640" cy="27000"/>
              </a:xfrm>
            </p:grpSpPr>
            <p:grpSp>
              <p:nvGrpSpPr>
                <p:cNvPr id="779" name=""/>
                <p:cNvGrpSpPr/>
                <p:nvPr/>
              </p:nvGrpSpPr>
              <p:grpSpPr>
                <a:xfrm>
                  <a:off x="1787400" y="2536920"/>
                  <a:ext cx="73080" cy="27000"/>
                  <a:chOff x="1787400" y="2536920"/>
                  <a:chExt cx="73080" cy="2700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1787400" y="2536920"/>
                    <a:ext cx="47880" cy="27000"/>
                    <a:chOff x="1787400" y="2536920"/>
                    <a:chExt cx="47880" cy="27000"/>
                  </a:xfrm>
                </p:grpSpPr>
                <p:grpSp>
                  <p:nvGrpSpPr>
                    <p:cNvPr id="781" name=""/>
                    <p:cNvGrpSpPr/>
                    <p:nvPr/>
                  </p:nvGrpSpPr>
                  <p:grpSpPr>
                    <a:xfrm>
                      <a:off x="1787400" y="2536920"/>
                      <a:ext cx="33480" cy="27000"/>
                      <a:chOff x="1787400" y="2536920"/>
                      <a:chExt cx="33480" cy="27000"/>
                    </a:xfrm>
                  </p:grpSpPr>
                  <p:sp>
                    <p:nvSpPr>
                      <p:cNvPr id="782" name=""/>
                      <p:cNvSpPr/>
                      <p:nvPr/>
                    </p:nvSpPr>
                    <p:spPr>
                      <a:xfrm>
                        <a:off x="1787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>
                        <a:off x="1793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1800360" y="2536920"/>
                      <a:ext cx="34920" cy="27000"/>
                      <a:chOff x="1800360" y="2536920"/>
                      <a:chExt cx="34920" cy="27000"/>
                    </a:xfrm>
                  </p:grpSpPr>
                  <p:sp>
                    <p:nvSpPr>
                      <p:cNvPr id="785" name=""/>
                      <p:cNvSpPr/>
                      <p:nvPr/>
                    </p:nvSpPr>
                    <p:spPr>
                      <a:xfrm>
                        <a:off x="1800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6" name=""/>
                      <p:cNvSpPr/>
                      <p:nvPr/>
                    </p:nvSpPr>
                    <p:spPr>
                      <a:xfrm>
                        <a:off x="18082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87" name=""/>
                  <p:cNvGrpSpPr/>
                  <p:nvPr/>
                </p:nvGrpSpPr>
                <p:grpSpPr>
                  <a:xfrm>
                    <a:off x="1814400" y="2536920"/>
                    <a:ext cx="46080" cy="27000"/>
                    <a:chOff x="1814400" y="2536920"/>
                    <a:chExt cx="46080" cy="27000"/>
                  </a:xfrm>
                </p:grpSpPr>
                <p:grpSp>
                  <p:nvGrpSpPr>
                    <p:cNvPr id="788" name=""/>
                    <p:cNvGrpSpPr/>
                    <p:nvPr/>
                  </p:nvGrpSpPr>
                  <p:grpSpPr>
                    <a:xfrm>
                      <a:off x="1814400" y="2536920"/>
                      <a:ext cx="33480" cy="27000"/>
                      <a:chOff x="1814400" y="2536920"/>
                      <a:chExt cx="33480" cy="27000"/>
                    </a:xfrm>
                  </p:grpSpPr>
                  <p:sp>
                    <p:nvSpPr>
                      <p:cNvPr id="789" name=""/>
                      <p:cNvSpPr/>
                      <p:nvPr/>
                    </p:nvSpPr>
                    <p:spPr>
                      <a:xfrm>
                        <a:off x="181440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0" name=""/>
                      <p:cNvSpPr/>
                      <p:nvPr/>
                    </p:nvSpPr>
                    <p:spPr>
                      <a:xfrm>
                        <a:off x="18208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1827360" y="2536920"/>
                      <a:ext cx="33120" cy="27000"/>
                      <a:chOff x="1827360" y="2536920"/>
                      <a:chExt cx="33120" cy="27000"/>
                    </a:xfrm>
                  </p:grpSpPr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1827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3" name=""/>
                      <p:cNvSpPr/>
                      <p:nvPr/>
                    </p:nvSpPr>
                    <p:spPr>
                      <a:xfrm>
                        <a:off x="1833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1839960" y="2536920"/>
                  <a:ext cx="73080" cy="27000"/>
                  <a:chOff x="1839960" y="2536920"/>
                  <a:chExt cx="73080" cy="27000"/>
                </a:xfrm>
              </p:grpSpPr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1839960" y="2536920"/>
                    <a:ext cx="47520" cy="27000"/>
                    <a:chOff x="1839960" y="2536920"/>
                    <a:chExt cx="47520" cy="27000"/>
                  </a:xfrm>
                </p:grpSpPr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1839960" y="2536920"/>
                      <a:ext cx="33120" cy="27000"/>
                      <a:chOff x="1839960" y="2536920"/>
                      <a:chExt cx="33120" cy="27000"/>
                    </a:xfrm>
                  </p:grpSpPr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1839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1846440" y="253692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1854360" y="2536920"/>
                      <a:ext cx="33120" cy="27000"/>
                      <a:chOff x="1854360" y="2536920"/>
                      <a:chExt cx="33120" cy="27000"/>
                    </a:xfrm>
                  </p:grpSpPr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18543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18604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1866960" y="2536920"/>
                    <a:ext cx="46080" cy="27000"/>
                    <a:chOff x="1866960" y="2536920"/>
                    <a:chExt cx="46080" cy="27000"/>
                  </a:xfrm>
                </p:grpSpPr>
                <p:grpSp>
                  <p:nvGrpSpPr>
                    <p:cNvPr id="803" name=""/>
                    <p:cNvGrpSpPr/>
                    <p:nvPr/>
                  </p:nvGrpSpPr>
                  <p:grpSpPr>
                    <a:xfrm>
                      <a:off x="1866960" y="2536920"/>
                      <a:ext cx="33120" cy="27000"/>
                      <a:chOff x="1866960" y="2536920"/>
                      <a:chExt cx="33120" cy="27000"/>
                    </a:xfrm>
                  </p:grpSpPr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18669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187308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6" name=""/>
                    <p:cNvGrpSpPr/>
                    <p:nvPr/>
                  </p:nvGrpSpPr>
                  <p:grpSpPr>
                    <a:xfrm>
                      <a:off x="1879560" y="2536920"/>
                      <a:ext cx="33480" cy="27000"/>
                      <a:chOff x="1879560" y="2536920"/>
                      <a:chExt cx="33480" cy="27000"/>
                    </a:xfrm>
                  </p:grpSpPr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187956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1886040" y="2536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809" name=""/>
              <p:cNvSpPr/>
              <p:nvPr/>
            </p:nvSpPr>
            <p:spPr>
              <a:xfrm>
                <a:off x="1785960" y="25192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2"/>
                    </a:moveTo>
                    <a:lnTo>
                      <a:pt x="154" y="12"/>
                    </a:lnTo>
                    <a:lnTo>
                      <a:pt x="154" y="0"/>
                    </a:lnTo>
                    <a:lnTo>
                      <a:pt x="179" y="0"/>
                    </a:lnTo>
                    <a:lnTo>
                      <a:pt x="179" y="16"/>
                    </a:lnTo>
                    <a:lnTo>
                      <a:pt x="351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1592280" y="2619360"/>
              <a:ext cx="923760" cy="111240"/>
              <a:chOff x="1592280" y="2619360"/>
              <a:chExt cx="923760" cy="111240"/>
            </a:xfrm>
          </p:grpSpPr>
          <p:grpSp>
            <p:nvGrpSpPr>
              <p:cNvPr id="811" name=""/>
              <p:cNvGrpSpPr/>
              <p:nvPr/>
            </p:nvGrpSpPr>
            <p:grpSpPr>
              <a:xfrm>
                <a:off x="1592280" y="2619360"/>
                <a:ext cx="923760" cy="111240"/>
                <a:chOff x="1592280" y="2619360"/>
                <a:chExt cx="923760" cy="11124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1600200" y="2728800"/>
                  <a:ext cx="89856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592280" y="2619360"/>
                  <a:ext cx="923760" cy="104760"/>
                </a:xfrm>
                <a:custGeom>
                  <a:avLst/>
                  <a:gdLst/>
                  <a:ahLst/>
                  <a:rect l="l" t="t" r="r" b="b"/>
                  <a:pathLst>
                    <a:path w="582" h="66">
                      <a:moveTo>
                        <a:pt x="0" y="65"/>
                      </a:moveTo>
                      <a:lnTo>
                        <a:pt x="581" y="65"/>
                      </a:lnTo>
                      <a:lnTo>
                        <a:pt x="547" y="0"/>
                      </a:lnTo>
                      <a:lnTo>
                        <a:pt x="42" y="0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19280" y="2630520"/>
                  <a:ext cx="865080" cy="81000"/>
                </a:xfrm>
                <a:custGeom>
                  <a:avLst/>
                  <a:gdLst/>
                  <a:ahLst/>
                  <a:rect l="l" t="t" r="r" b="b"/>
                  <a:pathLst>
                    <a:path w="545" h="51">
                      <a:moveTo>
                        <a:pt x="31" y="0"/>
                      </a:moveTo>
                      <a:lnTo>
                        <a:pt x="0" y="50"/>
                      </a:lnTo>
                      <a:lnTo>
                        <a:pt x="544" y="50"/>
                      </a:lnTo>
                      <a:lnTo>
                        <a:pt x="51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693800" y="2629080"/>
                <a:ext cx="727200" cy="34920"/>
                <a:chOff x="1693800" y="2629080"/>
                <a:chExt cx="727200" cy="3492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693800" y="26290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19" h="17">
                      <a:moveTo>
                        <a:pt x="5" y="0"/>
                      </a:moveTo>
                      <a:lnTo>
                        <a:pt x="18" y="0"/>
                      </a:lnTo>
                      <a:lnTo>
                        <a:pt x="14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763640" y="2629080"/>
                  <a:ext cx="115920" cy="26640"/>
                </a:xfrm>
                <a:custGeom>
                  <a:avLst/>
                  <a:gdLst/>
                  <a:ahLst/>
                  <a:rect l="l" t="t" r="r" b="b"/>
                  <a:pathLst>
                    <a:path w="73" h="17">
                      <a:moveTo>
                        <a:pt x="3" y="0"/>
                      </a:moveTo>
                      <a:lnTo>
                        <a:pt x="72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911240" y="2629080"/>
                  <a:ext cx="111240" cy="26640"/>
                </a:xfrm>
                <a:custGeom>
                  <a:avLst/>
                  <a:gdLst/>
                  <a:ahLst/>
                  <a:rect l="l" t="t" r="r" b="b"/>
                  <a:pathLst>
                    <a:path w="70" h="17">
                      <a:moveTo>
                        <a:pt x="3" y="0"/>
                      </a:moveTo>
                      <a:lnTo>
                        <a:pt x="69" y="0"/>
                      </a:lnTo>
                      <a:lnTo>
                        <a:pt x="68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043000" y="2629080"/>
                  <a:ext cx="112680" cy="26640"/>
                </a:xfrm>
                <a:custGeom>
                  <a:avLst/>
                  <a:gdLst/>
                  <a:ahLst/>
                  <a:rect l="l" t="t" r="r" b="b"/>
                  <a:pathLst>
                    <a:path w="71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0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2178000" y="2629080"/>
                  <a:ext cx="100080" cy="26640"/>
                </a:xfrm>
                <a:custGeom>
                  <a:avLst/>
                  <a:gdLst/>
                  <a:ahLst/>
                  <a:rect l="l" t="t" r="r" b="b"/>
                  <a:pathLst>
                    <a:path w="63" h="17">
                      <a:moveTo>
                        <a:pt x="0" y="0"/>
                      </a:moveTo>
                      <a:lnTo>
                        <a:pt x="60" y="0"/>
                      </a:lnTo>
                      <a:lnTo>
                        <a:pt x="6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2298600" y="2637000"/>
                  <a:ext cx="122400" cy="27000"/>
                </a:xfrm>
                <a:custGeom>
                  <a:avLst/>
                  <a:gdLst/>
                  <a:ahLst/>
                  <a:rect l="l" t="t" r="r" b="b"/>
                  <a:pathLst>
                    <a:path w="77" h="17">
                      <a:moveTo>
                        <a:pt x="0" y="0"/>
                      </a:moveTo>
                      <a:lnTo>
                        <a:pt x="70" y="0"/>
                      </a:lnTo>
                      <a:lnTo>
                        <a:pt x="76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665360" y="2655720"/>
                <a:ext cx="766800" cy="43200"/>
                <a:chOff x="1665360" y="2655720"/>
                <a:chExt cx="766800" cy="43200"/>
              </a:xfrm>
            </p:grpSpPr>
            <p:grpSp>
              <p:nvGrpSpPr>
                <p:cNvPr id="823" name=""/>
                <p:cNvGrpSpPr/>
                <p:nvPr/>
              </p:nvGrpSpPr>
              <p:grpSpPr>
                <a:xfrm>
                  <a:off x="1731960" y="2657520"/>
                  <a:ext cx="379440" cy="38160"/>
                  <a:chOff x="1731960" y="2657520"/>
                  <a:chExt cx="379440" cy="381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>
                    <a:off x="1731960" y="2657520"/>
                    <a:ext cx="3589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" h="1">
                        <a:moveTo>
                          <a:pt x="0" y="0"/>
                        </a:moveTo>
                        <a:lnTo>
                          <a:pt x="2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1746360" y="2670120"/>
                    <a:ext cx="3650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1">
                        <a:moveTo>
                          <a:pt x="0" y="0"/>
                        </a:moveTo>
                        <a:lnTo>
                          <a:pt x="2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1751040" y="2681280"/>
                    <a:ext cx="3175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1">
                        <a:moveTo>
                          <a:pt x="0" y="0"/>
                        </a:moveTo>
                        <a:lnTo>
                          <a:pt x="19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1758960" y="2693880"/>
                    <a:ext cx="428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">
                        <a:moveTo>
                          <a:pt x="0" y="0"/>
                        </a:moveTo>
                        <a:lnTo>
                          <a:pt x="2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1665360" y="2662200"/>
                  <a:ext cx="65160" cy="25560"/>
                  <a:chOff x="1665360" y="2662200"/>
                  <a:chExt cx="65160" cy="2556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1681200" y="2662200"/>
                    <a:ext cx="38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">
                        <a:moveTo>
                          <a:pt x="0" y="0"/>
                        </a:moveTo>
                        <a:lnTo>
                          <a:pt x="2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1674720" y="2674800"/>
                    <a:ext cx="36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1665360" y="2685960"/>
                    <a:ext cx="65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">
                        <a:moveTo>
                          <a:pt x="0" y="0"/>
                        </a:moveTo>
                        <a:lnTo>
                          <a:pt x="4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1812960" y="2655720"/>
                  <a:ext cx="347760" cy="39960"/>
                  <a:chOff x="1812960" y="2655720"/>
                  <a:chExt cx="347760" cy="3996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1812960" y="2693880"/>
                    <a:ext cx="216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">
                        <a:moveTo>
                          <a:pt x="0" y="0"/>
                        </a:moveTo>
                        <a:lnTo>
                          <a:pt x="13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2106720" y="2655720"/>
                    <a:ext cx="50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0" y="0"/>
                        </a:moveTo>
                        <a:lnTo>
                          <a:pt x="3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2119320" y="2670120"/>
                    <a:ext cx="414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">
                        <a:moveTo>
                          <a:pt x="0" y="0"/>
                        </a:moveTo>
                        <a:lnTo>
                          <a:pt x="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2092320" y="2681280"/>
                    <a:ext cx="684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">
                        <a:moveTo>
                          <a:pt x="0" y="0"/>
                        </a:moveTo>
                        <a:lnTo>
                          <a:pt x="4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2036880" y="2693880"/>
                    <a:ext cx="36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0" y="0"/>
                        </a:moveTo>
                        <a:lnTo>
                          <a:pt x="22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2081160" y="2693880"/>
                    <a:ext cx="763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">
                        <a:moveTo>
                          <a:pt x="0" y="0"/>
                        </a:moveTo>
                        <a:lnTo>
                          <a:pt x="4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2176560" y="2662200"/>
                  <a:ext cx="109440" cy="34920"/>
                  <a:chOff x="2176560" y="2662200"/>
                  <a:chExt cx="109440" cy="3492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>
                    <a:off x="2176560" y="2662200"/>
                    <a:ext cx="1029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">
                        <a:moveTo>
                          <a:pt x="0" y="0"/>
                        </a:moveTo>
                        <a:lnTo>
                          <a:pt x="64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2190600" y="2678040"/>
                    <a:ext cx="90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">
                        <a:moveTo>
                          <a:pt x="0" y="0"/>
                        </a:moveTo>
                        <a:lnTo>
                          <a:pt x="5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2192400" y="2695680"/>
                    <a:ext cx="936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">
                        <a:moveTo>
                          <a:pt x="0" y="0"/>
                        </a:moveTo>
                        <a:lnTo>
                          <a:pt x="5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2301840" y="2662200"/>
                  <a:ext cx="130320" cy="36720"/>
                  <a:chOff x="2301840" y="2662200"/>
                  <a:chExt cx="130320" cy="367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2311560" y="2662200"/>
                    <a:ext cx="98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">
                        <a:moveTo>
                          <a:pt x="0" y="0"/>
                        </a:moveTo>
                        <a:lnTo>
                          <a:pt x="6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2301840" y="2674800"/>
                    <a:ext cx="810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1">
                        <a:moveTo>
                          <a:pt x="0" y="0"/>
                        </a:moveTo>
                        <a:lnTo>
                          <a:pt x="5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2311560" y="2685960"/>
                    <a:ext cx="745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">
                        <a:moveTo>
                          <a:pt x="0" y="0"/>
                        </a:moveTo>
                        <a:lnTo>
                          <a:pt x="4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2308320" y="2697120"/>
                    <a:ext cx="921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">
                        <a:moveTo>
                          <a:pt x="0" y="0"/>
                        </a:moveTo>
                        <a:lnTo>
                          <a:pt x="57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2397240" y="267660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2405160" y="2692440"/>
                    <a:ext cx="270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">
                        <a:moveTo>
                          <a:pt x="0" y="0"/>
                        </a:moveTo>
                        <a:lnTo>
                          <a:pt x="16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50" name=""/>
            <p:cNvGrpSpPr/>
            <p:nvPr/>
          </p:nvGrpSpPr>
          <p:grpSpPr>
            <a:xfrm>
              <a:off x="1863720" y="2359080"/>
              <a:ext cx="403200" cy="65160"/>
              <a:chOff x="1863720" y="2359080"/>
              <a:chExt cx="403200" cy="65160"/>
            </a:xfrm>
          </p:grpSpPr>
          <p:grpSp>
            <p:nvGrpSpPr>
              <p:cNvPr id="851" name=""/>
              <p:cNvGrpSpPr/>
              <p:nvPr/>
            </p:nvGrpSpPr>
            <p:grpSpPr>
              <a:xfrm>
                <a:off x="1863720" y="2384280"/>
                <a:ext cx="403200" cy="39960"/>
                <a:chOff x="1863720" y="2384280"/>
                <a:chExt cx="403200" cy="3996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863720" y="2384280"/>
                  <a:ext cx="403200" cy="30240"/>
                </a:xfrm>
                <a:custGeom>
                  <a:avLst/>
                  <a:gdLst/>
                  <a:ahLst/>
                  <a:rect l="l" t="t" r="r" b="b"/>
                  <a:pathLst>
                    <a:path w="254" h="19">
                      <a:moveTo>
                        <a:pt x="0" y="18"/>
                      </a:moveTo>
                      <a:lnTo>
                        <a:pt x="253" y="18"/>
                      </a:lnTo>
                      <a:lnTo>
                        <a:pt x="238" y="0"/>
                      </a:lnTo>
                      <a:lnTo>
                        <a:pt x="15" y="0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870200" y="2419200"/>
                  <a:ext cx="377640" cy="50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4" name=""/>
              <p:cNvSpPr/>
              <p:nvPr/>
            </p:nvSpPr>
            <p:spPr>
              <a:xfrm>
                <a:off x="1955880" y="2359080"/>
                <a:ext cx="216000" cy="55440"/>
              </a:xfrm>
              <a:custGeom>
                <a:avLst/>
                <a:gdLst/>
                <a:ahLst/>
                <a:rect l="l" t="t" r="r" b="b"/>
                <a:pathLst>
                  <a:path w="136" h="35">
                    <a:moveTo>
                      <a:pt x="0" y="19"/>
                    </a:moveTo>
                    <a:lnTo>
                      <a:pt x="0" y="0"/>
                    </a:lnTo>
                    <a:lnTo>
                      <a:pt x="135" y="0"/>
                    </a:lnTo>
                    <a:lnTo>
                      <a:pt x="135" y="20"/>
                    </a:lnTo>
                    <a:lnTo>
                      <a:pt x="134" y="22"/>
                    </a:lnTo>
                    <a:lnTo>
                      <a:pt x="133" y="23"/>
                    </a:lnTo>
                    <a:lnTo>
                      <a:pt x="130" y="25"/>
                    </a:lnTo>
                    <a:lnTo>
                      <a:pt x="127" y="26"/>
                    </a:lnTo>
                    <a:lnTo>
                      <a:pt x="124" y="27"/>
                    </a:lnTo>
                    <a:lnTo>
                      <a:pt x="120" y="29"/>
                    </a:lnTo>
                    <a:lnTo>
                      <a:pt x="116" y="30"/>
                    </a:lnTo>
                    <a:lnTo>
                      <a:pt x="111" y="30"/>
                    </a:lnTo>
                    <a:lnTo>
                      <a:pt x="106" y="31"/>
                    </a:lnTo>
                    <a:lnTo>
                      <a:pt x="99" y="32"/>
                    </a:lnTo>
                    <a:lnTo>
                      <a:pt x="93" y="33"/>
                    </a:lnTo>
                    <a:lnTo>
                      <a:pt x="88" y="33"/>
                    </a:lnTo>
                    <a:lnTo>
                      <a:pt x="81" y="34"/>
                    </a:lnTo>
                    <a:lnTo>
                      <a:pt x="74" y="34"/>
                    </a:lnTo>
                    <a:lnTo>
                      <a:pt x="64" y="34"/>
                    </a:lnTo>
                    <a:lnTo>
                      <a:pt x="55" y="34"/>
                    </a:lnTo>
                    <a:lnTo>
                      <a:pt x="47" y="33"/>
                    </a:lnTo>
                    <a:lnTo>
                      <a:pt x="40" y="33"/>
                    </a:lnTo>
                    <a:lnTo>
                      <a:pt x="34" y="32"/>
                    </a:lnTo>
                    <a:lnTo>
                      <a:pt x="29" y="31"/>
                    </a:lnTo>
                    <a:lnTo>
                      <a:pt x="22" y="30"/>
                    </a:lnTo>
                    <a:lnTo>
                      <a:pt x="17" y="29"/>
                    </a:lnTo>
                    <a:lnTo>
                      <a:pt x="13" y="28"/>
                    </a:lnTo>
                    <a:lnTo>
                      <a:pt x="9" y="26"/>
                    </a:lnTo>
                    <a:lnTo>
                      <a:pt x="6" y="25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1820880" y="2016000"/>
              <a:ext cx="476280" cy="338400"/>
              <a:chOff x="1820880" y="2016000"/>
              <a:chExt cx="476280" cy="338400"/>
            </a:xfrm>
          </p:grpSpPr>
          <p:sp>
            <p:nvSpPr>
              <p:cNvPr id="856" name=""/>
              <p:cNvSpPr/>
              <p:nvPr/>
            </p:nvSpPr>
            <p:spPr>
              <a:xfrm>
                <a:off x="1820880" y="2016000"/>
                <a:ext cx="476280" cy="338400"/>
              </a:xfrm>
              <a:prstGeom prst="roundRect">
                <a:avLst>
                  <a:gd name="adj" fmla="val 1221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876320" y="2055960"/>
                <a:ext cx="365400" cy="258480"/>
              </a:xfrm>
              <a:prstGeom prst="roundRect">
                <a:avLst>
                  <a:gd name="adj" fmla="val 12273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898640" y="2071800"/>
                <a:ext cx="320760" cy="226800"/>
              </a:xfrm>
              <a:prstGeom prst="roundRect">
                <a:avLst>
                  <a:gd name="adj" fmla="val 11935"/>
                </a:avLst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9" name=""/>
          <p:cNvSpPr/>
          <p:nvPr/>
        </p:nvSpPr>
        <p:spPr>
          <a:xfrm>
            <a:off x="1848240" y="1332000"/>
            <a:ext cx="667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007440" y="2384280"/>
            <a:ext cx="538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WW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632040" y="1506600"/>
            <a:ext cx="806760" cy="33336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98920" y="1424160"/>
            <a:ext cx="868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3006720" y="1795320"/>
            <a:ext cx="519120" cy="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33360" y="2309760"/>
            <a:ext cx="444600" cy="292320"/>
          </a:xfrm>
          <a:prstGeom prst="roundRect">
            <a:avLst>
              <a:gd name="adj" fmla="val 12486"/>
            </a:avLst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71520" y="2360520"/>
            <a:ext cx="139680" cy="889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00440" y="3116160"/>
            <a:ext cx="405000" cy="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03360" y="1763280"/>
            <a:ext cx="3682440" cy="185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431040" y="2847960"/>
            <a:ext cx="0" cy="1085760"/>
          </a:xfrm>
          <a:prstGeom prst="line">
            <a:avLst/>
          </a:prstGeom>
          <a:ln w="25560">
            <a:solidFill>
              <a:srgbClr val="60c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6170400" y="3633840"/>
            <a:ext cx="284040" cy="347760"/>
          </a:xfrm>
          <a:prstGeom prst="line">
            <a:avLst/>
          </a:prstGeom>
          <a:ln w="25560">
            <a:solidFill>
              <a:srgbClr val="60c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189840" y="3687840"/>
            <a:ext cx="0" cy="1171440"/>
          </a:xfrm>
          <a:prstGeom prst="line">
            <a:avLst/>
          </a:prstGeom>
          <a:ln w="25560">
            <a:solidFill>
              <a:srgbClr val="60c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92840" y="2535120"/>
            <a:ext cx="355320" cy="1701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80"/>
                </a:moveTo>
                <a:arcTo wR="10800" hR="10800" stAng="-10793587" swAng="5362894"/>
                <a:lnTo>
                  <a:pt x="10800" y="10800"/>
                </a:lnTo>
                <a:close/>
              </a:path>
              <a:path fill="none" w="21600" h="21600">
                <a:moveTo>
                  <a:pt x="0" y="10780"/>
                </a:moveTo>
                <a:arcTo wR="10800" hR="10800" stAng="-10793587" swAng="5362894"/>
              </a:path>
            </a:pathLst>
          </a:custGeom>
          <a:noFill/>
          <a:ln cap="rnd"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92840" y="2557440"/>
            <a:ext cx="711000" cy="165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771880" y="3405240"/>
            <a:ext cx="631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817560" y="1222200"/>
            <a:ext cx="1116000" cy="1398600"/>
            <a:chOff x="817560" y="1222200"/>
            <a:chExt cx="1116000" cy="1398600"/>
          </a:xfrm>
        </p:grpSpPr>
        <p:grpSp>
          <p:nvGrpSpPr>
            <p:cNvPr id="875" name=""/>
            <p:cNvGrpSpPr/>
            <p:nvPr/>
          </p:nvGrpSpPr>
          <p:grpSpPr>
            <a:xfrm>
              <a:off x="1214280" y="1527120"/>
              <a:ext cx="719280" cy="1093680"/>
              <a:chOff x="1214280" y="1527120"/>
              <a:chExt cx="719280" cy="1093680"/>
            </a:xfrm>
          </p:grpSpPr>
          <p:grpSp>
            <p:nvGrpSpPr>
              <p:cNvPr id="876" name=""/>
              <p:cNvGrpSpPr/>
              <p:nvPr/>
            </p:nvGrpSpPr>
            <p:grpSpPr>
              <a:xfrm>
                <a:off x="1214280" y="1527120"/>
                <a:ext cx="719280" cy="1093680"/>
                <a:chOff x="1214280" y="1527120"/>
                <a:chExt cx="719280" cy="1093680"/>
              </a:xfrm>
            </p:grpSpPr>
            <p:grpSp>
              <p:nvGrpSpPr>
                <p:cNvPr id="877" name=""/>
                <p:cNvGrpSpPr/>
                <p:nvPr/>
              </p:nvGrpSpPr>
              <p:grpSpPr>
                <a:xfrm>
                  <a:off x="1622520" y="2158920"/>
                  <a:ext cx="311040" cy="461880"/>
                  <a:chOff x="1622520" y="2158920"/>
                  <a:chExt cx="311040" cy="461880"/>
                </a:xfrm>
              </p:grpSpPr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1700280" y="2266920"/>
                    <a:ext cx="233280" cy="353880"/>
                    <a:chOff x="1700280" y="2266920"/>
                    <a:chExt cx="233280" cy="353880"/>
                  </a:xfrm>
                </p:grpSpPr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1782720" y="2508120"/>
                      <a:ext cx="74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6">
                          <a:moveTo>
                            <a:pt x="46" y="16"/>
                          </a:moveTo>
                          <a:lnTo>
                            <a:pt x="36" y="0"/>
                          </a:lnTo>
                          <a:lnTo>
                            <a:pt x="25" y="1"/>
                          </a:lnTo>
                          <a:lnTo>
                            <a:pt x="16" y="3"/>
                          </a:lnTo>
                          <a:lnTo>
                            <a:pt x="0" y="9"/>
                          </a:lnTo>
                          <a:lnTo>
                            <a:pt x="5" y="25"/>
                          </a:lnTo>
                          <a:lnTo>
                            <a:pt x="46" y="16"/>
                          </a:lnTo>
                        </a:path>
                      </a:pathLst>
                    </a:custGeom>
                    <a:solidFill>
                      <a:srgbClr val="c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1793880" y="252900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23">
                          <a:moveTo>
                            <a:pt x="38" y="0"/>
                          </a:moveTo>
                          <a:lnTo>
                            <a:pt x="31" y="0"/>
                          </a:lnTo>
                          <a:lnTo>
                            <a:pt x="20" y="3"/>
                          </a:lnTo>
                          <a:lnTo>
                            <a:pt x="8" y="6"/>
                          </a:lnTo>
                          <a:lnTo>
                            <a:pt x="1" y="7"/>
                          </a:lnTo>
                          <a:lnTo>
                            <a:pt x="0" y="10"/>
                          </a:lnTo>
                          <a:lnTo>
                            <a:pt x="0" y="15"/>
                          </a:lnTo>
                          <a:lnTo>
                            <a:pt x="4" y="19"/>
                          </a:lnTo>
                          <a:lnTo>
                            <a:pt x="10" y="22"/>
                          </a:lnTo>
                          <a:lnTo>
                            <a:pt x="20" y="20"/>
                          </a:lnTo>
                          <a:lnTo>
                            <a:pt x="36" y="16"/>
                          </a:lnTo>
                          <a:lnTo>
                            <a:pt x="50" y="8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1700280" y="2266920"/>
                      <a:ext cx="233280" cy="35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223">
                          <a:moveTo>
                            <a:pt x="37" y="0"/>
                          </a:moveTo>
                          <a:lnTo>
                            <a:pt x="42" y="9"/>
                          </a:lnTo>
                          <a:lnTo>
                            <a:pt x="45" y="19"/>
                          </a:lnTo>
                          <a:lnTo>
                            <a:pt x="50" y="28"/>
                          </a:lnTo>
                          <a:lnTo>
                            <a:pt x="55" y="35"/>
                          </a:lnTo>
                          <a:lnTo>
                            <a:pt x="59" y="42"/>
                          </a:lnTo>
                          <a:lnTo>
                            <a:pt x="65" y="49"/>
                          </a:lnTo>
                          <a:lnTo>
                            <a:pt x="73" y="55"/>
                          </a:lnTo>
                          <a:lnTo>
                            <a:pt x="74" y="57"/>
                          </a:lnTo>
                          <a:lnTo>
                            <a:pt x="76" y="62"/>
                          </a:lnTo>
                          <a:lnTo>
                            <a:pt x="76" y="70"/>
                          </a:lnTo>
                          <a:lnTo>
                            <a:pt x="79" y="79"/>
                          </a:lnTo>
                          <a:lnTo>
                            <a:pt x="86" y="86"/>
                          </a:lnTo>
                          <a:lnTo>
                            <a:pt x="91" y="93"/>
                          </a:lnTo>
                          <a:lnTo>
                            <a:pt x="94" y="99"/>
                          </a:lnTo>
                          <a:lnTo>
                            <a:pt x="101" y="112"/>
                          </a:lnTo>
                          <a:lnTo>
                            <a:pt x="109" y="126"/>
                          </a:lnTo>
                          <a:lnTo>
                            <a:pt x="110" y="131"/>
                          </a:lnTo>
                          <a:lnTo>
                            <a:pt x="111" y="139"/>
                          </a:lnTo>
                          <a:lnTo>
                            <a:pt x="111" y="149"/>
                          </a:lnTo>
                          <a:lnTo>
                            <a:pt x="111" y="158"/>
                          </a:lnTo>
                          <a:lnTo>
                            <a:pt x="110" y="165"/>
                          </a:lnTo>
                          <a:lnTo>
                            <a:pt x="111" y="172"/>
                          </a:lnTo>
                          <a:lnTo>
                            <a:pt x="116" y="181"/>
                          </a:lnTo>
                          <a:lnTo>
                            <a:pt x="123" y="190"/>
                          </a:lnTo>
                          <a:lnTo>
                            <a:pt x="146" y="217"/>
                          </a:lnTo>
                          <a:lnTo>
                            <a:pt x="131" y="222"/>
                          </a:lnTo>
                          <a:lnTo>
                            <a:pt x="121" y="212"/>
                          </a:lnTo>
                          <a:lnTo>
                            <a:pt x="109" y="200"/>
                          </a:lnTo>
                          <a:lnTo>
                            <a:pt x="99" y="190"/>
                          </a:lnTo>
                          <a:lnTo>
                            <a:pt x="91" y="180"/>
                          </a:lnTo>
                          <a:lnTo>
                            <a:pt x="85" y="172"/>
                          </a:lnTo>
                          <a:lnTo>
                            <a:pt x="79" y="159"/>
                          </a:lnTo>
                          <a:lnTo>
                            <a:pt x="70" y="152"/>
                          </a:lnTo>
                          <a:lnTo>
                            <a:pt x="63" y="146"/>
                          </a:lnTo>
                          <a:lnTo>
                            <a:pt x="59" y="141"/>
                          </a:lnTo>
                          <a:lnTo>
                            <a:pt x="62" y="151"/>
                          </a:lnTo>
                          <a:lnTo>
                            <a:pt x="65" y="161"/>
                          </a:lnTo>
                          <a:lnTo>
                            <a:pt x="66" y="172"/>
                          </a:lnTo>
                          <a:lnTo>
                            <a:pt x="65" y="184"/>
                          </a:lnTo>
                          <a:lnTo>
                            <a:pt x="62" y="197"/>
                          </a:lnTo>
                          <a:lnTo>
                            <a:pt x="60" y="204"/>
                          </a:lnTo>
                          <a:lnTo>
                            <a:pt x="57" y="208"/>
                          </a:lnTo>
                          <a:lnTo>
                            <a:pt x="52" y="211"/>
                          </a:lnTo>
                          <a:lnTo>
                            <a:pt x="47" y="212"/>
                          </a:lnTo>
                          <a:lnTo>
                            <a:pt x="43" y="211"/>
                          </a:lnTo>
                          <a:lnTo>
                            <a:pt x="39" y="210"/>
                          </a:lnTo>
                          <a:lnTo>
                            <a:pt x="38" y="206"/>
                          </a:lnTo>
                          <a:lnTo>
                            <a:pt x="39" y="200"/>
                          </a:lnTo>
                          <a:lnTo>
                            <a:pt x="43" y="196"/>
                          </a:lnTo>
                          <a:lnTo>
                            <a:pt x="47" y="192"/>
                          </a:lnTo>
                          <a:lnTo>
                            <a:pt x="48" y="180"/>
                          </a:lnTo>
                          <a:lnTo>
                            <a:pt x="45" y="167"/>
                          </a:lnTo>
                          <a:lnTo>
                            <a:pt x="44" y="158"/>
                          </a:lnTo>
                          <a:lnTo>
                            <a:pt x="41" y="150"/>
                          </a:lnTo>
                          <a:lnTo>
                            <a:pt x="38" y="143"/>
                          </a:lnTo>
                          <a:lnTo>
                            <a:pt x="33" y="135"/>
                          </a:lnTo>
                          <a:lnTo>
                            <a:pt x="32" y="131"/>
                          </a:lnTo>
                          <a:lnTo>
                            <a:pt x="30" y="118"/>
                          </a:lnTo>
                          <a:lnTo>
                            <a:pt x="30" y="107"/>
                          </a:lnTo>
                          <a:lnTo>
                            <a:pt x="21" y="88"/>
                          </a:lnTo>
                          <a:lnTo>
                            <a:pt x="15" y="71"/>
                          </a:lnTo>
                          <a:lnTo>
                            <a:pt x="10" y="55"/>
                          </a:lnTo>
                          <a:lnTo>
                            <a:pt x="3" y="37"/>
                          </a:lnTo>
                          <a:lnTo>
                            <a:pt x="0" y="7"/>
                          </a:lnTo>
                          <a:lnTo>
                            <a:pt x="37" y="0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1790640" y="24829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14"/>
                          </a:moveTo>
                          <a:lnTo>
                            <a:pt x="10" y="11"/>
                          </a:lnTo>
                          <a:lnTo>
                            <a:pt x="6" y="8"/>
                          </a:lnTo>
                          <a:lnTo>
                            <a:pt x="4" y="5"/>
                          </a:lnTo>
                          <a:lnTo>
                            <a:pt x="0" y="0"/>
                          </a:lnTo>
                          <a:lnTo>
                            <a:pt x="4" y="9"/>
                          </a:lnTo>
                          <a:lnTo>
                            <a:pt x="5" y="13"/>
                          </a:lnTo>
                          <a:lnTo>
                            <a:pt x="8" y="20"/>
                          </a:lnTo>
                          <a:lnTo>
                            <a:pt x="10" y="26"/>
                          </a:lnTo>
                          <a:lnTo>
                            <a:pt x="13" y="18"/>
                          </a:lnTo>
                          <a:lnTo>
                            <a:pt x="16" y="14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1768320" y="2514600"/>
                      <a:ext cx="270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49">
                          <a:moveTo>
                            <a:pt x="0" y="41"/>
                          </a:moveTo>
                          <a:lnTo>
                            <a:pt x="5" y="40"/>
                          </a:lnTo>
                          <a:lnTo>
                            <a:pt x="10" y="42"/>
                          </a:lnTo>
                          <a:lnTo>
                            <a:pt x="14" y="46"/>
                          </a:lnTo>
                          <a:lnTo>
                            <a:pt x="16" y="48"/>
                          </a:lnTo>
                          <a:lnTo>
                            <a:pt x="14" y="43"/>
                          </a:lnTo>
                          <a:lnTo>
                            <a:pt x="12" y="40"/>
                          </a:lnTo>
                          <a:lnTo>
                            <a:pt x="8" y="37"/>
                          </a:lnTo>
                          <a:lnTo>
                            <a:pt x="9" y="33"/>
                          </a:lnTo>
                          <a:lnTo>
                            <a:pt x="9" y="24"/>
                          </a:lnTo>
                          <a:lnTo>
                            <a:pt x="8" y="17"/>
                          </a:lnTo>
                          <a:lnTo>
                            <a:pt x="5" y="10"/>
                          </a:lnTo>
                          <a:lnTo>
                            <a:pt x="1" y="0"/>
                          </a:lnTo>
                          <a:lnTo>
                            <a:pt x="2" y="7"/>
                          </a:lnTo>
                          <a:lnTo>
                            <a:pt x="4" y="15"/>
                          </a:lnTo>
                          <a:lnTo>
                            <a:pt x="5" y="22"/>
                          </a:lnTo>
                          <a:lnTo>
                            <a:pt x="5" y="26"/>
                          </a:lnTo>
                          <a:lnTo>
                            <a:pt x="5" y="30"/>
                          </a:lnTo>
                          <a:lnTo>
                            <a:pt x="4" y="35"/>
                          </a:lnTo>
                          <a:lnTo>
                            <a:pt x="0" y="41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1846440" y="2467080"/>
                      <a:ext cx="33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7">
                          <a:moveTo>
                            <a:pt x="20" y="46"/>
                          </a:moveTo>
                          <a:lnTo>
                            <a:pt x="17" y="42"/>
                          </a:lnTo>
                          <a:lnTo>
                            <a:pt x="14" y="37"/>
                          </a:lnTo>
                          <a:lnTo>
                            <a:pt x="13" y="32"/>
                          </a:lnTo>
                          <a:lnTo>
                            <a:pt x="13" y="25"/>
                          </a:lnTo>
                          <a:lnTo>
                            <a:pt x="13" y="18"/>
                          </a:lnTo>
                          <a:lnTo>
                            <a:pt x="12" y="12"/>
                          </a:lnTo>
                          <a:lnTo>
                            <a:pt x="12" y="8"/>
                          </a:lnTo>
                          <a:lnTo>
                            <a:pt x="9" y="5"/>
                          </a:lnTo>
                          <a:lnTo>
                            <a:pt x="5" y="2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  <a:lnTo>
                            <a:pt x="11" y="5"/>
                          </a:lnTo>
                          <a:lnTo>
                            <a:pt x="15" y="5"/>
                          </a:lnTo>
                          <a:lnTo>
                            <a:pt x="18" y="3"/>
                          </a:lnTo>
                          <a:lnTo>
                            <a:pt x="19" y="6"/>
                          </a:lnTo>
                          <a:lnTo>
                            <a:pt x="20" y="12"/>
                          </a:lnTo>
                          <a:lnTo>
                            <a:pt x="20" y="17"/>
                          </a:lnTo>
                          <a:lnTo>
                            <a:pt x="20" y="24"/>
                          </a:lnTo>
                          <a:lnTo>
                            <a:pt x="20" y="30"/>
                          </a:lnTo>
                          <a:lnTo>
                            <a:pt x="19" y="36"/>
                          </a:lnTo>
                          <a:lnTo>
                            <a:pt x="18" y="39"/>
                          </a:lnTo>
                          <a:lnTo>
                            <a:pt x="20" y="46"/>
                          </a:lnTo>
                        </a:path>
                      </a:pathLst>
                    </a:custGeom>
                    <a:solidFill>
                      <a:srgbClr val="ff8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" name=""/>
                  <p:cNvGrpSpPr/>
                  <p:nvPr/>
                </p:nvGrpSpPr>
                <p:grpSpPr>
                  <a:xfrm>
                    <a:off x="1622520" y="2158920"/>
                    <a:ext cx="149040" cy="177840"/>
                    <a:chOff x="1622520" y="2158920"/>
                    <a:chExt cx="149040" cy="177840"/>
                  </a:xfrm>
                </p:grpSpPr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1622520" y="2158920"/>
                      <a:ext cx="14904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112">
                          <a:moveTo>
                            <a:pt x="66" y="0"/>
                          </a:moveTo>
                          <a:lnTo>
                            <a:pt x="51" y="4"/>
                          </a:lnTo>
                          <a:lnTo>
                            <a:pt x="25" y="15"/>
                          </a:lnTo>
                          <a:lnTo>
                            <a:pt x="8" y="29"/>
                          </a:lnTo>
                          <a:lnTo>
                            <a:pt x="0" y="43"/>
                          </a:lnTo>
                          <a:lnTo>
                            <a:pt x="2" y="53"/>
                          </a:lnTo>
                          <a:lnTo>
                            <a:pt x="8" y="61"/>
                          </a:lnTo>
                          <a:lnTo>
                            <a:pt x="13" y="66"/>
                          </a:lnTo>
                          <a:lnTo>
                            <a:pt x="20" y="72"/>
                          </a:lnTo>
                          <a:lnTo>
                            <a:pt x="26" y="81"/>
                          </a:lnTo>
                          <a:lnTo>
                            <a:pt x="32" y="89"/>
                          </a:lnTo>
                          <a:lnTo>
                            <a:pt x="36" y="97"/>
                          </a:lnTo>
                          <a:lnTo>
                            <a:pt x="40" y="103"/>
                          </a:lnTo>
                          <a:lnTo>
                            <a:pt x="44" y="107"/>
                          </a:lnTo>
                          <a:lnTo>
                            <a:pt x="49" y="110"/>
                          </a:lnTo>
                          <a:lnTo>
                            <a:pt x="54" y="111"/>
                          </a:lnTo>
                          <a:lnTo>
                            <a:pt x="53" y="106"/>
                          </a:lnTo>
                          <a:lnTo>
                            <a:pt x="51" y="102"/>
                          </a:lnTo>
                          <a:lnTo>
                            <a:pt x="53" y="92"/>
                          </a:lnTo>
                          <a:lnTo>
                            <a:pt x="60" y="84"/>
                          </a:lnTo>
                          <a:lnTo>
                            <a:pt x="75" y="77"/>
                          </a:lnTo>
                          <a:lnTo>
                            <a:pt x="88" y="75"/>
                          </a:lnTo>
                          <a:lnTo>
                            <a:pt x="91" y="77"/>
                          </a:lnTo>
                          <a:lnTo>
                            <a:pt x="93" y="74"/>
                          </a:lnTo>
                          <a:lnTo>
                            <a:pt x="93" y="71"/>
                          </a:lnTo>
                          <a:lnTo>
                            <a:pt x="92" y="67"/>
                          </a:lnTo>
                          <a:lnTo>
                            <a:pt x="89" y="63"/>
                          </a:lnTo>
                          <a:lnTo>
                            <a:pt x="84" y="53"/>
                          </a:lnTo>
                          <a:lnTo>
                            <a:pt x="81" y="41"/>
                          </a:lnTo>
                          <a:lnTo>
                            <a:pt x="75" y="23"/>
                          </a:lnTo>
                          <a:lnTo>
                            <a:pt x="69" y="6"/>
                          </a:lnTo>
                          <a:lnTo>
                            <a:pt x="6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1701720" y="2274840"/>
                      <a:ext cx="6660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8">
                          <a:moveTo>
                            <a:pt x="41" y="4"/>
                          </a:moveTo>
                          <a:lnTo>
                            <a:pt x="40" y="2"/>
                          </a:lnTo>
                          <a:lnTo>
                            <a:pt x="37" y="1"/>
                          </a:lnTo>
                          <a:lnTo>
                            <a:pt x="32" y="0"/>
                          </a:lnTo>
                          <a:lnTo>
                            <a:pt x="27" y="0"/>
                          </a:lnTo>
                          <a:lnTo>
                            <a:pt x="22" y="2"/>
                          </a:lnTo>
                          <a:lnTo>
                            <a:pt x="17" y="4"/>
                          </a:lnTo>
                          <a:lnTo>
                            <a:pt x="11" y="8"/>
                          </a:lnTo>
                          <a:lnTo>
                            <a:pt x="7" y="11"/>
                          </a:lnTo>
                          <a:lnTo>
                            <a:pt x="3" y="16"/>
                          </a:lnTo>
                          <a:lnTo>
                            <a:pt x="0" y="21"/>
                          </a:lnTo>
                          <a:lnTo>
                            <a:pt x="0" y="26"/>
                          </a:lnTo>
                          <a:lnTo>
                            <a:pt x="1" y="31"/>
                          </a:lnTo>
                          <a:lnTo>
                            <a:pt x="2" y="33"/>
                          </a:lnTo>
                          <a:lnTo>
                            <a:pt x="5" y="37"/>
                          </a:lnTo>
                          <a:lnTo>
                            <a:pt x="3" y="31"/>
                          </a:lnTo>
                          <a:lnTo>
                            <a:pt x="2" y="25"/>
                          </a:lnTo>
                          <a:lnTo>
                            <a:pt x="5" y="19"/>
                          </a:lnTo>
                          <a:lnTo>
                            <a:pt x="8" y="14"/>
                          </a:lnTo>
                          <a:lnTo>
                            <a:pt x="14" y="10"/>
                          </a:lnTo>
                          <a:lnTo>
                            <a:pt x="21" y="7"/>
                          </a:lnTo>
                          <a:lnTo>
                            <a:pt x="27" y="5"/>
                          </a:lnTo>
                          <a:lnTo>
                            <a:pt x="33" y="4"/>
                          </a:lnTo>
                          <a:lnTo>
                            <a:pt x="41" y="4"/>
                          </a:lnTo>
                        </a:path>
                      </a:pathLst>
                    </a:custGeom>
                    <a:solidFill>
                      <a:srgbClr val="d0d0d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8" name=""/>
                <p:cNvGrpSpPr/>
                <p:nvPr/>
              </p:nvGrpSpPr>
              <p:grpSpPr>
                <a:xfrm>
                  <a:off x="1214280" y="1527120"/>
                  <a:ext cx="519120" cy="720720"/>
                  <a:chOff x="1214280" y="1527120"/>
                  <a:chExt cx="519120" cy="720720"/>
                </a:xfrm>
              </p:grpSpPr>
              <p:sp>
                <p:nvSpPr>
                  <p:cNvPr id="889" name=""/>
                  <p:cNvSpPr/>
                  <p:nvPr/>
                </p:nvSpPr>
                <p:spPr>
                  <a:xfrm>
                    <a:off x="1214280" y="1527120"/>
                    <a:ext cx="519120" cy="714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450">
                        <a:moveTo>
                          <a:pt x="186" y="0"/>
                        </a:moveTo>
                        <a:lnTo>
                          <a:pt x="67" y="74"/>
                        </a:lnTo>
                        <a:lnTo>
                          <a:pt x="42" y="160"/>
                        </a:lnTo>
                        <a:lnTo>
                          <a:pt x="0" y="227"/>
                        </a:lnTo>
                        <a:lnTo>
                          <a:pt x="20" y="279"/>
                        </a:lnTo>
                        <a:lnTo>
                          <a:pt x="32" y="259"/>
                        </a:lnTo>
                        <a:lnTo>
                          <a:pt x="59" y="239"/>
                        </a:lnTo>
                        <a:lnTo>
                          <a:pt x="92" y="232"/>
                        </a:lnTo>
                        <a:lnTo>
                          <a:pt x="104" y="225"/>
                        </a:lnTo>
                        <a:lnTo>
                          <a:pt x="114" y="215"/>
                        </a:lnTo>
                        <a:lnTo>
                          <a:pt x="122" y="234"/>
                        </a:lnTo>
                        <a:lnTo>
                          <a:pt x="144" y="274"/>
                        </a:lnTo>
                        <a:lnTo>
                          <a:pt x="164" y="304"/>
                        </a:lnTo>
                        <a:lnTo>
                          <a:pt x="165" y="308"/>
                        </a:lnTo>
                        <a:lnTo>
                          <a:pt x="168" y="312"/>
                        </a:lnTo>
                        <a:lnTo>
                          <a:pt x="171" y="314"/>
                        </a:lnTo>
                        <a:lnTo>
                          <a:pt x="174" y="319"/>
                        </a:lnTo>
                        <a:lnTo>
                          <a:pt x="178" y="333"/>
                        </a:lnTo>
                        <a:lnTo>
                          <a:pt x="183" y="346"/>
                        </a:lnTo>
                        <a:lnTo>
                          <a:pt x="186" y="345"/>
                        </a:lnTo>
                        <a:lnTo>
                          <a:pt x="188" y="346"/>
                        </a:lnTo>
                        <a:lnTo>
                          <a:pt x="194" y="358"/>
                        </a:lnTo>
                        <a:lnTo>
                          <a:pt x="198" y="373"/>
                        </a:lnTo>
                        <a:lnTo>
                          <a:pt x="202" y="377"/>
                        </a:lnTo>
                        <a:lnTo>
                          <a:pt x="208" y="379"/>
                        </a:lnTo>
                        <a:lnTo>
                          <a:pt x="215" y="381"/>
                        </a:lnTo>
                        <a:lnTo>
                          <a:pt x="216" y="389"/>
                        </a:lnTo>
                        <a:lnTo>
                          <a:pt x="217" y="398"/>
                        </a:lnTo>
                        <a:lnTo>
                          <a:pt x="223" y="404"/>
                        </a:lnTo>
                        <a:lnTo>
                          <a:pt x="230" y="407"/>
                        </a:lnTo>
                        <a:lnTo>
                          <a:pt x="236" y="417"/>
                        </a:lnTo>
                        <a:lnTo>
                          <a:pt x="240" y="425"/>
                        </a:lnTo>
                        <a:lnTo>
                          <a:pt x="241" y="432"/>
                        </a:lnTo>
                        <a:lnTo>
                          <a:pt x="244" y="439"/>
                        </a:lnTo>
                        <a:lnTo>
                          <a:pt x="246" y="446"/>
                        </a:lnTo>
                        <a:lnTo>
                          <a:pt x="252" y="448"/>
                        </a:lnTo>
                        <a:lnTo>
                          <a:pt x="259" y="449"/>
                        </a:lnTo>
                        <a:lnTo>
                          <a:pt x="262" y="432"/>
                        </a:lnTo>
                        <a:lnTo>
                          <a:pt x="275" y="416"/>
                        </a:lnTo>
                        <a:lnTo>
                          <a:pt x="299" y="408"/>
                        </a:lnTo>
                        <a:lnTo>
                          <a:pt x="311" y="403"/>
                        </a:lnTo>
                        <a:lnTo>
                          <a:pt x="326" y="405"/>
                        </a:lnTo>
                        <a:lnTo>
                          <a:pt x="320" y="386"/>
                        </a:lnTo>
                        <a:lnTo>
                          <a:pt x="319" y="375"/>
                        </a:lnTo>
                        <a:lnTo>
                          <a:pt x="317" y="364"/>
                        </a:lnTo>
                        <a:lnTo>
                          <a:pt x="313" y="354"/>
                        </a:lnTo>
                        <a:lnTo>
                          <a:pt x="309" y="348"/>
                        </a:lnTo>
                        <a:lnTo>
                          <a:pt x="292" y="336"/>
                        </a:lnTo>
                        <a:lnTo>
                          <a:pt x="293" y="325"/>
                        </a:lnTo>
                        <a:lnTo>
                          <a:pt x="292" y="316"/>
                        </a:lnTo>
                        <a:lnTo>
                          <a:pt x="289" y="307"/>
                        </a:lnTo>
                        <a:lnTo>
                          <a:pt x="284" y="296"/>
                        </a:lnTo>
                        <a:lnTo>
                          <a:pt x="279" y="290"/>
                        </a:lnTo>
                        <a:lnTo>
                          <a:pt x="272" y="284"/>
                        </a:lnTo>
                        <a:lnTo>
                          <a:pt x="264" y="281"/>
                        </a:lnTo>
                        <a:lnTo>
                          <a:pt x="268" y="276"/>
                        </a:lnTo>
                        <a:lnTo>
                          <a:pt x="270" y="269"/>
                        </a:lnTo>
                        <a:lnTo>
                          <a:pt x="271" y="261"/>
                        </a:lnTo>
                        <a:lnTo>
                          <a:pt x="270" y="254"/>
                        </a:lnTo>
                        <a:lnTo>
                          <a:pt x="267" y="247"/>
                        </a:lnTo>
                        <a:lnTo>
                          <a:pt x="261" y="243"/>
                        </a:lnTo>
                        <a:lnTo>
                          <a:pt x="257" y="239"/>
                        </a:lnTo>
                        <a:lnTo>
                          <a:pt x="256" y="234"/>
                        </a:lnTo>
                        <a:lnTo>
                          <a:pt x="252" y="231"/>
                        </a:lnTo>
                        <a:lnTo>
                          <a:pt x="247" y="230"/>
                        </a:lnTo>
                        <a:lnTo>
                          <a:pt x="246" y="223"/>
                        </a:lnTo>
                        <a:lnTo>
                          <a:pt x="241" y="217"/>
                        </a:lnTo>
                        <a:lnTo>
                          <a:pt x="236" y="216"/>
                        </a:lnTo>
                        <a:lnTo>
                          <a:pt x="231" y="214"/>
                        </a:lnTo>
                        <a:lnTo>
                          <a:pt x="230" y="209"/>
                        </a:lnTo>
                        <a:lnTo>
                          <a:pt x="229" y="205"/>
                        </a:lnTo>
                        <a:lnTo>
                          <a:pt x="230" y="199"/>
                        </a:lnTo>
                        <a:lnTo>
                          <a:pt x="231" y="192"/>
                        </a:lnTo>
                        <a:lnTo>
                          <a:pt x="232" y="184"/>
                        </a:lnTo>
                        <a:lnTo>
                          <a:pt x="233" y="178"/>
                        </a:lnTo>
                        <a:lnTo>
                          <a:pt x="230" y="172"/>
                        </a:lnTo>
                        <a:lnTo>
                          <a:pt x="227" y="167"/>
                        </a:lnTo>
                        <a:lnTo>
                          <a:pt x="223" y="163"/>
                        </a:lnTo>
                        <a:lnTo>
                          <a:pt x="220" y="160"/>
                        </a:lnTo>
                        <a:lnTo>
                          <a:pt x="219" y="153"/>
                        </a:lnTo>
                        <a:lnTo>
                          <a:pt x="219" y="148"/>
                        </a:lnTo>
                        <a:lnTo>
                          <a:pt x="220" y="139"/>
                        </a:lnTo>
                        <a:lnTo>
                          <a:pt x="222" y="133"/>
                        </a:lnTo>
                        <a:lnTo>
                          <a:pt x="216" y="115"/>
                        </a:lnTo>
                        <a:lnTo>
                          <a:pt x="210" y="99"/>
                        </a:lnTo>
                        <a:lnTo>
                          <a:pt x="207" y="78"/>
                        </a:lnTo>
                        <a:lnTo>
                          <a:pt x="203" y="61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a0a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1227240" y="1630440"/>
                    <a:ext cx="506160" cy="617400"/>
                    <a:chOff x="1227240" y="1630440"/>
                    <a:chExt cx="506160" cy="617400"/>
                  </a:xfrm>
                </p:grpSpPr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1227240" y="1630440"/>
                      <a:ext cx="3697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29">
                          <a:moveTo>
                            <a:pt x="148" y="228"/>
                          </a:moveTo>
                          <a:lnTo>
                            <a:pt x="137" y="212"/>
                          </a:lnTo>
                          <a:lnTo>
                            <a:pt x="128" y="197"/>
                          </a:lnTo>
                          <a:lnTo>
                            <a:pt x="120" y="182"/>
                          </a:lnTo>
                          <a:lnTo>
                            <a:pt x="111" y="164"/>
                          </a:lnTo>
                          <a:lnTo>
                            <a:pt x="107" y="152"/>
                          </a:lnTo>
                          <a:lnTo>
                            <a:pt x="98" y="160"/>
                          </a:lnTo>
                          <a:lnTo>
                            <a:pt x="91" y="166"/>
                          </a:lnTo>
                          <a:lnTo>
                            <a:pt x="81" y="170"/>
                          </a:lnTo>
                          <a:lnTo>
                            <a:pt x="67" y="173"/>
                          </a:lnTo>
                          <a:lnTo>
                            <a:pt x="54" y="177"/>
                          </a:lnTo>
                          <a:lnTo>
                            <a:pt x="46" y="180"/>
                          </a:lnTo>
                          <a:lnTo>
                            <a:pt x="37" y="187"/>
                          </a:lnTo>
                          <a:lnTo>
                            <a:pt x="28" y="193"/>
                          </a:lnTo>
                          <a:lnTo>
                            <a:pt x="19" y="204"/>
                          </a:lnTo>
                          <a:lnTo>
                            <a:pt x="13" y="214"/>
                          </a:lnTo>
                          <a:lnTo>
                            <a:pt x="8" y="228"/>
                          </a:lnTo>
                          <a:lnTo>
                            <a:pt x="5" y="215"/>
                          </a:lnTo>
                          <a:lnTo>
                            <a:pt x="0" y="133"/>
                          </a:lnTo>
                          <a:lnTo>
                            <a:pt x="35" y="113"/>
                          </a:lnTo>
                          <a:lnTo>
                            <a:pt x="54" y="88"/>
                          </a:lnTo>
                          <a:lnTo>
                            <a:pt x="69" y="49"/>
                          </a:lnTo>
                          <a:lnTo>
                            <a:pt x="80" y="0"/>
                          </a:lnTo>
                          <a:lnTo>
                            <a:pt x="132" y="5"/>
                          </a:lnTo>
                          <a:lnTo>
                            <a:pt x="143" y="29"/>
                          </a:lnTo>
                          <a:lnTo>
                            <a:pt x="148" y="47"/>
                          </a:lnTo>
                          <a:lnTo>
                            <a:pt x="150" y="68"/>
                          </a:lnTo>
                          <a:lnTo>
                            <a:pt x="148" y="86"/>
                          </a:lnTo>
                          <a:lnTo>
                            <a:pt x="133" y="118"/>
                          </a:lnTo>
                          <a:lnTo>
                            <a:pt x="121" y="133"/>
                          </a:lnTo>
                          <a:lnTo>
                            <a:pt x="146" y="113"/>
                          </a:lnTo>
                          <a:lnTo>
                            <a:pt x="167" y="100"/>
                          </a:lnTo>
                          <a:lnTo>
                            <a:pt x="186" y="88"/>
                          </a:lnTo>
                          <a:lnTo>
                            <a:pt x="210" y="73"/>
                          </a:lnTo>
                          <a:lnTo>
                            <a:pt x="184" y="95"/>
                          </a:lnTo>
                          <a:lnTo>
                            <a:pt x="171" y="111"/>
                          </a:lnTo>
                          <a:lnTo>
                            <a:pt x="165" y="121"/>
                          </a:lnTo>
                          <a:lnTo>
                            <a:pt x="166" y="127"/>
                          </a:lnTo>
                          <a:lnTo>
                            <a:pt x="168" y="132"/>
                          </a:lnTo>
                          <a:lnTo>
                            <a:pt x="174" y="134"/>
                          </a:lnTo>
                          <a:lnTo>
                            <a:pt x="180" y="135"/>
                          </a:lnTo>
                          <a:lnTo>
                            <a:pt x="189" y="133"/>
                          </a:lnTo>
                          <a:lnTo>
                            <a:pt x="212" y="118"/>
                          </a:lnTo>
                          <a:lnTo>
                            <a:pt x="204" y="131"/>
                          </a:lnTo>
                          <a:lnTo>
                            <a:pt x="197" y="139"/>
                          </a:lnTo>
                          <a:lnTo>
                            <a:pt x="189" y="149"/>
                          </a:lnTo>
                          <a:lnTo>
                            <a:pt x="180" y="157"/>
                          </a:lnTo>
                          <a:lnTo>
                            <a:pt x="166" y="167"/>
                          </a:lnTo>
                          <a:lnTo>
                            <a:pt x="177" y="163"/>
                          </a:lnTo>
                          <a:lnTo>
                            <a:pt x="188" y="162"/>
                          </a:lnTo>
                          <a:lnTo>
                            <a:pt x="202" y="161"/>
                          </a:lnTo>
                          <a:lnTo>
                            <a:pt x="216" y="163"/>
                          </a:lnTo>
                          <a:lnTo>
                            <a:pt x="229" y="165"/>
                          </a:lnTo>
                          <a:lnTo>
                            <a:pt x="214" y="169"/>
                          </a:lnTo>
                          <a:lnTo>
                            <a:pt x="202" y="174"/>
                          </a:lnTo>
                          <a:lnTo>
                            <a:pt x="192" y="178"/>
                          </a:lnTo>
                          <a:lnTo>
                            <a:pt x="183" y="185"/>
                          </a:lnTo>
                          <a:lnTo>
                            <a:pt x="199" y="182"/>
                          </a:lnTo>
                          <a:lnTo>
                            <a:pt x="209" y="182"/>
                          </a:lnTo>
                          <a:lnTo>
                            <a:pt x="221" y="184"/>
                          </a:lnTo>
                          <a:lnTo>
                            <a:pt x="232" y="187"/>
                          </a:lnTo>
                          <a:lnTo>
                            <a:pt x="210" y="192"/>
                          </a:lnTo>
                          <a:lnTo>
                            <a:pt x="190" y="198"/>
                          </a:lnTo>
                          <a:lnTo>
                            <a:pt x="175" y="204"/>
                          </a:lnTo>
                          <a:lnTo>
                            <a:pt x="164" y="212"/>
                          </a:lnTo>
                          <a:lnTo>
                            <a:pt x="154" y="220"/>
                          </a:lnTo>
                          <a:lnTo>
                            <a:pt x="148" y="228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1562040" y="2084400"/>
                      <a:ext cx="15732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60">
                          <a:moveTo>
                            <a:pt x="98" y="14"/>
                          </a:moveTo>
                          <a:lnTo>
                            <a:pt x="87" y="15"/>
                          </a:lnTo>
                          <a:lnTo>
                            <a:pt x="74" y="16"/>
                          </a:lnTo>
                          <a:lnTo>
                            <a:pt x="60" y="20"/>
                          </a:lnTo>
                          <a:lnTo>
                            <a:pt x="51" y="24"/>
                          </a:lnTo>
                          <a:lnTo>
                            <a:pt x="40" y="31"/>
                          </a:lnTo>
                          <a:lnTo>
                            <a:pt x="29" y="40"/>
                          </a:lnTo>
                          <a:lnTo>
                            <a:pt x="21" y="49"/>
                          </a:lnTo>
                          <a:lnTo>
                            <a:pt x="13" y="59"/>
                          </a:lnTo>
                          <a:lnTo>
                            <a:pt x="10" y="57"/>
                          </a:lnTo>
                          <a:lnTo>
                            <a:pt x="5" y="55"/>
                          </a:lnTo>
                          <a:lnTo>
                            <a:pt x="0" y="49"/>
                          </a:lnTo>
                          <a:lnTo>
                            <a:pt x="3" y="44"/>
                          </a:lnTo>
                          <a:lnTo>
                            <a:pt x="14" y="37"/>
                          </a:lnTo>
                          <a:lnTo>
                            <a:pt x="23" y="30"/>
                          </a:lnTo>
                          <a:lnTo>
                            <a:pt x="29" y="24"/>
                          </a:lnTo>
                          <a:lnTo>
                            <a:pt x="41" y="16"/>
                          </a:lnTo>
                          <a:lnTo>
                            <a:pt x="54" y="9"/>
                          </a:lnTo>
                          <a:lnTo>
                            <a:pt x="68" y="4"/>
                          </a:lnTo>
                          <a:lnTo>
                            <a:pt x="80" y="1"/>
                          </a:lnTo>
                          <a:lnTo>
                            <a:pt x="92" y="0"/>
                          </a:lnTo>
                          <a:lnTo>
                            <a:pt x="94" y="3"/>
                          </a:lnTo>
                          <a:lnTo>
                            <a:pt x="97" y="8"/>
                          </a:lnTo>
                          <a:lnTo>
                            <a:pt x="98" y="14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1523880" y="2063880"/>
                      <a:ext cx="12384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1">
                          <a:moveTo>
                            <a:pt x="77" y="3"/>
                          </a:moveTo>
                          <a:lnTo>
                            <a:pt x="64" y="7"/>
                          </a:lnTo>
                          <a:lnTo>
                            <a:pt x="51" y="12"/>
                          </a:lnTo>
                          <a:lnTo>
                            <a:pt x="41" y="17"/>
                          </a:lnTo>
                          <a:lnTo>
                            <a:pt x="30" y="24"/>
                          </a:lnTo>
                          <a:lnTo>
                            <a:pt x="21" y="31"/>
                          </a:lnTo>
                          <a:lnTo>
                            <a:pt x="12" y="40"/>
                          </a:lnTo>
                          <a:lnTo>
                            <a:pt x="7" y="39"/>
                          </a:lnTo>
                          <a:lnTo>
                            <a:pt x="2" y="35"/>
                          </a:lnTo>
                          <a:lnTo>
                            <a:pt x="0" y="31"/>
                          </a:lnTo>
                          <a:lnTo>
                            <a:pt x="0" y="25"/>
                          </a:lnTo>
                          <a:lnTo>
                            <a:pt x="5" y="21"/>
                          </a:lnTo>
                          <a:lnTo>
                            <a:pt x="11" y="20"/>
                          </a:lnTo>
                          <a:lnTo>
                            <a:pt x="18" y="18"/>
                          </a:lnTo>
                          <a:lnTo>
                            <a:pt x="26" y="16"/>
                          </a:lnTo>
                          <a:lnTo>
                            <a:pt x="32" y="11"/>
                          </a:lnTo>
                          <a:lnTo>
                            <a:pt x="39" y="6"/>
                          </a:lnTo>
                          <a:lnTo>
                            <a:pt x="48" y="2"/>
                          </a:lnTo>
                          <a:lnTo>
                            <a:pt x="56" y="1"/>
                          </a:lnTo>
                          <a:lnTo>
                            <a:pt x="62" y="0"/>
                          </a:lnTo>
                          <a:lnTo>
                            <a:pt x="70" y="1"/>
                          </a:lnTo>
                          <a:lnTo>
                            <a:pt x="77" y="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1498680" y="1992240"/>
                      <a:ext cx="17280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52">
                          <a:moveTo>
                            <a:pt x="108" y="23"/>
                          </a:moveTo>
                          <a:lnTo>
                            <a:pt x="101" y="20"/>
                          </a:lnTo>
                          <a:lnTo>
                            <a:pt x="94" y="17"/>
                          </a:lnTo>
                          <a:lnTo>
                            <a:pt x="83" y="13"/>
                          </a:lnTo>
                          <a:lnTo>
                            <a:pt x="74" y="15"/>
                          </a:lnTo>
                          <a:lnTo>
                            <a:pt x="64" y="20"/>
                          </a:lnTo>
                          <a:lnTo>
                            <a:pt x="55" y="26"/>
                          </a:lnTo>
                          <a:lnTo>
                            <a:pt x="41" y="33"/>
                          </a:lnTo>
                          <a:lnTo>
                            <a:pt x="28" y="42"/>
                          </a:lnTo>
                          <a:lnTo>
                            <a:pt x="15" y="51"/>
                          </a:lnTo>
                          <a:lnTo>
                            <a:pt x="12" y="49"/>
                          </a:lnTo>
                          <a:lnTo>
                            <a:pt x="7" y="49"/>
                          </a:lnTo>
                          <a:lnTo>
                            <a:pt x="3" y="50"/>
                          </a:lnTo>
                          <a:lnTo>
                            <a:pt x="0" y="38"/>
                          </a:lnTo>
                          <a:lnTo>
                            <a:pt x="25" y="22"/>
                          </a:lnTo>
                          <a:lnTo>
                            <a:pt x="43" y="13"/>
                          </a:lnTo>
                          <a:lnTo>
                            <a:pt x="55" y="7"/>
                          </a:lnTo>
                          <a:lnTo>
                            <a:pt x="65" y="2"/>
                          </a:lnTo>
                          <a:lnTo>
                            <a:pt x="75" y="0"/>
                          </a:lnTo>
                          <a:lnTo>
                            <a:pt x="84" y="1"/>
                          </a:lnTo>
                          <a:lnTo>
                            <a:pt x="92" y="5"/>
                          </a:lnTo>
                          <a:lnTo>
                            <a:pt x="101" y="13"/>
                          </a:lnTo>
                          <a:lnTo>
                            <a:pt x="108" y="23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1528920" y="1927080"/>
                      <a:ext cx="1141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8">
                          <a:moveTo>
                            <a:pt x="71" y="7"/>
                          </a:moveTo>
                          <a:lnTo>
                            <a:pt x="70" y="16"/>
                          </a:lnTo>
                          <a:lnTo>
                            <a:pt x="68" y="22"/>
                          </a:lnTo>
                          <a:lnTo>
                            <a:pt x="65" y="27"/>
                          </a:lnTo>
                          <a:lnTo>
                            <a:pt x="59" y="29"/>
                          </a:lnTo>
                          <a:lnTo>
                            <a:pt x="34" y="27"/>
                          </a:lnTo>
                          <a:lnTo>
                            <a:pt x="25" y="35"/>
                          </a:lnTo>
                          <a:lnTo>
                            <a:pt x="13" y="41"/>
                          </a:lnTo>
                          <a:lnTo>
                            <a:pt x="0" y="47"/>
                          </a:lnTo>
                          <a:lnTo>
                            <a:pt x="9" y="36"/>
                          </a:lnTo>
                          <a:lnTo>
                            <a:pt x="19" y="27"/>
                          </a:lnTo>
                          <a:lnTo>
                            <a:pt x="29" y="18"/>
                          </a:lnTo>
                          <a:lnTo>
                            <a:pt x="42" y="12"/>
                          </a:lnTo>
                          <a:lnTo>
                            <a:pt x="51" y="5"/>
                          </a:lnTo>
                          <a:lnTo>
                            <a:pt x="57" y="1"/>
                          </a:lnTo>
                          <a:lnTo>
                            <a:pt x="64" y="0"/>
                          </a:lnTo>
                          <a:lnTo>
                            <a:pt x="69" y="2"/>
                          </a:lnTo>
                          <a:lnTo>
                            <a:pt x="71" y="7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1619280" y="2165400"/>
                      <a:ext cx="11412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52">
                          <a:moveTo>
                            <a:pt x="71" y="2"/>
                          </a:moveTo>
                          <a:lnTo>
                            <a:pt x="64" y="2"/>
                          </a:lnTo>
                          <a:lnTo>
                            <a:pt x="56" y="4"/>
                          </a:lnTo>
                          <a:lnTo>
                            <a:pt x="46" y="7"/>
                          </a:lnTo>
                          <a:lnTo>
                            <a:pt x="38" y="11"/>
                          </a:lnTo>
                          <a:lnTo>
                            <a:pt x="25" y="16"/>
                          </a:lnTo>
                          <a:lnTo>
                            <a:pt x="18" y="20"/>
                          </a:lnTo>
                          <a:lnTo>
                            <a:pt x="12" y="26"/>
                          </a:lnTo>
                          <a:lnTo>
                            <a:pt x="8" y="32"/>
                          </a:lnTo>
                          <a:lnTo>
                            <a:pt x="7" y="38"/>
                          </a:lnTo>
                          <a:lnTo>
                            <a:pt x="5" y="47"/>
                          </a:lnTo>
                          <a:lnTo>
                            <a:pt x="6" y="51"/>
                          </a:lnTo>
                          <a:lnTo>
                            <a:pt x="2" y="46"/>
                          </a:lnTo>
                          <a:lnTo>
                            <a:pt x="0" y="38"/>
                          </a:lnTo>
                          <a:lnTo>
                            <a:pt x="1" y="31"/>
                          </a:lnTo>
                          <a:lnTo>
                            <a:pt x="5" y="23"/>
                          </a:lnTo>
                          <a:lnTo>
                            <a:pt x="11" y="17"/>
                          </a:lnTo>
                          <a:lnTo>
                            <a:pt x="20" y="11"/>
                          </a:lnTo>
                          <a:lnTo>
                            <a:pt x="32" y="5"/>
                          </a:lnTo>
                          <a:lnTo>
                            <a:pt x="45" y="1"/>
                          </a:lnTo>
                          <a:lnTo>
                            <a:pt x="53" y="0"/>
                          </a:lnTo>
                          <a:lnTo>
                            <a:pt x="63" y="0"/>
                          </a:lnTo>
                          <a:lnTo>
                            <a:pt x="71" y="2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1424160" y="1668600"/>
                      <a:ext cx="12204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" h="108">
                          <a:moveTo>
                            <a:pt x="76" y="0"/>
                          </a:moveTo>
                          <a:lnTo>
                            <a:pt x="59" y="17"/>
                          </a:lnTo>
                          <a:lnTo>
                            <a:pt x="45" y="37"/>
                          </a:lnTo>
                          <a:lnTo>
                            <a:pt x="32" y="63"/>
                          </a:lnTo>
                          <a:lnTo>
                            <a:pt x="0" y="105"/>
                          </a:lnTo>
                          <a:lnTo>
                            <a:pt x="0" y="107"/>
                          </a:lnTo>
                          <a:lnTo>
                            <a:pt x="18" y="91"/>
                          </a:lnTo>
                          <a:lnTo>
                            <a:pt x="31" y="77"/>
                          </a:lnTo>
                          <a:lnTo>
                            <a:pt x="46" y="61"/>
                          </a:lnTo>
                          <a:lnTo>
                            <a:pt x="59" y="39"/>
                          </a:lnTo>
                          <a:lnTo>
                            <a:pt x="67" y="21"/>
                          </a:lnTo>
                          <a:lnTo>
                            <a:pt x="76" y="0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1555920" y="2075040"/>
                      <a:ext cx="12672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3">
                          <a:moveTo>
                            <a:pt x="0" y="38"/>
                          </a:moveTo>
                          <a:lnTo>
                            <a:pt x="12" y="23"/>
                          </a:lnTo>
                          <a:lnTo>
                            <a:pt x="21" y="15"/>
                          </a:lnTo>
                          <a:lnTo>
                            <a:pt x="35" y="7"/>
                          </a:lnTo>
                          <a:lnTo>
                            <a:pt x="47" y="3"/>
                          </a:lnTo>
                          <a:lnTo>
                            <a:pt x="61" y="1"/>
                          </a:lnTo>
                          <a:lnTo>
                            <a:pt x="70" y="0"/>
                          </a:lnTo>
                          <a:lnTo>
                            <a:pt x="76" y="1"/>
                          </a:lnTo>
                          <a:lnTo>
                            <a:pt x="79" y="3"/>
                          </a:lnTo>
                          <a:lnTo>
                            <a:pt x="78" y="7"/>
                          </a:lnTo>
                          <a:lnTo>
                            <a:pt x="74" y="10"/>
                          </a:lnTo>
                          <a:lnTo>
                            <a:pt x="61" y="16"/>
                          </a:lnTo>
                          <a:lnTo>
                            <a:pt x="49" y="24"/>
                          </a:lnTo>
                          <a:lnTo>
                            <a:pt x="34" y="34"/>
                          </a:lnTo>
                          <a:lnTo>
                            <a:pt x="24" y="43"/>
                          </a:lnTo>
                          <a:lnTo>
                            <a:pt x="16" y="53"/>
                          </a:lnTo>
                          <a:lnTo>
                            <a:pt x="9" y="62"/>
                          </a:lnTo>
                          <a:lnTo>
                            <a:pt x="6" y="57"/>
                          </a:lnTo>
                          <a:lnTo>
                            <a:pt x="2" y="53"/>
                          </a:lnTo>
                          <a:lnTo>
                            <a:pt x="0" y="48"/>
                          </a:lnTo>
                          <a:lnTo>
                            <a:pt x="0" y="44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1514520" y="2033640"/>
                      <a:ext cx="1411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47">
                          <a:moveTo>
                            <a:pt x="88" y="15"/>
                          </a:moveTo>
                          <a:lnTo>
                            <a:pt x="78" y="13"/>
                          </a:lnTo>
                          <a:lnTo>
                            <a:pt x="68" y="15"/>
                          </a:lnTo>
                          <a:lnTo>
                            <a:pt x="57" y="17"/>
                          </a:lnTo>
                          <a:lnTo>
                            <a:pt x="47" y="21"/>
                          </a:lnTo>
                          <a:lnTo>
                            <a:pt x="38" y="25"/>
                          </a:lnTo>
                          <a:lnTo>
                            <a:pt x="28" y="33"/>
                          </a:lnTo>
                          <a:lnTo>
                            <a:pt x="25" y="38"/>
                          </a:lnTo>
                          <a:lnTo>
                            <a:pt x="19" y="42"/>
                          </a:lnTo>
                          <a:lnTo>
                            <a:pt x="13" y="45"/>
                          </a:lnTo>
                          <a:lnTo>
                            <a:pt x="7" y="46"/>
                          </a:lnTo>
                          <a:lnTo>
                            <a:pt x="3" y="40"/>
                          </a:lnTo>
                          <a:lnTo>
                            <a:pt x="1" y="34"/>
                          </a:lnTo>
                          <a:lnTo>
                            <a:pt x="0" y="27"/>
                          </a:lnTo>
                          <a:lnTo>
                            <a:pt x="22" y="12"/>
                          </a:lnTo>
                          <a:lnTo>
                            <a:pt x="34" y="6"/>
                          </a:lnTo>
                          <a:lnTo>
                            <a:pt x="47" y="2"/>
                          </a:lnTo>
                          <a:lnTo>
                            <a:pt x="58" y="0"/>
                          </a:lnTo>
                          <a:lnTo>
                            <a:pt x="65" y="1"/>
                          </a:lnTo>
                          <a:lnTo>
                            <a:pt x="73" y="4"/>
                          </a:lnTo>
                          <a:lnTo>
                            <a:pt x="80" y="8"/>
                          </a:lnTo>
                          <a:lnTo>
                            <a:pt x="88" y="15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1490760" y="1920960"/>
                      <a:ext cx="17280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94">
                          <a:moveTo>
                            <a:pt x="108" y="51"/>
                          </a:moveTo>
                          <a:lnTo>
                            <a:pt x="97" y="50"/>
                          </a:lnTo>
                          <a:lnTo>
                            <a:pt x="87" y="51"/>
                          </a:lnTo>
                          <a:lnTo>
                            <a:pt x="73" y="52"/>
                          </a:lnTo>
                          <a:lnTo>
                            <a:pt x="59" y="56"/>
                          </a:lnTo>
                          <a:lnTo>
                            <a:pt x="46" y="62"/>
                          </a:lnTo>
                          <a:lnTo>
                            <a:pt x="32" y="69"/>
                          </a:lnTo>
                          <a:lnTo>
                            <a:pt x="21" y="75"/>
                          </a:lnTo>
                          <a:lnTo>
                            <a:pt x="13" y="84"/>
                          </a:lnTo>
                          <a:lnTo>
                            <a:pt x="7" y="93"/>
                          </a:lnTo>
                          <a:lnTo>
                            <a:pt x="3" y="81"/>
                          </a:lnTo>
                          <a:lnTo>
                            <a:pt x="0" y="70"/>
                          </a:lnTo>
                          <a:lnTo>
                            <a:pt x="0" y="61"/>
                          </a:lnTo>
                          <a:lnTo>
                            <a:pt x="2" y="53"/>
                          </a:lnTo>
                          <a:lnTo>
                            <a:pt x="7" y="46"/>
                          </a:lnTo>
                          <a:lnTo>
                            <a:pt x="5" y="38"/>
                          </a:lnTo>
                          <a:lnTo>
                            <a:pt x="6" y="29"/>
                          </a:lnTo>
                          <a:lnTo>
                            <a:pt x="17" y="24"/>
                          </a:lnTo>
                          <a:lnTo>
                            <a:pt x="29" y="21"/>
                          </a:lnTo>
                          <a:lnTo>
                            <a:pt x="43" y="17"/>
                          </a:lnTo>
                          <a:lnTo>
                            <a:pt x="55" y="12"/>
                          </a:lnTo>
                          <a:lnTo>
                            <a:pt x="69" y="5"/>
                          </a:lnTo>
                          <a:lnTo>
                            <a:pt x="79" y="2"/>
                          </a:lnTo>
                          <a:lnTo>
                            <a:pt x="84" y="0"/>
                          </a:lnTo>
                          <a:lnTo>
                            <a:pt x="88" y="2"/>
                          </a:lnTo>
                          <a:lnTo>
                            <a:pt x="92" y="5"/>
                          </a:lnTo>
                          <a:lnTo>
                            <a:pt x="93" y="9"/>
                          </a:lnTo>
                          <a:lnTo>
                            <a:pt x="93" y="14"/>
                          </a:lnTo>
                          <a:lnTo>
                            <a:pt x="91" y="19"/>
                          </a:lnTo>
                          <a:lnTo>
                            <a:pt x="81" y="22"/>
                          </a:lnTo>
                          <a:lnTo>
                            <a:pt x="69" y="24"/>
                          </a:lnTo>
                          <a:lnTo>
                            <a:pt x="49" y="29"/>
                          </a:lnTo>
                          <a:lnTo>
                            <a:pt x="36" y="31"/>
                          </a:lnTo>
                          <a:lnTo>
                            <a:pt x="20" y="34"/>
                          </a:lnTo>
                          <a:lnTo>
                            <a:pt x="34" y="35"/>
                          </a:lnTo>
                          <a:lnTo>
                            <a:pt x="50" y="36"/>
                          </a:lnTo>
                          <a:lnTo>
                            <a:pt x="65" y="38"/>
                          </a:lnTo>
                          <a:lnTo>
                            <a:pt x="78" y="41"/>
                          </a:lnTo>
                          <a:lnTo>
                            <a:pt x="93" y="45"/>
                          </a:lnTo>
                          <a:lnTo>
                            <a:pt x="108" y="51"/>
                          </a:lnTo>
                        </a:path>
                      </a:pathLst>
                    </a:custGeom>
                    <a:solidFill>
                      <a:srgbClr val="c0c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01" name=""/>
              <p:cNvSpPr/>
              <p:nvPr/>
            </p:nvSpPr>
            <p:spPr>
              <a:xfrm>
                <a:off x="1233360" y="1609560"/>
                <a:ext cx="212760" cy="228600"/>
              </a:xfrm>
              <a:custGeom>
                <a:avLst/>
                <a:gdLst/>
                <a:ahLst/>
                <a:rect l="l" t="t" r="r" b="b"/>
                <a:pathLst>
                  <a:path w="134" h="144">
                    <a:moveTo>
                      <a:pt x="133" y="49"/>
                    </a:moveTo>
                    <a:lnTo>
                      <a:pt x="131" y="33"/>
                    </a:lnTo>
                    <a:lnTo>
                      <a:pt x="128" y="22"/>
                    </a:lnTo>
                    <a:lnTo>
                      <a:pt x="107" y="0"/>
                    </a:lnTo>
                    <a:lnTo>
                      <a:pt x="50" y="47"/>
                    </a:lnTo>
                    <a:lnTo>
                      <a:pt x="37" y="65"/>
                    </a:lnTo>
                    <a:lnTo>
                      <a:pt x="28" y="81"/>
                    </a:lnTo>
                    <a:lnTo>
                      <a:pt x="3" y="101"/>
                    </a:lnTo>
                    <a:lnTo>
                      <a:pt x="0" y="143"/>
                    </a:lnTo>
                    <a:lnTo>
                      <a:pt x="13" y="139"/>
                    </a:lnTo>
                    <a:lnTo>
                      <a:pt x="23" y="134"/>
                    </a:lnTo>
                    <a:lnTo>
                      <a:pt x="33" y="127"/>
                    </a:lnTo>
                    <a:lnTo>
                      <a:pt x="41" y="119"/>
                    </a:lnTo>
                    <a:lnTo>
                      <a:pt x="47" y="108"/>
                    </a:lnTo>
                    <a:lnTo>
                      <a:pt x="55" y="95"/>
                    </a:lnTo>
                    <a:lnTo>
                      <a:pt x="60" y="82"/>
                    </a:lnTo>
                    <a:lnTo>
                      <a:pt x="66" y="64"/>
                    </a:lnTo>
                    <a:lnTo>
                      <a:pt x="70" y="47"/>
                    </a:lnTo>
                    <a:lnTo>
                      <a:pt x="104" y="44"/>
                    </a:lnTo>
                    <a:lnTo>
                      <a:pt x="127" y="45"/>
                    </a:lnTo>
                    <a:lnTo>
                      <a:pt x="133" y="4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1109520" y="1484280"/>
              <a:ext cx="281160" cy="279360"/>
              <a:chOff x="1109520" y="1484280"/>
              <a:chExt cx="281160" cy="279360"/>
            </a:xfrm>
          </p:grpSpPr>
          <p:sp>
            <p:nvSpPr>
              <p:cNvPr id="903" name=""/>
              <p:cNvSpPr/>
              <p:nvPr/>
            </p:nvSpPr>
            <p:spPr>
              <a:xfrm>
                <a:off x="1109520" y="1484280"/>
                <a:ext cx="281160" cy="276120"/>
              </a:xfrm>
              <a:custGeom>
                <a:avLst/>
                <a:gdLst/>
                <a:ahLst/>
                <a:rect l="l" t="t" r="r" b="b"/>
                <a:pathLst>
                  <a:path w="177" h="174">
                    <a:moveTo>
                      <a:pt x="84" y="173"/>
                    </a:moveTo>
                    <a:lnTo>
                      <a:pt x="101" y="163"/>
                    </a:lnTo>
                    <a:lnTo>
                      <a:pt x="113" y="146"/>
                    </a:lnTo>
                    <a:lnTo>
                      <a:pt x="118" y="134"/>
                    </a:lnTo>
                    <a:lnTo>
                      <a:pt x="126" y="133"/>
                    </a:lnTo>
                    <a:lnTo>
                      <a:pt x="136" y="131"/>
                    </a:lnTo>
                    <a:lnTo>
                      <a:pt x="152" y="125"/>
                    </a:lnTo>
                    <a:lnTo>
                      <a:pt x="164" y="117"/>
                    </a:lnTo>
                    <a:lnTo>
                      <a:pt x="176" y="109"/>
                    </a:lnTo>
                    <a:lnTo>
                      <a:pt x="171" y="106"/>
                    </a:lnTo>
                    <a:lnTo>
                      <a:pt x="158" y="91"/>
                    </a:lnTo>
                    <a:lnTo>
                      <a:pt x="147" y="78"/>
                    </a:lnTo>
                    <a:lnTo>
                      <a:pt x="136" y="63"/>
                    </a:lnTo>
                    <a:lnTo>
                      <a:pt x="123" y="44"/>
                    </a:lnTo>
                    <a:lnTo>
                      <a:pt x="117" y="29"/>
                    </a:lnTo>
                    <a:lnTo>
                      <a:pt x="111" y="0"/>
                    </a:lnTo>
                    <a:lnTo>
                      <a:pt x="0" y="17"/>
                    </a:lnTo>
                    <a:lnTo>
                      <a:pt x="84" y="17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222200" y="1577880"/>
                <a:ext cx="103320" cy="185760"/>
              </a:xfrm>
              <a:custGeom>
                <a:avLst/>
                <a:gdLst/>
                <a:ahLst/>
                <a:rect l="l" t="t" r="r" b="b"/>
                <a:pathLst>
                  <a:path w="65" h="117">
                    <a:moveTo>
                      <a:pt x="16" y="113"/>
                    </a:moveTo>
                    <a:lnTo>
                      <a:pt x="9" y="116"/>
                    </a:lnTo>
                    <a:lnTo>
                      <a:pt x="15" y="105"/>
                    </a:lnTo>
                    <a:lnTo>
                      <a:pt x="17" y="97"/>
                    </a:lnTo>
                    <a:lnTo>
                      <a:pt x="18" y="85"/>
                    </a:lnTo>
                    <a:lnTo>
                      <a:pt x="17" y="72"/>
                    </a:lnTo>
                    <a:lnTo>
                      <a:pt x="15" y="58"/>
                    </a:lnTo>
                    <a:lnTo>
                      <a:pt x="13" y="45"/>
                    </a:lnTo>
                    <a:lnTo>
                      <a:pt x="9" y="34"/>
                    </a:lnTo>
                    <a:lnTo>
                      <a:pt x="5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0" y="13"/>
                    </a:lnTo>
                    <a:lnTo>
                      <a:pt x="17" y="23"/>
                    </a:lnTo>
                    <a:lnTo>
                      <a:pt x="23" y="32"/>
                    </a:lnTo>
                    <a:lnTo>
                      <a:pt x="30" y="42"/>
                    </a:lnTo>
                    <a:lnTo>
                      <a:pt x="38" y="48"/>
                    </a:lnTo>
                    <a:lnTo>
                      <a:pt x="46" y="55"/>
                    </a:lnTo>
                    <a:lnTo>
                      <a:pt x="55" y="63"/>
                    </a:lnTo>
                    <a:lnTo>
                      <a:pt x="64" y="72"/>
                    </a:lnTo>
                    <a:lnTo>
                      <a:pt x="52" y="75"/>
                    </a:lnTo>
                    <a:lnTo>
                      <a:pt x="49" y="81"/>
                    </a:lnTo>
                    <a:lnTo>
                      <a:pt x="45" y="87"/>
                    </a:lnTo>
                    <a:lnTo>
                      <a:pt x="40" y="94"/>
                    </a:lnTo>
                    <a:lnTo>
                      <a:pt x="35" y="99"/>
                    </a:lnTo>
                    <a:lnTo>
                      <a:pt x="30" y="104"/>
                    </a:lnTo>
                    <a:lnTo>
                      <a:pt x="23" y="109"/>
                    </a:lnTo>
                    <a:lnTo>
                      <a:pt x="16" y="113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257480" y="1554120"/>
                <a:ext cx="74520" cy="13968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0" y="47"/>
                    </a:moveTo>
                    <a:lnTo>
                      <a:pt x="6" y="47"/>
                    </a:lnTo>
                    <a:lnTo>
                      <a:pt x="13" y="45"/>
                    </a:lnTo>
                    <a:lnTo>
                      <a:pt x="14" y="39"/>
                    </a:lnTo>
                    <a:lnTo>
                      <a:pt x="13" y="31"/>
                    </a:lnTo>
                    <a:lnTo>
                      <a:pt x="12" y="21"/>
                    </a:lnTo>
                    <a:lnTo>
                      <a:pt x="10" y="13"/>
                    </a:lnTo>
                    <a:lnTo>
                      <a:pt x="9" y="6"/>
                    </a:lnTo>
                    <a:lnTo>
                      <a:pt x="7" y="0"/>
                    </a:lnTo>
                    <a:lnTo>
                      <a:pt x="13" y="2"/>
                    </a:lnTo>
                    <a:lnTo>
                      <a:pt x="17" y="5"/>
                    </a:lnTo>
                    <a:lnTo>
                      <a:pt x="22" y="10"/>
                    </a:lnTo>
                    <a:lnTo>
                      <a:pt x="25" y="15"/>
                    </a:lnTo>
                    <a:lnTo>
                      <a:pt x="27" y="21"/>
                    </a:lnTo>
                    <a:lnTo>
                      <a:pt x="27" y="29"/>
                    </a:lnTo>
                    <a:lnTo>
                      <a:pt x="33" y="34"/>
                    </a:lnTo>
                    <a:lnTo>
                      <a:pt x="37" y="42"/>
                    </a:lnTo>
                    <a:lnTo>
                      <a:pt x="42" y="51"/>
                    </a:lnTo>
                    <a:lnTo>
                      <a:pt x="44" y="63"/>
                    </a:lnTo>
                    <a:lnTo>
                      <a:pt x="45" y="76"/>
                    </a:lnTo>
                    <a:lnTo>
                      <a:pt x="46" y="86"/>
                    </a:lnTo>
                    <a:lnTo>
                      <a:pt x="42" y="87"/>
                    </a:lnTo>
                    <a:lnTo>
                      <a:pt x="7" y="58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817560" y="1436760"/>
              <a:ext cx="446040" cy="730080"/>
              <a:chOff x="817560" y="1436760"/>
              <a:chExt cx="446040" cy="730080"/>
            </a:xfrm>
          </p:grpSpPr>
          <p:sp>
            <p:nvSpPr>
              <p:cNvPr id="907" name=""/>
              <p:cNvSpPr/>
              <p:nvPr/>
            </p:nvSpPr>
            <p:spPr>
              <a:xfrm>
                <a:off x="817560" y="1436760"/>
                <a:ext cx="446040" cy="730080"/>
              </a:xfrm>
              <a:custGeom>
                <a:avLst/>
                <a:gdLst/>
                <a:ahLst/>
                <a:rect l="l" t="t" r="r" b="b"/>
                <a:pathLst>
                  <a:path w="281" h="460">
                    <a:moveTo>
                      <a:pt x="262" y="3"/>
                    </a:moveTo>
                    <a:lnTo>
                      <a:pt x="253" y="41"/>
                    </a:lnTo>
                    <a:lnTo>
                      <a:pt x="252" y="56"/>
                    </a:lnTo>
                    <a:lnTo>
                      <a:pt x="255" y="99"/>
                    </a:lnTo>
                    <a:lnTo>
                      <a:pt x="266" y="115"/>
                    </a:lnTo>
                    <a:lnTo>
                      <a:pt x="271" y="133"/>
                    </a:lnTo>
                    <a:lnTo>
                      <a:pt x="273" y="131"/>
                    </a:lnTo>
                    <a:lnTo>
                      <a:pt x="280" y="155"/>
                    </a:lnTo>
                    <a:lnTo>
                      <a:pt x="275" y="205"/>
                    </a:lnTo>
                    <a:lnTo>
                      <a:pt x="273" y="261"/>
                    </a:lnTo>
                    <a:lnTo>
                      <a:pt x="275" y="279"/>
                    </a:lnTo>
                    <a:lnTo>
                      <a:pt x="274" y="299"/>
                    </a:lnTo>
                    <a:lnTo>
                      <a:pt x="272" y="321"/>
                    </a:lnTo>
                    <a:lnTo>
                      <a:pt x="262" y="368"/>
                    </a:lnTo>
                    <a:lnTo>
                      <a:pt x="247" y="390"/>
                    </a:lnTo>
                    <a:lnTo>
                      <a:pt x="235" y="400"/>
                    </a:lnTo>
                    <a:lnTo>
                      <a:pt x="238" y="427"/>
                    </a:lnTo>
                    <a:lnTo>
                      <a:pt x="216" y="439"/>
                    </a:lnTo>
                    <a:lnTo>
                      <a:pt x="189" y="447"/>
                    </a:lnTo>
                    <a:lnTo>
                      <a:pt x="156" y="442"/>
                    </a:lnTo>
                    <a:lnTo>
                      <a:pt x="142" y="435"/>
                    </a:lnTo>
                    <a:lnTo>
                      <a:pt x="137" y="449"/>
                    </a:lnTo>
                    <a:lnTo>
                      <a:pt x="102" y="452"/>
                    </a:lnTo>
                    <a:lnTo>
                      <a:pt x="60" y="459"/>
                    </a:lnTo>
                    <a:lnTo>
                      <a:pt x="25" y="452"/>
                    </a:lnTo>
                    <a:lnTo>
                      <a:pt x="0" y="437"/>
                    </a:lnTo>
                    <a:lnTo>
                      <a:pt x="0" y="204"/>
                    </a:lnTo>
                    <a:lnTo>
                      <a:pt x="16" y="185"/>
                    </a:lnTo>
                    <a:lnTo>
                      <a:pt x="27" y="169"/>
                    </a:lnTo>
                    <a:lnTo>
                      <a:pt x="47" y="134"/>
                    </a:lnTo>
                    <a:lnTo>
                      <a:pt x="52" y="115"/>
                    </a:lnTo>
                    <a:lnTo>
                      <a:pt x="59" y="94"/>
                    </a:lnTo>
                    <a:lnTo>
                      <a:pt x="69" y="73"/>
                    </a:lnTo>
                    <a:lnTo>
                      <a:pt x="81" y="56"/>
                    </a:lnTo>
                    <a:lnTo>
                      <a:pt x="97" y="38"/>
                    </a:lnTo>
                    <a:lnTo>
                      <a:pt x="110" y="27"/>
                    </a:lnTo>
                    <a:lnTo>
                      <a:pt x="125" y="17"/>
                    </a:lnTo>
                    <a:lnTo>
                      <a:pt x="140" y="10"/>
                    </a:lnTo>
                    <a:lnTo>
                      <a:pt x="161" y="4"/>
                    </a:lnTo>
                    <a:lnTo>
                      <a:pt x="181" y="0"/>
                    </a:lnTo>
                    <a:lnTo>
                      <a:pt x="200" y="0"/>
                    </a:lnTo>
                    <a:lnTo>
                      <a:pt x="218" y="0"/>
                    </a:lnTo>
                    <a:lnTo>
                      <a:pt x="262" y="3"/>
                    </a:lnTo>
                  </a:path>
                </a:pathLst>
              </a:custGeom>
              <a:solidFill>
                <a:srgbClr val="a0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8" name=""/>
              <p:cNvGrpSpPr/>
              <p:nvPr/>
            </p:nvGrpSpPr>
            <p:grpSpPr>
              <a:xfrm>
                <a:off x="817560" y="1441440"/>
                <a:ext cx="446040" cy="709560"/>
                <a:chOff x="817560" y="1441440"/>
                <a:chExt cx="446040" cy="7095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946080" y="1901880"/>
                  <a:ext cx="106560" cy="220680"/>
                </a:xfrm>
                <a:custGeom>
                  <a:avLst/>
                  <a:gdLst/>
                  <a:ahLst/>
                  <a:rect l="l" t="t" r="r" b="b"/>
                  <a:pathLst>
                    <a:path w="67" h="139">
                      <a:moveTo>
                        <a:pt x="13" y="13"/>
                      </a:moveTo>
                      <a:lnTo>
                        <a:pt x="32" y="30"/>
                      </a:lnTo>
                      <a:lnTo>
                        <a:pt x="52" y="56"/>
                      </a:lnTo>
                      <a:lnTo>
                        <a:pt x="51" y="67"/>
                      </a:lnTo>
                      <a:lnTo>
                        <a:pt x="65" y="95"/>
                      </a:lnTo>
                      <a:lnTo>
                        <a:pt x="66" y="126"/>
                      </a:lnTo>
                      <a:lnTo>
                        <a:pt x="61" y="138"/>
                      </a:lnTo>
                      <a:lnTo>
                        <a:pt x="60" y="128"/>
                      </a:lnTo>
                      <a:lnTo>
                        <a:pt x="60" y="118"/>
                      </a:lnTo>
                      <a:lnTo>
                        <a:pt x="57" y="109"/>
                      </a:lnTo>
                      <a:lnTo>
                        <a:pt x="55" y="100"/>
                      </a:lnTo>
                      <a:lnTo>
                        <a:pt x="54" y="94"/>
                      </a:lnTo>
                      <a:lnTo>
                        <a:pt x="49" y="90"/>
                      </a:lnTo>
                      <a:lnTo>
                        <a:pt x="48" y="83"/>
                      </a:lnTo>
                      <a:lnTo>
                        <a:pt x="45" y="75"/>
                      </a:lnTo>
                      <a:lnTo>
                        <a:pt x="41" y="69"/>
                      </a:lnTo>
                      <a:lnTo>
                        <a:pt x="36" y="65"/>
                      </a:lnTo>
                      <a:lnTo>
                        <a:pt x="38" y="59"/>
                      </a:lnTo>
                      <a:lnTo>
                        <a:pt x="30" y="53"/>
                      </a:lnTo>
                      <a:lnTo>
                        <a:pt x="26" y="46"/>
                      </a:lnTo>
                      <a:lnTo>
                        <a:pt x="23" y="37"/>
                      </a:lnTo>
                      <a:lnTo>
                        <a:pt x="15" y="33"/>
                      </a:lnTo>
                      <a:lnTo>
                        <a:pt x="9" y="27"/>
                      </a:lnTo>
                      <a:lnTo>
                        <a:pt x="4" y="19"/>
                      </a:lnTo>
                      <a:lnTo>
                        <a:pt x="1" y="10"/>
                      </a:lnTo>
                      <a:lnTo>
                        <a:pt x="0" y="0"/>
                      </a:lnTo>
                      <a:lnTo>
                        <a:pt x="13" y="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870120" y="1649520"/>
                  <a:ext cx="123480" cy="231840"/>
                </a:xfrm>
                <a:custGeom>
                  <a:avLst/>
                  <a:gdLst/>
                  <a:ahLst/>
                  <a:rect l="l" t="t" r="r" b="b"/>
                  <a:pathLst>
                    <a:path w="78" h="146">
                      <a:moveTo>
                        <a:pt x="77" y="113"/>
                      </a:moveTo>
                      <a:lnTo>
                        <a:pt x="50" y="81"/>
                      </a:lnTo>
                      <a:lnTo>
                        <a:pt x="43" y="65"/>
                      </a:lnTo>
                      <a:lnTo>
                        <a:pt x="40" y="51"/>
                      </a:lnTo>
                      <a:lnTo>
                        <a:pt x="35" y="33"/>
                      </a:lnTo>
                      <a:lnTo>
                        <a:pt x="33" y="15"/>
                      </a:lnTo>
                      <a:lnTo>
                        <a:pt x="33" y="0"/>
                      </a:lnTo>
                      <a:lnTo>
                        <a:pt x="26" y="12"/>
                      </a:lnTo>
                      <a:lnTo>
                        <a:pt x="21" y="24"/>
                      </a:lnTo>
                      <a:lnTo>
                        <a:pt x="20" y="36"/>
                      </a:lnTo>
                      <a:lnTo>
                        <a:pt x="19" y="47"/>
                      </a:lnTo>
                      <a:lnTo>
                        <a:pt x="10" y="48"/>
                      </a:lnTo>
                      <a:lnTo>
                        <a:pt x="4" y="51"/>
                      </a:lnTo>
                      <a:lnTo>
                        <a:pt x="2" y="57"/>
                      </a:lnTo>
                      <a:lnTo>
                        <a:pt x="0" y="63"/>
                      </a:lnTo>
                      <a:lnTo>
                        <a:pt x="1" y="70"/>
                      </a:lnTo>
                      <a:lnTo>
                        <a:pt x="5" y="78"/>
                      </a:lnTo>
                      <a:lnTo>
                        <a:pt x="14" y="91"/>
                      </a:lnTo>
                      <a:lnTo>
                        <a:pt x="28" y="108"/>
                      </a:lnTo>
                      <a:lnTo>
                        <a:pt x="62" y="145"/>
                      </a:lnTo>
                      <a:lnTo>
                        <a:pt x="77" y="11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817560" y="1819440"/>
                  <a:ext cx="109440" cy="1238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63" y="0"/>
                      </a:moveTo>
                      <a:lnTo>
                        <a:pt x="0" y="65"/>
                      </a:lnTo>
                      <a:lnTo>
                        <a:pt x="0" y="77"/>
                      </a:lnTo>
                      <a:lnTo>
                        <a:pt x="68" y="4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093680" y="1447920"/>
                  <a:ext cx="163800" cy="261720"/>
                </a:xfrm>
                <a:custGeom>
                  <a:avLst/>
                  <a:gdLst/>
                  <a:ahLst/>
                  <a:rect l="l" t="t" r="r" b="b"/>
                  <a:pathLst>
                    <a:path w="103" h="165">
                      <a:moveTo>
                        <a:pt x="94" y="164"/>
                      </a:moveTo>
                      <a:lnTo>
                        <a:pt x="92" y="146"/>
                      </a:lnTo>
                      <a:lnTo>
                        <a:pt x="89" y="129"/>
                      </a:lnTo>
                      <a:lnTo>
                        <a:pt x="85" y="117"/>
                      </a:lnTo>
                      <a:lnTo>
                        <a:pt x="80" y="108"/>
                      </a:lnTo>
                      <a:lnTo>
                        <a:pt x="71" y="95"/>
                      </a:lnTo>
                      <a:lnTo>
                        <a:pt x="60" y="85"/>
                      </a:lnTo>
                      <a:lnTo>
                        <a:pt x="48" y="77"/>
                      </a:lnTo>
                      <a:lnTo>
                        <a:pt x="35" y="66"/>
                      </a:lnTo>
                      <a:lnTo>
                        <a:pt x="26" y="56"/>
                      </a:lnTo>
                      <a:lnTo>
                        <a:pt x="20" y="45"/>
                      </a:lnTo>
                      <a:lnTo>
                        <a:pt x="21" y="34"/>
                      </a:lnTo>
                      <a:lnTo>
                        <a:pt x="18" y="22"/>
                      </a:lnTo>
                      <a:lnTo>
                        <a:pt x="12" y="11"/>
                      </a:lnTo>
                      <a:lnTo>
                        <a:pt x="8" y="5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4"/>
                      </a:lnTo>
                      <a:lnTo>
                        <a:pt x="27" y="9"/>
                      </a:lnTo>
                      <a:lnTo>
                        <a:pt x="34" y="16"/>
                      </a:lnTo>
                      <a:lnTo>
                        <a:pt x="39" y="26"/>
                      </a:lnTo>
                      <a:lnTo>
                        <a:pt x="47" y="38"/>
                      </a:lnTo>
                      <a:lnTo>
                        <a:pt x="55" y="47"/>
                      </a:lnTo>
                      <a:lnTo>
                        <a:pt x="66" y="54"/>
                      </a:lnTo>
                      <a:lnTo>
                        <a:pt x="79" y="58"/>
                      </a:lnTo>
                      <a:lnTo>
                        <a:pt x="80" y="76"/>
                      </a:lnTo>
                      <a:lnTo>
                        <a:pt x="82" y="92"/>
                      </a:lnTo>
                      <a:lnTo>
                        <a:pt x="92" y="107"/>
                      </a:lnTo>
                      <a:lnTo>
                        <a:pt x="98" y="120"/>
                      </a:lnTo>
                      <a:lnTo>
                        <a:pt x="102" y="137"/>
                      </a:lnTo>
                      <a:lnTo>
                        <a:pt x="100" y="150"/>
                      </a:lnTo>
                      <a:lnTo>
                        <a:pt x="94" y="16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1179360" y="1644480"/>
                  <a:ext cx="84240" cy="436680"/>
                </a:xfrm>
                <a:custGeom>
                  <a:avLst/>
                  <a:gdLst/>
                  <a:ahLst/>
                  <a:rect l="l" t="t" r="r" b="b"/>
                  <a:pathLst>
                    <a:path w="53" h="275">
                      <a:moveTo>
                        <a:pt x="0" y="274"/>
                      </a:moveTo>
                      <a:lnTo>
                        <a:pt x="7" y="260"/>
                      </a:lnTo>
                      <a:lnTo>
                        <a:pt x="11" y="246"/>
                      </a:lnTo>
                      <a:lnTo>
                        <a:pt x="12" y="235"/>
                      </a:lnTo>
                      <a:lnTo>
                        <a:pt x="19" y="227"/>
                      </a:lnTo>
                      <a:lnTo>
                        <a:pt x="22" y="220"/>
                      </a:lnTo>
                      <a:lnTo>
                        <a:pt x="25" y="209"/>
                      </a:lnTo>
                      <a:lnTo>
                        <a:pt x="24" y="199"/>
                      </a:lnTo>
                      <a:lnTo>
                        <a:pt x="22" y="193"/>
                      </a:lnTo>
                      <a:lnTo>
                        <a:pt x="27" y="180"/>
                      </a:lnTo>
                      <a:lnTo>
                        <a:pt x="29" y="166"/>
                      </a:lnTo>
                      <a:lnTo>
                        <a:pt x="28" y="153"/>
                      </a:lnTo>
                      <a:lnTo>
                        <a:pt x="24" y="140"/>
                      </a:lnTo>
                      <a:lnTo>
                        <a:pt x="19" y="137"/>
                      </a:lnTo>
                      <a:lnTo>
                        <a:pt x="14" y="133"/>
                      </a:lnTo>
                      <a:lnTo>
                        <a:pt x="12" y="123"/>
                      </a:lnTo>
                      <a:lnTo>
                        <a:pt x="13" y="113"/>
                      </a:lnTo>
                      <a:lnTo>
                        <a:pt x="14" y="103"/>
                      </a:lnTo>
                      <a:lnTo>
                        <a:pt x="9" y="94"/>
                      </a:lnTo>
                      <a:lnTo>
                        <a:pt x="7" y="86"/>
                      </a:lnTo>
                      <a:lnTo>
                        <a:pt x="9" y="76"/>
                      </a:lnTo>
                      <a:lnTo>
                        <a:pt x="14" y="66"/>
                      </a:lnTo>
                      <a:lnTo>
                        <a:pt x="20" y="59"/>
                      </a:lnTo>
                      <a:lnTo>
                        <a:pt x="17" y="45"/>
                      </a:lnTo>
                      <a:lnTo>
                        <a:pt x="14" y="30"/>
                      </a:lnTo>
                      <a:lnTo>
                        <a:pt x="16" y="20"/>
                      </a:lnTo>
                      <a:lnTo>
                        <a:pt x="15" y="10"/>
                      </a:lnTo>
                      <a:lnTo>
                        <a:pt x="12" y="0"/>
                      </a:lnTo>
                      <a:lnTo>
                        <a:pt x="20" y="2"/>
                      </a:lnTo>
                      <a:lnTo>
                        <a:pt x="26" y="6"/>
                      </a:lnTo>
                      <a:lnTo>
                        <a:pt x="31" y="14"/>
                      </a:lnTo>
                      <a:lnTo>
                        <a:pt x="34" y="22"/>
                      </a:lnTo>
                      <a:lnTo>
                        <a:pt x="35" y="15"/>
                      </a:lnTo>
                      <a:lnTo>
                        <a:pt x="38" y="9"/>
                      </a:lnTo>
                      <a:lnTo>
                        <a:pt x="41" y="4"/>
                      </a:lnTo>
                      <a:lnTo>
                        <a:pt x="45" y="0"/>
                      </a:lnTo>
                      <a:lnTo>
                        <a:pt x="48" y="7"/>
                      </a:lnTo>
                      <a:lnTo>
                        <a:pt x="51" y="17"/>
                      </a:lnTo>
                      <a:lnTo>
                        <a:pt x="52" y="25"/>
                      </a:lnTo>
                      <a:lnTo>
                        <a:pt x="46" y="37"/>
                      </a:lnTo>
                      <a:lnTo>
                        <a:pt x="42" y="52"/>
                      </a:lnTo>
                      <a:lnTo>
                        <a:pt x="41" y="62"/>
                      </a:lnTo>
                      <a:lnTo>
                        <a:pt x="39" y="74"/>
                      </a:lnTo>
                      <a:lnTo>
                        <a:pt x="37" y="85"/>
                      </a:lnTo>
                      <a:lnTo>
                        <a:pt x="32" y="98"/>
                      </a:lnTo>
                      <a:lnTo>
                        <a:pt x="31" y="108"/>
                      </a:lnTo>
                      <a:lnTo>
                        <a:pt x="32" y="118"/>
                      </a:lnTo>
                      <a:lnTo>
                        <a:pt x="37" y="140"/>
                      </a:lnTo>
                      <a:lnTo>
                        <a:pt x="39" y="156"/>
                      </a:lnTo>
                      <a:lnTo>
                        <a:pt x="40" y="173"/>
                      </a:lnTo>
                      <a:lnTo>
                        <a:pt x="38" y="187"/>
                      </a:lnTo>
                      <a:lnTo>
                        <a:pt x="34" y="203"/>
                      </a:lnTo>
                      <a:lnTo>
                        <a:pt x="38" y="219"/>
                      </a:lnTo>
                      <a:lnTo>
                        <a:pt x="37" y="231"/>
                      </a:lnTo>
                      <a:lnTo>
                        <a:pt x="33" y="241"/>
                      </a:lnTo>
                      <a:lnTo>
                        <a:pt x="28" y="250"/>
                      </a:lnTo>
                      <a:lnTo>
                        <a:pt x="20" y="259"/>
                      </a:lnTo>
                      <a:lnTo>
                        <a:pt x="7" y="269"/>
                      </a:lnTo>
                      <a:lnTo>
                        <a:pt x="0" y="274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035000" y="1922400"/>
                  <a:ext cx="189000" cy="58680"/>
                </a:xfrm>
                <a:custGeom>
                  <a:avLst/>
                  <a:gdLst/>
                  <a:ahLst/>
                  <a:rect l="l" t="t" r="r" b="b"/>
                  <a:pathLst>
                    <a:path w="119" h="37">
                      <a:moveTo>
                        <a:pt x="118" y="0"/>
                      </a:moveTo>
                      <a:lnTo>
                        <a:pt x="109" y="4"/>
                      </a:lnTo>
                      <a:lnTo>
                        <a:pt x="97" y="10"/>
                      </a:lnTo>
                      <a:lnTo>
                        <a:pt x="84" y="15"/>
                      </a:lnTo>
                      <a:lnTo>
                        <a:pt x="73" y="17"/>
                      </a:lnTo>
                      <a:lnTo>
                        <a:pt x="59" y="20"/>
                      </a:lnTo>
                      <a:lnTo>
                        <a:pt x="46" y="19"/>
                      </a:lnTo>
                      <a:lnTo>
                        <a:pt x="32" y="20"/>
                      </a:lnTo>
                      <a:lnTo>
                        <a:pt x="20" y="21"/>
                      </a:lnTo>
                      <a:lnTo>
                        <a:pt x="7" y="25"/>
                      </a:lnTo>
                      <a:lnTo>
                        <a:pt x="3" y="27"/>
                      </a:lnTo>
                      <a:lnTo>
                        <a:pt x="0" y="32"/>
                      </a:lnTo>
                      <a:lnTo>
                        <a:pt x="12" y="35"/>
                      </a:lnTo>
                      <a:lnTo>
                        <a:pt x="26" y="36"/>
                      </a:lnTo>
                      <a:lnTo>
                        <a:pt x="42" y="35"/>
                      </a:lnTo>
                      <a:lnTo>
                        <a:pt x="59" y="33"/>
                      </a:lnTo>
                      <a:lnTo>
                        <a:pt x="77" y="30"/>
                      </a:lnTo>
                      <a:lnTo>
                        <a:pt x="88" y="25"/>
                      </a:lnTo>
                      <a:lnTo>
                        <a:pt x="100" y="18"/>
                      </a:lnTo>
                      <a:lnTo>
                        <a:pt x="109" y="11"/>
                      </a:lnTo>
                      <a:lnTo>
                        <a:pt x="118" y="0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817560" y="2101680"/>
                  <a:ext cx="239760" cy="43200"/>
                </a:xfrm>
                <a:custGeom>
                  <a:avLst/>
                  <a:gdLst/>
                  <a:ahLst/>
                  <a:rect l="l" t="t" r="r" b="b"/>
                  <a:pathLst>
                    <a:path w="151" h="27">
                      <a:moveTo>
                        <a:pt x="150" y="1"/>
                      </a:moveTo>
                      <a:lnTo>
                        <a:pt x="135" y="7"/>
                      </a:lnTo>
                      <a:lnTo>
                        <a:pt x="123" y="11"/>
                      </a:lnTo>
                      <a:lnTo>
                        <a:pt x="109" y="15"/>
                      </a:lnTo>
                      <a:lnTo>
                        <a:pt x="93" y="18"/>
                      </a:lnTo>
                      <a:lnTo>
                        <a:pt x="75" y="20"/>
                      </a:lnTo>
                      <a:lnTo>
                        <a:pt x="56" y="19"/>
                      </a:lnTo>
                      <a:lnTo>
                        <a:pt x="43" y="17"/>
                      </a:lnTo>
                      <a:lnTo>
                        <a:pt x="29" y="13"/>
                      </a:lnTo>
                      <a:lnTo>
                        <a:pt x="20" y="10"/>
                      </a:lnTo>
                      <a:lnTo>
                        <a:pt x="11" y="6"/>
                      </a:lnTo>
                      <a:lnTo>
                        <a:pt x="0" y="0"/>
                      </a:lnTo>
                      <a:lnTo>
                        <a:pt x="4" y="6"/>
                      </a:lnTo>
                      <a:lnTo>
                        <a:pt x="13" y="13"/>
                      </a:lnTo>
                      <a:lnTo>
                        <a:pt x="24" y="19"/>
                      </a:lnTo>
                      <a:lnTo>
                        <a:pt x="38" y="22"/>
                      </a:lnTo>
                      <a:lnTo>
                        <a:pt x="51" y="24"/>
                      </a:lnTo>
                      <a:lnTo>
                        <a:pt x="64" y="26"/>
                      </a:lnTo>
                      <a:lnTo>
                        <a:pt x="78" y="26"/>
                      </a:lnTo>
                      <a:lnTo>
                        <a:pt x="92" y="25"/>
                      </a:lnTo>
                      <a:lnTo>
                        <a:pt x="105" y="22"/>
                      </a:lnTo>
                      <a:lnTo>
                        <a:pt x="116" y="19"/>
                      </a:lnTo>
                      <a:lnTo>
                        <a:pt x="129" y="13"/>
                      </a:lnTo>
                      <a:lnTo>
                        <a:pt x="141" y="7"/>
                      </a:lnTo>
                      <a:lnTo>
                        <a:pt x="150" y="1"/>
                      </a:lnTo>
                    </a:path>
                  </a:pathLst>
                </a:cu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046160" y="2055960"/>
                  <a:ext cx="162000" cy="31680"/>
                </a:xfrm>
                <a:custGeom>
                  <a:avLst/>
                  <a:gdLst/>
                  <a:ahLst/>
                  <a:rect l="l" t="t" r="r" b="b"/>
                  <a:pathLst>
                    <a:path w="102" h="20">
                      <a:moveTo>
                        <a:pt x="0" y="8"/>
                      </a:moveTo>
                      <a:lnTo>
                        <a:pt x="17" y="15"/>
                      </a:lnTo>
                      <a:lnTo>
                        <a:pt x="32" y="19"/>
                      </a:lnTo>
                      <a:lnTo>
                        <a:pt x="47" y="19"/>
                      </a:lnTo>
                      <a:lnTo>
                        <a:pt x="62" y="16"/>
                      </a:lnTo>
                      <a:lnTo>
                        <a:pt x="76" y="13"/>
                      </a:lnTo>
                      <a:lnTo>
                        <a:pt x="88" y="8"/>
                      </a:lnTo>
                      <a:lnTo>
                        <a:pt x="101" y="0"/>
                      </a:lnTo>
                      <a:lnTo>
                        <a:pt x="87" y="4"/>
                      </a:lnTo>
                      <a:lnTo>
                        <a:pt x="76" y="7"/>
                      </a:lnTo>
                      <a:lnTo>
                        <a:pt x="59" y="10"/>
                      </a:lnTo>
                      <a:lnTo>
                        <a:pt x="47" y="12"/>
                      </a:lnTo>
                      <a:lnTo>
                        <a:pt x="32" y="13"/>
                      </a:lnTo>
                      <a:lnTo>
                        <a:pt x="16" y="11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39680" y="1978200"/>
                  <a:ext cx="176400" cy="83880"/>
                </a:xfrm>
                <a:custGeom>
                  <a:avLst/>
                  <a:gdLst/>
                  <a:ahLst/>
                  <a:rect l="l" t="t" r="r" b="b"/>
                  <a:pathLst>
                    <a:path w="111" h="53">
                      <a:moveTo>
                        <a:pt x="5" y="5"/>
                      </a:moveTo>
                      <a:lnTo>
                        <a:pt x="16" y="8"/>
                      </a:lnTo>
                      <a:lnTo>
                        <a:pt x="27" y="10"/>
                      </a:lnTo>
                      <a:lnTo>
                        <a:pt x="43" y="12"/>
                      </a:lnTo>
                      <a:lnTo>
                        <a:pt x="59" y="11"/>
                      </a:lnTo>
                      <a:lnTo>
                        <a:pt x="74" y="9"/>
                      </a:lnTo>
                      <a:lnTo>
                        <a:pt x="88" y="7"/>
                      </a:lnTo>
                      <a:lnTo>
                        <a:pt x="100" y="4"/>
                      </a:lnTo>
                      <a:lnTo>
                        <a:pt x="110" y="0"/>
                      </a:lnTo>
                      <a:lnTo>
                        <a:pt x="105" y="9"/>
                      </a:lnTo>
                      <a:lnTo>
                        <a:pt x="100" y="20"/>
                      </a:lnTo>
                      <a:lnTo>
                        <a:pt x="94" y="29"/>
                      </a:lnTo>
                      <a:lnTo>
                        <a:pt x="85" y="40"/>
                      </a:lnTo>
                      <a:lnTo>
                        <a:pt x="75" y="47"/>
                      </a:lnTo>
                      <a:lnTo>
                        <a:pt x="61" y="52"/>
                      </a:lnTo>
                      <a:lnTo>
                        <a:pt x="51" y="50"/>
                      </a:lnTo>
                      <a:lnTo>
                        <a:pt x="40" y="49"/>
                      </a:lnTo>
                      <a:lnTo>
                        <a:pt x="29" y="50"/>
                      </a:lnTo>
                      <a:lnTo>
                        <a:pt x="19" y="47"/>
                      </a:lnTo>
                      <a:lnTo>
                        <a:pt x="11" y="44"/>
                      </a:lnTo>
                      <a:lnTo>
                        <a:pt x="0" y="37"/>
                      </a:lnTo>
                      <a:lnTo>
                        <a:pt x="14" y="35"/>
                      </a:lnTo>
                      <a:lnTo>
                        <a:pt x="27" y="35"/>
                      </a:lnTo>
                      <a:lnTo>
                        <a:pt x="43" y="37"/>
                      </a:lnTo>
                      <a:lnTo>
                        <a:pt x="59" y="40"/>
                      </a:lnTo>
                      <a:lnTo>
                        <a:pt x="69" y="29"/>
                      </a:lnTo>
                      <a:lnTo>
                        <a:pt x="81" y="20"/>
                      </a:lnTo>
                      <a:lnTo>
                        <a:pt x="72" y="22"/>
                      </a:lnTo>
                      <a:lnTo>
                        <a:pt x="62" y="24"/>
                      </a:lnTo>
                      <a:lnTo>
                        <a:pt x="50" y="26"/>
                      </a:lnTo>
                      <a:lnTo>
                        <a:pt x="33" y="25"/>
                      </a:lnTo>
                      <a:lnTo>
                        <a:pt x="20" y="23"/>
                      </a:lnTo>
                      <a:lnTo>
                        <a:pt x="10" y="20"/>
                      </a:lnTo>
                      <a:lnTo>
                        <a:pt x="9" y="12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957240" y="1673280"/>
                  <a:ext cx="258840" cy="263520"/>
                </a:xfrm>
                <a:custGeom>
                  <a:avLst/>
                  <a:gdLst/>
                  <a:ahLst/>
                  <a:rect l="l" t="t" r="r" b="b"/>
                  <a:pathLst>
                    <a:path w="163" h="166">
                      <a:moveTo>
                        <a:pt x="162" y="136"/>
                      </a:moveTo>
                      <a:lnTo>
                        <a:pt x="148" y="141"/>
                      </a:lnTo>
                      <a:lnTo>
                        <a:pt x="135" y="145"/>
                      </a:lnTo>
                      <a:lnTo>
                        <a:pt x="123" y="148"/>
                      </a:lnTo>
                      <a:lnTo>
                        <a:pt x="108" y="150"/>
                      </a:lnTo>
                      <a:lnTo>
                        <a:pt x="112" y="153"/>
                      </a:lnTo>
                      <a:lnTo>
                        <a:pt x="117" y="157"/>
                      </a:lnTo>
                      <a:lnTo>
                        <a:pt x="123" y="160"/>
                      </a:lnTo>
                      <a:lnTo>
                        <a:pt x="114" y="163"/>
                      </a:lnTo>
                      <a:lnTo>
                        <a:pt x="102" y="165"/>
                      </a:lnTo>
                      <a:lnTo>
                        <a:pt x="88" y="164"/>
                      </a:lnTo>
                      <a:lnTo>
                        <a:pt x="76" y="160"/>
                      </a:lnTo>
                      <a:lnTo>
                        <a:pt x="62" y="152"/>
                      </a:lnTo>
                      <a:lnTo>
                        <a:pt x="34" y="150"/>
                      </a:lnTo>
                      <a:lnTo>
                        <a:pt x="13" y="150"/>
                      </a:lnTo>
                      <a:lnTo>
                        <a:pt x="0" y="150"/>
                      </a:lnTo>
                      <a:lnTo>
                        <a:pt x="0" y="133"/>
                      </a:lnTo>
                      <a:lnTo>
                        <a:pt x="5" y="106"/>
                      </a:lnTo>
                      <a:lnTo>
                        <a:pt x="3" y="59"/>
                      </a:lnTo>
                      <a:lnTo>
                        <a:pt x="10" y="22"/>
                      </a:lnTo>
                      <a:lnTo>
                        <a:pt x="16" y="11"/>
                      </a:lnTo>
                      <a:lnTo>
                        <a:pt x="24" y="0"/>
                      </a:lnTo>
                      <a:lnTo>
                        <a:pt x="27" y="17"/>
                      </a:lnTo>
                      <a:lnTo>
                        <a:pt x="30" y="39"/>
                      </a:lnTo>
                      <a:lnTo>
                        <a:pt x="31" y="58"/>
                      </a:lnTo>
                      <a:lnTo>
                        <a:pt x="29" y="79"/>
                      </a:lnTo>
                      <a:lnTo>
                        <a:pt x="39" y="118"/>
                      </a:lnTo>
                      <a:lnTo>
                        <a:pt x="49" y="133"/>
                      </a:lnTo>
                      <a:lnTo>
                        <a:pt x="60" y="134"/>
                      </a:lnTo>
                      <a:lnTo>
                        <a:pt x="70" y="134"/>
                      </a:lnTo>
                      <a:lnTo>
                        <a:pt x="84" y="137"/>
                      </a:lnTo>
                      <a:lnTo>
                        <a:pt x="96" y="140"/>
                      </a:lnTo>
                      <a:lnTo>
                        <a:pt x="109" y="135"/>
                      </a:lnTo>
                      <a:lnTo>
                        <a:pt x="121" y="133"/>
                      </a:lnTo>
                      <a:lnTo>
                        <a:pt x="136" y="132"/>
                      </a:lnTo>
                      <a:lnTo>
                        <a:pt x="148" y="133"/>
                      </a:lnTo>
                      <a:lnTo>
                        <a:pt x="162" y="136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023840" y="1630440"/>
                  <a:ext cx="181080" cy="223920"/>
                </a:xfrm>
                <a:custGeom>
                  <a:avLst/>
                  <a:gdLst/>
                  <a:ahLst/>
                  <a:rect l="l" t="t" r="r" b="b"/>
                  <a:pathLst>
                    <a:path w="114" h="141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24"/>
                      </a:lnTo>
                      <a:lnTo>
                        <a:pt x="4" y="38"/>
                      </a:lnTo>
                      <a:lnTo>
                        <a:pt x="8" y="52"/>
                      </a:lnTo>
                      <a:lnTo>
                        <a:pt x="14" y="66"/>
                      </a:lnTo>
                      <a:lnTo>
                        <a:pt x="25" y="79"/>
                      </a:lnTo>
                      <a:lnTo>
                        <a:pt x="38" y="89"/>
                      </a:lnTo>
                      <a:lnTo>
                        <a:pt x="53" y="100"/>
                      </a:lnTo>
                      <a:lnTo>
                        <a:pt x="69" y="108"/>
                      </a:lnTo>
                      <a:lnTo>
                        <a:pt x="78" y="117"/>
                      </a:lnTo>
                      <a:lnTo>
                        <a:pt x="89" y="125"/>
                      </a:lnTo>
                      <a:lnTo>
                        <a:pt x="100" y="133"/>
                      </a:lnTo>
                      <a:lnTo>
                        <a:pt x="113" y="140"/>
                      </a:lnTo>
                      <a:lnTo>
                        <a:pt x="106" y="128"/>
                      </a:lnTo>
                      <a:lnTo>
                        <a:pt x="97" y="117"/>
                      </a:lnTo>
                      <a:lnTo>
                        <a:pt x="88" y="109"/>
                      </a:lnTo>
                      <a:lnTo>
                        <a:pt x="80" y="98"/>
                      </a:lnTo>
                      <a:lnTo>
                        <a:pt x="69" y="88"/>
                      </a:lnTo>
                      <a:lnTo>
                        <a:pt x="58" y="80"/>
                      </a:lnTo>
                      <a:lnTo>
                        <a:pt x="50" y="70"/>
                      </a:lnTo>
                      <a:lnTo>
                        <a:pt x="44" y="61"/>
                      </a:lnTo>
                      <a:lnTo>
                        <a:pt x="33" y="55"/>
                      </a:lnTo>
                      <a:lnTo>
                        <a:pt x="24" y="49"/>
                      </a:lnTo>
                      <a:lnTo>
                        <a:pt x="17" y="38"/>
                      </a:lnTo>
                      <a:lnTo>
                        <a:pt x="10" y="25"/>
                      </a:lnTo>
                      <a:lnTo>
                        <a:pt x="5" y="1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063800" y="1598760"/>
                  <a:ext cx="125280" cy="212400"/>
                </a:xfrm>
                <a:custGeom>
                  <a:avLst/>
                  <a:gdLst/>
                  <a:ahLst/>
                  <a:rect l="l" t="t" r="r" b="b"/>
                  <a:pathLst>
                    <a:path w="79" h="134">
                      <a:moveTo>
                        <a:pt x="76" y="133"/>
                      </a:moveTo>
                      <a:lnTo>
                        <a:pt x="72" y="123"/>
                      </a:lnTo>
                      <a:lnTo>
                        <a:pt x="70" y="116"/>
                      </a:lnTo>
                      <a:lnTo>
                        <a:pt x="70" y="108"/>
                      </a:lnTo>
                      <a:lnTo>
                        <a:pt x="64" y="107"/>
                      </a:lnTo>
                      <a:lnTo>
                        <a:pt x="59" y="103"/>
                      </a:lnTo>
                      <a:lnTo>
                        <a:pt x="50" y="93"/>
                      </a:lnTo>
                      <a:lnTo>
                        <a:pt x="43" y="81"/>
                      </a:lnTo>
                      <a:lnTo>
                        <a:pt x="25" y="49"/>
                      </a:lnTo>
                      <a:lnTo>
                        <a:pt x="10" y="31"/>
                      </a:lnTo>
                      <a:lnTo>
                        <a:pt x="3" y="19"/>
                      </a:lnTo>
                      <a:lnTo>
                        <a:pt x="0" y="13"/>
                      </a:lnTo>
                      <a:lnTo>
                        <a:pt x="0" y="6"/>
                      </a:lnTo>
                      <a:lnTo>
                        <a:pt x="2" y="2"/>
                      </a:lnTo>
                      <a:lnTo>
                        <a:pt x="8" y="0"/>
                      </a:lnTo>
                      <a:lnTo>
                        <a:pt x="16" y="2"/>
                      </a:lnTo>
                      <a:lnTo>
                        <a:pt x="22" y="7"/>
                      </a:lnTo>
                      <a:lnTo>
                        <a:pt x="30" y="22"/>
                      </a:lnTo>
                      <a:lnTo>
                        <a:pt x="39" y="39"/>
                      </a:lnTo>
                      <a:lnTo>
                        <a:pt x="48" y="60"/>
                      </a:lnTo>
                      <a:lnTo>
                        <a:pt x="57" y="76"/>
                      </a:lnTo>
                      <a:lnTo>
                        <a:pt x="64" y="89"/>
                      </a:lnTo>
                      <a:lnTo>
                        <a:pt x="69" y="97"/>
                      </a:lnTo>
                      <a:lnTo>
                        <a:pt x="78" y="103"/>
                      </a:lnTo>
                      <a:lnTo>
                        <a:pt x="76" y="112"/>
                      </a:lnTo>
                      <a:lnTo>
                        <a:pt x="76" y="120"/>
                      </a:lnTo>
                      <a:lnTo>
                        <a:pt x="76" y="133"/>
                      </a:lnTo>
                    </a:path>
                  </a:pathLst>
                </a:custGeom>
                <a:solidFill>
                  <a:srgbClr val="808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819000" y="1820880"/>
                  <a:ext cx="100080" cy="103320"/>
                </a:xfrm>
                <a:custGeom>
                  <a:avLst/>
                  <a:gdLst/>
                  <a:ahLst/>
                  <a:rect l="l" t="t" r="r" b="b"/>
                  <a:pathLst>
                    <a:path w="63" h="65">
                      <a:moveTo>
                        <a:pt x="62" y="0"/>
                      </a:moveTo>
                      <a:lnTo>
                        <a:pt x="47" y="15"/>
                      </a:lnTo>
                      <a:lnTo>
                        <a:pt x="39" y="24"/>
                      </a:lnTo>
                      <a:lnTo>
                        <a:pt x="30" y="39"/>
                      </a:lnTo>
                      <a:lnTo>
                        <a:pt x="19" y="49"/>
                      </a:lnTo>
                      <a:lnTo>
                        <a:pt x="0" y="64"/>
                      </a:lnTo>
                      <a:lnTo>
                        <a:pt x="28" y="27"/>
                      </a:lnTo>
                      <a:lnTo>
                        <a:pt x="62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173240" y="1441440"/>
                  <a:ext cx="27000" cy="7632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16" y="0"/>
                      </a:moveTo>
                      <a:lnTo>
                        <a:pt x="10" y="5"/>
                      </a:lnTo>
                      <a:lnTo>
                        <a:pt x="5" y="13"/>
                      </a:lnTo>
                      <a:lnTo>
                        <a:pt x="1" y="22"/>
                      </a:lnTo>
                      <a:lnTo>
                        <a:pt x="0" y="37"/>
                      </a:lnTo>
                      <a:lnTo>
                        <a:pt x="2" y="47"/>
                      </a:lnTo>
                      <a:lnTo>
                        <a:pt x="5" y="26"/>
                      </a:lnTo>
                      <a:lnTo>
                        <a:pt x="10" y="13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941400" y="1625760"/>
                  <a:ext cx="209520" cy="333360"/>
                </a:xfrm>
                <a:custGeom>
                  <a:avLst/>
                  <a:gdLst/>
                  <a:ahLst/>
                  <a:rect l="l" t="t" r="r" b="b"/>
                  <a:pathLst>
                    <a:path w="132" h="210">
                      <a:moveTo>
                        <a:pt x="131" y="199"/>
                      </a:moveTo>
                      <a:lnTo>
                        <a:pt x="114" y="189"/>
                      </a:lnTo>
                      <a:lnTo>
                        <a:pt x="96" y="189"/>
                      </a:lnTo>
                      <a:lnTo>
                        <a:pt x="79" y="192"/>
                      </a:lnTo>
                      <a:lnTo>
                        <a:pt x="75" y="185"/>
                      </a:lnTo>
                      <a:lnTo>
                        <a:pt x="67" y="180"/>
                      </a:lnTo>
                      <a:lnTo>
                        <a:pt x="55" y="177"/>
                      </a:lnTo>
                      <a:lnTo>
                        <a:pt x="44" y="177"/>
                      </a:lnTo>
                      <a:lnTo>
                        <a:pt x="33" y="177"/>
                      </a:lnTo>
                      <a:lnTo>
                        <a:pt x="20" y="180"/>
                      </a:lnTo>
                      <a:lnTo>
                        <a:pt x="13" y="169"/>
                      </a:lnTo>
                      <a:lnTo>
                        <a:pt x="14" y="148"/>
                      </a:lnTo>
                      <a:lnTo>
                        <a:pt x="15" y="129"/>
                      </a:lnTo>
                      <a:lnTo>
                        <a:pt x="14" y="108"/>
                      </a:lnTo>
                      <a:lnTo>
                        <a:pt x="13" y="98"/>
                      </a:lnTo>
                      <a:lnTo>
                        <a:pt x="13" y="85"/>
                      </a:lnTo>
                      <a:lnTo>
                        <a:pt x="17" y="66"/>
                      </a:lnTo>
                      <a:lnTo>
                        <a:pt x="22" y="40"/>
                      </a:lnTo>
                      <a:lnTo>
                        <a:pt x="24" y="25"/>
                      </a:lnTo>
                      <a:lnTo>
                        <a:pt x="27" y="0"/>
                      </a:lnTo>
                      <a:lnTo>
                        <a:pt x="18" y="18"/>
                      </a:lnTo>
                      <a:lnTo>
                        <a:pt x="13" y="32"/>
                      </a:lnTo>
                      <a:lnTo>
                        <a:pt x="8" y="29"/>
                      </a:lnTo>
                      <a:lnTo>
                        <a:pt x="2" y="20"/>
                      </a:lnTo>
                      <a:lnTo>
                        <a:pt x="1" y="29"/>
                      </a:lnTo>
                      <a:lnTo>
                        <a:pt x="3" y="44"/>
                      </a:lnTo>
                      <a:lnTo>
                        <a:pt x="5" y="56"/>
                      </a:lnTo>
                      <a:lnTo>
                        <a:pt x="5" y="75"/>
                      </a:lnTo>
                      <a:lnTo>
                        <a:pt x="5" y="94"/>
                      </a:lnTo>
                      <a:lnTo>
                        <a:pt x="0" y="147"/>
                      </a:lnTo>
                      <a:lnTo>
                        <a:pt x="2" y="175"/>
                      </a:lnTo>
                      <a:lnTo>
                        <a:pt x="7" y="185"/>
                      </a:lnTo>
                      <a:lnTo>
                        <a:pt x="15" y="194"/>
                      </a:lnTo>
                      <a:lnTo>
                        <a:pt x="23" y="200"/>
                      </a:lnTo>
                      <a:lnTo>
                        <a:pt x="32" y="204"/>
                      </a:lnTo>
                      <a:lnTo>
                        <a:pt x="45" y="207"/>
                      </a:lnTo>
                      <a:lnTo>
                        <a:pt x="57" y="209"/>
                      </a:lnTo>
                      <a:lnTo>
                        <a:pt x="69" y="205"/>
                      </a:lnTo>
                      <a:lnTo>
                        <a:pt x="82" y="202"/>
                      </a:lnTo>
                      <a:lnTo>
                        <a:pt x="99" y="202"/>
                      </a:lnTo>
                      <a:lnTo>
                        <a:pt x="131" y="199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992160" y="1949400"/>
                  <a:ext cx="158760" cy="201600"/>
                </a:xfrm>
                <a:custGeom>
                  <a:avLst/>
                  <a:gdLst/>
                  <a:ahLst/>
                  <a:rect l="l" t="t" r="r" b="b"/>
                  <a:pathLst>
                    <a:path w="100" h="127">
                      <a:moveTo>
                        <a:pt x="99" y="20"/>
                      </a:moveTo>
                      <a:lnTo>
                        <a:pt x="90" y="18"/>
                      </a:lnTo>
                      <a:lnTo>
                        <a:pt x="84" y="15"/>
                      </a:lnTo>
                      <a:lnTo>
                        <a:pt x="70" y="17"/>
                      </a:lnTo>
                      <a:lnTo>
                        <a:pt x="56" y="18"/>
                      </a:lnTo>
                      <a:lnTo>
                        <a:pt x="42" y="17"/>
                      </a:lnTo>
                      <a:lnTo>
                        <a:pt x="32" y="16"/>
                      </a:lnTo>
                      <a:lnTo>
                        <a:pt x="20" y="13"/>
                      </a:ln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8" y="18"/>
                      </a:lnTo>
                      <a:lnTo>
                        <a:pt x="17" y="25"/>
                      </a:lnTo>
                      <a:lnTo>
                        <a:pt x="15" y="35"/>
                      </a:lnTo>
                      <a:lnTo>
                        <a:pt x="20" y="42"/>
                      </a:lnTo>
                      <a:lnTo>
                        <a:pt x="23" y="48"/>
                      </a:lnTo>
                      <a:lnTo>
                        <a:pt x="25" y="56"/>
                      </a:lnTo>
                      <a:lnTo>
                        <a:pt x="30" y="62"/>
                      </a:lnTo>
                      <a:lnTo>
                        <a:pt x="31" y="73"/>
                      </a:lnTo>
                      <a:lnTo>
                        <a:pt x="32" y="81"/>
                      </a:lnTo>
                      <a:lnTo>
                        <a:pt x="35" y="93"/>
                      </a:lnTo>
                      <a:lnTo>
                        <a:pt x="32" y="106"/>
                      </a:lnTo>
                      <a:lnTo>
                        <a:pt x="40" y="113"/>
                      </a:lnTo>
                      <a:lnTo>
                        <a:pt x="50" y="119"/>
                      </a:lnTo>
                      <a:lnTo>
                        <a:pt x="61" y="123"/>
                      </a:lnTo>
                      <a:lnTo>
                        <a:pt x="72" y="126"/>
                      </a:lnTo>
                      <a:lnTo>
                        <a:pt x="61" y="118"/>
                      </a:lnTo>
                      <a:lnTo>
                        <a:pt x="52" y="111"/>
                      </a:lnTo>
                      <a:lnTo>
                        <a:pt x="45" y="103"/>
                      </a:lnTo>
                      <a:lnTo>
                        <a:pt x="40" y="94"/>
                      </a:lnTo>
                      <a:lnTo>
                        <a:pt x="49" y="97"/>
                      </a:lnTo>
                      <a:lnTo>
                        <a:pt x="59" y="97"/>
                      </a:lnTo>
                      <a:lnTo>
                        <a:pt x="73" y="96"/>
                      </a:lnTo>
                      <a:lnTo>
                        <a:pt x="87" y="94"/>
                      </a:lnTo>
                      <a:lnTo>
                        <a:pt x="71" y="92"/>
                      </a:lnTo>
                      <a:lnTo>
                        <a:pt x="59" y="89"/>
                      </a:lnTo>
                      <a:lnTo>
                        <a:pt x="50" y="85"/>
                      </a:lnTo>
                      <a:lnTo>
                        <a:pt x="42" y="79"/>
                      </a:lnTo>
                      <a:lnTo>
                        <a:pt x="37" y="72"/>
                      </a:lnTo>
                      <a:lnTo>
                        <a:pt x="49" y="70"/>
                      </a:lnTo>
                      <a:lnTo>
                        <a:pt x="59" y="67"/>
                      </a:lnTo>
                      <a:lnTo>
                        <a:pt x="52" y="60"/>
                      </a:lnTo>
                      <a:lnTo>
                        <a:pt x="44" y="54"/>
                      </a:lnTo>
                      <a:lnTo>
                        <a:pt x="35" y="48"/>
                      </a:lnTo>
                      <a:lnTo>
                        <a:pt x="27" y="45"/>
                      </a:lnTo>
                      <a:lnTo>
                        <a:pt x="33" y="42"/>
                      </a:lnTo>
                      <a:lnTo>
                        <a:pt x="39" y="40"/>
                      </a:lnTo>
                      <a:lnTo>
                        <a:pt x="47" y="37"/>
                      </a:lnTo>
                      <a:lnTo>
                        <a:pt x="39" y="33"/>
                      </a:lnTo>
                      <a:lnTo>
                        <a:pt x="32" y="28"/>
                      </a:lnTo>
                      <a:lnTo>
                        <a:pt x="45" y="28"/>
                      </a:lnTo>
                      <a:lnTo>
                        <a:pt x="55" y="28"/>
                      </a:lnTo>
                      <a:lnTo>
                        <a:pt x="71" y="26"/>
                      </a:lnTo>
                      <a:lnTo>
                        <a:pt x="86" y="23"/>
                      </a:lnTo>
                      <a:lnTo>
                        <a:pt x="99" y="20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5" name=""/>
            <p:cNvGrpSpPr/>
            <p:nvPr/>
          </p:nvGrpSpPr>
          <p:grpSpPr>
            <a:xfrm>
              <a:off x="990720" y="2266920"/>
              <a:ext cx="190440" cy="270000"/>
              <a:chOff x="990720" y="2266920"/>
              <a:chExt cx="190440" cy="270000"/>
            </a:xfrm>
          </p:grpSpPr>
          <p:sp>
            <p:nvSpPr>
              <p:cNvPr id="926" name=""/>
              <p:cNvSpPr/>
              <p:nvPr/>
            </p:nvSpPr>
            <p:spPr>
              <a:xfrm>
                <a:off x="990720" y="2266920"/>
                <a:ext cx="188640" cy="270000"/>
              </a:xfrm>
              <a:custGeom>
                <a:avLst/>
                <a:gdLst/>
                <a:ahLst/>
                <a:rect l="l" t="t" r="r" b="b"/>
                <a:pathLst>
                  <a:path w="119" h="170">
                    <a:moveTo>
                      <a:pt x="59" y="8"/>
                    </a:moveTo>
                    <a:lnTo>
                      <a:pt x="64" y="34"/>
                    </a:lnTo>
                    <a:lnTo>
                      <a:pt x="64" y="48"/>
                    </a:lnTo>
                    <a:lnTo>
                      <a:pt x="61" y="61"/>
                    </a:lnTo>
                    <a:lnTo>
                      <a:pt x="57" y="68"/>
                    </a:lnTo>
                    <a:lnTo>
                      <a:pt x="53" y="71"/>
                    </a:lnTo>
                    <a:lnTo>
                      <a:pt x="44" y="76"/>
                    </a:lnTo>
                    <a:lnTo>
                      <a:pt x="32" y="82"/>
                    </a:lnTo>
                    <a:lnTo>
                      <a:pt x="27" y="85"/>
                    </a:lnTo>
                    <a:lnTo>
                      <a:pt x="20" y="89"/>
                    </a:lnTo>
                    <a:lnTo>
                      <a:pt x="18" y="92"/>
                    </a:lnTo>
                    <a:lnTo>
                      <a:pt x="16" y="99"/>
                    </a:lnTo>
                    <a:lnTo>
                      <a:pt x="11" y="103"/>
                    </a:lnTo>
                    <a:lnTo>
                      <a:pt x="6" y="107"/>
                    </a:lnTo>
                    <a:lnTo>
                      <a:pt x="4" y="112"/>
                    </a:lnTo>
                    <a:lnTo>
                      <a:pt x="3" y="117"/>
                    </a:lnTo>
                    <a:lnTo>
                      <a:pt x="6" y="124"/>
                    </a:lnTo>
                    <a:lnTo>
                      <a:pt x="8" y="130"/>
                    </a:lnTo>
                    <a:lnTo>
                      <a:pt x="12" y="134"/>
                    </a:lnTo>
                    <a:lnTo>
                      <a:pt x="16" y="136"/>
                    </a:lnTo>
                    <a:lnTo>
                      <a:pt x="10" y="140"/>
                    </a:lnTo>
                    <a:lnTo>
                      <a:pt x="5" y="146"/>
                    </a:lnTo>
                    <a:lnTo>
                      <a:pt x="2" y="152"/>
                    </a:lnTo>
                    <a:lnTo>
                      <a:pt x="0" y="158"/>
                    </a:lnTo>
                    <a:lnTo>
                      <a:pt x="1" y="164"/>
                    </a:lnTo>
                    <a:lnTo>
                      <a:pt x="2" y="167"/>
                    </a:lnTo>
                    <a:lnTo>
                      <a:pt x="5" y="169"/>
                    </a:lnTo>
                    <a:lnTo>
                      <a:pt x="9" y="169"/>
                    </a:lnTo>
                    <a:lnTo>
                      <a:pt x="13" y="163"/>
                    </a:lnTo>
                    <a:lnTo>
                      <a:pt x="18" y="156"/>
                    </a:lnTo>
                    <a:lnTo>
                      <a:pt x="35" y="143"/>
                    </a:lnTo>
                    <a:lnTo>
                      <a:pt x="48" y="136"/>
                    </a:lnTo>
                    <a:lnTo>
                      <a:pt x="59" y="132"/>
                    </a:lnTo>
                    <a:lnTo>
                      <a:pt x="68" y="129"/>
                    </a:lnTo>
                    <a:lnTo>
                      <a:pt x="77" y="126"/>
                    </a:lnTo>
                    <a:lnTo>
                      <a:pt x="86" y="121"/>
                    </a:lnTo>
                    <a:lnTo>
                      <a:pt x="98" y="114"/>
                    </a:lnTo>
                    <a:lnTo>
                      <a:pt x="113" y="92"/>
                    </a:lnTo>
                    <a:lnTo>
                      <a:pt x="117" y="79"/>
                    </a:lnTo>
                    <a:lnTo>
                      <a:pt x="118" y="67"/>
                    </a:lnTo>
                    <a:lnTo>
                      <a:pt x="116" y="53"/>
                    </a:lnTo>
                    <a:lnTo>
                      <a:pt x="113" y="34"/>
                    </a:lnTo>
                    <a:lnTo>
                      <a:pt x="107" y="0"/>
                    </a:lnTo>
                    <a:lnTo>
                      <a:pt x="59" y="8"/>
                    </a:lnTo>
                  </a:path>
                </a:pathLst>
              </a:custGeom>
              <a:solidFill>
                <a:srgbClr val="ff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000080" y="2454120"/>
                <a:ext cx="57240" cy="3024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35" y="0"/>
                    </a:moveTo>
                    <a:lnTo>
                      <a:pt x="25" y="4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10" y="4"/>
                    </a:lnTo>
                    <a:lnTo>
                      <a:pt x="8" y="5"/>
                    </a:lnTo>
                    <a:lnTo>
                      <a:pt x="4" y="7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4" y="13"/>
                    </a:lnTo>
                    <a:lnTo>
                      <a:pt x="19" y="9"/>
                    </a:lnTo>
                    <a:lnTo>
                      <a:pt x="26" y="5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087560" y="229392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5" y="55"/>
                    </a:moveTo>
                    <a:lnTo>
                      <a:pt x="20" y="48"/>
                    </a:lnTo>
                    <a:lnTo>
                      <a:pt x="23" y="38"/>
                    </a:lnTo>
                    <a:lnTo>
                      <a:pt x="26" y="29"/>
                    </a:lnTo>
                    <a:lnTo>
                      <a:pt x="27" y="21"/>
                    </a:lnTo>
                    <a:lnTo>
                      <a:pt x="27" y="16"/>
                    </a:lnTo>
                    <a:lnTo>
                      <a:pt x="20" y="17"/>
                    </a:lnTo>
                    <a:lnTo>
                      <a:pt x="13" y="16"/>
                    </a:lnTo>
                    <a:lnTo>
                      <a:pt x="7" y="14"/>
                    </a:lnTo>
                    <a:lnTo>
                      <a:pt x="3" y="13"/>
                    </a:lnTo>
                    <a:lnTo>
                      <a:pt x="1" y="10"/>
                    </a:lnTo>
                    <a:lnTo>
                      <a:pt x="0" y="3"/>
                    </a:lnTo>
                    <a:lnTo>
                      <a:pt x="50" y="0"/>
                    </a:lnTo>
                    <a:lnTo>
                      <a:pt x="52" y="15"/>
                    </a:lnTo>
                    <a:lnTo>
                      <a:pt x="54" y="23"/>
                    </a:lnTo>
                    <a:lnTo>
                      <a:pt x="56" y="33"/>
                    </a:lnTo>
                    <a:lnTo>
                      <a:pt x="57" y="41"/>
                    </a:lnTo>
                    <a:lnTo>
                      <a:pt x="58" y="50"/>
                    </a:lnTo>
                    <a:lnTo>
                      <a:pt x="58" y="57"/>
                    </a:lnTo>
                    <a:lnTo>
                      <a:pt x="57" y="64"/>
                    </a:lnTo>
                    <a:lnTo>
                      <a:pt x="56" y="69"/>
                    </a:lnTo>
                    <a:lnTo>
                      <a:pt x="53" y="75"/>
                    </a:lnTo>
                    <a:lnTo>
                      <a:pt x="49" y="81"/>
                    </a:lnTo>
                    <a:lnTo>
                      <a:pt x="47" y="86"/>
                    </a:lnTo>
                    <a:lnTo>
                      <a:pt x="42" y="91"/>
                    </a:lnTo>
                    <a:lnTo>
                      <a:pt x="38" y="97"/>
                    </a:lnTo>
                    <a:lnTo>
                      <a:pt x="33" y="100"/>
                    </a:lnTo>
                    <a:lnTo>
                      <a:pt x="27" y="103"/>
                    </a:lnTo>
                    <a:lnTo>
                      <a:pt x="29" y="98"/>
                    </a:lnTo>
                    <a:lnTo>
                      <a:pt x="30" y="89"/>
                    </a:lnTo>
                    <a:lnTo>
                      <a:pt x="29" y="82"/>
                    </a:lnTo>
                    <a:lnTo>
                      <a:pt x="27" y="75"/>
                    </a:lnTo>
                    <a:lnTo>
                      <a:pt x="24" y="67"/>
                    </a:lnTo>
                    <a:lnTo>
                      <a:pt x="19" y="61"/>
                    </a:lnTo>
                    <a:lnTo>
                      <a:pt x="15" y="55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015920" y="2405160"/>
                <a:ext cx="46080" cy="27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6"/>
                    </a:moveTo>
                    <a:lnTo>
                      <a:pt x="7" y="10"/>
                    </a:lnTo>
                    <a:lnTo>
                      <a:pt x="15" y="5"/>
                    </a:lnTo>
                    <a:lnTo>
                      <a:pt x="21" y="2"/>
                    </a:lnTo>
                    <a:lnTo>
                      <a:pt x="28" y="0"/>
                    </a:lnTo>
                    <a:lnTo>
                      <a:pt x="20" y="1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1" y="1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004760" y="24829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0" y="13"/>
                    </a:moveTo>
                    <a:lnTo>
                      <a:pt x="3" y="15"/>
                    </a:lnTo>
                    <a:lnTo>
                      <a:pt x="5" y="17"/>
                    </a:lnTo>
                    <a:lnTo>
                      <a:pt x="8" y="21"/>
                    </a:lnTo>
                    <a:lnTo>
                      <a:pt x="9" y="19"/>
                    </a:lnTo>
                    <a:lnTo>
                      <a:pt x="11" y="17"/>
                    </a:lnTo>
                    <a:lnTo>
                      <a:pt x="17" y="13"/>
                    </a:lnTo>
                    <a:lnTo>
                      <a:pt x="23" y="10"/>
                    </a:lnTo>
                    <a:lnTo>
                      <a:pt x="28" y="7"/>
                    </a:lnTo>
                    <a:lnTo>
                      <a:pt x="33" y="4"/>
                    </a:lnTo>
                    <a:lnTo>
                      <a:pt x="38" y="0"/>
                    </a:lnTo>
                    <a:lnTo>
                      <a:pt x="31" y="3"/>
                    </a:lnTo>
                    <a:lnTo>
                      <a:pt x="27" y="5"/>
                    </a:lnTo>
                    <a:lnTo>
                      <a:pt x="20" y="8"/>
                    </a:lnTo>
                    <a:lnTo>
                      <a:pt x="14" y="13"/>
                    </a:lnTo>
                    <a:lnTo>
                      <a:pt x="10" y="16"/>
                    </a:lnTo>
                    <a:lnTo>
                      <a:pt x="8" y="18"/>
                    </a:lnTo>
                    <a:lnTo>
                      <a:pt x="5" y="15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8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1033560" y="2112840"/>
              <a:ext cx="174600" cy="203400"/>
              <a:chOff x="1033560" y="2112840"/>
              <a:chExt cx="174600" cy="203400"/>
            </a:xfrm>
          </p:grpSpPr>
          <p:sp>
            <p:nvSpPr>
              <p:cNvPr id="932" name=""/>
              <p:cNvSpPr/>
              <p:nvPr/>
            </p:nvSpPr>
            <p:spPr>
              <a:xfrm>
                <a:off x="1033560" y="2112840"/>
                <a:ext cx="174600" cy="203400"/>
              </a:xfrm>
              <a:custGeom>
                <a:avLst/>
                <a:gdLst/>
                <a:ahLst/>
                <a:rect l="l" t="t" r="r" b="b"/>
                <a:pathLst>
                  <a:path w="110" h="128">
                    <a:moveTo>
                      <a:pt x="102" y="0"/>
                    </a:moveTo>
                    <a:lnTo>
                      <a:pt x="105" y="8"/>
                    </a:lnTo>
                    <a:lnTo>
                      <a:pt x="108" y="17"/>
                    </a:lnTo>
                    <a:lnTo>
                      <a:pt x="109" y="27"/>
                    </a:lnTo>
                    <a:lnTo>
                      <a:pt x="108" y="37"/>
                    </a:lnTo>
                    <a:lnTo>
                      <a:pt x="107" y="41"/>
                    </a:lnTo>
                    <a:lnTo>
                      <a:pt x="103" y="46"/>
                    </a:lnTo>
                    <a:lnTo>
                      <a:pt x="97" y="51"/>
                    </a:lnTo>
                    <a:lnTo>
                      <a:pt x="90" y="55"/>
                    </a:lnTo>
                    <a:lnTo>
                      <a:pt x="92" y="65"/>
                    </a:lnTo>
                    <a:lnTo>
                      <a:pt x="94" y="76"/>
                    </a:lnTo>
                    <a:lnTo>
                      <a:pt x="94" y="90"/>
                    </a:lnTo>
                    <a:lnTo>
                      <a:pt x="93" y="102"/>
                    </a:lnTo>
                    <a:lnTo>
                      <a:pt x="92" y="112"/>
                    </a:lnTo>
                    <a:lnTo>
                      <a:pt x="90" y="117"/>
                    </a:lnTo>
                    <a:lnTo>
                      <a:pt x="83" y="122"/>
                    </a:lnTo>
                    <a:lnTo>
                      <a:pt x="72" y="126"/>
                    </a:lnTo>
                    <a:lnTo>
                      <a:pt x="60" y="127"/>
                    </a:lnTo>
                    <a:lnTo>
                      <a:pt x="49" y="126"/>
                    </a:lnTo>
                    <a:lnTo>
                      <a:pt x="42" y="124"/>
                    </a:lnTo>
                    <a:lnTo>
                      <a:pt x="37" y="121"/>
                    </a:lnTo>
                    <a:lnTo>
                      <a:pt x="31" y="113"/>
                    </a:lnTo>
                    <a:lnTo>
                      <a:pt x="28" y="106"/>
                    </a:lnTo>
                    <a:lnTo>
                      <a:pt x="26" y="97"/>
                    </a:lnTo>
                    <a:lnTo>
                      <a:pt x="25" y="91"/>
                    </a:lnTo>
                    <a:lnTo>
                      <a:pt x="26" y="84"/>
                    </a:lnTo>
                    <a:lnTo>
                      <a:pt x="22" y="77"/>
                    </a:lnTo>
                    <a:lnTo>
                      <a:pt x="21" y="70"/>
                    </a:lnTo>
                    <a:lnTo>
                      <a:pt x="12" y="66"/>
                    </a:lnTo>
                    <a:lnTo>
                      <a:pt x="5" y="62"/>
                    </a:lnTo>
                    <a:lnTo>
                      <a:pt x="4" y="58"/>
                    </a:lnTo>
                    <a:lnTo>
                      <a:pt x="5" y="51"/>
                    </a:lnTo>
                    <a:lnTo>
                      <a:pt x="4" y="43"/>
                    </a:lnTo>
                    <a:lnTo>
                      <a:pt x="2" y="35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5" y="13"/>
                    </a:lnTo>
                    <a:lnTo>
                      <a:pt x="6" y="9"/>
                    </a:lnTo>
                    <a:lnTo>
                      <a:pt x="15" y="12"/>
                    </a:lnTo>
                    <a:lnTo>
                      <a:pt x="24" y="15"/>
                    </a:lnTo>
                    <a:lnTo>
                      <a:pt x="31" y="17"/>
                    </a:lnTo>
                    <a:lnTo>
                      <a:pt x="39" y="18"/>
                    </a:lnTo>
                    <a:lnTo>
                      <a:pt x="49" y="19"/>
                    </a:lnTo>
                    <a:lnTo>
                      <a:pt x="59" y="18"/>
                    </a:lnTo>
                    <a:lnTo>
                      <a:pt x="68" y="15"/>
                    </a:lnTo>
                    <a:lnTo>
                      <a:pt x="77" y="13"/>
                    </a:lnTo>
                    <a:lnTo>
                      <a:pt x="86" y="8"/>
                    </a:lnTo>
                    <a:lnTo>
                      <a:pt x="94" y="3"/>
                    </a:lnTo>
                    <a:lnTo>
                      <a:pt x="10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049400" y="2200320"/>
                <a:ext cx="98280" cy="49320"/>
              </a:xfrm>
              <a:custGeom>
                <a:avLst/>
                <a:gdLst/>
                <a:ahLst/>
                <a:rect l="l" t="t" r="r" b="b"/>
                <a:pathLst>
                  <a:path w="62" h="31">
                    <a:moveTo>
                      <a:pt x="59" y="1"/>
                    </a:moveTo>
                    <a:lnTo>
                      <a:pt x="52" y="0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3" y="6"/>
                    </a:lnTo>
                    <a:lnTo>
                      <a:pt x="29" y="7"/>
                    </a:lnTo>
                    <a:lnTo>
                      <a:pt x="23" y="6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0" y="11"/>
                    </a:lnTo>
                    <a:lnTo>
                      <a:pt x="6" y="13"/>
                    </a:lnTo>
                    <a:lnTo>
                      <a:pt x="10" y="15"/>
                    </a:lnTo>
                    <a:lnTo>
                      <a:pt x="15" y="18"/>
                    </a:lnTo>
                    <a:lnTo>
                      <a:pt x="19" y="19"/>
                    </a:lnTo>
                    <a:lnTo>
                      <a:pt x="25" y="20"/>
                    </a:lnTo>
                    <a:lnTo>
                      <a:pt x="31" y="22"/>
                    </a:lnTo>
                    <a:lnTo>
                      <a:pt x="34" y="25"/>
                    </a:lnTo>
                    <a:lnTo>
                      <a:pt x="36" y="30"/>
                    </a:lnTo>
                    <a:lnTo>
                      <a:pt x="40" y="25"/>
                    </a:lnTo>
                    <a:lnTo>
                      <a:pt x="46" y="20"/>
                    </a:lnTo>
                    <a:lnTo>
                      <a:pt x="52" y="16"/>
                    </a:lnTo>
                    <a:lnTo>
                      <a:pt x="57" y="13"/>
                    </a:lnTo>
                    <a:lnTo>
                      <a:pt x="60" y="10"/>
                    </a:lnTo>
                    <a:lnTo>
                      <a:pt x="61" y="7"/>
                    </a:lnTo>
                    <a:lnTo>
                      <a:pt x="61" y="3"/>
                    </a:lnTo>
                    <a:lnTo>
                      <a:pt x="59" y="1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125360" y="213984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18" y="0"/>
                    </a:moveTo>
                    <a:lnTo>
                      <a:pt x="19" y="9"/>
                    </a:lnTo>
                    <a:lnTo>
                      <a:pt x="18" y="17"/>
                    </a:lnTo>
                    <a:lnTo>
                      <a:pt x="16" y="25"/>
                    </a:lnTo>
                    <a:lnTo>
                      <a:pt x="12" y="31"/>
                    </a:lnTo>
                    <a:lnTo>
                      <a:pt x="7" y="34"/>
                    </a:lnTo>
                    <a:lnTo>
                      <a:pt x="6" y="28"/>
                    </a:lnTo>
                    <a:lnTo>
                      <a:pt x="3" y="24"/>
                    </a:lnTo>
                    <a:lnTo>
                      <a:pt x="0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9" y="10"/>
                    </a:lnTo>
                    <a:lnTo>
                      <a:pt x="11" y="5"/>
                    </a:lnTo>
                    <a:lnTo>
                      <a:pt x="14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177920" y="2120760"/>
                <a:ext cx="27000" cy="59040"/>
              </a:xfrm>
              <a:custGeom>
                <a:avLst/>
                <a:gdLst/>
                <a:ahLst/>
                <a:rect l="l" t="t" r="r" b="b"/>
                <a:pathLst>
                  <a:path w="17" h="37">
                    <a:moveTo>
                      <a:pt x="10" y="0"/>
                    </a:moveTo>
                    <a:lnTo>
                      <a:pt x="5" y="5"/>
                    </a:lnTo>
                    <a:lnTo>
                      <a:pt x="1" y="11"/>
                    </a:lnTo>
                    <a:lnTo>
                      <a:pt x="0" y="17"/>
                    </a:lnTo>
                    <a:lnTo>
                      <a:pt x="1" y="22"/>
                    </a:lnTo>
                    <a:lnTo>
                      <a:pt x="8" y="29"/>
                    </a:lnTo>
                    <a:lnTo>
                      <a:pt x="16" y="36"/>
                    </a:lnTo>
                    <a:lnTo>
                      <a:pt x="11" y="28"/>
                    </a:lnTo>
                    <a:lnTo>
                      <a:pt x="8" y="21"/>
                    </a:lnTo>
                    <a:lnTo>
                      <a:pt x="7" y="14"/>
                    </a:lnTo>
                    <a:lnTo>
                      <a:pt x="8" y="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117440" y="2201760"/>
                <a:ext cx="68400" cy="11448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37" y="0"/>
                    </a:moveTo>
                    <a:lnTo>
                      <a:pt x="30" y="2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0"/>
                    </a:lnTo>
                    <a:lnTo>
                      <a:pt x="5" y="29"/>
                    </a:lnTo>
                    <a:lnTo>
                      <a:pt x="4" y="36"/>
                    </a:lnTo>
                    <a:lnTo>
                      <a:pt x="5" y="44"/>
                    </a:lnTo>
                    <a:lnTo>
                      <a:pt x="5" y="49"/>
                    </a:lnTo>
                    <a:lnTo>
                      <a:pt x="5" y="55"/>
                    </a:lnTo>
                    <a:lnTo>
                      <a:pt x="2" y="63"/>
                    </a:lnTo>
                    <a:lnTo>
                      <a:pt x="0" y="70"/>
                    </a:lnTo>
                    <a:lnTo>
                      <a:pt x="4" y="71"/>
                    </a:lnTo>
                    <a:lnTo>
                      <a:pt x="11" y="71"/>
                    </a:lnTo>
                    <a:lnTo>
                      <a:pt x="17" y="71"/>
                    </a:lnTo>
                    <a:lnTo>
                      <a:pt x="23" y="69"/>
                    </a:lnTo>
                    <a:lnTo>
                      <a:pt x="27" y="67"/>
                    </a:lnTo>
                    <a:lnTo>
                      <a:pt x="33" y="64"/>
                    </a:lnTo>
                    <a:lnTo>
                      <a:pt x="37" y="61"/>
                    </a:lnTo>
                    <a:lnTo>
                      <a:pt x="40" y="55"/>
                    </a:lnTo>
                    <a:lnTo>
                      <a:pt x="41" y="43"/>
                    </a:lnTo>
                    <a:lnTo>
                      <a:pt x="42" y="34"/>
                    </a:lnTo>
                    <a:lnTo>
                      <a:pt x="41" y="25"/>
                    </a:lnTo>
                    <a:lnTo>
                      <a:pt x="40" y="15"/>
                    </a:lnTo>
                    <a:lnTo>
                      <a:pt x="38" y="6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41480" y="2112840"/>
                <a:ext cx="156960" cy="38160"/>
              </a:xfrm>
              <a:custGeom>
                <a:avLst/>
                <a:gdLst/>
                <a:ahLst/>
                <a:rect l="l" t="t" r="r" b="b"/>
                <a:pathLst>
                  <a:path w="99" h="24">
                    <a:moveTo>
                      <a:pt x="97" y="0"/>
                    </a:moveTo>
                    <a:lnTo>
                      <a:pt x="98" y="2"/>
                    </a:lnTo>
                    <a:lnTo>
                      <a:pt x="93" y="5"/>
                    </a:lnTo>
                    <a:lnTo>
                      <a:pt x="88" y="8"/>
                    </a:lnTo>
                    <a:lnTo>
                      <a:pt x="83" y="11"/>
                    </a:lnTo>
                    <a:lnTo>
                      <a:pt x="75" y="15"/>
                    </a:lnTo>
                    <a:lnTo>
                      <a:pt x="69" y="18"/>
                    </a:lnTo>
                    <a:lnTo>
                      <a:pt x="60" y="20"/>
                    </a:lnTo>
                    <a:lnTo>
                      <a:pt x="51" y="22"/>
                    </a:lnTo>
                    <a:lnTo>
                      <a:pt x="46" y="23"/>
                    </a:lnTo>
                    <a:lnTo>
                      <a:pt x="39" y="23"/>
                    </a:lnTo>
                    <a:lnTo>
                      <a:pt x="32" y="22"/>
                    </a:lnTo>
                    <a:lnTo>
                      <a:pt x="25" y="21"/>
                    </a:lnTo>
                    <a:lnTo>
                      <a:pt x="17" y="20"/>
                    </a:lnTo>
                    <a:lnTo>
                      <a:pt x="10" y="18"/>
                    </a:lnTo>
                    <a:lnTo>
                      <a:pt x="4" y="15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0" y="12"/>
                    </a:lnTo>
                    <a:lnTo>
                      <a:pt x="19" y="15"/>
                    </a:lnTo>
                    <a:lnTo>
                      <a:pt x="26" y="17"/>
                    </a:lnTo>
                    <a:lnTo>
                      <a:pt x="34" y="18"/>
                    </a:lnTo>
                    <a:lnTo>
                      <a:pt x="44" y="20"/>
                    </a:lnTo>
                    <a:lnTo>
                      <a:pt x="54" y="18"/>
                    </a:lnTo>
                    <a:lnTo>
                      <a:pt x="63" y="15"/>
                    </a:lnTo>
                    <a:lnTo>
                      <a:pt x="72" y="13"/>
                    </a:lnTo>
                    <a:lnTo>
                      <a:pt x="81" y="8"/>
                    </a:lnTo>
                    <a:lnTo>
                      <a:pt x="89" y="3"/>
                    </a:lnTo>
                    <a:lnTo>
                      <a:pt x="97" y="0"/>
                    </a:lnTo>
                  </a:path>
                </a:pathLst>
              </a:cu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1184400" y="1222200"/>
              <a:ext cx="498240" cy="463680"/>
              <a:chOff x="1184400" y="1222200"/>
              <a:chExt cx="498240" cy="463680"/>
            </a:xfrm>
          </p:grpSpPr>
          <p:grpSp>
            <p:nvGrpSpPr>
              <p:cNvPr id="939" name=""/>
              <p:cNvGrpSpPr/>
              <p:nvPr/>
            </p:nvGrpSpPr>
            <p:grpSpPr>
              <a:xfrm>
                <a:off x="1276200" y="1336680"/>
                <a:ext cx="347760" cy="349200"/>
                <a:chOff x="1276200" y="1336680"/>
                <a:chExt cx="347760" cy="34920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1276200" y="1336680"/>
                  <a:ext cx="347760" cy="349200"/>
                  <a:chOff x="1276200" y="1336680"/>
                  <a:chExt cx="347760" cy="349200"/>
                </a:xfrm>
              </p:grpSpPr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1523880" y="1479600"/>
                    <a:ext cx="58680" cy="50760"/>
                    <a:chOff x="1523880" y="1479600"/>
                    <a:chExt cx="58680" cy="50760"/>
                  </a:xfrm>
                </p:grpSpPr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1539720" y="1479600"/>
                      <a:ext cx="4284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4">
                          <a:moveTo>
                            <a:pt x="25" y="0"/>
                          </a:moveTo>
                          <a:lnTo>
                            <a:pt x="25" y="12"/>
                          </a:lnTo>
                          <a:lnTo>
                            <a:pt x="26" y="16"/>
                          </a:lnTo>
                          <a:lnTo>
                            <a:pt x="26" y="18"/>
                          </a:lnTo>
                          <a:lnTo>
                            <a:pt x="25" y="21"/>
                          </a:lnTo>
                          <a:lnTo>
                            <a:pt x="21" y="21"/>
                          </a:lnTo>
                          <a:lnTo>
                            <a:pt x="0" y="23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a08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1523880" y="150012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30" y="0"/>
                          </a:moveTo>
                          <a:lnTo>
                            <a:pt x="26" y="10"/>
                          </a:lnTo>
                          <a:lnTo>
                            <a:pt x="25" y="14"/>
                          </a:lnTo>
                          <a:lnTo>
                            <a:pt x="25" y="18"/>
                          </a:lnTo>
                          <a:lnTo>
                            <a:pt x="23" y="14"/>
                          </a:lnTo>
                          <a:lnTo>
                            <a:pt x="20" y="13"/>
                          </a:lnTo>
                          <a:lnTo>
                            <a:pt x="0" y="10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604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1276200" y="1336680"/>
                    <a:ext cx="347760" cy="349200"/>
                    <a:chOff x="1276200" y="1336680"/>
                    <a:chExt cx="347760" cy="349200"/>
                  </a:xfrm>
                </p:grpSpPr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1284120" y="1336680"/>
                      <a:ext cx="339840" cy="33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213">
                          <a:moveTo>
                            <a:pt x="213" y="54"/>
                          </a:moveTo>
                          <a:lnTo>
                            <a:pt x="198" y="86"/>
                          </a:lnTo>
                          <a:lnTo>
                            <a:pt x="189" y="101"/>
                          </a:lnTo>
                          <a:lnTo>
                            <a:pt x="180" y="111"/>
                          </a:lnTo>
                          <a:lnTo>
                            <a:pt x="169" y="120"/>
                          </a:lnTo>
                          <a:lnTo>
                            <a:pt x="168" y="127"/>
                          </a:lnTo>
                          <a:lnTo>
                            <a:pt x="169" y="135"/>
                          </a:lnTo>
                          <a:lnTo>
                            <a:pt x="170" y="146"/>
                          </a:lnTo>
                          <a:lnTo>
                            <a:pt x="172" y="154"/>
                          </a:lnTo>
                          <a:lnTo>
                            <a:pt x="171" y="159"/>
                          </a:lnTo>
                          <a:lnTo>
                            <a:pt x="169" y="165"/>
                          </a:lnTo>
                          <a:lnTo>
                            <a:pt x="164" y="168"/>
                          </a:lnTo>
                          <a:lnTo>
                            <a:pt x="159" y="170"/>
                          </a:lnTo>
                          <a:lnTo>
                            <a:pt x="152" y="169"/>
                          </a:lnTo>
                          <a:lnTo>
                            <a:pt x="147" y="170"/>
                          </a:lnTo>
                          <a:lnTo>
                            <a:pt x="140" y="179"/>
                          </a:lnTo>
                          <a:lnTo>
                            <a:pt x="139" y="184"/>
                          </a:lnTo>
                          <a:lnTo>
                            <a:pt x="135" y="186"/>
                          </a:lnTo>
                          <a:lnTo>
                            <a:pt x="130" y="185"/>
                          </a:lnTo>
                          <a:lnTo>
                            <a:pt x="128" y="184"/>
                          </a:lnTo>
                          <a:lnTo>
                            <a:pt x="127" y="188"/>
                          </a:lnTo>
                          <a:lnTo>
                            <a:pt x="125" y="192"/>
                          </a:lnTo>
                          <a:lnTo>
                            <a:pt x="121" y="195"/>
                          </a:lnTo>
                          <a:lnTo>
                            <a:pt x="116" y="196"/>
                          </a:lnTo>
                          <a:lnTo>
                            <a:pt x="113" y="196"/>
                          </a:lnTo>
                          <a:lnTo>
                            <a:pt x="108" y="200"/>
                          </a:lnTo>
                          <a:lnTo>
                            <a:pt x="104" y="203"/>
                          </a:lnTo>
                          <a:lnTo>
                            <a:pt x="101" y="207"/>
                          </a:lnTo>
                          <a:lnTo>
                            <a:pt x="93" y="211"/>
                          </a:lnTo>
                          <a:lnTo>
                            <a:pt x="86" y="212"/>
                          </a:lnTo>
                          <a:lnTo>
                            <a:pt x="78" y="209"/>
                          </a:lnTo>
                          <a:lnTo>
                            <a:pt x="70" y="204"/>
                          </a:lnTo>
                          <a:lnTo>
                            <a:pt x="63" y="197"/>
                          </a:lnTo>
                          <a:lnTo>
                            <a:pt x="56" y="187"/>
                          </a:lnTo>
                          <a:lnTo>
                            <a:pt x="48" y="185"/>
                          </a:lnTo>
                          <a:lnTo>
                            <a:pt x="31" y="167"/>
                          </a:lnTo>
                          <a:lnTo>
                            <a:pt x="0" y="130"/>
                          </a:lnTo>
                          <a:lnTo>
                            <a:pt x="5" y="115"/>
                          </a:lnTo>
                          <a:lnTo>
                            <a:pt x="16" y="64"/>
                          </a:lnTo>
                          <a:lnTo>
                            <a:pt x="41" y="29"/>
                          </a:lnTo>
                          <a:lnTo>
                            <a:pt x="80" y="7"/>
                          </a:lnTo>
                          <a:lnTo>
                            <a:pt x="130" y="0"/>
                          </a:lnTo>
                          <a:lnTo>
                            <a:pt x="186" y="10"/>
                          </a:lnTo>
                          <a:lnTo>
                            <a:pt x="206" y="25"/>
                          </a:lnTo>
                          <a:lnTo>
                            <a:pt x="213" y="54"/>
                          </a:lnTo>
                        </a:path>
                      </a:pathLst>
                    </a:custGeom>
                    <a:solidFill>
                      <a:srgbClr val="ffa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1276200" y="1387440"/>
                      <a:ext cx="266760" cy="298440"/>
                      <a:chOff x="1276200" y="1387440"/>
                      <a:chExt cx="266760" cy="2984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1441440" y="16318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1"/>
                            </a:moveTo>
                            <a:lnTo>
                              <a:pt x="8" y="1"/>
                            </a:lnTo>
                            <a:lnTo>
                              <a:pt x="4" y="1"/>
                            </a:lnTo>
                            <a:lnTo>
                              <a:pt x="0" y="0"/>
                            </a:lnTo>
                            <a:lnTo>
                              <a:pt x="5" y="9"/>
                            </a:lnTo>
                            <a:lnTo>
                              <a:pt x="9" y="16"/>
                            </a:lnTo>
                            <a:lnTo>
                              <a:pt x="12" y="13"/>
                            </a:lnTo>
                            <a:lnTo>
                              <a:pt x="16" y="11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1276200" y="1387440"/>
                        <a:ext cx="257400" cy="26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2" h="165">
                            <a:moveTo>
                              <a:pt x="161" y="42"/>
                            </a:moveTo>
                            <a:lnTo>
                              <a:pt x="140" y="50"/>
                            </a:lnTo>
                            <a:lnTo>
                              <a:pt x="128" y="54"/>
                            </a:lnTo>
                            <a:lnTo>
                              <a:pt x="115" y="55"/>
                            </a:lnTo>
                            <a:lnTo>
                              <a:pt x="102" y="56"/>
                            </a:lnTo>
                            <a:lnTo>
                              <a:pt x="105" y="63"/>
                            </a:lnTo>
                            <a:lnTo>
                              <a:pt x="108" y="73"/>
                            </a:lnTo>
                            <a:lnTo>
                              <a:pt x="109" y="83"/>
                            </a:lnTo>
                            <a:lnTo>
                              <a:pt x="113" y="87"/>
                            </a:lnTo>
                            <a:lnTo>
                              <a:pt x="119" y="91"/>
                            </a:lnTo>
                            <a:lnTo>
                              <a:pt x="129" y="95"/>
                            </a:lnTo>
                            <a:lnTo>
                              <a:pt x="133" y="101"/>
                            </a:lnTo>
                            <a:lnTo>
                              <a:pt x="135" y="108"/>
                            </a:lnTo>
                            <a:lnTo>
                              <a:pt x="133" y="116"/>
                            </a:lnTo>
                            <a:lnTo>
                              <a:pt x="130" y="124"/>
                            </a:lnTo>
                            <a:lnTo>
                              <a:pt x="126" y="130"/>
                            </a:lnTo>
                            <a:lnTo>
                              <a:pt x="119" y="135"/>
                            </a:lnTo>
                            <a:lnTo>
                              <a:pt x="116" y="133"/>
                            </a:lnTo>
                            <a:lnTo>
                              <a:pt x="112" y="132"/>
                            </a:lnTo>
                            <a:lnTo>
                              <a:pt x="107" y="133"/>
                            </a:lnTo>
                            <a:lnTo>
                              <a:pt x="109" y="145"/>
                            </a:lnTo>
                            <a:lnTo>
                              <a:pt x="104" y="148"/>
                            </a:lnTo>
                            <a:lnTo>
                              <a:pt x="99" y="151"/>
                            </a:lnTo>
                            <a:lnTo>
                              <a:pt x="95" y="157"/>
                            </a:lnTo>
                            <a:lnTo>
                              <a:pt x="93" y="161"/>
                            </a:lnTo>
                            <a:lnTo>
                              <a:pt x="88" y="164"/>
                            </a:lnTo>
                            <a:lnTo>
                              <a:pt x="83" y="164"/>
                            </a:lnTo>
                            <a:lnTo>
                              <a:pt x="76" y="159"/>
                            </a:lnTo>
                            <a:lnTo>
                              <a:pt x="70" y="154"/>
                            </a:lnTo>
                            <a:lnTo>
                              <a:pt x="67" y="149"/>
                            </a:lnTo>
                            <a:lnTo>
                              <a:pt x="65" y="138"/>
                            </a:lnTo>
                            <a:lnTo>
                              <a:pt x="63" y="127"/>
                            </a:lnTo>
                            <a:lnTo>
                              <a:pt x="58" y="123"/>
                            </a:lnTo>
                            <a:lnTo>
                              <a:pt x="39" y="116"/>
                            </a:lnTo>
                            <a:lnTo>
                              <a:pt x="21" y="109"/>
                            </a:lnTo>
                            <a:lnTo>
                              <a:pt x="8" y="101"/>
                            </a:lnTo>
                            <a:lnTo>
                              <a:pt x="0" y="92"/>
                            </a:lnTo>
                            <a:lnTo>
                              <a:pt x="15" y="32"/>
                            </a:lnTo>
                            <a:lnTo>
                              <a:pt x="109" y="0"/>
                            </a:lnTo>
                            <a:lnTo>
                              <a:pt x="161" y="4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>
                        <a:off x="1494000" y="1568520"/>
                        <a:ext cx="48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4">
                            <a:moveTo>
                              <a:pt x="27" y="22"/>
                            </a:moveTo>
                            <a:lnTo>
                              <a:pt x="30" y="20"/>
                            </a:lnTo>
                            <a:lnTo>
                              <a:pt x="30" y="17"/>
                            </a:lnTo>
                            <a:lnTo>
                              <a:pt x="27" y="16"/>
                            </a:lnTo>
                            <a:lnTo>
                              <a:pt x="22" y="16"/>
                            </a:lnTo>
                            <a:lnTo>
                              <a:pt x="17" y="16"/>
                            </a:lnTo>
                            <a:lnTo>
                              <a:pt x="11" y="18"/>
                            </a:lnTo>
                            <a:lnTo>
                              <a:pt x="7" y="12"/>
                            </a:lnTo>
                            <a:lnTo>
                              <a:pt x="7" y="7"/>
                            </a:lnTo>
                            <a:lnTo>
                              <a:pt x="9" y="4"/>
                            </a:lnTo>
                            <a:lnTo>
                              <a:pt x="13" y="3"/>
                            </a:lnTo>
                            <a:lnTo>
                              <a:pt x="16" y="4"/>
                            </a:lnTo>
                            <a:lnTo>
                              <a:pt x="19" y="6"/>
                            </a:lnTo>
                            <a:lnTo>
                              <a:pt x="18" y="3"/>
                            </a:lnTo>
                            <a:lnTo>
                              <a:pt x="15" y="0"/>
                            </a:lnTo>
                            <a:lnTo>
                              <a:pt x="10" y="0"/>
                            </a:lnTo>
                            <a:lnTo>
                              <a:pt x="3" y="2"/>
                            </a:lnTo>
                            <a:lnTo>
                              <a:pt x="1" y="6"/>
                            </a:lnTo>
                            <a:lnTo>
                              <a:pt x="0" y="10"/>
                            </a:lnTo>
                            <a:lnTo>
                              <a:pt x="1" y="15"/>
                            </a:lnTo>
                            <a:lnTo>
                              <a:pt x="4" y="20"/>
                            </a:lnTo>
                            <a:lnTo>
                              <a:pt x="8" y="22"/>
                            </a:lnTo>
                            <a:lnTo>
                              <a:pt x="14" y="23"/>
                            </a:lnTo>
                            <a:lnTo>
                              <a:pt x="18" y="22"/>
                            </a:lnTo>
                            <a:lnTo>
                              <a:pt x="22" y="21"/>
                            </a:lnTo>
                            <a:lnTo>
                              <a:pt x="27" y="22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1405080" y="1658880"/>
                        <a:ext cx="378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" h="17">
                            <a:moveTo>
                              <a:pt x="23" y="10"/>
                            </a:moveTo>
                            <a:lnTo>
                              <a:pt x="17" y="7"/>
                            </a:lnTo>
                            <a:lnTo>
                              <a:pt x="12" y="0"/>
                            </a:lnTo>
                            <a:lnTo>
                              <a:pt x="9" y="3"/>
                            </a:lnTo>
                            <a:lnTo>
                              <a:pt x="6" y="5"/>
                            </a:lnTo>
                            <a:lnTo>
                              <a:pt x="3" y="7"/>
                            </a:lnTo>
                            <a:lnTo>
                              <a:pt x="0" y="8"/>
                            </a:lnTo>
                            <a:lnTo>
                              <a:pt x="6" y="14"/>
                            </a:lnTo>
                            <a:lnTo>
                              <a:pt x="11" y="16"/>
                            </a:lnTo>
                            <a:lnTo>
                              <a:pt x="15" y="16"/>
                            </a:lnTo>
                            <a:lnTo>
                              <a:pt x="19" y="14"/>
                            </a:lnTo>
                            <a:lnTo>
                              <a:pt x="23" y="10"/>
                            </a:lnTo>
                          </a:path>
                        </a:pathLst>
                      </a:custGeom>
                      <a:solidFill>
                        <a:srgbClr val="ff8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1450800" y="1601640"/>
                  <a:ext cx="57240" cy="49320"/>
                  <a:chOff x="1450800" y="1601640"/>
                  <a:chExt cx="57240" cy="4932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>
                    <a:off x="1450800" y="1601640"/>
                    <a:ext cx="511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1" y="16"/>
                        </a:moveTo>
                        <a:lnTo>
                          <a:pt x="24" y="17"/>
                        </a:lnTo>
                        <a:lnTo>
                          <a:pt x="21" y="22"/>
                        </a:lnTo>
                        <a:lnTo>
                          <a:pt x="19" y="24"/>
                        </a:lnTo>
                        <a:lnTo>
                          <a:pt x="7" y="20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31" y="16"/>
                        </a:lnTo>
                      </a:path>
                    </a:pathLst>
                  </a:custGeom>
                  <a:solidFill>
                    <a:srgbClr val="e04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1452600" y="1601640"/>
                    <a:ext cx="428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2">
                        <a:moveTo>
                          <a:pt x="26" y="15"/>
                        </a:moveTo>
                        <a:lnTo>
                          <a:pt x="20" y="21"/>
                        </a:lnTo>
                        <a:lnTo>
                          <a:pt x="16" y="20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6" y="1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1450800" y="1601640"/>
                    <a:ext cx="57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9">
                        <a:moveTo>
                          <a:pt x="0" y="0"/>
                        </a:moveTo>
                        <a:lnTo>
                          <a:pt x="6" y="3"/>
                        </a:lnTo>
                        <a:lnTo>
                          <a:pt x="15" y="6"/>
                        </a:lnTo>
                        <a:lnTo>
                          <a:pt x="24" y="7"/>
                        </a:lnTo>
                        <a:lnTo>
                          <a:pt x="31" y="11"/>
                        </a:lnTo>
                        <a:lnTo>
                          <a:pt x="34" y="13"/>
                        </a:lnTo>
                        <a:lnTo>
                          <a:pt x="35" y="16"/>
                        </a:lnTo>
                        <a:lnTo>
                          <a:pt x="33" y="18"/>
                        </a:lnTo>
                        <a:lnTo>
                          <a:pt x="29" y="18"/>
                        </a:lnTo>
                        <a:lnTo>
                          <a:pt x="26" y="18"/>
                        </a:lnTo>
                        <a:lnTo>
                          <a:pt x="20" y="15"/>
                        </a:lnTo>
                        <a:lnTo>
                          <a:pt x="13" y="10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1450800" y="1601640"/>
                    <a:ext cx="352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31">
                        <a:moveTo>
                          <a:pt x="0" y="0"/>
                        </a:moveTo>
                        <a:lnTo>
                          <a:pt x="5" y="11"/>
                        </a:lnTo>
                        <a:lnTo>
                          <a:pt x="10" y="16"/>
                        </a:lnTo>
                        <a:lnTo>
                          <a:pt x="12" y="21"/>
                        </a:lnTo>
                        <a:lnTo>
                          <a:pt x="15" y="23"/>
                        </a:lnTo>
                        <a:lnTo>
                          <a:pt x="18" y="23"/>
                        </a:lnTo>
                        <a:lnTo>
                          <a:pt x="21" y="21"/>
                        </a:lnTo>
                        <a:lnTo>
                          <a:pt x="20" y="25"/>
                        </a:lnTo>
                        <a:lnTo>
                          <a:pt x="18" y="26"/>
                        </a:lnTo>
                        <a:lnTo>
                          <a:pt x="14" y="29"/>
                        </a:lnTo>
                        <a:lnTo>
                          <a:pt x="11" y="30"/>
                        </a:lnTo>
                        <a:lnTo>
                          <a:pt x="8" y="30"/>
                        </a:lnTo>
                        <a:lnTo>
                          <a:pt x="5" y="26"/>
                        </a:lnTo>
                        <a:lnTo>
                          <a:pt x="2" y="23"/>
                        </a:lnTo>
                        <a:lnTo>
                          <a:pt x="1" y="18"/>
                        </a:lnTo>
                        <a:lnTo>
                          <a:pt x="2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8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6" name=""/>
                <p:cNvSpPr/>
                <p:nvPr/>
              </p:nvSpPr>
              <p:spPr>
                <a:xfrm>
                  <a:off x="1495440" y="1494000"/>
                  <a:ext cx="44280" cy="4104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27" y="13"/>
                      </a:moveTo>
                      <a:lnTo>
                        <a:pt x="24" y="9"/>
                      </a:lnTo>
                      <a:lnTo>
                        <a:pt x="19" y="6"/>
                      </a:lnTo>
                      <a:lnTo>
                        <a:pt x="13" y="3"/>
                      </a:lnTo>
                      <a:lnTo>
                        <a:pt x="7" y="1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0" y="9"/>
                      </a:lnTo>
                      <a:lnTo>
                        <a:pt x="1" y="15"/>
                      </a:lnTo>
                      <a:lnTo>
                        <a:pt x="4" y="20"/>
                      </a:lnTo>
                      <a:lnTo>
                        <a:pt x="8" y="23"/>
                      </a:lnTo>
                      <a:lnTo>
                        <a:pt x="13" y="25"/>
                      </a:lnTo>
                      <a:lnTo>
                        <a:pt x="16" y="21"/>
                      </a:lnTo>
                      <a:lnTo>
                        <a:pt x="19" y="18"/>
                      </a:lnTo>
                      <a:lnTo>
                        <a:pt x="21" y="17"/>
                      </a:lnTo>
                      <a:lnTo>
                        <a:pt x="25" y="15"/>
                      </a:lnTo>
                      <a:lnTo>
                        <a:pt x="27" y="13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496880" y="14954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9"/>
                      </a:moveTo>
                      <a:lnTo>
                        <a:pt x="9" y="16"/>
                      </a:lnTo>
                      <a:lnTo>
                        <a:pt x="4" y="11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16" y="9"/>
                      </a:lnTo>
                    </a:path>
                  </a:pathLst>
                </a:custGeom>
                <a:solidFill>
                  <a:srgbClr val="ff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495440" y="1494000"/>
                  <a:ext cx="3348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0" y="19"/>
                      </a:moveTo>
                      <a:lnTo>
                        <a:pt x="18" y="17"/>
                      </a:lnTo>
                      <a:lnTo>
                        <a:pt x="16" y="12"/>
                      </a:lnTo>
                      <a:lnTo>
                        <a:pt x="11" y="9"/>
                      </a:lnTo>
                      <a:lnTo>
                        <a:pt x="6" y="5"/>
                      </a:lnTo>
                      <a:lnTo>
                        <a:pt x="1" y="2"/>
                      </a:lnTo>
                      <a:lnTo>
                        <a:pt x="3" y="6"/>
                      </a:lnTo>
                      <a:lnTo>
                        <a:pt x="6" y="11"/>
                      </a:lnTo>
                      <a:lnTo>
                        <a:pt x="8" y="14"/>
                      </a:lnTo>
                      <a:lnTo>
                        <a:pt x="10" y="19"/>
                      </a:lnTo>
                      <a:lnTo>
                        <a:pt x="11" y="23"/>
                      </a:lnTo>
                      <a:lnTo>
                        <a:pt x="9" y="18"/>
                      </a:lnTo>
                      <a:lnTo>
                        <a:pt x="7" y="15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8" y="5"/>
                      </a:lnTo>
                      <a:lnTo>
                        <a:pt x="12" y="8"/>
                      </a:lnTo>
                      <a:lnTo>
                        <a:pt x="16" y="11"/>
                      </a:lnTo>
                      <a:lnTo>
                        <a:pt x="19" y="15"/>
                      </a:lnTo>
                      <a:lnTo>
                        <a:pt x="20" y="19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508040" y="150660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7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5" y="0"/>
                      </a:lnTo>
                      <a:lnTo>
                        <a:pt x="16" y="7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503360" y="15033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6"/>
                      </a:moveTo>
                      <a:lnTo>
                        <a:pt x="16" y="13"/>
                      </a:lnTo>
                      <a:lnTo>
                        <a:pt x="12" y="16"/>
                      </a:lnTo>
                      <a:lnTo>
                        <a:pt x="5" y="14"/>
                      </a:lnTo>
                      <a:lnTo>
                        <a:pt x="0" y="9"/>
                      </a:lnTo>
                      <a:lnTo>
                        <a:pt x="0" y="3"/>
                      </a:lnTo>
                      <a:lnTo>
                        <a:pt x="4" y="0"/>
                      </a:lnTo>
                      <a:lnTo>
                        <a:pt x="16" y="6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508040" y="1511280"/>
                  <a:ext cx="12960" cy="14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494000" y="1492200"/>
                  <a:ext cx="44280" cy="27000"/>
                </a:xfrm>
                <a:custGeom>
                  <a:avLst/>
                  <a:gdLst/>
                  <a:ahLst/>
                  <a:rect l="l" t="t" r="r" b="b"/>
                  <a:pathLst>
                    <a:path w="28" h="17">
                      <a:moveTo>
                        <a:pt x="27" y="16"/>
                      </a:moveTo>
                      <a:lnTo>
                        <a:pt x="27" y="13"/>
                      </a:lnTo>
                      <a:lnTo>
                        <a:pt x="25" y="9"/>
                      </a:lnTo>
                      <a:lnTo>
                        <a:pt x="22" y="7"/>
                      </a:lnTo>
                      <a:lnTo>
                        <a:pt x="17" y="4"/>
                      </a:lnTo>
                      <a:lnTo>
                        <a:pt x="12" y="1"/>
                      </a:lnTo>
                      <a:lnTo>
                        <a:pt x="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527120" y="1504800"/>
                  <a:ext cx="27000" cy="619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16" y="0"/>
                      </a:moveTo>
                      <a:lnTo>
                        <a:pt x="9" y="5"/>
                      </a:lnTo>
                      <a:lnTo>
                        <a:pt x="0" y="10"/>
                      </a:lnTo>
                      <a:lnTo>
                        <a:pt x="4" y="16"/>
                      </a:lnTo>
                      <a:lnTo>
                        <a:pt x="5" y="21"/>
                      </a:lnTo>
                      <a:lnTo>
                        <a:pt x="4" y="28"/>
                      </a:lnTo>
                      <a:lnTo>
                        <a:pt x="1" y="38"/>
                      </a:lnTo>
                      <a:lnTo>
                        <a:pt x="4" y="32"/>
                      </a:lnTo>
                      <a:lnTo>
                        <a:pt x="7" y="27"/>
                      </a:lnTo>
                      <a:lnTo>
                        <a:pt x="10" y="20"/>
                      </a:lnTo>
                      <a:lnTo>
                        <a:pt x="13" y="11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ff8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506600" y="1450800"/>
                  <a:ext cx="52200" cy="61920"/>
                </a:xfrm>
                <a:custGeom>
                  <a:avLst/>
                  <a:gdLst/>
                  <a:ahLst/>
                  <a:rect l="l" t="t" r="r" b="b"/>
                  <a:pathLst>
                    <a:path w="33" h="39">
                      <a:moveTo>
                        <a:pt x="24" y="37"/>
                      </a:moveTo>
                      <a:lnTo>
                        <a:pt x="23" y="31"/>
                      </a:lnTo>
                      <a:lnTo>
                        <a:pt x="23" y="25"/>
                      </a:lnTo>
                      <a:lnTo>
                        <a:pt x="20" y="20"/>
                      </a:lnTo>
                      <a:lnTo>
                        <a:pt x="11" y="14"/>
                      </a:ln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13" y="11"/>
                      </a:lnTo>
                      <a:lnTo>
                        <a:pt x="26" y="16"/>
                      </a:lnTo>
                      <a:lnTo>
                        <a:pt x="30" y="23"/>
                      </a:lnTo>
                      <a:lnTo>
                        <a:pt x="32" y="30"/>
                      </a:lnTo>
                      <a:lnTo>
                        <a:pt x="32" y="35"/>
                      </a:lnTo>
                      <a:lnTo>
                        <a:pt x="30" y="37"/>
                      </a:lnTo>
                      <a:lnTo>
                        <a:pt x="27" y="38"/>
                      </a:lnTo>
                      <a:lnTo>
                        <a:pt x="24" y="37"/>
                      </a:lnTo>
                    </a:path>
                  </a:pathLst>
                </a:custGeom>
                <a:solidFill>
                  <a:srgbClr val="a08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1512720" y="1512720"/>
                  <a:ext cx="1800" cy="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1184400" y="1222200"/>
                <a:ext cx="498240" cy="360360"/>
                <a:chOff x="1184400" y="1222200"/>
                <a:chExt cx="498240" cy="36036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1184400" y="1222200"/>
                  <a:ext cx="498240" cy="360360"/>
                </a:xfrm>
                <a:custGeom>
                  <a:avLst/>
                  <a:gdLst/>
                  <a:ahLst/>
                  <a:rect l="l" t="t" r="r" b="b"/>
                  <a:pathLst>
                    <a:path w="314" h="227">
                      <a:moveTo>
                        <a:pt x="258" y="35"/>
                      </a:moveTo>
                      <a:lnTo>
                        <a:pt x="266" y="40"/>
                      </a:lnTo>
                      <a:lnTo>
                        <a:pt x="274" y="46"/>
                      </a:lnTo>
                      <a:lnTo>
                        <a:pt x="282" y="56"/>
                      </a:lnTo>
                      <a:lnTo>
                        <a:pt x="288" y="61"/>
                      </a:lnTo>
                      <a:lnTo>
                        <a:pt x="294" y="68"/>
                      </a:lnTo>
                      <a:lnTo>
                        <a:pt x="298" y="74"/>
                      </a:lnTo>
                      <a:lnTo>
                        <a:pt x="299" y="80"/>
                      </a:lnTo>
                      <a:lnTo>
                        <a:pt x="300" y="85"/>
                      </a:lnTo>
                      <a:lnTo>
                        <a:pt x="299" y="91"/>
                      </a:lnTo>
                      <a:lnTo>
                        <a:pt x="298" y="98"/>
                      </a:lnTo>
                      <a:lnTo>
                        <a:pt x="302" y="104"/>
                      </a:lnTo>
                      <a:lnTo>
                        <a:pt x="304" y="108"/>
                      </a:lnTo>
                      <a:lnTo>
                        <a:pt x="305" y="113"/>
                      </a:lnTo>
                      <a:lnTo>
                        <a:pt x="307" y="120"/>
                      </a:lnTo>
                      <a:lnTo>
                        <a:pt x="310" y="128"/>
                      </a:lnTo>
                      <a:lnTo>
                        <a:pt x="312" y="134"/>
                      </a:lnTo>
                      <a:lnTo>
                        <a:pt x="313" y="141"/>
                      </a:lnTo>
                      <a:lnTo>
                        <a:pt x="312" y="151"/>
                      </a:lnTo>
                      <a:lnTo>
                        <a:pt x="309" y="159"/>
                      </a:lnTo>
                      <a:lnTo>
                        <a:pt x="307" y="166"/>
                      </a:lnTo>
                      <a:lnTo>
                        <a:pt x="303" y="172"/>
                      </a:lnTo>
                      <a:lnTo>
                        <a:pt x="299" y="176"/>
                      </a:lnTo>
                      <a:lnTo>
                        <a:pt x="292" y="180"/>
                      </a:lnTo>
                      <a:lnTo>
                        <a:pt x="295" y="176"/>
                      </a:lnTo>
                      <a:lnTo>
                        <a:pt x="294" y="174"/>
                      </a:lnTo>
                      <a:lnTo>
                        <a:pt x="291" y="172"/>
                      </a:lnTo>
                      <a:lnTo>
                        <a:pt x="288" y="172"/>
                      </a:lnTo>
                      <a:lnTo>
                        <a:pt x="284" y="174"/>
                      </a:lnTo>
                      <a:lnTo>
                        <a:pt x="281" y="178"/>
                      </a:lnTo>
                      <a:lnTo>
                        <a:pt x="276" y="181"/>
                      </a:lnTo>
                      <a:lnTo>
                        <a:pt x="279" y="177"/>
                      </a:lnTo>
                      <a:lnTo>
                        <a:pt x="279" y="174"/>
                      </a:lnTo>
                      <a:lnTo>
                        <a:pt x="272" y="175"/>
                      </a:lnTo>
                      <a:lnTo>
                        <a:pt x="266" y="174"/>
                      </a:lnTo>
                      <a:lnTo>
                        <a:pt x="261" y="171"/>
                      </a:lnTo>
                      <a:lnTo>
                        <a:pt x="257" y="167"/>
                      </a:lnTo>
                      <a:lnTo>
                        <a:pt x="253" y="161"/>
                      </a:lnTo>
                      <a:lnTo>
                        <a:pt x="244" y="163"/>
                      </a:lnTo>
                      <a:lnTo>
                        <a:pt x="236" y="163"/>
                      </a:lnTo>
                      <a:lnTo>
                        <a:pt x="227" y="162"/>
                      </a:lnTo>
                      <a:lnTo>
                        <a:pt x="218" y="159"/>
                      </a:lnTo>
                      <a:lnTo>
                        <a:pt x="209" y="155"/>
                      </a:lnTo>
                      <a:lnTo>
                        <a:pt x="202" y="149"/>
                      </a:lnTo>
                      <a:lnTo>
                        <a:pt x="196" y="143"/>
                      </a:lnTo>
                      <a:lnTo>
                        <a:pt x="191" y="139"/>
                      </a:lnTo>
                      <a:lnTo>
                        <a:pt x="184" y="136"/>
                      </a:lnTo>
                      <a:lnTo>
                        <a:pt x="176" y="137"/>
                      </a:lnTo>
                      <a:lnTo>
                        <a:pt x="165" y="138"/>
                      </a:lnTo>
                      <a:lnTo>
                        <a:pt x="161" y="145"/>
                      </a:lnTo>
                      <a:lnTo>
                        <a:pt x="154" y="153"/>
                      </a:lnTo>
                      <a:lnTo>
                        <a:pt x="145" y="159"/>
                      </a:lnTo>
                      <a:lnTo>
                        <a:pt x="134" y="166"/>
                      </a:lnTo>
                      <a:lnTo>
                        <a:pt x="130" y="170"/>
                      </a:lnTo>
                      <a:lnTo>
                        <a:pt x="127" y="177"/>
                      </a:lnTo>
                      <a:lnTo>
                        <a:pt x="129" y="182"/>
                      </a:lnTo>
                      <a:lnTo>
                        <a:pt x="129" y="187"/>
                      </a:lnTo>
                      <a:lnTo>
                        <a:pt x="127" y="191"/>
                      </a:lnTo>
                      <a:lnTo>
                        <a:pt x="125" y="195"/>
                      </a:lnTo>
                      <a:lnTo>
                        <a:pt x="124" y="204"/>
                      </a:lnTo>
                      <a:lnTo>
                        <a:pt x="125" y="215"/>
                      </a:lnTo>
                      <a:lnTo>
                        <a:pt x="127" y="226"/>
                      </a:lnTo>
                      <a:lnTo>
                        <a:pt x="116" y="223"/>
                      </a:lnTo>
                      <a:lnTo>
                        <a:pt x="102" y="218"/>
                      </a:lnTo>
                      <a:lnTo>
                        <a:pt x="84" y="213"/>
                      </a:lnTo>
                      <a:lnTo>
                        <a:pt x="69" y="205"/>
                      </a:lnTo>
                      <a:lnTo>
                        <a:pt x="58" y="198"/>
                      </a:lnTo>
                      <a:lnTo>
                        <a:pt x="49" y="190"/>
                      </a:lnTo>
                      <a:lnTo>
                        <a:pt x="40" y="188"/>
                      </a:lnTo>
                      <a:lnTo>
                        <a:pt x="31" y="184"/>
                      </a:lnTo>
                      <a:lnTo>
                        <a:pt x="24" y="178"/>
                      </a:lnTo>
                      <a:lnTo>
                        <a:pt x="19" y="170"/>
                      </a:lnTo>
                      <a:lnTo>
                        <a:pt x="14" y="162"/>
                      </a:lnTo>
                      <a:lnTo>
                        <a:pt x="11" y="152"/>
                      </a:lnTo>
                      <a:lnTo>
                        <a:pt x="9" y="143"/>
                      </a:lnTo>
                      <a:lnTo>
                        <a:pt x="11" y="135"/>
                      </a:lnTo>
                      <a:lnTo>
                        <a:pt x="5" y="128"/>
                      </a:lnTo>
                      <a:lnTo>
                        <a:pt x="1" y="119"/>
                      </a:lnTo>
                      <a:lnTo>
                        <a:pt x="0" y="110"/>
                      </a:lnTo>
                      <a:lnTo>
                        <a:pt x="2" y="101"/>
                      </a:lnTo>
                      <a:lnTo>
                        <a:pt x="6" y="92"/>
                      </a:lnTo>
                      <a:lnTo>
                        <a:pt x="14" y="77"/>
                      </a:lnTo>
                      <a:lnTo>
                        <a:pt x="25" y="62"/>
                      </a:lnTo>
                      <a:lnTo>
                        <a:pt x="36" y="49"/>
                      </a:lnTo>
                      <a:lnTo>
                        <a:pt x="45" y="38"/>
                      </a:lnTo>
                      <a:lnTo>
                        <a:pt x="53" y="32"/>
                      </a:lnTo>
                      <a:lnTo>
                        <a:pt x="59" y="28"/>
                      </a:lnTo>
                      <a:lnTo>
                        <a:pt x="67" y="24"/>
                      </a:lnTo>
                      <a:lnTo>
                        <a:pt x="75" y="19"/>
                      </a:lnTo>
                      <a:lnTo>
                        <a:pt x="79" y="10"/>
                      </a:lnTo>
                      <a:lnTo>
                        <a:pt x="85" y="5"/>
                      </a:lnTo>
                      <a:lnTo>
                        <a:pt x="92" y="1"/>
                      </a:lnTo>
                      <a:lnTo>
                        <a:pt x="106" y="0"/>
                      </a:lnTo>
                      <a:lnTo>
                        <a:pt x="117" y="1"/>
                      </a:lnTo>
                      <a:lnTo>
                        <a:pt x="126" y="3"/>
                      </a:lnTo>
                      <a:lnTo>
                        <a:pt x="135" y="4"/>
                      </a:lnTo>
                      <a:lnTo>
                        <a:pt x="146" y="5"/>
                      </a:lnTo>
                      <a:lnTo>
                        <a:pt x="157" y="4"/>
                      </a:lnTo>
                      <a:lnTo>
                        <a:pt x="167" y="3"/>
                      </a:lnTo>
                      <a:lnTo>
                        <a:pt x="178" y="1"/>
                      </a:lnTo>
                      <a:lnTo>
                        <a:pt x="187" y="0"/>
                      </a:lnTo>
                      <a:lnTo>
                        <a:pt x="196" y="2"/>
                      </a:lnTo>
                      <a:lnTo>
                        <a:pt x="204" y="4"/>
                      </a:lnTo>
                      <a:lnTo>
                        <a:pt x="212" y="8"/>
                      </a:lnTo>
                      <a:lnTo>
                        <a:pt x="220" y="10"/>
                      </a:lnTo>
                      <a:lnTo>
                        <a:pt x="229" y="12"/>
                      </a:lnTo>
                      <a:lnTo>
                        <a:pt x="234" y="18"/>
                      </a:lnTo>
                      <a:lnTo>
                        <a:pt x="240" y="25"/>
                      </a:lnTo>
                      <a:lnTo>
                        <a:pt x="247" y="31"/>
                      </a:lnTo>
                      <a:lnTo>
                        <a:pt x="258" y="35"/>
                      </a:lnTo>
                    </a:path>
                  </a:pathLst>
                </a:custGeom>
                <a:solidFill>
                  <a:srgbClr val="604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1193760" y="1270080"/>
                  <a:ext cx="235080" cy="206280"/>
                </a:xfrm>
                <a:custGeom>
                  <a:avLst/>
                  <a:gdLst/>
                  <a:ahLst/>
                  <a:rect l="l" t="t" r="r" b="b"/>
                  <a:pathLst>
                    <a:path w="148" h="130">
                      <a:moveTo>
                        <a:pt x="147" y="56"/>
                      </a:moveTo>
                      <a:lnTo>
                        <a:pt x="138" y="60"/>
                      </a:lnTo>
                      <a:lnTo>
                        <a:pt x="129" y="63"/>
                      </a:lnTo>
                      <a:lnTo>
                        <a:pt x="122" y="68"/>
                      </a:lnTo>
                      <a:lnTo>
                        <a:pt x="114" y="74"/>
                      </a:lnTo>
                      <a:lnTo>
                        <a:pt x="108" y="79"/>
                      </a:lnTo>
                      <a:lnTo>
                        <a:pt x="104" y="84"/>
                      </a:lnTo>
                      <a:lnTo>
                        <a:pt x="99" y="96"/>
                      </a:lnTo>
                      <a:lnTo>
                        <a:pt x="94" y="118"/>
                      </a:lnTo>
                      <a:lnTo>
                        <a:pt x="90" y="111"/>
                      </a:lnTo>
                      <a:lnTo>
                        <a:pt x="90" y="119"/>
                      </a:lnTo>
                      <a:lnTo>
                        <a:pt x="92" y="129"/>
                      </a:lnTo>
                      <a:lnTo>
                        <a:pt x="86" y="125"/>
                      </a:lnTo>
                      <a:lnTo>
                        <a:pt x="83" y="121"/>
                      </a:lnTo>
                      <a:lnTo>
                        <a:pt x="81" y="114"/>
                      </a:lnTo>
                      <a:lnTo>
                        <a:pt x="80" y="106"/>
                      </a:lnTo>
                      <a:lnTo>
                        <a:pt x="77" y="111"/>
                      </a:lnTo>
                      <a:lnTo>
                        <a:pt x="76" y="117"/>
                      </a:lnTo>
                      <a:lnTo>
                        <a:pt x="77" y="121"/>
                      </a:lnTo>
                      <a:lnTo>
                        <a:pt x="73" y="118"/>
                      </a:lnTo>
                      <a:lnTo>
                        <a:pt x="69" y="114"/>
                      </a:lnTo>
                      <a:lnTo>
                        <a:pt x="61" y="116"/>
                      </a:lnTo>
                      <a:lnTo>
                        <a:pt x="63" y="112"/>
                      </a:lnTo>
                      <a:lnTo>
                        <a:pt x="63" y="107"/>
                      </a:lnTo>
                      <a:lnTo>
                        <a:pt x="61" y="102"/>
                      </a:lnTo>
                      <a:lnTo>
                        <a:pt x="57" y="103"/>
                      </a:lnTo>
                      <a:lnTo>
                        <a:pt x="52" y="106"/>
                      </a:lnTo>
                      <a:lnTo>
                        <a:pt x="55" y="101"/>
                      </a:lnTo>
                      <a:lnTo>
                        <a:pt x="56" y="94"/>
                      </a:lnTo>
                      <a:lnTo>
                        <a:pt x="56" y="86"/>
                      </a:lnTo>
                      <a:lnTo>
                        <a:pt x="50" y="89"/>
                      </a:lnTo>
                      <a:lnTo>
                        <a:pt x="43" y="93"/>
                      </a:lnTo>
                      <a:lnTo>
                        <a:pt x="39" y="98"/>
                      </a:lnTo>
                      <a:lnTo>
                        <a:pt x="41" y="106"/>
                      </a:lnTo>
                      <a:lnTo>
                        <a:pt x="35" y="95"/>
                      </a:lnTo>
                      <a:lnTo>
                        <a:pt x="35" y="88"/>
                      </a:lnTo>
                      <a:lnTo>
                        <a:pt x="33" y="76"/>
                      </a:lnTo>
                      <a:lnTo>
                        <a:pt x="39" y="59"/>
                      </a:lnTo>
                      <a:lnTo>
                        <a:pt x="34" y="63"/>
                      </a:lnTo>
                      <a:lnTo>
                        <a:pt x="28" y="68"/>
                      </a:lnTo>
                      <a:lnTo>
                        <a:pt x="25" y="76"/>
                      </a:lnTo>
                      <a:lnTo>
                        <a:pt x="22" y="73"/>
                      </a:lnTo>
                      <a:lnTo>
                        <a:pt x="20" y="69"/>
                      </a:lnTo>
                      <a:lnTo>
                        <a:pt x="19" y="63"/>
                      </a:lnTo>
                      <a:lnTo>
                        <a:pt x="20" y="58"/>
                      </a:lnTo>
                      <a:lnTo>
                        <a:pt x="22" y="50"/>
                      </a:lnTo>
                      <a:lnTo>
                        <a:pt x="25" y="41"/>
                      </a:lnTo>
                      <a:lnTo>
                        <a:pt x="20" y="43"/>
                      </a:lnTo>
                      <a:lnTo>
                        <a:pt x="16" y="48"/>
                      </a:lnTo>
                      <a:lnTo>
                        <a:pt x="14" y="55"/>
                      </a:lnTo>
                      <a:lnTo>
                        <a:pt x="10" y="62"/>
                      </a:lnTo>
                      <a:lnTo>
                        <a:pt x="5" y="65"/>
                      </a:lnTo>
                      <a:lnTo>
                        <a:pt x="0" y="67"/>
                      </a:lnTo>
                      <a:lnTo>
                        <a:pt x="6" y="54"/>
                      </a:lnTo>
                      <a:lnTo>
                        <a:pt x="13" y="43"/>
                      </a:lnTo>
                      <a:lnTo>
                        <a:pt x="25" y="29"/>
                      </a:lnTo>
                      <a:lnTo>
                        <a:pt x="34" y="17"/>
                      </a:lnTo>
                      <a:lnTo>
                        <a:pt x="45" y="7"/>
                      </a:lnTo>
                      <a:lnTo>
                        <a:pt x="56" y="0"/>
                      </a:lnTo>
                      <a:lnTo>
                        <a:pt x="59" y="6"/>
                      </a:lnTo>
                      <a:lnTo>
                        <a:pt x="64" y="10"/>
                      </a:lnTo>
                      <a:lnTo>
                        <a:pt x="54" y="17"/>
                      </a:lnTo>
                      <a:lnTo>
                        <a:pt x="48" y="24"/>
                      </a:lnTo>
                      <a:lnTo>
                        <a:pt x="42" y="32"/>
                      </a:lnTo>
                      <a:lnTo>
                        <a:pt x="38" y="38"/>
                      </a:lnTo>
                      <a:lnTo>
                        <a:pt x="35" y="46"/>
                      </a:lnTo>
                      <a:lnTo>
                        <a:pt x="33" y="53"/>
                      </a:lnTo>
                      <a:lnTo>
                        <a:pt x="38" y="50"/>
                      </a:lnTo>
                      <a:lnTo>
                        <a:pt x="44" y="47"/>
                      </a:lnTo>
                      <a:lnTo>
                        <a:pt x="47" y="52"/>
                      </a:lnTo>
                      <a:lnTo>
                        <a:pt x="53" y="40"/>
                      </a:lnTo>
                      <a:lnTo>
                        <a:pt x="60" y="30"/>
                      </a:lnTo>
                      <a:lnTo>
                        <a:pt x="71" y="17"/>
                      </a:lnTo>
                      <a:lnTo>
                        <a:pt x="81" y="5"/>
                      </a:lnTo>
                      <a:lnTo>
                        <a:pt x="71" y="21"/>
                      </a:lnTo>
                      <a:lnTo>
                        <a:pt x="66" y="32"/>
                      </a:lnTo>
                      <a:lnTo>
                        <a:pt x="60" y="43"/>
                      </a:lnTo>
                      <a:lnTo>
                        <a:pt x="54" y="56"/>
                      </a:lnTo>
                      <a:lnTo>
                        <a:pt x="47" y="73"/>
                      </a:lnTo>
                      <a:lnTo>
                        <a:pt x="53" y="65"/>
                      </a:lnTo>
                      <a:lnTo>
                        <a:pt x="60" y="61"/>
                      </a:lnTo>
                      <a:lnTo>
                        <a:pt x="58" y="68"/>
                      </a:lnTo>
                      <a:lnTo>
                        <a:pt x="60" y="74"/>
                      </a:lnTo>
                      <a:lnTo>
                        <a:pt x="63" y="78"/>
                      </a:lnTo>
                      <a:lnTo>
                        <a:pt x="66" y="63"/>
                      </a:lnTo>
                      <a:lnTo>
                        <a:pt x="69" y="49"/>
                      </a:lnTo>
                      <a:lnTo>
                        <a:pt x="75" y="37"/>
                      </a:lnTo>
                      <a:lnTo>
                        <a:pt x="81" y="26"/>
                      </a:lnTo>
                      <a:lnTo>
                        <a:pt x="88" y="18"/>
                      </a:lnTo>
                      <a:lnTo>
                        <a:pt x="96" y="8"/>
                      </a:lnTo>
                      <a:lnTo>
                        <a:pt x="108" y="0"/>
                      </a:lnTo>
                      <a:lnTo>
                        <a:pt x="100" y="12"/>
                      </a:lnTo>
                      <a:lnTo>
                        <a:pt x="94" y="20"/>
                      </a:lnTo>
                      <a:lnTo>
                        <a:pt x="88" y="29"/>
                      </a:lnTo>
                      <a:lnTo>
                        <a:pt x="81" y="41"/>
                      </a:lnTo>
                      <a:lnTo>
                        <a:pt x="76" y="54"/>
                      </a:lnTo>
                      <a:lnTo>
                        <a:pt x="73" y="70"/>
                      </a:lnTo>
                      <a:lnTo>
                        <a:pt x="71" y="95"/>
                      </a:lnTo>
                      <a:lnTo>
                        <a:pt x="77" y="78"/>
                      </a:lnTo>
                      <a:lnTo>
                        <a:pt x="84" y="56"/>
                      </a:lnTo>
                      <a:lnTo>
                        <a:pt x="83" y="70"/>
                      </a:lnTo>
                      <a:lnTo>
                        <a:pt x="84" y="83"/>
                      </a:lnTo>
                      <a:lnTo>
                        <a:pt x="86" y="92"/>
                      </a:lnTo>
                      <a:lnTo>
                        <a:pt x="88" y="101"/>
                      </a:lnTo>
                      <a:lnTo>
                        <a:pt x="91" y="91"/>
                      </a:lnTo>
                      <a:lnTo>
                        <a:pt x="94" y="83"/>
                      </a:lnTo>
                      <a:lnTo>
                        <a:pt x="98" y="73"/>
                      </a:lnTo>
                      <a:lnTo>
                        <a:pt x="96" y="68"/>
                      </a:lnTo>
                      <a:lnTo>
                        <a:pt x="95" y="62"/>
                      </a:lnTo>
                      <a:lnTo>
                        <a:pt x="96" y="56"/>
                      </a:lnTo>
                      <a:lnTo>
                        <a:pt x="98" y="62"/>
                      </a:lnTo>
                      <a:lnTo>
                        <a:pt x="99" y="66"/>
                      </a:lnTo>
                      <a:lnTo>
                        <a:pt x="103" y="71"/>
                      </a:lnTo>
                      <a:lnTo>
                        <a:pt x="110" y="67"/>
                      </a:lnTo>
                      <a:lnTo>
                        <a:pt x="117" y="62"/>
                      </a:lnTo>
                      <a:lnTo>
                        <a:pt x="124" y="59"/>
                      </a:lnTo>
                      <a:lnTo>
                        <a:pt x="131" y="57"/>
                      </a:lnTo>
                      <a:lnTo>
                        <a:pt x="139" y="55"/>
                      </a:lnTo>
                      <a:lnTo>
                        <a:pt x="147" y="56"/>
                      </a:lnTo>
                    </a:path>
                  </a:pathLst>
                </a:custGeom>
                <a:solidFill>
                  <a:srgbClr val="806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69" name="" descr=""/>
          <p:cNvPicPr/>
          <p:nvPr/>
        </p:nvPicPr>
        <p:blipFill>
          <a:blip r:embed="rId1"/>
          <a:stretch/>
        </p:blipFill>
        <p:spPr>
          <a:xfrm>
            <a:off x="562932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0" name=""/>
          <p:cNvSpPr/>
          <p:nvPr/>
        </p:nvSpPr>
        <p:spPr>
          <a:xfrm>
            <a:off x="5602320" y="6060960"/>
            <a:ext cx="133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Payee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041680" y="1644480"/>
            <a:ext cx="841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1749600" y="5284800"/>
            <a:ext cx="1139760" cy="80496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1736640" y="6060960"/>
            <a:ext cx="130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Payer’s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57480" y="5737320"/>
            <a:ext cx="1311480" cy="0"/>
          </a:xfrm>
          <a:prstGeom prst="line">
            <a:avLst/>
          </a:prstGeom>
          <a:ln w="2556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4022280" y="5767560"/>
            <a:ext cx="381240" cy="91800"/>
          </a:xfrm>
          <a:prstGeom prst="line">
            <a:avLst/>
          </a:prstGeom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62240" y="5889600"/>
            <a:ext cx="1413000" cy="0"/>
          </a:xfrm>
          <a:prstGeom prst="line">
            <a:avLst/>
          </a:prstGeom>
          <a:ln w="255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046040" y="5403960"/>
            <a:ext cx="51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058640" y="5907240"/>
            <a:ext cx="495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E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38360" y="4095720"/>
            <a:ext cx="730080" cy="487440"/>
            <a:chOff x="738360" y="4095720"/>
            <a:chExt cx="730080" cy="487440"/>
          </a:xfrm>
        </p:grpSpPr>
        <p:sp>
          <p:nvSpPr>
            <p:cNvPr id="980" name=""/>
            <p:cNvSpPr/>
            <p:nvPr/>
          </p:nvSpPr>
          <p:spPr>
            <a:xfrm>
              <a:off x="738360" y="4290840"/>
              <a:ext cx="730080" cy="29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752400" y="4095720"/>
              <a:ext cx="33516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114560" y="4121280"/>
              <a:ext cx="3474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866880" y="3776760"/>
            <a:ext cx="460440" cy="49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66880" y="3776760"/>
            <a:ext cx="457200" cy="3492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914400" y="38527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914400" y="3867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14400" y="387684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912960" y="388620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912960" y="3894120"/>
            <a:ext cx="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942840" y="393552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03680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130400" y="3933720"/>
            <a:ext cx="0" cy="25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7360" y="5148360"/>
            <a:ext cx="81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225440" y="3932280"/>
            <a:ext cx="0" cy="25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882720" y="3992400"/>
            <a:ext cx="415800" cy="96840"/>
            <a:chOff x="882720" y="3992400"/>
            <a:chExt cx="415800" cy="96840"/>
          </a:xfrm>
        </p:grpSpPr>
        <p:sp>
          <p:nvSpPr>
            <p:cNvPr id="996" name=""/>
            <p:cNvSpPr/>
            <p:nvPr/>
          </p:nvSpPr>
          <p:spPr>
            <a:xfrm>
              <a:off x="88272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7308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6380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60640" y="39924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60360" y="39924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7400" y="402264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74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77760" y="40435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06668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6352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63600" y="40435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874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77760" y="40654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6668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16352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63600" y="4065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874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77760" y="40892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6668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16352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63600" y="40892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865080" y="3927600"/>
            <a:ext cx="455760" cy="36360"/>
          </a:xfrm>
          <a:prstGeom prst="rect">
            <a:avLst/>
          </a:prstGeom>
          <a:solidFill>
            <a:srgbClr val="3365fb"/>
          </a:solidFill>
          <a:ln w="1260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090440" y="3784680"/>
            <a:ext cx="208080" cy="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949320" y="438624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949320" y="443700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49320" y="4487760"/>
            <a:ext cx="25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41560" y="4327920"/>
            <a:ext cx="939240" cy="134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1038240" y="3049560"/>
            <a:ext cx="0" cy="696960"/>
          </a:xfrm>
          <a:prstGeom prst="line">
            <a:avLst/>
          </a:prstGeom>
          <a:ln w="255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744320" y="559908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Deposit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795120" y="6154560"/>
            <a:ext cx="104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01f3"/>
                </a:solidFill>
                <a:latin typeface="Arial"/>
              </a:rPr>
              <a:t>Clear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777680" y="6281640"/>
            <a:ext cx="119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Deb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629680" y="6294600"/>
            <a:ext cx="1249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"/>
              </a:rPr>
              <a:t>Credit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155080" y="1325880"/>
            <a:ext cx="488520" cy="128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240360" y="1741320"/>
            <a:ext cx="2717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188040" y="4422600"/>
            <a:ext cx="1558440" cy="131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463040" y="4084560"/>
            <a:ext cx="1455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Mail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14ffb"/>
                </a:solidFill>
                <a:latin typeface="Arial"/>
              </a:rPr>
              <a:t>E-Check line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543800" y="2300400"/>
            <a:ext cx="812880" cy="393480"/>
            <a:chOff x="7543800" y="2300400"/>
            <a:chExt cx="812880" cy="393480"/>
          </a:xfrm>
        </p:grpSpPr>
        <p:sp>
          <p:nvSpPr>
            <p:cNvPr id="1033" name=""/>
            <p:cNvSpPr/>
            <p:nvPr/>
          </p:nvSpPr>
          <p:spPr>
            <a:xfrm>
              <a:off x="7543800" y="2311560"/>
              <a:ext cx="812880" cy="3823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605720" y="2300400"/>
              <a:ext cx="687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 &amp; 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y Inf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6602400" y="1771560"/>
            <a:ext cx="765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natur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“Card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3552840" y="2368440"/>
            <a:ext cx="855720" cy="1459080"/>
            <a:chOff x="3552840" y="2368440"/>
            <a:chExt cx="855720" cy="1459080"/>
          </a:xfrm>
        </p:grpSpPr>
        <p:sp>
          <p:nvSpPr>
            <p:cNvPr id="1037" name=""/>
            <p:cNvSpPr/>
            <p:nvPr/>
          </p:nvSpPr>
          <p:spPr>
            <a:xfrm flipH="1">
              <a:off x="3552840" y="2368440"/>
              <a:ext cx="403200" cy="165240"/>
            </a:xfrm>
            <a:prstGeom prst="line">
              <a:avLst/>
            </a:prstGeom>
            <a:ln w="25560">
              <a:solidFill>
                <a:srgbClr val="60c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595680" y="2955960"/>
              <a:ext cx="812880" cy="8143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6680" y="294336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70280" y="2935440"/>
              <a:ext cx="407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616200" y="342108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605040" y="3586320"/>
              <a:ext cx="79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613320" y="320688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608280" y="33955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595680" y="35863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592440" y="2662200"/>
              <a:ext cx="812880" cy="24120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40040" y="2666880"/>
              <a:ext cx="52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608280" y="3173400"/>
              <a:ext cx="78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7254720" y="3273480"/>
            <a:ext cx="941760" cy="1493640"/>
            <a:chOff x="7254720" y="3273480"/>
            <a:chExt cx="941760" cy="1493640"/>
          </a:xfrm>
        </p:grpSpPr>
        <p:sp>
          <p:nvSpPr>
            <p:cNvPr id="1050" name=""/>
            <p:cNvSpPr/>
            <p:nvPr/>
          </p:nvSpPr>
          <p:spPr>
            <a:xfrm>
              <a:off x="7310520" y="4113360"/>
              <a:ext cx="812880" cy="29196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10520" y="3278160"/>
              <a:ext cx="812880" cy="82224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389720" y="3273480"/>
              <a:ext cx="640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318440" y="3776760"/>
              <a:ext cx="79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31040" y="3941640"/>
              <a:ext cx="77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343640" y="41068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326360" y="3535200"/>
              <a:ext cx="765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gn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08720" y="373860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308720" y="391644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54720" y="4157640"/>
              <a:ext cx="941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ors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21680" y="3559320"/>
              <a:ext cx="795240" cy="0"/>
            </a:xfrm>
            <a:prstGeom prst="line">
              <a:avLst/>
            </a:prstGeom>
            <a:ln w="12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7308720" y="4378320"/>
              <a:ext cx="817920" cy="351000"/>
              <a:chOff x="7308720" y="4378320"/>
              <a:chExt cx="817920" cy="351000"/>
            </a:xfrm>
          </p:grpSpPr>
          <p:sp>
            <p:nvSpPr>
              <p:cNvPr id="1062" name=""/>
              <p:cNvSpPr/>
              <p:nvPr/>
            </p:nvSpPr>
            <p:spPr>
              <a:xfrm>
                <a:off x="7308720" y="4411800"/>
                <a:ext cx="812880" cy="15228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08720" y="4576680"/>
                <a:ext cx="812880" cy="15264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326360" y="4378320"/>
                <a:ext cx="800280" cy="2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rtific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7321680" y="4525920"/>
              <a:ext cx="8002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rtific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3565440" y="1515960"/>
            <a:ext cx="94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837400" y="6595920"/>
            <a:ext cx="3298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5 Financial Services Technology Consort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3"/>
          <a:stretch/>
        </p:blipFill>
        <p:spPr>
          <a:xfrm>
            <a:off x="309600" y="6311880"/>
            <a:ext cx="434880" cy="546120"/>
          </a:xfrm>
          <a:prstGeom prst="rect">
            <a:avLst/>
          </a:prstGeom>
          <a:ln w="0">
            <a:noFill/>
          </a:ln>
        </p:spPr>
      </p:pic>
      <p:sp>
        <p:nvSpPr>
          <p:cNvPr id="1069" name=""/>
          <p:cNvSpPr/>
          <p:nvPr/>
        </p:nvSpPr>
        <p:spPr>
          <a:xfrm>
            <a:off x="3443400" y="2622600"/>
            <a:ext cx="1139760" cy="1425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424320" y="383076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89920" y="2825640"/>
            <a:ext cx="1071360" cy="2179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132680" y="4786200"/>
            <a:ext cx="1185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ure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23000" y="2106720"/>
            <a:ext cx="55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60c900"/>
                </a:solidFill>
                <a:latin typeface="Arial"/>
              </a:rPr>
              <a:t>E-M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7269120" y="2959200"/>
            <a:ext cx="912960" cy="257040"/>
            <a:chOff x="7269120" y="2959200"/>
            <a:chExt cx="912960" cy="257040"/>
          </a:xfrm>
        </p:grpSpPr>
        <p:sp>
          <p:nvSpPr>
            <p:cNvPr id="1075" name=""/>
            <p:cNvSpPr/>
            <p:nvPr/>
          </p:nvSpPr>
          <p:spPr>
            <a:xfrm>
              <a:off x="7319880" y="2959200"/>
              <a:ext cx="812880" cy="25704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69120" y="2962440"/>
              <a:ext cx="912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posit S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>
            <a:off x="7532640" y="3249720"/>
            <a:ext cx="387360" cy="0"/>
          </a:xfrm>
          <a:prstGeom prst="line">
            <a:avLst/>
          </a:prstGeom>
          <a:ln w="507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8680" y="4065480"/>
            <a:ext cx="469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60c900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vertising on the Web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payments range from $10-$20/thousand “impression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¢ to 2¢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ertising to support low value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ransaction processing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party agencies will place ads on small web si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ubleClick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STC Electronic Check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heckbook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MCIA, Smart Card, PIN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ture and transaction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signatures: signing and endors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gital certificates: authenticate payor, payor bank and bank accou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pproach: Online Aggregation Ac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s transfer between accounts at a central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ounts at the central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id or postpaid consumer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ransaction overhead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: server may become a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rrangement with accounting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NetBill, AOL, CyberCoin, Globe I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lobeI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Technology from GC Te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accounting serv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94240" y="5079960"/>
            <a:ext cx="1447560" cy="8380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35240" y="2876400"/>
            <a:ext cx="113040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2197440" y="2948040"/>
            <a:ext cx="1196280" cy="553680"/>
            <a:chOff x="2197440" y="2948040"/>
            <a:chExt cx="1196280" cy="553680"/>
          </a:xfrm>
        </p:grpSpPr>
        <p:sp>
          <p:nvSpPr>
            <p:cNvPr id="1094" name=""/>
            <p:cNvSpPr/>
            <p:nvPr/>
          </p:nvSpPr>
          <p:spPr>
            <a:xfrm>
              <a:off x="2197440" y="294804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93200" y="313848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235240" y="5124600"/>
            <a:ext cx="1130400" cy="74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2115000" y="5133960"/>
            <a:ext cx="1361160" cy="541080"/>
            <a:chOff x="2115000" y="5133960"/>
            <a:chExt cx="1361160" cy="541080"/>
          </a:xfrm>
        </p:grpSpPr>
        <p:sp>
          <p:nvSpPr>
            <p:cNvPr id="1098" name=""/>
            <p:cNvSpPr/>
            <p:nvPr/>
          </p:nvSpPr>
          <p:spPr>
            <a:xfrm>
              <a:off x="2115000" y="5133960"/>
              <a:ext cx="1361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sumer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33352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"/>
          <p:cNvSpPr/>
          <p:nvPr/>
        </p:nvSpPr>
        <p:spPr>
          <a:xfrm>
            <a:off x="5388120" y="2876400"/>
            <a:ext cx="1226880" cy="7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5420520" y="2928960"/>
            <a:ext cx="1147680" cy="553680"/>
            <a:chOff x="5420520" y="2928960"/>
            <a:chExt cx="1147680" cy="553680"/>
          </a:xfrm>
        </p:grpSpPr>
        <p:sp>
          <p:nvSpPr>
            <p:cNvPr id="1102" name=""/>
            <p:cNvSpPr/>
            <p:nvPr/>
          </p:nvSpPr>
          <p:spPr>
            <a:xfrm>
              <a:off x="5420520" y="2928960"/>
              <a:ext cx="1147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499720" y="3119400"/>
              <a:ext cx="906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Paye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5362560" y="5124600"/>
            <a:ext cx="1278000" cy="75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338440" y="5133960"/>
            <a:ext cx="1312200" cy="541080"/>
            <a:chOff x="5338440" y="5133960"/>
            <a:chExt cx="1312200" cy="541080"/>
          </a:xfrm>
        </p:grpSpPr>
        <p:sp>
          <p:nvSpPr>
            <p:cNvPr id="1106" name=""/>
            <p:cNvSpPr/>
            <p:nvPr/>
          </p:nvSpPr>
          <p:spPr>
            <a:xfrm>
              <a:off x="5338440" y="5133960"/>
              <a:ext cx="1312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rchant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41840" y="531180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583800" y="5896080"/>
            <a:ext cx="197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Settl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65600" y="4070520"/>
            <a:ext cx="11304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50680" y="4111560"/>
            <a:ext cx="1490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med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3290760" y="2997360"/>
            <a:ext cx="2081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316320" y="3240000"/>
            <a:ext cx="1039680" cy="81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3290760" y="3519360"/>
            <a:ext cx="63360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087720" y="3621240"/>
            <a:ext cx="658800" cy="58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2757600" y="3595680"/>
            <a:ext cx="1014480" cy="93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16320" y="314964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31360" y="266544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83560" y="3165480"/>
            <a:ext cx="86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530520" y="348624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C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157200" y="3730680"/>
            <a:ext cx="90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654280" y="40356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111920" y="3079800"/>
            <a:ext cx="8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. 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062160" y="4611600"/>
            <a:ext cx="709920" cy="50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316320" y="5740560"/>
            <a:ext cx="203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58520" y="5407200"/>
            <a:ext cx="167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tch Pa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02240" y="4492800"/>
            <a:ext cx="100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597000" y="3543480"/>
            <a:ext cx="2484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,2 Pay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,4 Confi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llenge/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,6  Payment Proof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5562720" y="1647720"/>
            <a:ext cx="3289320" cy="7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88440" y="14587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Bill maintains accounts for both consumers and mercha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transactions clear through online accou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d accounts through credit cards or electronic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 transa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s ato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repu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strong crypt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for Flexible Pricing, Access Contr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 lic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 p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omated support oper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Client Requests a Price Quo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Service Provider Makes an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Client Accepts Off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Goods delivered encryp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Receipt acknowledg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Transaction submitt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 Transaction approv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Key deliv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755640" y="1763640"/>
            <a:ext cx="3689280" cy="3862440"/>
            <a:chOff x="755640" y="1763640"/>
            <a:chExt cx="3689280" cy="3862440"/>
          </a:xfrm>
        </p:grpSpPr>
        <p:sp>
          <p:nvSpPr>
            <p:cNvPr id="1138" name=""/>
            <p:cNvSpPr/>
            <p:nvPr/>
          </p:nvSpPr>
          <p:spPr>
            <a:xfrm>
              <a:off x="2317680" y="4756320"/>
              <a:ext cx="2127240" cy="869760"/>
            </a:xfrm>
            <a:prstGeom prst="roundRect">
              <a:avLst>
                <a:gd name="adj" fmla="val 12486"/>
              </a:avLst>
            </a:pr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2080" y="1917720"/>
              <a:ext cx="1212840" cy="1860480"/>
            </a:xfrm>
            <a:custGeom>
              <a:avLst/>
              <a:gdLst>
                <a:gd name="textAreaLeft" fmla="*/ 44280 w 1212840"/>
                <a:gd name="textAreaRight" fmla="*/ 1168560 w 1212840"/>
                <a:gd name="textAreaTop" fmla="*/ 44280 h 1860480"/>
                <a:gd name="textAreaBottom" fmla="*/ 1816200 h 1860480"/>
              </a:gdLst>
              <a:ahLst/>
              <a:rect l="textAreaLeft" t="textAreaTop" r="textAreaRight" b="textAreaBottom"/>
              <a:pathLst>
                <a:path w="21600" h="33131">
                  <a:moveTo>
                    <a:pt x="2697" y="0"/>
                  </a:moveTo>
                  <a:arcTo wR="2697" hR="2697" stAng="16200000" swAng="-5400000"/>
                  <a:lnTo>
                    <a:pt x="0" y="30434"/>
                  </a:lnTo>
                  <a:arcTo wR="2697" hR="2697" stAng="10800000" swAng="-5400000"/>
                  <a:lnTo>
                    <a:pt x="18903" y="33131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55640" y="1974960"/>
              <a:ext cx="1041480" cy="1917720"/>
            </a:xfrm>
            <a:custGeom>
              <a:avLst/>
              <a:gdLst>
                <a:gd name="textAreaLeft" fmla="*/ 37800 w 1041480"/>
                <a:gd name="textAreaRight" fmla="*/ 1003680 w 1041480"/>
                <a:gd name="textAreaTop" fmla="*/ 37800 h 1917720"/>
                <a:gd name="textAreaBottom" fmla="*/ 1879920 h 1917720"/>
              </a:gdLst>
              <a:ahLst/>
              <a:rect l="textAreaLeft" t="textAreaTop" r="textAreaRight" b="textAreaBottom"/>
              <a:pathLst>
                <a:path w="21600" h="39767">
                  <a:moveTo>
                    <a:pt x="2697" y="0"/>
                  </a:moveTo>
                  <a:arcTo wR="2697" hR="2697" stAng="16200000" swAng="-5400000"/>
                  <a:lnTo>
                    <a:pt x="0" y="37070"/>
                  </a:lnTo>
                  <a:arcTo wR="2697" hR="2697" stAng="10800000" swAng="-5400000"/>
                  <a:lnTo>
                    <a:pt x="18903" y="397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eaec5e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55600" y="17636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1828440" y="2692440"/>
              <a:ext cx="1335600" cy="103320"/>
              <a:chOff x="1828440" y="2692440"/>
              <a:chExt cx="1335600" cy="103320"/>
            </a:xfrm>
          </p:grpSpPr>
          <p:sp>
            <p:nvSpPr>
              <p:cNvPr id="1143" name=""/>
              <p:cNvSpPr/>
              <p:nvPr/>
            </p:nvSpPr>
            <p:spPr>
              <a:xfrm>
                <a:off x="2982960" y="269244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1828440" y="275112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1854360" y="2827440"/>
              <a:ext cx="1346040" cy="102960"/>
              <a:chOff x="1854360" y="2827440"/>
              <a:chExt cx="1346040" cy="102960"/>
            </a:xfrm>
          </p:grpSpPr>
          <p:sp>
            <p:nvSpPr>
              <p:cNvPr id="1146" name=""/>
              <p:cNvSpPr/>
              <p:nvPr/>
            </p:nvSpPr>
            <p:spPr>
              <a:xfrm>
                <a:off x="1854360" y="2827440"/>
                <a:ext cx="168120" cy="10296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2048040" y="288756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2017440" y="242568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97332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09640" y="292896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20680" y="31194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07560" y="2652840"/>
              <a:ext cx="778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00480" y="2470320"/>
              <a:ext cx="1095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985840" y="4925880"/>
              <a:ext cx="905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B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3906720" y="3796920"/>
              <a:ext cx="77760" cy="1013040"/>
              <a:chOff x="3906720" y="3796920"/>
              <a:chExt cx="77760" cy="1013040"/>
            </a:xfrm>
          </p:grpSpPr>
          <p:sp>
            <p:nvSpPr>
              <p:cNvPr id="1156" name=""/>
              <p:cNvSpPr/>
              <p:nvPr/>
            </p:nvSpPr>
            <p:spPr>
              <a:xfrm>
                <a:off x="3906720" y="4589640"/>
                <a:ext cx="77760" cy="220320"/>
              </a:xfrm>
              <a:custGeom>
                <a:avLst/>
                <a:gdLst/>
                <a:ahLst/>
                <a:rect l="l" t="t" r="r" b="b"/>
                <a:pathLst>
                  <a:path w="49" h="139">
                    <a:moveTo>
                      <a:pt x="27" y="138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48" y="0"/>
                    </a:lnTo>
                    <a:lnTo>
                      <a:pt x="27" y="1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970440" y="3796920"/>
                <a:ext cx="0" cy="80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843200" y="3386160"/>
              <a:ext cx="1333440" cy="103320"/>
              <a:chOff x="1843200" y="3386160"/>
              <a:chExt cx="1333440" cy="103320"/>
            </a:xfrm>
          </p:grpSpPr>
          <p:sp>
            <p:nvSpPr>
              <p:cNvPr id="1159" name=""/>
              <p:cNvSpPr/>
              <p:nvPr/>
            </p:nvSpPr>
            <p:spPr>
              <a:xfrm>
                <a:off x="2995560" y="3386160"/>
                <a:ext cx="181080" cy="10332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1843200" y="3446640"/>
                <a:ext cx="116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470400" y="3741840"/>
              <a:ext cx="79200" cy="1003320"/>
              <a:chOff x="3470400" y="3741840"/>
              <a:chExt cx="79200" cy="1003320"/>
            </a:xfrm>
          </p:grpSpPr>
          <p:sp>
            <p:nvSpPr>
              <p:cNvPr id="1162" name=""/>
              <p:cNvSpPr/>
              <p:nvPr/>
            </p:nvSpPr>
            <p:spPr>
              <a:xfrm>
                <a:off x="3470400" y="3741840"/>
                <a:ext cx="79200" cy="222120"/>
              </a:xfrm>
              <a:custGeom>
                <a:avLst/>
                <a:gdLst/>
                <a:ahLst/>
                <a:rect l="l" t="t" r="r" b="b"/>
                <a:pathLst>
                  <a:path w="50" h="140">
                    <a:moveTo>
                      <a:pt x="28" y="0"/>
                    </a:moveTo>
                    <a:lnTo>
                      <a:pt x="49" y="139"/>
                    </a:lnTo>
                    <a:lnTo>
                      <a:pt x="28" y="139"/>
                    </a:lnTo>
                    <a:lnTo>
                      <a:pt x="0" y="139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533760" y="3994200"/>
                <a:ext cx="144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1854360" y="3538440"/>
              <a:ext cx="1346040" cy="103320"/>
              <a:chOff x="1854360" y="3538440"/>
              <a:chExt cx="1346040" cy="103320"/>
            </a:xfrm>
          </p:grpSpPr>
          <p:sp>
            <p:nvSpPr>
              <p:cNvPr id="1165" name=""/>
              <p:cNvSpPr/>
              <p:nvPr/>
            </p:nvSpPr>
            <p:spPr>
              <a:xfrm>
                <a:off x="1854360" y="353844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48040" y="359892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>
              <a:off x="2398320" y="367524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8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"/>
            <p:cNvGrpSpPr/>
            <p:nvPr/>
          </p:nvGrpSpPr>
          <p:grpSpPr>
            <a:xfrm>
              <a:off x="1828440" y="2082960"/>
              <a:ext cx="1335600" cy="102960"/>
              <a:chOff x="1828440" y="2082960"/>
              <a:chExt cx="1335600" cy="102960"/>
            </a:xfrm>
          </p:grpSpPr>
          <p:sp>
            <p:nvSpPr>
              <p:cNvPr id="1169" name=""/>
              <p:cNvSpPr/>
              <p:nvPr/>
            </p:nvSpPr>
            <p:spPr>
              <a:xfrm>
                <a:off x="2982960" y="2082960"/>
                <a:ext cx="181080" cy="102960"/>
              </a:xfrm>
              <a:custGeom>
                <a:avLst/>
                <a:gdLst/>
                <a:ahLst/>
                <a:rect l="l" t="t" r="r" b="b"/>
                <a:pathLst>
                  <a:path w="114" h="65">
                    <a:moveTo>
                      <a:pt x="113" y="27"/>
                    </a:moveTo>
                    <a:lnTo>
                      <a:pt x="0" y="64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113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1828440" y="2141640"/>
                <a:ext cx="116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1854360" y="2217600"/>
              <a:ext cx="1346040" cy="103320"/>
              <a:chOff x="1854360" y="2217600"/>
              <a:chExt cx="1346040" cy="103320"/>
            </a:xfrm>
          </p:grpSpPr>
          <p:sp>
            <p:nvSpPr>
              <p:cNvPr id="1172" name=""/>
              <p:cNvSpPr/>
              <p:nvPr/>
            </p:nvSpPr>
            <p:spPr>
              <a:xfrm>
                <a:off x="1854360" y="2217600"/>
                <a:ext cx="168120" cy="103320"/>
              </a:xfrm>
              <a:custGeom>
                <a:avLst/>
                <a:gdLst/>
                <a:ahLst/>
                <a:rect l="l" t="t" r="r" b="b"/>
                <a:pathLst>
                  <a:path w="106" h="65">
                    <a:moveTo>
                      <a:pt x="0" y="27"/>
                    </a:moveTo>
                    <a:lnTo>
                      <a:pt x="105" y="0"/>
                    </a:lnTo>
                    <a:lnTo>
                      <a:pt x="105" y="27"/>
                    </a:lnTo>
                    <a:lnTo>
                      <a:pt x="105" y="64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048040" y="2278080"/>
                <a:ext cx="115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2627280" y="2300400"/>
              <a:ext cx="600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77960" y="4087800"/>
              <a:ext cx="435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7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trong Service Guarante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atomic:  money cannot be lost or created due to machine or network fail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cash coins can be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s atomic: Customer is guaranteed to be charged if and only if information goods are delivered successful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certified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repudia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can prove what the consumer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can prove what the merchant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ivac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s may elect to use pseudonyms  to remain anonymous to mercha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s may offer incentives for consumers to disclose useful demographic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must know the identity of the parties and the amount of the transaction, but not necessarily what goods were order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records are kept to detect fraud and resolv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Archite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To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cli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hant ser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yment clearingho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Centr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ount administr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 si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ores private ke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ential Serv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 discou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Central - www.netbill.co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ount creation and upd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aperwork, immediate error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al in 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-line stat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ailing exp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documentation, frequently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WW customer servic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edback button on each web p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ransaction data in call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 replication of complaints about mercha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work for consumer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may easily grant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two kinds of mon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ken money:  tokens which represent val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s can be exchanged f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ational money:  ledger entries in Demand Deposit Accou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is transferred between accounts upon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y a che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ring required if accounts are at different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s may have negative bal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redit card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2546280" y="4070520"/>
            <a:ext cx="2127240" cy="869760"/>
          </a:xfrm>
          <a:prstGeom prst="roundRect">
            <a:avLst>
              <a:gd name="adj" fmla="val 12495"/>
            </a:avLst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460680" y="1231920"/>
            <a:ext cx="1212840" cy="1860480"/>
          </a:xfrm>
          <a:custGeom>
            <a:avLst/>
            <a:gdLst>
              <a:gd name="textAreaLeft" fmla="*/ 44280 w 1212840"/>
              <a:gd name="textAreaRight" fmla="*/ 1168560 w 1212840"/>
              <a:gd name="textAreaTop" fmla="*/ 44280 h 1860480"/>
              <a:gd name="textAreaBottom" fmla="*/ 1816200 h 1860480"/>
            </a:gdLst>
            <a:ahLst/>
            <a:rect l="textAreaLeft" t="textAreaTop" r="textAreaRight" b="textAreaBottom"/>
            <a:pathLst>
              <a:path w="21600" h="33131">
                <a:moveTo>
                  <a:pt x="2699" y="0"/>
                </a:moveTo>
                <a:arcTo wR="2699" hR="2699" stAng="16200000" swAng="-5400000"/>
                <a:lnTo>
                  <a:pt x="0" y="30432"/>
                </a:lnTo>
                <a:arcTo wR="2699" hR="2699" stAng="10800000" swAng="-5400000"/>
                <a:lnTo>
                  <a:pt x="18901" y="3313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984240" y="1289160"/>
            <a:ext cx="1041480" cy="1917720"/>
          </a:xfrm>
          <a:custGeom>
            <a:avLst/>
            <a:gdLst>
              <a:gd name="textAreaLeft" fmla="*/ 37800 w 1041480"/>
              <a:gd name="textAreaRight" fmla="*/ 1003680 w 1041480"/>
              <a:gd name="textAreaTop" fmla="*/ 37800 h 1917720"/>
              <a:gd name="textAreaBottom" fmla="*/ 1879920 h 1917720"/>
            </a:gdLst>
            <a:ahLst/>
            <a:rect l="textAreaLeft" t="textAreaTop" r="textAreaRight" b="textAreaBottom"/>
            <a:pathLst>
              <a:path w="21600" h="39767">
                <a:moveTo>
                  <a:pt x="2699" y="0"/>
                </a:moveTo>
                <a:arcTo wR="2699" hR="2699" stAng="16200000" swAng="-5400000"/>
                <a:lnTo>
                  <a:pt x="0" y="37068"/>
                </a:lnTo>
                <a:arcTo wR="2699" hR="2699" stAng="10800000" swAng="-5400000"/>
                <a:lnTo>
                  <a:pt x="18901" y="3976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eaec5e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 Protocol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807080" y="1276200"/>
            <a:ext cx="3867120" cy="46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Phas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2  Price negot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-4  Goods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8 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sion of price negotiation phase permits flexible pric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5680" indent="-2656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“subscription” means the price is zer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7560" indent="-2124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skip steps 6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90320" y="108432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061720" y="2006640"/>
            <a:ext cx="1330920" cy="103320"/>
            <a:chOff x="2061720" y="2006640"/>
            <a:chExt cx="1330920" cy="103320"/>
          </a:xfrm>
        </p:grpSpPr>
        <p:sp>
          <p:nvSpPr>
            <p:cNvPr id="1195" name=""/>
            <p:cNvSpPr/>
            <p:nvPr/>
          </p:nvSpPr>
          <p:spPr>
            <a:xfrm>
              <a:off x="3211560" y="200664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2061720" y="206532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082960" y="2141640"/>
            <a:ext cx="1352520" cy="102960"/>
            <a:chOff x="2082960" y="2141640"/>
            <a:chExt cx="1352520" cy="102960"/>
          </a:xfrm>
        </p:grpSpPr>
        <p:sp>
          <p:nvSpPr>
            <p:cNvPr id="1198" name=""/>
            <p:cNvSpPr/>
            <p:nvPr/>
          </p:nvSpPr>
          <p:spPr>
            <a:xfrm>
              <a:off x="2082960" y="2141640"/>
              <a:ext cx="168120" cy="10296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68360" y="220176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2252160" y="17463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20804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844360" y="224964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255400" y="24400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142640" y="1973160"/>
            <a:ext cx="778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35200" y="1790640"/>
            <a:ext cx="1095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220920" y="4246560"/>
            <a:ext cx="1222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B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135320" y="3117960"/>
            <a:ext cx="77760" cy="1006200"/>
            <a:chOff x="4135320" y="3117960"/>
            <a:chExt cx="77760" cy="1006200"/>
          </a:xfrm>
        </p:grpSpPr>
        <p:sp>
          <p:nvSpPr>
            <p:cNvPr id="1208" name=""/>
            <p:cNvSpPr/>
            <p:nvPr/>
          </p:nvSpPr>
          <p:spPr>
            <a:xfrm>
              <a:off x="4135320" y="39038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27" y="138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8" y="0"/>
                  </a:lnTo>
                  <a:lnTo>
                    <a:pt x="27" y="1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99040" y="3117960"/>
              <a:ext cx="0" cy="7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2076480" y="2700360"/>
            <a:ext cx="1328760" cy="103320"/>
            <a:chOff x="2076480" y="2700360"/>
            <a:chExt cx="1328760" cy="103320"/>
          </a:xfrm>
        </p:grpSpPr>
        <p:sp>
          <p:nvSpPr>
            <p:cNvPr id="1211" name=""/>
            <p:cNvSpPr/>
            <p:nvPr/>
          </p:nvSpPr>
          <p:spPr>
            <a:xfrm>
              <a:off x="3224160" y="2700360"/>
              <a:ext cx="181080" cy="10332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076480" y="2760840"/>
              <a:ext cx="11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3699000" y="3056040"/>
            <a:ext cx="79200" cy="1009440"/>
            <a:chOff x="3699000" y="3056040"/>
            <a:chExt cx="79200" cy="1009440"/>
          </a:xfrm>
        </p:grpSpPr>
        <p:sp>
          <p:nvSpPr>
            <p:cNvPr id="1214" name=""/>
            <p:cNvSpPr/>
            <p:nvPr/>
          </p:nvSpPr>
          <p:spPr>
            <a:xfrm>
              <a:off x="3699000" y="3056040"/>
              <a:ext cx="79200" cy="222120"/>
            </a:xfrm>
            <a:custGeom>
              <a:avLst/>
              <a:gdLst/>
              <a:ahLst/>
              <a:rect l="l" t="t" r="r" b="b"/>
              <a:pathLst>
                <a:path w="50" h="140">
                  <a:moveTo>
                    <a:pt x="28" y="0"/>
                  </a:moveTo>
                  <a:lnTo>
                    <a:pt x="49" y="139"/>
                  </a:lnTo>
                  <a:lnTo>
                    <a:pt x="28" y="139"/>
                  </a:lnTo>
                  <a:lnTo>
                    <a:pt x="0" y="139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2360" y="3300480"/>
              <a:ext cx="144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2082960" y="2852640"/>
            <a:ext cx="1352520" cy="103320"/>
            <a:chOff x="2082960" y="2852640"/>
            <a:chExt cx="1352520" cy="103320"/>
          </a:xfrm>
        </p:grpSpPr>
        <p:sp>
          <p:nvSpPr>
            <p:cNvPr id="1217" name=""/>
            <p:cNvSpPr/>
            <p:nvPr/>
          </p:nvSpPr>
          <p:spPr>
            <a:xfrm>
              <a:off x="2082960" y="285264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68360" y="291312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2633400" y="299556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2061720" y="1397160"/>
            <a:ext cx="1330920" cy="102960"/>
            <a:chOff x="2061720" y="1397160"/>
            <a:chExt cx="1330920" cy="102960"/>
          </a:xfrm>
        </p:grpSpPr>
        <p:sp>
          <p:nvSpPr>
            <p:cNvPr id="1221" name=""/>
            <p:cNvSpPr/>
            <p:nvPr/>
          </p:nvSpPr>
          <p:spPr>
            <a:xfrm>
              <a:off x="3211560" y="1397160"/>
              <a:ext cx="181080" cy="10296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13" y="27"/>
                  </a:moveTo>
                  <a:lnTo>
                    <a:pt x="0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13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061720" y="1455840"/>
              <a:ext cx="115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2082960" y="1531800"/>
            <a:ext cx="1352520" cy="103320"/>
            <a:chOff x="2082960" y="1531800"/>
            <a:chExt cx="1352520" cy="103320"/>
          </a:xfrm>
        </p:grpSpPr>
        <p:sp>
          <p:nvSpPr>
            <p:cNvPr id="1224" name=""/>
            <p:cNvSpPr/>
            <p:nvPr/>
          </p:nvSpPr>
          <p:spPr>
            <a:xfrm>
              <a:off x="2082960" y="1531800"/>
              <a:ext cx="168120" cy="103320"/>
            </a:xfrm>
            <a:custGeom>
              <a:avLst/>
              <a:gdLst/>
              <a:ahLst/>
              <a:rect l="l" t="t" r="r" b="b"/>
              <a:pathLst>
                <a:path w="106" h="65">
                  <a:moveTo>
                    <a:pt x="0" y="27"/>
                  </a:moveTo>
                  <a:lnTo>
                    <a:pt x="105" y="0"/>
                  </a:lnTo>
                  <a:lnTo>
                    <a:pt x="105" y="27"/>
                  </a:lnTo>
                  <a:lnTo>
                    <a:pt x="105" y="64"/>
                  </a:lnTo>
                  <a:lnTo>
                    <a:pt x="0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268360" y="1592280"/>
              <a:ext cx="116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862360" y="1620720"/>
            <a:ext cx="587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712680" y="3408480"/>
            <a:ext cx="435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lexible Pricing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 Po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hoice of pay per use or subscrip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 in subscription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to zero for remainder of subscription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olume Discou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ule would log count of individual articles purchased b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count exceeds threshold, price drops by discount perce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ross sell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ing an article from IEEE Transactions entitles user to one hour free subscription to IEEE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1240" indent="-21708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e effect of running goods access CGI for Transaction article is to record subscription to Procee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buys a subscrip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 info is logged at SMS datab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23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8050680" y="650700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41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690080" y="4398840"/>
            <a:ext cx="2240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 a 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 flipV="1">
            <a:off x="7093080" y="4063680"/>
            <a:ext cx="311040" cy="156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147440" y="4379760"/>
            <a:ext cx="15804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 flipV="1">
            <a:off x="2368440" y="3701880"/>
            <a:ext cx="4445280" cy="2197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81560" y="527544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338960" y="50277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wo Methods to Support Subscrip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ing module does lookup of user in subscription database on each goods reque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ser is a subscriber, quoted price is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lient obtains and caches a “token” (cookie, credential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presented with each request for price qu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identifies holder as 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an be calculated without database loo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supports both method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 Management Syst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requests token from S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criber presents token when requesting goods to show she is a subscrib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kens expire and must be (invisibly) refreshe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1440" indent="-914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software remembers which merchan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pt tokens and where to get the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423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425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2"/>
          <a:stretch/>
        </p:blipFill>
        <p:spPr>
          <a:xfrm>
            <a:off x="6716880" y="3325680"/>
            <a:ext cx="920520" cy="717840"/>
          </a:xfrm>
          <a:prstGeom prst="rect">
            <a:avLst/>
          </a:prstGeom>
          <a:ln w="0">
            <a:noFill/>
          </a:ln>
        </p:spPr>
      </p:pic>
      <p:sp>
        <p:nvSpPr>
          <p:cNvPr id="1600" name=""/>
          <p:cNvSpPr/>
          <p:nvPr/>
        </p:nvSpPr>
        <p:spPr>
          <a:xfrm>
            <a:off x="7585560" y="3198960"/>
            <a:ext cx="15804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691160" y="4398840"/>
            <a:ext cx="169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19800" y="2494080"/>
            <a:ext cx="1082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510160" y="5294160"/>
            <a:ext cx="371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ite Licenses and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hird Party Discou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020080" cy="15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ed using same technology (“Credentials”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ential server operated by unrelated entity (e.g. CMU for goods supplied from UMD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440000" y="2906640"/>
            <a:ext cx="920520" cy="71748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2160720" y="3051000"/>
            <a:ext cx="4189320" cy="2090880"/>
          </a:xfrm>
          <a:custGeom>
            <a:avLst/>
            <a:gdLst/>
            <a:ahLst/>
            <a:rect l="l" t="t" r="r" b="b"/>
            <a:pathLst>
              <a:path w="2639" h="1317">
                <a:moveTo>
                  <a:pt x="2638" y="902"/>
                </a:moveTo>
                <a:lnTo>
                  <a:pt x="2634" y="845"/>
                </a:lnTo>
                <a:lnTo>
                  <a:pt x="2611" y="758"/>
                </a:lnTo>
                <a:lnTo>
                  <a:pt x="2570" y="687"/>
                </a:lnTo>
                <a:lnTo>
                  <a:pt x="2549" y="664"/>
                </a:lnTo>
                <a:lnTo>
                  <a:pt x="2525" y="644"/>
                </a:lnTo>
                <a:lnTo>
                  <a:pt x="2473" y="615"/>
                </a:lnTo>
                <a:lnTo>
                  <a:pt x="2399" y="602"/>
                </a:lnTo>
                <a:lnTo>
                  <a:pt x="2384" y="604"/>
                </a:lnTo>
                <a:lnTo>
                  <a:pt x="2301" y="627"/>
                </a:lnTo>
                <a:lnTo>
                  <a:pt x="2316" y="621"/>
                </a:lnTo>
                <a:lnTo>
                  <a:pt x="2390" y="603"/>
                </a:lnTo>
                <a:lnTo>
                  <a:pt x="2388" y="575"/>
                </a:lnTo>
                <a:lnTo>
                  <a:pt x="2376" y="554"/>
                </a:lnTo>
                <a:lnTo>
                  <a:pt x="2343" y="517"/>
                </a:lnTo>
                <a:lnTo>
                  <a:pt x="2285" y="481"/>
                </a:lnTo>
                <a:lnTo>
                  <a:pt x="2234" y="472"/>
                </a:lnTo>
                <a:lnTo>
                  <a:pt x="2198" y="477"/>
                </a:lnTo>
                <a:lnTo>
                  <a:pt x="2233" y="471"/>
                </a:lnTo>
                <a:lnTo>
                  <a:pt x="2275" y="478"/>
                </a:lnTo>
                <a:lnTo>
                  <a:pt x="2283" y="463"/>
                </a:lnTo>
                <a:lnTo>
                  <a:pt x="2293" y="414"/>
                </a:lnTo>
                <a:lnTo>
                  <a:pt x="2291" y="318"/>
                </a:lnTo>
                <a:lnTo>
                  <a:pt x="2260" y="215"/>
                </a:lnTo>
                <a:lnTo>
                  <a:pt x="2246" y="190"/>
                </a:lnTo>
                <a:lnTo>
                  <a:pt x="2231" y="166"/>
                </a:lnTo>
                <a:lnTo>
                  <a:pt x="2214" y="144"/>
                </a:lnTo>
                <a:lnTo>
                  <a:pt x="2195" y="124"/>
                </a:lnTo>
                <a:lnTo>
                  <a:pt x="2176" y="108"/>
                </a:lnTo>
                <a:lnTo>
                  <a:pt x="2108" y="74"/>
                </a:lnTo>
                <a:lnTo>
                  <a:pt x="2036" y="62"/>
                </a:lnTo>
                <a:lnTo>
                  <a:pt x="1982" y="69"/>
                </a:lnTo>
                <a:lnTo>
                  <a:pt x="1908" y="102"/>
                </a:lnTo>
                <a:lnTo>
                  <a:pt x="1886" y="118"/>
                </a:lnTo>
                <a:lnTo>
                  <a:pt x="1866" y="137"/>
                </a:lnTo>
                <a:lnTo>
                  <a:pt x="1848" y="159"/>
                </a:lnTo>
                <a:lnTo>
                  <a:pt x="1831" y="184"/>
                </a:lnTo>
                <a:lnTo>
                  <a:pt x="1816" y="211"/>
                </a:lnTo>
                <a:lnTo>
                  <a:pt x="1785" y="304"/>
                </a:lnTo>
                <a:lnTo>
                  <a:pt x="1808" y="227"/>
                </a:lnTo>
                <a:lnTo>
                  <a:pt x="1808" y="205"/>
                </a:lnTo>
                <a:lnTo>
                  <a:pt x="1773" y="172"/>
                </a:lnTo>
                <a:lnTo>
                  <a:pt x="1731" y="150"/>
                </a:lnTo>
                <a:lnTo>
                  <a:pt x="1658" y="138"/>
                </a:lnTo>
                <a:lnTo>
                  <a:pt x="1596" y="152"/>
                </a:lnTo>
                <a:lnTo>
                  <a:pt x="1537" y="189"/>
                </a:lnTo>
                <a:lnTo>
                  <a:pt x="1516" y="212"/>
                </a:lnTo>
                <a:lnTo>
                  <a:pt x="1496" y="238"/>
                </a:lnTo>
                <a:lnTo>
                  <a:pt x="1472" y="288"/>
                </a:lnTo>
                <a:lnTo>
                  <a:pt x="1519" y="210"/>
                </a:lnTo>
                <a:lnTo>
                  <a:pt x="1511" y="182"/>
                </a:lnTo>
                <a:lnTo>
                  <a:pt x="1487" y="138"/>
                </a:lnTo>
                <a:lnTo>
                  <a:pt x="1430" y="69"/>
                </a:lnTo>
                <a:lnTo>
                  <a:pt x="1362" y="28"/>
                </a:lnTo>
                <a:lnTo>
                  <a:pt x="1288" y="12"/>
                </a:lnTo>
                <a:lnTo>
                  <a:pt x="1269" y="12"/>
                </a:lnTo>
                <a:lnTo>
                  <a:pt x="1195" y="28"/>
                </a:lnTo>
                <a:lnTo>
                  <a:pt x="1128" y="68"/>
                </a:lnTo>
                <a:lnTo>
                  <a:pt x="1071" y="132"/>
                </a:lnTo>
                <a:lnTo>
                  <a:pt x="1031" y="220"/>
                </a:lnTo>
                <a:lnTo>
                  <a:pt x="1037" y="200"/>
                </a:lnTo>
                <a:lnTo>
                  <a:pt x="1078" y="122"/>
                </a:lnTo>
                <a:lnTo>
                  <a:pt x="1073" y="90"/>
                </a:lnTo>
                <a:lnTo>
                  <a:pt x="1040" y="58"/>
                </a:lnTo>
                <a:lnTo>
                  <a:pt x="964" y="15"/>
                </a:lnTo>
                <a:lnTo>
                  <a:pt x="880" y="0"/>
                </a:lnTo>
                <a:lnTo>
                  <a:pt x="774" y="21"/>
                </a:lnTo>
                <a:lnTo>
                  <a:pt x="697" y="69"/>
                </a:lnTo>
                <a:lnTo>
                  <a:pt x="633" y="145"/>
                </a:lnTo>
                <a:lnTo>
                  <a:pt x="592" y="250"/>
                </a:lnTo>
                <a:lnTo>
                  <a:pt x="578" y="383"/>
                </a:lnTo>
                <a:lnTo>
                  <a:pt x="578" y="366"/>
                </a:lnTo>
                <a:lnTo>
                  <a:pt x="586" y="276"/>
                </a:lnTo>
                <a:lnTo>
                  <a:pt x="555" y="275"/>
                </a:lnTo>
                <a:lnTo>
                  <a:pt x="513" y="294"/>
                </a:lnTo>
                <a:lnTo>
                  <a:pt x="472" y="323"/>
                </a:lnTo>
                <a:lnTo>
                  <a:pt x="452" y="340"/>
                </a:lnTo>
                <a:lnTo>
                  <a:pt x="435" y="360"/>
                </a:lnTo>
                <a:lnTo>
                  <a:pt x="418" y="383"/>
                </a:lnTo>
                <a:lnTo>
                  <a:pt x="403" y="407"/>
                </a:lnTo>
                <a:lnTo>
                  <a:pt x="391" y="433"/>
                </a:lnTo>
                <a:lnTo>
                  <a:pt x="380" y="461"/>
                </a:lnTo>
                <a:lnTo>
                  <a:pt x="368" y="506"/>
                </a:lnTo>
                <a:lnTo>
                  <a:pt x="365" y="604"/>
                </a:lnTo>
                <a:lnTo>
                  <a:pt x="365" y="524"/>
                </a:lnTo>
                <a:lnTo>
                  <a:pt x="347" y="519"/>
                </a:lnTo>
                <a:lnTo>
                  <a:pt x="321" y="533"/>
                </a:lnTo>
                <a:lnTo>
                  <a:pt x="267" y="579"/>
                </a:lnTo>
                <a:lnTo>
                  <a:pt x="234" y="629"/>
                </a:lnTo>
                <a:lnTo>
                  <a:pt x="211" y="700"/>
                </a:lnTo>
                <a:lnTo>
                  <a:pt x="233" y="632"/>
                </a:lnTo>
                <a:lnTo>
                  <a:pt x="200" y="632"/>
                </a:lnTo>
                <a:lnTo>
                  <a:pt x="178" y="638"/>
                </a:lnTo>
                <a:lnTo>
                  <a:pt x="114" y="672"/>
                </a:lnTo>
                <a:lnTo>
                  <a:pt x="60" y="725"/>
                </a:lnTo>
                <a:lnTo>
                  <a:pt x="45" y="746"/>
                </a:lnTo>
                <a:lnTo>
                  <a:pt x="20" y="792"/>
                </a:lnTo>
                <a:lnTo>
                  <a:pt x="0" y="871"/>
                </a:lnTo>
                <a:lnTo>
                  <a:pt x="5" y="980"/>
                </a:lnTo>
                <a:lnTo>
                  <a:pt x="31" y="1056"/>
                </a:lnTo>
                <a:lnTo>
                  <a:pt x="73" y="1120"/>
                </a:lnTo>
                <a:lnTo>
                  <a:pt x="128" y="1168"/>
                </a:lnTo>
                <a:lnTo>
                  <a:pt x="196" y="1195"/>
                </a:lnTo>
                <a:lnTo>
                  <a:pt x="265" y="1196"/>
                </a:lnTo>
                <a:lnTo>
                  <a:pt x="326" y="1177"/>
                </a:lnTo>
                <a:lnTo>
                  <a:pt x="394" y="1126"/>
                </a:lnTo>
                <a:lnTo>
                  <a:pt x="443" y="1056"/>
                </a:lnTo>
                <a:lnTo>
                  <a:pt x="464" y="995"/>
                </a:lnTo>
                <a:lnTo>
                  <a:pt x="458" y="1018"/>
                </a:lnTo>
                <a:lnTo>
                  <a:pt x="426" y="1084"/>
                </a:lnTo>
                <a:lnTo>
                  <a:pt x="422" y="1118"/>
                </a:lnTo>
                <a:lnTo>
                  <a:pt x="456" y="1191"/>
                </a:lnTo>
                <a:lnTo>
                  <a:pt x="507" y="1248"/>
                </a:lnTo>
                <a:lnTo>
                  <a:pt x="570" y="1285"/>
                </a:lnTo>
                <a:lnTo>
                  <a:pt x="641" y="1301"/>
                </a:lnTo>
                <a:lnTo>
                  <a:pt x="712" y="1291"/>
                </a:lnTo>
                <a:lnTo>
                  <a:pt x="778" y="1252"/>
                </a:lnTo>
                <a:lnTo>
                  <a:pt x="821" y="1202"/>
                </a:lnTo>
                <a:lnTo>
                  <a:pt x="865" y="1105"/>
                </a:lnTo>
                <a:lnTo>
                  <a:pt x="825" y="1197"/>
                </a:lnTo>
                <a:lnTo>
                  <a:pt x="844" y="1222"/>
                </a:lnTo>
                <a:lnTo>
                  <a:pt x="859" y="1238"/>
                </a:lnTo>
                <a:lnTo>
                  <a:pt x="918" y="1275"/>
                </a:lnTo>
                <a:lnTo>
                  <a:pt x="978" y="1289"/>
                </a:lnTo>
                <a:lnTo>
                  <a:pt x="1057" y="1277"/>
                </a:lnTo>
                <a:lnTo>
                  <a:pt x="1123" y="1235"/>
                </a:lnTo>
                <a:lnTo>
                  <a:pt x="1185" y="1159"/>
                </a:lnTo>
                <a:lnTo>
                  <a:pt x="1172" y="1180"/>
                </a:lnTo>
                <a:lnTo>
                  <a:pt x="1105" y="1249"/>
                </a:lnTo>
                <a:lnTo>
                  <a:pt x="1130" y="1277"/>
                </a:lnTo>
                <a:lnTo>
                  <a:pt x="1152" y="1291"/>
                </a:lnTo>
                <a:lnTo>
                  <a:pt x="1176" y="1302"/>
                </a:lnTo>
                <a:lnTo>
                  <a:pt x="1258" y="1316"/>
                </a:lnTo>
                <a:lnTo>
                  <a:pt x="1330" y="1301"/>
                </a:lnTo>
                <a:lnTo>
                  <a:pt x="1398" y="1257"/>
                </a:lnTo>
                <a:lnTo>
                  <a:pt x="1446" y="1197"/>
                </a:lnTo>
                <a:lnTo>
                  <a:pt x="1489" y="1088"/>
                </a:lnTo>
                <a:lnTo>
                  <a:pt x="1451" y="1188"/>
                </a:lnTo>
                <a:lnTo>
                  <a:pt x="1459" y="1206"/>
                </a:lnTo>
                <a:lnTo>
                  <a:pt x="1472" y="1220"/>
                </a:lnTo>
                <a:lnTo>
                  <a:pt x="1533" y="1269"/>
                </a:lnTo>
                <a:lnTo>
                  <a:pt x="1653" y="1312"/>
                </a:lnTo>
                <a:lnTo>
                  <a:pt x="1790" y="1305"/>
                </a:lnTo>
                <a:lnTo>
                  <a:pt x="1902" y="1250"/>
                </a:lnTo>
                <a:lnTo>
                  <a:pt x="1923" y="1233"/>
                </a:lnTo>
                <a:lnTo>
                  <a:pt x="1943" y="1213"/>
                </a:lnTo>
                <a:lnTo>
                  <a:pt x="1962" y="1191"/>
                </a:lnTo>
                <a:lnTo>
                  <a:pt x="1980" y="1167"/>
                </a:lnTo>
                <a:lnTo>
                  <a:pt x="1998" y="1139"/>
                </a:lnTo>
                <a:lnTo>
                  <a:pt x="2014" y="1110"/>
                </a:lnTo>
                <a:lnTo>
                  <a:pt x="2029" y="1078"/>
                </a:lnTo>
                <a:lnTo>
                  <a:pt x="2043" y="1042"/>
                </a:lnTo>
                <a:lnTo>
                  <a:pt x="2056" y="1004"/>
                </a:lnTo>
                <a:lnTo>
                  <a:pt x="2045" y="1040"/>
                </a:lnTo>
                <a:lnTo>
                  <a:pt x="1997" y="1141"/>
                </a:lnTo>
                <a:lnTo>
                  <a:pt x="1995" y="1158"/>
                </a:lnTo>
                <a:lnTo>
                  <a:pt x="2022" y="1188"/>
                </a:lnTo>
                <a:lnTo>
                  <a:pt x="2063" y="1214"/>
                </a:lnTo>
                <a:lnTo>
                  <a:pt x="2141" y="1234"/>
                </a:lnTo>
                <a:lnTo>
                  <a:pt x="2213" y="1224"/>
                </a:lnTo>
                <a:lnTo>
                  <a:pt x="2268" y="1190"/>
                </a:lnTo>
                <a:lnTo>
                  <a:pt x="2317" y="1129"/>
                </a:lnTo>
                <a:lnTo>
                  <a:pt x="2355" y="1036"/>
                </a:lnTo>
                <a:lnTo>
                  <a:pt x="2349" y="1056"/>
                </a:lnTo>
                <a:lnTo>
                  <a:pt x="2308" y="1142"/>
                </a:lnTo>
                <a:lnTo>
                  <a:pt x="2318" y="1162"/>
                </a:lnTo>
                <a:lnTo>
                  <a:pt x="2352" y="1172"/>
                </a:lnTo>
                <a:lnTo>
                  <a:pt x="2431" y="1175"/>
                </a:lnTo>
                <a:lnTo>
                  <a:pt x="2502" y="1149"/>
                </a:lnTo>
                <a:lnTo>
                  <a:pt x="2560" y="1099"/>
                </a:lnTo>
                <a:lnTo>
                  <a:pt x="2580" y="1075"/>
                </a:lnTo>
                <a:lnTo>
                  <a:pt x="2597" y="1049"/>
                </a:lnTo>
                <a:lnTo>
                  <a:pt x="2611" y="1021"/>
                </a:lnTo>
                <a:lnTo>
                  <a:pt x="2627" y="977"/>
                </a:lnTo>
                <a:lnTo>
                  <a:pt x="2638" y="9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915240" y="5137200"/>
            <a:ext cx="2052720" cy="1481040"/>
            <a:chOff x="6915240" y="5137200"/>
            <a:chExt cx="2052720" cy="1481040"/>
          </a:xfrm>
        </p:grpSpPr>
        <p:sp>
          <p:nvSpPr>
            <p:cNvPr id="1612" name=""/>
            <p:cNvSpPr/>
            <p:nvPr/>
          </p:nvSpPr>
          <p:spPr>
            <a:xfrm>
              <a:off x="693720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0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15240" y="5897520"/>
              <a:ext cx="3312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95952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684920" y="5845320"/>
              <a:ext cx="836640" cy="606240"/>
            </a:xfrm>
            <a:custGeom>
              <a:avLst/>
              <a:gdLst/>
              <a:ahLst/>
              <a:rect l="l" t="t" r="r" b="b"/>
              <a:pathLst>
                <a:path w="527" h="382">
                  <a:moveTo>
                    <a:pt x="0" y="252"/>
                  </a:moveTo>
                  <a:lnTo>
                    <a:pt x="0" y="381"/>
                  </a:lnTo>
                  <a:lnTo>
                    <a:pt x="519" y="116"/>
                  </a:lnTo>
                  <a:lnTo>
                    <a:pt x="519" y="90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19" y="45"/>
                  </a:lnTo>
                  <a:lnTo>
                    <a:pt x="519" y="26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26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674120" y="6242400"/>
              <a:ext cx="47160" cy="2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42" y="20637"/>
                  </a:moveTo>
                  <a:arcTo wR="10800" hR="10800" stAng="6862808" swAng="7687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6342" y="20637"/>
                  </a:moveTo>
                  <a:arcTo wR="10800" hR="10800" stAng="6862808" swAng="768744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72320" y="5845320"/>
              <a:ext cx="849240" cy="554040"/>
            </a:xfrm>
            <a:custGeom>
              <a:avLst/>
              <a:gdLst/>
              <a:ahLst/>
              <a:rect l="l" t="t" r="r" b="b"/>
              <a:pathLst>
                <a:path w="535" h="349">
                  <a:moveTo>
                    <a:pt x="7" y="251"/>
                  </a:moveTo>
                  <a:lnTo>
                    <a:pt x="0" y="264"/>
                  </a:lnTo>
                  <a:lnTo>
                    <a:pt x="28" y="284"/>
                  </a:lnTo>
                  <a:lnTo>
                    <a:pt x="14" y="290"/>
                  </a:lnTo>
                  <a:lnTo>
                    <a:pt x="28" y="284"/>
                  </a:lnTo>
                  <a:lnTo>
                    <a:pt x="49" y="303"/>
                  </a:lnTo>
                  <a:lnTo>
                    <a:pt x="14" y="316"/>
                  </a:lnTo>
                  <a:lnTo>
                    <a:pt x="55" y="303"/>
                  </a:lnTo>
                  <a:lnTo>
                    <a:pt x="83" y="322"/>
                  </a:lnTo>
                  <a:lnTo>
                    <a:pt x="90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7" y="110"/>
                  </a:lnTo>
                  <a:lnTo>
                    <a:pt x="527" y="103"/>
                  </a:lnTo>
                  <a:lnTo>
                    <a:pt x="527" y="97"/>
                  </a:lnTo>
                  <a:lnTo>
                    <a:pt x="527" y="84"/>
                  </a:lnTo>
                  <a:lnTo>
                    <a:pt x="527" y="45"/>
                  </a:lnTo>
                  <a:lnTo>
                    <a:pt x="527" y="32"/>
                  </a:lnTo>
                  <a:lnTo>
                    <a:pt x="534" y="19"/>
                  </a:lnTo>
                  <a:lnTo>
                    <a:pt x="534" y="6"/>
                  </a:lnTo>
                  <a:lnTo>
                    <a:pt x="534" y="0"/>
                  </a:lnTo>
                  <a:lnTo>
                    <a:pt x="7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926400" y="590868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1" y="219"/>
                  </a:lnTo>
                  <a:lnTo>
                    <a:pt x="464" y="232"/>
                  </a:lnTo>
                  <a:lnTo>
                    <a:pt x="464" y="245"/>
                  </a:lnTo>
                  <a:lnTo>
                    <a:pt x="464" y="277"/>
                  </a:lnTo>
                  <a:lnTo>
                    <a:pt x="464" y="296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56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959520" y="5918040"/>
              <a:ext cx="71460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2" y="223"/>
                  </a:lnTo>
                  <a:lnTo>
                    <a:pt x="352" y="172"/>
                  </a:lnTo>
                  <a:lnTo>
                    <a:pt x="262" y="134"/>
                  </a:lnTo>
                  <a:lnTo>
                    <a:pt x="187" y="96"/>
                  </a:lnTo>
                  <a:lnTo>
                    <a:pt x="111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483320" y="6210360"/>
              <a:ext cx="17964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5614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38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383600" y="6262560"/>
              <a:ext cx="279360" cy="12708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0" y="0"/>
                  </a:moveTo>
                  <a:lnTo>
                    <a:pt x="88" y="36"/>
                  </a:lnTo>
                  <a:lnTo>
                    <a:pt x="135" y="61"/>
                  </a:lnTo>
                  <a:lnTo>
                    <a:pt x="175" y="79"/>
                  </a:lnTo>
                  <a:lnTo>
                    <a:pt x="101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572240" y="6315120"/>
              <a:ext cx="90720" cy="31680"/>
            </a:xfrm>
            <a:custGeom>
              <a:avLst/>
              <a:gdLst/>
              <a:ahLst/>
              <a:rect l="l" t="t" r="r" b="b"/>
              <a:pathLst>
                <a:path w="57" h="20">
                  <a:moveTo>
                    <a:pt x="0" y="0"/>
                  </a:moveTo>
                  <a:lnTo>
                    <a:pt x="56" y="19"/>
                  </a:lnTo>
                  <a:lnTo>
                    <a:pt x="37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583400" y="6388200"/>
              <a:ext cx="9072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37" y="21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823284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8231040" y="6013440"/>
              <a:ext cx="66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8151840" y="6056280"/>
              <a:ext cx="67320" cy="81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98" y="17196"/>
                  </a:moveTo>
                  <a:arcTo wR="10800" hR="10800" stAng="8620952" swAng="11567863"/>
                  <a:lnTo>
                    <a:pt x="10800" y="10800"/>
                  </a:lnTo>
                  <a:close/>
                </a:path>
                <a:path fill="none" w="21600" h="21600">
                  <a:moveTo>
                    <a:pt x="2098" y="17196"/>
                  </a:moveTo>
                  <a:arcTo wR="10800" hR="10800" stAng="8620952" swAng="115678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153280" y="6066000"/>
              <a:ext cx="781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9830178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983017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085240" y="609588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085240" y="611820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08920" y="61484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007480" y="6168960"/>
              <a:ext cx="7596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942320" y="6199200"/>
              <a:ext cx="77760" cy="9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" y="12541"/>
                  </a:moveTo>
                  <a:arcTo wR="10800" hR="10800" stAng="10243416" swAng="95411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" y="12541"/>
                  </a:moveTo>
                  <a:arcTo wR="10800" hR="10800" stAng="10243416" swAng="954119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940520" y="6221520"/>
              <a:ext cx="7668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873920" y="6242040"/>
              <a:ext cx="6660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864560" y="6264360"/>
              <a:ext cx="8784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18169"/>
                  </a:moveTo>
                  <a:arcTo wR="10800" hR="10800" stAng="8218496" swAng="10962658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18169"/>
                  </a:moveTo>
                  <a:arcTo wR="10800" hR="10800" stAng="8218496" swAng="1096265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796160" y="629460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4" y="15033"/>
                  </a:moveTo>
                  <a:arcTo wR="10800" hR="10800" stAng="9415307" swAng="10486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4" y="15033"/>
                  </a:moveTo>
                  <a:arcTo wR="10800" hR="10800" stAng="9415307" swAng="10486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796160" y="6315120"/>
              <a:ext cx="7740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731000" y="634536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729560" y="63673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298000" y="5950080"/>
              <a:ext cx="6624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8298000" y="597204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8366040" y="5897520"/>
              <a:ext cx="655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15" y="14095"/>
                  </a:moveTo>
                  <a:arcTo wR="10800" hR="10800" stAng="9734263" swAng="10521849"/>
                  <a:lnTo>
                    <a:pt x="10800" y="10800"/>
                  </a:lnTo>
                  <a:close/>
                </a:path>
                <a:path fill="none" w="21600" h="21600">
                  <a:moveTo>
                    <a:pt x="515" y="14095"/>
                  </a:moveTo>
                  <a:arcTo wR="10800" hR="10800" stAng="9734263" swAng="1052184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64600" y="591804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442360" y="5845320"/>
              <a:ext cx="6624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442360" y="5867280"/>
              <a:ext cx="6660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43" y="16835"/>
                  </a:moveTo>
                  <a:arcTo wR="10800" hR="10800" stAng="8761682" swAng="1036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43" y="16835"/>
                  </a:moveTo>
                  <a:arcTo wR="10800" hR="10800" stAng="8761682" swAng="1036716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96080" y="5815080"/>
              <a:ext cx="870120" cy="438120"/>
            </a:xfrm>
            <a:custGeom>
              <a:avLst/>
              <a:gdLst/>
              <a:ahLst/>
              <a:rect l="l" t="t" r="r" b="b"/>
              <a:pathLst>
                <a:path w="548" h="276">
                  <a:moveTo>
                    <a:pt x="0" y="269"/>
                  </a:moveTo>
                  <a:lnTo>
                    <a:pt x="0" y="275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97068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26400" y="589752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3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696080" y="6032520"/>
              <a:ext cx="85896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937200" y="6137280"/>
              <a:ext cx="749520" cy="345960"/>
            </a:xfrm>
            <a:custGeom>
              <a:avLst/>
              <a:gdLst/>
              <a:ahLst/>
              <a:rect l="l" t="t" r="r" b="b"/>
              <a:pathLst>
                <a:path w="472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81741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8342280" y="6012000"/>
              <a:ext cx="16848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8353440" y="5897520"/>
              <a:ext cx="157320" cy="7452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0" y="46"/>
                  </a:moveTo>
                  <a:lnTo>
                    <a:pt x="98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4836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70760" y="5699160"/>
              <a:ext cx="1628640" cy="919080"/>
            </a:xfrm>
            <a:custGeom>
              <a:avLst/>
              <a:gdLst/>
              <a:ahLst/>
              <a:rect l="l" t="t" r="r" b="b"/>
              <a:pathLst>
                <a:path w="1026" h="579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8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34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66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8"/>
                  </a:lnTo>
                  <a:lnTo>
                    <a:pt x="21" y="364"/>
                  </a:lnTo>
                  <a:lnTo>
                    <a:pt x="14" y="357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48440" y="602280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093080" y="5929200"/>
              <a:ext cx="1595160" cy="677880"/>
            </a:xfrm>
            <a:custGeom>
              <a:avLst/>
              <a:gdLst/>
              <a:ahLst/>
              <a:rect l="l" t="t" r="r" b="b"/>
              <a:pathLst>
                <a:path w="1005" h="427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6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818480" y="5970600"/>
              <a:ext cx="847800" cy="615960"/>
            </a:xfrm>
            <a:custGeom>
              <a:avLst/>
              <a:gdLst/>
              <a:ahLst/>
              <a:rect l="l" t="t" r="r" b="b"/>
              <a:pathLst>
                <a:path w="534" h="388">
                  <a:moveTo>
                    <a:pt x="0" y="258"/>
                  </a:moveTo>
                  <a:lnTo>
                    <a:pt x="7" y="387"/>
                  </a:lnTo>
                  <a:lnTo>
                    <a:pt x="519" y="116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19" y="71"/>
                  </a:lnTo>
                  <a:lnTo>
                    <a:pt x="519" y="58"/>
                  </a:lnTo>
                  <a:lnTo>
                    <a:pt x="526" y="45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808760" y="6367680"/>
              <a:ext cx="44280" cy="22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0733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0733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818480" y="5970600"/>
              <a:ext cx="847800" cy="554040"/>
            </a:xfrm>
            <a:custGeom>
              <a:avLst/>
              <a:gdLst/>
              <a:ahLst/>
              <a:rect l="l" t="t" r="r" b="b"/>
              <a:pathLst>
                <a:path w="534" h="349">
                  <a:moveTo>
                    <a:pt x="0" y="251"/>
                  </a:moveTo>
                  <a:lnTo>
                    <a:pt x="0" y="271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2" y="303"/>
                  </a:lnTo>
                  <a:lnTo>
                    <a:pt x="7" y="322"/>
                  </a:lnTo>
                  <a:lnTo>
                    <a:pt x="48" y="303"/>
                  </a:lnTo>
                  <a:lnTo>
                    <a:pt x="76" y="329"/>
                  </a:lnTo>
                  <a:lnTo>
                    <a:pt x="83" y="335"/>
                  </a:lnTo>
                  <a:lnTo>
                    <a:pt x="55" y="348"/>
                  </a:lnTo>
                  <a:lnTo>
                    <a:pt x="90" y="335"/>
                  </a:lnTo>
                  <a:lnTo>
                    <a:pt x="97" y="342"/>
                  </a:lnTo>
                  <a:lnTo>
                    <a:pt x="526" y="116"/>
                  </a:lnTo>
                  <a:lnTo>
                    <a:pt x="519" y="103"/>
                  </a:lnTo>
                  <a:lnTo>
                    <a:pt x="519" y="97"/>
                  </a:lnTo>
                  <a:lnTo>
                    <a:pt x="519" y="84"/>
                  </a:lnTo>
                  <a:lnTo>
                    <a:pt x="526" y="52"/>
                  </a:lnTo>
                  <a:lnTo>
                    <a:pt x="526" y="32"/>
                  </a:lnTo>
                  <a:lnTo>
                    <a:pt x="526" y="19"/>
                  </a:lnTo>
                  <a:lnTo>
                    <a:pt x="526" y="6"/>
                  </a:lnTo>
                  <a:lnTo>
                    <a:pt x="533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059600" y="6032520"/>
              <a:ext cx="760320" cy="554040"/>
            </a:xfrm>
            <a:custGeom>
              <a:avLst/>
              <a:gdLst/>
              <a:ahLst/>
              <a:rect l="l" t="t" r="r" b="b"/>
              <a:pathLst>
                <a:path w="479" h="349">
                  <a:moveTo>
                    <a:pt x="7" y="0"/>
                  </a:moveTo>
                  <a:lnTo>
                    <a:pt x="21" y="6"/>
                  </a:lnTo>
                  <a:lnTo>
                    <a:pt x="28" y="13"/>
                  </a:lnTo>
                  <a:lnTo>
                    <a:pt x="471" y="219"/>
                  </a:lnTo>
                  <a:lnTo>
                    <a:pt x="471" y="232"/>
                  </a:lnTo>
                  <a:lnTo>
                    <a:pt x="464" y="251"/>
                  </a:lnTo>
                  <a:lnTo>
                    <a:pt x="464" y="277"/>
                  </a:lnTo>
                  <a:lnTo>
                    <a:pt x="464" y="303"/>
                  </a:lnTo>
                  <a:lnTo>
                    <a:pt x="471" y="322"/>
                  </a:lnTo>
                  <a:lnTo>
                    <a:pt x="471" y="342"/>
                  </a:lnTo>
                  <a:lnTo>
                    <a:pt x="478" y="348"/>
                  </a:lnTo>
                  <a:lnTo>
                    <a:pt x="263" y="251"/>
                  </a:lnTo>
                  <a:lnTo>
                    <a:pt x="35" y="142"/>
                  </a:lnTo>
                  <a:lnTo>
                    <a:pt x="28" y="142"/>
                  </a:lnTo>
                  <a:lnTo>
                    <a:pt x="14" y="142"/>
                  </a:lnTo>
                  <a:lnTo>
                    <a:pt x="14" y="135"/>
                  </a:lnTo>
                  <a:lnTo>
                    <a:pt x="7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0" y="97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7" y="26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093080" y="6043680"/>
              <a:ext cx="715680" cy="355680"/>
            </a:xfrm>
            <a:custGeom>
              <a:avLst/>
              <a:gdLst/>
              <a:ahLst/>
              <a:rect l="l" t="t" r="r" b="b"/>
              <a:pathLst>
                <a:path w="451" h="224">
                  <a:moveTo>
                    <a:pt x="0" y="6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450" y="210"/>
                  </a:lnTo>
                  <a:lnTo>
                    <a:pt x="450" y="223"/>
                  </a:lnTo>
                  <a:lnTo>
                    <a:pt x="353" y="172"/>
                  </a:lnTo>
                  <a:lnTo>
                    <a:pt x="270" y="134"/>
                  </a:lnTo>
                  <a:lnTo>
                    <a:pt x="187" y="96"/>
                  </a:lnTo>
                  <a:lnTo>
                    <a:pt x="118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616880" y="6335640"/>
              <a:ext cx="18108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80" y="29"/>
                  </a:lnTo>
                  <a:lnTo>
                    <a:pt x="113" y="46"/>
                  </a:lnTo>
                  <a:lnTo>
                    <a:pt x="73" y="29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696080" y="6418440"/>
              <a:ext cx="101880" cy="442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0" y="0"/>
                  </a:moveTo>
                  <a:lnTo>
                    <a:pt x="32" y="11"/>
                  </a:lnTo>
                  <a:lnTo>
                    <a:pt x="44" y="16"/>
                  </a:lnTo>
                  <a:lnTo>
                    <a:pt x="63" y="27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16800" y="6388200"/>
              <a:ext cx="281160" cy="136440"/>
            </a:xfrm>
            <a:custGeom>
              <a:avLst/>
              <a:gdLst/>
              <a:ahLst/>
              <a:rect l="l" t="t" r="r" b="b"/>
              <a:pathLst>
                <a:path w="177" h="86">
                  <a:moveTo>
                    <a:pt x="0" y="0"/>
                  </a:moveTo>
                  <a:lnTo>
                    <a:pt x="88" y="43"/>
                  </a:lnTo>
                  <a:lnTo>
                    <a:pt x="142" y="61"/>
                  </a:lnTo>
                  <a:lnTo>
                    <a:pt x="176" y="79"/>
                  </a:lnTo>
                  <a:lnTo>
                    <a:pt x="176" y="85"/>
                  </a:lnTo>
                  <a:lnTo>
                    <a:pt x="102" y="49"/>
                  </a:lnTo>
                  <a:lnTo>
                    <a:pt x="41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718400" y="6438960"/>
              <a:ext cx="79560" cy="44280"/>
            </a:xfrm>
            <a:custGeom>
              <a:avLst/>
              <a:gdLst/>
              <a:ahLst/>
              <a:rect l="l" t="t" r="r" b="b"/>
              <a:pathLst>
                <a:path w="50" h="28">
                  <a:moveTo>
                    <a:pt x="0" y="0"/>
                  </a:moveTo>
                  <a:lnTo>
                    <a:pt x="49" y="22"/>
                  </a:lnTo>
                  <a:lnTo>
                    <a:pt x="49" y="27"/>
                  </a:lnTo>
                  <a:lnTo>
                    <a:pt x="31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718400" y="6523200"/>
              <a:ext cx="90360" cy="33120"/>
            </a:xfrm>
            <a:custGeom>
              <a:avLst/>
              <a:gdLst/>
              <a:ahLst/>
              <a:rect l="l" t="t" r="r" b="b"/>
              <a:pathLst>
                <a:path w="57" h="21">
                  <a:moveTo>
                    <a:pt x="0" y="0"/>
                  </a:moveTo>
                  <a:lnTo>
                    <a:pt x="44" y="15"/>
                  </a:lnTo>
                  <a:lnTo>
                    <a:pt x="56" y="20"/>
                  </a:lnTo>
                  <a:lnTo>
                    <a:pt x="44" y="15"/>
                  </a:lnTo>
                  <a:lnTo>
                    <a:pt x="12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64600" y="6129360"/>
              <a:ext cx="6660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1618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16187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66040" y="6149880"/>
              <a:ext cx="66240" cy="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029" y="19214"/>
                  </a:moveTo>
                  <a:arcTo wR="10800" hR="10800" stAng="7729547" swAng="11224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4029" y="19214"/>
                  </a:moveTo>
                  <a:arcTo wR="10800" hR="10800" stAng="7729547" swAng="1122416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298000" y="6178680"/>
              <a:ext cx="5472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3" y="14711"/>
                  </a:moveTo>
                  <a:arcTo wR="10800" hR="10800" stAng="9526259" swAng="11106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733" y="14711"/>
                  </a:moveTo>
                  <a:arcTo wR="10800" hR="10800" stAng="9526259" swAng="1110685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288280" y="6200640"/>
              <a:ext cx="77760" cy="43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02" y="18057"/>
                  </a:moveTo>
                  <a:arcTo wR="10800" hR="10800" stAng="8266750" swAng="10255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802" y="18057"/>
                  </a:moveTo>
                  <a:arcTo wR="10800" hR="10800" stAng="8266750" swAng="1025594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221680" y="6232680"/>
              <a:ext cx="65880" cy="8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" y="15304"/>
                  </a:moveTo>
                  <a:arcTo wR="10800" hR="10800" stAng="9321293" swAng="10491686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" y="15304"/>
                  </a:moveTo>
                  <a:arcTo wR="10800" hR="10800" stAng="9321293" swAng="10491686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220240" y="624204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53280" y="62722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75" y="14818"/>
                  </a:moveTo>
                  <a:arcTo wR="10800" hR="10800" stAng="9489404" swAng="104449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75" y="14818"/>
                  </a:moveTo>
                  <a:arcTo wR="10800" hR="10800" stAng="9489404" swAng="104449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42120" y="6296040"/>
              <a:ext cx="78840" cy="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" y="14877"/>
                  </a:moveTo>
                  <a:arcTo wR="10800" hR="10800" stAng="9469426" swAng="95099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" y="14877"/>
                  </a:moveTo>
                  <a:arcTo wR="10800" hR="10800" stAng="9469426" swAng="95099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75520" y="632448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" y="12911"/>
                  </a:moveTo>
                  <a:arcTo wR="10800" hR="10800" stAng="10123645" swAng="9635718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" y="12911"/>
                  </a:moveTo>
                  <a:arcTo wR="10800" hR="10800" stAng="10123645" swAng="963571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74080" y="63453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8920" y="6377040"/>
              <a:ext cx="781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" y="12570"/>
                  </a:moveTo>
                  <a:arcTo wR="10800" hR="10800" stAng="10234151" swAng="95252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" y="12570"/>
                  </a:moveTo>
                  <a:arcTo wR="10800" hR="10800" stAng="10234151" swAng="952521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007480" y="6388200"/>
              <a:ext cx="76680" cy="6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78" y="16737"/>
                  </a:moveTo>
                  <a:arcTo wR="10800" hR="10800" stAng="8799018" swAng="10359944"/>
                  <a:lnTo>
                    <a:pt x="10800" y="10800"/>
                  </a:lnTo>
                  <a:close/>
                </a:path>
                <a:path fill="none" w="21600" h="21600">
                  <a:moveTo>
                    <a:pt x="1778" y="16737"/>
                  </a:moveTo>
                  <a:arcTo wR="10800" hR="10800" stAng="8799018" swAng="103599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942320" y="6418440"/>
              <a:ext cx="66240" cy="10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43" y="16363"/>
                  </a:moveTo>
                  <a:arcTo wR="10800" hR="10800" stAng="8939623" swAng="116013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43" y="16363"/>
                  </a:moveTo>
                  <a:arcTo wR="10800" hR="10800" stAng="8939623" swAng="1160136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940520" y="6438960"/>
              <a:ext cx="77040" cy="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5" y="15639"/>
                  </a:moveTo>
                  <a:arcTo wR="10800" hR="10800" stAng="9202973" swAng="9998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5" y="15639"/>
                  </a:moveTo>
                  <a:arcTo wR="10800" hR="10800" stAng="9202973" swAng="999892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864560" y="6470640"/>
              <a:ext cx="7812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94" y="14332"/>
                  </a:moveTo>
                  <a:arcTo wR="10800" hR="10800" stAng="9654724" swAng="10104640"/>
                  <a:lnTo>
                    <a:pt x="10800" y="10800"/>
                  </a:lnTo>
                  <a:close/>
                </a:path>
                <a:path fill="none" w="21600" h="21600">
                  <a:moveTo>
                    <a:pt x="594" y="14332"/>
                  </a:moveTo>
                  <a:arcTo wR="10800" hR="10800" stAng="9654724" swAng="1010464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62760" y="64929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432640" y="6075360"/>
              <a:ext cx="655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74" y="16575"/>
                  </a:moveTo>
                  <a:arcTo wR="10800" hR="10800" stAng="8860540" swAng="113955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74" y="16575"/>
                  </a:moveTo>
                  <a:arcTo wR="10800" hR="10800" stAng="8860540" swAng="1139557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431200" y="6097680"/>
              <a:ext cx="6660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10359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1035904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508960" y="602280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3" y="14358"/>
                  </a:moveTo>
                  <a:arcTo wR="10800" hR="10800" stAng="9645805" swAng="10430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03" y="14358"/>
                  </a:moveTo>
                  <a:arcTo wR="10800" hR="10800" stAng="9645805" swAng="10430921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497800" y="604512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577360" y="597060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575560" y="5991120"/>
              <a:ext cx="66600" cy="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829640" y="5938920"/>
              <a:ext cx="869760" cy="439560"/>
            </a:xfrm>
            <a:custGeom>
              <a:avLst/>
              <a:gdLst/>
              <a:ahLst/>
              <a:rect l="l" t="t" r="r" b="b"/>
              <a:pathLst>
                <a:path w="548" h="277">
                  <a:moveTo>
                    <a:pt x="0" y="270"/>
                  </a:moveTo>
                  <a:lnTo>
                    <a:pt x="0" y="276"/>
                  </a:lnTo>
                  <a:lnTo>
                    <a:pt x="547" y="6"/>
                  </a:lnTo>
                  <a:lnTo>
                    <a:pt x="547" y="0"/>
                  </a:lnTo>
                  <a:lnTo>
                    <a:pt x="0" y="27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104240" y="5710320"/>
              <a:ext cx="1595160" cy="657000"/>
            </a:xfrm>
            <a:custGeom>
              <a:avLst/>
              <a:gdLst/>
              <a:ahLst/>
              <a:rect l="l" t="t" r="r" b="b"/>
              <a:pathLst>
                <a:path w="1005" h="414">
                  <a:moveTo>
                    <a:pt x="0" y="207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3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59600" y="6022800"/>
              <a:ext cx="760320" cy="355680"/>
            </a:xfrm>
            <a:custGeom>
              <a:avLst/>
              <a:gdLst/>
              <a:ahLst/>
              <a:rect l="l" t="t" r="r" b="b"/>
              <a:pathLst>
                <a:path w="479" h="224">
                  <a:moveTo>
                    <a:pt x="21" y="13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1" y="13"/>
                  </a:lnTo>
                  <a:lnTo>
                    <a:pt x="28" y="13"/>
                  </a:lnTo>
                  <a:lnTo>
                    <a:pt x="478" y="217"/>
                  </a:lnTo>
                  <a:lnTo>
                    <a:pt x="478" y="223"/>
                  </a:lnTo>
                  <a:lnTo>
                    <a:pt x="28" y="19"/>
                  </a:lnTo>
                  <a:lnTo>
                    <a:pt x="21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829640" y="6157800"/>
              <a:ext cx="858600" cy="460440"/>
            </a:xfrm>
            <a:custGeom>
              <a:avLst/>
              <a:gdLst/>
              <a:ahLst/>
              <a:rect l="l" t="t" r="r" b="b"/>
              <a:pathLst>
                <a:path w="541" h="290">
                  <a:moveTo>
                    <a:pt x="540" y="0"/>
                  </a:moveTo>
                  <a:lnTo>
                    <a:pt x="540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0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70760" y="6262560"/>
              <a:ext cx="749160" cy="355680"/>
            </a:xfrm>
            <a:custGeom>
              <a:avLst/>
              <a:gdLst/>
              <a:ahLst/>
              <a:rect l="l" t="t" r="r" b="b"/>
              <a:pathLst>
                <a:path w="472" h="224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1" y="223"/>
                  </a:lnTo>
                  <a:lnTo>
                    <a:pt x="471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308800" y="611676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0"/>
                  </a:moveTo>
                  <a:lnTo>
                    <a:pt x="0" y="112"/>
                  </a:lnTo>
                  <a:lnTo>
                    <a:pt x="210" y="6"/>
                  </a:lnTo>
                  <a:lnTo>
                    <a:pt x="2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475840" y="613728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105" y="6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8486640" y="6022800"/>
              <a:ext cx="168480" cy="748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81920" y="5699160"/>
              <a:ext cx="893520" cy="334800"/>
            </a:xfrm>
            <a:custGeom>
              <a:avLst/>
              <a:gdLst/>
              <a:ahLst/>
              <a:rect l="l" t="t" r="r" b="b"/>
              <a:pathLst>
                <a:path w="563" h="211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10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338960" y="5575320"/>
              <a:ext cx="1629000" cy="907920"/>
            </a:xfrm>
            <a:custGeom>
              <a:avLst/>
              <a:gdLst/>
              <a:ahLst/>
              <a:rect l="l" t="t" r="r" b="b"/>
              <a:pathLst>
                <a:path w="1026" h="572">
                  <a:moveTo>
                    <a:pt x="0" y="201"/>
                  </a:moveTo>
                  <a:lnTo>
                    <a:pt x="558" y="0"/>
                  </a:lnTo>
                  <a:lnTo>
                    <a:pt x="572" y="6"/>
                  </a:lnTo>
                  <a:lnTo>
                    <a:pt x="579" y="6"/>
                  </a:lnTo>
                  <a:lnTo>
                    <a:pt x="1025" y="149"/>
                  </a:lnTo>
                  <a:lnTo>
                    <a:pt x="1025" y="156"/>
                  </a:lnTo>
                  <a:lnTo>
                    <a:pt x="997" y="169"/>
                  </a:lnTo>
                  <a:lnTo>
                    <a:pt x="997" y="175"/>
                  </a:lnTo>
                  <a:lnTo>
                    <a:pt x="997" y="182"/>
                  </a:lnTo>
                  <a:lnTo>
                    <a:pt x="997" y="195"/>
                  </a:lnTo>
                  <a:lnTo>
                    <a:pt x="997" y="208"/>
                  </a:lnTo>
                  <a:lnTo>
                    <a:pt x="990" y="221"/>
                  </a:lnTo>
                  <a:lnTo>
                    <a:pt x="990" y="227"/>
                  </a:lnTo>
                  <a:lnTo>
                    <a:pt x="990" y="240"/>
                  </a:lnTo>
                  <a:lnTo>
                    <a:pt x="990" y="247"/>
                  </a:lnTo>
                  <a:lnTo>
                    <a:pt x="990" y="253"/>
                  </a:lnTo>
                  <a:lnTo>
                    <a:pt x="990" y="260"/>
                  </a:lnTo>
                  <a:lnTo>
                    <a:pt x="990" y="273"/>
                  </a:lnTo>
                  <a:lnTo>
                    <a:pt x="990" y="279"/>
                  </a:lnTo>
                  <a:lnTo>
                    <a:pt x="1018" y="286"/>
                  </a:lnTo>
                  <a:lnTo>
                    <a:pt x="1018" y="292"/>
                  </a:lnTo>
                  <a:lnTo>
                    <a:pt x="474" y="571"/>
                  </a:lnTo>
                  <a:lnTo>
                    <a:pt x="21" y="363"/>
                  </a:lnTo>
                  <a:lnTo>
                    <a:pt x="14" y="350"/>
                  </a:lnTo>
                  <a:lnTo>
                    <a:pt x="0" y="357"/>
                  </a:lnTo>
                  <a:lnTo>
                    <a:pt x="0" y="201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16640" y="5897520"/>
              <a:ext cx="33480" cy="239760"/>
            </a:xfrm>
            <a:prstGeom prst="ellipse">
              <a:avLst/>
            </a:pr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361280" y="5803920"/>
              <a:ext cx="1595520" cy="679320"/>
            </a:xfrm>
            <a:custGeom>
              <a:avLst/>
              <a:gdLst/>
              <a:ahLst/>
              <a:rect l="l" t="t" r="r" b="b"/>
              <a:pathLst>
                <a:path w="1005" h="428">
                  <a:moveTo>
                    <a:pt x="0" y="207"/>
                  </a:moveTo>
                  <a:lnTo>
                    <a:pt x="14" y="194"/>
                  </a:lnTo>
                  <a:lnTo>
                    <a:pt x="481" y="0"/>
                  </a:lnTo>
                  <a:lnTo>
                    <a:pt x="1004" y="142"/>
                  </a:lnTo>
                  <a:lnTo>
                    <a:pt x="460" y="427"/>
                  </a:lnTo>
                  <a:lnTo>
                    <a:pt x="0" y="20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8085240" y="5845320"/>
              <a:ext cx="838080" cy="606240"/>
            </a:xfrm>
            <a:custGeom>
              <a:avLst/>
              <a:gdLst/>
              <a:ahLst/>
              <a:rect l="l" t="t" r="r" b="b"/>
              <a:pathLst>
                <a:path w="528" h="382">
                  <a:moveTo>
                    <a:pt x="0" y="252"/>
                  </a:moveTo>
                  <a:lnTo>
                    <a:pt x="7" y="381"/>
                  </a:lnTo>
                  <a:lnTo>
                    <a:pt x="520" y="116"/>
                  </a:lnTo>
                  <a:lnTo>
                    <a:pt x="520" y="90"/>
                  </a:lnTo>
                  <a:lnTo>
                    <a:pt x="520" y="84"/>
                  </a:lnTo>
                  <a:lnTo>
                    <a:pt x="520" y="71"/>
                  </a:lnTo>
                  <a:lnTo>
                    <a:pt x="520" y="58"/>
                  </a:lnTo>
                  <a:lnTo>
                    <a:pt x="520" y="45"/>
                  </a:lnTo>
                  <a:lnTo>
                    <a:pt x="527" y="26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75520" y="6243120"/>
              <a:ext cx="4428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93120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9312032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085240" y="5845320"/>
              <a:ext cx="838080" cy="554040"/>
            </a:xfrm>
            <a:custGeom>
              <a:avLst/>
              <a:gdLst/>
              <a:ahLst/>
              <a:rect l="l" t="t" r="r" b="b"/>
              <a:pathLst>
                <a:path w="528" h="349">
                  <a:moveTo>
                    <a:pt x="0" y="251"/>
                  </a:moveTo>
                  <a:lnTo>
                    <a:pt x="0" y="264"/>
                  </a:lnTo>
                  <a:lnTo>
                    <a:pt x="21" y="284"/>
                  </a:lnTo>
                  <a:lnTo>
                    <a:pt x="7" y="290"/>
                  </a:lnTo>
                  <a:lnTo>
                    <a:pt x="21" y="284"/>
                  </a:lnTo>
                  <a:lnTo>
                    <a:pt x="49" y="303"/>
                  </a:lnTo>
                  <a:lnTo>
                    <a:pt x="7" y="316"/>
                  </a:lnTo>
                  <a:lnTo>
                    <a:pt x="49" y="303"/>
                  </a:lnTo>
                  <a:lnTo>
                    <a:pt x="76" y="322"/>
                  </a:lnTo>
                  <a:lnTo>
                    <a:pt x="83" y="329"/>
                  </a:lnTo>
                  <a:lnTo>
                    <a:pt x="62" y="348"/>
                  </a:lnTo>
                  <a:lnTo>
                    <a:pt x="90" y="335"/>
                  </a:lnTo>
                  <a:lnTo>
                    <a:pt x="97" y="335"/>
                  </a:lnTo>
                  <a:lnTo>
                    <a:pt x="527" y="116"/>
                  </a:lnTo>
                  <a:lnTo>
                    <a:pt x="520" y="110"/>
                  </a:lnTo>
                  <a:lnTo>
                    <a:pt x="520" y="103"/>
                  </a:lnTo>
                  <a:lnTo>
                    <a:pt x="520" y="97"/>
                  </a:lnTo>
                  <a:lnTo>
                    <a:pt x="520" y="84"/>
                  </a:lnTo>
                  <a:lnTo>
                    <a:pt x="520" y="45"/>
                  </a:lnTo>
                  <a:lnTo>
                    <a:pt x="527" y="32"/>
                  </a:lnTo>
                  <a:lnTo>
                    <a:pt x="527" y="19"/>
                  </a:lnTo>
                  <a:lnTo>
                    <a:pt x="527" y="6"/>
                  </a:lnTo>
                  <a:lnTo>
                    <a:pt x="527" y="0"/>
                  </a:lnTo>
                  <a:lnTo>
                    <a:pt x="0" y="2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27800" y="5908680"/>
              <a:ext cx="758880" cy="554040"/>
            </a:xfrm>
            <a:custGeom>
              <a:avLst/>
              <a:gdLst/>
              <a:ahLst/>
              <a:rect l="l" t="t" r="r" b="b"/>
              <a:pathLst>
                <a:path w="478" h="349">
                  <a:moveTo>
                    <a:pt x="14" y="0"/>
                  </a:moveTo>
                  <a:lnTo>
                    <a:pt x="21" y="6"/>
                  </a:lnTo>
                  <a:lnTo>
                    <a:pt x="28" y="6"/>
                  </a:lnTo>
                  <a:lnTo>
                    <a:pt x="470" y="219"/>
                  </a:lnTo>
                  <a:lnTo>
                    <a:pt x="470" y="232"/>
                  </a:lnTo>
                  <a:lnTo>
                    <a:pt x="463" y="245"/>
                  </a:lnTo>
                  <a:lnTo>
                    <a:pt x="463" y="277"/>
                  </a:lnTo>
                  <a:lnTo>
                    <a:pt x="463" y="296"/>
                  </a:lnTo>
                  <a:lnTo>
                    <a:pt x="470" y="322"/>
                  </a:lnTo>
                  <a:lnTo>
                    <a:pt x="470" y="342"/>
                  </a:lnTo>
                  <a:lnTo>
                    <a:pt x="477" y="348"/>
                  </a:lnTo>
                  <a:lnTo>
                    <a:pt x="263" y="245"/>
                  </a:lnTo>
                  <a:lnTo>
                    <a:pt x="35" y="142"/>
                  </a:lnTo>
                  <a:lnTo>
                    <a:pt x="28" y="135"/>
                  </a:lnTo>
                  <a:lnTo>
                    <a:pt x="14" y="135"/>
                  </a:lnTo>
                  <a:lnTo>
                    <a:pt x="14" y="129"/>
                  </a:lnTo>
                  <a:lnTo>
                    <a:pt x="7" y="122"/>
                  </a:lnTo>
                  <a:lnTo>
                    <a:pt x="7" y="116"/>
                  </a:lnTo>
                  <a:lnTo>
                    <a:pt x="7" y="110"/>
                  </a:lnTo>
                  <a:lnTo>
                    <a:pt x="7" y="103"/>
                  </a:lnTo>
                  <a:lnTo>
                    <a:pt x="7" y="97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7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7" y="32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7" y="6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361280" y="5918040"/>
              <a:ext cx="714240" cy="355680"/>
            </a:xfrm>
            <a:custGeom>
              <a:avLst/>
              <a:gdLst/>
              <a:ahLst/>
              <a:rect l="l" t="t" r="r" b="b"/>
              <a:pathLst>
                <a:path w="450" h="224">
                  <a:moveTo>
                    <a:pt x="0" y="6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449" y="204"/>
                  </a:lnTo>
                  <a:lnTo>
                    <a:pt x="449" y="223"/>
                  </a:lnTo>
                  <a:lnTo>
                    <a:pt x="352" y="172"/>
                  </a:lnTo>
                  <a:lnTo>
                    <a:pt x="269" y="134"/>
                  </a:lnTo>
                  <a:lnTo>
                    <a:pt x="187" y="96"/>
                  </a:lnTo>
                  <a:lnTo>
                    <a:pt x="117" y="57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885080" y="6210360"/>
              <a:ext cx="179280" cy="7452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0"/>
                  </a:moveTo>
                  <a:lnTo>
                    <a:pt x="53" y="17"/>
                  </a:lnTo>
                  <a:lnTo>
                    <a:pt x="66" y="23"/>
                  </a:lnTo>
                  <a:lnTo>
                    <a:pt x="79" y="29"/>
                  </a:lnTo>
                  <a:lnTo>
                    <a:pt x="112" y="46"/>
                  </a:lnTo>
                  <a:lnTo>
                    <a:pt x="72" y="29"/>
                  </a:lnTo>
                  <a:lnTo>
                    <a:pt x="46" y="1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962840" y="6294600"/>
              <a:ext cx="101520" cy="428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0"/>
                  </a:moveTo>
                  <a:lnTo>
                    <a:pt x="32" y="10"/>
                  </a:lnTo>
                  <a:lnTo>
                    <a:pt x="44" y="16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38" y="1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96160" y="6262560"/>
              <a:ext cx="268200" cy="127080"/>
            </a:xfrm>
            <a:custGeom>
              <a:avLst/>
              <a:gdLst/>
              <a:ahLst/>
              <a:rect l="l" t="t" r="r" b="b"/>
              <a:pathLst>
                <a:path w="169" h="80">
                  <a:moveTo>
                    <a:pt x="0" y="0"/>
                  </a:moveTo>
                  <a:lnTo>
                    <a:pt x="87" y="36"/>
                  </a:lnTo>
                  <a:lnTo>
                    <a:pt x="134" y="61"/>
                  </a:lnTo>
                  <a:lnTo>
                    <a:pt x="168" y="79"/>
                  </a:lnTo>
                  <a:lnTo>
                    <a:pt x="94" y="43"/>
                  </a:lnTo>
                  <a:lnTo>
                    <a:pt x="34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985160" y="6315120"/>
              <a:ext cx="7920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0" y="0"/>
                  </a:moveTo>
                  <a:lnTo>
                    <a:pt x="49" y="19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7985160" y="6388200"/>
              <a:ext cx="90360" cy="4284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0" y="0"/>
                  </a:moveTo>
                  <a:lnTo>
                    <a:pt x="44" y="21"/>
                  </a:lnTo>
                  <a:lnTo>
                    <a:pt x="56" y="26"/>
                  </a:lnTo>
                  <a:lnTo>
                    <a:pt x="44" y="21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632800" y="6004080"/>
              <a:ext cx="65160" cy="8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17" y="15375"/>
                  </a:moveTo>
                  <a:arcTo wR="10800" hR="10800" stAng="9296320" swAng="10605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17" y="15375"/>
                  </a:moveTo>
                  <a:arcTo wR="10800" hR="10800" stAng="9296320" swAng="1060563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631360" y="601200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555040" y="6054840"/>
              <a:ext cx="77040" cy="8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64" y="16054"/>
                  </a:moveTo>
                  <a:arcTo wR="10800" hR="10800" stAng="9053409" swAng="10542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364" y="16054"/>
                  </a:moveTo>
                  <a:arcTo wR="10800" hR="10800" stAng="9053409" swAng="105420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553600" y="6066000"/>
              <a:ext cx="7596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486640" y="6095880"/>
              <a:ext cx="6660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5247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52475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486640" y="611820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2" y="15385"/>
                  </a:moveTo>
                  <a:arcTo wR="10800" hR="10800" stAng="9292689" swAng="983615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2" y="15385"/>
                  </a:moveTo>
                  <a:arcTo wR="10800" hR="10800" stAng="9292689" swAng="98361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420040" y="6148440"/>
              <a:ext cx="666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7" y="12953"/>
                  </a:moveTo>
                  <a:arcTo wR="10800" hR="10800" stAng="10110206" swAng="99316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7" y="12953"/>
                  </a:moveTo>
                  <a:arcTo wR="10800" hR="10800" stAng="10110206" swAng="993164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408880" y="6168960"/>
              <a:ext cx="76680" cy="5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9" y="14701"/>
                  </a:moveTo>
                  <a:arcTo wR="10800" hR="10800" stAng="9529562" swAng="92896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29" y="14701"/>
                  </a:moveTo>
                  <a:arcTo wR="10800" hR="10800" stAng="9529562" swAng="928967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44080" y="6199200"/>
              <a:ext cx="77400" cy="9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72" y="13207"/>
                  </a:moveTo>
                  <a:arcTo wR="10800" hR="10800" stAng="10027189" swAng="9757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272" y="13207"/>
                  </a:moveTo>
                  <a:arcTo wR="10800" hR="10800" stAng="10027189" swAng="9757425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342280" y="6221520"/>
              <a:ext cx="76320" cy="41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40" y="18207"/>
                  </a:moveTo>
                  <a:arcTo wR="10800" hR="10800" stAng="8202081" swAng="10417754"/>
                  <a:lnTo>
                    <a:pt x="10800" y="10800"/>
                  </a:lnTo>
                  <a:close/>
                </a:path>
                <a:path fill="none" w="21600" h="21600">
                  <a:moveTo>
                    <a:pt x="2940" y="18207"/>
                  </a:moveTo>
                  <a:arcTo wR="10800" hR="10800" stAng="8202081" swAng="1041775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275680" y="6242040"/>
              <a:ext cx="770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6" y="14036"/>
                  </a:moveTo>
                  <a:arcTo wR="10800" hR="10800" stAng="9753742" swAng="101482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6" y="14036"/>
                  </a:moveTo>
                  <a:arcTo wR="10800" hR="10800" stAng="9753742" swAng="1014821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275680" y="6264360"/>
              <a:ext cx="76680" cy="5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90" y="17450"/>
                  </a:moveTo>
                  <a:arcTo wR="10800" hR="10800" stAng="8519544" swAng="10299688"/>
                  <a:lnTo>
                    <a:pt x="10800" y="10800"/>
                  </a:lnTo>
                  <a:close/>
                </a:path>
                <a:path fill="none" w="21600" h="21600">
                  <a:moveTo>
                    <a:pt x="2290" y="17450"/>
                  </a:moveTo>
                  <a:arcTo wR="10800" hR="10800" stAng="8519544" swAng="10299688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209080" y="6294600"/>
              <a:ext cx="662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30" y="14704"/>
                  </a:moveTo>
                  <a:arcTo wR="10800" hR="10800" stAng="9528544" swAng="10897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730" y="14704"/>
                  </a:moveTo>
                  <a:arcTo wR="10800" hR="10800" stAng="9528544" swAng="1089759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209080" y="6316560"/>
              <a:ext cx="76680" cy="6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7" y="15288"/>
                  </a:moveTo>
                  <a:arcTo wR="10800" hR="10800" stAng="9326727" swAng="9832234"/>
                  <a:lnTo>
                    <a:pt x="10800" y="10800"/>
                  </a:lnTo>
                  <a:close/>
                </a:path>
                <a:path fill="none" w="21600" h="21600">
                  <a:moveTo>
                    <a:pt x="977" y="15288"/>
                  </a:moveTo>
                  <a:arcTo wR="10800" hR="10800" stAng="9326727" swAng="983223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129520" y="6345360"/>
              <a:ext cx="7920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16" y="14396"/>
                  </a:moveTo>
                  <a:arcTo wR="10800" hR="10800" stAng="9633090" swAng="10165720"/>
                  <a:lnTo>
                    <a:pt x="10800" y="10800"/>
                  </a:lnTo>
                  <a:close/>
                </a:path>
                <a:path fill="none" w="21600" h="21600">
                  <a:moveTo>
                    <a:pt x="616" y="14396"/>
                  </a:moveTo>
                  <a:arcTo wR="10800" hR="10800" stAng="9633090" swAng="1016572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129520" y="6367320"/>
              <a:ext cx="79920" cy="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6" y="17534"/>
                  </a:moveTo>
                  <a:arcTo wR="10800" hR="10800" stAng="8485768" swAng="10396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6" y="17534"/>
                  </a:moveTo>
                  <a:arcTo wR="10800" hR="10800" stAng="8485768" swAng="10396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697960" y="5950080"/>
              <a:ext cx="6732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" y="12905"/>
                  </a:moveTo>
                  <a:arcTo wR="10800" hR="10800" stAng="10125480" swAng="1010189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" y="12905"/>
                  </a:moveTo>
                  <a:arcTo wR="10800" hR="10800" stAng="10125480" swAng="10101897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697960" y="5972040"/>
              <a:ext cx="79200" cy="5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56" y="14770"/>
                  </a:moveTo>
                  <a:arcTo wR="10800" hR="10800" stAng="9505995" swAng="9376730"/>
                  <a:lnTo>
                    <a:pt x="10800" y="10800"/>
                  </a:lnTo>
                  <a:close/>
                </a:path>
                <a:path fill="none" w="21600" h="21600">
                  <a:moveTo>
                    <a:pt x="756" y="14770"/>
                  </a:moveTo>
                  <a:arcTo wR="10800" hR="10800" stAng="9505995" swAng="93767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777160" y="5897520"/>
              <a:ext cx="54720" cy="9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" y="12556"/>
                  </a:moveTo>
                  <a:arcTo wR="10800" hR="10800" stAng="10238562" swAng="98381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" y="12556"/>
                  </a:moveTo>
                  <a:arcTo wR="10800" hR="10800" stAng="10238562" swAng="9838163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777160" y="5919840"/>
              <a:ext cx="66960" cy="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8" y="14075"/>
                  </a:moveTo>
                  <a:arcTo wR="10800" hR="10800" stAng="9740992" swAng="9387852"/>
                  <a:lnTo>
                    <a:pt x="10800" y="10800"/>
                  </a:lnTo>
                  <a:close/>
                </a:path>
                <a:path fill="none" w="21600" h="21600">
                  <a:moveTo>
                    <a:pt x="508" y="14075"/>
                  </a:moveTo>
                  <a:arcTo wR="10800" hR="10800" stAng="9740992" swAng="938785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845560" y="5845320"/>
              <a:ext cx="65160" cy="9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3" y="14737"/>
                  </a:moveTo>
                  <a:arcTo wR="10800" hR="10800" stAng="9517104" swAng="10739008"/>
                  <a:lnTo>
                    <a:pt x="10800" y="10800"/>
                  </a:lnTo>
                  <a:close/>
                </a:path>
                <a:path fill="none" w="21600" h="21600">
                  <a:moveTo>
                    <a:pt x="743" y="14737"/>
                  </a:moveTo>
                  <a:arcTo wR="10800" hR="10800" stAng="9517104" swAng="10739008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844120" y="5865840"/>
              <a:ext cx="66600" cy="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163" y="18437"/>
                  </a:moveTo>
                  <a:arcTo wR="10800" hR="10800" stAng="8100000" swAng="11028844"/>
                  <a:lnTo>
                    <a:pt x="10800" y="10800"/>
                  </a:lnTo>
                  <a:close/>
                </a:path>
                <a:path fill="none" w="21600" h="21600">
                  <a:moveTo>
                    <a:pt x="3163" y="18437"/>
                  </a:moveTo>
                  <a:arcTo wR="10800" hR="10800" stAng="8100000" swAng="1102884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096400" y="5815080"/>
              <a:ext cx="871560" cy="438120"/>
            </a:xfrm>
            <a:custGeom>
              <a:avLst/>
              <a:gdLst/>
              <a:ahLst/>
              <a:rect l="l" t="t" r="r" b="b"/>
              <a:pathLst>
                <a:path w="549" h="276">
                  <a:moveTo>
                    <a:pt x="0" y="269"/>
                  </a:moveTo>
                  <a:lnTo>
                    <a:pt x="0" y="275"/>
                  </a:lnTo>
                  <a:lnTo>
                    <a:pt x="548" y="6"/>
                  </a:lnTo>
                  <a:lnTo>
                    <a:pt x="548" y="0"/>
                  </a:lnTo>
                  <a:lnTo>
                    <a:pt x="0" y="269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372440" y="5584680"/>
              <a:ext cx="1595520" cy="658800"/>
            </a:xfrm>
            <a:custGeom>
              <a:avLst/>
              <a:gdLst/>
              <a:ahLst/>
              <a:rect l="l" t="t" r="r" b="b"/>
              <a:pathLst>
                <a:path w="1005" h="415">
                  <a:moveTo>
                    <a:pt x="0" y="201"/>
                  </a:moveTo>
                  <a:lnTo>
                    <a:pt x="558" y="0"/>
                  </a:lnTo>
                  <a:lnTo>
                    <a:pt x="1004" y="142"/>
                  </a:lnTo>
                  <a:lnTo>
                    <a:pt x="453" y="414"/>
                  </a:lnTo>
                  <a:lnTo>
                    <a:pt x="0" y="201"/>
                  </a:lnTo>
                </a:path>
              </a:pathLst>
            </a:custGeom>
            <a:solidFill>
              <a:srgbClr val="000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338960" y="5897520"/>
              <a:ext cx="747720" cy="355680"/>
            </a:xfrm>
            <a:custGeom>
              <a:avLst/>
              <a:gdLst/>
              <a:ahLst/>
              <a:rect l="l" t="t" r="r" b="b"/>
              <a:pathLst>
                <a:path w="471" h="224">
                  <a:moveTo>
                    <a:pt x="14" y="13"/>
                  </a:moveTo>
                  <a:lnTo>
                    <a:pt x="0" y="0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470" y="223"/>
                  </a:lnTo>
                  <a:lnTo>
                    <a:pt x="21" y="13"/>
                  </a:lnTo>
                  <a:lnTo>
                    <a:pt x="14" y="13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96400" y="6032520"/>
              <a:ext cx="860400" cy="460440"/>
            </a:xfrm>
            <a:custGeom>
              <a:avLst/>
              <a:gdLst/>
              <a:ahLst/>
              <a:rect l="l" t="t" r="r" b="b"/>
              <a:pathLst>
                <a:path w="542" h="290">
                  <a:moveTo>
                    <a:pt x="541" y="0"/>
                  </a:moveTo>
                  <a:lnTo>
                    <a:pt x="541" y="6"/>
                  </a:lnTo>
                  <a:lnTo>
                    <a:pt x="0" y="289"/>
                  </a:lnTo>
                  <a:lnTo>
                    <a:pt x="0" y="283"/>
                  </a:lnTo>
                  <a:lnTo>
                    <a:pt x="541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338960" y="6137280"/>
              <a:ext cx="747720" cy="345960"/>
            </a:xfrm>
            <a:custGeom>
              <a:avLst/>
              <a:gdLst/>
              <a:ahLst/>
              <a:rect l="l" t="t" r="r" b="b"/>
              <a:pathLst>
                <a:path w="471" h="218">
                  <a:moveTo>
                    <a:pt x="14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" y="6"/>
                  </a:lnTo>
                  <a:lnTo>
                    <a:pt x="21" y="13"/>
                  </a:lnTo>
                  <a:lnTo>
                    <a:pt x="470" y="217"/>
                  </a:lnTo>
                  <a:lnTo>
                    <a:pt x="14" y="0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75560" y="5991120"/>
              <a:ext cx="336600" cy="168480"/>
            </a:xfrm>
            <a:custGeom>
              <a:avLst/>
              <a:gdLst/>
              <a:ahLst/>
              <a:rect l="l" t="t" r="r" b="b"/>
              <a:pathLst>
                <a:path w="212" h="106">
                  <a:moveTo>
                    <a:pt x="211" y="0"/>
                  </a:moveTo>
                  <a:lnTo>
                    <a:pt x="0" y="105"/>
                  </a:lnTo>
                  <a:lnTo>
                    <a:pt x="2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744040" y="6012000"/>
              <a:ext cx="168120" cy="85680"/>
            </a:xfrm>
            <a:custGeom>
              <a:avLst/>
              <a:gdLst/>
              <a:ahLst/>
              <a:rect l="l" t="t" r="r" b="b"/>
              <a:pathLst>
                <a:path w="106" h="54">
                  <a:moveTo>
                    <a:pt x="0" y="53"/>
                  </a:moveTo>
                  <a:lnTo>
                    <a:pt x="105" y="0"/>
                  </a:lnTo>
                  <a:lnTo>
                    <a:pt x="0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755200" y="5897520"/>
              <a:ext cx="168120" cy="7452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46"/>
                  </a:moveTo>
                  <a:lnTo>
                    <a:pt x="105" y="0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350120" y="5575320"/>
              <a:ext cx="893880" cy="324000"/>
            </a:xfrm>
            <a:custGeom>
              <a:avLst/>
              <a:gdLst/>
              <a:ahLst/>
              <a:rect l="l" t="t" r="r" b="b"/>
              <a:pathLst>
                <a:path w="563" h="204">
                  <a:moveTo>
                    <a:pt x="0" y="197"/>
                  </a:moveTo>
                  <a:lnTo>
                    <a:pt x="548" y="0"/>
                  </a:lnTo>
                  <a:lnTo>
                    <a:pt x="562" y="6"/>
                  </a:lnTo>
                  <a:lnTo>
                    <a:pt x="7" y="203"/>
                  </a:lnTo>
                  <a:lnTo>
                    <a:pt x="0" y="197"/>
                  </a:lnTo>
                </a:path>
              </a:pathLst>
            </a:custGeom>
            <a:solidFill>
              <a:srgbClr val="dd0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107200" y="5950080"/>
              <a:ext cx="270000" cy="74520"/>
            </a:xfrm>
            <a:custGeom>
              <a:avLst/>
              <a:gdLst/>
              <a:ahLst/>
              <a:rect l="l" t="t" r="r" b="b"/>
              <a:pathLst>
                <a:path w="170" h="47">
                  <a:moveTo>
                    <a:pt x="0" y="46"/>
                  </a:moveTo>
                  <a:lnTo>
                    <a:pt x="142" y="0"/>
                  </a:lnTo>
                  <a:lnTo>
                    <a:pt x="169" y="29"/>
                  </a:lnTo>
                  <a:lnTo>
                    <a:pt x="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42280" y="5648400"/>
              <a:ext cx="547560" cy="303120"/>
            </a:xfrm>
            <a:custGeom>
              <a:avLst/>
              <a:gdLst/>
              <a:ahLst/>
              <a:rect l="l" t="t" r="r" b="b"/>
              <a:pathLst>
                <a:path w="345" h="191">
                  <a:moveTo>
                    <a:pt x="0" y="120"/>
                  </a:moveTo>
                  <a:lnTo>
                    <a:pt x="14" y="133"/>
                  </a:lnTo>
                  <a:lnTo>
                    <a:pt x="21" y="139"/>
                  </a:lnTo>
                  <a:lnTo>
                    <a:pt x="34" y="146"/>
                  </a:lnTo>
                  <a:lnTo>
                    <a:pt x="41" y="152"/>
                  </a:lnTo>
                  <a:lnTo>
                    <a:pt x="55" y="158"/>
                  </a:lnTo>
                  <a:lnTo>
                    <a:pt x="69" y="158"/>
                  </a:lnTo>
                  <a:lnTo>
                    <a:pt x="76" y="165"/>
                  </a:lnTo>
                  <a:lnTo>
                    <a:pt x="89" y="165"/>
                  </a:lnTo>
                  <a:lnTo>
                    <a:pt x="96" y="165"/>
                  </a:lnTo>
                  <a:lnTo>
                    <a:pt x="110" y="165"/>
                  </a:lnTo>
                  <a:lnTo>
                    <a:pt x="124" y="165"/>
                  </a:lnTo>
                  <a:lnTo>
                    <a:pt x="131" y="165"/>
                  </a:lnTo>
                  <a:lnTo>
                    <a:pt x="144" y="165"/>
                  </a:lnTo>
                  <a:lnTo>
                    <a:pt x="158" y="158"/>
                  </a:lnTo>
                  <a:lnTo>
                    <a:pt x="179" y="152"/>
                  </a:lnTo>
                  <a:lnTo>
                    <a:pt x="206" y="139"/>
                  </a:lnTo>
                  <a:lnTo>
                    <a:pt x="227" y="127"/>
                  </a:lnTo>
                  <a:lnTo>
                    <a:pt x="248" y="114"/>
                  </a:lnTo>
                  <a:lnTo>
                    <a:pt x="268" y="95"/>
                  </a:lnTo>
                  <a:lnTo>
                    <a:pt x="289" y="70"/>
                  </a:lnTo>
                  <a:lnTo>
                    <a:pt x="310" y="51"/>
                  </a:lnTo>
                  <a:lnTo>
                    <a:pt x="323" y="25"/>
                  </a:lnTo>
                  <a:lnTo>
                    <a:pt x="344" y="0"/>
                  </a:lnTo>
                  <a:lnTo>
                    <a:pt x="337" y="6"/>
                  </a:lnTo>
                  <a:lnTo>
                    <a:pt x="337" y="19"/>
                  </a:lnTo>
                  <a:lnTo>
                    <a:pt x="330" y="25"/>
                  </a:lnTo>
                  <a:lnTo>
                    <a:pt x="330" y="38"/>
                  </a:lnTo>
                  <a:lnTo>
                    <a:pt x="323" y="44"/>
                  </a:lnTo>
                  <a:lnTo>
                    <a:pt x="316" y="57"/>
                  </a:lnTo>
                  <a:lnTo>
                    <a:pt x="303" y="76"/>
                  </a:lnTo>
                  <a:lnTo>
                    <a:pt x="282" y="101"/>
                  </a:lnTo>
                  <a:lnTo>
                    <a:pt x="261" y="120"/>
                  </a:lnTo>
                  <a:lnTo>
                    <a:pt x="241" y="139"/>
                  </a:lnTo>
                  <a:lnTo>
                    <a:pt x="227" y="146"/>
                  </a:lnTo>
                  <a:lnTo>
                    <a:pt x="220" y="158"/>
                  </a:lnTo>
                  <a:lnTo>
                    <a:pt x="206" y="165"/>
                  </a:lnTo>
                  <a:lnTo>
                    <a:pt x="193" y="171"/>
                  </a:lnTo>
                  <a:lnTo>
                    <a:pt x="179" y="177"/>
                  </a:lnTo>
                  <a:lnTo>
                    <a:pt x="165" y="184"/>
                  </a:lnTo>
                  <a:lnTo>
                    <a:pt x="151" y="184"/>
                  </a:lnTo>
                  <a:lnTo>
                    <a:pt x="138" y="190"/>
                  </a:lnTo>
                  <a:lnTo>
                    <a:pt x="124" y="190"/>
                  </a:lnTo>
                  <a:lnTo>
                    <a:pt x="110" y="190"/>
                  </a:lnTo>
                  <a:lnTo>
                    <a:pt x="96" y="184"/>
                  </a:lnTo>
                  <a:lnTo>
                    <a:pt x="83" y="184"/>
                  </a:lnTo>
                  <a:lnTo>
                    <a:pt x="69" y="177"/>
                  </a:lnTo>
                  <a:lnTo>
                    <a:pt x="55" y="171"/>
                  </a:lnTo>
                  <a:lnTo>
                    <a:pt x="41" y="158"/>
                  </a:lnTo>
                  <a:lnTo>
                    <a:pt x="28" y="152"/>
                  </a:lnTo>
                  <a:lnTo>
                    <a:pt x="14" y="139"/>
                  </a:lnTo>
                  <a:lnTo>
                    <a:pt x="0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951680" y="5137200"/>
              <a:ext cx="982800" cy="887400"/>
            </a:xfrm>
            <a:custGeom>
              <a:avLst/>
              <a:gdLst/>
              <a:ahLst/>
              <a:rect l="l" t="t" r="r" b="b"/>
              <a:pathLst>
                <a:path w="619" h="559">
                  <a:moveTo>
                    <a:pt x="215" y="493"/>
                  </a:moveTo>
                  <a:lnTo>
                    <a:pt x="194" y="500"/>
                  </a:lnTo>
                  <a:lnTo>
                    <a:pt x="167" y="513"/>
                  </a:lnTo>
                  <a:lnTo>
                    <a:pt x="104" y="539"/>
                  </a:lnTo>
                  <a:lnTo>
                    <a:pt x="83" y="552"/>
                  </a:lnTo>
                  <a:lnTo>
                    <a:pt x="69" y="558"/>
                  </a:lnTo>
                  <a:lnTo>
                    <a:pt x="62" y="545"/>
                  </a:lnTo>
                  <a:lnTo>
                    <a:pt x="56" y="539"/>
                  </a:lnTo>
                  <a:lnTo>
                    <a:pt x="42" y="526"/>
                  </a:lnTo>
                  <a:lnTo>
                    <a:pt x="35" y="513"/>
                  </a:lnTo>
                  <a:lnTo>
                    <a:pt x="28" y="506"/>
                  </a:lnTo>
                  <a:lnTo>
                    <a:pt x="28" y="493"/>
                  </a:lnTo>
                  <a:lnTo>
                    <a:pt x="21" y="480"/>
                  </a:lnTo>
                  <a:lnTo>
                    <a:pt x="14" y="467"/>
                  </a:lnTo>
                  <a:lnTo>
                    <a:pt x="7" y="441"/>
                  </a:lnTo>
                  <a:lnTo>
                    <a:pt x="7" y="415"/>
                  </a:lnTo>
                  <a:lnTo>
                    <a:pt x="0" y="389"/>
                  </a:lnTo>
                  <a:lnTo>
                    <a:pt x="0" y="363"/>
                  </a:lnTo>
                  <a:lnTo>
                    <a:pt x="7" y="337"/>
                  </a:lnTo>
                  <a:lnTo>
                    <a:pt x="7" y="318"/>
                  </a:lnTo>
                  <a:lnTo>
                    <a:pt x="14" y="292"/>
                  </a:lnTo>
                  <a:lnTo>
                    <a:pt x="21" y="273"/>
                  </a:lnTo>
                  <a:lnTo>
                    <a:pt x="28" y="253"/>
                  </a:lnTo>
                  <a:lnTo>
                    <a:pt x="35" y="247"/>
                  </a:lnTo>
                  <a:lnTo>
                    <a:pt x="35" y="240"/>
                  </a:lnTo>
                  <a:lnTo>
                    <a:pt x="42" y="227"/>
                  </a:lnTo>
                  <a:lnTo>
                    <a:pt x="49" y="221"/>
                  </a:lnTo>
                  <a:lnTo>
                    <a:pt x="56" y="221"/>
                  </a:lnTo>
                  <a:lnTo>
                    <a:pt x="56" y="214"/>
                  </a:lnTo>
                  <a:lnTo>
                    <a:pt x="62" y="214"/>
                  </a:lnTo>
                  <a:lnTo>
                    <a:pt x="69" y="208"/>
                  </a:lnTo>
                  <a:lnTo>
                    <a:pt x="76" y="208"/>
                  </a:lnTo>
                  <a:lnTo>
                    <a:pt x="83" y="201"/>
                  </a:lnTo>
                  <a:lnTo>
                    <a:pt x="90" y="195"/>
                  </a:lnTo>
                  <a:lnTo>
                    <a:pt x="111" y="188"/>
                  </a:lnTo>
                  <a:lnTo>
                    <a:pt x="125" y="182"/>
                  </a:lnTo>
                  <a:lnTo>
                    <a:pt x="139" y="169"/>
                  </a:lnTo>
                  <a:lnTo>
                    <a:pt x="160" y="169"/>
                  </a:lnTo>
                  <a:lnTo>
                    <a:pt x="174" y="162"/>
                  </a:lnTo>
                  <a:lnTo>
                    <a:pt x="187" y="156"/>
                  </a:lnTo>
                  <a:lnTo>
                    <a:pt x="194" y="156"/>
                  </a:lnTo>
                  <a:lnTo>
                    <a:pt x="201" y="162"/>
                  </a:lnTo>
                  <a:lnTo>
                    <a:pt x="208" y="162"/>
                  </a:lnTo>
                  <a:lnTo>
                    <a:pt x="215" y="162"/>
                  </a:lnTo>
                  <a:lnTo>
                    <a:pt x="222" y="169"/>
                  </a:lnTo>
                  <a:lnTo>
                    <a:pt x="229" y="175"/>
                  </a:lnTo>
                  <a:lnTo>
                    <a:pt x="236" y="175"/>
                  </a:lnTo>
                  <a:lnTo>
                    <a:pt x="243" y="188"/>
                  </a:lnTo>
                  <a:lnTo>
                    <a:pt x="250" y="195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57" y="195"/>
                  </a:lnTo>
                  <a:lnTo>
                    <a:pt x="264" y="188"/>
                  </a:lnTo>
                  <a:lnTo>
                    <a:pt x="264" y="182"/>
                  </a:lnTo>
                  <a:lnTo>
                    <a:pt x="278" y="162"/>
                  </a:lnTo>
                  <a:lnTo>
                    <a:pt x="285" y="143"/>
                  </a:lnTo>
                  <a:lnTo>
                    <a:pt x="306" y="123"/>
                  </a:lnTo>
                  <a:lnTo>
                    <a:pt x="319" y="104"/>
                  </a:lnTo>
                  <a:lnTo>
                    <a:pt x="333" y="84"/>
                  </a:lnTo>
                  <a:lnTo>
                    <a:pt x="354" y="65"/>
                  </a:lnTo>
                  <a:lnTo>
                    <a:pt x="375" y="45"/>
                  </a:lnTo>
                  <a:lnTo>
                    <a:pt x="396" y="32"/>
                  </a:lnTo>
                  <a:lnTo>
                    <a:pt x="417" y="19"/>
                  </a:lnTo>
                  <a:lnTo>
                    <a:pt x="424" y="13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8" y="0"/>
                  </a:lnTo>
                  <a:lnTo>
                    <a:pt x="465" y="0"/>
                  </a:lnTo>
                  <a:lnTo>
                    <a:pt x="479" y="0"/>
                  </a:lnTo>
                  <a:lnTo>
                    <a:pt x="486" y="0"/>
                  </a:lnTo>
                  <a:lnTo>
                    <a:pt x="500" y="0"/>
                  </a:lnTo>
                  <a:lnTo>
                    <a:pt x="514" y="6"/>
                  </a:lnTo>
                  <a:lnTo>
                    <a:pt x="521" y="13"/>
                  </a:lnTo>
                  <a:lnTo>
                    <a:pt x="535" y="19"/>
                  </a:lnTo>
                  <a:lnTo>
                    <a:pt x="542" y="26"/>
                  </a:lnTo>
                  <a:lnTo>
                    <a:pt x="549" y="32"/>
                  </a:lnTo>
                  <a:lnTo>
                    <a:pt x="562" y="39"/>
                  </a:lnTo>
                  <a:lnTo>
                    <a:pt x="569" y="45"/>
                  </a:lnTo>
                  <a:lnTo>
                    <a:pt x="576" y="52"/>
                  </a:lnTo>
                  <a:lnTo>
                    <a:pt x="583" y="58"/>
                  </a:lnTo>
                  <a:lnTo>
                    <a:pt x="590" y="65"/>
                  </a:lnTo>
                  <a:lnTo>
                    <a:pt x="597" y="78"/>
                  </a:lnTo>
                  <a:lnTo>
                    <a:pt x="604" y="91"/>
                  </a:lnTo>
                  <a:lnTo>
                    <a:pt x="611" y="104"/>
                  </a:lnTo>
                  <a:lnTo>
                    <a:pt x="611" y="117"/>
                  </a:lnTo>
                  <a:lnTo>
                    <a:pt x="618" y="130"/>
                  </a:lnTo>
                  <a:lnTo>
                    <a:pt x="618" y="143"/>
                  </a:lnTo>
                  <a:lnTo>
                    <a:pt x="618" y="156"/>
                  </a:lnTo>
                  <a:lnTo>
                    <a:pt x="618" y="169"/>
                  </a:lnTo>
                  <a:lnTo>
                    <a:pt x="611" y="188"/>
                  </a:lnTo>
                  <a:lnTo>
                    <a:pt x="604" y="208"/>
                  </a:lnTo>
                  <a:lnTo>
                    <a:pt x="597" y="227"/>
                  </a:lnTo>
                  <a:lnTo>
                    <a:pt x="590" y="247"/>
                  </a:lnTo>
                  <a:lnTo>
                    <a:pt x="583" y="266"/>
                  </a:lnTo>
                  <a:lnTo>
                    <a:pt x="576" y="285"/>
                  </a:lnTo>
                  <a:lnTo>
                    <a:pt x="562" y="305"/>
                  </a:lnTo>
                  <a:lnTo>
                    <a:pt x="556" y="318"/>
                  </a:lnTo>
                  <a:lnTo>
                    <a:pt x="542" y="337"/>
                  </a:lnTo>
                  <a:lnTo>
                    <a:pt x="528" y="350"/>
                  </a:lnTo>
                  <a:lnTo>
                    <a:pt x="521" y="370"/>
                  </a:lnTo>
                  <a:lnTo>
                    <a:pt x="507" y="383"/>
                  </a:lnTo>
                  <a:lnTo>
                    <a:pt x="493" y="396"/>
                  </a:lnTo>
                  <a:lnTo>
                    <a:pt x="479" y="409"/>
                  </a:lnTo>
                  <a:lnTo>
                    <a:pt x="465" y="422"/>
                  </a:lnTo>
                  <a:lnTo>
                    <a:pt x="451" y="428"/>
                  </a:lnTo>
                  <a:lnTo>
                    <a:pt x="437" y="441"/>
                  </a:lnTo>
                  <a:lnTo>
                    <a:pt x="424" y="448"/>
                  </a:lnTo>
                  <a:lnTo>
                    <a:pt x="410" y="454"/>
                  </a:lnTo>
                  <a:lnTo>
                    <a:pt x="396" y="461"/>
                  </a:lnTo>
                  <a:lnTo>
                    <a:pt x="382" y="467"/>
                  </a:lnTo>
                  <a:lnTo>
                    <a:pt x="361" y="467"/>
                  </a:lnTo>
                  <a:lnTo>
                    <a:pt x="347" y="467"/>
                  </a:lnTo>
                  <a:lnTo>
                    <a:pt x="333" y="467"/>
                  </a:lnTo>
                  <a:lnTo>
                    <a:pt x="326" y="467"/>
                  </a:lnTo>
                  <a:lnTo>
                    <a:pt x="312" y="461"/>
                  </a:lnTo>
                  <a:lnTo>
                    <a:pt x="306" y="461"/>
                  </a:lnTo>
                  <a:lnTo>
                    <a:pt x="299" y="454"/>
                  </a:lnTo>
                  <a:lnTo>
                    <a:pt x="285" y="448"/>
                  </a:lnTo>
                  <a:lnTo>
                    <a:pt x="278" y="441"/>
                  </a:lnTo>
                  <a:lnTo>
                    <a:pt x="264" y="428"/>
                  </a:lnTo>
                  <a:lnTo>
                    <a:pt x="257" y="422"/>
                  </a:lnTo>
                  <a:lnTo>
                    <a:pt x="243" y="402"/>
                  </a:lnTo>
                  <a:lnTo>
                    <a:pt x="236" y="389"/>
                  </a:lnTo>
                  <a:lnTo>
                    <a:pt x="229" y="383"/>
                  </a:lnTo>
                  <a:lnTo>
                    <a:pt x="229" y="370"/>
                  </a:lnTo>
                  <a:lnTo>
                    <a:pt x="222" y="363"/>
                  </a:lnTo>
                  <a:lnTo>
                    <a:pt x="222" y="350"/>
                  </a:lnTo>
                  <a:lnTo>
                    <a:pt x="222" y="331"/>
                  </a:lnTo>
                  <a:lnTo>
                    <a:pt x="215" y="311"/>
                  </a:lnTo>
                  <a:lnTo>
                    <a:pt x="215" y="292"/>
                  </a:lnTo>
                  <a:lnTo>
                    <a:pt x="208" y="279"/>
                  </a:lnTo>
                  <a:lnTo>
                    <a:pt x="201" y="266"/>
                  </a:lnTo>
                  <a:lnTo>
                    <a:pt x="194" y="247"/>
                  </a:lnTo>
                  <a:lnTo>
                    <a:pt x="187" y="240"/>
                  </a:lnTo>
                  <a:lnTo>
                    <a:pt x="174" y="227"/>
                  </a:lnTo>
                  <a:lnTo>
                    <a:pt x="160" y="214"/>
                  </a:lnTo>
                  <a:lnTo>
                    <a:pt x="153" y="214"/>
                  </a:lnTo>
                  <a:lnTo>
                    <a:pt x="146" y="208"/>
                  </a:lnTo>
                  <a:lnTo>
                    <a:pt x="132" y="208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1" y="214"/>
                  </a:lnTo>
                  <a:lnTo>
                    <a:pt x="104" y="221"/>
                  </a:lnTo>
                  <a:lnTo>
                    <a:pt x="97" y="227"/>
                  </a:lnTo>
                  <a:lnTo>
                    <a:pt x="97" y="234"/>
                  </a:lnTo>
                  <a:lnTo>
                    <a:pt x="90" y="247"/>
                  </a:lnTo>
                  <a:lnTo>
                    <a:pt x="90" y="260"/>
                  </a:lnTo>
                  <a:lnTo>
                    <a:pt x="90" y="273"/>
                  </a:lnTo>
                  <a:lnTo>
                    <a:pt x="90" y="292"/>
                  </a:lnTo>
                  <a:lnTo>
                    <a:pt x="90" y="311"/>
                  </a:lnTo>
                  <a:lnTo>
                    <a:pt x="90" y="331"/>
                  </a:lnTo>
                  <a:lnTo>
                    <a:pt x="97" y="350"/>
                  </a:lnTo>
                  <a:lnTo>
                    <a:pt x="104" y="370"/>
                  </a:lnTo>
                  <a:lnTo>
                    <a:pt x="111" y="389"/>
                  </a:lnTo>
                  <a:lnTo>
                    <a:pt x="125" y="409"/>
                  </a:lnTo>
                  <a:lnTo>
                    <a:pt x="132" y="428"/>
                  </a:lnTo>
                  <a:lnTo>
                    <a:pt x="146" y="441"/>
                  </a:lnTo>
                  <a:lnTo>
                    <a:pt x="153" y="448"/>
                  </a:lnTo>
                  <a:lnTo>
                    <a:pt x="160" y="454"/>
                  </a:lnTo>
                  <a:lnTo>
                    <a:pt x="167" y="467"/>
                  </a:lnTo>
                  <a:lnTo>
                    <a:pt x="181" y="474"/>
                  </a:lnTo>
                  <a:lnTo>
                    <a:pt x="194" y="480"/>
                  </a:lnTo>
                  <a:lnTo>
                    <a:pt x="201" y="487"/>
                  </a:lnTo>
                  <a:lnTo>
                    <a:pt x="215" y="4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107200" y="5388120"/>
              <a:ext cx="158760" cy="10476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"/>
                  </a:moveTo>
                  <a:lnTo>
                    <a:pt x="92" y="0"/>
                  </a:lnTo>
                  <a:lnTo>
                    <a:pt x="86" y="0"/>
                  </a:lnTo>
                  <a:lnTo>
                    <a:pt x="73" y="6"/>
                  </a:lnTo>
                  <a:lnTo>
                    <a:pt x="59" y="6"/>
                  </a:lnTo>
                  <a:lnTo>
                    <a:pt x="53" y="12"/>
                  </a:lnTo>
                  <a:lnTo>
                    <a:pt x="40" y="18"/>
                  </a:lnTo>
                  <a:lnTo>
                    <a:pt x="33" y="30"/>
                  </a:lnTo>
                  <a:lnTo>
                    <a:pt x="26" y="35"/>
                  </a:lnTo>
                  <a:lnTo>
                    <a:pt x="13" y="47"/>
                  </a:lnTo>
                  <a:lnTo>
                    <a:pt x="7" y="53"/>
                  </a:lnTo>
                  <a:lnTo>
                    <a:pt x="0" y="65"/>
                  </a:lnTo>
                  <a:lnTo>
                    <a:pt x="7" y="59"/>
                  </a:lnTo>
                  <a:lnTo>
                    <a:pt x="13" y="53"/>
                  </a:lnTo>
                  <a:lnTo>
                    <a:pt x="13" y="47"/>
                  </a:lnTo>
                  <a:lnTo>
                    <a:pt x="20" y="41"/>
                  </a:lnTo>
                  <a:lnTo>
                    <a:pt x="33" y="30"/>
                  </a:lnTo>
                  <a:lnTo>
                    <a:pt x="46" y="24"/>
                  </a:lnTo>
                  <a:lnTo>
                    <a:pt x="59" y="18"/>
                  </a:lnTo>
                  <a:lnTo>
                    <a:pt x="73" y="12"/>
                  </a:lnTo>
                  <a:lnTo>
                    <a:pt x="86" y="6"/>
                  </a:lnTo>
                  <a:lnTo>
                    <a:pt x="92" y="6"/>
                  </a:lnTo>
                  <a:lnTo>
                    <a:pt x="99" y="6"/>
                  </a:lnTo>
                  <a:lnTo>
                    <a:pt x="99" y="0"/>
                  </a:lnTo>
                  <a:lnTo>
                    <a:pt x="99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353440" y="5148360"/>
              <a:ext cx="569880" cy="730080"/>
            </a:xfrm>
            <a:custGeom>
              <a:avLst/>
              <a:gdLst/>
              <a:ahLst/>
              <a:rect l="l" t="t" r="r" b="b"/>
              <a:pathLst>
                <a:path w="359" h="460">
                  <a:moveTo>
                    <a:pt x="14" y="194"/>
                  </a:moveTo>
                  <a:lnTo>
                    <a:pt x="14" y="187"/>
                  </a:lnTo>
                  <a:lnTo>
                    <a:pt x="21" y="181"/>
                  </a:lnTo>
                  <a:lnTo>
                    <a:pt x="28" y="168"/>
                  </a:lnTo>
                  <a:lnTo>
                    <a:pt x="41" y="149"/>
                  </a:lnTo>
                  <a:lnTo>
                    <a:pt x="55" y="129"/>
                  </a:lnTo>
                  <a:lnTo>
                    <a:pt x="69" y="110"/>
                  </a:lnTo>
                  <a:lnTo>
                    <a:pt x="83" y="91"/>
                  </a:lnTo>
                  <a:lnTo>
                    <a:pt x="96" y="71"/>
                  </a:lnTo>
                  <a:lnTo>
                    <a:pt x="117" y="58"/>
                  </a:lnTo>
                  <a:lnTo>
                    <a:pt x="138" y="39"/>
                  </a:lnTo>
                  <a:lnTo>
                    <a:pt x="158" y="26"/>
                  </a:lnTo>
                  <a:lnTo>
                    <a:pt x="179" y="13"/>
                  </a:lnTo>
                  <a:lnTo>
                    <a:pt x="186" y="6"/>
                  </a:lnTo>
                  <a:lnTo>
                    <a:pt x="200" y="6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5" y="6"/>
                  </a:lnTo>
                  <a:lnTo>
                    <a:pt x="269" y="6"/>
                  </a:lnTo>
                  <a:lnTo>
                    <a:pt x="275" y="13"/>
                  </a:lnTo>
                  <a:lnTo>
                    <a:pt x="269" y="13"/>
                  </a:lnTo>
                  <a:lnTo>
                    <a:pt x="255" y="6"/>
                  </a:lnTo>
                  <a:lnTo>
                    <a:pt x="241" y="6"/>
                  </a:lnTo>
                  <a:lnTo>
                    <a:pt x="234" y="6"/>
                  </a:lnTo>
                  <a:lnTo>
                    <a:pt x="220" y="6"/>
                  </a:lnTo>
                  <a:lnTo>
                    <a:pt x="213" y="13"/>
                  </a:lnTo>
                  <a:lnTo>
                    <a:pt x="200" y="13"/>
                  </a:lnTo>
                  <a:lnTo>
                    <a:pt x="193" y="19"/>
                  </a:lnTo>
                  <a:lnTo>
                    <a:pt x="179" y="26"/>
                  </a:lnTo>
                  <a:lnTo>
                    <a:pt x="172" y="26"/>
                  </a:lnTo>
                  <a:lnTo>
                    <a:pt x="151" y="39"/>
                  </a:lnTo>
                  <a:lnTo>
                    <a:pt x="131" y="58"/>
                  </a:lnTo>
                  <a:lnTo>
                    <a:pt x="117" y="71"/>
                  </a:lnTo>
                  <a:lnTo>
                    <a:pt x="96" y="91"/>
                  </a:lnTo>
                  <a:lnTo>
                    <a:pt x="83" y="110"/>
                  </a:lnTo>
                  <a:lnTo>
                    <a:pt x="69" y="129"/>
                  </a:lnTo>
                  <a:lnTo>
                    <a:pt x="55" y="149"/>
                  </a:lnTo>
                  <a:lnTo>
                    <a:pt x="41" y="162"/>
                  </a:lnTo>
                  <a:lnTo>
                    <a:pt x="34" y="181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1" y="200"/>
                  </a:lnTo>
                  <a:lnTo>
                    <a:pt x="21" y="207"/>
                  </a:lnTo>
                  <a:lnTo>
                    <a:pt x="21" y="213"/>
                  </a:lnTo>
                  <a:lnTo>
                    <a:pt x="28" y="220"/>
                  </a:lnTo>
                  <a:lnTo>
                    <a:pt x="28" y="239"/>
                  </a:lnTo>
                  <a:lnTo>
                    <a:pt x="34" y="259"/>
                  </a:lnTo>
                  <a:lnTo>
                    <a:pt x="34" y="272"/>
                  </a:lnTo>
                  <a:lnTo>
                    <a:pt x="34" y="278"/>
                  </a:lnTo>
                  <a:lnTo>
                    <a:pt x="41" y="252"/>
                  </a:lnTo>
                  <a:lnTo>
                    <a:pt x="48" y="226"/>
                  </a:lnTo>
                  <a:lnTo>
                    <a:pt x="62" y="200"/>
                  </a:lnTo>
                  <a:lnTo>
                    <a:pt x="76" y="175"/>
                  </a:lnTo>
                  <a:lnTo>
                    <a:pt x="90" y="155"/>
                  </a:lnTo>
                  <a:lnTo>
                    <a:pt x="103" y="129"/>
                  </a:lnTo>
                  <a:lnTo>
                    <a:pt x="117" y="110"/>
                  </a:lnTo>
                  <a:lnTo>
                    <a:pt x="138" y="91"/>
                  </a:lnTo>
                  <a:lnTo>
                    <a:pt x="158" y="78"/>
                  </a:lnTo>
                  <a:lnTo>
                    <a:pt x="172" y="58"/>
                  </a:lnTo>
                  <a:lnTo>
                    <a:pt x="193" y="45"/>
                  </a:lnTo>
                  <a:lnTo>
                    <a:pt x="213" y="39"/>
                  </a:lnTo>
                  <a:lnTo>
                    <a:pt x="227" y="32"/>
                  </a:lnTo>
                  <a:lnTo>
                    <a:pt x="248" y="26"/>
                  </a:lnTo>
                  <a:lnTo>
                    <a:pt x="255" y="26"/>
                  </a:lnTo>
                  <a:lnTo>
                    <a:pt x="262" y="26"/>
                  </a:lnTo>
                  <a:lnTo>
                    <a:pt x="275" y="26"/>
                  </a:lnTo>
                  <a:lnTo>
                    <a:pt x="282" y="26"/>
                  </a:lnTo>
                  <a:lnTo>
                    <a:pt x="289" y="26"/>
                  </a:lnTo>
                  <a:lnTo>
                    <a:pt x="296" y="26"/>
                  </a:lnTo>
                  <a:lnTo>
                    <a:pt x="303" y="32"/>
                  </a:lnTo>
                  <a:lnTo>
                    <a:pt x="310" y="32"/>
                  </a:lnTo>
                  <a:lnTo>
                    <a:pt x="317" y="39"/>
                  </a:lnTo>
                  <a:lnTo>
                    <a:pt x="324" y="45"/>
                  </a:lnTo>
                  <a:lnTo>
                    <a:pt x="330" y="52"/>
                  </a:lnTo>
                  <a:lnTo>
                    <a:pt x="337" y="58"/>
                  </a:lnTo>
                  <a:lnTo>
                    <a:pt x="344" y="71"/>
                  </a:lnTo>
                  <a:lnTo>
                    <a:pt x="351" y="78"/>
                  </a:lnTo>
                  <a:lnTo>
                    <a:pt x="351" y="91"/>
                  </a:lnTo>
                  <a:lnTo>
                    <a:pt x="351" y="97"/>
                  </a:lnTo>
                  <a:lnTo>
                    <a:pt x="351" y="110"/>
                  </a:lnTo>
                  <a:lnTo>
                    <a:pt x="358" y="123"/>
                  </a:lnTo>
                  <a:lnTo>
                    <a:pt x="358" y="136"/>
                  </a:lnTo>
                  <a:lnTo>
                    <a:pt x="351" y="149"/>
                  </a:lnTo>
                  <a:lnTo>
                    <a:pt x="351" y="162"/>
                  </a:lnTo>
                  <a:lnTo>
                    <a:pt x="351" y="175"/>
                  </a:lnTo>
                  <a:lnTo>
                    <a:pt x="344" y="187"/>
                  </a:lnTo>
                  <a:lnTo>
                    <a:pt x="337" y="200"/>
                  </a:lnTo>
                  <a:lnTo>
                    <a:pt x="337" y="213"/>
                  </a:lnTo>
                  <a:lnTo>
                    <a:pt x="330" y="233"/>
                  </a:lnTo>
                  <a:lnTo>
                    <a:pt x="324" y="246"/>
                  </a:lnTo>
                  <a:lnTo>
                    <a:pt x="317" y="259"/>
                  </a:lnTo>
                  <a:lnTo>
                    <a:pt x="303" y="278"/>
                  </a:lnTo>
                  <a:lnTo>
                    <a:pt x="296" y="291"/>
                  </a:lnTo>
                  <a:lnTo>
                    <a:pt x="289" y="310"/>
                  </a:lnTo>
                  <a:lnTo>
                    <a:pt x="275" y="323"/>
                  </a:lnTo>
                  <a:lnTo>
                    <a:pt x="262" y="343"/>
                  </a:lnTo>
                  <a:lnTo>
                    <a:pt x="248" y="356"/>
                  </a:lnTo>
                  <a:lnTo>
                    <a:pt x="234" y="375"/>
                  </a:lnTo>
                  <a:lnTo>
                    <a:pt x="220" y="394"/>
                  </a:lnTo>
                  <a:lnTo>
                    <a:pt x="200" y="407"/>
                  </a:lnTo>
                  <a:lnTo>
                    <a:pt x="186" y="420"/>
                  </a:lnTo>
                  <a:lnTo>
                    <a:pt x="165" y="433"/>
                  </a:lnTo>
                  <a:lnTo>
                    <a:pt x="151" y="440"/>
                  </a:lnTo>
                  <a:lnTo>
                    <a:pt x="131" y="453"/>
                  </a:lnTo>
                  <a:lnTo>
                    <a:pt x="117" y="459"/>
                  </a:lnTo>
                  <a:lnTo>
                    <a:pt x="96" y="459"/>
                  </a:lnTo>
                  <a:lnTo>
                    <a:pt x="90" y="459"/>
                  </a:lnTo>
                  <a:lnTo>
                    <a:pt x="83" y="459"/>
                  </a:lnTo>
                  <a:lnTo>
                    <a:pt x="76" y="459"/>
                  </a:lnTo>
                  <a:lnTo>
                    <a:pt x="62" y="453"/>
                  </a:lnTo>
                  <a:lnTo>
                    <a:pt x="55" y="453"/>
                  </a:lnTo>
                  <a:lnTo>
                    <a:pt x="41" y="440"/>
                  </a:lnTo>
                  <a:lnTo>
                    <a:pt x="34" y="433"/>
                  </a:lnTo>
                  <a:lnTo>
                    <a:pt x="34" y="427"/>
                  </a:lnTo>
                  <a:lnTo>
                    <a:pt x="28" y="420"/>
                  </a:lnTo>
                  <a:lnTo>
                    <a:pt x="28" y="414"/>
                  </a:lnTo>
                  <a:lnTo>
                    <a:pt x="21" y="407"/>
                  </a:lnTo>
                  <a:lnTo>
                    <a:pt x="21" y="394"/>
                  </a:lnTo>
                  <a:lnTo>
                    <a:pt x="21" y="388"/>
                  </a:lnTo>
                  <a:lnTo>
                    <a:pt x="21" y="381"/>
                  </a:lnTo>
                  <a:lnTo>
                    <a:pt x="21" y="368"/>
                  </a:lnTo>
                  <a:lnTo>
                    <a:pt x="21" y="356"/>
                  </a:lnTo>
                  <a:lnTo>
                    <a:pt x="21" y="343"/>
                  </a:lnTo>
                  <a:lnTo>
                    <a:pt x="21" y="330"/>
                  </a:lnTo>
                  <a:lnTo>
                    <a:pt x="21" y="310"/>
                  </a:lnTo>
                  <a:lnTo>
                    <a:pt x="21" y="291"/>
                  </a:lnTo>
                  <a:lnTo>
                    <a:pt x="21" y="272"/>
                  </a:lnTo>
                  <a:lnTo>
                    <a:pt x="21" y="252"/>
                  </a:lnTo>
                  <a:lnTo>
                    <a:pt x="14" y="233"/>
                  </a:lnTo>
                  <a:lnTo>
                    <a:pt x="14" y="213"/>
                  </a:lnTo>
                  <a:lnTo>
                    <a:pt x="0" y="194"/>
                  </a:lnTo>
                  <a:lnTo>
                    <a:pt x="7" y="187"/>
                  </a:lnTo>
                  <a:lnTo>
                    <a:pt x="14" y="19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74000" y="57420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074080" y="5721480"/>
              <a:ext cx="12600" cy="2196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7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06292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062920" y="5626080"/>
              <a:ext cx="144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985160" y="5626080"/>
              <a:ext cx="12600" cy="2376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4" y="5"/>
                  </a:moveTo>
                  <a:lnTo>
                    <a:pt x="7" y="5"/>
                  </a:lnTo>
                  <a:lnTo>
                    <a:pt x="7" y="14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974000" y="5678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0"/>
                  </a:moveTo>
                  <a:lnTo>
                    <a:pt x="7" y="0"/>
                  </a:lnTo>
                  <a:lnTo>
                    <a:pt x="7" y="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996320" y="5835600"/>
              <a:ext cx="1260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0"/>
                  </a:moveTo>
                  <a:lnTo>
                    <a:pt x="4" y="0"/>
                  </a:lnTo>
                  <a:lnTo>
                    <a:pt x="7" y="4"/>
                  </a:lnTo>
                  <a:lnTo>
                    <a:pt x="7" y="9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007480" y="588816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040600" y="593892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107200" y="5792760"/>
              <a:ext cx="2412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5" y="0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4"/>
                  </a:lnTo>
                  <a:lnTo>
                    <a:pt x="5" y="9"/>
                  </a:ln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174160" y="58881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11" y="0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21"/>
                  </a:lnTo>
                  <a:lnTo>
                    <a:pt x="17" y="21"/>
                  </a:lnTo>
                  <a:lnTo>
                    <a:pt x="11" y="26"/>
                  </a:lnTo>
                  <a:lnTo>
                    <a:pt x="6" y="26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129520" y="583560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1" y="14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985160" y="5762520"/>
              <a:ext cx="123840" cy="316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0" y="14"/>
                  </a:moveTo>
                  <a:lnTo>
                    <a:pt x="6" y="14"/>
                  </a:lnTo>
                  <a:lnTo>
                    <a:pt x="13" y="14"/>
                  </a:lnTo>
                  <a:lnTo>
                    <a:pt x="26" y="10"/>
                  </a:lnTo>
                  <a:lnTo>
                    <a:pt x="39" y="10"/>
                  </a:lnTo>
                  <a:lnTo>
                    <a:pt x="45" y="5"/>
                  </a:lnTo>
                  <a:lnTo>
                    <a:pt x="58" y="5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58" y="5"/>
                  </a:lnTo>
                  <a:lnTo>
                    <a:pt x="51" y="10"/>
                  </a:lnTo>
                  <a:lnTo>
                    <a:pt x="39" y="10"/>
                  </a:lnTo>
                  <a:lnTo>
                    <a:pt x="26" y="14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062920" y="5575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996320" y="55846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085240" y="5481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3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018640" y="5522760"/>
              <a:ext cx="56880" cy="1116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6"/>
                  </a:moveTo>
                  <a:lnTo>
                    <a:pt x="6" y="6"/>
                  </a:lnTo>
                  <a:lnTo>
                    <a:pt x="6" y="3"/>
                  </a:lnTo>
                  <a:lnTo>
                    <a:pt x="18" y="3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29" y="3"/>
                  </a:lnTo>
                  <a:lnTo>
                    <a:pt x="23" y="3"/>
                  </a:lnTo>
                  <a:lnTo>
                    <a:pt x="18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264520" y="5450040"/>
              <a:ext cx="57240" cy="540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6" y="33"/>
                  </a:moveTo>
                  <a:lnTo>
                    <a:pt x="6" y="28"/>
                  </a:lnTo>
                  <a:lnTo>
                    <a:pt x="12" y="22"/>
                  </a:lnTo>
                  <a:lnTo>
                    <a:pt x="18" y="17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11"/>
                  </a:lnTo>
                  <a:lnTo>
                    <a:pt x="23" y="22"/>
                  </a:lnTo>
                  <a:lnTo>
                    <a:pt x="12" y="28"/>
                  </a:lnTo>
                  <a:lnTo>
                    <a:pt x="12" y="33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0" y="28"/>
                  </a:lnTo>
                  <a:lnTo>
                    <a:pt x="6" y="3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220240" y="5938920"/>
              <a:ext cx="34920" cy="12600"/>
            </a:xfrm>
            <a:custGeom>
              <a:avLst/>
              <a:gdLst/>
              <a:ahLst/>
              <a:rect l="l" t="t" r="r" b="b"/>
              <a:pathLst>
                <a:path w="22" h="8">
                  <a:moveTo>
                    <a:pt x="21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085240" y="5991120"/>
              <a:ext cx="23760" cy="22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4" y="4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5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08800" y="5584680"/>
              <a:ext cx="1800" cy="129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19960" y="562608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31120" y="56689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286840" y="5543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242200" y="5470560"/>
              <a:ext cx="12960" cy="223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4" y="4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13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197920" y="5450040"/>
              <a:ext cx="23760" cy="10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5" y="0"/>
                  </a:moveTo>
                  <a:lnTo>
                    <a:pt x="5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3"/>
                  </a:lnTo>
                  <a:lnTo>
                    <a:pt x="9" y="6"/>
                  </a:lnTo>
                  <a:lnTo>
                    <a:pt x="5" y="3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286840" y="541800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42280" y="5491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53440" y="55324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7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64600" y="55753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4" y="0"/>
                  </a:moveTo>
                  <a:lnTo>
                    <a:pt x="4" y="0"/>
                  </a:lnTo>
                  <a:lnTo>
                    <a:pt x="4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642520" y="5230800"/>
              <a:ext cx="22536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0" y="38"/>
                  </a:moveTo>
                  <a:lnTo>
                    <a:pt x="34" y="144"/>
                  </a:lnTo>
                  <a:lnTo>
                    <a:pt x="134" y="94"/>
                  </a:lnTo>
                  <a:lnTo>
                    <a:pt x="141" y="81"/>
                  </a:lnTo>
                  <a:lnTo>
                    <a:pt x="141" y="69"/>
                  </a:lnTo>
                  <a:lnTo>
                    <a:pt x="141" y="56"/>
                  </a:lnTo>
                  <a:lnTo>
                    <a:pt x="134" y="44"/>
                  </a:lnTo>
                  <a:lnTo>
                    <a:pt x="134" y="31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94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4" y="6"/>
                  </a:lnTo>
                  <a:lnTo>
                    <a:pt x="40" y="13"/>
                  </a:lnTo>
                  <a:lnTo>
                    <a:pt x="27" y="19"/>
                  </a:lnTo>
                  <a:lnTo>
                    <a:pt x="13" y="25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431200" y="5315040"/>
              <a:ext cx="179280" cy="312480"/>
            </a:xfrm>
            <a:custGeom>
              <a:avLst/>
              <a:gdLst/>
              <a:ahLst/>
              <a:rect l="l" t="t" r="r" b="b"/>
              <a:pathLst>
                <a:path w="113" h="197">
                  <a:moveTo>
                    <a:pt x="112" y="120"/>
                  </a:moveTo>
                  <a:lnTo>
                    <a:pt x="0" y="196"/>
                  </a:lnTo>
                  <a:lnTo>
                    <a:pt x="13" y="171"/>
                  </a:lnTo>
                  <a:lnTo>
                    <a:pt x="26" y="139"/>
                  </a:lnTo>
                  <a:lnTo>
                    <a:pt x="33" y="114"/>
                  </a:lnTo>
                  <a:lnTo>
                    <a:pt x="46" y="82"/>
                  </a:lnTo>
                  <a:lnTo>
                    <a:pt x="59" y="63"/>
                  </a:lnTo>
                  <a:lnTo>
                    <a:pt x="72" y="38"/>
                  </a:lnTo>
                  <a:lnTo>
                    <a:pt x="86" y="25"/>
                  </a:lnTo>
                  <a:lnTo>
                    <a:pt x="92" y="19"/>
                  </a:lnTo>
                  <a:lnTo>
                    <a:pt x="99" y="6"/>
                  </a:lnTo>
                  <a:lnTo>
                    <a:pt x="112" y="0"/>
                  </a:lnTo>
                  <a:lnTo>
                    <a:pt x="112" y="1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431200" y="5595840"/>
              <a:ext cx="212760" cy="241560"/>
            </a:xfrm>
            <a:custGeom>
              <a:avLst/>
              <a:gdLst/>
              <a:ahLst/>
              <a:rect l="l" t="t" r="r" b="b"/>
              <a:pathLst>
                <a:path w="134" h="152">
                  <a:moveTo>
                    <a:pt x="0" y="50"/>
                  </a:moveTo>
                  <a:lnTo>
                    <a:pt x="113" y="0"/>
                  </a:lnTo>
                  <a:lnTo>
                    <a:pt x="133" y="101"/>
                  </a:lnTo>
                  <a:lnTo>
                    <a:pt x="126" y="113"/>
                  </a:lnTo>
                  <a:lnTo>
                    <a:pt x="113" y="120"/>
                  </a:lnTo>
                  <a:lnTo>
                    <a:pt x="100" y="132"/>
                  </a:lnTo>
                  <a:lnTo>
                    <a:pt x="86" y="138"/>
                  </a:lnTo>
                  <a:lnTo>
                    <a:pt x="73" y="145"/>
                  </a:lnTo>
                  <a:lnTo>
                    <a:pt x="60" y="151"/>
                  </a:lnTo>
                  <a:lnTo>
                    <a:pt x="53" y="151"/>
                  </a:lnTo>
                  <a:lnTo>
                    <a:pt x="47" y="151"/>
                  </a:lnTo>
                  <a:lnTo>
                    <a:pt x="40" y="151"/>
                  </a:lnTo>
                  <a:lnTo>
                    <a:pt x="33" y="151"/>
                  </a:lnTo>
                  <a:lnTo>
                    <a:pt x="27" y="145"/>
                  </a:lnTo>
                  <a:lnTo>
                    <a:pt x="20" y="138"/>
                  </a:lnTo>
                  <a:lnTo>
                    <a:pt x="13" y="126"/>
                  </a:lnTo>
                  <a:lnTo>
                    <a:pt x="7" y="113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0" y="69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86800" y="5438880"/>
              <a:ext cx="169920" cy="28404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7" y="70"/>
                  </a:moveTo>
                  <a:lnTo>
                    <a:pt x="106" y="0"/>
                  </a:lnTo>
                  <a:lnTo>
                    <a:pt x="106" y="6"/>
                  </a:lnTo>
                  <a:lnTo>
                    <a:pt x="99" y="19"/>
                  </a:lnTo>
                  <a:lnTo>
                    <a:pt x="99" y="32"/>
                  </a:lnTo>
                  <a:lnTo>
                    <a:pt x="93" y="38"/>
                  </a:lnTo>
                  <a:lnTo>
                    <a:pt x="86" y="64"/>
                  </a:lnTo>
                  <a:lnTo>
                    <a:pt x="73" y="89"/>
                  </a:lnTo>
                  <a:lnTo>
                    <a:pt x="60" y="114"/>
                  </a:lnTo>
                  <a:lnTo>
                    <a:pt x="40" y="140"/>
                  </a:lnTo>
                  <a:lnTo>
                    <a:pt x="20" y="159"/>
                  </a:lnTo>
                  <a:lnTo>
                    <a:pt x="7" y="178"/>
                  </a:lnTo>
                  <a:lnTo>
                    <a:pt x="0" y="178"/>
                  </a:lnTo>
                  <a:lnTo>
                    <a:pt x="7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31360" y="5491080"/>
              <a:ext cx="68040" cy="85680"/>
            </a:xfrm>
            <a:custGeom>
              <a:avLst/>
              <a:gdLst/>
              <a:ahLst/>
              <a:rect l="l" t="t" r="r" b="b"/>
              <a:pathLst>
                <a:path w="43" h="54">
                  <a:moveTo>
                    <a:pt x="12" y="12"/>
                  </a:moveTo>
                  <a:lnTo>
                    <a:pt x="18" y="6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36" y="24"/>
                  </a:lnTo>
                  <a:lnTo>
                    <a:pt x="36" y="29"/>
                  </a:lnTo>
                  <a:lnTo>
                    <a:pt x="30" y="35"/>
                  </a:lnTo>
                  <a:lnTo>
                    <a:pt x="24" y="41"/>
                  </a:lnTo>
                  <a:lnTo>
                    <a:pt x="24" y="47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6" y="18"/>
                  </a:lnTo>
                  <a:lnTo>
                    <a:pt x="1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7440840" y="4843440"/>
            <a:ext cx="11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154160" y="3789360"/>
            <a:ext cx="131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6716880" y="3236760"/>
            <a:ext cx="2320560" cy="806760"/>
            <a:chOff x="6716880" y="3236760"/>
            <a:chExt cx="2320560" cy="806760"/>
          </a:xfrm>
        </p:grpSpPr>
        <p:pic>
          <p:nvPicPr>
            <p:cNvPr id="1787" name="" descr=""/>
            <p:cNvPicPr/>
            <p:nvPr/>
          </p:nvPicPr>
          <p:blipFill>
            <a:blip r:embed="rId2"/>
            <a:stretch/>
          </p:blipFill>
          <p:spPr>
            <a:xfrm>
              <a:off x="6716880" y="3325680"/>
              <a:ext cx="92052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7738920" y="3236760"/>
              <a:ext cx="12985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ed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9" name=""/>
          <p:cNvSpPr/>
          <p:nvPr/>
        </p:nvSpPr>
        <p:spPr>
          <a:xfrm>
            <a:off x="2374920" y="3213000"/>
            <a:ext cx="4451400" cy="52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2374920" y="3060720"/>
            <a:ext cx="4375080" cy="412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2394000" y="3613320"/>
            <a:ext cx="4489560" cy="214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691520" y="4398840"/>
            <a:ext cx="219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 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519440" y="2494080"/>
            <a:ext cx="1298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edential 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7704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 at UMDL provides digital library content to CMU via site lice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U maintains credential database of who is a student entitled to library content under site lic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arranges discount for its members when buying IEEE publications from Stanford digital libra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maintains credential database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mized protocol for zero priced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 licensed)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kip interaction with NetBill server:  8 steps ==&gt; 6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illing to give up certified delivery ==&gt; 2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ece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Key Innovation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ctor of 10 reduction in transaction cos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low priced goo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entity and credentials in price negoti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omicity and certified delive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ong security and privacy protec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eamlined consumer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ributed credential author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lability and surviv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 standar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tion to supply clients, servers and transaction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essons Learned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versus microtrans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llet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State versus machine portabil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ling goods versus selling key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iss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ubscriptions versus Micro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information providers on the net are selling content via subscrip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budget 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intensive information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impact on producer sur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not require overhead of per item pay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authenticate consumer as subscription ow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tential for password sh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ligible latenc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criptions can be sold using macropayment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dit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Financial Transaction System-Cost Structure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11280" y="1206360"/>
            <a:ext cx="61088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Getting Wallets to Consumer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e exception of entering Credit Card number via SSL, payment systems require consumer to have “wallet” softwa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resistance to downloading a wallet at point of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let bundled with brow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 beginning to bundle wallet framework with browser (O/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bably requires more standardization before browser vendors will inv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ypto API in O/S, JVM or browser permits lightweight browser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 marketing efforts (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A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encourages point and click metaph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URL, return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 requires extra steps.  How to simplif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ing web page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/wallet integ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streamed cont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for wide variety of content imaging plugi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tegrating Wallet Software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ith Browser:  Approach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 multiple browsers on multiple platfo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yglass Software Developer’s Interfa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depre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per A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ber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Prox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Bill, GlobeID, Milli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app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 Insta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unching the walle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tency issu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 Management and Multiple Machin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commerce protocol assumes consumer has a private key.  Where is this key sto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ppens when consumer uses multiple machin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, home, lap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kiosk, University computer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, Mac,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card entered via SSL requires no local state, only a standard brows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off of local state, efficiency and secur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roblematic Solutions to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Local State Problem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rt car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ime before ubiquitous readers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able credentials stored on flopp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less laptops, P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platform fil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que account on each mach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access sub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NetBill’s Approach to Portability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8700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2000"/>
          </a:bodyPr>
          <a:p>
            <a:pPr marL="233640" indent="-2336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Reposit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bmits private key, encrypted (“locked”) by a key derived from passphrase, to NetBill central key res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tBill cannot decrypt locked private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tivate wallet, consumer types UserID and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ID used to request locked private key from Key Re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te key unlocked on local machine using passphr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option in PK-INIT for Kerberos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can be strengthened against dictionary attacks by deriving two orthogonal symmetric keys from pass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3560" indent="-1900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key stored at NetBill and used to prove possession of passphrase before locked private key is down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864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s strong as consumer’s passphras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dditional Portability Step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ACAP for storing configuration/preferences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requires consumer to specify ACAP server at session ini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valent to specifying key reposi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ences can be stored encrypted under private key or passphrase for local de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age of purchased inform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Selling Digital Goods versus Selling Key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9000"/>
          </a:bodyPr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assumes goods are stored at server and encypted on the fly for the purpose of secure delive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key for each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are up-to-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1280" indent="-2512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Market, InterTrust, have proposed free distribution of goods in encrypted containers (“cryptolopes”). Consumer than purchases key to access contai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distribution completely separate from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distribution, CD-ROM distrib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ed acces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5200" indent="-204480">
              <a:lnSpc>
                <a:spcPct val="89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fferent keys to get 300dpi JPEG versus 1200d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480" indent="-2008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 could become s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When to Authenticate Consumer?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uses unique authentication for payment on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Bill uses authentication for price setting as well as pay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azon.com uses authentication for marketing and after sales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Authentication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onfidence level needed for different u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ertificate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ubscribed digital goods, subscription identity need not be same as payment ident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pay for WSJ with MC or V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seudony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ational expense of multiple authentications/ cryptographic oper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hentication versus non-repudiation (digital signatur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quotes versus non-repudiable qu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2680" y="21564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ayment System Cos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5560" y="1261800"/>
            <a:ext cx="8115480" cy="484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1000"/>
          </a:bodyPr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spute resolution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n delivery (Internet is unrel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ing re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sses due to overdrawn debit (credit) account vs costs of real time ver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rd keep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cation and processing co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mess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yptographic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vacy prot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120" indent="-23112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sts of availabilit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184680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time versus deferrable commun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n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2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Risk Management Issues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in Electronic Paymen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a transaction fina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course is available if goods are faulty or not delivere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available to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re funds received from consu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custom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identity of merchan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vouches for banks to each other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92280" y="3892680"/>
            <a:ext cx="7912080" cy="23493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568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996840" y="2139840"/>
            <a:ext cx="2502000" cy="425448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594240" y="4260960"/>
            <a:ext cx="1841400" cy="134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1334880" y="2647800"/>
            <a:ext cx="6482520" cy="3039120"/>
            <a:chOff x="1334880" y="2647800"/>
            <a:chExt cx="6482520" cy="3039120"/>
          </a:xfrm>
        </p:grpSpPr>
        <p:pic>
          <p:nvPicPr>
            <p:cNvPr id="1857" name="" descr=""/>
            <p:cNvPicPr/>
            <p:nvPr/>
          </p:nvPicPr>
          <p:blipFill>
            <a:blip r:embed="rId1"/>
            <a:stretch/>
          </p:blipFill>
          <p:spPr>
            <a:xfrm>
              <a:off x="1882800" y="3043080"/>
              <a:ext cx="833400" cy="6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2"/>
            <a:stretch/>
          </p:blipFill>
          <p:spPr>
            <a:xfrm>
              <a:off x="163188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9" name="" descr=""/>
            <p:cNvPicPr/>
            <p:nvPr/>
          </p:nvPicPr>
          <p:blipFill>
            <a:blip r:embed="rId3"/>
            <a:stretch/>
          </p:blipFill>
          <p:spPr>
            <a:xfrm>
              <a:off x="6346800" y="2963880"/>
              <a:ext cx="9334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0" name="" descr=""/>
            <p:cNvPicPr/>
            <p:nvPr/>
          </p:nvPicPr>
          <p:blipFill>
            <a:blip r:embed="rId4"/>
            <a:stretch/>
          </p:blipFill>
          <p:spPr>
            <a:xfrm>
              <a:off x="6146640" y="4206960"/>
              <a:ext cx="137160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2598840" y="3371760"/>
              <a:ext cx="387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858000" y="370368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2871720" y="483876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634400" y="2685960"/>
              <a:ext cx="1233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234480" y="2647800"/>
              <a:ext cx="113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34880" y="5351400"/>
              <a:ext cx="1981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936760" y="5332320"/>
              <a:ext cx="1880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rchant’s Ba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125520" y="3029040"/>
              <a:ext cx="2171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ctronic 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909880" y="5010120"/>
              <a:ext cx="336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210200" y="342756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75640" y="37321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229280" y="44179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229280" y="510372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3651480" y="5789520"/>
            <a:ext cx="1653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s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ing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Domains of Trust:  Credit Card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228240" y="1552320"/>
            <a:ext cx="891396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&lt;==C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consumer to pay credit card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trusts bank to stop payment if merchandise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chant &lt;==&gt; Merchant’s acquirer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bank will pay on properly authoriz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 trusts merchant will not submit phony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’s Bank &lt;==&gt;Card Association&lt;==&gt;Merchant’s Ba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 trusts Consumer’s bank to se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’s bank trusts merchant’s bank to make good merchant’s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xampl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5000"/>
          </a:bodyPr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redit Card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for approved trans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customer’s bank a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guarantees to merchant contingent on funds from consumer’s ban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bank guarantees to merchant bank payment contingent on funds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5000" indent="-192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rchant bank makes no guarantees to customer’s bank of refund if goods not delive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o will vouch for identi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ertificate author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liability will be accepted by various parti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ed by national regulatory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US, financial institutions must take li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umer doesn’t worry about losing credit c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6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64000"/>
              <a:buFont typeface="Monotype Sorts" charset="2"/>
              <a:buChar char=""/>
              <a:tabLst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consumer worry about losing private ke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Keys to Future of </a:t>
            </a:r>
            <a:br>
              <a:rPr sz="3600"/>
            </a:b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Electronic Paymen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and Priva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keep records of electronic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of transaction to observers (message 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nymity of participants (pseudonyms, anonymous toke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s of money laundering, illicit money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bility to hold parties accoun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Transaction costs:  key issue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st $.05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 cost $25.01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ption rate is 0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ception cos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transaction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liability, accuracy are crit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d complaint handling tools are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Cryptography:  Basic Concepts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mmetric cryptography:  encryption and decryption use the same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Encryption Standard (DES) uses 64 bit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ymmetric or “Public Key” cryptography:  different keys used for encryption and decryp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pular algorithm is 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ssage Digest:  fixed length function of a message for which it is computationally difficult to find another message that produces the same outpu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D = H(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r algorithms are MD5 (16 bytes) and Secure Hash Algorithm (SHA), 2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640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3600" spc="-1" strike="noStrike">
                <a:solidFill>
                  <a:srgbClr val="232323"/>
                </a:solidFill>
                <a:latin typeface="Times New Roman"/>
              </a:rPr>
              <a:t>Public Key Encryption</a:t>
            </a:r>
            <a:endParaRPr b="1" lang="en-US" sz="36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06640" y="1878120"/>
            <a:ext cx="2030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1520" y="1628280"/>
            <a:ext cx="8486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, B, creates two keys S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P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are mathematically rela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ublic ke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s made widely avail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ser’s private ke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divulged to any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end a private message from A ==&gt; B, A encrypts it with B’s Public Ke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E(M, P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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the recipient B has the private key which can decrypt the messa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D(C, 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9T10:11:48Z</dcterms:created>
  <dc:creator>Marvin Sirbu</dc:creator>
  <dc:description/>
  <dc:language>en-US</dc:language>
  <cp:lastModifiedBy>Marvin Sirbu</cp:lastModifiedBy>
  <cp:lastPrinted>1998-04-23T14:33:04Z</cp:lastPrinted>
  <dcterms:modified xsi:type="dcterms:W3CDTF">2000-03-16T04:31:31Z</dcterms:modified>
  <cp:revision>9</cp:revision>
  <dc:subject/>
  <dc:title>CyberPayments '97</dc:title>
</cp:coreProperties>
</file>