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F5ED1ED-6C61-42E8-8D3D-BF4F04ADC69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Img"/>
          </p:nvPr>
        </p:nvSpPr>
        <p:spPr>
          <a:xfrm>
            <a:off x="1175400" y="705240"/>
            <a:ext cx="4639680" cy="347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body"/>
          </p:nvPr>
        </p:nvSpPr>
        <p:spPr>
          <a:xfrm>
            <a:off x="699120" y="4408200"/>
            <a:ext cx="5592600" cy="41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2256B15-4A8E-4D50-AEB2-C9BB306119E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27CAE08-4969-4030-8468-3F5CF735293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B204EE8-8E9C-4938-890A-BC28A9DA82D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64C64B4-119E-422F-97AC-BB08F818F0B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4488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448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448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448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286840" y="6400800"/>
            <a:ext cx="18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9320" y="6095880"/>
            <a:ext cx="9055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657600" y="617220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MSUNG EBUSINESS                                              PITTSBURGH, SEPTEMBER 2000                            COPYRIGHT © 2000 MICHAEL I. SHAM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verisign.com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yptographic Secur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276720" y="5257800"/>
          <a:ext cx="2741400" cy="5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5257800"/>
                    <a:ext cx="27414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blic-Key Encryp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ce wants to send Bob a secure message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ce uses Bob’s public key to encrypt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b uses his private key to decrypt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b is the ONLY ONE who can do this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M is sec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: Anyone could have sent it.  Was it really Ali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620120" y="4952880"/>
            <a:ext cx="914400" cy="9144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19040" y="5028480"/>
            <a:ext cx="8877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ICE’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EAR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95480" y="4952880"/>
            <a:ext cx="914400" cy="914400"/>
          </a:xfrm>
          <a:prstGeom prst="rect">
            <a:avLst/>
          </a:prstGeom>
          <a:solidFill>
            <a:srgbClr val="66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94760" y="5028480"/>
            <a:ext cx="8877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ICE’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DE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638680" y="4952880"/>
            <a:ext cx="914400" cy="914400"/>
          </a:xfrm>
          <a:prstGeom prst="rect">
            <a:avLst/>
          </a:prstGeom>
          <a:solidFill>
            <a:srgbClr val="66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637960" y="5028480"/>
            <a:ext cx="8877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ICE’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DE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90640" y="4952880"/>
            <a:ext cx="938160" cy="9144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01800" y="5028480"/>
            <a:ext cx="898560" cy="731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ICE’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EAR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9880" y="5029200"/>
            <a:ext cx="1828800" cy="685800"/>
          </a:xfrm>
          <a:prstGeom prst="rightArrow">
            <a:avLst>
              <a:gd name="adj1" fmla="val 50000"/>
              <a:gd name="adj2" fmla="val 66667"/>
            </a:avLst>
          </a:prstGeom>
          <a:solidFill>
            <a:srgbClr val="66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80360" y="5257440"/>
            <a:ext cx="159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NSM I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28800" y="54100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54100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332040" y="4020480"/>
            <a:ext cx="1974240" cy="493560"/>
          </a:xfrm>
          <a:prstGeom prst="wedgeRoundRectCallout">
            <a:avLst>
              <a:gd name="adj1" fmla="val -22564"/>
              <a:gd name="adj2" fmla="val 229004"/>
              <a:gd name="adj3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B DECRYPTS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S PRIVATE 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783720" y="4096440"/>
            <a:ext cx="2102400" cy="493560"/>
          </a:xfrm>
          <a:prstGeom prst="wedgeRoundRectCallout">
            <a:avLst>
              <a:gd name="adj1" fmla="val -31476"/>
              <a:gd name="adj2" fmla="val 212240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ICE ENCRYPTS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B’S PUBLIC 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346560" y="351468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38440" y="3728160"/>
            <a:ext cx="1074960" cy="73188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B’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BLIC 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18080" y="3732840"/>
            <a:ext cx="1074600" cy="7318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B’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VATE 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870280" y="3884760"/>
            <a:ext cx="668160" cy="27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691240" y="3859200"/>
            <a:ext cx="66672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gital Authentic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ce wants to send Bob a message M so that Bob is sure Alice is the sen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ce uses her own private key to encrypt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b uses Alice’s public key to decrypt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ce is the ONLY ONE who could have sent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 1: Anyone can read it!        Problem 2: Replay attack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620120" y="4952880"/>
            <a:ext cx="914400" cy="9144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19040" y="5028480"/>
            <a:ext cx="8877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ICE’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EAR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5480" y="4952880"/>
            <a:ext cx="914400" cy="914400"/>
          </a:xfrm>
          <a:prstGeom prst="rect">
            <a:avLst/>
          </a:prstGeom>
          <a:solidFill>
            <a:srgbClr val="66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4760" y="5028480"/>
            <a:ext cx="8877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ICE’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DE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38680" y="4952880"/>
            <a:ext cx="914400" cy="914400"/>
          </a:xfrm>
          <a:prstGeom prst="rect">
            <a:avLst/>
          </a:prstGeom>
          <a:solidFill>
            <a:srgbClr val="66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637960" y="5028480"/>
            <a:ext cx="8877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ICE’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DE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76240" y="4952880"/>
            <a:ext cx="952560" cy="9144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13680" y="5028480"/>
            <a:ext cx="8877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ICE’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EAR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09880" y="5029200"/>
            <a:ext cx="1828800" cy="685800"/>
          </a:xfrm>
          <a:prstGeom prst="rightArrow">
            <a:avLst>
              <a:gd name="adj1" fmla="val 50000"/>
              <a:gd name="adj2" fmla="val 66667"/>
            </a:avLst>
          </a:prstGeom>
          <a:solidFill>
            <a:srgbClr val="66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80360" y="5257440"/>
            <a:ext cx="159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NSM I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828800" y="54100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553080" y="54100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32040" y="4020480"/>
            <a:ext cx="1974240" cy="493560"/>
          </a:xfrm>
          <a:prstGeom prst="wedgeRoundRectCallout">
            <a:avLst>
              <a:gd name="adj1" fmla="val -22564"/>
              <a:gd name="adj2" fmla="val 229004"/>
              <a:gd name="adj3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B DECRYPTS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ICE’S PUBLIC 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783720" y="4096440"/>
            <a:ext cx="2102400" cy="493560"/>
          </a:xfrm>
          <a:prstGeom prst="wedgeRoundRectCallout">
            <a:avLst>
              <a:gd name="adj1" fmla="val -31476"/>
              <a:gd name="adj2" fmla="val 212240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ICE ENCRYPTS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R PRIVATE 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730320" y="3839040"/>
            <a:ext cx="956160" cy="73188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ICE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09160" y="3845520"/>
            <a:ext cx="887760" cy="7318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ICE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870280" y="3946320"/>
            <a:ext cx="853920" cy="22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03760" y="3959280"/>
            <a:ext cx="730440" cy="14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cure Signed Messag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98400" y="92376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ce must send Bob 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ecr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ign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ssage M so Bob is sure is was sent by Alice.  Us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o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cryption and signa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457200" y="2228040"/>
            <a:ext cx="8157960" cy="3785400"/>
            <a:chOff x="457200" y="2228040"/>
            <a:chExt cx="8157960" cy="3785400"/>
          </a:xfrm>
        </p:grpSpPr>
        <p:grpSp>
          <p:nvGrpSpPr>
            <p:cNvPr id="182" name=""/>
            <p:cNvGrpSpPr/>
            <p:nvPr/>
          </p:nvGrpSpPr>
          <p:grpSpPr>
            <a:xfrm>
              <a:off x="3180600" y="3046320"/>
              <a:ext cx="915120" cy="914400"/>
              <a:chOff x="3180600" y="3046320"/>
              <a:chExt cx="915120" cy="914400"/>
            </a:xfrm>
          </p:grpSpPr>
          <p:sp>
            <p:nvSpPr>
              <p:cNvPr id="183" name=""/>
              <p:cNvSpPr/>
              <p:nvPr/>
            </p:nvSpPr>
            <p:spPr>
              <a:xfrm>
                <a:off x="3181320" y="3046320"/>
                <a:ext cx="914400" cy="914400"/>
              </a:xfrm>
              <a:prstGeom prst="rect">
                <a:avLst/>
              </a:prstGeom>
              <a:solidFill>
                <a:srgbClr val="66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180600" y="3121920"/>
                <a:ext cx="88776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LICE’S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ODED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4286160" y="4987800"/>
              <a:ext cx="1793880" cy="1025640"/>
            </a:xfrm>
            <a:prstGeom prst="rect">
              <a:avLst/>
            </a:prstGeom>
            <a:solidFill>
              <a:srgbClr val="66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59160" y="5006160"/>
              <a:ext cx="1812600" cy="94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LICE’S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DED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AUTHENTICATE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901800" y="3035160"/>
              <a:ext cx="952560" cy="914400"/>
              <a:chOff x="901800" y="3035160"/>
              <a:chExt cx="952560" cy="914400"/>
            </a:xfrm>
          </p:grpSpPr>
          <p:sp>
            <p:nvSpPr>
              <p:cNvPr id="188" name=""/>
              <p:cNvSpPr/>
              <p:nvPr/>
            </p:nvSpPr>
            <p:spPr>
              <a:xfrm>
                <a:off x="901800" y="3035160"/>
                <a:ext cx="952560" cy="91440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939240" y="3110760"/>
                <a:ext cx="88776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LICE’S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LEAR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1878120" y="3529080"/>
              <a:ext cx="130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5155560" y="4226760"/>
              <a:ext cx="1974240" cy="493560"/>
            </a:xfrm>
            <a:prstGeom prst="wedgeRoundRectCallout">
              <a:avLst>
                <a:gd name="adj1" fmla="val -23824"/>
                <a:gd name="adj2" fmla="val 198467"/>
                <a:gd name="adj3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B DECRYPTS WI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LICE’S PUBLIC KE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3444480" y="2228040"/>
              <a:ext cx="2102400" cy="493560"/>
            </a:xfrm>
            <a:prstGeom prst="wedgeRoundRectCallout">
              <a:avLst>
                <a:gd name="adj1" fmla="val -31476"/>
                <a:gd name="adj2" fmla="val 212314"/>
                <a:gd name="adj3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LICE ENCRYPTS WI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ER PRIVATE KE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861480" y="2243880"/>
              <a:ext cx="2102400" cy="493560"/>
            </a:xfrm>
            <a:prstGeom prst="wedgeRoundRectCallout">
              <a:avLst>
                <a:gd name="adj1" fmla="val -31476"/>
                <a:gd name="adj2" fmla="val 212240"/>
                <a:gd name="adj3" fmla="val 16667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LICE ENCRYPTS WI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B’S PUBLIC KE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110120" y="3521160"/>
              <a:ext cx="1598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5679000" y="3038400"/>
              <a:ext cx="1372320" cy="914400"/>
              <a:chOff x="5679000" y="3038400"/>
              <a:chExt cx="1372320" cy="914400"/>
            </a:xfrm>
          </p:grpSpPr>
          <p:sp>
            <p:nvSpPr>
              <p:cNvPr id="196" name=""/>
              <p:cNvSpPr/>
              <p:nvPr/>
            </p:nvSpPr>
            <p:spPr>
              <a:xfrm>
                <a:off x="5695920" y="3038400"/>
                <a:ext cx="1349280" cy="914400"/>
              </a:xfrm>
              <a:prstGeom prst="rect">
                <a:avLst/>
              </a:prstGeom>
              <a:solidFill>
                <a:srgbClr val="ff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679000" y="3125160"/>
                <a:ext cx="137232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LICE’S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ODED AND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IGNED TEX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242840" y="4811760"/>
              <a:ext cx="1372320" cy="914400"/>
              <a:chOff x="7242840" y="4811760"/>
              <a:chExt cx="1372320" cy="914400"/>
            </a:xfrm>
          </p:grpSpPr>
          <p:sp>
            <p:nvSpPr>
              <p:cNvPr id="199" name=""/>
              <p:cNvSpPr/>
              <p:nvPr/>
            </p:nvSpPr>
            <p:spPr>
              <a:xfrm>
                <a:off x="7259760" y="4811760"/>
                <a:ext cx="1349280" cy="914400"/>
              </a:xfrm>
              <a:prstGeom prst="rect">
                <a:avLst/>
              </a:prstGeom>
              <a:solidFill>
                <a:srgbClr val="ff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242840" y="4898520"/>
                <a:ext cx="137232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LICE’S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ODED AND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IGNED TEX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 rot="5400000">
              <a:off x="6993720" y="3356640"/>
              <a:ext cx="1485720" cy="1363680"/>
            </a:xfrm>
            <a:custGeom>
              <a:avLst/>
              <a:gdLst>
                <a:gd name="textAreaLeft" fmla="*/ 0 w 1485720"/>
                <a:gd name="textAreaRight" fmla="*/ 1486080 w 1485720"/>
                <a:gd name="textAreaTop" fmla="*/ 0 h 1363680"/>
                <a:gd name="textAreaBottom" fmla="*/ 1364040 h 136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731" stAng="10800000" swAng="5400000"/>
                  <a:lnTo>
                    <a:pt x="15766" y="3429"/>
                  </a:lnTo>
                  <a:lnTo>
                    <a:pt x="15766" y="0"/>
                  </a:lnTo>
                  <a:lnTo>
                    <a:pt x="21600" y="6079"/>
                  </a:lnTo>
                  <a:lnTo>
                    <a:pt x="15766" y="12158"/>
                  </a:lnTo>
                  <a:lnTo>
                    <a:pt x="15766" y="8729"/>
                  </a:lnTo>
                  <a:lnTo>
                    <a:pt x="12427" y="8729"/>
                  </a:lnTo>
                  <a:arcTo wR="7127" hR="3431" stAng="16200000" swAng="-5400000"/>
                  <a:lnTo>
                    <a:pt x="5300" y="21600"/>
                  </a:lnTo>
                  <a:close/>
                </a:path>
              </a:pathLst>
            </a:custGeom>
            <a:solidFill>
              <a:srgbClr val="ff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087680" y="3312720"/>
              <a:ext cx="293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300800" y="3314520"/>
              <a:ext cx="312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26160" y="333180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713720" y="342720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833960" y="362232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859160" y="3844440"/>
              <a:ext cx="333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916040" y="4078080"/>
              <a:ext cx="235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913160" y="4352400"/>
              <a:ext cx="293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457200" y="4995720"/>
              <a:ext cx="1774440" cy="998280"/>
              <a:chOff x="457200" y="4995720"/>
              <a:chExt cx="1774440" cy="998280"/>
            </a:xfrm>
          </p:grpSpPr>
          <p:sp>
            <p:nvSpPr>
              <p:cNvPr id="211" name=""/>
              <p:cNvSpPr/>
              <p:nvPr/>
            </p:nvSpPr>
            <p:spPr>
              <a:xfrm>
                <a:off x="469800" y="4995720"/>
                <a:ext cx="1722600" cy="99828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57200" y="5005080"/>
                <a:ext cx="1774440" cy="94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LICE’S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LEAR TEX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(DECRYPTED AN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UTHENTICATED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 flipH="1">
              <a:off x="2126520" y="4304520"/>
              <a:ext cx="1974240" cy="493560"/>
            </a:xfrm>
            <a:prstGeom prst="wedgeRoundRectCallout">
              <a:avLst>
                <a:gd name="adj1" fmla="val -21888"/>
                <a:gd name="adj2" fmla="val 183305"/>
                <a:gd name="adj3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B DECRYPTS WI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IS PRIVATE KE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6067080" y="5450040"/>
              <a:ext cx="1197000" cy="10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2187720" y="5478480"/>
              <a:ext cx="2062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7433280" y="1693440"/>
            <a:ext cx="1491120" cy="1132200"/>
            <a:chOff x="7433280" y="1693440"/>
            <a:chExt cx="1491120" cy="1132200"/>
          </a:xfrm>
        </p:grpSpPr>
        <p:sp>
          <p:nvSpPr>
            <p:cNvPr id="217" name=""/>
            <p:cNvSpPr/>
            <p:nvPr/>
          </p:nvSpPr>
          <p:spPr>
            <a:xfrm>
              <a:off x="7435080" y="1693440"/>
              <a:ext cx="1277640" cy="2750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B’S PUBL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439760" y="2265120"/>
              <a:ext cx="1396800" cy="2750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LICE’S PUBL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439400" y="2550600"/>
              <a:ext cx="1372320" cy="2750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B’S PRIV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433280" y="1980720"/>
              <a:ext cx="1491120" cy="2750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LICE’S PRIV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6537960" y="1736640"/>
            <a:ext cx="870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 KE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ED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gital Envelop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440" y="145368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: Public-key encryption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uch slow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n symmetric encryption.  More than 1000 times slo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Combine PKE and symme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KE to se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128-bi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ymmet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ession key only for one s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3505320" y="4267080"/>
          <a:ext cx="1892160" cy="92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4267080"/>
                    <a:ext cx="1892160" cy="9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/>
          <p:nvPr/>
        </p:nvSpPr>
        <p:spPr>
          <a:xfrm>
            <a:off x="5593680" y="4206240"/>
            <a:ext cx="32497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CONTENTS OF SECURE MESSAG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ONE 128-BIT SYMMETRIC 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4952520" y="4525920"/>
            <a:ext cx="838440" cy="198360"/>
          </a:xfrm>
          <a:prstGeom prst="line">
            <a:avLst/>
          </a:prstGeom>
          <a:ln w="1908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51720" y="4007880"/>
            <a:ext cx="30762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USE PUBLIC-KEY ENCRY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TO SEND A SECURE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(USE RECIPIENT’S PRIVATE KE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199960" y="5395320"/>
            <a:ext cx="44676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ONLY THE RECIPIENT CAN READ THE MESSAG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THIS SOLVES THE KEY EXCHANGE PROBLE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/>
          <p:nvPr/>
        </p:nvCxnSpPr>
        <p:spPr>
          <a:xfrm flipH="1" flipV="1" rot="10800000">
            <a:off x="2201400" y="4738320"/>
            <a:ext cx="1424880" cy="143640"/>
          </a:xfrm>
          <a:prstGeom prst="bentConnector3">
            <a:avLst>
              <a:gd name="adj1" fmla="val -202"/>
            </a:avLst>
          </a:prstGeom>
          <a:ln w="19080">
            <a:solidFill>
              <a:srgbClr val="cc009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ssage Digest (Hash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essage digest is a “fingerprint” of a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shorter than the original message (e.g. 160 bi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’t recover the message from the dig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ing the message changes the dig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12800" y="4321440"/>
            <a:ext cx="6391440" cy="33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AGE (VERY LO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79680" y="5304960"/>
            <a:ext cx="876240" cy="30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G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19160" y="4662360"/>
            <a:ext cx="0" cy="61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185640" y="5049360"/>
            <a:ext cx="37634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DIGEST CAN BE USED TO VERIFY TH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THE MESSAGE HAS NOT BEEN ALTE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547720" y="5234040"/>
            <a:ext cx="631800" cy="17316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ngle Step of SHA-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sha" descr=""/>
          <p:cNvPicPr/>
          <p:nvPr/>
        </p:nvPicPr>
        <p:blipFill>
          <a:blip r:embed="rId1"/>
          <a:stretch/>
        </p:blipFill>
        <p:spPr>
          <a:xfrm>
            <a:off x="4494240" y="1905120"/>
            <a:ext cx="3494160" cy="40590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548280" y="1649160"/>
            <a:ext cx="3738960" cy="21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erates on 16-word (512-bit) blo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ands 16 words to 80 words W</a:t>
            </a:r>
            <a:r>
              <a:rPr b="1" lang="en-US" sz="1600" spc="-1" strike="noStrike" baseline="-30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forms 80 operations as show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for t = 0..7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, b, c, d, e are special const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600" spc="-1" strike="noStrike" baseline="-30000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special const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79640" y="5826240"/>
            <a:ext cx="3795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SCHNEIER, APPLIED CRYPT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75000" y="4263840"/>
            <a:ext cx="2190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INITIALLY CONST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3438360" y="2313000"/>
            <a:ext cx="989280" cy="1855800"/>
          </a:xfrm>
          <a:prstGeom prst="line">
            <a:avLst/>
          </a:prstGeom>
          <a:ln w="9360">
            <a:solidFill>
              <a:srgbClr val="cc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3479400" y="3170160"/>
            <a:ext cx="927000" cy="1063800"/>
          </a:xfrm>
          <a:prstGeom prst="line">
            <a:avLst/>
          </a:prstGeom>
          <a:ln w="9360">
            <a:solidFill>
              <a:srgbClr val="cc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3543120" y="3924360"/>
            <a:ext cx="850680" cy="358560"/>
          </a:xfrm>
          <a:prstGeom prst="line">
            <a:avLst/>
          </a:prstGeom>
          <a:ln w="9360">
            <a:solidFill>
              <a:srgbClr val="cc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3392280" y="4692600"/>
            <a:ext cx="1060200" cy="819360"/>
          </a:xfrm>
          <a:prstGeom prst="line">
            <a:avLst/>
          </a:prstGeom>
          <a:ln w="9360">
            <a:solidFill>
              <a:srgbClr val="cc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3539880" y="4605480"/>
            <a:ext cx="865080" cy="110880"/>
          </a:xfrm>
          <a:prstGeom prst="line">
            <a:avLst/>
          </a:prstGeom>
          <a:ln w="9360">
            <a:solidFill>
              <a:srgbClr val="cc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806000" y="1285560"/>
            <a:ext cx="3510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80 WORDS INPUT HERE, 1 EACH ST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79920" y="1558800"/>
            <a:ext cx="446040" cy="37152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25880" y="1568160"/>
            <a:ext cx="1933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MAGIC CONST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6487920" y="1749600"/>
            <a:ext cx="245880" cy="17604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4040" y="4734720"/>
            <a:ext cx="2606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lt;&lt;&lt; 5” me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yclic left shift 5 bit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274720" y="2074680"/>
            <a:ext cx="28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677920" y="2077560"/>
            <a:ext cx="28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8400" y="2101320"/>
            <a:ext cx="28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23720" y="2088720"/>
            <a:ext cx="28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991640" y="3540240"/>
            <a:ext cx="11523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REVI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CONS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FOR N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ST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969320" y="2389320"/>
            <a:ext cx="458640" cy="1127160"/>
          </a:xfrm>
          <a:prstGeom prst="line">
            <a:avLst/>
          </a:prstGeom>
          <a:ln w="9360">
            <a:solidFill>
              <a:srgbClr val="cc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7961400" y="4424400"/>
            <a:ext cx="446040" cy="1038240"/>
          </a:xfrm>
          <a:prstGeom prst="line">
            <a:avLst/>
          </a:prstGeom>
          <a:ln w="9360">
            <a:solidFill>
              <a:srgbClr val="cc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7948440" y="4323960"/>
            <a:ext cx="373320" cy="444600"/>
          </a:xfrm>
          <a:prstGeom prst="line">
            <a:avLst/>
          </a:prstGeom>
          <a:ln w="9360">
            <a:solidFill>
              <a:srgbClr val="cc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923240" y="2987640"/>
            <a:ext cx="334800" cy="533520"/>
          </a:xfrm>
          <a:prstGeom prst="line">
            <a:avLst/>
          </a:prstGeom>
          <a:ln w="9360">
            <a:solidFill>
              <a:srgbClr val="cc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98400" y="156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gital Signa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98400" y="124740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unction of both the message AND the signer’s private key (different for every mess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828720" y="2044800"/>
            <a:ext cx="7642080" cy="3927240"/>
            <a:chOff x="828720" y="2044800"/>
            <a:chExt cx="7642080" cy="3927240"/>
          </a:xfrm>
        </p:grpSpPr>
        <p:sp>
          <p:nvSpPr>
            <p:cNvPr id="265" name=""/>
            <p:cNvSpPr/>
            <p:nvPr/>
          </p:nvSpPr>
          <p:spPr>
            <a:xfrm>
              <a:off x="2643120" y="2044800"/>
              <a:ext cx="4351320" cy="33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ESSAGE (LONG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610000" y="3217680"/>
              <a:ext cx="852480" cy="33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AS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610000" y="4154400"/>
              <a:ext cx="852480" cy="33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I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62440" y="2385720"/>
              <a:ext cx="0" cy="82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008960" y="2513880"/>
              <a:ext cx="3746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99"/>
                  </a:solidFill>
                  <a:latin typeface="Arial"/>
                </a:rPr>
                <a:t>USE SECURE HASH ALGORITHM (SHA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99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cc0099"/>
                  </a:solidFill>
                  <a:latin typeface="Arial"/>
                </a:rPr>
                <a:t>TO PRODUCE HASH (MESSAGE DIGES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89440" y="3558960"/>
              <a:ext cx="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679920" y="3555360"/>
              <a:ext cx="47908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99"/>
                  </a:solidFill>
                  <a:latin typeface="Arial"/>
                </a:rPr>
                <a:t>ENCRYPT HASH USING SIGNER’S PRIVATE KE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3123720" y="2771640"/>
              <a:ext cx="887400" cy="0"/>
            </a:xfrm>
            <a:prstGeom prst="line">
              <a:avLst/>
            </a:prstGeom>
            <a:ln w="93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3200040" y="3722400"/>
              <a:ext cx="669960" cy="138240"/>
            </a:xfrm>
            <a:prstGeom prst="line">
              <a:avLst/>
            </a:prstGeom>
            <a:ln w="93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28720" y="3714120"/>
              <a:ext cx="1411200" cy="30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IVATE KE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43160" y="3860640"/>
              <a:ext cx="74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244520" y="4876200"/>
              <a:ext cx="6872400" cy="1095840"/>
              <a:chOff x="1244520" y="4876200"/>
              <a:chExt cx="6872400" cy="1095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097000" y="5419800"/>
                <a:ext cx="4351680" cy="335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ESSAGE (LONG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244520" y="5419800"/>
                <a:ext cx="852480" cy="335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I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238840" y="4876200"/>
                <a:ext cx="4417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0099"/>
                    </a:solidFill>
                    <a:latin typeface="Arial"/>
                  </a:rPr>
                  <a:t>APPEND SIGNATURE TO MESSAGE; SEND BOT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>
                <a:off x="1743120" y="5105160"/>
                <a:ext cx="542880" cy="231840"/>
              </a:xfrm>
              <a:prstGeom prst="line">
                <a:avLst/>
              </a:prstGeom>
              <a:ln w="9360">
                <a:solidFill>
                  <a:srgbClr val="cc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837480" y="4876560"/>
                <a:ext cx="156960" cy="1095480"/>
              </a:xfrm>
              <a:custGeom>
                <a:avLst/>
                <a:gdLst>
                  <a:gd name="textAreaLeft" fmla="*/ 0 w 156960"/>
                  <a:gd name="textAreaRight" fmla="*/ 56520 w 156960"/>
                  <a:gd name="textAreaTop" fmla="*/ 28440 h 1095480"/>
                  <a:gd name="textAreaBottom" fmla="*/ 1067040 h 1095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1908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993000" y="5029920"/>
                <a:ext cx="112392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0099"/>
                    </a:solidFill>
                    <a:latin typeface="Arial"/>
                  </a:rPr>
                  <a:t>DIGITALLY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cc0099"/>
                    </a:solidFill>
                    <a:latin typeface="Arial"/>
                  </a:rPr>
                  <a:t>SIGNE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0099"/>
                    </a:solidFill>
                    <a:latin typeface="Arial"/>
                  </a:rPr>
                  <a:t>MESSAG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thentication by Digital Signa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624120" y="2714760"/>
            <a:ext cx="4351320" cy="33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AGE (LO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543560" y="3992760"/>
            <a:ext cx="852480" cy="33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728800" y="4008600"/>
            <a:ext cx="852480" cy="33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921200" y="3057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086080" y="3307680"/>
            <a:ext cx="20944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RECIPIENT USES S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TO COMPUTE H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3057120" y="2341440"/>
            <a:ext cx="3240" cy="165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82520" y="3322080"/>
            <a:ext cx="26690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RECIPIENT DECRYPTS SI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WITH SIGNER’S PUBLIC 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2771640" y="1983240"/>
            <a:ext cx="5199120" cy="340560"/>
            <a:chOff x="2771640" y="1983240"/>
            <a:chExt cx="5199120" cy="340560"/>
          </a:xfrm>
        </p:grpSpPr>
        <p:sp>
          <p:nvSpPr>
            <p:cNvPr id="292" name=""/>
            <p:cNvSpPr/>
            <p:nvPr/>
          </p:nvSpPr>
          <p:spPr>
            <a:xfrm>
              <a:off x="3619440" y="1987920"/>
              <a:ext cx="4351320" cy="33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ESSAGE (LONG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771640" y="1983240"/>
              <a:ext cx="852480" cy="33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I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683280" y="4702320"/>
            <a:ext cx="78094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HASHES ARE EQUAL, MESSAGE IS AUTHENTI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?  IF ANY BIT OF M OR SIG IS ALTERED, HASH CHANG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434400" y="1607760"/>
            <a:ext cx="3537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RECIPIENT RECEIVES SIG +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53080" y="3982680"/>
            <a:ext cx="476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98400" y="156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ual Signatur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98400" y="124740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s two messages securely but allows only one party to read each.  Used in SET (Secure Electronic Transactions) protoc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68240" y="2144880"/>
            <a:ext cx="3176640" cy="33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AGE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803680" y="3237120"/>
            <a:ext cx="1309680" cy="33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GES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309840" y="4156200"/>
            <a:ext cx="1805040" cy="33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203640" y="2487600"/>
            <a:ext cx="0" cy="76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543480" y="2550600"/>
            <a:ext cx="11649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HASH 1 &amp;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WITH S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4110120" y="3592440"/>
            <a:ext cx="1440" cy="57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5530680" y="3271680"/>
            <a:ext cx="594000" cy="10980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284720" y="2149920"/>
            <a:ext cx="3176640" cy="33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AGE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106880" y="3229200"/>
            <a:ext cx="1346040" cy="33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GES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5037120" y="2503440"/>
            <a:ext cx="1440" cy="75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140520" y="2909520"/>
            <a:ext cx="23781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CONCATENATE DIGE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TOGE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092640" y="3688920"/>
            <a:ext cx="20930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HASH WITH SHA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CREATE NEW DIG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 flipV="1">
            <a:off x="4223880" y="3742920"/>
            <a:ext cx="1569960" cy="18900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092400" y="5248440"/>
            <a:ext cx="2311560" cy="33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UAL SIGN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22400" y="4699440"/>
            <a:ext cx="1596960" cy="33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VATE K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119480" y="4491000"/>
            <a:ext cx="0" cy="75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22600" y="4824360"/>
            <a:ext cx="14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589360" y="4558680"/>
            <a:ext cx="27788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ENCRYPT NEW DIG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WITH SIGNER’S PRIVATE 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4227120" y="4827600"/>
            <a:ext cx="1274760" cy="13176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3308400" y="2781360"/>
            <a:ext cx="296640" cy="14760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645080" y="2805120"/>
            <a:ext cx="322200" cy="12240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09560" y="45360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gital Certific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cert" descr=""/>
          <p:cNvPicPr/>
          <p:nvPr/>
        </p:nvPicPr>
        <p:blipFill>
          <a:blip r:embed="rId1"/>
          <a:stretch/>
        </p:blipFill>
        <p:spPr>
          <a:xfrm>
            <a:off x="2965320" y="1720800"/>
            <a:ext cx="5712120" cy="377820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6089760" y="5600880"/>
            <a:ext cx="2830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FORD &amp; BAU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ECURE ELECTRON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IC COMME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83920" y="4933080"/>
            <a:ext cx="26024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1.  USE CA’S PUBLIC 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TO VERIFY CERTIFIC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IS GENUINE AND H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NOT BEEN ALTER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14520" y="3887280"/>
            <a:ext cx="19378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2.  VERIFY THAT 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NAME MATCH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50520" y="3060360"/>
            <a:ext cx="19393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3.  VERIFY IDE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OF SEND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62400" y="1555200"/>
            <a:ext cx="24742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4.  DECRYPT SENDER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MESSAGE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SENDER’S PUBLIC 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099320" y="1380240"/>
            <a:ext cx="2241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0.  CA AUTHENTIC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SENDER, DIGITAL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SIGNS CERTIFIC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148440" y="2077920"/>
            <a:ext cx="691920" cy="115092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2416320" y="3146040"/>
            <a:ext cx="1409400" cy="28404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171960" y="2168640"/>
            <a:ext cx="1977840" cy="137304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540160" y="4235400"/>
            <a:ext cx="1285560" cy="180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2960640" y="5035320"/>
            <a:ext cx="914400" cy="67140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formation Secur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09720" y="16189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data secret from unauthorized pa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enticate identity of us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 that messages have not been altered in trans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e that a party engaged in a trans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it impossible for him to deny (nonrepudi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09560" y="45360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gital Certificate Clas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491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1:  Verified email address from 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  <a:hlinkClick r:id="rId1"/>
              </a:rPr>
              <a:t>Veri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2:  Verification of identity, social securit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number, date of bir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(But fake ID = fake certific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3:  Class 2 + credit check, Dun &amp; Bradstreet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nota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4:  Class 3 + information about individual’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position (to determine legal author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09560" y="32976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rified Email Certific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98400" y="1552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168200" y="1189080"/>
            <a:ext cx="6594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es that the holder can read email at the specified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n’t prove ANYTHING E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200600" y="2706480"/>
            <a:ext cx="2393280" cy="82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ONE REQU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RTIFICATE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ohn_Doe@cmu.e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11760" y="2351160"/>
            <a:ext cx="0" cy="3265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805360" y="2157840"/>
            <a:ext cx="1154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VERI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603760" y="3598560"/>
            <a:ext cx="2193840" cy="82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RISIGN EM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RTIFICATE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ohn_Doe@cmu.e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120680" y="4491720"/>
            <a:ext cx="2608200" cy="57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ohn_Doe@cmu.e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EIVES CERTIF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145520" y="5386680"/>
            <a:ext cx="2625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Only John Doe can get it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84760" y="3079800"/>
            <a:ext cx="1323720" cy="582480"/>
          </a:xfrm>
          <a:prstGeom prst="line">
            <a:avLst/>
          </a:prstGeom>
          <a:ln w="1908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3913200" y="4122720"/>
            <a:ext cx="1225440" cy="669960"/>
          </a:xfrm>
          <a:prstGeom prst="line">
            <a:avLst/>
          </a:prstGeom>
          <a:ln w="1908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334960" y="2171880"/>
            <a:ext cx="646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CM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09560" y="32976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blic Key Infrastructure (PKI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98400" y="1552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ministrative processes for issuance and revocation of certific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verifies the identify of certification author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ing of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tion Practice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te Revocation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09560" y="32976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nctions of a PKI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98400" y="1552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 public/private key p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and authenticate key subscri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d public keys to subscriber by digital certific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, maintain, administer, revoke, suspend, reinstate, and renew digital certific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nd manage a public key reposi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2719440" y="1955880"/>
            <a:ext cx="1735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30600" y="2324160"/>
            <a:ext cx="1735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809880" y="2959200"/>
            <a:ext cx="17352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Tahoma"/>
              </a:rPr>
              <a:t>&amp;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vest-Shamir-Adelman (RSA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easy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ultip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numbers but apparently hard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a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number into a product of two oth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p, q, it is easy to compute n = p •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 p = 5453089; q = 39180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to find n = 213655680589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n, hard to find two numbers p, q with p • q =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suppose n = 7859112349338149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What are p and q such that p • q =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ication is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ne-way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SA exploits this fact in public-key encry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SA Encryp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two large prime numbers p, q (&gt; 100 digi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n = p •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a small odd integer e that does not divid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= (p - 1)(q - 1).  Then x</a:t>
            </a:r>
            <a:r>
              <a:rPr b="1" lang="en-US" sz="2400" spc="-1" strike="noStrike" baseline="40000">
                <a:solidFill>
                  <a:srgbClr val="000000"/>
                </a:solidFill>
                <a:latin typeface="Arial"/>
              </a:rPr>
              <a:t>(p-1)(q-1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 (mod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d = e</a:t>
            </a:r>
            <a:r>
              <a:rPr b="1" lang="en-US" sz="2400" spc="-1" strike="noStrike" baseline="4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od 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is, d • e gives remainder 1 when divided by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key is the pair (e,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te key is the pair (d,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ing (e, n) is of no help in finding d.  Still need p and q, which involves factoring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SA Encryp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 M is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ncrypt message M using public key (e, 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C(M) = M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baseline="40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mod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crypt message C using private key (d, 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P(C) = C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baseline="40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mod n)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P(C(M)) = C(P(M)) = (M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baseline="40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 baseline="40000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od n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M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baseline="40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2400" spc="-1" strike="noStrike" baseline="40000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od n) = 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= 1 and m = (p-1)(q-1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"/>
          <p:cNvGrpSpPr/>
          <p:nvPr/>
        </p:nvGrpSpPr>
        <p:grpSpPr>
          <a:xfrm>
            <a:off x="516240" y="3124080"/>
            <a:ext cx="5879880" cy="3130560"/>
            <a:chOff x="516240" y="3124080"/>
            <a:chExt cx="5879880" cy="3130560"/>
          </a:xfrm>
        </p:grpSpPr>
        <p:graphicFrame>
          <p:nvGraphicFramePr>
            <p:cNvPr id="371" name=""/>
            <p:cNvGraphicFramePr/>
            <p:nvPr/>
          </p:nvGraphicFramePr>
          <p:xfrm>
            <a:off x="2413080" y="3124080"/>
            <a:ext cx="3983040" cy="313056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37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13080" y="3124080"/>
                      <a:ext cx="3983040" cy="313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3" name=""/>
            <p:cNvSpPr/>
            <p:nvPr/>
          </p:nvSpPr>
          <p:spPr>
            <a:xfrm>
              <a:off x="516240" y="4115520"/>
              <a:ext cx="18950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ULTI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OD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ltiplicative Inverse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 Finite Fiel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verse e</a:t>
            </a:r>
            <a:r>
              <a:rPr b="1" lang="en-US" sz="2000" spc="-1" strike="noStrike" baseline="4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a number e satisfies e</a:t>
            </a:r>
            <a:r>
              <a:rPr b="1" lang="en-US" sz="2000" spc="-1" strike="noStrike" baseline="40000">
                <a:solidFill>
                  <a:srgbClr val="000000"/>
                </a:solidFill>
                <a:latin typeface="Arial"/>
              </a:rPr>
              <a:t>-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e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verse of 5 is 1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we only allow numbers from 0 to n-1 (mod n), then for special values of n, each e has a unique inve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6018120" y="3322440"/>
            <a:ext cx="2678040" cy="944640"/>
            <a:chOff x="6018120" y="3322440"/>
            <a:chExt cx="2678040" cy="944640"/>
          </a:xfrm>
        </p:grpSpPr>
        <p:sp>
          <p:nvSpPr>
            <p:cNvPr id="377" name=""/>
            <p:cNvSpPr/>
            <p:nvPr/>
          </p:nvSpPr>
          <p:spPr>
            <a:xfrm>
              <a:off x="6689880" y="3322440"/>
              <a:ext cx="2006280" cy="79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Arial"/>
                </a:rPr>
                <a:t>6 </a:t>
              </a:r>
              <a:r>
                <a:rPr b="0" lang="en-US" sz="1800" spc="-1" strike="noStrike">
                  <a:solidFill>
                    <a:srgbClr val="cc0099"/>
                  </a:solidFill>
                  <a:latin typeface="Times New Roman"/>
                </a:rPr>
                <a:t>•</a:t>
              </a:r>
              <a:r>
                <a:rPr b="0" lang="en-US" sz="1800" spc="-1" strike="noStrike">
                  <a:solidFill>
                    <a:srgbClr val="cc0099"/>
                  </a:solidFill>
                  <a:latin typeface="Arial"/>
                </a:rPr>
                <a:t> 2 = 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99"/>
                  </a:solidFill>
                  <a:latin typeface="Arial"/>
                </a:rPr>
                <a:t>WHEN DIVIDED BY 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99"/>
                  </a:solidFill>
                  <a:latin typeface="Arial"/>
                </a:rPr>
                <a:t>GIVES REMAINDER 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6018120" y="3809880"/>
              <a:ext cx="673200" cy="457200"/>
            </a:xfrm>
            <a:prstGeom prst="line">
              <a:avLst/>
            </a:prstGeom>
            <a:ln w="1908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479760" y="3809880"/>
            <a:ext cx="5216040" cy="1982880"/>
            <a:chOff x="3479760" y="3809880"/>
            <a:chExt cx="5216040" cy="1982880"/>
          </a:xfrm>
        </p:grpSpPr>
        <p:sp>
          <p:nvSpPr>
            <p:cNvPr id="380" name=""/>
            <p:cNvSpPr/>
            <p:nvPr/>
          </p:nvSpPr>
          <p:spPr>
            <a:xfrm>
              <a:off x="3479760" y="3809880"/>
              <a:ext cx="304920" cy="304920"/>
            </a:xfrm>
            <a:prstGeom prst="ellipse">
              <a:avLst/>
            </a:prstGeom>
            <a:noFill/>
            <a:ln w="1908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51360" y="4191120"/>
              <a:ext cx="304920" cy="304560"/>
            </a:xfrm>
            <a:prstGeom prst="ellipse">
              <a:avLst/>
            </a:prstGeom>
            <a:noFill/>
            <a:ln w="1908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318280" y="4495680"/>
              <a:ext cx="304560" cy="304920"/>
            </a:xfrm>
            <a:prstGeom prst="ellipse">
              <a:avLst/>
            </a:prstGeom>
            <a:noFill/>
            <a:ln w="1908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936960" y="4800600"/>
              <a:ext cx="304920" cy="304920"/>
            </a:xfrm>
            <a:prstGeom prst="ellipse">
              <a:avLst/>
            </a:prstGeom>
            <a:noFill/>
            <a:ln w="1908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03880" y="5181480"/>
              <a:ext cx="304560" cy="304920"/>
            </a:xfrm>
            <a:prstGeom prst="ellipse">
              <a:avLst/>
            </a:prstGeom>
            <a:noFill/>
            <a:ln w="1908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775480" y="5486400"/>
              <a:ext cx="304560" cy="304920"/>
            </a:xfrm>
            <a:prstGeom prst="ellipse">
              <a:avLst/>
            </a:prstGeom>
            <a:noFill/>
            <a:ln w="1908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671160" y="4421520"/>
              <a:ext cx="2024640" cy="137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99"/>
                  </a:solidFill>
                  <a:latin typeface="Arial"/>
                </a:rPr>
                <a:t>EACH ROW EXCEP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99"/>
                  </a:solidFill>
                  <a:latin typeface="Arial"/>
                </a:rPr>
                <a:t>THE ZERO RO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99"/>
                  </a:solidFill>
                  <a:latin typeface="Arial"/>
                </a:rPr>
                <a:t>HAS EXACTLY ONE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99"/>
                  </a:solidFill>
                  <a:latin typeface="Arial"/>
                </a:rPr>
                <a:t>EACH ELEMENT H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99"/>
                  </a:solidFill>
                  <a:latin typeface="Arial"/>
                </a:rPr>
                <a:t>A UNIQUE INVER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079680" y="5105520"/>
              <a:ext cx="592200" cy="380880"/>
            </a:xfrm>
            <a:prstGeom prst="line">
              <a:avLst/>
            </a:prstGeom>
            <a:ln w="1908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4708080" y="4876920"/>
              <a:ext cx="1901880" cy="304560"/>
            </a:xfrm>
            <a:prstGeom prst="line">
              <a:avLst/>
            </a:prstGeom>
            <a:ln w="1908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 flipV="1">
              <a:off x="5155920" y="4266720"/>
              <a:ext cx="1579320" cy="273240"/>
            </a:xfrm>
            <a:prstGeom prst="line">
              <a:avLst/>
            </a:prstGeom>
            <a:ln w="1908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Encryption Proce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symm" descr=""/>
          <p:cNvPicPr/>
          <p:nvPr/>
        </p:nvPicPr>
        <p:blipFill>
          <a:blip r:embed="rId1"/>
          <a:stretch/>
        </p:blipFill>
        <p:spPr>
          <a:xfrm>
            <a:off x="1749600" y="2557440"/>
            <a:ext cx="5508360" cy="19591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86160" y="1948680"/>
            <a:ext cx="1440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MATE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WE WANT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KEEP SECR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30800" y="1893240"/>
            <a:ext cx="1427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UNREAD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VERSION OF</a:t>
            </a:r>
            <a:br>
              <a:rPr sz="1400"/>
            </a:b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PLAIN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65080" y="4723560"/>
            <a:ext cx="13798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DATA TO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ENCRY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ALGORITH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77960" y="4760280"/>
            <a:ext cx="1614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MATHEMAT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SCRAMB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PROCED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365160" y="5164200"/>
            <a:ext cx="20307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(TELLS HOW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SCRAMBLE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PARTICULAR MESSAG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6160" y="4448160"/>
            <a:ext cx="132948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MIGHT B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DATA</a:t>
            </a:r>
            <a:br>
              <a:rPr sz="1200"/>
            </a:b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GRAPH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SPREADSH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273320" y="3971880"/>
            <a:ext cx="617400" cy="471600"/>
          </a:xfrm>
          <a:prstGeom prst="line">
            <a:avLst/>
          </a:prstGeom>
          <a:ln w="12600">
            <a:solidFill>
              <a:srgbClr val="cc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39840" y="2690640"/>
            <a:ext cx="642960" cy="4320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75080" y="3836880"/>
            <a:ext cx="433440" cy="916200"/>
          </a:xfrm>
          <a:prstGeom prst="line">
            <a:avLst/>
          </a:prstGeom>
          <a:ln w="12600">
            <a:solidFill>
              <a:srgbClr val="cc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272200" y="4371840"/>
            <a:ext cx="444240" cy="382680"/>
          </a:xfrm>
          <a:prstGeom prst="line">
            <a:avLst/>
          </a:prstGeom>
          <a:ln w="12600">
            <a:solidFill>
              <a:srgbClr val="cc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6993000" y="2663640"/>
            <a:ext cx="617400" cy="471240"/>
          </a:xfrm>
          <a:prstGeom prst="line">
            <a:avLst/>
          </a:prstGeom>
          <a:ln w="12600">
            <a:solidFill>
              <a:srgbClr val="cc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29560" y="5818320"/>
            <a:ext cx="2634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STEIN,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WEB SECU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57600" y="1195200"/>
            <a:ext cx="37620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:  HIDE A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LAINTEXT) BY MAKING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READABLE (CIPHERTEX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le of the Key in Cryptograph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1280" y="149544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key is a parameter to 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ncryp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dure stays the same, but produces different results based on a given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62360" y="5486040"/>
            <a:ext cx="67734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: THIS METHOD IS NOT USED IN ANY REAL CRYPTOGRAPHY SYSTE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T IS AN EXAMPLE INTENDED ONLY TO ILLUSTRATE THE USE OF KEY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549000" y="2666880"/>
            <a:ext cx="7957440" cy="1221120"/>
            <a:chOff x="549000" y="2666880"/>
            <a:chExt cx="7957440" cy="1221120"/>
          </a:xfrm>
        </p:grpSpPr>
        <p:sp>
          <p:nvSpPr>
            <p:cNvPr id="75" name=""/>
            <p:cNvSpPr/>
            <p:nvPr/>
          </p:nvSpPr>
          <p:spPr>
            <a:xfrm>
              <a:off x="549000" y="3185640"/>
              <a:ext cx="795744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cc0099"/>
                  </a:solidFill>
                  <a:uFillTx/>
                  <a:latin typeface="Courier New"/>
                </a:rPr>
                <a:t>A L G O R I T H M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 B C D E F J K N P Q S T U V W X 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A B C D E F G H I J K L M N O P Q R S T U V W X Y 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798280" y="2666880"/>
              <a:ext cx="1621080" cy="549360"/>
            </a:xfrm>
            <a:prstGeom prst="line">
              <a:avLst/>
            </a:prstGeom>
            <a:ln w="1260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1456200" y="4044600"/>
            <a:ext cx="4678200" cy="976680"/>
            <a:chOff x="1456200" y="4044600"/>
            <a:chExt cx="4678200" cy="976680"/>
          </a:xfrm>
        </p:grpSpPr>
        <p:sp>
          <p:nvSpPr>
            <p:cNvPr id="78" name=""/>
            <p:cNvSpPr/>
            <p:nvPr/>
          </p:nvSpPr>
          <p:spPr>
            <a:xfrm>
              <a:off x="3053880" y="4044600"/>
              <a:ext cx="3080520" cy="976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C O N S U L T I N 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K D Q N V B U F Q 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456200" y="4329000"/>
              <a:ext cx="1454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XAMPLE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200400" y="4343400"/>
              <a:ext cx="0" cy="320760"/>
            </a:xfrm>
            <a:prstGeom prst="line">
              <a:avLst/>
            </a:prstGeom>
            <a:ln w="6480">
              <a:solidFill>
                <a:srgbClr val="cc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943600" y="4343400"/>
              <a:ext cx="0" cy="320760"/>
            </a:xfrm>
            <a:prstGeom prst="line">
              <a:avLst/>
            </a:prstGeom>
            <a:ln w="6480">
              <a:solidFill>
                <a:srgbClr val="cc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05320" y="4343400"/>
              <a:ext cx="0" cy="320760"/>
            </a:xfrm>
            <a:prstGeom prst="line">
              <a:avLst/>
            </a:prstGeom>
            <a:ln w="6480">
              <a:solidFill>
                <a:srgbClr val="cc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809880" y="4343400"/>
              <a:ext cx="0" cy="320760"/>
            </a:xfrm>
            <a:prstGeom prst="line">
              <a:avLst/>
            </a:prstGeom>
            <a:ln w="6480">
              <a:solidFill>
                <a:srgbClr val="cc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114800" y="4343400"/>
              <a:ext cx="0" cy="320760"/>
            </a:xfrm>
            <a:prstGeom prst="line">
              <a:avLst/>
            </a:prstGeom>
            <a:ln w="6480">
              <a:solidFill>
                <a:srgbClr val="cc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638680" y="4343400"/>
              <a:ext cx="0" cy="320760"/>
            </a:xfrm>
            <a:prstGeom prst="line">
              <a:avLst/>
            </a:prstGeom>
            <a:ln w="6480">
              <a:solidFill>
                <a:srgbClr val="cc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419720" y="4343400"/>
              <a:ext cx="0" cy="320760"/>
            </a:xfrm>
            <a:prstGeom prst="line">
              <a:avLst/>
            </a:prstGeom>
            <a:ln w="6480">
              <a:solidFill>
                <a:srgbClr val="cc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4280" y="4343400"/>
              <a:ext cx="0" cy="320760"/>
            </a:xfrm>
            <a:prstGeom prst="line">
              <a:avLst/>
            </a:prstGeom>
            <a:ln w="6480">
              <a:solidFill>
                <a:srgbClr val="cc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029200" y="4343400"/>
              <a:ext cx="0" cy="320760"/>
            </a:xfrm>
            <a:prstGeom prst="line">
              <a:avLst/>
            </a:prstGeom>
            <a:ln w="6480">
              <a:solidFill>
                <a:srgbClr val="cc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334120" y="4343400"/>
              <a:ext cx="0" cy="320760"/>
            </a:xfrm>
            <a:prstGeom prst="line">
              <a:avLst/>
            </a:prstGeom>
            <a:ln w="6480">
              <a:solidFill>
                <a:srgbClr val="cc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mmetric Encryp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symm2" descr=""/>
          <p:cNvPicPr/>
          <p:nvPr/>
        </p:nvPicPr>
        <p:blipFill>
          <a:blip r:embed="rId1"/>
          <a:stretch/>
        </p:blipFill>
        <p:spPr>
          <a:xfrm>
            <a:off x="1046160" y="1463760"/>
            <a:ext cx="6881760" cy="38545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066320" y="1650240"/>
            <a:ext cx="2083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cc0099"/>
                </a:solidFill>
                <a:uFillTx/>
                <a:latin typeface="Arial"/>
              </a:rPr>
              <a:t>SAME KEY</a:t>
            </a: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 USED F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BOTH ENRCY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AND DECRY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33720" y="5164920"/>
            <a:ext cx="2913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SENDER AND RECIPIENT M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BOTH KNOW THE 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cc0099"/>
                </a:solidFill>
                <a:uFillTx/>
                <a:latin typeface="Arial"/>
              </a:rPr>
              <a:t>THIS IS A WEAK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041640" y="1719000"/>
            <a:ext cx="965160" cy="384120"/>
          </a:xfrm>
          <a:prstGeom prst="line">
            <a:avLst/>
          </a:prstGeom>
          <a:ln w="1260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916600" y="4767120"/>
            <a:ext cx="965160" cy="384480"/>
          </a:xfrm>
          <a:prstGeom prst="line">
            <a:avLst/>
          </a:prstGeom>
          <a:ln w="1260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77920" y="4892760"/>
            <a:ext cx="941400" cy="407880"/>
          </a:xfrm>
          <a:prstGeom prst="line">
            <a:avLst/>
          </a:prstGeom>
          <a:ln w="1260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86680" y="5725080"/>
            <a:ext cx="26319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STEIN,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WEB SECU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ata Encryption Standard (DES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98400" y="1518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metric, key-based encryption-decryption standard.  No public k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 cipher: operates on 64-bit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56-bit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 “rounds” -- key for each round is a 48-bit function of the original 56-bit key.  Each key bit participates in an average of 14 r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ly symmetric.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gorithm decry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 implementation in hardware: 1 gigabit/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3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ata Encryption Standard (DES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des" descr=""/>
          <p:cNvPicPr/>
          <p:nvPr/>
        </p:nvPicPr>
        <p:blipFill>
          <a:blip r:embed="rId1"/>
          <a:stretch/>
        </p:blipFill>
        <p:spPr>
          <a:xfrm>
            <a:off x="3554280" y="1015920"/>
            <a:ext cx="3267360" cy="4996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249560" y="1169640"/>
            <a:ext cx="2076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64 BITS OF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82480" y="1160280"/>
            <a:ext cx="2071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INPUT PERMU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45480" y="5382720"/>
            <a:ext cx="18478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INVERSE OF IN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PERMU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82360" y="1953360"/>
            <a:ext cx="168012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SUBKEY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EACH IS A 48-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FUNCTION OF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56-BIT 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756120" y="2139840"/>
            <a:ext cx="430200" cy="26064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336640" y="1339920"/>
            <a:ext cx="654120" cy="21096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45960" y="5000040"/>
            <a:ext cx="19756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OUTPUT: 64 BITS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ENCRYPTED 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5261040" y="5484960"/>
            <a:ext cx="790560" cy="18576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84560" y="5299200"/>
            <a:ext cx="1116000" cy="50616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355920" y="1192320"/>
            <a:ext cx="1128600" cy="14760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35360" y="1706400"/>
            <a:ext cx="718920" cy="28908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40280" y="1550520"/>
            <a:ext cx="16390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LEFT HALF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BLOCK (32 BI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45640" y="2582280"/>
            <a:ext cx="2468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0099"/>
                </a:solidFill>
                <a:latin typeface="Arial"/>
              </a:rPr>
              <a:t>f</a:t>
            </a: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  IS A COMPLICA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FUNCTION INVOLV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VARIOUS PERMUT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2976480" y="2395080"/>
            <a:ext cx="1782720" cy="35892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6684840" y="2465280"/>
            <a:ext cx="517680" cy="73044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6748200" y="2898720"/>
            <a:ext cx="641160" cy="178128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30400" y="3414600"/>
            <a:ext cx="1795680" cy="116208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0120" y="5802120"/>
            <a:ext cx="3795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SCHNEIER, APPLIED CRYPT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65400" y="2187360"/>
            <a:ext cx="1931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Symbol"/>
                <a:ea typeface="Symbol"/>
              </a:rPr>
              <a:t></a:t>
            </a: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IS EXCLUSIVE-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92480" y="2357280"/>
            <a:ext cx="882720" cy="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acking Symmetric Encryp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09600" y="2214720"/>
          <a:ext cx="8596440" cy="340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9600" y="2214720"/>
                    <a:ext cx="8596440" cy="34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2526840" y="5710680"/>
            <a:ext cx="407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40-bit symmetric key = 384-bit PKE ke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80400" y="1504080"/>
            <a:ext cx="4205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TIMATED TIME TO CRACK KN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MMETRIC ENCRYPTION ALGORITH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-Key (Asymmetric) Encryp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k" descr=""/>
          <p:cNvPicPr/>
          <p:nvPr/>
        </p:nvPicPr>
        <p:blipFill>
          <a:blip r:embed="rId1"/>
          <a:stretch/>
        </p:blipFill>
        <p:spPr>
          <a:xfrm>
            <a:off x="1662120" y="2398680"/>
            <a:ext cx="5764320" cy="2206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720720" y="4987800"/>
            <a:ext cx="22046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1.  USERS WAN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SEND PLAIN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TO RECIPIENT WEBS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76880" y="1704960"/>
            <a:ext cx="2629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2.  SENDERS USE SITE’S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KEY FOR ENCRY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08280" y="1701720"/>
            <a:ext cx="2181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3.  SITE USES ITS PRIV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KEY FOR DECRY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972760" y="4916520"/>
            <a:ext cx="252612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4.  ONLY WEBSIT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DECRYPT THE CIPHERTEX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     </a:t>
            </a:r>
            <a:r>
              <a:rPr b="1" lang="en-US" sz="1200" spc="-1" strike="noStrike" u="sng">
                <a:solidFill>
                  <a:srgbClr val="cc0099"/>
                </a:solidFill>
                <a:uFillTx/>
                <a:latin typeface="Arial"/>
              </a:rPr>
              <a:t>NO ONE ELSE KNOWS H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434960" y="4305240"/>
            <a:ext cx="519120" cy="6177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991120" y="2144880"/>
            <a:ext cx="519120" cy="406080"/>
          </a:xfrm>
          <a:prstGeom prst="line">
            <a:avLst/>
          </a:prstGeom>
          <a:ln w="12600">
            <a:solidFill>
              <a:srgbClr val="cc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7195680" y="4306680"/>
            <a:ext cx="297000" cy="5317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57360" y="2160720"/>
            <a:ext cx="593640" cy="3096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890320" y="5805360"/>
            <a:ext cx="2634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STEIN,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WEB SECU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01T20:54:13Z</dcterms:created>
  <dc:creator>Michael I. Shamos</dc:creator>
  <dc:description/>
  <dc:language>en-US</dc:language>
  <cp:lastModifiedBy>Valued Gateway Client</cp:lastModifiedBy>
  <cp:lastPrinted>1999-04-26T23:26:57Z</cp:lastPrinted>
  <dcterms:modified xsi:type="dcterms:W3CDTF">2000-09-08T17:59:11Z</dcterms:modified>
  <cp:revision>0</cp:revision>
  <dc:subject/>
  <dc:title>Cryptographic Security</dc:title>
</cp:coreProperties>
</file>