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DD3BB2B-62EF-4568-A24A-9D8ECBF1E5D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1175400" y="705240"/>
            <a:ext cx="4639680" cy="347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99120" y="4408200"/>
            <a:ext cx="559260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CAA8982-08A0-455B-A1C5-3022EE9A5BB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15D62A-8F66-4C89-B07D-B86DD0B5B34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86840" y="6400800"/>
            <a:ext cx="18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320" y="60958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6576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SUNG EBUSINESS                                              PITTSBURGH, SEPTEMBER 2000                            COPYRIGHT © 2000 MICHAEL I. SHA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software.ibm.com/commerce/payment/specsheetetill.html" TargetMode="External"/><Relationship Id="rId3" Type="http://schemas.openxmlformats.org/officeDocument/2006/relationships/hyperlink" Target="http://www.software.ibm.com/commerce/payment/specsheetetill.html" TargetMode="External"/><Relationship Id="rId4" Type="http://schemas.openxmlformats.org/officeDocument/2006/relationships/hyperlink" Target="http://www.software.ibm.com/commerce/payment/specsheetetill.html" TargetMode="External"/><Relationship Id="rId5" Type="http://schemas.openxmlformats.org/officeDocument/2006/relationships/hyperlink" Target="http://www.software.ibm.com/commerce/payment/specsheetetill.html" TargetMode="External"/><Relationship Id="rId6" Type="http://schemas.openxmlformats.org/officeDocument/2006/relationships/hyperlink" Target="http://www.software.ibm.com/commerce/payment/specsheetetill.html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integrion.com/demo/index.html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qpass.com/" TargetMode="External"/><Relationship Id="rId2" Type="http://schemas.openxmlformats.org/officeDocument/2006/relationships/hyperlink" Target="http://www.millicent.com/home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33720" y="1019160"/>
            <a:ext cx="1971720" cy="914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1080" y="220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ectronic Payment Syste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19680" y="304920"/>
            <a:ext cx="1143000" cy="780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041720" y="338040"/>
            <a:ext cx="932040" cy="642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683240" y="1422360"/>
            <a:ext cx="1454040" cy="733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74560" y="469800"/>
            <a:ext cx="2403720" cy="542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145280" y="930240"/>
            <a:ext cx="1335240" cy="909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338040" y="1287360"/>
            <a:ext cx="1498680" cy="916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87360" y="5462640"/>
            <a:ext cx="2590920" cy="34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rcRect l="55967" t="0" r="0" b="0"/>
          <a:stretch/>
        </p:blipFill>
        <p:spPr>
          <a:xfrm>
            <a:off x="3429000" y="4836960"/>
            <a:ext cx="1870200" cy="314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7467480" y="4602240"/>
            <a:ext cx="1352520" cy="476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1"/>
          <a:stretch/>
        </p:blipFill>
        <p:spPr>
          <a:xfrm>
            <a:off x="5172120" y="3886200"/>
            <a:ext cx="2600280" cy="704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2"/>
          <a:stretch/>
        </p:blipFill>
        <p:spPr>
          <a:xfrm>
            <a:off x="3003480" y="3886200"/>
            <a:ext cx="1206720" cy="322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3"/>
          <a:stretch/>
        </p:blipFill>
        <p:spPr>
          <a:xfrm>
            <a:off x="4210200" y="5462640"/>
            <a:ext cx="3981240" cy="504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4"/>
          <a:stretch/>
        </p:blipFill>
        <p:spPr>
          <a:xfrm>
            <a:off x="1066680" y="3983040"/>
            <a:ext cx="132408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SL (Secure Sockets Layer)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94440" y="2428920"/>
            <a:ext cx="223020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rmAutofit fontScale="92000"/>
          </a:bodyPr>
          <a:p>
            <a:pPr marL="159120" indent="-159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mer must trust merchant with 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9120" indent="-159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ar to ordinary phone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9120" indent="-159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transaction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840" y="5781600"/>
            <a:ext cx="204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MARVIN SIR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9720" y="2508120"/>
            <a:ext cx="4403880" cy="2102040"/>
          </a:xfrm>
          <a:custGeom>
            <a:avLst/>
            <a:gdLst/>
            <a:ahLst/>
            <a:rect l="l" t="t" r="r" b="b"/>
            <a:pathLst>
              <a:path w="3299" h="1713">
                <a:moveTo>
                  <a:pt x="3298" y="1173"/>
                </a:moveTo>
                <a:lnTo>
                  <a:pt x="3293" y="1099"/>
                </a:lnTo>
                <a:lnTo>
                  <a:pt x="3264" y="986"/>
                </a:lnTo>
                <a:lnTo>
                  <a:pt x="3212" y="894"/>
                </a:lnTo>
                <a:lnTo>
                  <a:pt x="3187" y="863"/>
                </a:lnTo>
                <a:lnTo>
                  <a:pt x="3157" y="837"/>
                </a:lnTo>
                <a:lnTo>
                  <a:pt x="3092" y="800"/>
                </a:lnTo>
                <a:lnTo>
                  <a:pt x="3000" y="783"/>
                </a:lnTo>
                <a:lnTo>
                  <a:pt x="2980" y="785"/>
                </a:lnTo>
                <a:lnTo>
                  <a:pt x="2877" y="815"/>
                </a:lnTo>
                <a:lnTo>
                  <a:pt x="2896" y="808"/>
                </a:lnTo>
                <a:lnTo>
                  <a:pt x="2988" y="784"/>
                </a:lnTo>
                <a:lnTo>
                  <a:pt x="2986" y="748"/>
                </a:lnTo>
                <a:lnTo>
                  <a:pt x="2970" y="721"/>
                </a:lnTo>
                <a:lnTo>
                  <a:pt x="2929" y="673"/>
                </a:lnTo>
                <a:lnTo>
                  <a:pt x="2857" y="626"/>
                </a:lnTo>
                <a:lnTo>
                  <a:pt x="2793" y="614"/>
                </a:lnTo>
                <a:lnTo>
                  <a:pt x="2748" y="621"/>
                </a:lnTo>
                <a:lnTo>
                  <a:pt x="2792" y="613"/>
                </a:lnTo>
                <a:lnTo>
                  <a:pt x="2844" y="622"/>
                </a:lnTo>
                <a:lnTo>
                  <a:pt x="2854" y="603"/>
                </a:lnTo>
                <a:lnTo>
                  <a:pt x="2866" y="539"/>
                </a:lnTo>
                <a:lnTo>
                  <a:pt x="2864" y="413"/>
                </a:lnTo>
                <a:lnTo>
                  <a:pt x="2826" y="280"/>
                </a:lnTo>
                <a:lnTo>
                  <a:pt x="2808" y="247"/>
                </a:lnTo>
                <a:lnTo>
                  <a:pt x="2789" y="216"/>
                </a:lnTo>
                <a:lnTo>
                  <a:pt x="2768" y="187"/>
                </a:lnTo>
                <a:lnTo>
                  <a:pt x="2745" y="162"/>
                </a:lnTo>
                <a:lnTo>
                  <a:pt x="2720" y="140"/>
                </a:lnTo>
                <a:lnTo>
                  <a:pt x="2636" y="97"/>
                </a:lnTo>
                <a:lnTo>
                  <a:pt x="2545" y="81"/>
                </a:lnTo>
                <a:lnTo>
                  <a:pt x="2477" y="89"/>
                </a:lnTo>
                <a:lnTo>
                  <a:pt x="2386" y="132"/>
                </a:lnTo>
                <a:lnTo>
                  <a:pt x="2358" y="154"/>
                </a:lnTo>
                <a:lnTo>
                  <a:pt x="2333" y="179"/>
                </a:lnTo>
                <a:lnTo>
                  <a:pt x="2310" y="207"/>
                </a:lnTo>
                <a:lnTo>
                  <a:pt x="2289" y="239"/>
                </a:lnTo>
                <a:lnTo>
                  <a:pt x="2271" y="274"/>
                </a:lnTo>
                <a:lnTo>
                  <a:pt x="2231" y="395"/>
                </a:lnTo>
                <a:lnTo>
                  <a:pt x="2261" y="296"/>
                </a:lnTo>
                <a:lnTo>
                  <a:pt x="2260" y="266"/>
                </a:lnTo>
                <a:lnTo>
                  <a:pt x="2217" y="224"/>
                </a:lnTo>
                <a:lnTo>
                  <a:pt x="2164" y="195"/>
                </a:lnTo>
                <a:lnTo>
                  <a:pt x="2073" y="180"/>
                </a:lnTo>
                <a:lnTo>
                  <a:pt x="1995" y="197"/>
                </a:lnTo>
                <a:lnTo>
                  <a:pt x="1922" y="246"/>
                </a:lnTo>
                <a:lnTo>
                  <a:pt x="1895" y="275"/>
                </a:lnTo>
                <a:lnTo>
                  <a:pt x="1871" y="310"/>
                </a:lnTo>
                <a:lnTo>
                  <a:pt x="1840" y="374"/>
                </a:lnTo>
                <a:lnTo>
                  <a:pt x="1899" y="273"/>
                </a:lnTo>
                <a:lnTo>
                  <a:pt x="1889" y="237"/>
                </a:lnTo>
                <a:lnTo>
                  <a:pt x="1859" y="180"/>
                </a:lnTo>
                <a:lnTo>
                  <a:pt x="1788" y="90"/>
                </a:lnTo>
                <a:lnTo>
                  <a:pt x="1703" y="36"/>
                </a:lnTo>
                <a:lnTo>
                  <a:pt x="1610" y="16"/>
                </a:lnTo>
                <a:lnTo>
                  <a:pt x="1586" y="16"/>
                </a:lnTo>
                <a:lnTo>
                  <a:pt x="1495" y="36"/>
                </a:lnTo>
                <a:lnTo>
                  <a:pt x="1410" y="88"/>
                </a:lnTo>
                <a:lnTo>
                  <a:pt x="1339" y="172"/>
                </a:lnTo>
                <a:lnTo>
                  <a:pt x="1289" y="286"/>
                </a:lnTo>
                <a:lnTo>
                  <a:pt x="1297" y="260"/>
                </a:lnTo>
                <a:lnTo>
                  <a:pt x="1348" y="158"/>
                </a:lnTo>
                <a:lnTo>
                  <a:pt x="1342" y="117"/>
                </a:lnTo>
                <a:lnTo>
                  <a:pt x="1301" y="75"/>
                </a:lnTo>
                <a:lnTo>
                  <a:pt x="1205" y="20"/>
                </a:lnTo>
                <a:lnTo>
                  <a:pt x="1100" y="0"/>
                </a:lnTo>
                <a:lnTo>
                  <a:pt x="968" y="27"/>
                </a:lnTo>
                <a:lnTo>
                  <a:pt x="871" y="89"/>
                </a:lnTo>
                <a:lnTo>
                  <a:pt x="792" y="189"/>
                </a:lnTo>
                <a:lnTo>
                  <a:pt x="740" y="326"/>
                </a:lnTo>
                <a:lnTo>
                  <a:pt x="722" y="499"/>
                </a:lnTo>
                <a:lnTo>
                  <a:pt x="722" y="476"/>
                </a:lnTo>
                <a:lnTo>
                  <a:pt x="733" y="359"/>
                </a:lnTo>
                <a:lnTo>
                  <a:pt x="694" y="358"/>
                </a:lnTo>
                <a:lnTo>
                  <a:pt x="641" y="382"/>
                </a:lnTo>
                <a:lnTo>
                  <a:pt x="590" y="420"/>
                </a:lnTo>
                <a:lnTo>
                  <a:pt x="566" y="443"/>
                </a:lnTo>
                <a:lnTo>
                  <a:pt x="544" y="469"/>
                </a:lnTo>
                <a:lnTo>
                  <a:pt x="523" y="498"/>
                </a:lnTo>
                <a:lnTo>
                  <a:pt x="504" y="529"/>
                </a:lnTo>
                <a:lnTo>
                  <a:pt x="488" y="563"/>
                </a:lnTo>
                <a:lnTo>
                  <a:pt x="475" y="599"/>
                </a:lnTo>
                <a:lnTo>
                  <a:pt x="460" y="658"/>
                </a:lnTo>
                <a:lnTo>
                  <a:pt x="456" y="785"/>
                </a:lnTo>
                <a:lnTo>
                  <a:pt x="457" y="682"/>
                </a:lnTo>
                <a:lnTo>
                  <a:pt x="434" y="675"/>
                </a:lnTo>
                <a:lnTo>
                  <a:pt x="401" y="693"/>
                </a:lnTo>
                <a:lnTo>
                  <a:pt x="334" y="753"/>
                </a:lnTo>
                <a:lnTo>
                  <a:pt x="292" y="819"/>
                </a:lnTo>
                <a:lnTo>
                  <a:pt x="263" y="911"/>
                </a:lnTo>
                <a:lnTo>
                  <a:pt x="291" y="822"/>
                </a:lnTo>
                <a:lnTo>
                  <a:pt x="251" y="823"/>
                </a:lnTo>
                <a:lnTo>
                  <a:pt x="223" y="830"/>
                </a:lnTo>
                <a:lnTo>
                  <a:pt x="143" y="874"/>
                </a:lnTo>
                <a:lnTo>
                  <a:pt x="75" y="943"/>
                </a:lnTo>
                <a:lnTo>
                  <a:pt x="56" y="970"/>
                </a:lnTo>
                <a:lnTo>
                  <a:pt x="25" y="1031"/>
                </a:lnTo>
                <a:lnTo>
                  <a:pt x="0" y="1133"/>
                </a:lnTo>
                <a:lnTo>
                  <a:pt x="7" y="1275"/>
                </a:lnTo>
                <a:lnTo>
                  <a:pt x="39" y="1373"/>
                </a:lnTo>
                <a:lnTo>
                  <a:pt x="91" y="1457"/>
                </a:lnTo>
                <a:lnTo>
                  <a:pt x="160" y="1519"/>
                </a:lnTo>
                <a:lnTo>
                  <a:pt x="245" y="1555"/>
                </a:lnTo>
                <a:lnTo>
                  <a:pt x="332" y="1556"/>
                </a:lnTo>
                <a:lnTo>
                  <a:pt x="408" y="1531"/>
                </a:lnTo>
                <a:lnTo>
                  <a:pt x="493" y="1465"/>
                </a:lnTo>
                <a:lnTo>
                  <a:pt x="554" y="1374"/>
                </a:lnTo>
                <a:lnTo>
                  <a:pt x="581" y="1294"/>
                </a:lnTo>
                <a:lnTo>
                  <a:pt x="573" y="1324"/>
                </a:lnTo>
                <a:lnTo>
                  <a:pt x="533" y="1411"/>
                </a:lnTo>
                <a:lnTo>
                  <a:pt x="528" y="1454"/>
                </a:lnTo>
                <a:lnTo>
                  <a:pt x="570" y="1549"/>
                </a:lnTo>
                <a:lnTo>
                  <a:pt x="634" y="1624"/>
                </a:lnTo>
                <a:lnTo>
                  <a:pt x="713" y="1672"/>
                </a:lnTo>
                <a:lnTo>
                  <a:pt x="801" y="1692"/>
                </a:lnTo>
                <a:lnTo>
                  <a:pt x="890" y="1679"/>
                </a:lnTo>
                <a:lnTo>
                  <a:pt x="973" y="1628"/>
                </a:lnTo>
                <a:lnTo>
                  <a:pt x="1027" y="1563"/>
                </a:lnTo>
                <a:lnTo>
                  <a:pt x="1082" y="1438"/>
                </a:lnTo>
                <a:lnTo>
                  <a:pt x="1031" y="1558"/>
                </a:lnTo>
                <a:lnTo>
                  <a:pt x="1055" y="1590"/>
                </a:lnTo>
                <a:lnTo>
                  <a:pt x="1074" y="1611"/>
                </a:lnTo>
                <a:lnTo>
                  <a:pt x="1148" y="1658"/>
                </a:lnTo>
                <a:lnTo>
                  <a:pt x="1223" y="1677"/>
                </a:lnTo>
                <a:lnTo>
                  <a:pt x="1321" y="1661"/>
                </a:lnTo>
                <a:lnTo>
                  <a:pt x="1404" y="1607"/>
                </a:lnTo>
                <a:lnTo>
                  <a:pt x="1482" y="1508"/>
                </a:lnTo>
                <a:lnTo>
                  <a:pt x="1465" y="1535"/>
                </a:lnTo>
                <a:lnTo>
                  <a:pt x="1382" y="1625"/>
                </a:lnTo>
                <a:lnTo>
                  <a:pt x="1413" y="1662"/>
                </a:lnTo>
                <a:lnTo>
                  <a:pt x="1440" y="1679"/>
                </a:lnTo>
                <a:lnTo>
                  <a:pt x="1470" y="1694"/>
                </a:lnTo>
                <a:lnTo>
                  <a:pt x="1573" y="1712"/>
                </a:lnTo>
                <a:lnTo>
                  <a:pt x="1663" y="1692"/>
                </a:lnTo>
                <a:lnTo>
                  <a:pt x="1748" y="1635"/>
                </a:lnTo>
                <a:lnTo>
                  <a:pt x="1807" y="1557"/>
                </a:lnTo>
                <a:lnTo>
                  <a:pt x="1862" y="1415"/>
                </a:lnTo>
                <a:lnTo>
                  <a:pt x="1814" y="1545"/>
                </a:lnTo>
                <a:lnTo>
                  <a:pt x="1825" y="1569"/>
                </a:lnTo>
                <a:lnTo>
                  <a:pt x="1840" y="1587"/>
                </a:lnTo>
                <a:lnTo>
                  <a:pt x="1916" y="1651"/>
                </a:lnTo>
                <a:lnTo>
                  <a:pt x="2067" y="1706"/>
                </a:lnTo>
                <a:lnTo>
                  <a:pt x="2237" y="1698"/>
                </a:lnTo>
                <a:lnTo>
                  <a:pt x="2377" y="1626"/>
                </a:lnTo>
                <a:lnTo>
                  <a:pt x="2404" y="1604"/>
                </a:lnTo>
                <a:lnTo>
                  <a:pt x="2429" y="1578"/>
                </a:lnTo>
                <a:lnTo>
                  <a:pt x="2453" y="1549"/>
                </a:lnTo>
                <a:lnTo>
                  <a:pt x="2476" y="1518"/>
                </a:lnTo>
                <a:lnTo>
                  <a:pt x="2498" y="1482"/>
                </a:lnTo>
                <a:lnTo>
                  <a:pt x="2518" y="1444"/>
                </a:lnTo>
                <a:lnTo>
                  <a:pt x="2537" y="1402"/>
                </a:lnTo>
                <a:lnTo>
                  <a:pt x="2555" y="1356"/>
                </a:lnTo>
                <a:lnTo>
                  <a:pt x="2570" y="1306"/>
                </a:lnTo>
                <a:lnTo>
                  <a:pt x="2557" y="1353"/>
                </a:lnTo>
                <a:lnTo>
                  <a:pt x="2496" y="1485"/>
                </a:lnTo>
                <a:lnTo>
                  <a:pt x="2495" y="1506"/>
                </a:lnTo>
                <a:lnTo>
                  <a:pt x="2528" y="1545"/>
                </a:lnTo>
                <a:lnTo>
                  <a:pt x="2579" y="1580"/>
                </a:lnTo>
                <a:lnTo>
                  <a:pt x="2677" y="1606"/>
                </a:lnTo>
                <a:lnTo>
                  <a:pt x="2767" y="1592"/>
                </a:lnTo>
                <a:lnTo>
                  <a:pt x="2835" y="1548"/>
                </a:lnTo>
                <a:lnTo>
                  <a:pt x="2897" y="1468"/>
                </a:lnTo>
                <a:lnTo>
                  <a:pt x="2944" y="1347"/>
                </a:lnTo>
                <a:lnTo>
                  <a:pt x="2937" y="1373"/>
                </a:lnTo>
                <a:lnTo>
                  <a:pt x="2885" y="1486"/>
                </a:lnTo>
                <a:lnTo>
                  <a:pt x="2898" y="1511"/>
                </a:lnTo>
                <a:lnTo>
                  <a:pt x="2941" y="1525"/>
                </a:lnTo>
                <a:lnTo>
                  <a:pt x="3039" y="1529"/>
                </a:lnTo>
                <a:lnTo>
                  <a:pt x="3128" y="1494"/>
                </a:lnTo>
                <a:lnTo>
                  <a:pt x="3201" y="1430"/>
                </a:lnTo>
                <a:lnTo>
                  <a:pt x="3225" y="1398"/>
                </a:lnTo>
                <a:lnTo>
                  <a:pt x="3247" y="1365"/>
                </a:lnTo>
                <a:lnTo>
                  <a:pt x="3265" y="1329"/>
                </a:lnTo>
                <a:lnTo>
                  <a:pt x="3284" y="1271"/>
                </a:lnTo>
                <a:lnTo>
                  <a:pt x="3298" y="1173"/>
                </a:lnTo>
              </a:path>
            </a:pathLst>
          </a:custGeom>
          <a:gradFill rotWithShape="0">
            <a:gsLst>
              <a:gs pos="0">
                <a:srgbClr val="438e00"/>
              </a:gs>
              <a:gs pos="100000">
                <a:srgbClr val="3b7f00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27240" y="4754520"/>
            <a:ext cx="770040" cy="49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909800" y="1616040"/>
            <a:ext cx="738000" cy="490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146320" y="2108160"/>
            <a:ext cx="4222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16160" y="2093760"/>
            <a:ext cx="210960" cy="2649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86840" y="3389400"/>
            <a:ext cx="1299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93040" y="1498680"/>
            <a:ext cx="1401480" cy="628560"/>
          </a:xfrm>
          <a:prstGeom prst="roundRect">
            <a:avLst>
              <a:gd name="adj" fmla="val 12486"/>
            </a:avLst>
          </a:prstGeom>
          <a:solidFill>
            <a:srgbClr val="3333cc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5040" y="1784520"/>
            <a:ext cx="38116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6680" y="1585800"/>
            <a:ext cx="14248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dit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qui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9720" y="1911240"/>
            <a:ext cx="14540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nne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25520" y="2689200"/>
            <a:ext cx="925560" cy="34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72320" y="1417680"/>
            <a:ext cx="2935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Internet (telephone)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29080" y="120960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4720" y="493380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46320" y="2128680"/>
            <a:ext cx="0" cy="2595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68600" y="2100240"/>
            <a:ext cx="0" cy="25941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07080" y="4576680"/>
            <a:ext cx="1401840" cy="628560"/>
          </a:xfrm>
          <a:prstGeom prst="roundRect">
            <a:avLst>
              <a:gd name="adj" fmla="val 12486"/>
            </a:avLst>
          </a:prstGeom>
          <a:solidFill>
            <a:srgbClr val="3333cc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71080" y="4664160"/>
            <a:ext cx="14248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dit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s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08440" y="4900680"/>
            <a:ext cx="34938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790040" y="2329920"/>
            <a:ext cx="15840" cy="2124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13080" y="4888080"/>
            <a:ext cx="230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suer bills Consu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61320" y="2894040"/>
            <a:ext cx="1018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qui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s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e Sockets Layer (SS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SSL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V="1">
            <a:off x="1143000" y="1371240"/>
            <a:ext cx="190512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1295280"/>
            <a:ext cx="198144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857640" y="1905120"/>
            <a:ext cx="12193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371240" y="1981080"/>
            <a:ext cx="11430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019560" y="2209320"/>
            <a:ext cx="106668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523880" y="2209680"/>
            <a:ext cx="182880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6553080" y="2895480"/>
            <a:ext cx="53352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362320" y="2895480"/>
            <a:ext cx="7617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59280" y="3733920"/>
            <a:ext cx="968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has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37339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3809880"/>
            <a:ext cx="2057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124080" y="4800240"/>
            <a:ext cx="6098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81680" y="48006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200400" y="5562360"/>
            <a:ext cx="5335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5410080"/>
            <a:ext cx="7621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5334120"/>
            <a:ext cx="2514600" cy="1295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477120" y="5866920"/>
            <a:ext cx="137160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21600" y="6583320"/>
            <a:ext cx="2099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EB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e Electronic Transactions (SE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724280" y="137160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t doesn’t see card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Internet to reach acqui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credit card transactio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04280" y="5791320"/>
            <a:ext cx="204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MARVIN SIR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84360" y="1447920"/>
            <a:ext cx="7431120" cy="4275000"/>
            <a:chOff x="684360" y="1447920"/>
            <a:chExt cx="7431120" cy="4275000"/>
          </a:xfrm>
        </p:grpSpPr>
        <p:sp>
          <p:nvSpPr>
            <p:cNvPr id="156" name=""/>
            <p:cNvSpPr/>
            <p:nvPr/>
          </p:nvSpPr>
          <p:spPr>
            <a:xfrm>
              <a:off x="1066680" y="2514600"/>
              <a:ext cx="5141880" cy="2473200"/>
            </a:xfrm>
            <a:custGeom>
              <a:avLst/>
              <a:gdLst/>
              <a:ahLst/>
              <a:rect l="l" t="t" r="r" b="b"/>
              <a:pathLst>
                <a:path w="3299" h="1713">
                  <a:moveTo>
                    <a:pt x="3298" y="1173"/>
                  </a:moveTo>
                  <a:lnTo>
                    <a:pt x="3293" y="1099"/>
                  </a:lnTo>
                  <a:lnTo>
                    <a:pt x="3264" y="986"/>
                  </a:lnTo>
                  <a:lnTo>
                    <a:pt x="3212" y="894"/>
                  </a:lnTo>
                  <a:lnTo>
                    <a:pt x="3187" y="863"/>
                  </a:lnTo>
                  <a:lnTo>
                    <a:pt x="3157" y="837"/>
                  </a:lnTo>
                  <a:lnTo>
                    <a:pt x="3092" y="800"/>
                  </a:lnTo>
                  <a:lnTo>
                    <a:pt x="3000" y="783"/>
                  </a:lnTo>
                  <a:lnTo>
                    <a:pt x="2980" y="785"/>
                  </a:lnTo>
                  <a:lnTo>
                    <a:pt x="2877" y="815"/>
                  </a:lnTo>
                  <a:lnTo>
                    <a:pt x="2896" y="808"/>
                  </a:lnTo>
                  <a:lnTo>
                    <a:pt x="2988" y="784"/>
                  </a:lnTo>
                  <a:lnTo>
                    <a:pt x="2986" y="748"/>
                  </a:lnTo>
                  <a:lnTo>
                    <a:pt x="2970" y="721"/>
                  </a:lnTo>
                  <a:lnTo>
                    <a:pt x="2929" y="673"/>
                  </a:lnTo>
                  <a:lnTo>
                    <a:pt x="2857" y="626"/>
                  </a:lnTo>
                  <a:lnTo>
                    <a:pt x="2793" y="614"/>
                  </a:lnTo>
                  <a:lnTo>
                    <a:pt x="2748" y="621"/>
                  </a:lnTo>
                  <a:lnTo>
                    <a:pt x="2792" y="613"/>
                  </a:lnTo>
                  <a:lnTo>
                    <a:pt x="2844" y="622"/>
                  </a:lnTo>
                  <a:lnTo>
                    <a:pt x="2854" y="603"/>
                  </a:lnTo>
                  <a:lnTo>
                    <a:pt x="2866" y="539"/>
                  </a:lnTo>
                  <a:lnTo>
                    <a:pt x="2864" y="413"/>
                  </a:lnTo>
                  <a:lnTo>
                    <a:pt x="2826" y="280"/>
                  </a:lnTo>
                  <a:lnTo>
                    <a:pt x="2808" y="247"/>
                  </a:lnTo>
                  <a:lnTo>
                    <a:pt x="2789" y="216"/>
                  </a:lnTo>
                  <a:lnTo>
                    <a:pt x="2768" y="187"/>
                  </a:lnTo>
                  <a:lnTo>
                    <a:pt x="2745" y="162"/>
                  </a:lnTo>
                  <a:lnTo>
                    <a:pt x="2720" y="140"/>
                  </a:lnTo>
                  <a:lnTo>
                    <a:pt x="2636" y="97"/>
                  </a:lnTo>
                  <a:lnTo>
                    <a:pt x="2545" y="81"/>
                  </a:lnTo>
                  <a:lnTo>
                    <a:pt x="2477" y="89"/>
                  </a:lnTo>
                  <a:lnTo>
                    <a:pt x="2386" y="132"/>
                  </a:lnTo>
                  <a:lnTo>
                    <a:pt x="2358" y="154"/>
                  </a:lnTo>
                  <a:lnTo>
                    <a:pt x="2333" y="179"/>
                  </a:lnTo>
                  <a:lnTo>
                    <a:pt x="2310" y="207"/>
                  </a:lnTo>
                  <a:lnTo>
                    <a:pt x="2289" y="239"/>
                  </a:lnTo>
                  <a:lnTo>
                    <a:pt x="2271" y="274"/>
                  </a:lnTo>
                  <a:lnTo>
                    <a:pt x="2231" y="395"/>
                  </a:lnTo>
                  <a:lnTo>
                    <a:pt x="2261" y="296"/>
                  </a:lnTo>
                  <a:lnTo>
                    <a:pt x="2260" y="266"/>
                  </a:lnTo>
                  <a:lnTo>
                    <a:pt x="2217" y="224"/>
                  </a:lnTo>
                  <a:lnTo>
                    <a:pt x="2164" y="195"/>
                  </a:lnTo>
                  <a:lnTo>
                    <a:pt x="2073" y="180"/>
                  </a:lnTo>
                  <a:lnTo>
                    <a:pt x="1995" y="197"/>
                  </a:lnTo>
                  <a:lnTo>
                    <a:pt x="1922" y="246"/>
                  </a:lnTo>
                  <a:lnTo>
                    <a:pt x="1895" y="275"/>
                  </a:lnTo>
                  <a:lnTo>
                    <a:pt x="1871" y="310"/>
                  </a:lnTo>
                  <a:lnTo>
                    <a:pt x="1840" y="374"/>
                  </a:lnTo>
                  <a:lnTo>
                    <a:pt x="1899" y="273"/>
                  </a:lnTo>
                  <a:lnTo>
                    <a:pt x="1889" y="237"/>
                  </a:lnTo>
                  <a:lnTo>
                    <a:pt x="1859" y="180"/>
                  </a:lnTo>
                  <a:lnTo>
                    <a:pt x="1788" y="90"/>
                  </a:lnTo>
                  <a:lnTo>
                    <a:pt x="1703" y="36"/>
                  </a:lnTo>
                  <a:lnTo>
                    <a:pt x="1610" y="16"/>
                  </a:lnTo>
                  <a:lnTo>
                    <a:pt x="1586" y="16"/>
                  </a:lnTo>
                  <a:lnTo>
                    <a:pt x="1495" y="36"/>
                  </a:lnTo>
                  <a:lnTo>
                    <a:pt x="1410" y="88"/>
                  </a:lnTo>
                  <a:lnTo>
                    <a:pt x="1339" y="172"/>
                  </a:lnTo>
                  <a:lnTo>
                    <a:pt x="1289" y="286"/>
                  </a:lnTo>
                  <a:lnTo>
                    <a:pt x="1297" y="260"/>
                  </a:lnTo>
                  <a:lnTo>
                    <a:pt x="1348" y="158"/>
                  </a:lnTo>
                  <a:lnTo>
                    <a:pt x="1342" y="117"/>
                  </a:lnTo>
                  <a:lnTo>
                    <a:pt x="1301" y="75"/>
                  </a:lnTo>
                  <a:lnTo>
                    <a:pt x="1205" y="20"/>
                  </a:lnTo>
                  <a:lnTo>
                    <a:pt x="1100" y="0"/>
                  </a:lnTo>
                  <a:lnTo>
                    <a:pt x="968" y="27"/>
                  </a:lnTo>
                  <a:lnTo>
                    <a:pt x="871" y="89"/>
                  </a:lnTo>
                  <a:lnTo>
                    <a:pt x="792" y="189"/>
                  </a:lnTo>
                  <a:lnTo>
                    <a:pt x="740" y="326"/>
                  </a:lnTo>
                  <a:lnTo>
                    <a:pt x="722" y="499"/>
                  </a:lnTo>
                  <a:lnTo>
                    <a:pt x="722" y="476"/>
                  </a:lnTo>
                  <a:lnTo>
                    <a:pt x="733" y="359"/>
                  </a:lnTo>
                  <a:lnTo>
                    <a:pt x="694" y="358"/>
                  </a:lnTo>
                  <a:lnTo>
                    <a:pt x="641" y="382"/>
                  </a:lnTo>
                  <a:lnTo>
                    <a:pt x="590" y="420"/>
                  </a:lnTo>
                  <a:lnTo>
                    <a:pt x="566" y="443"/>
                  </a:lnTo>
                  <a:lnTo>
                    <a:pt x="544" y="469"/>
                  </a:lnTo>
                  <a:lnTo>
                    <a:pt x="523" y="498"/>
                  </a:lnTo>
                  <a:lnTo>
                    <a:pt x="504" y="529"/>
                  </a:lnTo>
                  <a:lnTo>
                    <a:pt x="488" y="563"/>
                  </a:lnTo>
                  <a:lnTo>
                    <a:pt x="475" y="599"/>
                  </a:lnTo>
                  <a:lnTo>
                    <a:pt x="460" y="658"/>
                  </a:lnTo>
                  <a:lnTo>
                    <a:pt x="456" y="785"/>
                  </a:lnTo>
                  <a:lnTo>
                    <a:pt x="457" y="682"/>
                  </a:lnTo>
                  <a:lnTo>
                    <a:pt x="434" y="675"/>
                  </a:lnTo>
                  <a:lnTo>
                    <a:pt x="401" y="693"/>
                  </a:lnTo>
                  <a:lnTo>
                    <a:pt x="334" y="753"/>
                  </a:lnTo>
                  <a:lnTo>
                    <a:pt x="292" y="819"/>
                  </a:lnTo>
                  <a:lnTo>
                    <a:pt x="263" y="911"/>
                  </a:lnTo>
                  <a:lnTo>
                    <a:pt x="291" y="822"/>
                  </a:lnTo>
                  <a:lnTo>
                    <a:pt x="251" y="823"/>
                  </a:lnTo>
                  <a:lnTo>
                    <a:pt x="223" y="830"/>
                  </a:lnTo>
                  <a:lnTo>
                    <a:pt x="143" y="874"/>
                  </a:lnTo>
                  <a:lnTo>
                    <a:pt x="75" y="943"/>
                  </a:lnTo>
                  <a:lnTo>
                    <a:pt x="56" y="970"/>
                  </a:lnTo>
                  <a:lnTo>
                    <a:pt x="25" y="1031"/>
                  </a:lnTo>
                  <a:lnTo>
                    <a:pt x="0" y="1133"/>
                  </a:lnTo>
                  <a:lnTo>
                    <a:pt x="7" y="1275"/>
                  </a:lnTo>
                  <a:lnTo>
                    <a:pt x="39" y="1373"/>
                  </a:lnTo>
                  <a:lnTo>
                    <a:pt x="91" y="1457"/>
                  </a:lnTo>
                  <a:lnTo>
                    <a:pt x="160" y="1519"/>
                  </a:lnTo>
                  <a:lnTo>
                    <a:pt x="245" y="1555"/>
                  </a:lnTo>
                  <a:lnTo>
                    <a:pt x="332" y="1556"/>
                  </a:lnTo>
                  <a:lnTo>
                    <a:pt x="408" y="1531"/>
                  </a:lnTo>
                  <a:lnTo>
                    <a:pt x="493" y="1465"/>
                  </a:lnTo>
                  <a:lnTo>
                    <a:pt x="554" y="1374"/>
                  </a:lnTo>
                  <a:lnTo>
                    <a:pt x="581" y="1294"/>
                  </a:lnTo>
                  <a:lnTo>
                    <a:pt x="573" y="1324"/>
                  </a:lnTo>
                  <a:lnTo>
                    <a:pt x="533" y="1411"/>
                  </a:lnTo>
                  <a:lnTo>
                    <a:pt x="528" y="1454"/>
                  </a:lnTo>
                  <a:lnTo>
                    <a:pt x="570" y="1549"/>
                  </a:lnTo>
                  <a:lnTo>
                    <a:pt x="634" y="1624"/>
                  </a:lnTo>
                  <a:lnTo>
                    <a:pt x="713" y="1672"/>
                  </a:lnTo>
                  <a:lnTo>
                    <a:pt x="801" y="1692"/>
                  </a:lnTo>
                  <a:lnTo>
                    <a:pt x="890" y="1679"/>
                  </a:lnTo>
                  <a:lnTo>
                    <a:pt x="973" y="1628"/>
                  </a:lnTo>
                  <a:lnTo>
                    <a:pt x="1027" y="1563"/>
                  </a:lnTo>
                  <a:lnTo>
                    <a:pt x="1082" y="1438"/>
                  </a:lnTo>
                  <a:lnTo>
                    <a:pt x="1031" y="1558"/>
                  </a:lnTo>
                  <a:lnTo>
                    <a:pt x="1055" y="1590"/>
                  </a:lnTo>
                  <a:lnTo>
                    <a:pt x="1074" y="1611"/>
                  </a:lnTo>
                  <a:lnTo>
                    <a:pt x="1148" y="1658"/>
                  </a:lnTo>
                  <a:lnTo>
                    <a:pt x="1223" y="1677"/>
                  </a:lnTo>
                  <a:lnTo>
                    <a:pt x="1321" y="1661"/>
                  </a:lnTo>
                  <a:lnTo>
                    <a:pt x="1404" y="1607"/>
                  </a:lnTo>
                  <a:lnTo>
                    <a:pt x="1482" y="1508"/>
                  </a:lnTo>
                  <a:lnTo>
                    <a:pt x="1465" y="1535"/>
                  </a:lnTo>
                  <a:lnTo>
                    <a:pt x="1382" y="1625"/>
                  </a:lnTo>
                  <a:lnTo>
                    <a:pt x="1413" y="1662"/>
                  </a:lnTo>
                  <a:lnTo>
                    <a:pt x="1440" y="1679"/>
                  </a:lnTo>
                  <a:lnTo>
                    <a:pt x="1470" y="1694"/>
                  </a:lnTo>
                  <a:lnTo>
                    <a:pt x="1573" y="1712"/>
                  </a:lnTo>
                  <a:lnTo>
                    <a:pt x="1663" y="1692"/>
                  </a:lnTo>
                  <a:lnTo>
                    <a:pt x="1748" y="1635"/>
                  </a:lnTo>
                  <a:lnTo>
                    <a:pt x="1807" y="1557"/>
                  </a:lnTo>
                  <a:lnTo>
                    <a:pt x="1862" y="1415"/>
                  </a:lnTo>
                  <a:lnTo>
                    <a:pt x="1814" y="1545"/>
                  </a:lnTo>
                  <a:lnTo>
                    <a:pt x="1825" y="1569"/>
                  </a:lnTo>
                  <a:lnTo>
                    <a:pt x="1840" y="1587"/>
                  </a:lnTo>
                  <a:lnTo>
                    <a:pt x="1916" y="1651"/>
                  </a:lnTo>
                  <a:lnTo>
                    <a:pt x="2067" y="1706"/>
                  </a:lnTo>
                  <a:lnTo>
                    <a:pt x="2237" y="1698"/>
                  </a:lnTo>
                  <a:lnTo>
                    <a:pt x="2377" y="1626"/>
                  </a:lnTo>
                  <a:lnTo>
                    <a:pt x="2404" y="1604"/>
                  </a:lnTo>
                  <a:lnTo>
                    <a:pt x="2429" y="1578"/>
                  </a:lnTo>
                  <a:lnTo>
                    <a:pt x="2453" y="1549"/>
                  </a:lnTo>
                  <a:lnTo>
                    <a:pt x="2476" y="1518"/>
                  </a:lnTo>
                  <a:lnTo>
                    <a:pt x="2498" y="1482"/>
                  </a:lnTo>
                  <a:lnTo>
                    <a:pt x="2518" y="1444"/>
                  </a:lnTo>
                  <a:lnTo>
                    <a:pt x="2537" y="1402"/>
                  </a:lnTo>
                  <a:lnTo>
                    <a:pt x="2555" y="1356"/>
                  </a:lnTo>
                  <a:lnTo>
                    <a:pt x="2570" y="1306"/>
                  </a:lnTo>
                  <a:lnTo>
                    <a:pt x="2557" y="1353"/>
                  </a:lnTo>
                  <a:lnTo>
                    <a:pt x="2496" y="1485"/>
                  </a:lnTo>
                  <a:lnTo>
                    <a:pt x="2495" y="1506"/>
                  </a:lnTo>
                  <a:lnTo>
                    <a:pt x="2528" y="1545"/>
                  </a:lnTo>
                  <a:lnTo>
                    <a:pt x="2579" y="1580"/>
                  </a:lnTo>
                  <a:lnTo>
                    <a:pt x="2677" y="1606"/>
                  </a:lnTo>
                  <a:lnTo>
                    <a:pt x="2767" y="1592"/>
                  </a:lnTo>
                  <a:lnTo>
                    <a:pt x="2835" y="1548"/>
                  </a:lnTo>
                  <a:lnTo>
                    <a:pt x="2897" y="1468"/>
                  </a:lnTo>
                  <a:lnTo>
                    <a:pt x="2944" y="1347"/>
                  </a:lnTo>
                  <a:lnTo>
                    <a:pt x="2937" y="1373"/>
                  </a:lnTo>
                  <a:lnTo>
                    <a:pt x="2885" y="1486"/>
                  </a:lnTo>
                  <a:lnTo>
                    <a:pt x="2898" y="1511"/>
                  </a:lnTo>
                  <a:lnTo>
                    <a:pt x="2941" y="1525"/>
                  </a:lnTo>
                  <a:lnTo>
                    <a:pt x="3039" y="1529"/>
                  </a:lnTo>
                  <a:lnTo>
                    <a:pt x="3128" y="1494"/>
                  </a:lnTo>
                  <a:lnTo>
                    <a:pt x="3201" y="1430"/>
                  </a:lnTo>
                  <a:lnTo>
                    <a:pt x="3225" y="1398"/>
                  </a:lnTo>
                  <a:lnTo>
                    <a:pt x="3247" y="1365"/>
                  </a:lnTo>
                  <a:lnTo>
                    <a:pt x="3265" y="1329"/>
                  </a:lnTo>
                  <a:lnTo>
                    <a:pt x="3284" y="1271"/>
                  </a:lnTo>
                  <a:lnTo>
                    <a:pt x="3298" y="1173"/>
                  </a:lnTo>
                </a:path>
              </a:pathLst>
            </a:custGeom>
            <a:gradFill rotWithShape="0">
              <a:gsLst>
                <a:gs pos="0">
                  <a:srgbClr val="438e00"/>
                </a:gs>
                <a:gs pos="100000">
                  <a:srgbClr val="3b7f00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2647800" y="5140440"/>
              <a:ext cx="81756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2416320" y="1447920"/>
              <a:ext cx="78552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668680" y="2027160"/>
              <a:ext cx="447480" cy="31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6626160" y="4013280"/>
              <a:ext cx="1489320" cy="739800"/>
              <a:chOff x="6626160" y="4013280"/>
              <a:chExt cx="1489320" cy="739800"/>
            </a:xfrm>
          </p:grpSpPr>
          <p:sp>
            <p:nvSpPr>
              <p:cNvPr id="161" name=""/>
              <p:cNvSpPr/>
              <p:nvPr/>
            </p:nvSpPr>
            <p:spPr>
              <a:xfrm>
                <a:off x="6626160" y="4013280"/>
                <a:ext cx="1489320" cy="739800"/>
              </a:xfrm>
              <a:prstGeom prst="roundRect">
                <a:avLst>
                  <a:gd name="adj" fmla="val 12486"/>
                </a:avLst>
              </a:prstGeom>
              <a:solidFill>
                <a:srgbClr val="3333cc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32280" y="4115520"/>
                <a:ext cx="1424880" cy="58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redit Car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cquir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684360" y="1795320"/>
              <a:ext cx="14540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c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unnel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ough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97120" y="2709720"/>
              <a:ext cx="1014480" cy="35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97160" y="5380200"/>
              <a:ext cx="131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83800" y="3645000"/>
              <a:ext cx="12999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116160" y="2062080"/>
              <a:ext cx="3234960" cy="2303280"/>
              <a:chOff x="3116160" y="2062080"/>
              <a:chExt cx="3234960" cy="2303280"/>
            </a:xfrm>
          </p:grpSpPr>
          <p:sp>
            <p:nvSpPr>
              <p:cNvPr id="168" name=""/>
              <p:cNvSpPr/>
              <p:nvPr/>
            </p:nvSpPr>
            <p:spPr>
              <a:xfrm>
                <a:off x="3116160" y="206208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340440" y="2217960"/>
                <a:ext cx="336240" cy="2768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64720" y="237384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789360" y="252972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013640" y="268560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38280" y="2841480"/>
                <a:ext cx="336240" cy="2768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462560" y="299736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686840" y="315324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892760" y="330912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117040" y="3465000"/>
                <a:ext cx="336240" cy="2768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341680" y="362088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65960" y="377676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90240" y="393264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014880" y="4088520"/>
                <a:ext cx="336240" cy="2768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668680" y="2050920"/>
              <a:ext cx="0" cy="30546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16160" y="2016000"/>
              <a:ext cx="0" cy="30546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71800" y="2133720"/>
              <a:ext cx="3516480" cy="2895480"/>
            </a:xfrm>
            <a:custGeom>
              <a:avLst/>
              <a:gdLst/>
              <a:ahLst/>
              <a:rect l="l" t="t" r="r" b="b"/>
              <a:pathLst>
                <a:path w="2305" h="2053">
                  <a:moveTo>
                    <a:pt x="0" y="2052"/>
                  </a:moveTo>
                  <a:lnTo>
                    <a:pt x="24" y="0"/>
                  </a:lnTo>
                  <a:lnTo>
                    <a:pt x="2304" y="16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3056040" y="1987560"/>
              <a:ext cx="3581280" cy="247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52560" y="2587680"/>
              <a:ext cx="1687680" cy="3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92760" y="4960800"/>
              <a:ext cx="1401840" cy="628920"/>
            </a:xfrm>
            <a:prstGeom prst="roundRect">
              <a:avLst>
                <a:gd name="adj" fmla="val 12486"/>
              </a:avLst>
            </a:prstGeom>
            <a:solidFill>
              <a:srgbClr val="3333cc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20040" y="5010120"/>
              <a:ext cx="1424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redit 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ssu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562200" y="5297040"/>
              <a:ext cx="291312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59120" y="5347080"/>
              <a:ext cx="230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ssuer bills Consu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61280" y="4762440"/>
              <a:ext cx="11160" cy="18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in Pract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58840" y="1224000"/>
            <a:ext cx="6886440" cy="4387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31080" y="5788080"/>
            <a:ext cx="594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1" lang="en-US" sz="12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http://www.software.</a:t>
            </a:r>
            <a:r>
              <a:rPr b="1" lang="en-US" sz="1200" spc="-1" strike="noStrike" u="sng">
                <a:solidFill>
                  <a:srgbClr val="cc0099"/>
                </a:solidFill>
                <a:uFillTx/>
                <a:latin typeface="Arial"/>
                <a:hlinkClick r:id="rId3"/>
              </a:rPr>
              <a:t>ibm</a:t>
            </a:r>
            <a:r>
              <a:rPr b="1" lang="en-US" sz="1200" spc="-1" strike="noStrike" u="sng">
                <a:solidFill>
                  <a:srgbClr val="cc0099"/>
                </a:solidFill>
                <a:uFillTx/>
                <a:latin typeface="Arial"/>
                <a:hlinkClick r:id="rId4"/>
              </a:rPr>
              <a:t>.com/commerce/payment/</a:t>
            </a:r>
            <a:r>
              <a:rPr b="1" lang="en-US" sz="1200" spc="-1" strike="noStrike" u="sng">
                <a:solidFill>
                  <a:srgbClr val="cc0099"/>
                </a:solidFill>
                <a:uFillTx/>
                <a:latin typeface="Arial"/>
                <a:hlinkClick r:id="rId5"/>
              </a:rPr>
              <a:t>specsheetetill</a:t>
            </a:r>
            <a:r>
              <a:rPr b="1" lang="en-US" sz="1200" spc="-1" strike="noStrike" u="sng">
                <a:solidFill>
                  <a:srgbClr val="cc0099"/>
                </a:solidFill>
                <a:uFillTx/>
                <a:latin typeface="Arial"/>
                <a:hlinkClick r:id="rId6"/>
              </a:rPr>
              <a:t>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7192800" y="328680"/>
            <a:ext cx="114300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 Propert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11360" y="1368000"/>
            <a:ext cx="789624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ud reduced since all parties authent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wide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ll parties to have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 to integrate with legac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: 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ability is still a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192800" y="328680"/>
            <a:ext cx="114300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de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13536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-card-based, stored-value card (SV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idiary of Master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West (National Westminister Bank, UK) et 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 chip-to-chip transfer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is not in strings alone; must be on Mondex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d through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does not know transfer protocol; connects with secure device at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nding at merchants having a Mondex value transfer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219720" y="399960"/>
            <a:ext cx="1965600" cy="13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297320" y="1876320"/>
            <a:ext cx="4491000" cy="40100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35120" y="19368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dex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06360" y="1228680"/>
            <a:ext cx="4508640" cy="3492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390920" y="1844640"/>
            <a:ext cx="619200" cy="209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3920" y="5802120"/>
            <a:ext cx="24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S: OKI, MONDEX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9560" y="22968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dex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60240" y="11332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and dormant security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methods constantly chan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EC E6 level (milit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TP (Value Transfer Protoc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ly unique card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ly unique transaction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-response user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sign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OS opera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s on the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96960" y="1821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dex Components (Hitachi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383080" y="4246560"/>
            <a:ext cx="1643040" cy="1779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441600" y="1176480"/>
            <a:ext cx="2162160" cy="2263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82560" y="1185840"/>
            <a:ext cx="2013120" cy="2298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299280" y="1143000"/>
            <a:ext cx="2162160" cy="2259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2239920" y="4330800"/>
            <a:ext cx="1617840" cy="1657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849960" y="3545280"/>
            <a:ext cx="157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hless 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06680" y="3495960"/>
            <a:ext cx="2583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ctronic Cash 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41520" y="3546720"/>
            <a:ext cx="2372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MCIA Reader/Wr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86600" y="4710960"/>
            <a:ext cx="1164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ctr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l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74440" y="4638600"/>
            <a:ext cx="9835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F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2720" y="5802120"/>
            <a:ext cx="1547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HITAC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cash Concep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362320" y="5105520"/>
            <a:ext cx="833400" cy="639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335320" y="1744560"/>
            <a:ext cx="799920" cy="635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924560" y="134604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556272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8880" y="3213000"/>
            <a:ext cx="1479600" cy="546120"/>
          </a:xfrm>
          <a:prstGeom prst="roundRect">
            <a:avLst>
              <a:gd name="adj" fmla="val 1248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3760" y="332568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1371600" y="3809520"/>
            <a:ext cx="914400" cy="167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1671480" y="3804840"/>
            <a:ext cx="766800" cy="1376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2814480" y="2357280"/>
            <a:ext cx="5040" cy="2671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523880" y="2362320"/>
            <a:ext cx="115416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990720" y="2209320"/>
            <a:ext cx="1295280" cy="963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4648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41911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33526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27432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9320" y="2362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96320" y="1357200"/>
            <a:ext cx="5110560" cy="40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Consumer buys Digicash from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Bank sends Digicash bits to consu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Consumer sends Digicash to merch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Merchant checks with Bank that Digi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valid (not already sp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Bank verifies that Digicash is 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Parties complete transa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Consumer still has (invalid) Digi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transaction (checking with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ity a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ayment Ide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move money over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: money does not move over the Internet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s not set up for instantaneous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interaction among payment mechanism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card, bank account, payables systems,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desig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nsaction costs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 to huge number of transactions (100 billion per 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systems (SWIFT, FedWire) do not talk to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43120" y="3421080"/>
            <a:ext cx="4572000" cy="933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657520" y="4952880"/>
            <a:ext cx="4572000" cy="9334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654280" y="1490760"/>
            <a:ext cx="4572000" cy="9334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83280" y="1514520"/>
            <a:ext cx="140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draw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inting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8680" y="3579840"/>
            <a:ext cx="130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n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6000" y="5027760"/>
            <a:ext cx="117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3560" y="2122560"/>
            <a:ext cx="1792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ALICE BUYS 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COINS FROM A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16240" y="1123920"/>
            <a:ext cx="2471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ALICE SEND UNSIG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BLINDED COINS TO THE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27360" y="2500200"/>
            <a:ext cx="5122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BANK SIGNS COINS, SENDS THEM BACK.  ALICE UNBLINDS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525560" y="1263600"/>
            <a:ext cx="630360" cy="258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61480" y="3130560"/>
            <a:ext cx="148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ALICE PAYS 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54880" y="3116160"/>
            <a:ext cx="1788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BOB VERIFIES CO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NOT SP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64080" y="4759200"/>
            <a:ext cx="3284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ALICE TRANSFERS COINS TO CI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84680" y="4734000"/>
            <a:ext cx="1923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CINDY VERIFIES CO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NOT SP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791320" y="3282840"/>
            <a:ext cx="482400" cy="196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260680" y="4929120"/>
            <a:ext cx="407880" cy="2080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35680" y="4021200"/>
            <a:ext cx="1338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BOB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86480" y="5815080"/>
            <a:ext cx="2125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CINDY GETS COINS 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709040" y="1555920"/>
            <a:ext cx="1056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WA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7090920" y="1749600"/>
            <a:ext cx="677880" cy="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2244600" y="212760"/>
            <a:ext cx="1335240" cy="9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nic Goods (e.g. music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984920" y="1576800"/>
            <a:ext cx="3794040" cy="31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Client Requests Price Qu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ervice Provider Makes O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Client Accepts O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Goods delivered encry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Receipt acknowled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Transaction sub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Transaction appr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Key deli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31720" y="1763640"/>
            <a:ext cx="4135680" cy="3862440"/>
            <a:chOff x="531720" y="1763640"/>
            <a:chExt cx="4135680" cy="3862440"/>
          </a:xfrm>
        </p:grpSpPr>
        <p:sp>
          <p:nvSpPr>
            <p:cNvPr id="279" name=""/>
            <p:cNvSpPr/>
            <p:nvPr/>
          </p:nvSpPr>
          <p:spPr>
            <a:xfrm>
              <a:off x="2441520" y="4756320"/>
              <a:ext cx="2127240" cy="869760"/>
            </a:xfrm>
            <a:prstGeom prst="roundRect">
              <a:avLst>
                <a:gd name="adj" fmla="val 12486"/>
              </a:avLst>
            </a:prstGeom>
            <a:solidFill>
              <a:srgbClr val="eaec5e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55920" y="1917720"/>
              <a:ext cx="1311480" cy="1860480"/>
            </a:xfrm>
            <a:custGeom>
              <a:avLst/>
              <a:gdLst>
                <a:gd name="textAreaLeft" fmla="*/ 47880 w 1311480"/>
                <a:gd name="textAreaRight" fmla="*/ 1263600 w 1311480"/>
                <a:gd name="textAreaTop" fmla="*/ 47880 h 1860480"/>
                <a:gd name="textAreaBottom" fmla="*/ 1812600 h 1860480"/>
              </a:gdLst>
              <a:ahLst/>
              <a:rect l="textAreaLeft" t="textAreaTop" r="textAreaRight" b="textAreaBottom"/>
              <a:pathLst>
                <a:path w="21600" h="30640">
                  <a:moveTo>
                    <a:pt x="2697" y="0"/>
                  </a:moveTo>
                  <a:arcTo wR="2697" hR="2697" stAng="16200000" swAng="-5400000"/>
                  <a:lnTo>
                    <a:pt x="0" y="27943"/>
                  </a:lnTo>
                  <a:arcTo wR="2697" hR="2697" stAng="10800000" swAng="-5400000"/>
                  <a:lnTo>
                    <a:pt x="18903" y="30640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eaec5e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1720" y="1974960"/>
              <a:ext cx="1389240" cy="1917720"/>
            </a:xfrm>
            <a:custGeom>
              <a:avLst/>
              <a:gdLst>
                <a:gd name="textAreaLeft" fmla="*/ 50760 w 1389240"/>
                <a:gd name="textAreaRight" fmla="*/ 1338480 w 1389240"/>
                <a:gd name="textAreaTop" fmla="*/ 50760 h 1917720"/>
                <a:gd name="textAreaBottom" fmla="*/ 1866960 h 1917720"/>
              </a:gdLst>
              <a:ahLst/>
              <a:rect l="textAreaLeft" t="textAreaTop" r="textAreaRight" b="textAreaBottom"/>
              <a:pathLst>
                <a:path w="21600" h="29815">
                  <a:moveTo>
                    <a:pt x="2697" y="0"/>
                  </a:moveTo>
                  <a:arcTo wR="2697" hR="2697" stAng="16200000" swAng="-5400000"/>
                  <a:lnTo>
                    <a:pt x="0" y="27118"/>
                  </a:lnTo>
                  <a:arcTo wR="2697" hR="2697" stAng="10800000" swAng="-5400000"/>
                  <a:lnTo>
                    <a:pt x="18903" y="29815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eaec5e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79440" y="176364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91960" y="240048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096800" y="408780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6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33480" y="292896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44520" y="309420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6080" y="2627280"/>
              <a:ext cx="1272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24680" y="2644920"/>
              <a:ext cx="1208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rch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35240" y="4952880"/>
              <a:ext cx="905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tBi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22160" y="367524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8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51120" y="2300400"/>
              <a:ext cx="600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01800" y="408780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7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79640" y="3675240"/>
              <a:ext cx="136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2880" y="2959200"/>
              <a:ext cx="136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08080" y="2317680"/>
              <a:ext cx="136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84320" y="2144880"/>
              <a:ext cx="136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87560" y="2743200"/>
              <a:ext cx="136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89000" y="3460680"/>
              <a:ext cx="1360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19480" y="3871800"/>
              <a:ext cx="0" cy="89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29160" y="3827520"/>
              <a:ext cx="0" cy="94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748920" y="5813280"/>
            <a:ext cx="204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MARVIN SIR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when individual transactions are too small for credit card (e.g. $2.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and Merchant sign up with Aggreg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makes purchase.  Merchant notifies Aggreg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or keeps Consumer’s account.  When amount owed is large enough (or every month), charges to Consumer’s credit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or sends money (less fees) to Merch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PASS, CyberCash, Glob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4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mated Clearinghou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139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a check is just a paper carrier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 the data electronically: no paper need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77960" y="2128680"/>
            <a:ext cx="7702560" cy="3812040"/>
            <a:chOff x="777960" y="2128680"/>
            <a:chExt cx="7702560" cy="381204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801720" y="2392200"/>
              <a:ext cx="767880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777960" y="2511360"/>
              <a:ext cx="1498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.  ENTER CHE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 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93720" y="5483160"/>
              <a:ext cx="27684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.  ENTER AUTOMATED CLEA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USE (ACH) 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88880" y="2128680"/>
              <a:ext cx="2245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.  SECURE TRANSMI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CYBER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58840" y="2254320"/>
              <a:ext cx="226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.  CYBERSOURCE ROU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A TO 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19360" y="4546440"/>
              <a:ext cx="1329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  VALID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51160" y="5449680"/>
              <a:ext cx="195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.  APPROVAL/DEC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14480" y="2813040"/>
              <a:ext cx="335160" cy="77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22600" y="2579760"/>
              <a:ext cx="335160" cy="9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5427720" y="2727360"/>
              <a:ext cx="371520" cy="84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156280" y="4149360"/>
              <a:ext cx="2840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369120" y="3989160"/>
              <a:ext cx="70488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3016440" y="4136760"/>
              <a:ext cx="803160" cy="12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-Line Ban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: 1999 repeal of Glass-Steagall Act (19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banks to own “risky” ventures such as insurance companies and stock brok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ill the money fl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ion on-line banking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West on-line banking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S telebanking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nic Bill Present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“present” bills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ePayment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ol in the battle between banks and bro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Free demo, iBill on-line checks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EBP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ectronic bill presentment and pa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Gill, Logica, Netscape, PayNet, Trans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Ide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8400" y="1471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yment security accomplished with P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is growing in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ng use of smart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purpose: EZ-Pass, house key, ATM, medical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movement toward electronic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banking retains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bill presentment/payment ad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ound changes in money flow are a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719440" y="195588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30600" y="232416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9880" y="2959200"/>
            <a:ext cx="173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Mone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en money (a physical i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, traveler’s check, gift certificate, coup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t can be lost, it’s token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tional money (account ledger ent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ed by orders (drafts, checks, frequent flier m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’t be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“clearing” and “settlement”.  No instant transfer (y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: a token backed by notational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he worst properties of token + not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rable Properties of Digital Mone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ly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able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ble into change  (pay for $10 item with $100 b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orgeable, unstea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(no one except parties know the amo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nymous (no one can identify the pay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ff-line (no need for on-line verification)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KNOWN SYSTEM SATISFIES 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ments for Electronic Pay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atom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ney is lost or created in a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s atom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and goods are exchanged atomical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th or n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arty can deny its role in the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sign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mmerce Payment Ran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70080" y="1447920"/>
            <a:ext cx="1454040" cy="404640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79800" y="1447920"/>
            <a:ext cx="1409760" cy="4062240"/>
          </a:xfrm>
          <a:prstGeom prst="rect">
            <a:avLst/>
          </a:prstGeom>
          <a:gradFill rotWithShape="0">
            <a:gsLst>
              <a:gs pos="0">
                <a:srgbClr val="880000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62520" y="1447920"/>
            <a:ext cx="1513080" cy="407988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6680" y="1512720"/>
            <a:ext cx="1609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Maxim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17880" y="1512720"/>
            <a:ext cx="15336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yp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90880" y="1512720"/>
            <a:ext cx="1609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7600" y="3505320"/>
            <a:ext cx="8512200" cy="76176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3697200"/>
            <a:ext cx="2320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46680" y="3697200"/>
            <a:ext cx="1533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66840" y="3697200"/>
            <a:ext cx="145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0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94200" y="3697200"/>
            <a:ext cx="1380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7600" y="2597040"/>
            <a:ext cx="8526240" cy="67968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3400" y="2738520"/>
            <a:ext cx="1327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c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66840" y="2738520"/>
            <a:ext cx="1420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39240" y="2563920"/>
            <a:ext cx="3672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ath1"/>
                <a:ea typeface="Math1"/>
              </a:rPr>
              <a:t>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94200" y="2738520"/>
            <a:ext cx="1380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5920" y="4495680"/>
            <a:ext cx="8511840" cy="69228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2800" y="4624560"/>
            <a:ext cx="1228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66840" y="4624560"/>
            <a:ext cx="1533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0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46680" y="4624560"/>
            <a:ext cx="1533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94200" y="4624560"/>
            <a:ext cx="1380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0.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29360" y="5791320"/>
            <a:ext cx="301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DIGITAL EQUIPMENT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Pay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, SET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clearing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zed online account for merchant and customers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Qp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payment (usually below $0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Milli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dit Car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expensive ePayment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Card: $0.29 + 2% of transaction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$100 charge costs the merchant $2.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rren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st convenient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: allows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can buy more than they can af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work for small amounts (too expen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work for large amounts (too expen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9560" y="34308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dit Card Proces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66840" y="120816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296480" y="5648400"/>
            <a:ext cx="167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PA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ING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1T20:54:13Z</dcterms:created>
  <dc:creator>Michael I. Shamos</dc:creator>
  <dc:description/>
  <dc:language>en-US</dc:language>
  <cp:lastModifiedBy>Valued Gateway Client</cp:lastModifiedBy>
  <cp:lastPrinted>1999-04-26T23:26:57Z</cp:lastPrinted>
  <dcterms:modified xsi:type="dcterms:W3CDTF">2000-09-08T18:00:03Z</dcterms:modified>
  <cp:revision>0</cp:revision>
  <dc:subject/>
  <dc:title>Electronic Payments</dc:title>
</cp:coreProperties>
</file>