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00E391-049E-4E83-A9AA-46D741D608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851039-CD06-4517-85D9-980D02193F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44E617-A725-4640-9E46-172B157049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E03873-3986-45E3-B053-60287D52D3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682445-A77B-45BE-A81B-DA65F4A62F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ware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tivesw.com/" TargetMode="External"/><Relationship Id="rId2" Type="http://schemas.openxmlformats.org/officeDocument/2006/relationships/hyperlink" Target="http://www.tibco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quent.com/solutions/crm/index.htm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t-labes.icmc.sc.usp.br/alunos/dti/wdl/workflow/prodwrkf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Conta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16040" y="1593720"/>
            <a:ext cx="5840280" cy="364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353280" y="5791320"/>
            <a:ext cx="244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ROV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Contact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53280" y="5791320"/>
            <a:ext cx="244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ROV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10405" r="0" b="0"/>
          <a:stretch/>
        </p:blipFill>
        <p:spPr>
          <a:xfrm>
            <a:off x="1936800" y="1709640"/>
            <a:ext cx="5575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C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49400" y="5813280"/>
            <a:ext cx="147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e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328920" y="1447920"/>
            <a:ext cx="1490760" cy="4117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06520" y="2379600"/>
            <a:ext cx="2104920" cy="1562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799240" y="2379600"/>
            <a:ext cx="1763640" cy="146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32200" y="2379600"/>
            <a:ext cx="2139840" cy="1182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2040" y="2981160"/>
            <a:ext cx="103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Consisten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7840" y="1463760"/>
            <a:ext cx="8966160" cy="4343400"/>
            <a:chOff x="177840" y="1463760"/>
            <a:chExt cx="8966160" cy="4343400"/>
          </a:xfrm>
        </p:grpSpPr>
        <p:sp>
          <p:nvSpPr>
            <p:cNvPr id="163" name=""/>
            <p:cNvSpPr/>
            <p:nvPr/>
          </p:nvSpPr>
          <p:spPr>
            <a:xfrm>
              <a:off x="177840" y="1463760"/>
              <a:ext cx="878832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200" y="1520280"/>
              <a:ext cx="887580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isibility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Agents must have visibility into e-commerce activ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What customers are using which channels, and how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How do I need to invest across channels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rofile shar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Same customer knowledge for agent, IVR, we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rout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To appropriate resource based on profi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cross-sell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Same offers through agent, IVR, we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reaction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Remove offers once complete in any chann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Call-back buttons, web collaboration, IP pho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736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b Success is Evaluate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8240" y="1689120"/>
            <a:ext cx="5371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-through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p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ion/retur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influence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sh and Subscri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20003" r="0" b="4001"/>
          <a:stretch/>
        </p:blipFill>
        <p:spPr>
          <a:xfrm>
            <a:off x="954000" y="1214280"/>
            <a:ext cx="7396200" cy="442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627240" y="5791320"/>
            <a:ext cx="223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YERHAE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840" y="231840"/>
            <a:ext cx="835344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sh and Subscribe Middle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400" y="12315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, event-trigg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activity, pushes content to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Web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Active Softwa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/Rendezvou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TIBC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04840" y="209520"/>
            <a:ext cx="7861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flow Management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17160" y="1922400"/>
            <a:ext cx="857412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system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ages the flow of business process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formed by multiple persons in multiple step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t gets the right data to the right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the right tools at the right ti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8960" y="5776920"/>
            <a:ext cx="317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IM GRAY, ANDREAS RE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Loo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920" y="5789520"/>
            <a:ext cx="119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0280" y="1996920"/>
            <a:ext cx="2994120" cy="1578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3280" y="1685880"/>
            <a:ext cx="122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1200" y="1671480"/>
            <a:ext cx="118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I PROM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22000" y="3541680"/>
            <a:ext cx="1474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I AM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360" y="3552840"/>
            <a:ext cx="151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I AM SATIS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294080" y="1424160"/>
            <a:ext cx="4329360" cy="4135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91800" y="4185000"/>
            <a:ext cx="190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SIC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8840" y="5122800"/>
            <a:ext cx="1773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UREM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90920" y="1971720"/>
            <a:ext cx="5968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1971720"/>
            <a:ext cx="5968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71720"/>
            <a:ext cx="5968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1285920"/>
            <a:ext cx="5968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3114720"/>
            <a:ext cx="59688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4943520"/>
            <a:ext cx="59688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419640"/>
            <a:ext cx="59688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419640"/>
            <a:ext cx="59688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495600"/>
            <a:ext cx="596880" cy="520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1147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7242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37242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70040" y="272736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93920" y="249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94120" y="249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565440"/>
            <a:ext cx="2361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4120" y="40226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394320" y="1888920"/>
            <a:ext cx="11430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94320" y="40226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18360" y="4251240"/>
            <a:ext cx="8380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44920" y="2330280"/>
            <a:ext cx="4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45120" y="2330280"/>
            <a:ext cx="4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15145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28098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4320" y="2575080"/>
            <a:ext cx="11430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23120" y="18129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23120" y="31845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6840" y="24382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6720" y="494352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11400" y="3124080"/>
            <a:ext cx="213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(branc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3560" y="3032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8120" y="356544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64640" y="411336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38560" y="227016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k (spa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4638600"/>
            <a:ext cx="67284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717800" y="4327200"/>
            <a:ext cx="24382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2880" y="479916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87400" y="105732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8120" y="1514520"/>
            <a:ext cx="457200" cy="3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2880" y="174240"/>
            <a:ext cx="779796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 Narrow"/>
              </a:rPr>
              <a:t>Components of a Work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88800" y="5791320"/>
            <a:ext cx="317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IM GRAY, ANDREAS RE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191120" y="4424400"/>
            <a:ext cx="20628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6786" r="0" b="0"/>
          <a:stretch/>
        </p:blipFill>
        <p:spPr>
          <a:xfrm>
            <a:off x="816120" y="1428840"/>
            <a:ext cx="7642080" cy="411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in the Web 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6840" y="5813280"/>
            <a:ext cx="196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flow Example: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hone Service Provis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4640" y="3100320"/>
            <a:ext cx="1828800" cy="533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1200" y="317808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8680" y="1163520"/>
            <a:ext cx="1760400" cy="8096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920" y="124776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47840" y="1441440"/>
            <a:ext cx="1617840" cy="8110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2080" y="147492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-cost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7280" y="2389320"/>
            <a:ext cx="1652400" cy="815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7400" y="248616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ranteed Provision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22440" y="4363920"/>
            <a:ext cx="1411200" cy="8082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67080" y="4460760"/>
            <a:ext cx="12906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y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79880" y="2440080"/>
            <a:ext cx="1354320" cy="74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32440" y="2505240"/>
            <a:ext cx="13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y 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60920" y="3681360"/>
            <a:ext cx="1787400" cy="533160"/>
            <a:chOff x="5560920" y="3681360"/>
            <a:chExt cx="1787400" cy="533160"/>
          </a:xfrm>
        </p:grpSpPr>
        <p:sp>
          <p:nvSpPr>
            <p:cNvPr id="249" name=""/>
            <p:cNvSpPr/>
            <p:nvPr/>
          </p:nvSpPr>
          <p:spPr>
            <a:xfrm>
              <a:off x="5560920" y="3681360"/>
              <a:ext cx="1721520" cy="533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27160" y="3744720"/>
              <a:ext cx="1721160" cy="368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pdat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075440" y="1239840"/>
            <a:ext cx="1795680" cy="7621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30880" y="128124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37200" y="4545000"/>
            <a:ext cx="1682640" cy="533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34040" y="4579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te B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62040" y="3346560"/>
            <a:ext cx="1652760" cy="815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22520" y="34434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ranteed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28880" y="5506920"/>
            <a:ext cx="16002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8560" y="552132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ory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2360" y="5506920"/>
            <a:ext cx="144792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000" y="552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57680" y="5506920"/>
            <a:ext cx="144756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2960" y="552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lity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05440" y="5430960"/>
            <a:ext cx="13716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24600" y="5445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ling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10160" y="5460840"/>
            <a:ext cx="11430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0240" y="547524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/>
          <p:nvPr/>
        </p:nvCxnSpPr>
        <p:spPr>
          <a:xfrm>
            <a:off x="1209600" y="1960200"/>
            <a:ext cx="110160" cy="112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8" name=""/>
          <p:cNvCxnSpPr>
            <a:stCxn id="236" idx="3"/>
            <a:endCxn id="240" idx="1"/>
          </p:cNvCxnSpPr>
          <p:nvPr/>
        </p:nvCxnSpPr>
        <p:spPr>
          <a:xfrm flipV="1">
            <a:off x="2233440" y="1847520"/>
            <a:ext cx="915120" cy="1519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9" name=""/>
          <p:cNvCxnSpPr>
            <a:stCxn id="236" idx="3"/>
            <a:endCxn id="255" idx="1"/>
          </p:cNvCxnSpPr>
          <p:nvPr/>
        </p:nvCxnSpPr>
        <p:spPr>
          <a:xfrm>
            <a:off x="2233080" y="3367080"/>
            <a:ext cx="229320" cy="38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0" name=""/>
          <p:cNvCxnSpPr>
            <a:stCxn id="236" idx="3"/>
            <a:endCxn id="244" idx="1"/>
          </p:cNvCxnSpPr>
          <p:nvPr/>
        </p:nvCxnSpPr>
        <p:spPr>
          <a:xfrm>
            <a:off x="2233080" y="3367080"/>
            <a:ext cx="189720" cy="140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>
            <a:stCxn id="236" idx="3"/>
            <a:endCxn id="242" idx="1"/>
          </p:cNvCxnSpPr>
          <p:nvPr/>
        </p:nvCxnSpPr>
        <p:spPr>
          <a:xfrm flipV="1">
            <a:off x="2233440" y="2796480"/>
            <a:ext cx="6645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2" name=""/>
          <p:cNvCxnSpPr>
            <a:stCxn id="242" idx="3"/>
            <a:endCxn id="246" idx="1"/>
          </p:cNvCxnSpPr>
          <p:nvPr/>
        </p:nvCxnSpPr>
        <p:spPr>
          <a:xfrm>
            <a:off x="4549320" y="2797200"/>
            <a:ext cx="430920" cy="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3" name=""/>
          <p:cNvCxnSpPr>
            <a:stCxn id="255" idx="3"/>
            <a:endCxn id="246" idx="1"/>
          </p:cNvCxnSpPr>
          <p:nvPr/>
        </p:nvCxnSpPr>
        <p:spPr>
          <a:xfrm flipV="1">
            <a:off x="4114440" y="2810880"/>
            <a:ext cx="865800" cy="94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4" name=""/>
          <p:cNvCxnSpPr>
            <a:stCxn id="240" idx="3"/>
            <a:endCxn id="246" idx="1"/>
          </p:cNvCxnSpPr>
          <p:nvPr/>
        </p:nvCxnSpPr>
        <p:spPr>
          <a:xfrm>
            <a:off x="4765320" y="1847520"/>
            <a:ext cx="214920" cy="96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5" name=""/>
          <p:cNvCxnSpPr>
            <a:stCxn id="244" idx="3"/>
            <a:endCxn id="249" idx="1"/>
          </p:cNvCxnSpPr>
          <p:nvPr/>
        </p:nvCxnSpPr>
        <p:spPr>
          <a:xfrm flipV="1">
            <a:off x="3833640" y="3947760"/>
            <a:ext cx="1728000" cy="821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6" name=""/>
          <p:cNvCxnSpPr/>
          <p:nvPr/>
        </p:nvCxnSpPr>
        <p:spPr>
          <a:xfrm>
            <a:off x="5671800" y="3171960"/>
            <a:ext cx="71172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7" name=""/>
          <p:cNvCxnSpPr>
            <a:stCxn id="249" idx="2"/>
            <a:endCxn id="253" idx="0"/>
          </p:cNvCxnSpPr>
          <p:nvPr/>
        </p:nvCxnSpPr>
        <p:spPr>
          <a:xfrm>
            <a:off x="6421320" y="4214520"/>
            <a:ext cx="457920" cy="33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8" name=""/>
          <p:cNvCxnSpPr>
            <a:stCxn id="236" idx="2"/>
            <a:endCxn id="260" idx="0"/>
          </p:cNvCxnSpPr>
          <p:nvPr/>
        </p:nvCxnSpPr>
        <p:spPr>
          <a:xfrm flipH="1">
            <a:off x="1039320" y="3633480"/>
            <a:ext cx="280080" cy="1888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79" name=""/>
          <p:cNvCxnSpPr>
            <a:stCxn id="244" idx="2"/>
            <a:endCxn id="258" idx="0"/>
          </p:cNvCxnSpPr>
          <p:nvPr/>
        </p:nvCxnSpPr>
        <p:spPr>
          <a:xfrm flipH="1">
            <a:off x="2798280" y="5172120"/>
            <a:ext cx="331200" cy="349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833640" y="4211640"/>
            <a:ext cx="60984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90840" y="3220920"/>
            <a:ext cx="228600" cy="228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72080" y="22305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8760" y="4211640"/>
            <a:ext cx="15228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53" idx="2"/>
            <a:endCxn id="264" idx="0"/>
          </p:cNvCxnSpPr>
          <p:nvPr/>
        </p:nvCxnSpPr>
        <p:spPr>
          <a:xfrm>
            <a:off x="6878520" y="5078520"/>
            <a:ext cx="67392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85" name=""/>
          <p:cNvCxnSpPr>
            <a:stCxn id="253" idx="3"/>
            <a:endCxn id="251" idx="2"/>
          </p:cNvCxnSpPr>
          <p:nvPr/>
        </p:nvCxnSpPr>
        <p:spPr>
          <a:xfrm flipV="1">
            <a:off x="7719840" y="2001240"/>
            <a:ext cx="254880" cy="2810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86" name=""/>
          <p:cNvSpPr/>
          <p:nvPr/>
        </p:nvSpPr>
        <p:spPr>
          <a:xfrm>
            <a:off x="7595640" y="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29880" y="272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ve Process Example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ed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14280" y="164952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4280" y="248760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4280" y="332568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880" y="2639880"/>
            <a:ext cx="22860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1" idx="3"/>
            <a:endCxn id="288" idx="1"/>
          </p:cNvCxnSpPr>
          <p:nvPr/>
        </p:nvCxnSpPr>
        <p:spPr>
          <a:xfrm flipV="1">
            <a:off x="528120" y="1877760"/>
            <a:ext cx="68652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1" idx="3"/>
            <a:endCxn id="289" idx="1"/>
          </p:cNvCxnSpPr>
          <p:nvPr/>
        </p:nvCxnSpPr>
        <p:spPr>
          <a:xfrm>
            <a:off x="528120" y="2715840"/>
            <a:ext cx="686520" cy="1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3"/>
            <a:endCxn id="290" idx="1"/>
          </p:cNvCxnSpPr>
          <p:nvPr/>
        </p:nvCxnSpPr>
        <p:spPr>
          <a:xfrm>
            <a:off x="528120" y="2716200"/>
            <a:ext cx="68652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268560" y="22395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6880" y="163980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rate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55080" y="204912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mod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65920" y="2478240"/>
            <a:ext cx="220824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18200" y="286812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88080" y="331632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4760" y="372564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2920" y="2249640"/>
            <a:ext cx="1447560" cy="9144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3"/>
            <a:endCxn id="296" idx="1"/>
          </p:cNvCxnSpPr>
          <p:nvPr/>
        </p:nvCxnSpPr>
        <p:spPr>
          <a:xfrm flipV="1">
            <a:off x="5100480" y="1867680"/>
            <a:ext cx="1077120" cy="839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2" idx="3"/>
            <a:endCxn id="298" idx="1"/>
          </p:cNvCxnSpPr>
          <p:nvPr/>
        </p:nvCxnSpPr>
        <p:spPr>
          <a:xfrm>
            <a:off x="5100480" y="2706480"/>
            <a:ext cx="866160" cy="1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2" idx="3"/>
            <a:endCxn id="300" idx="1"/>
          </p:cNvCxnSpPr>
          <p:nvPr/>
        </p:nvCxnSpPr>
        <p:spPr>
          <a:xfrm>
            <a:off x="5100480" y="2706840"/>
            <a:ext cx="68796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88" idx="3"/>
            <a:endCxn id="302" idx="1"/>
          </p:cNvCxnSpPr>
          <p:nvPr/>
        </p:nvCxnSpPr>
        <p:spPr>
          <a:xfrm>
            <a:off x="2966760" y="1878120"/>
            <a:ext cx="686520" cy="82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89" idx="3"/>
            <a:endCxn id="302" idx="1"/>
          </p:cNvCxnSpPr>
          <p:nvPr/>
        </p:nvCxnSpPr>
        <p:spPr>
          <a:xfrm flipV="1">
            <a:off x="2966760" y="2706480"/>
            <a:ext cx="686520" cy="10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0" idx="3"/>
            <a:endCxn id="302" idx="1"/>
          </p:cNvCxnSpPr>
          <p:nvPr/>
        </p:nvCxnSpPr>
        <p:spPr>
          <a:xfrm flipV="1">
            <a:off x="2966760" y="2706480"/>
            <a:ext cx="686520" cy="848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>
            <a:off x="4262040" y="3173040"/>
            <a:ext cx="2520" cy="5562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6" idx="3"/>
          </p:cNvCxnSpPr>
          <p:nvPr/>
        </p:nvCxnSpPr>
        <p:spPr>
          <a:xfrm>
            <a:off x="8384760" y="1868040"/>
            <a:ext cx="221400" cy="9248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8" idx="3"/>
            <a:endCxn id="312" idx="1"/>
          </p:cNvCxnSpPr>
          <p:nvPr/>
        </p:nvCxnSpPr>
        <p:spPr>
          <a:xfrm>
            <a:off x="8173800" y="2706840"/>
            <a:ext cx="448200" cy="259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3" name=""/>
          <p:cNvCxnSpPr/>
          <p:nvPr/>
        </p:nvCxnSpPr>
        <p:spPr>
          <a:xfrm flipV="1">
            <a:off x="7995960" y="2715840"/>
            <a:ext cx="626040" cy="81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8623080" y="2563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3400" y="4925880"/>
            <a:ext cx="2208240" cy="30492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3400" y="5383080"/>
            <a:ext cx="2208240" cy="3049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5760" y="489384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6640" y="5366880"/>
            <a:ext cx="20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chronous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4520" y="3716640"/>
            <a:ext cx="1518840" cy="58068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uffic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ip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76800" y="4316400"/>
            <a:ext cx="3859200" cy="6858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90640" y="44679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ing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64120" y="2487600"/>
            <a:ext cx="220824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64120" y="248760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0880" y="2106720"/>
            <a:ext cx="0" cy="228600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2280" y="2944800"/>
            <a:ext cx="0" cy="144792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3680" y="3784680"/>
            <a:ext cx="0" cy="53316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53520" y="2684520"/>
            <a:ext cx="2286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1440" y="4932000"/>
            <a:ext cx="1665360" cy="33732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cel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/>
          <p:nvPr/>
        </p:nvCxnSpPr>
        <p:spPr>
          <a:xfrm>
            <a:off x="4262040" y="4303800"/>
            <a:ext cx="1080" cy="61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7406640" y="577044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Process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93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 Tools (BPM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process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based on analysis and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but no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Management Systems (WF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process specification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coordination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to medium systems scalability and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ware Tools (GRW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 activity/process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scale up to a few dozens of human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resource management / status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35240" y="577224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1280" y="21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flow Auto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50600" y="5838840"/>
            <a:ext cx="389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ORKFLOW MANAGEMENT COAL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57960" y="1334520"/>
            <a:ext cx="74314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ng workflow is crucial to C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publish-and-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, procedural steps, organiz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 people involve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input and output information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needed for 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in a busines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irectory of workflow products and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in the Web 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39280" y="5813280"/>
            <a:ext cx="197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720" y="1458360"/>
            <a:ext cx="1387440" cy="3056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2720" y="2155320"/>
            <a:ext cx="1387440" cy="30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1458360"/>
            <a:ext cx="1890720" cy="30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ES 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0720" y="2155320"/>
            <a:ext cx="1890720" cy="3056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1443960"/>
            <a:ext cx="2158920" cy="305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140920"/>
            <a:ext cx="2158920" cy="305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2720" y="3087360"/>
            <a:ext cx="1387440" cy="2750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2720" y="4286160"/>
            <a:ext cx="1387440" cy="275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0720" y="3998520"/>
            <a:ext cx="1890720" cy="275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ACTIVITY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307332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4573440"/>
            <a:ext cx="2158920" cy="27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346860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390348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3482640"/>
            <a:ext cx="1387440" cy="2750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C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2720" y="4724280"/>
            <a:ext cx="1387440" cy="275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4997160"/>
            <a:ext cx="2158920" cy="27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880" y="2747880"/>
            <a:ext cx="8050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0720" y="3164760"/>
            <a:ext cx="1890720" cy="3056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86280" y="1770120"/>
            <a:ext cx="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40160" y="160812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51440" y="160812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440160" y="1770120"/>
            <a:ext cx="52056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51440" y="1755720"/>
            <a:ext cx="52092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7520" y="2467080"/>
            <a:ext cx="319320" cy="691920"/>
          </a:xfrm>
          <a:prstGeom prst="downArrow">
            <a:avLst>
              <a:gd name="adj1" fmla="val 50000"/>
              <a:gd name="adj2" fmla="val 54171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51440" y="3173040"/>
            <a:ext cx="520920" cy="10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851440" y="3992400"/>
            <a:ext cx="52092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51440" y="3584160"/>
            <a:ext cx="52092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86280" y="347652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440160" y="3173040"/>
            <a:ext cx="520560" cy="10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440160" y="3584160"/>
            <a:ext cx="52056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40160" y="4184640"/>
            <a:ext cx="520560" cy="66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51440" y="4184640"/>
            <a:ext cx="5209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51440" y="4184640"/>
            <a:ext cx="520920" cy="10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440160" y="4184640"/>
            <a:ext cx="52056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7160" y="1755720"/>
            <a:ext cx="103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RIC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OR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7520" y="3763800"/>
            <a:ext cx="94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4160" y="579132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TRENDS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28077" b="0"/>
          <a:stretch/>
        </p:blipFill>
        <p:spPr>
          <a:xfrm>
            <a:off x="1676520" y="914400"/>
            <a:ext cx="3379680" cy="590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888516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371600"/>
            <a:ext cx="822636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Hit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Successful Hits for Entire Sit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84,558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Hits Per Day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5,379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Hits for Home Pag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2,248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Page View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Page Views (Impressions)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6,438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Page Views Per Day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3,952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Document View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3,829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Visitor Session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User Session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3,564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User Sessions Per Day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,130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User Session Length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00:03:09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International User Session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26.13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User Sessions of Unknown Origin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31.01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User Sessions from United State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2.81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Visitor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Unique Visitor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1,685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Visitors Who Visited Onc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0,720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Visitors Who Visited More Than Once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959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840" y="579132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TRENDS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28077" b="0"/>
          <a:stretch/>
        </p:blipFill>
        <p:spPr>
          <a:xfrm>
            <a:off x="1676520" y="533520"/>
            <a:ext cx="33796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2880" y="1119240"/>
            <a:ext cx="5292720" cy="411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010640" y="5791320"/>
            <a:ext cx="197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l Center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7840" y="58132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E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46200" y="1166760"/>
            <a:ext cx="41324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ail Respons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77840" y="58132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E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7920" y="1360440"/>
            <a:ext cx="43149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19320" y="1144440"/>
            <a:ext cx="4888080" cy="4856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tact Repor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72120" y="1301760"/>
            <a:ext cx="975960" cy="949320"/>
            <a:chOff x="6072120" y="1301760"/>
            <a:chExt cx="975960" cy="949320"/>
          </a:xfrm>
        </p:grpSpPr>
        <p:graphicFrame>
          <p:nvGraphicFramePr>
            <p:cNvPr id="112" name=""/>
            <p:cNvGraphicFramePr/>
            <p:nvPr/>
          </p:nvGraphicFramePr>
          <p:xfrm>
            <a:off x="6072120" y="1301760"/>
            <a:ext cx="568800" cy="35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72120" y="1301760"/>
                      <a:ext cx="56880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6215400" y="1467720"/>
            <a:ext cx="603720" cy="5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15400" y="1467720"/>
                      <a:ext cx="60372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6302520" y="1594800"/>
            <a:ext cx="568440" cy="35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2520" y="1594800"/>
                      <a:ext cx="5684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6444360" y="1751040"/>
            <a:ext cx="603720" cy="500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44360" y="1751040"/>
                      <a:ext cx="60372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3297240" y="4226040"/>
            <a:ext cx="2139840" cy="1363320"/>
            <a:chOff x="3297240" y="4226040"/>
            <a:chExt cx="2139840" cy="1363320"/>
          </a:xfrm>
        </p:grpSpPr>
        <p:sp>
          <p:nvSpPr>
            <p:cNvPr id="121" name=""/>
            <p:cNvSpPr/>
            <p:nvPr/>
          </p:nvSpPr>
          <p:spPr>
            <a:xfrm>
              <a:off x="3298680" y="5213520"/>
              <a:ext cx="2136600" cy="3758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97240" y="4420440"/>
              <a:ext cx="2139840" cy="9874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05160" y="4226040"/>
              <a:ext cx="2123640" cy="377640"/>
            </a:xfrm>
            <a:prstGeom prst="ellipse">
              <a:avLst/>
            </a:prstGeom>
            <a:solidFill>
              <a:srgbClr val="0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7480" y="4663800"/>
              <a:ext cx="207648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br>
                <a:rPr sz="1700"/>
              </a:b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Interaction Reposito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74600" y="3360600"/>
            <a:ext cx="145584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D, I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Telep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6520" y="1971720"/>
            <a:ext cx="154008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/Emai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716040" y="2060640"/>
            <a:ext cx="280800" cy="37944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8080200" y="2603520"/>
            <a:ext cx="279720" cy="37944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6661080" y="2590920"/>
            <a:ext cx="129564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565200" y="3389400"/>
            <a:ext cx="280800" cy="38088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graphicFrame>
        <p:nvGraphicFramePr>
          <p:cNvPr id="131" name=""/>
          <p:cNvGraphicFramePr/>
          <p:nvPr/>
        </p:nvGraphicFramePr>
        <p:xfrm>
          <a:off x="5734080" y="3406680"/>
          <a:ext cx="1668600" cy="110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34080" y="3406680"/>
                    <a:ext cx="1668600" cy="1109880"/>
                  </a:xfrm>
                  <a:prstGeom prst="rect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132440" y="3319560"/>
            <a:ext cx="512640" cy="893520"/>
          </a:xfrm>
          <a:prstGeom prst="downArrow">
            <a:avLst>
              <a:gd name="adj1" fmla="val 43935"/>
              <a:gd name="adj2" fmla="val 5733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66960" y="2719440"/>
            <a:ext cx="1914840" cy="88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Shar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 Gath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7350000">
            <a:off x="2930760" y="2073600"/>
            <a:ext cx="311760" cy="884160"/>
          </a:xfrm>
          <a:prstGeom prst="downArrow">
            <a:avLst>
              <a:gd name="adj1" fmla="val 38713"/>
              <a:gd name="adj2" fmla="val 10621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 rot="14250000">
            <a:off x="5584320" y="1696320"/>
            <a:ext cx="312480" cy="884160"/>
          </a:xfrm>
          <a:prstGeom prst="downArrow">
            <a:avLst>
              <a:gd name="adj1" fmla="val 38713"/>
              <a:gd name="adj2" fmla="val 1059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926680" y="2499480"/>
            <a:ext cx="311400" cy="684000"/>
          </a:xfrm>
          <a:prstGeom prst="downArrow">
            <a:avLst>
              <a:gd name="adj1" fmla="val 43935"/>
              <a:gd name="adj2" fmla="val 7225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5440" y="1730520"/>
            <a:ext cx="512640" cy="893520"/>
          </a:xfrm>
          <a:prstGeom prst="downArrow">
            <a:avLst>
              <a:gd name="adj1" fmla="val 43935"/>
              <a:gd name="adj2" fmla="val 5733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720" y="1434960"/>
            <a:ext cx="2157120" cy="7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, Workflow, R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77160" y="1200240"/>
            <a:ext cx="1431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0275200">
            <a:off x="2581200" y="3276360"/>
            <a:ext cx="981000" cy="355320"/>
          </a:xfrm>
          <a:prstGeom prst="rightArrow">
            <a:avLst>
              <a:gd name="adj1" fmla="val 44509"/>
              <a:gd name="adj2" fmla="val 6890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65360" y="4791240"/>
            <a:ext cx="18414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33920" y="4778280"/>
            <a:ext cx="1936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olid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63560" y="5826240"/>
            <a:ext cx="1616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QUIN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97600" y="4059360"/>
            <a:ext cx="1214280" cy="723600"/>
            <a:chOff x="6897600" y="4059360"/>
            <a:chExt cx="1214280" cy="723600"/>
          </a:xfrm>
        </p:grpSpPr>
        <p:pic>
          <p:nvPicPr>
            <p:cNvPr id="146" name="CCQ%20-%20Report3" descr=""/>
            <p:cNvPicPr/>
            <p:nvPr/>
          </p:nvPicPr>
          <p:blipFill>
            <a:blip r:embed="rId14"/>
            <a:stretch/>
          </p:blipFill>
          <p:spPr>
            <a:xfrm>
              <a:off x="6917760" y="4059360"/>
              <a:ext cx="1194120" cy="723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47" name=""/>
            <p:cNvSpPr/>
            <p:nvPr/>
          </p:nvSpPr>
          <p:spPr>
            <a:xfrm>
              <a:off x="6897600" y="4073400"/>
              <a:ext cx="15804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46:54Z</dcterms:modified>
  <cp:revision>25</cp:revision>
  <dc:subject/>
  <dc:title>CRM</dc:title>
</cp:coreProperties>
</file>