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113-A652-4A7D-A9E8-CDE37614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ness / Distance   =  Regional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/ Strategic      =  this is minimal as it is a dialup hookup, then they move to A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280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488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72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280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488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449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6252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eclogo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50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84440" y="624852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School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omputer Sci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459480"/>
            <a:ext cx="3200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ve Edu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0  Michael J Poch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isri-drgn-logo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717840" cy="762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6036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5943600" y="0"/>
          <a:ext cx="320040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0"/>
                    <a:ext cx="32004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315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The Evolution of an Internet Company: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a Mini-Case Study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52400" y="52578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Monday Sep 25 ‘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95480" y="4038480"/>
          <a:ext cx="387504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038480"/>
                    <a:ext cx="38750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Value Creation Matrix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6280" y="6172200"/>
            <a:ext cx="42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alue Creation Matrix created by Prof Tridas Mukhopodhyay © 1999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Stargate as ISP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30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4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440" y="53341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416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3040" y="2895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8680" y="2895480"/>
            <a:ext cx="7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(-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2960" y="4495680"/>
            <a:ext cx="7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(-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4495680"/>
            <a:ext cx="6400800" cy="1752840"/>
          </a:xfrm>
          <a:prstGeom prst="rect">
            <a:avLst/>
          </a:prstGeom>
          <a:solidFill>
            <a:srgbClr val="f8fd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Stargate as </a:t>
            </a:r>
            <a:r>
              <a:rPr b="0" lang="en-US" sz="4000" spc="-1" strike="noStrike">
                <a:solidFill>
                  <a:srgbClr val="3333ff"/>
                </a:solidFill>
                <a:latin typeface="Tahoma"/>
              </a:rPr>
              <a:t>ASP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57400"/>
                <a:gridCol w="20066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30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4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0400" y="3657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7840" y="4495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440" y="4495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9960" y="5334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3040" y="2895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4160" y="20574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3760" y="5334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93120" y="53341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Your Assessmen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ill They Succeed ?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ritical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is consumed in building Knowledge base and peopl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oon to te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rkets Served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905120"/>
          <a:ext cx="388620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38862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Product Lin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1905120"/>
          <a:ext cx="363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363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o would most likely acquire them ?      Why ?  Why Not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 community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ost of acquiring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at was their strength driven by befor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SP conn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 note service problems !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00200" y="609480"/>
          <a:ext cx="603900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603900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Objective of Site Visi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amine their Strategy and Marketing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ply an analytical tool, the Value Creation Matrix, to assess the value created by their evolving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a young, successful, evolving Internet Ag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762120"/>
          <a:ext cx="800100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800100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 ( cont.)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at are their vulnerabilit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oo many product lines, too many Markets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onfusion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pread too thin i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ack of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T&amp;T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just a Broker of conne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In Conclusion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oncluding Remark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expansion is a significan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confusion over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market segments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ability to manage the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fee competition from AO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TV companies  ( AT&amp;T Broadband ) offering high-speed, one-sto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oday’s Visit to Stargat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the Chief Technolog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State-of-the-Art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NOTE: no photo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view of Stargat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ahoma"/>
              </a:rPr>
              <a:t>Review of Stargate's History and Current Strategy</a:t>
            </a:r>
            <a:endParaRPr b="0" lang="en-US" sz="36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 – 1999   Originally an Internet Service Provider (ISP)  providing Internet access and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--           Now a full service ISP / Application Service Provider ( ASP ) providing website hosting, applications, and ebusiness cons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6440" y="3139920"/>
            <a:ext cx="6351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Haettenschweiler"/>
              </a:rPr>
              <a:t>What Internet Service Should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ahoma"/>
              </a:rPr>
              <a:t>Review of Stargate's Current Condition</a:t>
            </a:r>
            <a:endParaRPr b="0" lang="en-US" sz="36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95,000 Customers, mostly resid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people counting a recent acquisition of CISCorp’s 15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d a $15mm Line of Credit for working capital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’s Fastest Growing Company          ( 755% over 3 yea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15000" y="57675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= from Stargate www site n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rkets Served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1905120"/>
          <a:ext cx="388620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38862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Product Lin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1905120"/>
          <a:ext cx="363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363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Value Crea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Key Asset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sig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Technology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9:33:23Z</dcterms:created>
  <dc:creator>Mike Pochan</dc:creator>
  <dc:description/>
  <dc:language>en-US</dc:language>
  <cp:lastModifiedBy>Valued Sony Customer</cp:lastModifiedBy>
  <dcterms:modified xsi:type="dcterms:W3CDTF">2000-09-19T15:34:52Z</dcterms:modified>
  <cp:revision>43</cp:revision>
  <dc:subject/>
  <dc:title>Goal of Today's Class </dc:title>
</cp:coreProperties>
</file>