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media/image54.wmf" ContentType="image/x-wmf"/>
  <Override PartName="/ppt/media/image51.png" ContentType="image/png"/>
  <Override PartName="/ppt/media/image49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0.png" ContentType="image/png"/>
  <Override PartName="/ppt/media/image58.wmf" ContentType="image/x-wmf"/>
  <Override PartName="/ppt/media/image2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28.wmf" ContentType="image/x-wmf"/>
  <Override PartName="/ppt/media/image30.png" ContentType="image/png"/>
  <Override PartName="/ppt/media/image25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87.png" ContentType="image/png"/>
  <Override PartName="/ppt/media/image74.wmf" ContentType="image/x-wmf"/>
  <Override PartName="/ppt/media/image84.wmf" ContentType="image/x-wmf"/>
  <Override PartName="/ppt/media/image83.wmf" ContentType="image/x-wmf"/>
  <Override PartName="/ppt/media/image70.jpeg" ContentType="image/jpeg"/>
  <Override PartName="/ppt/media/image35.png" ContentType="image/png"/>
  <Override PartName="/ppt/media/image72.png" ContentType="image/png"/>
  <Override PartName="/ppt/media/image6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88.png" ContentType="image/png"/>
  <Override PartName="/ppt/media/image73.wmf" ContentType="image/x-wmf"/>
  <Override PartName="/ppt/media/image33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57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55.wmf" ContentType="image/x-wmf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81.wmf" ContentType="image/x-wmf"/>
  <Override PartName="/ppt/media/image4.wmf" ContentType="image/x-wmf"/>
  <Override PartName="/ppt/media/image82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C5D-B77B-4470-90A6-4DE9CE570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D08-F56B-41E3-AF0B-C21AEB69D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C77B-221E-4EB0-92B0-14DAB4776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EA7-801E-4309-9252-1698CBC7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19C-4C28-49C3-BBF6-6688B86A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56D-402E-4E41-8AF6-18F45F1D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BE4-5027-4E66-975B-21D60538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DB1-73C9-4E45-A549-044C5981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0974-4313-4651-9A77-E930906F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D35-202E-4E6F-94B9-C0C289E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9CC-8ADB-4466-A476-429DF41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1A32-82C9-4A62-977E-D6E2A8A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C78-168F-4207-B920-0C6E65C8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D926-E190-4E7E-8900-BF7B5B5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57B-2479-47FE-9283-97DD9CD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C21-5C4C-4601-B2AE-B3E2CD16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6C59-B46C-4B5D-A88F-8EC5DA1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B28-C8EF-4284-A3A1-708BF8C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39D-CA03-41A1-AED7-DE00827C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CD49-3D13-4568-A779-40B9FEF0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B8DB-B993-4C34-854C-A3B09DA6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47C-5AD2-4265-B231-57470A6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3E7-F3EE-4A16-85B5-975F623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EB0-D368-44BD-B6F3-2F705ADB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B11-0400-4F88-99FD-D247774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CAE-92AC-4960-812C-94731CA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74D-E557-4B64-8698-C4652FA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E26-99CD-4718-9981-61D5321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929-3D9F-4D1F-AC9A-395F9EF8D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BECE-9DD2-4ACB-B313-038C2FF138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arch.npr.org/cf/cmn/cmnps05fm.cfm?SegID=24726" TargetMode="External"/><Relationship Id="rId2" Type="http://schemas.openxmlformats.org/officeDocument/2006/relationships/hyperlink" Target="http://search.npr.org/cf/cmn/cmnps05fm.cfm?SegID=50252" TargetMode="External"/><Relationship Id="rId3" Type="http://schemas.openxmlformats.org/officeDocument/2006/relationships/hyperlink" Target="http://search.npr.org/cf/cmn/cmnps05fm.cfm?SegID=54444" TargetMode="External"/><Relationship Id="rId4" Type="http://schemas.openxmlformats.org/officeDocument/2006/relationships/hyperlink" Target="http://search.npr.org/cf/cmn/cmnps05fm.cfm?SegID=66642" TargetMode="External"/><Relationship Id="rId5" Type="http://schemas.openxmlformats.org/officeDocument/2006/relationships/hyperlink" Target="http://search.npr.org/cf/cmn/cmnps05fm.cfm?SegID=69540" TargetMode="External"/><Relationship Id="rId6" Type="http://schemas.openxmlformats.org/officeDocument/2006/relationships/hyperlink" Target="http://search.npr.org/cf/cmn/cmnps05fm.cfm?SegID=69995" TargetMode="External"/><Relationship Id="rId7" Type="http://schemas.openxmlformats.org/officeDocument/2006/relationships/hyperlink" Target="http://search.npr.org/cf/cmn/cmnps05fm.cfm?SegID=69995" TargetMode="External"/><Relationship Id="rId8" Type="http://schemas.openxmlformats.org/officeDocument/2006/relationships/hyperlink" Target="http://search.npr.org/cf/cmn/cmnps05fm.cfm?SegID=69995" TargetMode="External"/><Relationship Id="rId9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s.com/News/Item/0,4,37160,00.html" TargetMode="External"/><Relationship Id="rId2" Type="http://schemas.openxmlformats.org/officeDocument/2006/relationships/hyperlink" Target="http://www.news.com/News/Item/0,4,37160,00.html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veyd.com/FullArticles/articleN8.asp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wmf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wmf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wmf"/><Relationship Id="rId22" Type="http://schemas.openxmlformats.org/officeDocument/2006/relationships/image" Target="../media/image50.jpe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wmf"/><Relationship Id="rId27" Type="http://schemas.openxmlformats.org/officeDocument/2006/relationships/image" Target="../media/image55.wmf"/><Relationship Id="rId2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7467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Montgome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 School of Industrial Administr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alan.montgomery@cmu.edu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1C1A-D83F-4C9C-9E81-EEDCCF0785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P3’s Impa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 the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Downloading CD Quality Music: Morning Edition, Aug 31,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MP3: The Music industry is in an uproar, Talk of the Nation, May 19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MP3 - Music Business: Secure Digital Music Initial (SMDI), All Things Considered, July 23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MP3 Players: Morning Edition, Nov 15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MP3.com Lawsuit: Jan 2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MP3’s on Campus: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Napster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, Feb 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97E-8C0B-4BFD-A80B-5B868743D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058840" y="1982880"/>
          <a:ext cx="682308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982880"/>
                    <a:ext cx="682308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C &amp; TV In the Same Roo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7C7-8245-4C14-AF8E-614CEAB0FE69}" type="slidenum">
              <a:t>100</a:t>
            </a:fld>
          </a:p>
        </p:txBody>
      </p:sp>
    </p:spTree>
  </p:cSld>
  <p:transition>
    <p:split dir="out" orient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fline Advertising Does Impact Online Us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67080" y="1905120"/>
            <a:ext cx="14482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AEF-959A-4B3A-87E0-EC17B47975B9}" type="slidenum">
              <a:t>101</a:t>
            </a:fld>
          </a:p>
        </p:txBody>
      </p:sp>
    </p:spTree>
  </p:cSld>
  <p:transition>
    <p:pull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2485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7920" y="68544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ctoria’s Secr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 Not a secret anymo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8800" y="236232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486400" y="137160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hion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60680" y="6324480"/>
            <a:ext cx="22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8DC-2945-4AD0-A666-A19D0631752E}" type="slidenum">
              <a:t>102</a:t>
            </a:fld>
          </a:p>
        </p:txBody>
      </p:sp>
    </p:spTree>
  </p:cSld>
  <p:transition spd="med">
    <p:blinds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es Can Come Out of Nowhe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1905120"/>
            <a:ext cx="20574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007-F400-470A-89F8-960982AF8CEC}" type="slidenum">
              <a:t>103</a:t>
            </a:fld>
          </a:p>
        </p:txBody>
      </p:sp>
    </p:spTree>
  </p:cSld>
  <p:transition>
    <p:pull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-and-Comers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Hitting the Radar Scre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48320" y="5867280"/>
          <a:ext cx="370188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867280"/>
                    <a:ext cx="3701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10200" y="2362320"/>
          <a:ext cx="3133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0200" y="2362320"/>
                    <a:ext cx="313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219384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523880" y="2133720"/>
            <a:ext cx="2203560" cy="7588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5791320" y="4419720"/>
            <a:ext cx="2660400" cy="1222200"/>
          </a:xfrm>
          <a:prstGeom prst="rect">
            <a:avLst/>
          </a:prstGeom>
          <a:ln w="0">
            <a:noFill/>
          </a:ln>
        </p:spPr>
      </p:pic>
      <p:pic>
        <p:nvPicPr>
          <p:cNvPr id="547" name="webmd" descr=""/>
          <p:cNvPicPr/>
          <p:nvPr/>
        </p:nvPicPr>
        <p:blipFill>
          <a:blip r:embed="rId8"/>
          <a:stretch/>
        </p:blipFill>
        <p:spPr>
          <a:xfrm>
            <a:off x="3809880" y="1752480"/>
            <a:ext cx="2133720" cy="933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1752480" y="4648320"/>
            <a:ext cx="318132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3200400" y="3352680"/>
            <a:ext cx="36576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CB8-60A2-4FDB-8567-51B97CB29F73}" type="slidenum">
              <a:t>104</a:t>
            </a:fld>
          </a:p>
        </p:txBody>
      </p:sp>
    </p:spTree>
  </p:cSld>
  <p:transition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arning about E-Comme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om Media Met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F00-B99F-4810-82F4-D19D7F0D400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440" y="447840"/>
            <a:ext cx="7772400" cy="92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523880" y="1981080"/>
          <a:ext cx="748188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8188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1239840" y="6157800"/>
            <a:ext cx="729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 Media Metrix % Reach of Top U.S. Shopping Site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47880" y="53352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10 Shopping Sites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68F-68B7-4E50-905A-9A2DC8FDD385}" type="slidenum">
              <a:t>106</a:t>
            </a:fld>
          </a:p>
        </p:txBody>
      </p:sp>
    </p:spTree>
  </p:cSld>
  <p:transition>
    <p:blinds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asuring Potential Buyers</a:t>
            </a:r>
            <a:br>
              <a:rPr sz="3200"/>
            </a:b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436760" y="1676520"/>
          <a:ext cx="770724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76520"/>
                    <a:ext cx="770724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1" name="landsend" descr=""/>
          <p:cNvPicPr/>
          <p:nvPr/>
        </p:nvPicPr>
        <p:blipFill>
          <a:blip r:embed="rId3"/>
          <a:srcRect l="50017" t="0" r="0" b="0"/>
          <a:stretch/>
        </p:blipFill>
        <p:spPr>
          <a:xfrm>
            <a:off x="7315200" y="533412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562" name="gap" descr=""/>
          <p:cNvPicPr/>
          <p:nvPr/>
        </p:nvPicPr>
        <p:blipFill>
          <a:blip r:embed="rId4"/>
          <a:srcRect l="0" t="0" r="12509" b="0"/>
          <a:stretch/>
        </p:blipFill>
        <p:spPr>
          <a:xfrm>
            <a:off x="6629400" y="533412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563" name="victoria" descr=""/>
          <p:cNvPicPr/>
          <p:nvPr/>
        </p:nvPicPr>
        <p:blipFill>
          <a:blip r:embed="rId5"/>
          <a:srcRect l="0" t="0" r="0" b="6454"/>
          <a:stretch/>
        </p:blipFill>
        <p:spPr>
          <a:xfrm>
            <a:off x="5562720" y="5410080"/>
            <a:ext cx="761760" cy="747720"/>
          </a:xfrm>
          <a:prstGeom prst="rect">
            <a:avLst/>
          </a:prstGeom>
          <a:ln w="0">
            <a:noFill/>
          </a:ln>
        </p:spPr>
      </p:pic>
      <p:pic>
        <p:nvPicPr>
          <p:cNvPr id="564" name="eddiebauer" descr=""/>
          <p:cNvPicPr/>
          <p:nvPr/>
        </p:nvPicPr>
        <p:blipFill>
          <a:blip r:embed="rId6"/>
          <a:srcRect l="2304" t="15229" r="25389" b="38428"/>
          <a:stretch/>
        </p:blipFill>
        <p:spPr>
          <a:xfrm>
            <a:off x="3886200" y="5334120"/>
            <a:ext cx="1600200" cy="271440"/>
          </a:xfrm>
          <a:prstGeom prst="rect">
            <a:avLst/>
          </a:prstGeom>
          <a:ln w="0">
            <a:noFill/>
          </a:ln>
        </p:spPr>
      </p:pic>
      <p:pic>
        <p:nvPicPr>
          <p:cNvPr id="565" name="llbean" descr=""/>
          <p:cNvPicPr/>
          <p:nvPr/>
        </p:nvPicPr>
        <p:blipFill>
          <a:blip r:embed="rId7"/>
          <a:srcRect l="0" t="0" r="69482" b="0"/>
          <a:stretch/>
        </p:blipFill>
        <p:spPr>
          <a:xfrm>
            <a:off x="2895480" y="5334120"/>
            <a:ext cx="914400" cy="318960"/>
          </a:xfrm>
          <a:prstGeom prst="rect">
            <a:avLst/>
          </a:prstGeom>
          <a:ln w="0">
            <a:noFill/>
          </a:ln>
        </p:spPr>
      </p:pic>
      <p:pic>
        <p:nvPicPr>
          <p:cNvPr id="566" name="jcrew" descr=""/>
          <p:cNvPicPr/>
          <p:nvPr/>
        </p:nvPicPr>
        <p:blipFill>
          <a:blip r:embed="rId8"/>
          <a:srcRect l="0" t="0" r="73656" b="50067"/>
          <a:stretch/>
        </p:blipFill>
        <p:spPr>
          <a:xfrm>
            <a:off x="1371600" y="5334120"/>
            <a:ext cx="1442880" cy="266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523880" y="61722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Media Metrix, Dec.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2ED-8348-402B-BE18-297014A6544D}" type="slidenum">
              <a:t>107</a:t>
            </a:fld>
          </a:p>
        </p:txBody>
      </p:sp>
    </p:spTree>
  </p:cSld>
  <p:transition spd="med">
    <p:pull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2381400"/>
          <a:ext cx="847728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772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B2F-196E-45B8-A6A5-563145022D80}" type="slidenum">
              <a:t>108</a:t>
            </a:fld>
          </a:p>
        </p:txBody>
      </p:sp>
    </p:spTree>
  </p:cSld>
  <p:transition spd="med">
    <p:pull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47920" y="2381400"/>
          <a:ext cx="849636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963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894-01B1-4ED8-A0DB-B417636A2ACF}" type="slidenum">
              <a:t>109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Internet Effect Traditional Marketing Tool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The death of traditional marketing(?|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6E27-91D6-446B-B79F-1D23D9AF7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B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371600" y="2476440"/>
          <a:ext cx="80010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76440"/>
                    <a:ext cx="80010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CA8-B538-4481-B9FD-0BC702758272}" type="slidenum">
              <a:t>110</a:t>
            </a:fld>
          </a:p>
        </p:txBody>
      </p:sp>
    </p:spTree>
  </p:cSld>
  <p:transition spd="med">
    <p:pull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22240" y="1980720"/>
            <a:ext cx="742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ype Of E-Commerce Sites Are Showing The Most And The Least Growth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C5C7-2922-4F48-95B9-26E28622CF05}" type="slidenum">
              <a:t>111</a:t>
            </a:fld>
          </a:p>
        </p:txBody>
      </p:sp>
    </p:spTree>
  </p:cSld>
  <p:transition spd="med">
    <p:split dir="out" orient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368360" y="1219320"/>
          <a:ext cx="77756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19320"/>
                    <a:ext cx="77756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th Index for Shopping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3124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3581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/Music/Mov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3080" y="3886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/Gifts/Gr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4267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4724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53A-F878-411D-A77C-7184D942DDAF}" type="slidenum">
              <a:t>112</a:t>
            </a:fld>
          </a:p>
        </p:txBody>
      </p:sp>
    </p:spTree>
  </p:cSld>
  <p:transition spd="med">
    <p:pull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o Are The Heavy Advertis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76520" y="1432080"/>
            <a:ext cx="6629400" cy="527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A0F-1C56-4AB6-944E-CC7A94C1A3B2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westfare.com: Testing Incenti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81080" y="479124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1981080" y="317196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981080" y="3981600"/>
            <a:ext cx="4476960" cy="5904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692040" y="247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2040" y="4902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92040" y="4092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92040" y="3282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4680" y="64008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AdRelevance, A Media Metrix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A81-06BC-4023-B581-6F97C7239BD7}" type="slidenum">
              <a:t>114</a:t>
            </a:fld>
          </a:p>
        </p:txBody>
      </p:sp>
    </p:spTree>
  </p:cSld>
  <p:transition>
    <p:blinds dir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ral E-commerce Tre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Growing Usage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ly More Important Outside Of The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mendous Experimentation Occur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 For Auctions, Virtually No One Has Shown That They Can Make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y Has Hobbled B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t A Web Business Or A Distribution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DF5-7B4B-4629-ADCF-0616A0E33147}" type="slidenum">
              <a:t>115</a:t>
            </a:fld>
          </a:p>
        </p:txBody>
      </p:sp>
    </p:spTree>
  </p:cSld>
  <p:transition>
    <p:blinds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1D3F-8AA7-4212-B07B-CAAFECF96C7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appears to be alive and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marketing theory can be critical to understanding whether a business will succeed or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imes things work (or fail) without us knowing why, but a little theory can give some key ins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nd better measures of the information content of clickstream data and customer acquisition cos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B77-CA28-4552-9698-99BF07BCAA2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ditional marketing aven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-media 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ck and mortar s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marketing/Telepho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Which of these avenues are obsolete due to the Intern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919-344B-43E8-AB7C-0DA96C3E2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s Media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60F1-390B-4598-B0C5-B9F074DC0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jobs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connect job seekers and employers, revenues raised through referral fees charged to employers and advertis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s revenues of $17m in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16m from venture capital companies earlier this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to spend $12m on advertising (broadcast and outdoor), $1.6m for SuperBowl spot, $400k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as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19160"/>
            <a:ext cx="401328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F28-5CA4-4800-9873-8E0466507D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er Bowl Advertisers’ Reach Growth -- Career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371600"/>
          <a:ext cx="7635960" cy="42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3596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6765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5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%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624852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BCD-C633-4667-A99A-71907C4A135D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azon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Poster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s in 1Q 1999 are $294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during the same period is $61m, or roughly 21% of re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0A5-F6DA-4378-B79B-E4E2145C2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Purcha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verage expenditure for advertising by most companies is 4% to 7% of re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e: 10% is considered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re seeing in 1999 that the dot-coms are putting 65% to 75% of their spending into offline media like network television since that’s still the best way to reach a mass audi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shad Tobaccowala, president of Starcom IP, (the interactive unit of Leo Burnett Co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CCA-C69B-4DEA-9561-3F4A137AEE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new hi-res medi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640 x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&lt;5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9600 x 1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3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14600"/>
            <a:ext cx="281916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5146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0280" y="491652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79E-31E3-4093-9A0C-B0A7ECAB15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Brick and Mortar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8A5-2E12-4B2D-AD3B-DB10385F8E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vs. Internet Market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se Study of Internet Success: hot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behind Interne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 Insights from 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7B1-071C-42A3-B138-8899AA7CB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ap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Home delivery of groceries using on-line ordering.  Operates in Chicago, San Francisco, Boston, Long Island, Dallas, Houston, Austin, Columb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s are purchased at the local grocery stores.  Delivered to your door within the ho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ing money on grocery delivery, but they are making money on the information they collect by selling it back to CPG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15A-691C-458E-A1A7-C1FF2715BA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-world success doesn’t mean automatic Internet suc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’s success in their stores is due to buying power and customer-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ct 1998 they even sued Amazon.com and Drugstore.com for recruiting former Wal-mart employees in order to alledgedly steal trad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 decided to delay their redesigned web entry until after Christmas 1999, for fear they wouldn’t be able to deli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2276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376-82E6-4FCA-A78F-E054C3071D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vi’s: Moving backwards from online to offline 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i’s was offering a custom order option, so that users could order jeans to 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were outsourcing their web operations to Vic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d to pull out of on-line in Nov ‘99 since costs of maintaining the site exceeded its benefit plus the channel confl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it redirects purchasers to Macys and J.C.Penny Co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2920" cy="41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BFE-EFF9-405F-B549-1FEEEBE58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Marketing vs Retail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examples of direct marketers venturing into retail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ana Republic, Eddie Bauer, The Sharper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retail stores starting direct marketing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ra Ashley, Williams-Sonoma, Bloomingdale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both can co-exist, but thought needs to be given to avert cannib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n you think of examples of online marketers moving into retail, or retailers moving into online oper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27A-4F30-446F-B0E4-CA8F41BF0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lephon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F75-66C0-480C-BDBD-1A1B7C6DD2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d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1994 spent tens of millions of dollars on phone charges and customer-support personnel to track its packages.  Independent sources estimate the cost at $.50/ca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dex’s web site cost $50,000, and generated an average of 500,000 packages were packed online.  If half were curiosity seekers, the remainder saved the company $125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297-F512-4C1E-AE7E-4BF0F3CF73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069-326E-4DDD-BCB1-FA8637AF35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celine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Any price for an unused airline seat is worthwhile, since it generates incremental revenue.  Contract with the airlines, auto rental companies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people can save lot’s of money on airline tra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percentage of the lowest available price, how much are consumers saving using priceline.co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FB9-5008-4B6F-BEEA-0168AAD953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cities.com: Communities new Channel Intermedi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 of an online commun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 community alter retail channe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3F6-1109-49F3-B061-7B4F5DE0FD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‘Community’ Respons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l’s Pentium Chip Flaw (199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many Pentium designers does it take to screw in a light bulb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99904274017, but that's close enough for non-technical peop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 do you get when you cross a Pentium PC with a research gran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mad scienti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's another name for the Intel Inside sticker they put on Pentium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rning labe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y didn't Intel call the Pentium the 586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cause they added 486 and 100 on the first Pentium and got 585.9999836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ten new Intel slogans for the Pentium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The Errata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Were Looking for a Few Good Flaw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Division Considered Harmfu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Why Do You Think They Call It *Floating* Point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We Fixed It, Reall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Redefining the PC and Mathematics As Wel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You Don't Need to Know What's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Nearly 300 Correct Opcod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It's Close Enough, We Say S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It's a FLAW, not a Bu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60199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64F-A771-4556-951F-C6169BA954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D8D-5B32-4B52-A251-82969D2B36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Internet has and will continue to impac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ternet Marketing is not a new discipline, but one that has anticipated many of the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more, marketers have anticipated many of the possibilities of the Internet, see Blattberg and Deighton’s “Interactive Marketing” (199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DEF-A3C7-4719-B6E4-6543F43220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ctiv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ttberg and Deighton (Sloan Management Review 1991) discuss the differences between traditional mass marketing and interactive 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actual behavior to identify customers/pro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d prices/product offers to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ing the advertising message via selected binding (split ca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: Direct links with the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force: Improved monitoring, less discretion, better data for the sales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7C2-C313-4F74-82FF-D03D6B72A2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case study of the classic internet success sto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CD2-A3AE-4B35-821F-EB4B6832C9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Web-bas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 Startup Comp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06B-1787-49EA-B20A-B0B7420D9B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’s it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up for an account and access your email from anywhere using an HTML interface to your mail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e feat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a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web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74F-EAA6-4CE4-8284-59F826E710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this business model work?  Why? 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his model be viable in the long-ter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FEC-6462-4801-ABD0-4B15B3E950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etitive Advanta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mover 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rity of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D0D-E7E0-4800-9093-5B1705C76D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ptions to enhanc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F3A-B4CA-428D-BF0F-69586B8CA4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ral Marketing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places a small “ad” at the bottom of every e-mail message automatically, whether the sender wanted it ther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people see the “ad” they click and may themselves become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signed up 12m users with a total marketing budget of $50,000; compare that to AOL and E-Trade who are spending $100 to $300 per customer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this to Alladvantage.com, www.seeUthere.com, SDMI (after six listenings an encryption inside the song triggers a message your free time is ov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864-941F-40D6-B438-B1BD9C90EF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79D-ADEF-473E-8C59-F649C7C49F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your Internet Knowled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13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tney spea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m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k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onn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ela anders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819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nia twai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zip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estl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ho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2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17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d rank the top 5 keywords searched by the major search engines according to their popula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2C0-B8F3-4467-851A-C4127DC1F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AB5-6930-4372-8568-6E94D5D00BC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8120" y="274284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2767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70F-FCE4-4E38-8B49-EF09A3FC2E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3962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040" y="373392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819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2438280"/>
            <a:ext cx="3049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876920" y="441936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4193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799-25CD-4F0D-96F2-6160023164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8769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429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23623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791320" y="380952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0C7-7A64-40F6-82A5-62B58D37FE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9A6-DA1E-41B7-B60B-417F3FACC3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casts from a Diffusion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1752480"/>
          <a:ext cx="761976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61976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86A-B9D3-422A-9699-FBFD0A9FC7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’s About Capturing Eyebal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buys Hotmail for $385 m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 is the “killer-app” of the Internet, everybody has to hav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e buyout, one-quarter of Hotmail’s 60 employees became instant milliona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millio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would double MSN’s 2 million paying subscribers, an increase its advertising revenues, but more importantly help position it to become a major por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usiness Wee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Jan 19, 19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etmail sold out to Yahoo! in Oct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Dec 1999 hotmail had 40m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E3C-9E48-4093-AB0B-41DD24807E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re any principles behind Internet Market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-to-1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ationship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9496-F476-4768-AFFF-CC9FA78DB7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ring Mas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to1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 manager sells one product at a time to as many customers a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quire a constant stream of new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l as many products as possible to one custom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custo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es to get a constant stream of business from current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36232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0240" y="6232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ppers and Roger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 to On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177-2BC4-4F37-B644-37137ED1C6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ey Points for 1to1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te amongs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 with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 your product or service to meet each customer’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E37-F078-4E9A-A8C5-F614A707CA8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Searchterms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.c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C7C-638C-482C-91F8-63FC9A9E7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ormation is key to implementing a 1to1 Syst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purchase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it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8C6-3802-46B6-A249-867D8144D3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Cookies for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your browser’s cookie list for “DoubleClic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Click inserts ads into other people’s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users across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s number of exposures to 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ads to certain types of individu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remains “anonymou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40B-7E96-43E6-9D81-3DA54540C8F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has DoubleClick learn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udying millions of impressions they concluded that after the fourth impression, response rates dropped from 2.7% to under 1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nner burn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B80-FA61-407C-949B-EFB62C5D28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Case Stu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e Datek to potential online investors through banners and sponsor buttons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ubleClick Business &amp; Finance sites (StockMaster, Big Charts, ClearStation, Individual Investor Online, Fast Company and EDGAR Onlin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ads with major brand DoubleClick Select Sites including U.S. News, PBS, the Dilbert Zone and Traveloci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yword banners on AltaVista during user searches for specific topics like "stock”, "online trading,” "investments," "brokerage" and "broker.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299-7803-4ABA-A86F-8BF0FFDB7F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line Brokerage” Banner 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were to go to each of these search engines and type in “online brokerage” what banner ads would be dis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ervice is performed by www.bannerstak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865-6E10-4091-AC6B-88C7BE7B3B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8178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s for keywords ranged as high as 15% - 19%. Through sponsorships on DoubleClick Finance sites, the Datek brand is reinforced to 550,000 potential customers every mont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inception of their DoubleClick campaign, Datek has succeeded in establishing a loyal audience, now exceeding over 32,000 trades a da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the past two years, DoubleClick has been an integral part of Datek's online budget, helping Datek to generate in excess of $320,000 a day from online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B9B-5E0A-407B-A1DD-D3915B73DC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 it worth i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250,000 customers, 70,000 trades/day, $9.95/t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70480" y="3146400"/>
          <a:ext cx="2341440" cy="268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70480" y="3146400"/>
                    <a:ext cx="2341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105-6629-4EE4-B8B1-368F66CFEAE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45F-A8F6-472D-83D2-9D4A1012AC0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58880" y="1143000"/>
            <a:ext cx="4026240" cy="457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022440" y="62485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er, 5 July 1993, p. 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247-5E36-40D7-B522-D61CD1CDE5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cord of an individual’s movement through time at a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information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’s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URL 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C27-7101-4D96-A1A6-40A092548BA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usic Industry Respon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yet another “revolution” brewing on the Internet, this time concerning the music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Enemy, the rap group that shot to fame with the hit “Fight the Power”, started selling a new album over the Internet today to fight what they say is the stifling power of big music companies.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Reuters, May 27, 19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ary Rosen, RIAA President and C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shington, July 13, 1999, “The SDMI specification being released today is a great example of technology partnerships that can open new markets.  This release is another important milestone for consumers, artists and the industry as a whole”.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uck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 say the more the merrier.  Success comes from the fans first - if someone is going to pirate something of mine, I just have to make sure to do nine or ten new things.  I mean, you can’t download me.” Interview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C10-679C-4A92-905B-021B7AE3E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lickstrea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sehold ID: Female born 12Jul4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graphic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iladelphia Area, Male and Female Married (husband born: 27Sep46), 3 members in household, income: $75,000-$99,999, Graduated College, employed 35 or more hours, 1 child age 13 to 17 (daughter born: 5Jul80), own single family home, white collar, own car &amp; truck, microwave, three dogs, five cat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652920"/>
            <a:ext cx="8423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5:5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4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5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5: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libr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7621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  <a:path fill="darkenLess" w="21600" h="23991">
                <a:moveTo>
                  <a:pt x="5273" y="5181"/>
                </a:moveTo>
                <a:lnTo>
                  <a:pt x="12271" y="5181"/>
                </a:lnTo>
                <a:lnTo>
                  <a:pt x="16327" y="8679"/>
                </a:lnTo>
                <a:lnTo>
                  <a:pt x="16327" y="18811"/>
                </a:lnTo>
                <a:lnTo>
                  <a:pt x="5273" y="18811"/>
                </a:lnTo>
                <a:close/>
              </a:path>
              <a:path fill="darken" w="21600" h="23991">
                <a:moveTo>
                  <a:pt x="12271" y="5181"/>
                </a:moveTo>
                <a:lnTo>
                  <a:pt x="16327" y="8679"/>
                </a:lnTo>
                <a:lnTo>
                  <a:pt x="12271" y="8679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654-A6AD-4D37-89B7-F45A9F0382F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does the provider se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595440" y="2973240"/>
            <a:ext cx="84103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640" y="2195640"/>
            <a:ext cx="568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voicenet.com would be able to 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440" y="4100400"/>
            <a:ext cx="673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at would www.weather.com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DD7-B223-4BDE-A3F9-7BE8B412B54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other information can the provider collec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’s watching you and what are you telling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T Privacy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nymizer Snoop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else can we find o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urn this information into a ZIP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we do with a ZIP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S/MicroVision Lifestyle 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7A0-CFF6-496F-B3E7-C13702911D4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stream Example: Who is this web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19604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FF3-165D-470B-9AC6-75DC595678C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much have you learned about this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ital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y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Com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Inc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t or 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nd presence of child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 or truck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g or cat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34 years 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East South Cent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50,000-49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 household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 head living with others re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$25,000-$2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raduated High Sch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Children Under 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wo cars, no tru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dogs or c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0D1-527A-4DB0-B26D-1E1EC57D9D2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tatistical Approach to ‘Who is this person?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2133720"/>
          <a:ext cx="81882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882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725-57D7-4E6B-BA60-FF51A863553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istical Analy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4984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112-D641-4724-A1FD-30B32DBD679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773600" cy="556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84240" y="6248520"/>
            <a:ext cx="42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moreinfo.com/au.cranlerma/fol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EC4-5CE1-4522-8769-B4B37D2C6BA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nceptual frame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2146320" y="1841400"/>
            <a:ext cx="5765760" cy="401328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8000" y="2463840"/>
            <a:ext cx="33624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ro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ive Mass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8480" y="2205000"/>
            <a:ext cx="21434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ffi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2680" y="34290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9160" y="4191120"/>
            <a:ext cx="334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9680" y="50292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28680" y="3821400"/>
            <a:ext cx="161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686800" y="2336760"/>
            <a:ext cx="0" cy="3175200"/>
          </a:xfrm>
          <a:prstGeom prst="line">
            <a:avLst/>
          </a:prstGeom>
          <a:ln w="50760">
            <a:solidFill>
              <a:srgbClr val="99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5680" y="6213600"/>
            <a:ext cx="629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ere should your company f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287-556A-490F-ACD5-72125692B7B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cessing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 Activity Tracking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ing and Verification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Research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Arial"/>
              </a:rPr>
              <a:t>What do you do with your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030-3AB4-4C79-B0CF-06ECE28BCD6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$33b World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rt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major suppliers (Record Label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 Warner (American)/ Thorn EMI (UK): ~24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Gram/Universal/MCA (Netherlands): ~16%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ny (Jap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rtelsmann/RCA (Germ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ers (for most mainstream labels, 80% of sales are generated by about 10 account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iance, Target, Anderson (WalMart), Tower, Best Buy, Trans World (Camelot, The Wall, Spec’s), Handleman, Valley Media, Musicland, Wherehouse/Blockbu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30C-E436-4C9C-B72B-E0AE5191A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ights about the WWW from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rce: Media Metrix In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d Johnson, CE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vember 199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F8B3-6D9C-42BD-BD91-8BCC7EB35EF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ecting the Clickstre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the PC 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: the PC Meter Comp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collecting web data since July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ary of the NPD Group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yndicated data to more than 100 client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model organized around traditional advertising measures: reach and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CDE-1355-4B9A-9013-CB5DA730073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208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1. Randomly Recruit A Panel of PC and Internet User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9240" y="2362320"/>
            <a:ext cx="8087400" cy="4263840"/>
            <a:chOff x="669240" y="2362320"/>
            <a:chExt cx="8087400" cy="4263840"/>
          </a:xfrm>
        </p:grpSpPr>
        <p:sp>
          <p:nvSpPr>
            <p:cNvPr id="381" name=""/>
            <p:cNvSpPr/>
            <p:nvPr/>
          </p:nvSpPr>
          <p:spPr>
            <a:xfrm>
              <a:off x="669240" y="2362320"/>
              <a:ext cx="489600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 # 3244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4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IBM Desktop, Pentium 2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4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1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2:  Compaq Presario, 35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14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3:  Dell Latitude Note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8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Mobile/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ston,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wn Single 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03920" y="4187880"/>
              <a:ext cx="47527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# 9083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6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Gateway, PIII 4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6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3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dison, W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t, Multi-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765-019D-4468-B5A7-B6BB314E36F1}" type="slidenum">
              <a:t>72</a:t>
            </a:fld>
          </a:p>
        </p:txBody>
      </p:sp>
    </p:spTree>
  </p:cSld>
  <p:transition spd="med">
    <p:pull dir="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2080" y="1143000"/>
            <a:ext cx="74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2. Install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 Software on 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Panelists’ Home &amp; Work PC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ETRENDS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531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8E4-B3EA-4C79-BF1C-2E3CE843AD89}" type="slidenum">
              <a:t>73</a:t>
            </a:fld>
          </a:p>
        </p:txBody>
      </p:sp>
    </p:spTree>
  </p:cSld>
  <p:transition spd="med">
    <p:pull dir="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752480" y="2260440"/>
            <a:ext cx="7391520" cy="4589280"/>
            <a:chOff x="1752480" y="2260440"/>
            <a:chExt cx="7391520" cy="4589280"/>
          </a:xfrm>
        </p:grpSpPr>
        <p:sp>
          <p:nvSpPr>
            <p:cNvPr id="387" name=""/>
            <p:cNvSpPr/>
            <p:nvPr/>
          </p:nvSpPr>
          <p:spPr>
            <a:xfrm>
              <a:off x="1752480" y="2260440"/>
              <a:ext cx="739152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TIME        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EB SITE &amp; PAGE    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OM S., Age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07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Login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54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Ema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53:12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Today’s Headlin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6:44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7:25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-chic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00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6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re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8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SanFrancis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4:58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5:00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15:24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/restau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:20:45 p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crosoft word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16200" y="3178080"/>
              <a:ext cx="299556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38280" y="380880"/>
            <a:ext cx="79106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03968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Software Gathers Data On Personal “Clickstreams” As Panelists Use Their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57A-E3E7-42E2-8FD7-509253E49458}" type="slidenum">
              <a:t>74</a:t>
            </a:fld>
          </a:p>
        </p:txBody>
      </p:sp>
    </p:spTree>
  </p:cSld>
  <p:transition spd="med">
    <p:pull dir="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4.  Data is Processed and Provided to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Clients Online and/or in Hard Copy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71600" y="2514600"/>
          <a:ext cx="65530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553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B46-A9A5-48AB-A7BC-5C02B5DB425C}" type="slidenum">
              <a:t>75</a:t>
            </a:fld>
          </a:p>
        </p:txBody>
      </p:sp>
    </p:spTree>
  </p:cSld>
  <p:transition spd="med">
    <p:pull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dia Metrix Cli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Media Metrix services over 500 industry leaders across 5 se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rketers &amp; Traditional Mark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8EB-7BB7-4432-99C0-AF39CBE91FDE}" type="slidenum">
              <a:t>76</a:t>
            </a:fld>
          </a:p>
        </p:txBody>
      </p:sp>
    </p:spTree>
  </p:cSld>
  <p:transition spd="med">
    <p:pull dir="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343400" y="4648320"/>
            <a:ext cx="1974600" cy="712440"/>
            <a:chOff x="4343400" y="4648320"/>
            <a:chExt cx="1974600" cy="712440"/>
          </a:xfrm>
        </p:grpSpPr>
        <p:sp>
          <p:nvSpPr>
            <p:cNvPr id="399" name=""/>
            <p:cNvSpPr/>
            <p:nvPr/>
          </p:nvSpPr>
          <p:spPr>
            <a:xfrm>
              <a:off x="4343400" y="4648320"/>
              <a:ext cx="197460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aol" descr=""/>
            <p:cNvPicPr/>
            <p:nvPr/>
          </p:nvPicPr>
          <p:blipFill>
            <a:blip r:embed="rId1"/>
            <a:srcRect l="0" t="0" r="79855" b="0"/>
            <a:stretch/>
          </p:blipFill>
          <p:spPr>
            <a:xfrm>
              <a:off x="4550760" y="4798800"/>
              <a:ext cx="1621440" cy="4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usatoday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1069920" cy="569880"/>
          </a:xfrm>
          <a:prstGeom prst="rect">
            <a:avLst/>
          </a:prstGeom>
          <a:ln w="0">
            <a:noFill/>
          </a:ln>
        </p:spPr>
      </p:pic>
      <p:pic>
        <p:nvPicPr>
          <p:cNvPr id="402" name="yahoo2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919160" cy="390600"/>
          </a:xfrm>
          <a:prstGeom prst="rect">
            <a:avLst/>
          </a:prstGeom>
          <a:ln w="0">
            <a:noFill/>
          </a:ln>
        </p:spPr>
      </p:pic>
      <p:pic>
        <p:nvPicPr>
          <p:cNvPr id="403" name="cnn_logo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924120" cy="715680"/>
          </a:xfrm>
          <a:prstGeom prst="rect">
            <a:avLst/>
          </a:prstGeom>
          <a:ln w="0">
            <a:noFill/>
          </a:ln>
        </p:spPr>
      </p:pic>
      <p:pic>
        <p:nvPicPr>
          <p:cNvPr id="404" name="infoseek" descr=""/>
          <p:cNvPicPr/>
          <p:nvPr/>
        </p:nvPicPr>
        <p:blipFill>
          <a:blip r:embed="rId5"/>
          <a:stretch/>
        </p:blipFill>
        <p:spPr>
          <a:xfrm>
            <a:off x="1676520" y="4724280"/>
            <a:ext cx="1898640" cy="527040"/>
          </a:xfrm>
          <a:prstGeom prst="rect">
            <a:avLst/>
          </a:prstGeom>
          <a:ln w="0">
            <a:noFill/>
          </a:ln>
        </p:spPr>
      </p:pic>
      <p:pic>
        <p:nvPicPr>
          <p:cNvPr id="405" name="zd" descr=""/>
          <p:cNvPicPr/>
          <p:nvPr/>
        </p:nvPicPr>
        <p:blipFill>
          <a:blip r:embed="rId6"/>
          <a:stretch/>
        </p:blipFill>
        <p:spPr>
          <a:xfrm>
            <a:off x="7924680" y="4876920"/>
            <a:ext cx="75888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geocities" descr=""/>
          <p:cNvPicPr/>
          <p:nvPr/>
        </p:nvPicPr>
        <p:blipFill>
          <a:blip r:embed="rId7"/>
          <a:stretch/>
        </p:blipFill>
        <p:spPr>
          <a:xfrm>
            <a:off x="82296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07" name="wb" descr=""/>
          <p:cNvPicPr/>
          <p:nvPr/>
        </p:nvPicPr>
        <p:blipFill>
          <a:blip r:embed="rId8"/>
          <a:srcRect l="26279" t="0" r="21171" b="33697"/>
          <a:stretch/>
        </p:blipFill>
        <p:spPr>
          <a:xfrm>
            <a:off x="1828800" y="2895480"/>
            <a:ext cx="857160" cy="789120"/>
          </a:xfrm>
          <a:prstGeom prst="rect">
            <a:avLst/>
          </a:prstGeom>
          <a:ln w="0">
            <a:noFill/>
          </a:ln>
        </p:spPr>
      </p:pic>
      <p:pic>
        <p:nvPicPr>
          <p:cNvPr id="408" name="cnet" descr=""/>
          <p:cNvPicPr/>
          <p:nvPr/>
        </p:nvPicPr>
        <p:blipFill>
          <a:blip r:embed="rId9"/>
          <a:stretch/>
        </p:blipFill>
        <p:spPr>
          <a:xfrm>
            <a:off x="5715000" y="5867280"/>
            <a:ext cx="1028880" cy="79056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19720" y="6019920"/>
            <a:ext cx="1425600" cy="511200"/>
            <a:chOff x="4419720" y="6019920"/>
            <a:chExt cx="1425600" cy="511200"/>
          </a:xfrm>
        </p:grpSpPr>
        <p:sp>
          <p:nvSpPr>
            <p:cNvPr id="410" name=""/>
            <p:cNvSpPr/>
            <p:nvPr/>
          </p:nvSpPr>
          <p:spPr>
            <a:xfrm>
              <a:off x="4419720" y="6019920"/>
              <a:ext cx="140364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wallstreetjournal" descr=""/>
            <p:cNvPicPr/>
            <p:nvPr/>
          </p:nvPicPr>
          <p:blipFill>
            <a:blip r:embed="rId10"/>
            <a:srcRect l="36371" t="0" r="0" b="0"/>
            <a:stretch/>
          </p:blipFill>
          <p:spPr>
            <a:xfrm>
              <a:off x="4463640" y="6062040"/>
              <a:ext cx="138168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2895480" y="3048120"/>
            <a:ext cx="177192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30360" y="228600"/>
            <a:ext cx="761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Media Metrix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dmbb" descr=""/>
          <p:cNvPicPr/>
          <p:nvPr/>
        </p:nvPicPr>
        <p:blipFill>
          <a:blip r:embed="rId11"/>
          <a:stretch/>
        </p:blipFill>
        <p:spPr>
          <a:xfrm>
            <a:off x="1981080" y="5410080"/>
            <a:ext cx="946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3352680" y="4191120"/>
            <a:ext cx="1138320" cy="452160"/>
            <a:chOff x="3352680" y="4191120"/>
            <a:chExt cx="1138320" cy="452160"/>
          </a:xfrm>
        </p:grpSpPr>
        <p:sp>
          <p:nvSpPr>
            <p:cNvPr id="416" name=""/>
            <p:cNvSpPr/>
            <p:nvPr/>
          </p:nvSpPr>
          <p:spPr>
            <a:xfrm>
              <a:off x="3352680" y="4191120"/>
              <a:ext cx="1138320" cy="452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3398040" y="4237920"/>
              <a:ext cx="1001880" cy="34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netscape" descr=""/>
          <p:cNvPicPr/>
          <p:nvPr/>
        </p:nvPicPr>
        <p:blipFill>
          <a:blip r:embed="rId13"/>
          <a:stretch/>
        </p:blipFill>
        <p:spPr>
          <a:xfrm>
            <a:off x="7086600" y="27432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9" name="ibm" descr=""/>
          <p:cNvPicPr/>
          <p:nvPr/>
        </p:nvPicPr>
        <p:blipFill>
          <a:blip r:embed="rId14"/>
          <a:srcRect l="0" t="0" r="82729" b="0"/>
          <a:stretch/>
        </p:blipFill>
        <p:spPr>
          <a:xfrm>
            <a:off x="5257800" y="2057400"/>
            <a:ext cx="1279440" cy="701640"/>
          </a:xfrm>
          <a:prstGeom prst="rect">
            <a:avLst/>
          </a:prstGeom>
          <a:ln w="0">
            <a:noFill/>
          </a:ln>
        </p:spPr>
      </p:pic>
      <p:pic>
        <p:nvPicPr>
          <p:cNvPr id="420" name="mslogo" descr=""/>
          <p:cNvPicPr/>
          <p:nvPr/>
        </p:nvPicPr>
        <p:blipFill>
          <a:blip r:embed="rId15"/>
          <a:stretch/>
        </p:blipFill>
        <p:spPr>
          <a:xfrm>
            <a:off x="6576840" y="1905120"/>
            <a:ext cx="2567160" cy="917280"/>
          </a:xfrm>
          <a:prstGeom prst="rect">
            <a:avLst/>
          </a:prstGeom>
          <a:ln w="0">
            <a:noFill/>
          </a:ln>
        </p:spPr>
      </p:pic>
      <p:pic>
        <p:nvPicPr>
          <p:cNvPr id="421" name="merrill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817640" cy="493560"/>
          </a:xfrm>
          <a:prstGeom prst="rect">
            <a:avLst/>
          </a:prstGeom>
          <a:ln w="0">
            <a:noFill/>
          </a:ln>
        </p:spPr>
      </p:pic>
      <p:pic>
        <p:nvPicPr>
          <p:cNvPr id="422" name="intuit_logo_new" descr=""/>
          <p:cNvPicPr/>
          <p:nvPr/>
        </p:nvPicPr>
        <p:blipFill>
          <a:blip r:embed="rId17"/>
          <a:stretch/>
        </p:blipFill>
        <p:spPr>
          <a:xfrm>
            <a:off x="7086600" y="3809880"/>
            <a:ext cx="1706400" cy="374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8"/>
          <a:stretch/>
        </p:blipFill>
        <p:spPr>
          <a:xfrm>
            <a:off x="1676520" y="3809880"/>
            <a:ext cx="1361880" cy="766800"/>
          </a:xfrm>
          <a:prstGeom prst="rect">
            <a:avLst/>
          </a:prstGeom>
          <a:ln w="0">
            <a:noFill/>
          </a:ln>
        </p:spPr>
      </p:pic>
      <p:pic>
        <p:nvPicPr>
          <p:cNvPr id="424" name="amazon" descr=""/>
          <p:cNvPicPr/>
          <p:nvPr/>
        </p:nvPicPr>
        <p:blipFill>
          <a:blip r:embed="rId19"/>
          <a:stretch/>
        </p:blipFill>
        <p:spPr>
          <a:xfrm>
            <a:off x="1828800" y="1523880"/>
            <a:ext cx="1959120" cy="536760"/>
          </a:xfrm>
          <a:prstGeom prst="rect">
            <a:avLst/>
          </a:prstGeom>
          <a:ln w="0">
            <a:noFill/>
          </a:ln>
        </p:spPr>
      </p:pic>
      <p:pic>
        <p:nvPicPr>
          <p:cNvPr id="425" name="ebay" descr=""/>
          <p:cNvPicPr/>
          <p:nvPr/>
        </p:nvPicPr>
        <p:blipFill>
          <a:blip r:embed="rId20"/>
          <a:stretch/>
        </p:blipFill>
        <p:spPr>
          <a:xfrm>
            <a:off x="1828800" y="2286000"/>
            <a:ext cx="1163520" cy="423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1"/>
          <a:stretch/>
        </p:blipFill>
        <p:spPr>
          <a:xfrm>
            <a:off x="6095880" y="1523880"/>
            <a:ext cx="2793960" cy="446040"/>
          </a:xfrm>
          <a:prstGeom prst="rect">
            <a:avLst/>
          </a:prstGeom>
          <a:ln w="0">
            <a:noFill/>
          </a:ln>
        </p:spPr>
      </p:pic>
      <p:pic>
        <p:nvPicPr>
          <p:cNvPr id="427" name="y&amp;r" descr=""/>
          <p:cNvPicPr/>
          <p:nvPr/>
        </p:nvPicPr>
        <p:blipFill>
          <a:blip r:embed="rId22"/>
          <a:stretch/>
        </p:blipFill>
        <p:spPr>
          <a:xfrm>
            <a:off x="5791320" y="4343400"/>
            <a:ext cx="1892160" cy="32868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6248520" y="4724280"/>
            <a:ext cx="1699920" cy="1043640"/>
            <a:chOff x="6248520" y="4724280"/>
            <a:chExt cx="1699920" cy="1043640"/>
          </a:xfrm>
        </p:grpSpPr>
        <p:pic>
          <p:nvPicPr>
            <p:cNvPr id="429" name="quantumleap" descr=""/>
            <p:cNvPicPr/>
            <p:nvPr/>
          </p:nvPicPr>
          <p:blipFill>
            <a:blip r:embed="rId23"/>
            <a:stretch/>
          </p:blipFill>
          <p:spPr>
            <a:xfrm>
              <a:off x="6248520" y="4724280"/>
              <a:ext cx="1699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635160" y="5308920"/>
              <a:ext cx="124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Quantum Le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ABClogo_home" descr=""/>
          <p:cNvPicPr/>
          <p:nvPr/>
        </p:nvPicPr>
        <p:blipFill>
          <a:blip r:embed="rId24"/>
          <a:stretch/>
        </p:blipFill>
        <p:spPr>
          <a:xfrm>
            <a:off x="3429000" y="2133720"/>
            <a:ext cx="1542960" cy="645840"/>
          </a:xfrm>
          <a:prstGeom prst="rect">
            <a:avLst/>
          </a:prstGeom>
          <a:ln w="0">
            <a:noFill/>
          </a:ln>
        </p:spPr>
      </p:pic>
      <p:pic>
        <p:nvPicPr>
          <p:cNvPr id="432" name="cbs" descr=""/>
          <p:cNvPicPr/>
          <p:nvPr/>
        </p:nvPicPr>
        <p:blipFill>
          <a:blip r:embed="rId25"/>
          <a:stretch/>
        </p:blipFill>
        <p:spPr>
          <a:xfrm>
            <a:off x="5638680" y="3048120"/>
            <a:ext cx="1078200" cy="647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6"/>
          <a:stretch/>
        </p:blipFill>
        <p:spPr>
          <a:xfrm>
            <a:off x="1676520" y="5943600"/>
            <a:ext cx="2654280" cy="438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7"/>
          <a:stretch/>
        </p:blipFill>
        <p:spPr>
          <a:xfrm>
            <a:off x="6934320" y="5943600"/>
            <a:ext cx="1974600" cy="4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ED2-810F-4E1F-904B-8DD4D2DD361D}" type="slidenum">
              <a:t>77</a:t>
            </a:fld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ent Applications &amp; Benefi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26912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Clients are Using Media Metrix Service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n, Buy &amp; Sell Digital Media Adverti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Consumer Behavi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in Marketplace &amp; Competitive Intellig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Product, Marketing &amp; Advertising Strategy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porate Benchma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s for Partnership Alliance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With The Financial Commun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1200" indent="0">
              <a:spcBef>
                <a:spcPts val="96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 we learn from clickstream data about the digital landsca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10 Less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85D-B6A8-492F-AE0D-D80F3DB1579F}" type="slidenum">
              <a:t>79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from a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99₤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22520" y="2062080"/>
          <a:ext cx="7219800" cy="39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62080"/>
                    <a:ext cx="721980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968440" y="5562720"/>
            <a:ext cx="24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: Financial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ic and 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639-3021-46C1-9466-1B86CBCDB3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net:  Then &amp; 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267080" y="1905120"/>
            <a:ext cx="1295640" cy="8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8F3C-3CEA-40E3-9DB7-866709338EE6}" type="slidenum">
              <a:t>80</a:t>
            </a:fld>
          </a:p>
        </p:txBody>
      </p: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E5C-D2D1-4C59-8767-17119230A716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1676520"/>
            <a:ext cx="34290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Sept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S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CROSOF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EOCITIE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GO.COM (Disney/Infoseek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CIT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OTMAI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YCO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ASS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MAZO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NGELFIR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RIPOD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EA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FA3-EC6B-4F3A-9997-01ADAA1AF576}" type="slidenum">
              <a:t>82</a:t>
            </a:fld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Net Has Gone “Mas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BE3-42D8-4DCE-B4B5-B46BAA6352AF}" type="slidenum">
              <a:t>83</a:t>
            </a:fld>
          </a:p>
        </p:txBody>
      </p:sp>
    </p:spTree>
  </p:cSld>
  <p:transition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220760" y="1905120"/>
          <a:ext cx="792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905120"/>
                    <a:ext cx="79218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Share of Total User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6858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Gender Gap Has Narr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6B4-214B-4D6C-85EE-F159C600135E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ush for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798C-125E-45F6-BC43-E7C6D3D6CE9E}" type="slidenum">
              <a:t>85</a:t>
            </a:fld>
          </a:p>
        </p:txBody>
      </p:sp>
    </p:spTree>
  </p:cSld>
  <p:transition>
    <p:pull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19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65E-7390-48D4-B691-3EE108F4260C}" type="slidenum">
              <a:t>86</a:t>
            </a:fld>
          </a:p>
        </p:txBody>
      </p:sp>
    </p:spTree>
  </p:cSld>
  <p:transition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me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ptember 1999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143240" y="2514600"/>
            <a:ext cx="3476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solidation!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A3A-37D0-4DF0-8BE8-8219DD288253}" type="slidenum">
              <a:t>87</a:t>
            </a:fld>
          </a:p>
        </p:txBody>
      </p:sp>
    </p:spTree>
  </p:cSld>
  <p:transition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ing Beyond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14800" y="1905120"/>
            <a:ext cx="221004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79F0-BED6-4E17-AC34-F8C9CC5E5B8F}" type="slidenum">
              <a:t>88</a:t>
            </a:fld>
          </a:p>
        </p:txBody>
      </p:sp>
    </p:spTree>
  </p:cSld>
  <p:transition>
    <p:pull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ternet Grow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5920" y="1886040"/>
          <a:ext cx="7067520" cy="38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886040"/>
                    <a:ext cx="706752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423520" y="54864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8400" y="5486400"/>
            <a:ext cx="10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60400" y="548640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2120" y="237348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vs. 9/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AC3-AC38-403E-97BE-30543CCD0A84}" type="slidenum">
              <a:t>89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d Music (86% at EM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Releases (52%, 5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Catalog (34%, 10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ublishing (14%, 36% return on s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: Reproductions on record, cassette, CD, video (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: Public, Radio, TV (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: Film Soundtrack or TV commercial (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DD7-10F1-4432-910E-D0321C19B4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ickiness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95F3-9D09-41F0-9E9F-B6870F44127F}" type="slidenum">
              <a:t>90</a:t>
            </a:fld>
          </a:p>
        </p:txBody>
      </p:sp>
    </p:spTree>
  </p:cSld>
  <p:transition>
    <p:pull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*Stickiest* S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Average Time Per Visitor Per Da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1517400"/>
            <a:ext cx="7238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48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LYCOSCHA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6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POGO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2.1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GAMESVILL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PLAYER. 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4 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PRIZEPOIN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6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EBAY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UPROAR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0.4 Minu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VOYEURWEB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FREERID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2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6248520"/>
            <a:ext cx="764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 WWW Audience Ratings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erage Minutes Per Month Per Person 8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D2D-1C9C-43B6-88BF-461452502095}" type="slidenum">
              <a:t>91</a:t>
            </a:fld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Growt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8A4B-98A6-4977-8AF0-BCED4D601D18}" type="slidenum">
              <a:t>92</a:t>
            </a:fld>
          </a:p>
        </p:txBody>
      </p:sp>
    </p:spTree>
  </p:cSld>
  <p:transition>
    <p:pull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523880" y="1676520"/>
          <a:ext cx="7086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7086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854360" y="5792760"/>
            <a:ext cx="235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ies   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22320" y="5462640"/>
            <a:ext cx="223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ult Content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9240" y="513252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6320" y="4800600"/>
            <a:ext cx="229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’t                     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39680" y="449568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        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4178160"/>
            <a:ext cx="40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net Service Providers            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79560" y="3851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9240" y="3822840"/>
            <a:ext cx="388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ices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9840" y="3522600"/>
            <a:ext cx="39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pping       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7160" y="3200400"/>
            <a:ext cx="444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ercial Online Services                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45160" y="2897280"/>
            <a:ext cx="451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Engines                                        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360" y="2552760"/>
            <a:ext cx="533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porate/Marketing                                      8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1840" y="2209680"/>
            <a:ext cx="54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s/Information/Entertainment                       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6960" y="5183280"/>
            <a:ext cx="403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ch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6524640"/>
            <a:ext cx="616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Web Report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Penet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349440" y="14400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% Audience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95320" y="514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DD3-D786-4FD8-AB07-4881B6ACF429}" type="slidenum">
              <a:t>93</a:t>
            </a:fld>
          </a:p>
        </p:txBody>
      </p:sp>
    </p:spTree>
  </p:cSld>
  <p:transition spd="slow">
    <p:blinds dir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% Grow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9/98 to 9/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04880" y="1960560"/>
          <a:ext cx="726444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960560"/>
                    <a:ext cx="72644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9C9-68C2-4A08-84D9-DC7979BBD3A2}" type="slidenum">
              <a:t>94</a:t>
            </a:fld>
          </a:p>
        </p:txBody>
      </p:sp>
    </p:spTree>
  </p:cSld>
  <p:transition>
    <p:blinds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World Is Dominated By U.S. Multi-Nation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9A2-4AC4-4693-9B2D-103E4588423C}" type="slidenum">
              <a:t>95</a:t>
            </a:fld>
          </a:p>
        </p:txBody>
      </p:sp>
    </p:spTree>
  </p:cSld>
  <p:transition>
    <p:pull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solidated Landscape Of Global Brands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alphabetical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733920"/>
            <a:ext cx="5486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082-93DC-4C2C-BA82-B86E09F75467}" type="slidenum">
              <a:t>96</a:t>
            </a:fld>
          </a:p>
        </p:txBody>
      </p:sp>
    </p:spTree>
  </p:cSld>
  <p:transition>
    <p:pull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rgence Wat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266720" y="1905120"/>
            <a:ext cx="16768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93B-8940-451A-B43D-A792457B1122}" type="slidenum">
              <a:t>97</a:t>
            </a:fld>
          </a:p>
        </p:txBody>
      </p:sp>
    </p:spTree>
  </p:cSld>
  <p:transition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219320" y="1709640"/>
          <a:ext cx="761976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09640"/>
                    <a:ext cx="76197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 flipV="1">
            <a:off x="3963960" y="2251080"/>
            <a:ext cx="0" cy="31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261120" y="2250720"/>
            <a:ext cx="0" cy="31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4000" y="1954080"/>
            <a:ext cx="15829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1000" y="3276720"/>
            <a:ext cx="16621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60" y="6372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ourly Incidence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157788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201680" indent="-2840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of Day People Use Digit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Usage by Time of Da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0E7-AE90-4B61-B5A4-CDE0AE4D89E0}" type="slidenum">
              <a:t>98</a:t>
            </a:fld>
          </a:p>
        </p:txBody>
      </p:sp>
    </p:spTree>
  </p:cSld>
  <p:transition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219320" y="2133720"/>
          <a:ext cx="79246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92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% of Household PCs With TV Tuner Capability - </a:t>
            </a: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A06-6484-4DCD-973D-C89545DB60CD}" type="slidenum">
              <a:t>9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14:13:11Z</dcterms:created>
  <dc:creator>Alan Montgomery</dc:creator>
  <dc:description/>
  <dc:language>en-US</dc:language>
  <cp:lastModifiedBy>John T Grasso</cp:lastModifiedBy>
  <cp:lastPrinted>2000-03-15T12:54:50Z</cp:lastPrinted>
  <dcterms:modified xsi:type="dcterms:W3CDTF">2000-09-11T11:44:37Z</dcterms:modified>
  <cp:revision>107</cp:revision>
  <dc:subject/>
  <dc:title>Today’s Objectives</dc:title>
</cp:coreProperties>
</file>