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733400" y="642960"/>
            <a:ext cx="29894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Click to move the slide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49000" y="2995200"/>
            <a:ext cx="5575320" cy="623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6640" y="2727360"/>
            <a:ext cx="675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17680" y="279360"/>
            <a:ext cx="1156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S: DASSS-U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D215F3-ADA3-4CAC-A1DA-73265C101D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1320" y="9252000"/>
            <a:ext cx="1804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2080" y="747720"/>
            <a:ext cx="4880160" cy="3660840"/>
          </a:xfrm>
          <a:prstGeom prst="rect">
            <a:avLst/>
          </a:prstGeom>
          <a:ln w="0">
            <a:noFill/>
          </a:ln>
        </p:spPr>
      </p:sp>
      <p:sp>
        <p:nvSpPr>
          <p:cNvPr id="109" name=""/>
          <p:cNvSpPr/>
          <p:nvPr/>
        </p:nvSpPr>
        <p:spPr>
          <a:xfrm>
            <a:off x="1482840" y="1919160"/>
            <a:ext cx="1358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58680" y="3132000"/>
            <a:ext cx="1249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32320" y="1919160"/>
            <a:ext cx="1358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8840" y="3193920"/>
            <a:ext cx="1249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6520" y="1285920"/>
            <a:ext cx="1643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56720" y="1366920"/>
            <a:ext cx="1643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5240" y="3246480"/>
            <a:ext cx="95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0120" y="3346560"/>
            <a:ext cx="95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038A-0566-4BE5-B34A-381C0CF3F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" y="3957480"/>
            <a:ext cx="822780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7920-7978-4682-AE11-5B758B551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480" y="39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800" y="39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F4A3-5C24-4CA1-B462-8E735EE20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6560" y="12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8640" y="12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480" y="39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6560" y="39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8640" y="39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FFA6-3290-4777-981F-F461F1DAA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1EC7-1F00-43DE-8A05-DC729FCE7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3BC2-85D9-4DAC-A207-014129D58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7C00-CCF0-4A3C-ACA7-74D1BA632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33D7-AACF-4F49-818F-EC15FCA37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4440" y="472680"/>
            <a:ext cx="822636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9B26-154C-4F57-8842-4EB20CC3E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480" y="39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ED97-8642-4EF7-A73F-868605D2A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800" y="39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92CB-B00F-428A-BDA7-682438713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480" y="3957480"/>
            <a:ext cx="822780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1DB5-0A6B-4CC5-AD1B-6DFAEA3C4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10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457360" indent="-214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457360" indent="-214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457360" indent="-214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97720"/>
            <a:ext cx="91314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4360" bIns="5436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876920"/>
                <a:tab algn="r" pos="9428040"/>
                <a:tab algn="l" pos="10086840"/>
              </a:tabLst>
            </a:pPr>
            <a:r>
              <a:rPr b="1" i="1" lang="en-US" sz="11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100" spc="-1" strike="noStrike">
                <a:solidFill>
                  <a:srgbClr val="919191"/>
                </a:solidFill>
                <a:latin typeface="Arial"/>
              </a:rPr>
              <a:t>.</a:t>
            </a:r>
            <a:r>
              <a:rPr b="1" i="1" lang="en-US" sz="11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100" spc="-1" strike="noStrike">
                <a:solidFill>
                  <a:srgbClr val="919191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7920"/>
            <a:ext cx="9107640" cy="682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56680" y="6171840"/>
            <a:ext cx="6000840" cy="51444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4000" bIns="54000" anchor="t">
            <a:noAutofit/>
          </a:bodyPr>
          <a:lstStyle>
            <a:lvl1pPr indent="0" algn="ct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2000 John Grasso, Carnegie 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7640" y="6171840"/>
            <a:ext cx="2143080" cy="51444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E9C90F-52E6-4D9E-82A2-729F6B4F5E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mpus%20faded" descr=""/>
          <p:cNvPicPr/>
          <p:nvPr/>
        </p:nvPicPr>
        <p:blipFill>
          <a:blip r:embed="rId1">
            <a:lum contrast="12000"/>
          </a:blip>
          <a:srcRect l="6061" t="0" r="6061" b="8333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51040" y="1600200"/>
            <a:ext cx="64785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The Case of FreeMarket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8280" y="4336920"/>
            <a:ext cx="60418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ohn T. Grasso, Ph.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412) 268-169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asso@cmu.ed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wordmark" descr=""/>
          <p:cNvPicPr/>
          <p:nvPr/>
        </p:nvPicPr>
        <p:blipFill>
          <a:blip r:embed="rId2"/>
          <a:stretch/>
        </p:blipFill>
        <p:spPr>
          <a:xfrm>
            <a:off x="79200" y="0"/>
            <a:ext cx="3502080" cy="56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0837-C3E4-435F-A58B-1CCE6D8DFF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5. Post-Auction Service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s, case-by-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“client need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inclu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ation of quo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and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ance for “award” d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ance for award cont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8E8E-8914-4ACD-9C25-419DB48FFB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E-Steel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“reputable users” -- requires registration and scree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ed User can post offers to buy and s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ser can control access to information that the user has pos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2FE7-430F-4194-82A8-BC31838860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New Intermediary: GMA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 fontScale="96000"/>
          </a:bodyPr>
          <a:p>
            <a:pPr marL="193320" indent="-193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ers of Grocery Mfrs of America (Pw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food, beverage, consumer product mf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“new, open, transparent supply chai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ocurement, then for other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576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alog purchases, bidding, quotes, sourcing, auctions of raw materials, packaging suppli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576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.   Collaborative planning, demand management, flow management, order fulfillment, customer service, new product commercialization, relationship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CD23-B8A6-4174-ACF7-8E5B6D9179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FreeMarkets: Applies to what?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general, three 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arketplaces controlled by s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ks many buyers, e.g., Cis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s selling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arketplaces controlled by buy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Japan Airlines, buying consum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Marketplaces operated by neutral 3rd par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Markets wants to be seen as "neutral" (compared to General Moto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D9BA-8409-457A-965E-E1F054EA62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eMarketplace Opportunitie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3750" t="7681" r="7499" b="1920"/>
          <a:stretch/>
        </p:blipFill>
        <p:spPr>
          <a:xfrm>
            <a:off x="782640" y="1295280"/>
            <a:ext cx="7302600" cy="4673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7520" y="6022800"/>
            <a:ext cx="3672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Kinsey Quarterly, 1998, numb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75AB-6FBB-416E-B764-CBE78F2543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Choose Correct eMarketplace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13442" r="5999" b="10561"/>
          <a:stretch/>
        </p:blipFill>
        <p:spPr>
          <a:xfrm>
            <a:off x="647640" y="1600200"/>
            <a:ext cx="7734240" cy="39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2AEF-F453-49DB-81C0-EB884AD122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B2B at FreeMarkets: </a:t>
            </a:r>
            <a:br>
              <a:rPr sz="4200"/>
            </a:b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Is it High Tech ?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85680" y="1752480"/>
          <a:ext cx="6937560" cy="46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752480"/>
                    <a:ext cx="693756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BC19-3807-4AE7-BB06-FD0A7269A8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119240" y="1243080"/>
          <a:ext cx="662292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243080"/>
                    <a:ext cx="66229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44560" y="5943600"/>
            <a:ext cx="63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Tridas Mukhopadhyay, Ramayya Krishnan, Carnegie Mel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Use the eCommerce Value Grid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6C4F-EEC6-492E-96B5-8C5C9C469D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75160" y="3124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1600" y="3957480"/>
            <a:ext cx="23652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000840"/>
            <a:ext cx="58561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444600" indent="-44460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apted From: Michael Porter, "Competitive Strategy", Free Press, New York,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560" y="3427560"/>
            <a:ext cx="2849760" cy="11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etitive Rival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7200" y="2367720"/>
            <a:ext cx="2813040" cy="75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reat of New Ent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4806360"/>
            <a:ext cx="2852640" cy="75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reat of Substit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587040"/>
            <a:ext cx="1752840" cy="75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pplier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587040"/>
            <a:ext cx="1517760" cy="75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uyer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73720" y="4572000"/>
            <a:ext cx="2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3962520"/>
            <a:ext cx="23652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Advantage: Is it sustainable?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20" y="1590840"/>
            <a:ext cx="298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Force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2913-DEC7-4F26-99AF-A88FE13FD177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Glen Meakem, Chair &amp; CEO 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o FreeMar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ant with McKinsey &amp; Company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ed on industrial sourcing and commodities tr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r in General Electric’s Corporate Business Development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8E9A-7930-44CD-B889-C56F20FBA7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Meakem's Proposal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o GE…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 a startup for a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 declined the o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o McKin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 with Meakem and create own start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Kinney accep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ed FreeMarkets to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ledge of supply mar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ing experti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technology for a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of economics and a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47BC-43BD-4A6C-BA93-3885738CC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“</a:t>
            </a: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Market Engineering”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 Ph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Buyer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Buyer &amp; Opportun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(for each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“Total Cost RFQ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upplier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, Screen an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Auc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 Online C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Post-Bid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and Awar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D3F4-79EB-437F-A3E6-96E7FDB3E9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1. Find Buyer &amp; Opportunity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Large Bu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Proc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procu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s of the purc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iers:  Incumbents, … global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ies for “true market pric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Proc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ize Agreement with Buy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, fees,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annual, or variable by volume or savings (“performance-based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92CF-FC26-4374-898C-7C935B347F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1a. Analyze Procurement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 fontScale="96000"/>
          </a:bodyPr>
          <a:p>
            <a:pPr marL="193320" indent="-193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to be procu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include raw commodities, parts, supplies, services… a broad r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involve sufficient $$$ to attract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items “Spec-ready”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special requirements of the purchas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3320" indent="-193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iers:  Incumbents, … global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“competitive”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576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, three or more viable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3320" indent="-193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ies for “true market pric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 historical, reservation, likely bi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7936-B449-422C-A550-091A9F32E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2. Prepare Total Cost RFQ 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ehensive RF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elements of total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 requirements: quantities, timing, shipping, finance, risks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e ambiguity to create “level playing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non-incumbents to particip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76BF-7C68-498B-BE01-02C01458C2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3. Supplier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incumbents and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RFI for new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scree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 buyer appro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RFQ with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e as nee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buyer, finalize the “type of CB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, procurements, a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nvited suppliers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training and support for C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1FC3-B1A4-4B76-B8A8-50D66F972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4. Online CBE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for online Competitive Bidding Ev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network and software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special assis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 C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DF34-ABC0-4D47-8368-287B08859B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04:55:53Z</dcterms:created>
  <dc:creator>John T. Grasso</dc:creator>
  <dc:description/>
  <dc:language>en-US</dc:language>
  <cp:lastModifiedBy>John Grasso</cp:lastModifiedBy>
  <cp:lastPrinted>2000-04-27T13:05:27Z</cp:lastPrinted>
  <dcterms:modified xsi:type="dcterms:W3CDTF">2000-09-28T11:35:04Z</dcterms:modified>
  <cp:revision>16</cp:revision>
  <dc:subject/>
  <dc:title>No Slide Title</dc:title>
</cp:coreProperties>
</file>