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EA4-B7C4-4F54-90C4-EEFD66CA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792-A980-4068-B06B-F4629B00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396-6EA0-42EC-BD2F-0F26769B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E5D-78E0-431A-B5C9-35957FF5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85F-9771-48E1-B943-1BE15CDF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E9A-580F-4493-8875-8CBA2681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910-D002-4708-9050-6E7ADDB9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1B8-2610-483E-9D04-0BE9F0E8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FA5-DDB3-4EAA-9A26-F10EB1ED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212-5D05-4B32-A443-6ADF460D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68FA-28C8-47EC-A2D1-765AE1C0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AEA-CF3A-4AE3-94E1-317A45FC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39707E5-9AB3-4091-9AAF-9FA9D15B1C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eCommerce at Carnegie Mellon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 T. Grasso, Ph.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 Why Isn’t Electronic Commer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“Commerce”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ichael I. Shamos, J.D., Ph.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Director, Institute for e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mmerce Differentia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terme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connection between buyer and 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ranny of sale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 pricing (everything at a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istic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r between supplier and manufa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ed by supply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4FF-6FB6-44B8-8C4E-284A58D1CC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intermedi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intermed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 on access to information not available to the public.  Example: travel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ot surv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ise intermed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value through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auction house (authentication, valuation, resto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th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527-5EA2-49D3-AA14-8C9935D115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rst Mover Wi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mover is sacri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expended on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mover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azon.com, Dell, Schw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takes inexpensive to 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A6F3-69B7-447B-AA1B-B66C716766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eCommerce is different from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rnegie Mellon is doing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F70-DCB6-4FE1-9941-3FB5CA1993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ology and Commer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00 B.C.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ransportation of goods by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rs remote from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40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ommunications (telegrap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buyers and se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60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Newspaper advertising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o, T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bu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Universal credit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-of-purchase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95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L OF THE ABOVE +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3CB-53B3-4A1C-B523-0B55138263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oving Commerce Technology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40 -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ation of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f 10 (land: 5 mp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0 m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f 100 (air: 5 mp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00 m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peed improvement (speed of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vasive telephone,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 (delay starting mess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ogs: small improvement, speed of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advertising: no improvement: 1-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rnet: instanta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783-3292-4BD1-B4FB-45536F4FFD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oving Commerce Technology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40 -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tor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f 5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0: 1 filing cabinet: 50,000 pages =  10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: 1 filing cabinet of DVD = 50,000,00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f 3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speech:                      30 bits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gabit Internet:  1,000,000,000 bits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talk: 0.001 sec. Including 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U.S. phone traffic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9BB-ACA0-4AA0-9D6D-9E3F8352B8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lectronic Marketpl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14560" y="1451880"/>
            <a:ext cx="1033920" cy="7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204720"/>
            <a:ext cx="142740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14920" y="4271400"/>
            <a:ext cx="105372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82680" y="3738240"/>
            <a:ext cx="65916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14560" y="4804920"/>
            <a:ext cx="107496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2560" y="5307840"/>
            <a:ext cx="1203120" cy="51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-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7880" y="2442240"/>
            <a:ext cx="1203120" cy="51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G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220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65040" y="1814400"/>
            <a:ext cx="145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SEARCH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4920" y="2666880"/>
            <a:ext cx="135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SHOPPING B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8960" y="3124080"/>
            <a:ext cx="129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AGGR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360" y="2209680"/>
            <a:ext cx="1607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ON-LINE 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91960" y="3719520"/>
            <a:ext cx="183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AUTOMATED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5960" y="4724280"/>
            <a:ext cx="175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SHIPMENT TR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5181480"/>
            <a:ext cx="126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ON-LINE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000" y="5715000"/>
            <a:ext cx="1922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INTERNET TELEPH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5480" y="2438280"/>
            <a:ext cx="224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Arial"/>
              </a:rPr>
              <a:t>CUSTOMER P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2880" y="2971800"/>
            <a:ext cx="218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Arial"/>
              </a:rPr>
              <a:t>BARGAINING STRATE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70760" y="3505320"/>
            <a:ext cx="177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Arial"/>
              </a:rPr>
              <a:t>PRICE SENSI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680" y="4038480"/>
            <a:ext cx="265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Arial"/>
              </a:rPr>
              <a:t>CREDIT/PAYMENT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57480" y="5167440"/>
            <a:ext cx="239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Arial"/>
              </a:rPr>
              <a:t>ON-LINE PROBLEM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85920" y="5700600"/>
            <a:ext cx="296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Arial"/>
              </a:rPr>
              <a:t>FOLLOW-ON SALES OPPORT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1040" y="1142640"/>
            <a:ext cx="221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TECHNOLOGIES US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0240" y="1142640"/>
            <a:ext cx="254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Arial"/>
              </a:rPr>
              <a:t>INFORMATION GATHER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200" y="1828800"/>
            <a:ext cx="1887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Arial"/>
              </a:rPr>
              <a:t>BROWSING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37200" y="4572000"/>
            <a:ext cx="221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Arial"/>
              </a:rPr>
              <a:t>DELIVERY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0560" y="4191120"/>
            <a:ext cx="185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E-PAYMEN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743200" y="1676160"/>
            <a:ext cx="99072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743200" y="2057040"/>
            <a:ext cx="99072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819520"/>
            <a:ext cx="76212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3276720"/>
            <a:ext cx="91440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48120" y="3505320"/>
            <a:ext cx="457200" cy="30456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4343400"/>
            <a:ext cx="83844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4876920"/>
            <a:ext cx="8380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5334120"/>
            <a:ext cx="99036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895480" y="5714640"/>
            <a:ext cx="68580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438280"/>
            <a:ext cx="83808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1752480"/>
            <a:ext cx="990720" cy="228600"/>
          </a:xfrm>
          <a:prstGeom prst="line">
            <a:avLst/>
          </a:prstGeom>
          <a:ln w="1260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5638680"/>
            <a:ext cx="762120" cy="152640"/>
          </a:xfrm>
          <a:prstGeom prst="line">
            <a:avLst/>
          </a:prstGeom>
          <a:ln w="1260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29200" y="5333760"/>
            <a:ext cx="762120" cy="152280"/>
          </a:xfrm>
          <a:prstGeom prst="line">
            <a:avLst/>
          </a:prstGeom>
          <a:ln w="1260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029200" y="4723920"/>
            <a:ext cx="990720" cy="228600"/>
          </a:xfrm>
          <a:prstGeom prst="line">
            <a:avLst/>
          </a:prstGeom>
          <a:ln w="1260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029200" y="4190760"/>
            <a:ext cx="762120" cy="152280"/>
          </a:xfrm>
          <a:prstGeom prst="line">
            <a:avLst/>
          </a:prstGeom>
          <a:ln w="1260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429000"/>
            <a:ext cx="1066680" cy="228600"/>
          </a:xfrm>
          <a:prstGeom prst="line">
            <a:avLst/>
          </a:prstGeom>
          <a:ln w="1260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105520" y="3124080"/>
            <a:ext cx="838080" cy="152640"/>
          </a:xfrm>
          <a:prstGeom prst="line">
            <a:avLst/>
          </a:prstGeom>
          <a:ln w="1260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105520" y="2590560"/>
            <a:ext cx="761760" cy="152280"/>
          </a:xfrm>
          <a:prstGeom prst="line">
            <a:avLst/>
          </a:prstGeom>
          <a:ln w="1260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5E5-ED55-497D-B372-E481D0A53B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ail Purchase v.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, shopp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s in 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n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ogs received, products in cat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6600" y="3429360"/>
            <a:ext cx="223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PUSH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13520" y="1829160"/>
            <a:ext cx="219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PULL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800600" y="1981080"/>
            <a:ext cx="1295280" cy="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29000" y="2133720"/>
            <a:ext cx="2666880" cy="83808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724280" y="3581280"/>
            <a:ext cx="1371600" cy="30492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1120" y="4878360"/>
            <a:ext cx="1829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COMB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PUSH AND P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809880" y="4952520"/>
            <a:ext cx="2286000" cy="30492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1F6-7238-44CC-B159-A91F3ACAC1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lectronic Supply Ch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9960" y="5853240"/>
            <a:ext cx="288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A. BIFFI, PF. CAMMUS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9400" y="1600200"/>
            <a:ext cx="8789760" cy="4088880"/>
            <a:chOff x="149400" y="1600200"/>
            <a:chExt cx="8789760" cy="4088880"/>
          </a:xfrm>
        </p:grpSpPr>
        <p:grpSp>
          <p:nvGrpSpPr>
            <p:cNvPr id="116" name=""/>
            <p:cNvGrpSpPr/>
            <p:nvPr/>
          </p:nvGrpSpPr>
          <p:grpSpPr>
            <a:xfrm>
              <a:off x="533520" y="1905120"/>
              <a:ext cx="8405640" cy="2493720"/>
              <a:chOff x="533520" y="1905120"/>
              <a:chExt cx="8405640" cy="2493720"/>
            </a:xfrm>
          </p:grpSpPr>
          <p:sp>
            <p:nvSpPr>
              <p:cNvPr id="117" name=""/>
              <p:cNvSpPr/>
              <p:nvPr/>
            </p:nvSpPr>
            <p:spPr>
              <a:xfrm>
                <a:off x="593640" y="2301840"/>
                <a:ext cx="7678800" cy="990000"/>
              </a:xfrm>
              <a:custGeom>
                <a:avLst/>
                <a:gdLst/>
                <a:ahLst/>
                <a:rect l="l" t="t" r="r" b="b"/>
                <a:pathLst>
                  <a:path w="4905" h="632">
                    <a:moveTo>
                      <a:pt x="8" y="543"/>
                    </a:moveTo>
                    <a:lnTo>
                      <a:pt x="567" y="452"/>
                    </a:lnTo>
                    <a:lnTo>
                      <a:pt x="1066" y="426"/>
                    </a:lnTo>
                    <a:lnTo>
                      <a:pt x="1530" y="387"/>
                    </a:lnTo>
                    <a:lnTo>
                      <a:pt x="1899" y="335"/>
                    </a:lnTo>
                    <a:lnTo>
                      <a:pt x="2193" y="266"/>
                    </a:lnTo>
                    <a:lnTo>
                      <a:pt x="2342" y="201"/>
                    </a:lnTo>
                    <a:lnTo>
                      <a:pt x="2390" y="148"/>
                    </a:lnTo>
                    <a:lnTo>
                      <a:pt x="2404" y="70"/>
                    </a:lnTo>
                    <a:lnTo>
                      <a:pt x="2342" y="70"/>
                    </a:lnTo>
                    <a:lnTo>
                      <a:pt x="2453" y="0"/>
                    </a:lnTo>
                    <a:lnTo>
                      <a:pt x="2562" y="69"/>
                    </a:lnTo>
                    <a:lnTo>
                      <a:pt x="2494" y="69"/>
                    </a:lnTo>
                    <a:lnTo>
                      <a:pt x="2513" y="148"/>
                    </a:lnTo>
                    <a:lnTo>
                      <a:pt x="2602" y="218"/>
                    </a:lnTo>
                    <a:lnTo>
                      <a:pt x="2814" y="296"/>
                    </a:lnTo>
                    <a:lnTo>
                      <a:pt x="2985" y="331"/>
                    </a:lnTo>
                    <a:lnTo>
                      <a:pt x="3285" y="379"/>
                    </a:lnTo>
                    <a:lnTo>
                      <a:pt x="3600" y="409"/>
                    </a:lnTo>
                    <a:lnTo>
                      <a:pt x="4084" y="444"/>
                    </a:lnTo>
                    <a:lnTo>
                      <a:pt x="4570" y="461"/>
                    </a:lnTo>
                    <a:lnTo>
                      <a:pt x="4904" y="527"/>
                    </a:lnTo>
                    <a:lnTo>
                      <a:pt x="4884" y="631"/>
                    </a:lnTo>
                    <a:lnTo>
                      <a:pt x="0" y="631"/>
                    </a:lnTo>
                    <a:lnTo>
                      <a:pt x="8" y="543"/>
                    </a:lnTo>
                  </a:path>
                </a:pathLst>
              </a:custGeom>
              <a:gradFill rotWithShape="0">
                <a:gsLst>
                  <a:gs pos="0">
                    <a:srgbClr val="4b4b4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15880" y="3528720"/>
                <a:ext cx="13813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560" bIns="345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507960"/>
                    <a:tab algn="l" pos="1015920"/>
                    <a:tab algn="l" pos="1523880"/>
                    <a:tab algn="l" pos="2031840"/>
                    <a:tab algn="l" pos="2540160"/>
                    <a:tab algn="l" pos="3048120"/>
                    <a:tab algn="l" pos="3556080"/>
                    <a:tab algn="l" pos="4064040"/>
                    <a:tab algn="l" pos="4572000"/>
                    <a:tab algn="l" pos="5079960"/>
                    <a:tab algn="l" pos="5587920"/>
                    <a:tab algn="l" pos="6095880"/>
                    <a:tab algn="l" pos="6603840"/>
                    <a:tab algn="l" pos="7112160"/>
                    <a:tab algn="l" pos="7620120"/>
                    <a:tab algn="l" pos="8128080"/>
                    <a:tab algn="l" pos="8636040"/>
                    <a:tab algn="l" pos="9144000"/>
                    <a:tab algn="l" pos="9651960"/>
                    <a:tab algn="l" pos="1015992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Suppl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3740040" y="1905120"/>
                <a:ext cx="1382760" cy="356760"/>
                <a:chOff x="3740040" y="1905120"/>
                <a:chExt cx="1382760" cy="3567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740040" y="1939320"/>
                  <a:ext cx="138276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560" bIns="3456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507960"/>
                      <a:tab algn="l" pos="1015920"/>
                      <a:tab algn="l" pos="1523880"/>
                      <a:tab algn="l" pos="2031840"/>
                      <a:tab algn="l" pos="2540160"/>
                      <a:tab algn="l" pos="3048120"/>
                      <a:tab algn="l" pos="3556080"/>
                      <a:tab algn="l" pos="4064040"/>
                      <a:tab algn="l" pos="4572000"/>
                      <a:tab algn="l" pos="5079960"/>
                      <a:tab algn="l" pos="5587920"/>
                      <a:tab algn="l" pos="6095880"/>
                      <a:tab algn="l" pos="6603840"/>
                      <a:tab algn="l" pos="7112160"/>
                      <a:tab algn="l" pos="7620120"/>
                      <a:tab algn="l" pos="8128080"/>
                      <a:tab algn="l" pos="8636040"/>
                      <a:tab algn="l" pos="9144000"/>
                      <a:tab algn="l" pos="9651960"/>
                      <a:tab algn="l" pos="1015992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805560" y="1905120"/>
                  <a:ext cx="1251360" cy="3567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 flipV="1">
                <a:off x="7858080" y="2344680"/>
                <a:ext cx="0" cy="172512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935080" y="2293200"/>
                <a:ext cx="0" cy="172548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188040" y="2344680"/>
                <a:ext cx="0" cy="172512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203120" y="2275920"/>
                <a:ext cx="0" cy="172692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97560" y="3528720"/>
                <a:ext cx="13813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560" bIns="345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507960"/>
                    <a:tab algn="l" pos="1015920"/>
                    <a:tab algn="l" pos="1523880"/>
                    <a:tab algn="l" pos="2031840"/>
                    <a:tab algn="l" pos="2540160"/>
                    <a:tab algn="l" pos="3048120"/>
                    <a:tab algn="l" pos="3556080"/>
                    <a:tab algn="l" pos="4064040"/>
                    <a:tab algn="l" pos="4572000"/>
                    <a:tab algn="l" pos="5079960"/>
                    <a:tab algn="l" pos="5587920"/>
                    <a:tab algn="l" pos="6095880"/>
                    <a:tab algn="l" pos="6603840"/>
                    <a:tab algn="l" pos="7112160"/>
                    <a:tab algn="l" pos="7620120"/>
                    <a:tab algn="l" pos="8128080"/>
                    <a:tab algn="l" pos="8636040"/>
                    <a:tab algn="l" pos="9144000"/>
                    <a:tab algn="l" pos="9651960"/>
                    <a:tab algn="l" pos="1015992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810560" y="3528720"/>
                <a:ext cx="112860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560" bIns="345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07960"/>
                    <a:tab algn="l" pos="1015920"/>
                    <a:tab algn="l" pos="1523880"/>
                    <a:tab algn="l" pos="2031840"/>
                    <a:tab algn="l" pos="2540160"/>
                    <a:tab algn="l" pos="3048120"/>
                    <a:tab algn="l" pos="3556080"/>
                    <a:tab algn="l" pos="4064040"/>
                    <a:tab algn="l" pos="4572000"/>
                    <a:tab algn="l" pos="5079960"/>
                    <a:tab algn="l" pos="5587920"/>
                    <a:tab algn="l" pos="6095880"/>
                    <a:tab algn="l" pos="6603840"/>
                    <a:tab algn="l" pos="7112160"/>
                    <a:tab algn="l" pos="7620120"/>
                    <a:tab algn="l" pos="8128080"/>
                    <a:tab algn="l" pos="8636040"/>
                    <a:tab algn="l" pos="9144000"/>
                    <a:tab algn="l" pos="9651960"/>
                    <a:tab algn="l" pos="1015992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Customer’s</a:t>
                </a:r>
                <a:br>
                  <a:rPr sz="1400"/>
                </a:b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92280" y="3309840"/>
                <a:ext cx="31680" cy="31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2504880" y="3286080"/>
                <a:ext cx="42840" cy="36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66960" y="3193920"/>
                <a:ext cx="493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520" rIns="20520" tIns="10800" bIns="10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46080"/>
                    <a:tab algn="l" pos="92160"/>
                    <a:tab algn="l" pos="138240"/>
                    <a:tab algn="l" pos="184320"/>
                    <a:tab algn="l" pos="230040"/>
                    <a:tab algn="l" pos="276120"/>
                    <a:tab algn="l" pos="322200"/>
                    <a:tab algn="l" pos="368280"/>
                    <a:tab algn="l" pos="414360"/>
                    <a:tab algn="l" pos="460440"/>
                    <a:tab algn="l" pos="506520"/>
                    <a:tab algn="l" pos="552600"/>
                    <a:tab algn="l" pos="598320"/>
                    <a:tab algn="l" pos="644400"/>
                    <a:tab algn="l" pos="690480"/>
                    <a:tab algn="l" pos="736560"/>
                    <a:tab algn="l" pos="782640"/>
                    <a:tab algn="l" pos="828720"/>
                    <a:tab algn="l" pos="874800"/>
                    <a:tab algn="l" pos="920880"/>
                  </a:tabLst>
                </a:pPr>
                <a:r>
                  <a:rPr b="1" lang="it-IT" sz="900" spc="-1" strike="noStrike">
                    <a:solidFill>
                      <a:srgbClr val="000000"/>
                    </a:solidFill>
                    <a:latin typeface="Arial"/>
                  </a:rPr>
                  <a:t>Mak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5011560" y="2997000"/>
                <a:ext cx="1246320" cy="506160"/>
                <a:chOff x="5011560" y="2997000"/>
                <a:chExt cx="1246320" cy="5061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11560" y="2997000"/>
                  <a:ext cx="1246320" cy="5061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4200" rIns="34200" tIns="16920" bIns="169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219280" y="3136320"/>
                  <a:ext cx="826920" cy="24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4560" rIns="34560" tIns="17280" bIns="1728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127080"/>
                      <a:tab algn="l" pos="254160"/>
                      <a:tab algn="l" pos="380880"/>
                      <a:tab algn="l" pos="507960"/>
                      <a:tab algn="l" pos="635040"/>
                      <a:tab algn="l" pos="762120"/>
                      <a:tab algn="l" pos="888840"/>
                      <a:tab algn="l" pos="1015920"/>
                      <a:tab algn="l" pos="1143000"/>
                      <a:tab algn="l" pos="1270080"/>
                      <a:tab algn="l" pos="1397160"/>
                      <a:tab algn="l" pos="1523880"/>
                      <a:tab algn="l" pos="1650960"/>
                      <a:tab algn="l" pos="1778040"/>
                      <a:tab algn="l" pos="1905120"/>
                      <a:tab algn="l" pos="2031840"/>
                      <a:tab algn="l" pos="2158920"/>
                      <a:tab algn="l" pos="2286000"/>
                      <a:tab algn="l" pos="2413080"/>
                      <a:tab algn="l" pos="254016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Deliv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7772400" y="3103200"/>
                <a:ext cx="739800" cy="293400"/>
              </a:xfrm>
              <a:prstGeom prst="ellipse">
                <a:avLst/>
              </a:prstGeom>
              <a:noFill/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2830320" y="2997000"/>
                <a:ext cx="1249560" cy="506160"/>
                <a:chOff x="2830320" y="2997000"/>
                <a:chExt cx="1249560" cy="506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830320" y="2997000"/>
                  <a:ext cx="1249560" cy="5061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4200" rIns="34200" tIns="16920" bIns="169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4520" y="3136320"/>
                  <a:ext cx="821880" cy="24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4560" rIns="34560" tIns="17280" bIns="1728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127080"/>
                      <a:tab algn="l" pos="254160"/>
                      <a:tab algn="l" pos="380880"/>
                      <a:tab algn="l" pos="507960"/>
                      <a:tab algn="l" pos="635040"/>
                      <a:tab algn="l" pos="762120"/>
                      <a:tab algn="l" pos="888840"/>
                      <a:tab algn="l" pos="1015920"/>
                      <a:tab algn="l" pos="1143000"/>
                      <a:tab algn="l" pos="1270080"/>
                      <a:tab algn="l" pos="1397160"/>
                      <a:tab algn="l" pos="1523880"/>
                      <a:tab algn="l" pos="1650960"/>
                      <a:tab algn="l" pos="1778040"/>
                      <a:tab algn="l" pos="1905120"/>
                      <a:tab algn="l" pos="2031840"/>
                      <a:tab algn="l" pos="2158920"/>
                      <a:tab algn="l" pos="2286000"/>
                      <a:tab algn="l" pos="2413080"/>
                      <a:tab algn="l" pos="254016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3929040" y="2997000"/>
                <a:ext cx="1252440" cy="506160"/>
                <a:chOff x="3929040" y="2997000"/>
                <a:chExt cx="1252440" cy="506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929040" y="2997000"/>
                  <a:ext cx="1252440" cy="5061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4200" rIns="34200" tIns="16920" bIns="169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141440" y="3136320"/>
                  <a:ext cx="825120" cy="24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4560" rIns="34560" tIns="17280" bIns="1728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127080"/>
                      <a:tab algn="l" pos="254160"/>
                      <a:tab algn="l" pos="380880"/>
                      <a:tab algn="l" pos="507960"/>
                      <a:tab algn="l" pos="635040"/>
                      <a:tab algn="l" pos="762120"/>
                      <a:tab algn="l" pos="888840"/>
                      <a:tab algn="l" pos="1015920"/>
                      <a:tab algn="l" pos="1143000"/>
                      <a:tab algn="l" pos="1270080"/>
                      <a:tab algn="l" pos="1397160"/>
                      <a:tab algn="l" pos="1523880"/>
                      <a:tab algn="l" pos="1650960"/>
                      <a:tab algn="l" pos="1778040"/>
                      <a:tab algn="l" pos="1905120"/>
                      <a:tab algn="l" pos="2031840"/>
                      <a:tab algn="l" pos="2158920"/>
                      <a:tab algn="l" pos="2286000"/>
                      <a:tab algn="l" pos="2413080"/>
                      <a:tab algn="l" pos="254016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Mak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1727280" y="3103200"/>
                <a:ext cx="736560" cy="293400"/>
              </a:xfrm>
              <a:prstGeom prst="ellipse">
                <a:avLst/>
              </a:prstGeom>
              <a:noFill/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31040" y="3180960"/>
                <a:ext cx="4921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520" rIns="20520" tIns="10800" bIns="10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46080"/>
                    <a:tab algn="l" pos="92160"/>
                    <a:tab algn="l" pos="138240"/>
                    <a:tab algn="l" pos="184320"/>
                    <a:tab algn="l" pos="230040"/>
                    <a:tab algn="l" pos="276120"/>
                    <a:tab algn="l" pos="322200"/>
                    <a:tab algn="l" pos="368280"/>
                    <a:tab algn="l" pos="414360"/>
                    <a:tab algn="l" pos="460440"/>
                    <a:tab algn="l" pos="506520"/>
                    <a:tab algn="l" pos="552600"/>
                    <a:tab algn="l" pos="598320"/>
                    <a:tab algn="l" pos="644400"/>
                    <a:tab algn="l" pos="690480"/>
                    <a:tab algn="l" pos="736560"/>
                    <a:tab algn="l" pos="782640"/>
                    <a:tab algn="l" pos="828720"/>
                    <a:tab algn="l" pos="874800"/>
                    <a:tab algn="l" pos="920880"/>
                  </a:tabLst>
                </a:pPr>
                <a:r>
                  <a:rPr b="1" lang="it-IT" sz="900" spc="-1" strike="noStrike">
                    <a:solidFill>
                      <a:srgbClr val="000000"/>
                    </a:solidFill>
                    <a:latin typeface="Arial"/>
                  </a:rPr>
                  <a:t>Deliv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94600" y="3103200"/>
                <a:ext cx="739800" cy="293400"/>
              </a:xfrm>
              <a:prstGeom prst="ellipse">
                <a:avLst/>
              </a:prstGeom>
              <a:noFill/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30840" y="3103200"/>
                <a:ext cx="739800" cy="293400"/>
              </a:xfrm>
              <a:prstGeom prst="ellipse">
                <a:avLst/>
              </a:prstGeom>
              <a:noFill/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81680" y="3180960"/>
                <a:ext cx="493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520" rIns="20520" tIns="10800" bIns="10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46080"/>
                    <a:tab algn="l" pos="92160"/>
                    <a:tab algn="l" pos="138240"/>
                    <a:tab algn="l" pos="184320"/>
                    <a:tab algn="l" pos="230040"/>
                    <a:tab algn="l" pos="276120"/>
                    <a:tab algn="l" pos="322200"/>
                    <a:tab algn="l" pos="368280"/>
                    <a:tab algn="l" pos="414360"/>
                    <a:tab algn="l" pos="460440"/>
                    <a:tab algn="l" pos="506520"/>
                    <a:tab algn="l" pos="552600"/>
                    <a:tab algn="l" pos="598320"/>
                    <a:tab algn="l" pos="644400"/>
                    <a:tab algn="l" pos="690480"/>
                    <a:tab algn="l" pos="736560"/>
                    <a:tab algn="l" pos="782640"/>
                    <a:tab algn="l" pos="828720"/>
                    <a:tab algn="l" pos="874800"/>
                    <a:tab algn="l" pos="920880"/>
                  </a:tabLst>
                </a:pPr>
                <a:r>
                  <a:rPr b="1" lang="it-IT" sz="900" spc="-1" strike="noStrike">
                    <a:solidFill>
                      <a:srgbClr val="000000"/>
                    </a:solidFill>
                    <a:latin typeface="Arial"/>
                  </a:rPr>
                  <a:t>Mak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08560" y="3180960"/>
                <a:ext cx="493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520" rIns="20520" tIns="10800" bIns="10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46080"/>
                    <a:tab algn="l" pos="92160"/>
                    <a:tab algn="l" pos="138240"/>
                    <a:tab algn="l" pos="184320"/>
                    <a:tab algn="l" pos="230040"/>
                    <a:tab algn="l" pos="276120"/>
                    <a:tab algn="l" pos="322200"/>
                    <a:tab algn="l" pos="368280"/>
                    <a:tab algn="l" pos="414360"/>
                    <a:tab algn="l" pos="460440"/>
                    <a:tab algn="l" pos="506520"/>
                    <a:tab algn="l" pos="552600"/>
                    <a:tab algn="l" pos="598320"/>
                    <a:tab algn="l" pos="644400"/>
                    <a:tab algn="l" pos="690480"/>
                    <a:tab algn="l" pos="736560"/>
                    <a:tab algn="l" pos="782640"/>
                    <a:tab algn="l" pos="828720"/>
                    <a:tab algn="l" pos="874800"/>
                    <a:tab algn="l" pos="920880"/>
                  </a:tabLst>
                </a:pPr>
                <a:r>
                  <a:rPr b="1" lang="it-IT" sz="9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116760" y="3103200"/>
                <a:ext cx="736560" cy="293400"/>
              </a:xfrm>
              <a:prstGeom prst="ellipse">
                <a:avLst/>
              </a:prstGeom>
              <a:noFill/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3520" y="3103200"/>
                <a:ext cx="739440" cy="293400"/>
              </a:xfrm>
              <a:prstGeom prst="ellipse">
                <a:avLst/>
              </a:prstGeom>
              <a:noFill/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66720" y="3193920"/>
                <a:ext cx="493560" cy="17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520" rIns="20520" tIns="10800" bIns="10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6080"/>
                    <a:tab algn="l" pos="92160"/>
                    <a:tab algn="l" pos="138240"/>
                    <a:tab algn="l" pos="184320"/>
                    <a:tab algn="l" pos="230040"/>
                    <a:tab algn="l" pos="276120"/>
                    <a:tab algn="l" pos="322200"/>
                    <a:tab algn="l" pos="368280"/>
                    <a:tab algn="l" pos="414360"/>
                    <a:tab algn="l" pos="460440"/>
                    <a:tab algn="l" pos="506520"/>
                    <a:tab algn="l" pos="552600"/>
                    <a:tab algn="l" pos="598320"/>
                    <a:tab algn="l" pos="644400"/>
                    <a:tab algn="l" pos="690480"/>
                    <a:tab algn="l" pos="736560"/>
                    <a:tab algn="l" pos="782640"/>
                    <a:tab algn="l" pos="828720"/>
                    <a:tab algn="l" pos="874800"/>
                    <a:tab algn="l" pos="92088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Arial"/>
                  </a:rPr>
                  <a:t>Deli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10640" y="3180960"/>
                <a:ext cx="493560" cy="17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520" rIns="20520" tIns="10800" bIns="10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6080"/>
                    <a:tab algn="l" pos="92160"/>
                    <a:tab algn="l" pos="138240"/>
                    <a:tab algn="l" pos="184320"/>
                    <a:tab algn="l" pos="230040"/>
                    <a:tab algn="l" pos="276120"/>
                    <a:tab algn="l" pos="322200"/>
                    <a:tab algn="l" pos="368280"/>
                    <a:tab algn="l" pos="414360"/>
                    <a:tab algn="l" pos="460440"/>
                    <a:tab algn="l" pos="506520"/>
                    <a:tab algn="l" pos="552600"/>
                    <a:tab algn="l" pos="598320"/>
                    <a:tab algn="l" pos="644400"/>
                    <a:tab algn="l" pos="690480"/>
                    <a:tab algn="l" pos="736560"/>
                    <a:tab algn="l" pos="782640"/>
                    <a:tab algn="l" pos="828720"/>
                    <a:tab algn="l" pos="874800"/>
                    <a:tab algn="l" pos="92088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2292480" y="3103200"/>
                <a:ext cx="736560" cy="293400"/>
                <a:chOff x="2292480" y="3103200"/>
                <a:chExt cx="736560" cy="293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292480" y="3103200"/>
                  <a:ext cx="736560" cy="293400"/>
                </a:xfrm>
                <a:prstGeom prst="ellipse">
                  <a:avLst/>
                </a:prstGeom>
                <a:noFill/>
                <a:ln w="2556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160" rIns="20160" tIns="10800" bIns="10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415600" y="3181320"/>
                  <a:ext cx="49284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520" rIns="20520" tIns="10800" bIns="10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46080"/>
                      <a:tab algn="l" pos="92160"/>
                      <a:tab algn="l" pos="138240"/>
                      <a:tab algn="l" pos="184320"/>
                      <a:tab algn="l" pos="230040"/>
                      <a:tab algn="l" pos="276120"/>
                      <a:tab algn="l" pos="322200"/>
                      <a:tab algn="l" pos="368280"/>
                      <a:tab algn="l" pos="414360"/>
                      <a:tab algn="l" pos="460440"/>
                      <a:tab algn="l" pos="506520"/>
                      <a:tab algn="l" pos="552600"/>
                      <a:tab algn="l" pos="598320"/>
                      <a:tab algn="l" pos="644400"/>
                      <a:tab algn="l" pos="690480"/>
                      <a:tab algn="l" pos="736560"/>
                      <a:tab algn="l" pos="782640"/>
                      <a:tab algn="l" pos="828720"/>
                      <a:tab algn="l" pos="874800"/>
                      <a:tab algn="l" pos="920880"/>
                    </a:tabLst>
                  </a:pPr>
                  <a:r>
                    <a:rPr b="1" lang="it-IT" sz="900" spc="-1" strike="noStrike">
                      <a:solidFill>
                        <a:srgbClr val="000000"/>
                      </a:solidFill>
                      <a:latin typeface="Arial"/>
                    </a:rPr>
                    <a:t>Delive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398600" y="3884400"/>
                <a:ext cx="147960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280" rIns="89280" tIns="43920" bIns="4392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(internal or external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75240" y="3884400"/>
                <a:ext cx="147816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280" rIns="89280" tIns="43920" bIns="4392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(internal or external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27320" y="3676320"/>
                <a:ext cx="29066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560" bIns="345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507960"/>
                    <a:tab algn="l" pos="1015920"/>
                    <a:tab algn="l" pos="1523880"/>
                    <a:tab algn="l" pos="2031840"/>
                    <a:tab algn="l" pos="2540160"/>
                    <a:tab algn="l" pos="3048120"/>
                    <a:tab algn="l" pos="3556080"/>
                    <a:tab algn="l" pos="4064040"/>
                    <a:tab algn="l" pos="4572000"/>
                    <a:tab algn="l" pos="5079960"/>
                    <a:tab algn="l" pos="5587920"/>
                    <a:tab algn="l" pos="6095880"/>
                    <a:tab algn="l" pos="6603840"/>
                    <a:tab algn="l" pos="7112160"/>
                    <a:tab algn="l" pos="7620120"/>
                    <a:tab algn="l" pos="8128080"/>
                    <a:tab algn="l" pos="8636040"/>
                    <a:tab algn="l" pos="9144000"/>
                    <a:tab algn="l" pos="9651960"/>
                    <a:tab algn="l" pos="1015992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Your Compan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23920" y="3103200"/>
                <a:ext cx="738000" cy="293400"/>
              </a:xfrm>
              <a:prstGeom prst="ellipse">
                <a:avLst/>
              </a:prstGeom>
              <a:noFill/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444040" y="4648320"/>
              <a:ext cx="4275720" cy="1040760"/>
              <a:chOff x="2444040" y="4648320"/>
              <a:chExt cx="4275720" cy="1040760"/>
            </a:xfrm>
          </p:grpSpPr>
          <p:sp>
            <p:nvSpPr>
              <p:cNvPr id="159" name=""/>
              <p:cNvSpPr/>
              <p:nvPr/>
            </p:nvSpPr>
            <p:spPr>
              <a:xfrm>
                <a:off x="2444040" y="4648320"/>
                <a:ext cx="427572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3920" bIns="439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Supply Chain Operations Reference Mod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63640" y="4984560"/>
                <a:ext cx="1976400" cy="456840"/>
              </a:xfrm>
              <a:prstGeom prst="rightArrow">
                <a:avLst>
                  <a:gd name="adj1" fmla="val 75000"/>
                  <a:gd name="adj2" fmla="val 127744"/>
                </a:avLst>
              </a:prstGeom>
              <a:gradFill rotWithShape="0">
                <a:gsLst>
                  <a:gs pos="0">
                    <a:srgbClr val="919191"/>
                  </a:gs>
                  <a:gs pos="50000">
                    <a:srgbClr val="fefefe"/>
                  </a:gs>
                  <a:gs pos="100000">
                    <a:srgbClr val="919191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200" rIns="25200" tIns="11880" bIns="11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733560" y="5105160"/>
                <a:ext cx="115416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11880" bIns="118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1280"/>
                    <a:tab algn="l" pos="142920"/>
                    <a:tab algn="l" pos="214200"/>
                    <a:tab algn="l" pos="285840"/>
                    <a:tab algn="l" pos="357120"/>
                    <a:tab algn="l" pos="428760"/>
                    <a:tab algn="l" pos="500040"/>
                    <a:tab algn="l" pos="571680"/>
                    <a:tab algn="l" pos="642960"/>
                    <a:tab algn="l" pos="714240"/>
                    <a:tab algn="l" pos="785880"/>
                    <a:tab algn="l" pos="857160"/>
                    <a:tab algn="l" pos="928800"/>
                    <a:tab algn="l" pos="1000080"/>
                    <a:tab algn="l" pos="1071720"/>
                    <a:tab algn="l" pos="1143000"/>
                    <a:tab algn="l" pos="1214280"/>
                    <a:tab algn="l" pos="1285920"/>
                    <a:tab algn="l" pos="1357200"/>
                    <a:tab algn="l" pos="142884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P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844880" y="5316120"/>
                <a:ext cx="1052280" cy="372960"/>
              </a:xfrm>
              <a:custGeom>
                <a:avLst/>
                <a:gdLst/>
                <a:ahLst/>
                <a:rect l="l" t="t" r="r" b="b"/>
                <a:pathLst>
                  <a:path w="377" h="181">
                    <a:moveTo>
                      <a:pt x="188" y="0"/>
                    </a:moveTo>
                    <a:lnTo>
                      <a:pt x="188" y="23"/>
                    </a:lnTo>
                    <a:lnTo>
                      <a:pt x="0" y="23"/>
                    </a:lnTo>
                    <a:lnTo>
                      <a:pt x="0" y="158"/>
                    </a:lnTo>
                    <a:lnTo>
                      <a:pt x="188" y="158"/>
                    </a:lnTo>
                    <a:lnTo>
                      <a:pt x="188" y="180"/>
                    </a:lnTo>
                    <a:lnTo>
                      <a:pt x="376" y="90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200" rIns="25200" tIns="11880" bIns="11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70240" y="5319360"/>
                <a:ext cx="761760" cy="365040"/>
              </a:xfrm>
              <a:custGeom>
                <a:avLst/>
                <a:gdLst/>
                <a:ahLst/>
                <a:rect l="l" t="t" r="r" b="b"/>
                <a:pathLst>
                  <a:path w="387" h="177">
                    <a:moveTo>
                      <a:pt x="193" y="0"/>
                    </a:moveTo>
                    <a:lnTo>
                      <a:pt x="193" y="22"/>
                    </a:lnTo>
                    <a:lnTo>
                      <a:pt x="0" y="22"/>
                    </a:lnTo>
                    <a:lnTo>
                      <a:pt x="0" y="154"/>
                    </a:lnTo>
                    <a:lnTo>
                      <a:pt x="193" y="154"/>
                    </a:lnTo>
                    <a:lnTo>
                      <a:pt x="193" y="176"/>
                    </a:lnTo>
                    <a:lnTo>
                      <a:pt x="386" y="88"/>
                    </a:lnTo>
                    <a:lnTo>
                      <a:pt x="193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200" rIns="25200" tIns="11880" bIns="11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06600" y="5316120"/>
                <a:ext cx="977760" cy="363240"/>
              </a:xfrm>
              <a:custGeom>
                <a:avLst/>
                <a:gdLst/>
                <a:ahLst/>
                <a:rect l="l" t="t" r="r" b="b"/>
                <a:pathLst>
                  <a:path w="411" h="177">
                    <a:moveTo>
                      <a:pt x="205" y="0"/>
                    </a:moveTo>
                    <a:lnTo>
                      <a:pt x="205" y="22"/>
                    </a:lnTo>
                    <a:lnTo>
                      <a:pt x="0" y="22"/>
                    </a:lnTo>
                    <a:lnTo>
                      <a:pt x="0" y="154"/>
                    </a:lnTo>
                    <a:lnTo>
                      <a:pt x="205" y="154"/>
                    </a:lnTo>
                    <a:lnTo>
                      <a:pt x="205" y="176"/>
                    </a:lnTo>
                    <a:lnTo>
                      <a:pt x="410" y="88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200" rIns="25200" tIns="11880" bIns="11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06600" y="5403600"/>
                <a:ext cx="772920" cy="20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11880" bIns="118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71280"/>
                    <a:tab algn="l" pos="142920"/>
                    <a:tab algn="l" pos="214200"/>
                    <a:tab algn="l" pos="285840"/>
                    <a:tab algn="l" pos="357120"/>
                    <a:tab algn="l" pos="428760"/>
                    <a:tab algn="l" pos="500040"/>
                    <a:tab algn="l" pos="571680"/>
                    <a:tab algn="l" pos="642960"/>
                    <a:tab algn="l" pos="714240"/>
                    <a:tab algn="l" pos="785880"/>
                    <a:tab algn="l" pos="857160"/>
                    <a:tab algn="l" pos="928800"/>
                    <a:tab algn="l" pos="1000080"/>
                    <a:tab algn="l" pos="1071720"/>
                    <a:tab algn="l" pos="1143000"/>
                    <a:tab algn="l" pos="1214280"/>
                    <a:tab algn="l" pos="1285920"/>
                    <a:tab algn="l" pos="1357200"/>
                    <a:tab algn="l" pos="1428840"/>
                  </a:tabLst>
                </a:pPr>
                <a:r>
                  <a:rPr b="1" lang="it-IT" sz="1200" spc="-1" strike="noStrike">
                    <a:solidFill>
                      <a:srgbClr val="ffffff"/>
                    </a:solidFill>
                    <a:latin typeface="Arial"/>
                  </a:rPr>
                  <a:t>Sour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67080" y="5410080"/>
                <a:ext cx="506160" cy="20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11880" bIns="118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71280"/>
                    <a:tab algn="l" pos="142920"/>
                    <a:tab algn="l" pos="214200"/>
                    <a:tab algn="l" pos="285840"/>
                    <a:tab algn="l" pos="357120"/>
                    <a:tab algn="l" pos="428760"/>
                    <a:tab algn="l" pos="500040"/>
                    <a:tab algn="l" pos="571680"/>
                    <a:tab algn="l" pos="642960"/>
                    <a:tab algn="l" pos="714240"/>
                    <a:tab algn="l" pos="785880"/>
                    <a:tab algn="l" pos="857160"/>
                    <a:tab algn="l" pos="928800"/>
                    <a:tab algn="l" pos="1000080"/>
                    <a:tab algn="l" pos="1071720"/>
                    <a:tab algn="l" pos="1143000"/>
                    <a:tab algn="l" pos="1214280"/>
                    <a:tab algn="l" pos="1285920"/>
                    <a:tab algn="l" pos="1357200"/>
                    <a:tab algn="l" pos="1428840"/>
                  </a:tabLst>
                </a:pPr>
                <a:r>
                  <a:rPr b="1" lang="it-IT" sz="1200" spc="-1" strike="noStrike">
                    <a:solidFill>
                      <a:srgbClr val="ffffff"/>
                    </a:solidFill>
                    <a:latin typeface="Arial"/>
                  </a:rPr>
                  <a:t>Mak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892400" y="5410080"/>
                <a:ext cx="776160" cy="20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11880" bIns="118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71280"/>
                    <a:tab algn="l" pos="142920"/>
                    <a:tab algn="l" pos="214200"/>
                    <a:tab algn="l" pos="285840"/>
                    <a:tab algn="l" pos="357120"/>
                    <a:tab algn="l" pos="428760"/>
                    <a:tab algn="l" pos="500040"/>
                    <a:tab algn="l" pos="571680"/>
                    <a:tab algn="l" pos="642960"/>
                    <a:tab algn="l" pos="714240"/>
                    <a:tab algn="l" pos="785880"/>
                    <a:tab algn="l" pos="857160"/>
                    <a:tab algn="l" pos="928800"/>
                    <a:tab algn="l" pos="1000080"/>
                    <a:tab algn="l" pos="1071720"/>
                    <a:tab algn="l" pos="1143000"/>
                    <a:tab algn="l" pos="1214280"/>
                    <a:tab algn="l" pos="1285920"/>
                    <a:tab algn="l" pos="1357200"/>
                    <a:tab algn="l" pos="1428840"/>
                  </a:tabLst>
                </a:pPr>
                <a:r>
                  <a:rPr b="1" lang="it-IT" sz="1200" spc="-1" strike="noStrike">
                    <a:solidFill>
                      <a:srgbClr val="ffffff"/>
                    </a:solidFill>
                    <a:latin typeface="Arial"/>
                  </a:rPr>
                  <a:t>Del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149400" y="3504600"/>
              <a:ext cx="1047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uppliers’</a:t>
              </a:r>
              <a:br>
                <a:rPr sz="1400"/>
              </a:b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8760" y="1600200"/>
              <a:ext cx="1716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MPANY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248160" y="19051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86600" y="19051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18240" y="3123720"/>
              <a:ext cx="5738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A5D-1240-4F46-8F97-33EBE9963B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mmerce Differentia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tabili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engineering business to be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bandwidth two-way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ustomer receives immediate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a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/select/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usion of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transaction generates captive information (about people, ha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1E3-1C61-4859-BB7D-DE175C953F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1T20:54:13Z</dcterms:created>
  <dc:creator>Geoff Holdridge</dc:creator>
  <dc:description/>
  <dc:language>en-US</dc:language>
  <cp:lastModifiedBy>John Grasso</cp:lastModifiedBy>
  <cp:lastPrinted>2000-06-04T20:13:35Z</cp:lastPrinted>
  <dcterms:modified xsi:type="dcterms:W3CDTF">2000-06-04T20:29:11Z</dcterms:modified>
  <cp:revision>0</cp:revision>
  <dc:subject/>
  <dc:title>No Slide Title</dc:title>
</cp:coreProperties>
</file>