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3CF-665F-4F91-A6E6-B1D40A3C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082-5C50-47CF-8457-DBC2DB20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603-AA97-4830-AEC3-432D2862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EB7-AEC7-4B90-8199-06FEFD3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3A82-5F32-45D0-A8B4-6D540203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F1CD-F4F6-4DE6-BE47-3C43B11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858B-5F41-4100-9A03-6D28461C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9C3-FB0C-48C6-A42F-868F6004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8DE2-D7A1-49D2-8932-BDFFCC7E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1786-7F05-470F-B884-0E734565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CA6-9984-4314-887C-85540C28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C0A-A1EA-4702-8B1E-64C47D6C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8715-617F-4DEC-A593-778E0CD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EB9-157E-4D4D-A379-48DD5DFE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D513-46D5-4B3B-A5E1-6B270841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5E23-D9BA-4BEF-ABBD-C4B8AF62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8821-3599-4829-B10F-6E45BBF2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8F1-BA32-4960-BF51-4CC889FE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8D3-2D7B-4580-9550-4FB4A320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2EF-5B7F-4E4C-92E1-D626BC94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AD7-E9EA-45B3-B9EA-75BB773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4BE-1133-4955-B77E-8CEE4D0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050-D8D2-4E4E-BF48-309ADCB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AD8-E3A3-4030-AFB1-8946A89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6A3A-4BDB-4786-8BDB-0311FB350BB8}" type="datetime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C994-48D9-40CA-BEC2-5B7BD11643C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86A2-D761-4B89-9E32-9AC9A078B719}" type="datetime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1F0D-EAD0-4255-9E9A-E117411AA8D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wC emm@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ohn Grass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rnegie Mellon Univers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2409F2B-479D-401D-845B-42BB77A52EF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M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086600" cy="31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F86D0-3BFF-4EF8-8A89-A8A43E5E141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eBusiness “Domains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usiness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usiness Proces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and Competenc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and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y and Oper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B86E0-E41F-473D-8E54-5A45436FEAF9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ain Example: Leg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305560" cy="33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69C96-A5C8-45A9-AF97-D716C0F0A231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Practice Statement” 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754380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763CB-6D98-4B43-AC13-7DD760D4BD7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a G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543800" cy="30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ED977-1536-4D7A-A8E6-40BE450C245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stated as a Question at Level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153280" cy="27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A84F4-1A05-4521-853A-6675C0AFD98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coded for May, Should, … M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153280" cy="244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BAB86-0CF2-4FF6-9130-9AC1A8C43C72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ing the Da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- MS Access, Excel, Wo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69343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7A00A-A600-4D71-B026-10DA0ECE467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Repor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08660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11A07-B4DA-4F94-8717-92B6D85B7640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Action Planning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7467840" cy="38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EB346-27B2-45CD-8411-4FCD2397432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 and Objec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wC’s goal:  To create a framework for its eBusiness consul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only starting with eComme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already using eComme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: Use the framework and concepts from Carnegie Mellon’s C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00919-D9A8-453C-859C-DA268006FF4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s e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9760" y="2514600"/>
            <a:ext cx="771984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C62C4-4EFA-468D-ACC2-12A401821B20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ly Chain “Business Processes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381880" cy="31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93636-FAF8-4282-8ECE-0D404F0DC6F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er 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81960" cy="314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24825-13D9-4D8D-ABFB-AF3992B914D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Overall Performa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er-Facing + Supply Chain i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405640" cy="31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EC371-3A7E-44E6-BEA9-56B0F60B9BCB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M vs E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3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M Levels of “Maturity” of softwar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M applie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mpro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eria: K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Leve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Process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95320" y="1904760"/>
            <a:ext cx="40467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M Levels of “Maturity” of eCommerc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M applie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Traditional Proces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eBusiness Dom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“Supply Chain GPS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eria: GP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rocess, Domain, Leve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Practice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38F19-6021-4F3C-8C55-63D09D8FED5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M Levels vs EMM Lev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3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i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Repea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Mana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Optim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38120" y="1904760"/>
            <a:ext cx="449604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Online “Presen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Online “Busines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Integrated Online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vanced Online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Full eBusin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4772160" cy="1771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CA629-C933-4704-ACB4-6F7123DE2CA3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M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Structure%20of%20the%20CMM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4886280" cy="56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9C69C-C831-4B79-A42A-EF3151CA041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22:22:25Z</dcterms:created>
  <dc:creator>John Grasso</dc:creator>
  <dc:description/>
  <dc:language>en-US</dc:language>
  <cp:lastModifiedBy>John T Grasso</cp:lastModifiedBy>
  <cp:lastPrinted>2000-04-27T14:19:37Z</cp:lastPrinted>
  <dcterms:modified xsi:type="dcterms:W3CDTF">2000-09-13T20:08:46Z</dcterms:modified>
  <cp:revision>8</cp:revision>
  <dc:subject/>
  <dc:title>PwC emm@</dc:title>
</cp:coreProperties>
</file>