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86840" y="6400800"/>
            <a:ext cx="18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9320" y="6095880"/>
            <a:ext cx="905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MMERCE AT CMU:</a:t>
            </a:r>
            <a:br>
              <a:rPr sz="3600"/>
            </a:b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earch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glas Dunn, Dean, GSI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j Reddy, Dean, S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das Mukhopadhyay, Director (GSI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ael I. Shamos, Co-Director (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NIC VO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ty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of vote-bu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of candidat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inion polling gene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EET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ales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human meetings and conferences as an adjunct to Internet s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moderated ex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vised help 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ant can place a transparent electronic overlay on customer’s screen to teach use of a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CE THE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products be priced adaptively to explo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upply/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customer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c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items, prices, options based on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airline f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automated agents in price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INTERMED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ing the middleman who does not ad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orts of businesses can sell directly to consumers electronical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ir characteristic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PPING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e consumer want in a web st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“shopping cart” the right paradig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ing orders, e.g. weekly shopping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sh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dity items by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selling across vendor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offer consulting services with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Internet demo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elsen’s GIDE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marks in the world of e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 between domain naming and trade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wide protection/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ing in a world of electronic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ud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” 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 sheet, income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mmerce cost 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a fair financial picture of an ebusin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ing web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ion of false (computer-generated) h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GAL ENVIRON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islation to promote e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M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y of offshore web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priate legislation agains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s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“Better Business Bureau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mer protection in ecomme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C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ENVIRON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right environment for building ecommerce syst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we need an ecommerce language?  Toolk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business site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 objec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various media (sound, video), “desktop” data (Excel, PPT, email) + domain-specific data (biomedical, chemi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programm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SECU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secure, foreign-exportable encryp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banks presently cannot offer web accounts to foreigners because the encryption cannot be ex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content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marking in various media (where did the copy come from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ty verific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BASE 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s to support massive global transaction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million customers in one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ieve response time + consistency.  Not currently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datum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of engineered artifacts, databases of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ly $1B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integrity in huge (10 terabyte) DB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M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upport for data m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ization tools (e.g. Informedia retriev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on from browsing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il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ing deliberately mislead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integrate data mining into DB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 TECHNOLOG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a website easily be made multilingual? multicultural?  multicurren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upport data entry in various writing systems (e.g. Arabic, Chinese, Japanese, Korean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allow more free text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ation for electronic 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what’s out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D AG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s cannot operate unless they can obtai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BA, Remote Method Invocation (R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s must find each other before they can do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ting 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“cheating” be detected?  (What is cheating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qu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just for securities.  How can price quotes be routed properly to interested ag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imulate and test agent behavi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TE INTEG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demand spi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to prevent denial of service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M filtering / tracking /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us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risk with Java app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link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links means higher failure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AA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 is genu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, approved, cer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down, URL change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resort repository, hell or high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ore 404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1T20:54:13Z</dcterms:created>
  <dc:creator>Geoff Holdridge</dc:creator>
  <dc:description/>
  <dc:language>en-US</dc:language>
  <cp:lastModifiedBy>shamos</cp:lastModifiedBy>
  <cp:lastPrinted>1999-02-18T23:30:13Z</cp:lastPrinted>
  <dcterms:modified xsi:type="dcterms:W3CDTF">1999-02-18T23:35:11Z</dcterms:modified>
  <cp:revision>0</cp:revision>
  <dc:subject/>
  <dc:title>No Slide Title</dc:title>
</cp:coreProperties>
</file>