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390240" y="2286000"/>
            <a:ext cx="819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Demi"/>
              </a:rPr>
              <a:t>CIBER, Inc. is the trusted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Demi"/>
              </a:rPr>
              <a:t>leader transforming businesses 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Demi"/>
              </a:rPr>
              <a:t>agile, scalable and conn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79080" y="38088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dot.com start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280" y="1219320"/>
            <a:ext cx="6599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B2B Reverse Auctio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New market niche; conceived by local busines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CIBER’s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1.  Developed I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2.  Determined business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3.  Architected complet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A.  Web sit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B.  Use case 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.  Logical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D.  Technology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E.   Web site ho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4.  Construction of site is underway with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targeted for y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2160" y="632448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Franklin Gothic Demi"/>
              </a:rPr>
              <a:t>Prototype for CIBER’s .com in-a-box Internet solutions offer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31488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0400" y="1563840"/>
            <a:ext cx="43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Everything you need for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omplete Internet sol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7480" y="2500200"/>
            <a:ext cx="4205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Al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All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Completely inst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Performance assu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Interne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Managed 24x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Tuned to the needs of your custom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business partners and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&gt;&gt;  Delivered complete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      “</a:t>
            </a: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the speed of the Intern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314880" cy="4000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3680" y="1905120"/>
            <a:ext cx="28339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Strateg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Solu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Rob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Tur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Superchar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571500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CIBER, Inc. is the trusted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leader transforming businesses to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"/>
              </a:rPr>
              <a:t>agile, scalable and conn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2140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Franklin Gothic Demi"/>
              </a:rPr>
              <a:t>Questions 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827600" y="42552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Who is CI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87800" y="1523880"/>
            <a:ext cx="791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Proven as an information technology innovator f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than 26 years in a wide variety of industries - cur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generating over $800 million in annual 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Consistently exceeding client expectations and deliv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unmatched service, as evidenced by 90% of our cli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bringing us back for additional enga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Over 4,500 professional consultants in all IT discip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World-class experts in all practice areas deliv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strategic counsel and innovative solution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Fortune 500, mid-market and dot.com start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220640" y="685800"/>
            <a:ext cx="40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CIBER IT Prac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02320" y="2097000"/>
            <a:ext cx="577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Strategy and Enterpris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Interne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Business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Network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61000" y="457200"/>
            <a:ext cx="60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Client Engagement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8200" y="1371600"/>
            <a:ext cx="6633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IBER sales executives &amp; key client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identify business problems &amp;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IBER Practice Leaders &amp; Solutions Archit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assess possibl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IBER delivers recommendations determin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produce the optimum solution based on the clien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specific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Design, Build, Test, Document, In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Knowledg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08920" y="6094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CIBER Pittsbur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15000" y="1752480"/>
            <a:ext cx="4277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l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llegheny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B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Federated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Giant Ea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Mellon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Metal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PNC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PPG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US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Weirton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14520" y="1219320"/>
            <a:ext cx="42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Demi"/>
              </a:rPr>
              <a:t>(Representative sample of major industry cli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08920" y="6094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CIBER Pittsbur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6920" y="1905120"/>
            <a:ext cx="835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IBER Pittsburgh has over 230 consultants with a 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oncentration in e-Commerce and Business Intel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ome of our local success stories in this area are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llowing cl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Al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Metal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Giant E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dot.com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230880" y="533520"/>
            <a:ext cx="13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Alco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73160" y="2286000"/>
            <a:ext cx="645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e.Enablement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orporate program to provide a single web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to global customer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CIBER’s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1.  Strategy &amp; 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2.  Technology selection &amp;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3.  N-tier architecture 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4.  Integration of all Business Units &amp;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95200" y="53352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Metal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23280" y="1944720"/>
            <a:ext cx="7035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B2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Joint ownership by multiple steel producers &amp;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ustomers request bids and issue Purchas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CIBER’s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1.  Develop new offering, Scrap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2.  Develop another new off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3.  Assist in globalization of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4.  Architect N-tier reengineering of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577840" y="4572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Franklin Gothic Demi"/>
              </a:rPr>
              <a:t>Giant Ea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5840" y="1447920"/>
            <a:ext cx="721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$5 Billion, Regional Supermarket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Successful Data Warehouse project lea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IBER’s engagement on 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Provide an easily accessible portal to the accu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knowledge of the corporation.  This knowledge pres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resides in Data Warehouses, legacy systems, emai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memos, Policy, Procedure &amp; Administration manual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the minds of all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&gt;&gt;  Curr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Scoping, requirements &amp; design stag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completed and construction is underway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the prototype, which covers all aspec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new store open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07:56Z</dcterms:created>
  <dc:creator>Gary Rosensteel</dc:creator>
  <dc:description/>
  <dc:language>en-US</dc:language>
  <cp:lastModifiedBy>Gary Rosensteel</cp:lastModifiedBy>
  <dcterms:modified xsi:type="dcterms:W3CDTF">2000-08-02T00:10:25Z</dcterms:modified>
  <cp:revision>9</cp:revision>
  <dc:subject/>
  <dc:title>PowerPoint Presentation</dc:title>
</cp:coreProperties>
</file>