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A7D-F083-493A-B987-5313D61B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77724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680720"/>
            <a:ext cx="77724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DA2-F49F-49BD-8704-7E670EF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45B-3ED9-4EB2-B08A-D5CE87A4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4460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4460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68072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68072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68072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896-2FE3-4817-B8A2-8A8B56D6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446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E76-FFD8-4E9F-B850-D5516D9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DCD-5B78-42B6-B0BD-69185DB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349-42D0-4054-8265-F222F0BB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FE6-8B76-48D9-8A0C-B7EE6812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1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900-D044-4678-82A6-CD50CFE0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891-53EA-4BFA-B90C-D573C0E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E45-11D4-4D15-80C8-666299A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680720"/>
            <a:ext cx="77724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1CA-E160-4679-BA06-F24BD1E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446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7081560"/>
            <a:ext cx="1905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X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81560"/>
            <a:ext cx="28958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7081560"/>
            <a:ext cx="1905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F8E-4F71-422E-B159-517BC7AA0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7164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28140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41E-D8EC-401D-AD2E-A8720A9CAF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2057400"/>
            <a:ext cx="2666880" cy="4343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4100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8862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1371600"/>
            <a:ext cx="3352680" cy="5486400"/>
          </a:xfrm>
          <a:prstGeom prst="upDownArrow">
            <a:avLst>
              <a:gd name="adj1" fmla="val 50000"/>
              <a:gd name="adj2" fmla="val 3257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276720"/>
            <a:ext cx="380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828800"/>
            <a:ext cx="167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s &amp;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3434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1828800"/>
            <a:ext cx="13716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62120" y="25142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62120" y="46479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167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’s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1040" y="380880"/>
            <a:ext cx="65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 and the Exchang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F00-79B7-4AA7-997D-8D3E78B732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92840" y="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200" y="284940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 Dictates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10200" y="48578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34080" y="2720880"/>
            <a:ext cx="20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 Controls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4960" y="47926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1-1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06680" y="1101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’s Transa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8480" y="2266920"/>
            <a:ext cx="3675240" cy="25257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6320" y="3044880"/>
            <a:ext cx="269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tening the Customer 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EF7-D1BF-4992-99B5-B1DA40D361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35240" y="2332080"/>
            <a:ext cx="4775040" cy="2590920"/>
          </a:xfrm>
          <a:prstGeom prst="hexagon">
            <a:avLst>
              <a:gd name="adj" fmla="val 46075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2840" y="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3856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gain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73520" y="498780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m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02280" y="330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4987800"/>
            <a:ext cx="19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46240" y="310824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 of Buyer’s Transac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5760" y="1812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6600" y="1943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FCB-5D23-4B87-A8B3-2D77423108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ng up the 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5560" y="4210200"/>
            <a:ext cx="609480" cy="388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5040" y="44038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073240"/>
            <a:ext cx="1117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23160" y="2266920"/>
            <a:ext cx="914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200" y="1619280"/>
            <a:ext cx="3149640" cy="1165320"/>
          </a:xfrm>
          <a:prstGeom prst="hexagon">
            <a:avLst>
              <a:gd name="adj" fmla="val 6757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7120" y="1878120"/>
            <a:ext cx="25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4800" y="3821040"/>
            <a:ext cx="2641680" cy="1166760"/>
          </a:xfrm>
          <a:prstGeom prst="hexagon">
            <a:avLst>
              <a:gd name="adj" fmla="val 566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7240" y="407988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41680" y="440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200" y="3821040"/>
            <a:ext cx="2641680" cy="1166760"/>
          </a:xfrm>
          <a:prstGeom prst="hexagon">
            <a:avLst>
              <a:gd name="adj" fmla="val 566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96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urchas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8400" y="1619280"/>
            <a:ext cx="3147840" cy="1165320"/>
          </a:xfrm>
          <a:prstGeom prst="hexagon">
            <a:avLst>
              <a:gd name="adj" fmla="val 6753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878120"/>
            <a:ext cx="1930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menu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5894280"/>
            <a:ext cx="3352680" cy="1165320"/>
          </a:xfrm>
          <a:prstGeom prst="hexagon">
            <a:avLst>
              <a:gd name="adj" fmla="val 7192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608796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Web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78400" y="5894280"/>
            <a:ext cx="3352680" cy="1165320"/>
          </a:xfrm>
          <a:prstGeom prst="hexagon">
            <a:avLst>
              <a:gd name="adj" fmla="val 7192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4800" y="6087960"/>
            <a:ext cx="22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buyer’s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784600"/>
            <a:ext cx="3048120" cy="14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523520" y="2784600"/>
            <a:ext cx="2845080" cy="14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703160" y="4599000"/>
            <a:ext cx="2654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599000"/>
            <a:ext cx="27795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08C-2B71-469C-AB57-0A1270C530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Distribu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Pri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Internet Business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57E-4218-4EC2-8C52-2D08B8FFD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35268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27400" y="1360440"/>
            <a:ext cx="250992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16320" y="148896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stablish Interne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440" y="3497400"/>
            <a:ext cx="2133720" cy="107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75520" y="3562200"/>
            <a:ext cx="25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Pirate the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7400" y="5570640"/>
            <a:ext cx="24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Create Digit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429000"/>
            <a:ext cx="20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reate a Customer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F1E-4E17-486C-82B8-2A32C4D523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27672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Establish Internet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16320" y="168444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Custom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02320" y="3497400"/>
            <a:ext cx="2282760" cy="107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3432240"/>
            <a:ext cx="21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Custom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7400" y="5699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7840" y="36273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CC8-4DC3-4BCE-A0C3-9C204F4913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5600" y="343224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Pirate the Valu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16320" y="168444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idate the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497400"/>
            <a:ext cx="25401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75520" y="375588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699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627360"/>
            <a:ext cx="26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97B-C7B7-41BE-AD42-B11E2DD194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95600" y="35622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Create Digit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6320" y="181296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5520" y="375588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7400" y="5699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840" y="36273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877-B5B4-4FEE-957A-533E41EEEC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42900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Create a Customer Mag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06680" y="1684440"/>
            <a:ext cx="23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/ Service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02280" y="3627360"/>
            <a:ext cx="16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7400" y="5570640"/>
            <a:ext cx="24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Model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7840" y="36273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DA6-1260-40E5-A3D5-64D10958E9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1036440"/>
            <a:ext cx="86360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EAB-1266-43C6-9D88-B3C093180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Distribu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Pri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Changing Industry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A1A-667E-42A3-A636-FD11F90454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34960" y="453960"/>
            <a:ext cx="60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uicyfruit" descr=""/>
          <p:cNvPicPr/>
          <p:nvPr/>
        </p:nvPicPr>
        <p:blipFill>
          <a:blip r:embed="rId1"/>
          <a:stretch/>
        </p:blipFill>
        <p:spPr>
          <a:xfrm>
            <a:off x="1165320" y="2655720"/>
            <a:ext cx="6454800" cy="2860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V="1">
            <a:off x="5648400" y="420984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03800" y="4016520"/>
            <a:ext cx="0" cy="452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CAA-A733-4167-999C-E2A98EA9C6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NEW" descr=""/>
          <p:cNvPicPr/>
          <p:nvPr/>
        </p:nvPicPr>
        <p:blipFill>
          <a:blip r:embed="rId1"/>
          <a:stretch/>
        </p:blipFill>
        <p:spPr>
          <a:xfrm>
            <a:off x="2779560" y="0"/>
            <a:ext cx="3633840" cy="2833560"/>
          </a:xfrm>
          <a:prstGeom prst="rect">
            <a:avLst/>
          </a:prstGeom>
          <a:ln w="0">
            <a:noFill/>
          </a:ln>
        </p:spPr>
      </p:pic>
      <p:pic>
        <p:nvPicPr>
          <p:cNvPr id="217" name="SPIRAL" descr=""/>
          <p:cNvPicPr/>
          <p:nvPr/>
        </p:nvPicPr>
        <p:blipFill>
          <a:blip r:embed="rId2"/>
          <a:stretch/>
        </p:blipFill>
        <p:spPr>
          <a:xfrm>
            <a:off x="2868480" y="4145040"/>
            <a:ext cx="3756240" cy="2914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291456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: Rich information exchange, rig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archy: Amorphous, permeable organizational boundaries, multiple al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BE0-42E2-49BF-AFDF-4DB7858A58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68200" y="1295280"/>
            <a:ext cx="179388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2160" y="129528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8200" y="3044880"/>
            <a:ext cx="176364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200" y="485784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8200" y="621828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12160" y="3044880"/>
            <a:ext cx="167292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12160" y="479268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12160" y="6218280"/>
            <a:ext cx="1763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1360440"/>
            <a:ext cx="1016280" cy="647640"/>
          </a:xfrm>
          <a:prstGeom prst="parallelogram">
            <a:avLst>
              <a:gd name="adj" fmla="val 392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136044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75040" y="1360440"/>
            <a:ext cx="1016280" cy="647640"/>
          </a:xfrm>
          <a:prstGeom prst="parallelogram">
            <a:avLst>
              <a:gd name="adj" fmla="val 392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136044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49640" y="304488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304488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987800"/>
            <a:ext cx="91440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68960" y="4923000"/>
            <a:ext cx="1726920" cy="45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00280" y="6346800"/>
            <a:ext cx="3031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24160" y="6346800"/>
            <a:ext cx="306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48400" y="6346800"/>
            <a:ext cx="3031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27400" y="6735600"/>
            <a:ext cx="3049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40200" y="6735600"/>
            <a:ext cx="3049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55412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12160" y="14889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2160" y="32385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2160" y="49878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2160" y="63468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385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11668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4119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5520" y="6735600"/>
            <a:ext cx="30456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41680" y="84132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44720" y="2590920"/>
            <a:ext cx="34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41680" y="434016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920" y="582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ing the Value Ch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3B2-61F0-451F-A7BF-960FEC1B98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95480" y="228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06668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106668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06668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7692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1447920" cy="9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579132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96252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25780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586728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28800" y="457164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181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4038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419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40384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4419720"/>
            <a:ext cx="144756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53341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r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487692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334120"/>
            <a:ext cx="10666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0666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828800" y="4647960"/>
            <a:ext cx="35812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5334120"/>
            <a:ext cx="38098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144792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144792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22096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 of  Retail Ba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889-776E-443D-94F9-D787650D7F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352680"/>
            <a:ext cx="213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44720" y="1684440"/>
            <a:ext cx="335304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68480" y="181296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hain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02320" y="3497400"/>
            <a:ext cx="237348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497400"/>
            <a:ext cx="25401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5440320"/>
            <a:ext cx="325116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562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 network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02320" y="362736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gaining pow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55706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by 3r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74E-0B90-4883-A015-822795AF08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7120" y="1447920"/>
            <a:ext cx="8426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Changing Distribut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Pri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170-C230-43F1-8DC8-5F884B81D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920" y="3951360"/>
            <a:ext cx="3317760" cy="2008080"/>
          </a:xfrm>
          <a:custGeom>
            <a:avLst/>
            <a:gdLst>
              <a:gd name="textAreaLeft" fmla="*/ 0 w 3317760"/>
              <a:gd name="textAreaRight" fmla="*/ 3318120 w 3317760"/>
              <a:gd name="textAreaTop" fmla="*/ 0 h 2008080"/>
              <a:gd name="textAreaBottom" fmla="*/ 2008440 h 2008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4727520"/>
            <a:ext cx="3674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l Rev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nomy of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4727520"/>
            <a:ext cx="3585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ation Rev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 &amp;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an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849400"/>
            <a:ext cx="2600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Mark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ographical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de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0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s of Current Distribu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0" y="5051520"/>
            <a:ext cx="29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roducts at right place at the righ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046-594D-4367-804C-9F734CD45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Landscape of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54120"/>
            <a:ext cx="38098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i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sortment and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554120"/>
            <a:ext cx="38098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 of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ization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levance of 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83080" y="1511280"/>
            <a:ext cx="12600" cy="549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6400" y="2289240"/>
            <a:ext cx="699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A08-847F-4E76-858D-CFD4709C9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2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ortment and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: Few goods of large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: Many goods of small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 size, delivery,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buyers for 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sellers for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686-F9B9-4081-997B-573BE53010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Distribu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073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2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83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9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0280" y="116532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60920" y="116532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02280" y="116532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1000" y="129528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sortment and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0920" y="148896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02280" y="1488960"/>
            <a:ext cx="22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9724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th of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200" y="4016520"/>
            <a:ext cx="24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ogenization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505480"/>
            <a:ext cx="24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elevance of 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0280" y="2397240"/>
            <a:ext cx="197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 Maker: Customer selects so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30920" y="2397240"/>
            <a:ext cx="179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Catalog On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9560" y="5181480"/>
            <a:ext cx="17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selling to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79560" y="3821040"/>
            <a:ext cx="161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 anytime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1920" y="5181480"/>
            <a:ext cx="206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/Buyer location not limi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0920" y="5311800"/>
            <a:ext cx="188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dding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61200" y="24606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from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0200" y="3886200"/>
            <a:ext cx="188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e updates vs. Web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1920" y="388620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 sites with links to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2DF-9B23-4409-981B-3477D5CC29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5600" y="36925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6320" y="2008080"/>
            <a:ext cx="23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75520" y="375588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7400" y="5699160"/>
            <a:ext cx="24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440" y="3755880"/>
            <a:ext cx="20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A57-0838-4465-809A-0375CA02F3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Distribu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Internet Pric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A70-E254-493C-B025-7DD6B8DCA2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4:33:43Z</dcterms:created>
  <dc:creator>Tridas Mukopadhyay</dc:creator>
  <dc:description/>
  <dc:language>en-US</dc:language>
  <cp:lastModifiedBy>Tridas Mukopadhyay</cp:lastModifiedBy>
  <cp:lastPrinted>1999-06-20T18:34:42Z</cp:lastPrinted>
  <dcterms:modified xsi:type="dcterms:W3CDTF">2000-08-24T13:02:16Z</dcterms:modified>
  <cp:revision>27</cp:revision>
  <dc:subject/>
  <dc:title>The New Landscape of Distribution</dc:title>
</cp:coreProperties>
</file>