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162B-8FEE-4064-8CF2-8A4186F28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2372-ABA7-4459-BAA9-FA855415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E88C-5DF4-4025-A3B6-15D8185A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09D0-17F5-414D-A35E-AFA8D16DB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A236-C557-4751-A59B-916B0593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C13C-C132-405C-A0B2-B61BDA33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2041-5610-42D2-A728-625EEA24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2557-AB57-47ED-8A5E-F634AAAE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8934-8A78-499C-82C5-DA2F31EF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4DD0-69A4-491C-BB1C-946CBD64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AFD8-9FFB-4AD8-90B6-03400EDB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8C5C-81A8-4DFE-885C-AEDFB3D4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Commerce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3323-E4A5-45A2-A835-B25DAAF0A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857160"/>
            <a:ext cx="91440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Commerce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2895480"/>
            <a:ext cx="711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or Tridas Mukhopadhy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, MS in Electronic Comme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oitte Consulting Chair Professor of e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das@andrew.cmu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1E08-510C-49B5-B52C-588D6325516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031840" y="1657440"/>
            <a:ext cx="5689800" cy="3543120"/>
          </a:xfrm>
          <a:custGeom>
            <a:avLst/>
            <a:gdLst>
              <a:gd name="textAreaLeft" fmla="*/ 0 w 5689800"/>
              <a:gd name="textAreaRight" fmla="*/ 5690160 w 5689800"/>
              <a:gd name="textAreaTop" fmla="*/ 885600 h 3543120"/>
              <a:gd name="textAreaBottom" fmla="*/ 2657520 h 3543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40160" y="74304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40160" y="520056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41680" y="1028880"/>
            <a:ext cx="44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Effec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40160" y="5372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ever: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31840" y="2800440"/>
            <a:ext cx="5791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sent Single Gateway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Destination sites, A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BBED-D293-4E1C-863E-6FB7A17FBC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438280" y="1657440"/>
            <a:ext cx="4775400" cy="3543120"/>
          </a:xfrm>
          <a:custGeom>
            <a:avLst/>
            <a:gdLst>
              <a:gd name="textAreaLeft" fmla="*/ 0 w 4775400"/>
              <a:gd name="textAreaRight" fmla="*/ 4775760 w 4775400"/>
              <a:gd name="textAreaTop" fmla="*/ 885600 h 3543120"/>
              <a:gd name="textAreaBottom" fmla="*/ 2657520 h 3543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0160" y="74304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40160" y="520056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914400"/>
            <a:ext cx="4470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Strate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40160" y="5372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ever: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2743200"/>
            <a:ext cx="5029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hieve Global Pres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1800flowers, HotHotHo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5CBD-6949-42B5-9D0F-011A322E46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438280" y="1657440"/>
            <a:ext cx="4775400" cy="3543120"/>
          </a:xfrm>
          <a:custGeom>
            <a:avLst/>
            <a:gdLst>
              <a:gd name="textAreaLeft" fmla="*/ 0 w 4775400"/>
              <a:gd name="textAreaRight" fmla="*/ 4775760 w 4775400"/>
              <a:gd name="textAreaTop" fmla="*/ 885600 h 3543120"/>
              <a:gd name="textAreaBottom" fmla="*/ 2657520 h 3543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40160" y="74304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40160" y="520056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41680" y="1028880"/>
            <a:ext cx="44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0160" y="5372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ever: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2743200"/>
            <a:ext cx="5588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ter Role of Intermedi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Virtual vine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27DE-C6A5-4C38-85A8-286D13BC79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438280" y="1657440"/>
            <a:ext cx="4775400" cy="3543120"/>
          </a:xfrm>
          <a:custGeom>
            <a:avLst/>
            <a:gdLst>
              <a:gd name="textAreaLeft" fmla="*/ 0 w 4775400"/>
              <a:gd name="textAreaRight" fmla="*/ 4775760 w 4775400"/>
              <a:gd name="textAreaTop" fmla="*/ 885600 h 3543120"/>
              <a:gd name="textAreaBottom" fmla="*/ 2657520 h 3543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40160" y="74304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40160" y="520056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41680" y="1028880"/>
            <a:ext cx="44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Effec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40160" y="5372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ever: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2857680"/>
            <a:ext cx="4775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gage in Micro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Firefly, Yaho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046F-5C9F-4FCA-AA97-426C706357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438280" y="1657440"/>
            <a:ext cx="4775400" cy="3543120"/>
          </a:xfrm>
          <a:custGeom>
            <a:avLst/>
            <a:gdLst>
              <a:gd name="textAreaLeft" fmla="*/ 0 w 4775400"/>
              <a:gd name="textAreaRight" fmla="*/ 4775760 w 4775400"/>
              <a:gd name="textAreaTop" fmla="*/ 885600 h 3543120"/>
              <a:gd name="textAreaBottom" fmla="*/ 2657520 h 3543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40160" y="74304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40160" y="520056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41680" y="1028880"/>
            <a:ext cx="4470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Strate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40160" y="5372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ever: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2743200"/>
            <a:ext cx="4775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ck-in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Dell Comp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5CD5-527A-41B2-B421-9E445722E1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438280" y="1657440"/>
            <a:ext cx="4800600" cy="3543120"/>
          </a:xfrm>
          <a:custGeom>
            <a:avLst/>
            <a:gdLst>
              <a:gd name="textAreaLeft" fmla="*/ 0 w 4800600"/>
              <a:gd name="textAreaRight" fmla="*/ 4800960 w 4800600"/>
              <a:gd name="textAreaTop" fmla="*/ 885600 h 3543120"/>
              <a:gd name="textAreaBottom" fmla="*/ 2657520 h 3543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40160" y="743040"/>
            <a:ext cx="459576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40160" y="5200560"/>
            <a:ext cx="459576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41680" y="1028880"/>
            <a:ext cx="449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40160" y="5372280"/>
            <a:ext cx="45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ever: 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38280" y="2666880"/>
            <a:ext cx="5562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ke Use of Extens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r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McGraw-Hill (betaboo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5F03-55B4-4178-A7B5-3166F968A8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438280" y="1657440"/>
            <a:ext cx="4775400" cy="3543120"/>
          </a:xfrm>
          <a:custGeom>
            <a:avLst/>
            <a:gdLst>
              <a:gd name="textAreaLeft" fmla="*/ 0 w 4775400"/>
              <a:gd name="textAreaRight" fmla="*/ 4775760 w 4775400"/>
              <a:gd name="textAreaTop" fmla="*/ 885600 h 3543120"/>
              <a:gd name="textAreaBottom" fmla="*/ 2657520 h 3543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40160" y="74304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40160" y="520056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41680" y="1028880"/>
            <a:ext cx="44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Effec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40160" y="5372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ever: 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2743200"/>
            <a:ext cx="5105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r Controls Detail of Inform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ce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CNN Inter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F3EF-9B54-4B28-A979-830681DE0F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209680" y="1657440"/>
            <a:ext cx="5181840" cy="3543120"/>
          </a:xfrm>
          <a:custGeom>
            <a:avLst/>
            <a:gdLst>
              <a:gd name="textAreaLeft" fmla="*/ 0 w 5181840"/>
              <a:gd name="textAreaRight" fmla="*/ 5182200 w 5181840"/>
              <a:gd name="textAreaTop" fmla="*/ 885600 h 3543120"/>
              <a:gd name="textAreaBottom" fmla="*/ 2657520 h 3543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40160" y="74304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40160" y="520056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41680" y="857160"/>
            <a:ext cx="4470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Strate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40160" y="5372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ever: 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2666880"/>
            <a:ext cx="5943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rs Interact via Online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Edmund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N Sports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AC88-37E7-452A-A293-68874036FB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438280" y="1657440"/>
            <a:ext cx="4775400" cy="3543120"/>
          </a:xfrm>
          <a:custGeom>
            <a:avLst/>
            <a:gdLst>
              <a:gd name="textAreaLeft" fmla="*/ 0 w 4775400"/>
              <a:gd name="textAreaRight" fmla="*/ 4775760 w 4775400"/>
              <a:gd name="textAreaTop" fmla="*/ 885600 h 3543120"/>
              <a:gd name="textAreaBottom" fmla="*/ 2657520 h 3543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40160" y="74304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40160" y="520056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1680" y="1028880"/>
            <a:ext cx="44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40160" y="537228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ever: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38280" y="2743200"/>
            <a:ext cx="47754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utomate Tasks Using Software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Bargain finder, Jungl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46BF-C6FC-4437-9932-645DE34061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438280" y="1657440"/>
            <a:ext cx="4775400" cy="3543120"/>
          </a:xfrm>
          <a:custGeom>
            <a:avLst/>
            <a:gdLst>
              <a:gd name="textAreaLeft" fmla="*/ 0 w 4775400"/>
              <a:gd name="textAreaRight" fmla="*/ 4775760 w 4775400"/>
              <a:gd name="textAreaTop" fmla="*/ 885600 h 3543120"/>
              <a:gd name="textAreaBottom" fmla="*/ 2657520 h 3543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40160" y="74304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40160" y="520056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41680" y="1028880"/>
            <a:ext cx="44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Effec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40160" y="5372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ever: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2590920"/>
            <a:ext cx="47754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 Online Decision Suppor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Turner mania, Schwab IRA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25B0-934F-4A6F-BA82-708B3E8892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7600" y="914400"/>
            <a:ext cx="86360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eCommerce Fundamentals 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5, 2:45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Value Chain and Competition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8:45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eValue Creation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10:30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Ford Cas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1:00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B2B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2:45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eMarketing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8:45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 Free Market Cas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10:30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. Supply Chain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1:00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. eServic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2:45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 Digital goods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13, 8:45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 Dell Cas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13, 10:30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 Internet Strategies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13, 1:00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057E-2AE4-4474-A4BA-E8BA62A622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438280" y="1657440"/>
            <a:ext cx="4775400" cy="3543120"/>
          </a:xfrm>
          <a:custGeom>
            <a:avLst/>
            <a:gdLst>
              <a:gd name="textAreaLeft" fmla="*/ 0 w 4775400"/>
              <a:gd name="textAreaRight" fmla="*/ 4775760 w 4775400"/>
              <a:gd name="textAreaTop" fmla="*/ 885600 h 3543120"/>
              <a:gd name="textAreaBottom" fmla="*/ 2657520 h 3543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40160" y="74304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40160" y="520056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41680" y="857160"/>
            <a:ext cx="4470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Strate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40160" y="5372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ever: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2743200"/>
            <a:ext cx="4775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undle Information, Products, an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iVil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FEC8-1E2B-4ECD-8CD8-DBA8DDAEED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ompetitive Intelligence on the Inter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9172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competitor’s Web 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related news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publicly available financial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give priz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n information delivery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research compan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cit opinions in a chat 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B47B-D04A-4107-9E9F-5972237DF8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Push Technology for Competitive Intellig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ompetitive Intelligence on the Internet 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2152800"/>
            <a:ext cx="899172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users to request updates of topics and deliver the latest records to users’ e-mail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corporate snoopers with lots of information, save search time and monitoring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ways push models can provide competitive intelligenc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E4F7-04B4-4E2D-9910-221EC15FAF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-C Strategy For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838080"/>
            <a:ext cx="9144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u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ramework for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ives uncover opport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es internalize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s understand the possi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 Resour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Internet  professionals through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positions for producing &amp; selling new 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7A43-F420-42A7-9D5C-BA5FE04982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-C Strategy For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85800"/>
            <a:ext cx="9144000" cy="53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s and Partn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cyber-maturity of customers and part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selective access to your intra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out for new services to int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s and Servi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ize old products where appli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new information-based produ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Competi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new entr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ine your busines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B38B-5591-41E9-A4B9-E66A226B268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1066680"/>
            <a:ext cx="8229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ly Cha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 electronic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mediaries and Virtual Marke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intermediaries threatening your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rtunities for intermed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 with other intermedi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cquisition tar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33360" y="-3240"/>
            <a:ext cx="476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-C Strategy For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362E-BED0-4FCD-93CD-202445A2DCE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625400" y="-3240"/>
            <a:ext cx="476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-C Strategy For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85800"/>
            <a:ext cx="9144000" cy="63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with internal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-enable appropriate internal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 Web-centric marke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on digital branding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 Sty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markets affecting electronic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markets affecting traditional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61E2-BBFE-49BA-9ED2-D2E82D60AB5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80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C Strate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s should a strategic plan answ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1600200"/>
            <a:ext cx="914400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is Electronic Commerce going to change our busines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we uncover new types of business opportuniti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can we take advantage of new electronic linkages with customers and trading partner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ll intermediaries be eliminated in the process?  Or do we become intermediaries ourselv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we bring more buyers together electronically (and keep them there)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we change the nature of our products and servic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is the Internet affecting other companies more than our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we manage and measure the evolution of our strateg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B729-139C-4A71-A3FA-19C579A1322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Key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types of business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gives five levers of value cre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an old-economy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A319-239C-4D85-AD9B-0C40A44FD00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types of Value Cre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7FC3-FCE7-40EF-8AE0-C1DCDEE8FA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ve Dimensions of Commer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995A-FDF5-4045-8C1D-B8756C2260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595520" y="1295280"/>
          <a:ext cx="7548480" cy="598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5520" y="1295280"/>
                    <a:ext cx="7548480" cy="59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828800" y="0"/>
            <a:ext cx="670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C Value Creation</a:t>
            </a:r>
            <a:br>
              <a:rPr sz="3200"/>
            </a:b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cy            Effectiveness           Strate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447920"/>
            <a:ext cx="17272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05CD-232D-4BF2-BC4E-A3E12F6806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438280" y="1657440"/>
            <a:ext cx="4775400" cy="3543120"/>
          </a:xfrm>
          <a:custGeom>
            <a:avLst/>
            <a:gdLst>
              <a:gd name="textAreaLeft" fmla="*/ 0 w 4775400"/>
              <a:gd name="textAreaRight" fmla="*/ 4775760 w 4775400"/>
              <a:gd name="textAreaTop" fmla="*/ 885600 h 3543120"/>
              <a:gd name="textAreaBottom" fmla="*/ 2657520 h 3543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40160" y="74304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518148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41680" y="2743200"/>
            <a:ext cx="4368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celerate User Tas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Amaz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41680" y="1028880"/>
            <a:ext cx="44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40160" y="5372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ever: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B9D8-C682-42C4-8A36-64F4987D77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438280" y="1657440"/>
            <a:ext cx="4775400" cy="3543120"/>
          </a:xfrm>
          <a:custGeom>
            <a:avLst/>
            <a:gdLst>
              <a:gd name="textAreaLeft" fmla="*/ 0 w 4775400"/>
              <a:gd name="textAreaRight" fmla="*/ 4775760 w 4775400"/>
              <a:gd name="textAreaTop" fmla="*/ 885600 h 3543120"/>
              <a:gd name="textAreaBottom" fmla="*/ 2657520 h 3543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40160" y="74304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40160" y="520056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41680" y="1028880"/>
            <a:ext cx="44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Effec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40160" y="5372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ever: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40160" y="2800440"/>
            <a:ext cx="4876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iminate Information Flo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Fidelity, Schw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047D-B6E9-43F8-805A-C66DEC706E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438280" y="1657440"/>
            <a:ext cx="4775400" cy="3543120"/>
          </a:xfrm>
          <a:custGeom>
            <a:avLst/>
            <a:gdLst>
              <a:gd name="textAreaLeft" fmla="*/ 0 w 4775400"/>
              <a:gd name="textAreaRight" fmla="*/ 4775760 w 4775400"/>
              <a:gd name="textAreaTop" fmla="*/ 885600 h 3543120"/>
              <a:gd name="textAreaBottom" fmla="*/ 2657520 h 3543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40160" y="74304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40160" y="520056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41680" y="1028880"/>
            <a:ext cx="44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Strate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40160" y="5372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ever: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38280" y="2743200"/>
            <a:ext cx="5079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 24X7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Travelocity, FAQ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ADFC-C78A-4EEF-AD50-A7C1D70566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031840" y="1657440"/>
            <a:ext cx="5588280" cy="3543120"/>
          </a:xfrm>
          <a:custGeom>
            <a:avLst/>
            <a:gdLst>
              <a:gd name="textAreaLeft" fmla="*/ 0 w 5588280"/>
              <a:gd name="textAreaRight" fmla="*/ 5588640 w 5588280"/>
              <a:gd name="textAreaTop" fmla="*/ 885600 h 3543120"/>
              <a:gd name="textAreaBottom" fmla="*/ 2657520 h 3543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40160" y="74304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40160" y="520056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1680" y="1028880"/>
            <a:ext cx="44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40160" y="5372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ever: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31840" y="2743200"/>
            <a:ext cx="5791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e Scale to Look L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Autobytell, Century 2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8710-19A8-4B9C-AFA7-A431E51148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0T13:30:46Z</dcterms:created>
  <dc:creator>Tridas Mukopadhyay</dc:creator>
  <dc:description/>
  <dc:language>en-US</dc:language>
  <cp:lastModifiedBy>Tridas Mukopadhyay</cp:lastModifiedBy>
  <cp:lastPrinted>1999-10-01T15:39:27Z</cp:lastPrinted>
  <dcterms:modified xsi:type="dcterms:W3CDTF">2000-08-24T12:54:29Z</dcterms:modified>
  <cp:revision>48</cp:revision>
  <dc:subject/>
  <dc:title>No Slide Title</dc:title>
</cp:coreProperties>
</file>