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A61-8A16-4230-88D2-4340C445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BA0-9354-4B54-AC92-A7AFD1A0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C04-AE6C-433D-8C15-DDB9900E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C1D-3060-4A3F-840F-B5C518BC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56C-CB0C-4E95-9624-47D4F64E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FF4-3B68-4CF4-B890-0575EFC7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09A-22E7-42D6-8E8A-24E0347B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680-FDF2-46FD-9849-D2F6D145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CF1-9429-45CA-8E53-76189DCF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6EA-58C1-41A9-80E0-0550756C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2F7-3AFA-490A-B8D0-45E9B786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C86-8EEC-4369-9324-C426CFAF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FBB3-9B8D-4FB0-9207-DA93EFB44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315-A5CE-47D8-9E10-D4ECEAE649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4920" y="-14400"/>
          <a:ext cx="9074160" cy="6801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-14400"/>
                    <a:ext cx="9074160" cy="68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CD3-D259-496A-8FC2-DBFEADDE76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438280" y="457200"/>
            <a:ext cx="4114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7680" y="914400"/>
            <a:ext cx="161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imes New Roman"/>
              </a:rPr>
              <a:t>Entry Barri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prietary product differe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pital require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ess to dis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bsolute cost advant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prietary learning cur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ess to necessary inpu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vernment poli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ected retali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838080"/>
            <a:ext cx="1828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imes New Roman"/>
              </a:rPr>
              <a:t>Rivalry Determina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dustry grow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xed (or storage) cost/Value add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ermittent overcapac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duct differe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ncentration and bal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ormational complex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versity of competi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rporate stak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it barri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5760" y="137160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ent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2590920"/>
            <a:ext cx="13716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25909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36576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t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f rival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048120"/>
            <a:ext cx="106668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200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3200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4290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57440" y="34290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9051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8954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rgaining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of 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2895480"/>
            <a:ext cx="11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rgaining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of bu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7680" y="4038480"/>
            <a:ext cx="2893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Determinants of Suppliers 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fferentiation of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witching costs of suppliers and firms in the indu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sence of substitute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lier concen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9rtance of volume to suppl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st relative to total purchases in the indu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act of inputs on cost or different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reat of forward integration relative to threat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ward integration by firms in the indu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870360"/>
            <a:ext cx="29718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Determinants of Buyer 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Bargaining Leve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concentration versus firm concen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volu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switching costs relative to firm switching co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bility to backward integ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stitute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ll-throu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rice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ice/Total purch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 dif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act on quality/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prof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ision-makers’ incent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9200" y="5029200"/>
            <a:ext cx="1159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terminant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stitution Thre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lative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substitu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propen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sub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9400" y="4114800"/>
            <a:ext cx="11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rea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bstit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41360" y="464832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tit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572000" y="4191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lements of Industry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038480" y="3084840"/>
            <a:ext cx="91404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41" y="20445"/>
                </a:moveTo>
                <a:arcTo wR="10800" hR="10800" stAng="7004232" swAng="17815586"/>
                <a:lnTo>
                  <a:pt x="10800" y="10800"/>
                </a:lnTo>
                <a:close/>
              </a:path>
              <a:path fill="none" w="21600" h="21600">
                <a:moveTo>
                  <a:pt x="5941" y="20445"/>
                </a:moveTo>
                <a:arcTo wR="10800" hR="10800" stAng="7004232" swAng="1781558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778280" y="3146040"/>
            <a:ext cx="69840" cy="3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3048120"/>
            <a:ext cx="106668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219320"/>
            <a:ext cx="137160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4648320"/>
            <a:ext cx="10670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9810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rea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nt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EFA-DB46-4766-BFCF-35790B88C1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mpact of Competitive Fo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066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8840" y="531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609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457200"/>
            <a:ext cx="21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tential Uses of IT to Combat 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143000"/>
            <a:ext cx="2667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t of new ent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ers’ bargaining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s’ bargaining 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t of substitute products or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tional  intraindustry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143000"/>
            <a:ext cx="259056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antial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ices or inflation of incumbent’s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s forc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ion encour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s ra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 quality and services (lab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returns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iling on p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and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1143000"/>
            <a:ext cx="327672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entry barri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ing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to distribution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er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ing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y barr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t of backward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price/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fine products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effectiv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/ Services /  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139-E0A7-45D4-9CD4-D09CBE63FB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9800" y="2908440"/>
            <a:ext cx="1955880" cy="104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94240" y="1003320"/>
            <a:ext cx="1955520" cy="104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18320" y="2908440"/>
            <a:ext cx="1955880" cy="104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94240" y="4432320"/>
            <a:ext cx="1955520" cy="104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Wal-Mart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3440" y="2629080"/>
            <a:ext cx="27417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Industry Rival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BU: Wal-M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als: Kmart, Targe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ys R Us, Specialty S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31520" y="2895480"/>
            <a:ext cx="15102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g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4040" y="2927520"/>
            <a:ext cx="172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g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49320" y="4451400"/>
            <a:ext cx="1821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990720"/>
            <a:ext cx="16826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Ent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4387680" y="3663360"/>
            <a:ext cx="368280" cy="7495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101640" y="3054240"/>
            <a:ext cx="368280" cy="7495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rot="16200000">
            <a:off x="4387680" y="2063520"/>
            <a:ext cx="368280" cy="7495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73360" y="3054240"/>
            <a:ext cx="368280" cy="7495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58080" y="4057560"/>
            <a:ext cx="308592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mall Town U.S.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s in Metropolit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in the U.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adian and Mexi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Foreign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31840" y="5600880"/>
            <a:ext cx="28339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l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Shopping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ic Sho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7120" y="4062240"/>
            <a:ext cx="24994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Product Manufactur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 Manufactur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Gover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/T Suppl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48320" y="1014480"/>
            <a:ext cx="3392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 General Merchandisers or Discou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blished Retailer Shifting Strategy to Discounting or Megas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78760" y="5600880"/>
            <a:ext cx="1801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ing Cl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or-to-door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7B8-9053-4D09-9B11-3973F89DF5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ld vs. New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57480"/>
            <a:ext cx="447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 to fit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ic 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compe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is for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&amp; Exit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470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ic 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ing 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is for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DC6-3534-41A2-AABC-BAD4B60B77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15920" y="1943280"/>
            <a:ext cx="7010640" cy="3162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819520"/>
            <a:ext cx="3149640" cy="1066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2819520"/>
            <a:ext cx="233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 Rivalry from Existing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11430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16720" y="18288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ory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5238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Soci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198108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3276720"/>
            <a:ext cx="142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44197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t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648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4572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15429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3432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19720" y="4114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5146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33526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4572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695720" y="259092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019560" y="342900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467120" y="44956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43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orces Affecting Compe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BE7-416E-4B37-8C88-4A9CC018AA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1360" y="159984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Strategic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Re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ED0-B898-4475-857B-8A09D10B61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71080" y="152280"/>
            <a:ext cx="363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rategic Thru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085760"/>
            <a:ext cx="8610480" cy="56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Reduce cost for sam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on: Unique and appe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: New products, new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: Size is often a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: Can’t do it all, who may join ha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B37-277D-4A75-9816-63323B9FB3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1371600"/>
            <a:ext cx="8915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: Size of  market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: Make vs. Buy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: Domestic / foreign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: Range of related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5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mpetitive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c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DA8-C973-4053-B907-7058E775F2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5000" y="1447920"/>
            <a:ext cx="90090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basis of competition to dis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ntry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on litigation or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ower of customers or supp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6440" y="0"/>
            <a:ext cx="83311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isks Of Strategic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6F9-4689-434E-96D2-697A7D50B7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868-28A3-495B-90A2-2DBC43589D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695160"/>
            <a:ext cx="640080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30280" y="251460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990720"/>
            <a:ext cx="628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1880" y="1143000"/>
            <a:ext cx="1716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30280" y="302904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30280" y="354348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30280" y="405756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30280" y="457200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30280" y="200016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30280" y="148608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56080" y="97632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87920" y="97632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70720" y="1143000"/>
            <a:ext cx="1973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08200" y="1143000"/>
            <a:ext cx="149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40040" y="1681200"/>
            <a:ext cx="194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01760" y="2114640"/>
            <a:ext cx="642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               COST         INNOVATION         GROWTH       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2004840"/>
            <a:ext cx="0" cy="5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64040" y="2004840"/>
            <a:ext cx="0" cy="5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2004840"/>
            <a:ext cx="0" cy="5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02320" y="2004840"/>
            <a:ext cx="0" cy="5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43440" y="2685960"/>
            <a:ext cx="154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35480" y="3738600"/>
            <a:ext cx="2355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304812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12408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312408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4062240"/>
            <a:ext cx="0" cy="5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21080" y="4195800"/>
            <a:ext cx="113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64280" y="4195800"/>
            <a:ext cx="194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5480" y="4767120"/>
            <a:ext cx="255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16200000">
            <a:off x="4389120" y="3382200"/>
            <a:ext cx="414360" cy="4403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5715000"/>
            <a:ext cx="2660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21640" y="576360"/>
            <a:ext cx="0" cy="475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22360" y="576360"/>
            <a:ext cx="0" cy="475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30280" y="57168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9400" y="5372280"/>
            <a:ext cx="252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30280" y="537228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0"/>
            <a:ext cx="8686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RATEGIC OPTION GENER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304812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3124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762-AFD0-41DE-A197-CB057DA5EDD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605480" y="4191120"/>
            <a:ext cx="308268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55840" y="4191120"/>
            <a:ext cx="308268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3200400"/>
            <a:ext cx="215892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19880" y="2133720"/>
            <a:ext cx="94932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97160" y="2133720"/>
            <a:ext cx="135576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55840" y="2133720"/>
            <a:ext cx="186372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143000"/>
            <a:ext cx="196380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809640"/>
            <a:ext cx="64008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22360" y="2629080"/>
            <a:ext cx="62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30280" y="108576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9440" y="1257480"/>
            <a:ext cx="134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30280" y="314316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22360" y="3657600"/>
            <a:ext cx="62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30280" y="417204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0280" y="468648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0280" y="211464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30280" y="160020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56080" y="1090440"/>
            <a:ext cx="0" cy="50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87920" y="1090440"/>
            <a:ext cx="0" cy="50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72160" y="1257480"/>
            <a:ext cx="153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06760" y="1257480"/>
            <a:ext cx="1185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21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03200" y="2228760"/>
            <a:ext cx="616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IATION                   COST                 INNOVATION               GROWTH             ALLI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11932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64040" y="211932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211932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02320" y="211932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1440" y="2666880"/>
            <a:ext cx="94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0" y="3733920"/>
            <a:ext cx="1581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320040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3200400"/>
            <a:ext cx="1621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10960" y="3200400"/>
            <a:ext cx="1621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417672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960" y="4267080"/>
            <a:ext cx="70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4267080"/>
            <a:ext cx="132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35120" y="4881600"/>
            <a:ext cx="166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rot="16200000">
            <a:off x="4372200" y="3284280"/>
            <a:ext cx="447840" cy="4403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5867280"/>
            <a:ext cx="373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ADVA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21640" y="690480"/>
            <a:ext cx="0" cy="456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22360" y="690480"/>
            <a:ext cx="0" cy="456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30280" y="68580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9400" y="5257800"/>
            <a:ext cx="252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30280" y="525780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608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ederal Express Exa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200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312408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C01-31FE-4015-B399-3B237AE478D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H="1">
            <a:off x="5283360" y="1828800"/>
            <a:ext cx="3403440" cy="2946240"/>
          </a:xfrm>
          <a:prstGeom prst="rightArrow">
            <a:avLst>
              <a:gd name="adj1" fmla="val 75000"/>
              <a:gd name="adj2" fmla="val 5776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2760" y="2592360"/>
            <a:ext cx="2403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6240" y="1314360"/>
            <a:ext cx="316260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114800" y="1892160"/>
            <a:ext cx="0" cy="353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952880" y="1892160"/>
            <a:ext cx="0" cy="353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1828800"/>
            <a:ext cx="3098520" cy="2946240"/>
          </a:xfrm>
          <a:prstGeom prst="rightArrow">
            <a:avLst>
              <a:gd name="adj1" fmla="val 75000"/>
              <a:gd name="adj2" fmla="val 532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76320" y="2495520"/>
            <a:ext cx="352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61960" y="5472000"/>
            <a:ext cx="287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lue to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8120" y="1371600"/>
            <a:ext cx="30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/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24440" y="26971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2302560" y="2750400"/>
            <a:ext cx="266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3142080" y="2621880"/>
            <a:ext cx="268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/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4120" y="4853160"/>
            <a:ext cx="2489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81240" y="4853160"/>
            <a:ext cx="18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720" y="3048120"/>
            <a:ext cx="231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971800"/>
            <a:ext cx="2603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BA4-EE0D-43B9-B157-5D58CF3CB56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H="1">
            <a:off x="5180760" y="1828800"/>
            <a:ext cx="3403800" cy="2946240"/>
          </a:xfrm>
          <a:prstGeom prst="rightArrow">
            <a:avLst>
              <a:gd name="adj1" fmla="val 75000"/>
              <a:gd name="adj2" fmla="val 577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2438280"/>
            <a:ext cx="284508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ck, Bond and Mu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T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 Option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ive  F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y Execu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s and Mone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in Financia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dial Respo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37040" y="1308240"/>
            <a:ext cx="2793960" cy="58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114800" y="1892160"/>
            <a:ext cx="0" cy="353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952880" y="1892160"/>
            <a:ext cx="0" cy="353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1040" y="1841400"/>
            <a:ext cx="3098520" cy="2946600"/>
          </a:xfrm>
          <a:prstGeom prst="rightArrow">
            <a:avLst>
              <a:gd name="adj1" fmla="val 75000"/>
              <a:gd name="adj2" fmla="val 5322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8560" y="2457360"/>
            <a:ext cx="198540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Based T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Broker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et Sm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Trans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Risk Analysi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61960" y="5472000"/>
            <a:ext cx="287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lue to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1371600"/>
            <a:ext cx="2692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/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24440" y="26971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2913480" y="2750400"/>
            <a:ext cx="266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384360" y="2627280"/>
            <a:ext cx="280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kerag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920" y="4857840"/>
            <a:ext cx="272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Customer Bu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4680" y="4857840"/>
            <a:ext cx="21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-add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3880" y="304920"/>
            <a:ext cx="4314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to Customer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Schwab &amp; 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8FC-A349-45DB-ABCA-E137E43E9EA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40160" y="5486400"/>
            <a:ext cx="1650960" cy="67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rategic Plann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7040" y="3054240"/>
            <a:ext cx="1587600" cy="189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11840" y="3054240"/>
            <a:ext cx="1587600" cy="189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54440" y="3054240"/>
            <a:ext cx="1587600" cy="189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7240" y="396252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54640" y="396252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7040" y="1301760"/>
            <a:ext cx="158760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52680" y="4946400"/>
            <a:ext cx="0" cy="54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654440"/>
            <a:ext cx="1822320" cy="90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457360"/>
            <a:ext cx="1828800" cy="90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2901960"/>
            <a:ext cx="0" cy="181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822320" y="5105520"/>
            <a:ext cx="39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822320" y="2895480"/>
            <a:ext cx="39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4654440"/>
            <a:ext cx="0" cy="4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16160" y="3962520"/>
            <a:ext cx="3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9800" y="2387520"/>
            <a:ext cx="1216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82320" y="2387520"/>
            <a:ext cx="1059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37160" y="2387520"/>
            <a:ext cx="1185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6520" y="1778040"/>
            <a:ext cx="16110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ter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0" y="2457360"/>
            <a:ext cx="1388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-1080" y="4686480"/>
            <a:ext cx="1345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2640" y="4064040"/>
            <a:ext cx="13428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er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20160" y="3298680"/>
            <a:ext cx="117648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trateg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ositi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5562720"/>
            <a:ext cx="1905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xplicit/ Implic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6160" y="3200400"/>
            <a:ext cx="14248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37480" y="3146400"/>
            <a:ext cx="12193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cou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tal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1987560"/>
            <a:ext cx="0" cy="44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04840" y="1343160"/>
            <a:ext cx="871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A25-BF56-4621-BE2C-3A22B4E302C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11360" y="159984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os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Process Re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0E5-A178-47C2-95CB-62B914F05A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066680" y="0"/>
            <a:ext cx="774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iness Process Reengine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371600"/>
            <a:ext cx="899784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 BP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Fundamental Reth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Radical Redesi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usiness processes to ach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Dramatic Improv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Critical Performance Meas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608-8032-4E21-87C8-DC8F0BD04E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762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et of activities to produce output for customer/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t of inputs + Ordered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st, time, quality &amp; customer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ynamic view of  how value i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, not  just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al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oss 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utdated marketing, selling and adm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0"/>
            <a:ext cx="39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ocess De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684-6AF8-4082-9EEE-E0567DFBF0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96920" y="304812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xamples of Cross-Functional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1066680"/>
            <a:ext cx="20574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57600" y="1066680"/>
            <a:ext cx="213372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1066680"/>
            <a:ext cx="213372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1143000"/>
            <a:ext cx="160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or Analysis &amp; Market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1219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1219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77320" y="14479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1752480"/>
            <a:ext cx="6477120" cy="685800"/>
          </a:xfrm>
          <a:prstGeom prst="rightArrow">
            <a:avLst>
              <a:gd name="adj1" fmla="val 50000"/>
              <a:gd name="adj2" fmla="val 23611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1828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4191120"/>
            <a:ext cx="1218960" cy="9903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57400" y="4191120"/>
            <a:ext cx="1600200" cy="9903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4191120"/>
            <a:ext cx="1523880" cy="9903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4191120"/>
            <a:ext cx="1447560" cy="9903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10080" y="4191120"/>
            <a:ext cx="1371600" cy="9903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191120"/>
            <a:ext cx="1371600" cy="9903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1520" y="4191120"/>
            <a:ext cx="1371600" cy="9903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449568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         Proposal   Commitment Configuration   Credit       Delivery     Billing        Collection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523880" y="51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523880" y="5181480"/>
            <a:ext cx="1219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809880" y="51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5181480"/>
            <a:ext cx="14475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324480" y="5181480"/>
            <a:ext cx="609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324480" y="5181480"/>
            <a:ext cx="15242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19920" y="5181480"/>
            <a:ext cx="198108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5638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a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Manufactu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Fin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Logistics         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00160" y="2271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59400" y="594216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3BF-3196-4355-8326-8C5535776C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14600" y="0"/>
            <a:ext cx="41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inciples of BP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685800"/>
            <a:ext cx="9144000" cy="56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information processing with real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 distributed resources as centraliz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paralle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decision point with work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 information once, and at the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C1C-07DC-447B-9896-009EB1B507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11360" y="159984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Value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os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Re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64A-DB7F-463E-8AF2-368B669263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914400" y="228600"/>
            <a:ext cx="1295280" cy="60948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228600"/>
            <a:ext cx="137160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228600"/>
            <a:ext cx="1295640" cy="60948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1371600"/>
            <a:ext cx="1295640" cy="60948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1371600"/>
            <a:ext cx="137160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1371600"/>
            <a:ext cx="137160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0" y="1371600"/>
            <a:ext cx="137160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0" y="2438280"/>
            <a:ext cx="137160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5320" y="2438280"/>
            <a:ext cx="1447560" cy="6098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4038480"/>
            <a:ext cx="1295640" cy="6098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81680" y="4038480"/>
            <a:ext cx="1295640" cy="6098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572000"/>
            <a:ext cx="1295280" cy="60948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5638680"/>
            <a:ext cx="1371600" cy="6098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410080"/>
            <a:ext cx="1371600" cy="9907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228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d 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286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Purchas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10280" y="304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81680" y="41911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13716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Purchase Order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13716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Receiving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13716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d Rece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533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81480" y="53352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838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02" idx="2"/>
            <a:endCxn id="405" idx="1"/>
          </p:cNvCxnSpPr>
          <p:nvPr/>
        </p:nvCxnSpPr>
        <p:spPr>
          <a:xfrm flipH="1" rot="16200000">
            <a:off x="2151720" y="1400040"/>
            <a:ext cx="714960" cy="1972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505320" y="24382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unts Payable (5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0" y="2514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P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274320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399" idx="2"/>
            <a:endCxn id="417" idx="0"/>
          </p:cNvCxnSpPr>
          <p:nvPr/>
        </p:nvCxnSpPr>
        <p:spPr>
          <a:xfrm rot="5400000">
            <a:off x="6271560" y="-15120"/>
            <a:ext cx="524160" cy="2248920"/>
          </a:xfrm>
          <a:prstGeom prst="bentConnector3">
            <a:avLst>
              <a:gd name="adj1" fmla="val 49072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26" name=""/>
          <p:cNvSpPr/>
          <p:nvPr/>
        </p:nvSpPr>
        <p:spPr>
          <a:xfrm>
            <a:off x="5791320" y="762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038120" y="16765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1" idx="2"/>
            <a:endCxn id="405" idx="0"/>
          </p:cNvCxnSpPr>
          <p:nvPr/>
        </p:nvCxnSpPr>
        <p:spPr>
          <a:xfrm flipH="1" rot="16200000">
            <a:off x="3589920" y="1790280"/>
            <a:ext cx="400680" cy="877320"/>
          </a:xfrm>
          <a:prstGeom prst="bentConnector3">
            <a:avLst>
              <a:gd name="adj1" fmla="val 5467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772400" y="838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10280" y="1523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In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03" idx="2"/>
            <a:endCxn id="405" idx="0"/>
          </p:cNvCxnSpPr>
          <p:nvPr/>
        </p:nvCxnSpPr>
        <p:spPr>
          <a:xfrm rot="5400000">
            <a:off x="5685840" y="571320"/>
            <a:ext cx="400680" cy="3315240"/>
          </a:xfrm>
          <a:prstGeom prst="bentConnector3">
            <a:avLst>
              <a:gd name="adj1" fmla="val 5467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609480" y="40384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d 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2" idx="3"/>
            <a:endCxn id="407" idx="1"/>
          </p:cNvCxnSpPr>
          <p:nvPr/>
        </p:nvCxnSpPr>
        <p:spPr>
          <a:xfrm>
            <a:off x="1905120" y="4329000"/>
            <a:ext cx="4867920" cy="15120"/>
          </a:xfrm>
          <a:prstGeom prst="curvedConnector5">
            <a:avLst>
              <a:gd name="adj1" fmla="val 50092"/>
              <a:gd name="adj2" fmla="val 48780"/>
              <a:gd name="adj3" fmla="val 50092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657600" y="4267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46483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07" idx="2"/>
            <a:endCxn id="408" idx="3"/>
          </p:cNvCxnSpPr>
          <p:nvPr/>
        </p:nvCxnSpPr>
        <p:spPr>
          <a:xfrm rot="5400000">
            <a:off x="6123960" y="3571560"/>
            <a:ext cx="219960" cy="239184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5715000" y="4495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3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d Rece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905120" y="4876920"/>
            <a:ext cx="182880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59436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33920" y="5638680"/>
            <a:ext cx="1447560" cy="6098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56386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unts Payable (1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81480" y="5943600"/>
            <a:ext cx="15242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62720" y="5638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620120" y="464796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96080" y="50292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5638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d &amp; Vendor Ba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5715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urement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3352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ord’s Procurement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339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6576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B3B-6BD0-4994-B09F-5F851F614B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27880" y="0"/>
            <a:ext cx="86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rtgage Loan Processing at BANC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1447920"/>
            <a:ext cx="99072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28800" y="1447920"/>
            <a:ext cx="990720" cy="609480"/>
          </a:xfrm>
          <a:prstGeom prst="flowChartInputOutpu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914400"/>
            <a:ext cx="342900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1143000"/>
            <a:ext cx="6094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48520" y="1143000"/>
            <a:ext cx="6094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19051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19051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48520" y="19051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62520" y="1143000"/>
            <a:ext cx="6094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61" idx="3"/>
            <a:endCxn id="456" idx="1"/>
          </p:cNvCxnSpPr>
          <p:nvPr/>
        </p:nvCxnSpPr>
        <p:spPr>
          <a:xfrm>
            <a:off x="4581000" y="12949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6" idx="3"/>
            <a:endCxn id="457" idx="1"/>
          </p:cNvCxnSpPr>
          <p:nvPr/>
        </p:nvCxnSpPr>
        <p:spPr>
          <a:xfrm>
            <a:off x="5724000" y="12949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7" idx="2"/>
            <a:endCxn id="458" idx="0"/>
          </p:cNvCxnSpPr>
          <p:nvPr/>
        </p:nvCxnSpPr>
        <p:spPr>
          <a:xfrm rot="5400000">
            <a:off x="5190480" y="533160"/>
            <a:ext cx="438840" cy="22867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58" idx="3"/>
            <a:endCxn id="459" idx="1"/>
          </p:cNvCxnSpPr>
          <p:nvPr/>
        </p:nvCxnSpPr>
        <p:spPr>
          <a:xfrm>
            <a:off x="4581000" y="205704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59" idx="3"/>
            <a:endCxn id="460" idx="1"/>
          </p:cNvCxnSpPr>
          <p:nvPr/>
        </p:nvCxnSpPr>
        <p:spPr>
          <a:xfrm>
            <a:off x="5724000" y="205704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7924680" y="1219320"/>
            <a:ext cx="1067040" cy="99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19320" y="17524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17524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62920" y="1676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4191120"/>
            <a:ext cx="1067040" cy="83808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3276720"/>
            <a:ext cx="3962520" cy="2590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24680" y="4114800"/>
            <a:ext cx="106704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086600" y="45720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457200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00600" y="35053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05320" y="44197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5257800"/>
            <a:ext cx="6094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44197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4191120"/>
            <a:ext cx="685800" cy="60948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14800" y="45720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86400" y="45720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105520" y="4800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05520" y="3809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24680" y="4419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25760" y="15210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14400" y="4343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" y="1523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81080" y="1523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25909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-to-Desk Approach: 1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42900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Approach: 2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98F-367C-4A65-8BE6-CE8D0015A8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198600" y="0"/>
            <a:ext cx="404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ole of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1280" y="762120"/>
            <a:ext cx="5585760" cy="51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performance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custo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riented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435040" y="304920"/>
            <a:ext cx="5068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rganizational Enabl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0480" y="1108080"/>
            <a:ext cx="783720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Approa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enefits: Wider skill set, Quality of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ccess criteria: Leadership, Composition, Clarity of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Enablers: Empowerment, Participative decision mak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esour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ensation: Incentives, Gain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reer paths: More horizontal, less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ork role rotation to create a shared mind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819520" y="228600"/>
            <a:ext cx="32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yths of BP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1219320"/>
            <a:ext cx="6807240" cy="55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no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 fresh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s the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permanent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R vs.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73A-461F-4B6D-AFA2-46ED3BD3D3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chain includes information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arriers to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to-end process redesign &amp;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B74-E4AC-4829-8D17-4FEF961D54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9920" y="762120"/>
            <a:ext cx="8074080" cy="2209680"/>
          </a:xfrm>
          <a:custGeom>
            <a:avLst/>
            <a:gdLst>
              <a:gd name="textAreaLeft" fmla="*/ 0 w 8074080"/>
              <a:gd name="textAreaRight" fmla="*/ 8074440 w 80740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002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762120"/>
            <a:ext cx="144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762120"/>
            <a:ext cx="1800" cy="32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371600"/>
            <a:ext cx="586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4479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981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2514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971800"/>
            <a:ext cx="1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971800"/>
            <a:ext cx="1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971800"/>
            <a:ext cx="180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2971800"/>
            <a:ext cx="14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9560" y="3197160"/>
            <a:ext cx="13482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6680" y="3197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8640" y="32004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7960" y="327672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4040" y="3200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5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The Value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905120"/>
            <a:ext cx="586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438280"/>
            <a:ext cx="586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334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create value for custom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DC3-8790-42FD-9559-4F3D399E00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our Support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990720"/>
          <a:ext cx="7772400" cy="5221080"/>
        </p:xfrm>
        <a:graphic>
          <a:graphicData uri="http://schemas.openxmlformats.org/drawingml/2006/table">
            <a:tbl>
              <a:tblPr/>
              <a:tblGrid>
                <a:gridCol w="2819160"/>
                <a:gridCol w="4953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ctiv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e infra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management, planning, finance, accounting, legal services,  government affairs, and quality manage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resource manag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ruiting, hiring, training, and develop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ng product and manufacturing proces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 or purchasing inpu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A20-F0FE-4A27-8290-5EBEBE9601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ive Primary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066680"/>
          <a:ext cx="8229600" cy="5140440"/>
        </p:xfrm>
        <a:graphic>
          <a:graphicData uri="http://schemas.openxmlformats.org/drawingml/2006/table">
            <a:tbl>
              <a:tblPr/>
              <a:tblGrid>
                <a:gridCol w="2984400"/>
                <a:gridCol w="5245200"/>
              </a:tblGrid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bound log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s receiving, storing, and distribution to manufacturing premis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ing inputs into finished produc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bound log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ing and distributing produc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nd s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ion and sales for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to maintain or enhance product valu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7E7-51D8-4540-960B-AB24753C5D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irline Industry Value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1447920"/>
            <a:ext cx="6934320" cy="4141800"/>
          </a:xfrm>
          <a:custGeom>
            <a:avLst/>
            <a:gdLst>
              <a:gd name="textAreaLeft" fmla="*/ 0 w 6934320"/>
              <a:gd name="textAreaRight" fmla="*/ 6934680 w 6934320"/>
              <a:gd name="textAreaTop" fmla="*/ 0 h 4141800"/>
              <a:gd name="textAreaBottom" fmla="*/ 4142160 h 414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34" y="0"/>
                </a:lnTo>
                <a:lnTo>
                  <a:pt x="21600" y="10800"/>
                </a:lnTo>
                <a:lnTo>
                  <a:pt x="181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505320"/>
            <a:ext cx="693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358128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3505320"/>
            <a:ext cx="0" cy="20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358128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64440" y="5680080"/>
            <a:ext cx="99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26520" y="5680080"/>
            <a:ext cx="1182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14600" y="5680080"/>
            <a:ext cx="1053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0400" y="5656320"/>
            <a:ext cx="12312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52280" y="5656320"/>
            <a:ext cx="1103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8960" y="1981080"/>
            <a:ext cx="600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8960" y="2514600"/>
            <a:ext cx="623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8960" y="3048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9880" y="3263760"/>
            <a:ext cx="117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400" y="265428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OLOG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2040" y="1968480"/>
            <a:ext cx="11368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MAN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520" y="1511280"/>
            <a:ext cx="1348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124080" y="1980720"/>
            <a:ext cx="0" cy="16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19720" y="1980720"/>
            <a:ext cx="0" cy="16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715000" y="1980720"/>
            <a:ext cx="0" cy="16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781680" y="1980720"/>
            <a:ext cx="0" cy="16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3400" y="1542960"/>
            <a:ext cx="1763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    Ac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9280" y="1542960"/>
            <a:ext cx="103032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08920" y="1541520"/>
            <a:ext cx="172656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     Commu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3240" y="1546200"/>
            <a:ext cx="117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2057400"/>
            <a:ext cx="1030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fety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18520" y="2022480"/>
            <a:ext cx="637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61520" y="2022480"/>
            <a:ext cx="637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-f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7240" y="2590920"/>
            <a:ext cx="1307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ggage Tra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1320" y="3780000"/>
            <a:ext cx="135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2840" y="3733920"/>
            <a:ext cx="11016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53040" y="3780000"/>
            <a:ext cx="1164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1280" y="3733920"/>
            <a:ext cx="14947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cket Cou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-boar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gage Hand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cket Of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3640" y="3657600"/>
            <a:ext cx="151740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enger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(Pric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 Schedu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w Schedu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ies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c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03480" y="247968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28160" y="3048120"/>
            <a:ext cx="1780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7960" y="2514600"/>
            <a:ext cx="11462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960" y="3772080"/>
            <a:ext cx="177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t  Baggag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aint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9440" y="3733920"/>
            <a:ext cx="14814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gage 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al C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el Re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7960" y="33526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74960" y="335268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4640" y="2590920"/>
            <a:ext cx="3182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Reservation System, In-flight System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ight Scheduling System, Yield Management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56520" y="2022480"/>
            <a:ext cx="7131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gg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1600" y="1946160"/>
            <a:ext cx="1092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ight, route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ield analy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D4A-398F-4C20-BE71-B67A048D1E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Value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371600"/>
            <a:ext cx="86868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Value Chain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realize significant margins by consolidating parts of the value chain to my cust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create significant value for customers by reducing the number of entities they have to deal with in the value ch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New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offer additional information of transaction service to my existing customer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use my ability to attract customers to generate new sources of revenue, such as advertising or sales of complementary produ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D38-7D60-472C-AC61-F851789877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1360" y="159984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Competitiv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os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Re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140-1E16-43C1-AD52-942020F75A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14:32:28Z</dcterms:created>
  <dc:creator>Tridas Mukopadhyay</dc:creator>
  <dc:description/>
  <dc:language>en-US</dc:language>
  <cp:lastModifiedBy>Tridas Mukopadhyay</cp:lastModifiedBy>
  <dcterms:modified xsi:type="dcterms:W3CDTF">2000-08-24T12:52:12Z</dcterms:modified>
  <cp:revision>91</cp:revision>
  <dc:subject/>
  <dc:title>No Slide Title</dc:title>
</cp:coreProperties>
</file>