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180F-FB8C-475E-9795-FEB7D8ED1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A977-3FE3-4EAD-B72E-3FA0948A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9398-08B9-4AFC-850A-D5EB8FC12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719A-E104-4A84-A1BD-1EBBF1C1B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AD00-9911-4BBE-B5C0-263D877A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53E6-E284-4B3C-9563-48D92715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EB04-1A19-482C-9DB8-B1670EF7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3593-9297-442A-AC8A-1F6AD986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0692-C3F0-45FD-B5EB-1C9CBB64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3327-1DE8-44BC-9737-468E4E06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23F9-70AC-4C2D-A3C5-37960158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E94D-08E8-47BC-B590-2AF49E0B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V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Commerce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12E2-BA62-41FC-96E4-10C9D5A6C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857160"/>
            <a:ext cx="91440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Commerce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2895480"/>
            <a:ext cx="7111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or Tridas Mukhopadhy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or, MS in Electronic Comme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oitte Consulting Chair Professor of e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das@andrew.cmu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74DC-6A69-4228-88C6-BDEC8A52059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228600"/>
            <a:ext cx="9144000" cy="65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MRP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requi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ing support for product and parts var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production schedule, inventory records, B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vorable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BOM levels &gt;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lot s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volat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9C41-38EA-4F61-9E28-DB7FD9F8D37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ly Ch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06080" y="20001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s 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</a:rPr>
              <a:t>Supply Chain Configur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ly Chain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CF29-BF05-4BC2-B61F-A943754A9D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3999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upply Chain Management: Tr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6440" y="1257480"/>
            <a:ext cx="8737560" cy="54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manufacturers, retailers, customers &amp;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amline materials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 demand fluctuations, global sourcing, shorter life cycles, and lower brand loy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service, growth, revenue enhan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for information integration across the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4800600"/>
            <a:ext cx="0" cy="74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49ED-6143-4F82-80E5-6F3F78F352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914400"/>
            <a:ext cx="162576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33720" y="914400"/>
            <a:ext cx="16254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518240" y="914400"/>
            <a:ext cx="162576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84880" y="914400"/>
            <a:ext cx="16254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2000160"/>
            <a:ext cx="162576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02320" y="2000160"/>
            <a:ext cx="162576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52680" y="3029040"/>
            <a:ext cx="2235240" cy="74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4172040"/>
            <a:ext cx="71136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22360" y="4172040"/>
            <a:ext cx="71136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07240" y="4172040"/>
            <a:ext cx="71100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432640" y="4172040"/>
            <a:ext cx="71136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5315040"/>
            <a:ext cx="71136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22360" y="5315040"/>
            <a:ext cx="71136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432640" y="5315040"/>
            <a:ext cx="71136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07240" y="5315040"/>
            <a:ext cx="71100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711360" y="1486080"/>
            <a:ext cx="1015920" cy="514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1727280" y="1486080"/>
            <a:ext cx="1218960" cy="514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7315200" y="1486080"/>
            <a:ext cx="1219320" cy="514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6299280" y="1486080"/>
            <a:ext cx="1015920" cy="514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70480" y="2571840"/>
            <a:ext cx="27432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1625760" y="2571840"/>
            <a:ext cx="2844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4000680"/>
            <a:ext cx="853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304920" y="400068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1828800" y="400068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7112160" y="400068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8839080" y="400068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70480" y="3771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352680" y="428616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er 1 Suppl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52680" y="5429160"/>
            <a:ext cx="25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er 2 Suppl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04920" y="4743360"/>
            <a:ext cx="1422360" cy="571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727280" y="4743360"/>
            <a:ext cx="0" cy="571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52680" y="320040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1981080"/>
            <a:ext cx="162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ribution Cent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477120" y="1981080"/>
            <a:ext cx="162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ribution Cent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1028880"/>
            <a:ext cx="16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33720" y="102888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84880" y="108576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518240" y="1085760"/>
            <a:ext cx="16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upply chain for a Manufactur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7112160" y="4743360"/>
            <a:ext cx="0" cy="571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1727280" y="4743360"/>
            <a:ext cx="5283000" cy="571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434340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23880" y="434340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908760" y="43434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432640" y="434340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54864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422360" y="548640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07240" y="548640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432640" y="548640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470480" y="1486080"/>
            <a:ext cx="1727280" cy="154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2512-40CF-46F3-B749-85CCE2A2E0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ush-Based vs. Pull-Based Supply Ch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857160"/>
            <a:ext cx="4267080" cy="1428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2629080"/>
            <a:ext cx="4267080" cy="1428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4400640"/>
            <a:ext cx="4267080" cy="1428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76920" y="1143000"/>
            <a:ext cx="4267080" cy="1428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2971800"/>
            <a:ext cx="4267080" cy="1428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76920" y="4743360"/>
            <a:ext cx="4267080" cy="150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1143000"/>
            <a:ext cx="426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2914560"/>
            <a:ext cx="426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76920" y="3257640"/>
            <a:ext cx="426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876920" y="1428840"/>
            <a:ext cx="426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6920" y="5086440"/>
            <a:ext cx="426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4743360"/>
            <a:ext cx="426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7621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76920" y="472428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25909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on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76920" y="289548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on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434340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ail 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76920" y="106668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ail 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1219320"/>
            <a:ext cx="426708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ter Schedu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ck Distribution 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ual ord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048120"/>
            <a:ext cx="42670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der point based on fore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als, promotion, forward buy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ual ord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4800600"/>
            <a:ext cx="42670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 shelf inven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o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ual order 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133720" y="5829480"/>
            <a:ext cx="0" cy="28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6019920"/>
            <a:ext cx="345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er Purc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87920" y="628560"/>
            <a:ext cx="32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er Purc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7010280" y="857160"/>
            <a:ext cx="0" cy="285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33720" y="2286000"/>
            <a:ext cx="0" cy="343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33720" y="4057560"/>
            <a:ext cx="0" cy="343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10280" y="2571840"/>
            <a:ext cx="0" cy="399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10280" y="440064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876920" y="1447920"/>
            <a:ext cx="42670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 data col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petual inventory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electronic ord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76920" y="3276720"/>
            <a:ext cx="42670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electronic ord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ipping container mar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76920" y="5105520"/>
            <a:ext cx="4267080" cy="11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 data drives schedu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rt cycle manufact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vance shipping no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rcode sca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A717-8B86-4245-9FCB-D153D9C549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228600"/>
            <a:ext cx="9144000" cy="74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upply Chain Dynam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 / product mix changes from 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 / under-filled ship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shortages / breakd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ineering changes/ new products/ sales promo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errors (e.g., forecasting err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5A67-9596-4461-9F6F-BC1741D1D2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406440" y="1657080"/>
            <a:ext cx="386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perations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gregate inventory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eks of sup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ntory tur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on and material co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centage de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centage on-time deliv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-product development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lier lead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876920" y="1657440"/>
            <a:ext cx="386064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Financial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as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on mar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on mar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e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e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72040" y="41371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278240" y="24382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221000" y="26668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368960" y="2629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68960" y="2171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68960" y="4743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368960" y="5200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331120" y="2171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331120" y="2571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33112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331120" y="5200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8331120" y="4743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8331120" y="4285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8331120" y="3828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8331120" y="3428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436896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6896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4368960" y="4285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36896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5791320"/>
            <a:ext cx="802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7960" y="1542960"/>
            <a:ext cx="802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7960" y="2000160"/>
            <a:ext cx="802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01560" y="539640"/>
            <a:ext cx="611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y-Chain Performance 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1EC0-BCCE-4B69-9905-2CDE34A8B6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atching Environments with Supply Ch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5760" y="966960"/>
          <a:ext cx="8501040" cy="788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66960"/>
                    <a:ext cx="8501040" cy="78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457200" y="1371600"/>
            <a:ext cx="812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" y="624852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914400"/>
            <a:ext cx="812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BC9F-7E16-449C-94DD-0814E3BFF5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Design Features for Supply Ch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500040" y="857160"/>
          <a:ext cx="8167680" cy="598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857160"/>
                    <a:ext cx="8167680" cy="59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092D-68FD-4F26-8702-6052B88196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ly Ch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1136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s 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ly Chain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</a:rPr>
              <a:t>Supply Chain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F744-5391-45BF-8E22-F68C5FEB58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7600" y="914400"/>
            <a:ext cx="86360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eCommerce Fundamentals 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5, 2:45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Value Chain and Competition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6, 8:45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eValue Creation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6, 10:30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Ford Cas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6, 1:00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B2B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6, 2:45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 eMarketing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8, 8:45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 Free Market Cas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8, 10:30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. Supply Chain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8, 1:00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. eServic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8, 2:45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 Digital goods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13, 8:45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 Dell Cas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13, 10:30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 Internet Strategies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13, 1:00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F631-C62E-4995-A472-725AD15EE2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ompetitive Advantage in the Supply Ch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727280" y="1486080"/>
            <a:ext cx="7416720" cy="4228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27280" y="3600360"/>
            <a:ext cx="7416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86400" y="1486080"/>
            <a:ext cx="0" cy="422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828800" y="2057400"/>
            <a:ext cx="3657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lier owns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vantage to supp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27280" y="4114800"/>
            <a:ext cx="375912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ology in public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advantage pos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86400" y="2057400"/>
            <a:ext cx="406404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int design, full prot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ll advan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587920" y="4114800"/>
            <a:ext cx="35560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ilo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int ownership, some prot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ble advan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828800" y="58294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Custom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2457360"/>
            <a:ext cx="1727280" cy="33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supp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suppl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828800" y="108576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and control of technological 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F823-8D1F-4DE7-BBD1-4045D6CF09B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priate B2B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727280" y="1486080"/>
            <a:ext cx="7416720" cy="4228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045160" y="2816640"/>
            <a:ext cx="2818440" cy="2443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5056560" y="1793160"/>
            <a:ext cx="2891160" cy="23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828800" y="1523880"/>
            <a:ext cx="731520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equ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ment sta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c all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partner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term con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ferred suppl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tive b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 term contr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t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28800" y="4514760"/>
            <a:ext cx="20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07240" y="1943280"/>
            <a:ext cx="14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76520" y="563868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llabor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3352680" y="601992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19920" y="601992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1486080"/>
            <a:ext cx="193032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over 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CDC3-D60E-479E-A2A9-542BEE153C0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ly on Compe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78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-supply in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dit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inno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 collap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78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 le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mani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chma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g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EFBC-FE6A-46DF-B500-91DECFAFE7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ly on Collabo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673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o vital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for market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uring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78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term contrac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sal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R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cos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B25E-F6D1-4A22-8F27-5518320585A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2844720" y="228600"/>
            <a:ext cx="3251160" cy="131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971800" y="533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design of Supply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454560" y="743040"/>
            <a:ext cx="2438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572000" y="1542960"/>
            <a:ext cx="0" cy="34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422360" y="1886040"/>
            <a:ext cx="629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00400" y="2590920"/>
            <a:ext cx="2946240" cy="3314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2571840"/>
            <a:ext cx="2844720" cy="3314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299280" y="2571840"/>
            <a:ext cx="2844720" cy="3314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" name=""/>
          <p:cNvCxnSpPr>
            <a:stCxn id="352" idx="0"/>
            <a:endCxn id="354" idx="0"/>
          </p:cNvCxnSpPr>
          <p:nvPr/>
        </p:nvCxnSpPr>
        <p:spPr>
          <a:xfrm>
            <a:off x="1422000" y="1875960"/>
            <a:ext cx="108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57" name=""/>
          <p:cNvCxnSpPr/>
          <p:nvPr/>
        </p:nvCxnSpPr>
        <p:spPr>
          <a:xfrm>
            <a:off x="4571640" y="1828440"/>
            <a:ext cx="1080" cy="734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58" name=""/>
          <p:cNvSpPr/>
          <p:nvPr/>
        </p:nvSpPr>
        <p:spPr>
          <a:xfrm flipV="1">
            <a:off x="7721640" y="188568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3200400"/>
            <a:ext cx="284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200400" y="3200400"/>
            <a:ext cx="2946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299280" y="3200400"/>
            <a:ext cx="284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2629080"/>
            <a:ext cx="28447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monize, Rational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U re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d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lier re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lier invol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nd ration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2819520"/>
            <a:ext cx="3048120" cy="27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ic Ch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net / Extranet / 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-line catalo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-Purcha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icient Consumer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299280" y="2685960"/>
            <a:ext cx="2844720" cy="32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t Low Value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sour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ferred suppli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are sche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lier managed inven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rchasing 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BE2D-91BF-4FCA-8E23-6D4779BDC9D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800280"/>
            <a:ext cx="2235240" cy="485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048120" y="762120"/>
            <a:ext cx="2235240" cy="485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5029200"/>
            <a:ext cx="2235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4400640"/>
            <a:ext cx="2235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3772080"/>
            <a:ext cx="2235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3143160"/>
            <a:ext cx="2235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2629080"/>
            <a:ext cx="2235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5429160"/>
            <a:ext cx="2235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048120" y="5086440"/>
            <a:ext cx="2235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048120" y="4724280"/>
            <a:ext cx="2235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8120" y="4343400"/>
            <a:ext cx="2235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48120" y="4000680"/>
            <a:ext cx="2235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2286000"/>
            <a:ext cx="2235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048120" y="3657600"/>
            <a:ext cx="2235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1943280"/>
            <a:ext cx="2235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048120" y="2971800"/>
            <a:ext cx="2235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1542960"/>
            <a:ext cx="2235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1200240"/>
            <a:ext cx="2235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48120" y="1600200"/>
            <a:ext cx="2235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48120" y="2362320"/>
            <a:ext cx="2235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9480" y="990720"/>
            <a:ext cx="914400" cy="47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429000" y="1066680"/>
            <a:ext cx="1320840" cy="47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304920"/>
            <a:ext cx="55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urrent Focus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 Required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486400" y="304920"/>
            <a:ext cx="3657600" cy="57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ical Activi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produ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or manufactu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c cost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through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s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ck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value purch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4A80-F9AE-4D8A-8638-CD29BC98575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hange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031840" y="1771560"/>
            <a:ext cx="0" cy="3714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031840" y="5486400"/>
            <a:ext cx="7112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031840" y="4572000"/>
            <a:ext cx="142272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775040" y="3143160"/>
            <a:ext cx="1422720" cy="23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454560" y="3886200"/>
            <a:ext cx="1320480" cy="160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197760" y="2514600"/>
            <a:ext cx="1320480" cy="2971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518240" y="1828800"/>
            <a:ext cx="1625760" cy="3657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981080" y="4572000"/>
            <a:ext cx="15242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ick W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lier re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454560" y="4057560"/>
            <a:ext cx="1422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ysis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800600" y="3276720"/>
            <a:ext cx="13460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procur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197760" y="2629080"/>
            <a:ext cx="1422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jor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416720" y="1886040"/>
            <a:ext cx="17272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tegic Al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2133720" y="3600000"/>
            <a:ext cx="507960" cy="228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5486400" y="2114280"/>
            <a:ext cx="507960" cy="228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759120" y="2857320"/>
            <a:ext cx="507960" cy="228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3251160" y="3085920"/>
            <a:ext cx="50796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4978440" y="2342880"/>
            <a:ext cx="50796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6908760" y="1542600"/>
            <a:ext cx="50796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133720" y="3257640"/>
            <a:ext cx="203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al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038480" y="23623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689440" y="1771560"/>
            <a:ext cx="162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tegic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1886040"/>
            <a:ext cx="203184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tegic I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mental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625760" y="5543640"/>
            <a:ext cx="751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rt Ter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gration Pla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g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D6D3-98EC-4C3D-AA81-188F71ECF6E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1828800" y="2114640"/>
            <a:ext cx="7315200" cy="2628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828800" y="342900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486400" y="2114640"/>
            <a:ext cx="0" cy="262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930320" y="4857840"/>
            <a:ext cx="72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al Demand for Ch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2114640"/>
            <a:ext cx="14223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930320" y="2514600"/>
            <a:ext cx="345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ormational Leader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828800" y="382896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portunistic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486400" y="394344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Initi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257184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y Chain                     Real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11430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lection of Change Management 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EB74-73B9-42DE-9D84-B20CC01AB16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Key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get it r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ive chain is not without cost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of competitive sour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078E-3D75-4943-8DA3-D6182C20652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228600"/>
            <a:ext cx="9144000" cy="58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ll On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the advantages of Dell’s pull system of supply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Dell’s distribution system differ from other commonly used channels in the industry? What are its relative strengths and weaknesse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the benefits of the Dell Online channel? What are the benefits of Dell’s Primer Pages? To its customer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at should Dell do to increase its online business?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522F-41AE-498E-839C-F93F3DE68FA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ly Ch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</a:rPr>
              <a:t>Operations F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ly Chain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ly Chain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AF06-B784-42AB-BF00-9108AA6ABD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571840"/>
            <a:ext cx="2133720" cy="1314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56080" y="2571840"/>
            <a:ext cx="2133360" cy="1314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010280" y="2571840"/>
            <a:ext cx="2133720" cy="1314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015920" y="2057040"/>
            <a:ext cx="0" cy="51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8026560" y="2057040"/>
            <a:ext cx="0" cy="51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673520" y="2057040"/>
            <a:ext cx="0" cy="51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15920" y="2057400"/>
            <a:ext cx="7010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8026560" y="3886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572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015920" y="3886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15920" y="4343400"/>
            <a:ext cx="7010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2895480"/>
            <a:ext cx="4876560" cy="685800"/>
          </a:xfrm>
          <a:prstGeom prst="leftRightArrow">
            <a:avLst>
              <a:gd name="adj1" fmla="val 50000"/>
              <a:gd name="adj2" fmla="val 14155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15920" y="1028880"/>
            <a:ext cx="6908760" cy="723600"/>
          </a:xfrm>
          <a:prstGeom prst="leftArrow">
            <a:avLst>
              <a:gd name="adj1" fmla="val 50000"/>
              <a:gd name="adj2" fmla="val 238694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15920" y="4648320"/>
            <a:ext cx="7010640" cy="780840"/>
          </a:xfrm>
          <a:prstGeom prst="rightArrow">
            <a:avLst>
              <a:gd name="adj1" fmla="val 50000"/>
              <a:gd name="adj2" fmla="val 224458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0290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14600" y="2590920"/>
            <a:ext cx="406404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ai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 Flow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12160" y="2914560"/>
            <a:ext cx="203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r / Suppli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4800600"/>
            <a:ext cx="46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ments: Funds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44720" y="1143000"/>
            <a:ext cx="50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s/Services: Value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167652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49640" y="4400640"/>
            <a:ext cx="28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er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upply Chain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EADD-660D-4D4A-B33D-69886AA2E1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031840" y="685800"/>
            <a:ext cx="711360" cy="34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4686480"/>
            <a:ext cx="711360" cy="342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4686480"/>
            <a:ext cx="711000" cy="342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73520" y="4686480"/>
            <a:ext cx="711360" cy="342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4686480"/>
            <a:ext cx="711360" cy="342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64040" y="1428840"/>
            <a:ext cx="711000" cy="342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5880" y="914400"/>
            <a:ext cx="711360" cy="34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30320" y="1828800"/>
            <a:ext cx="711360" cy="34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59120" y="2286000"/>
            <a:ext cx="711360" cy="34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800280"/>
            <a:ext cx="203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886040"/>
            <a:ext cx="20318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114640"/>
            <a:ext cx="20318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35240" y="74304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1886040"/>
            <a:ext cx="50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1486080"/>
            <a:ext cx="50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2343240"/>
            <a:ext cx="81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540160" y="1657080"/>
            <a:ext cx="1523880" cy="2286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742840" y="857160"/>
            <a:ext cx="1523880" cy="571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40160" y="1028880"/>
            <a:ext cx="1523880" cy="1257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4165560" y="1771200"/>
            <a:ext cx="304920" cy="51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07240" y="1143000"/>
            <a:ext cx="2336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07240" y="1028880"/>
            <a:ext cx="233676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41680" y="743040"/>
            <a:ext cx="3454200" cy="2858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800280"/>
            <a:ext cx="3352680" cy="342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685800"/>
            <a:ext cx="6705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336760" y="1028880"/>
            <a:ext cx="0" cy="7999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2641320" y="971280"/>
            <a:ext cx="1422360" cy="571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97760" y="971640"/>
            <a:ext cx="40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33720" y="4743360"/>
            <a:ext cx="1015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4743360"/>
            <a:ext cx="1117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83360" y="474336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7010280" y="4400640"/>
            <a:ext cx="2133720" cy="342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286160"/>
            <a:ext cx="162576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0" y="4915080"/>
            <a:ext cx="1523880" cy="342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33720" y="4971960"/>
            <a:ext cx="101592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57600" y="4971960"/>
            <a:ext cx="11174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83360" y="497196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10280" y="4971960"/>
            <a:ext cx="2133720" cy="2286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000680"/>
            <a:ext cx="264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6 Cylinder Mid-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372280"/>
            <a:ext cx="25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4 Cylinder Comp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25760" y="4743360"/>
            <a:ext cx="50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49640" y="4743360"/>
            <a:ext cx="50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4743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502320" y="4743360"/>
            <a:ext cx="50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171360"/>
            <a:ext cx="66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le Flows at Health Cli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81480" y="1523880"/>
            <a:ext cx="39625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: Doctor (exam ro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: Radiology (X r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: Triage (assess severit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: Blood 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: Pharma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762120"/>
            <a:ext cx="203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ysical Ex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213680" y="380880"/>
            <a:ext cx="19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ysical Ex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600200"/>
            <a:ext cx="19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oken a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15200" y="1143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oken a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1337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467480" y="76212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27280" y="3200400"/>
            <a:ext cx="58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ine Flows at Car Assembly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2743200"/>
            <a:ext cx="220968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: Front-end assemb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H: Hood attach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F: Fluid f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: Start-up &amp;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4343400"/>
            <a:ext cx="28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6 Cylinder Mid-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248520" y="5029200"/>
            <a:ext cx="314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4 Cylinder Comp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40160" y="5715000"/>
            <a:ext cx="416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peration Flow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2B1E-D10D-443F-A3B0-51E20A1306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s Flow and Competitive Strateg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1485720"/>
            <a:ext cx="3784680" cy="46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lexible F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Volu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Desig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Delivery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470120" y="1486080"/>
            <a:ext cx="3784680" cy="45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Line F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t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Delivery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2AFD-62C6-4F29-B873-84F13E1C94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286000" y="1447920"/>
            <a:ext cx="0" cy="4000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0" y="548640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1371600"/>
            <a:ext cx="2743200" cy="1428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2743200"/>
            <a:ext cx="2743200" cy="1428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00800" y="4000680"/>
            <a:ext cx="2743200" cy="1428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523880"/>
            <a:ext cx="2438280" cy="39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mbled  fl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dominant fl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 fl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19520" y="1523880"/>
            <a:ext cx="2539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exible 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 and die sh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lth 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48320" y="2971800"/>
            <a:ext cx="26413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mediate 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nch off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nt sh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08760" y="4286160"/>
            <a:ext cx="22352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e 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mbly  pl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il  refin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90920" y="5562720"/>
            <a:ext cx="6197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Mediu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lu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Volu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olu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858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elationship between Flows and 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EAA9-B8B0-47CC-96AD-E621252341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T" descr=""/>
          <p:cNvPicPr/>
          <p:nvPr/>
        </p:nvPicPr>
        <p:blipFill>
          <a:blip r:embed="rId1"/>
          <a:stretch/>
        </p:blipFill>
        <p:spPr>
          <a:xfrm>
            <a:off x="-39600" y="457200"/>
            <a:ext cx="9183600" cy="6400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235240" y="4229280"/>
            <a:ext cx="1422360" cy="51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3029040"/>
            <a:ext cx="162540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64040" y="4229280"/>
            <a:ext cx="1422360" cy="51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94360" y="4229280"/>
            <a:ext cx="1422360" cy="51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21640" y="4229280"/>
            <a:ext cx="1422360" cy="51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5315040"/>
            <a:ext cx="1422360" cy="51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33720" y="5315040"/>
            <a:ext cx="1422360" cy="51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64040" y="5315040"/>
            <a:ext cx="1422360" cy="51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94360" y="5315040"/>
            <a:ext cx="1422360" cy="51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64040" y="6229440"/>
            <a:ext cx="1422360" cy="51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89440" y="3600360"/>
            <a:ext cx="0" cy="28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46240" y="38862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46240" y="3886200"/>
            <a:ext cx="0" cy="3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75040" y="3886200"/>
            <a:ext cx="0" cy="3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886200"/>
            <a:ext cx="0" cy="3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432640" y="3886200"/>
            <a:ext cx="0" cy="3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46240" y="4743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1117440" y="497196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17440" y="4971960"/>
            <a:ext cx="0" cy="3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46240" y="4971960"/>
            <a:ext cx="0" cy="3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75040" y="4743360"/>
            <a:ext cx="0" cy="57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75040" y="5029200"/>
            <a:ext cx="193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05720" y="5029200"/>
            <a:ext cx="0" cy="28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75040" y="5829480"/>
            <a:ext cx="0" cy="3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314316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adder-back Ch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09680" y="4267080"/>
            <a:ext cx="142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dder-back sub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267080"/>
            <a:ext cx="142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t sub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94360" y="4400640"/>
            <a:ext cx="142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 le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721640" y="4400640"/>
            <a:ext cx="142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 sup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5486400"/>
            <a:ext cx="142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 le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5486400"/>
            <a:ext cx="142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 sl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64040" y="5486400"/>
            <a:ext cx="142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t 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994360" y="5486400"/>
            <a:ext cx="142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t cush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38480" y="6248520"/>
            <a:ext cx="142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t-frame bo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12880" y="0"/>
            <a:ext cx="772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ill of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57ED-D7C2-4236-BC51-0B763A6A7E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2743200"/>
            <a:ext cx="223524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54560" y="2743200"/>
            <a:ext cx="223488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08760" y="2743200"/>
            <a:ext cx="223524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56080" y="914400"/>
            <a:ext cx="223524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54560" y="4686480"/>
            <a:ext cx="223488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143000"/>
            <a:ext cx="1930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ter Production Sche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56080" y="3029040"/>
            <a:ext cx="193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P Explo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14316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ntory Rec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10280" y="314316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ll of mater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54560" y="4915080"/>
            <a:ext cx="2234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erials Requirements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35240" y="3314880"/>
            <a:ext cx="12193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89440" y="3314880"/>
            <a:ext cx="12193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73520" y="205740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3886200"/>
            <a:ext cx="0" cy="800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Materials Requirements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8C97-FD39-4E86-8E5A-939FAC5533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5T16:37:44Z</dcterms:created>
  <dc:creator>Tridas Mukopadhyay</dc:creator>
  <dc:description/>
  <dc:language>en-US</dc:language>
  <cp:lastModifiedBy>Tridas Mukopadhyay</cp:lastModifiedBy>
  <cp:lastPrinted>1999-06-14T14:02:57Z</cp:lastPrinted>
  <dcterms:modified xsi:type="dcterms:W3CDTF">2000-08-24T12:59:49Z</dcterms:modified>
  <cp:revision>108</cp:revision>
  <dc:subject/>
  <dc:title>No Slide Title</dc:title>
</cp:coreProperties>
</file>