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4284-4871-46F9-BDDF-691988B68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D6F2-074F-44C5-A90C-77B237643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10F5-FF40-444C-99A7-8E6A3D194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1B88-2352-4114-87F9-837F87286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8468-718F-45A1-8AB6-55CC352B1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C751-159A-4A1D-BB6F-92A1BB961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403D-BFB3-4734-8F82-2AE0AE69A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46AB-06D4-4088-B4E1-92A18BFDB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E9DC-9509-4937-AD86-24CEE1E23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7094-8D3E-40C0-81E4-B3E3D974E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56C9-6E04-4426-A7C4-B6C582EF5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8295-7FEF-4279-9EE3-544A98D1F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F11-575E-47A3-95B5-6B2D7D89E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008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76720" y="64008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BAE7-3898-4DBC-B127-DFE8C1260F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3720" y="0"/>
            <a:ext cx="41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8560"/>
            <a:ext cx="914400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Microsoft Office Suite, Cable TV, News 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bu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: compatibility across applications in the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: Reduce dispersion in consumer valuation 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Word)=$75, P(Excel)=$75, Revenue=75*2+75*2=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undle)=$175, Revenue=175*2=$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bu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bu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ional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09680" y="2895480"/>
          <a:ext cx="3087720" cy="83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95480"/>
                    <a:ext cx="30877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2FD2-AFE6-4DA0-B933-01EBBFFBE2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ations of Low Distribu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4296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istribution is easy, cheap and qu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way free samples to sell content (information = experience goo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bitlegger” must advertise for business to his pe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protection imposes costs on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5DDC-AD6D-43F4-90D2-FE4EEAE1E5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Switching Cos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Extern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796F-6989-4ED2-82D4-FCE37A3FC7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14400"/>
            <a:ext cx="914400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Switching from PC to Mac?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to Unix?  Access to Ora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switching cost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to customers and n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mall switching costs  are critical in mas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from current custome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’s total switching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Supplier’s quality/cost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a premium from existing customers while offering discounts to new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B440-DA5F-45E6-A523-8237A41DF8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31840" y="457200"/>
            <a:ext cx="53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k-I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75400" y="2513160"/>
            <a:ext cx="3453840" cy="217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914040" y="2400840"/>
            <a:ext cx="36568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14400" y="1943280"/>
            <a:ext cx="4062960" cy="205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70840" y="1886040"/>
            <a:ext cx="3656880" cy="205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49640" y="1714680"/>
            <a:ext cx="29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n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86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3143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7179-FA58-45E7-8D2A-BD0310093D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-Ins and Switch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 of Lock-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commit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ory or liquidated da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ble purch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ment of equipment; tends to decline as the du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-specific 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a new system, both direct costs and lo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ty; tends to rise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and datab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ng data to new format; tends to rise over time 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zed suppli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of new supplier; may rise over time if capabil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hard to find/mai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co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buyer and seller search costs; includes lear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quality of 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yalty progra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lost benefits from incumbent supplier, plus possi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rebuild cumulativ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DD79-1EB0-4499-B0A6-270377BCB7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20840" y="22860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er’s Lock-in 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971640"/>
            <a:ext cx="690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914400"/>
            <a:ext cx="883908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gain for discounts or support for switc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ason that your benefits (costs) from switching are small (lar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everage future purchases or your ability to influence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eek protection from monopolistic exploitation down the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Keep your options open via second sourc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atch out for creeping lock-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2741-0294-42F5-9E10-6E33E75D1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flipH="1">
            <a:off x="1219320" y="2514600"/>
            <a:ext cx="2946240" cy="1943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9320" y="4457880"/>
            <a:ext cx="558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57200"/>
            <a:ext cx="49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er’s Lock-in 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3184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86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n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65560" y="2514600"/>
            <a:ext cx="2641680" cy="194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BF99-BE5B-49BA-80C6-ABFE24212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27280" y="0"/>
            <a:ext cx="55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er’s Lock-in 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44560"/>
            <a:ext cx="914400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ing in an Installe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head the whol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fluential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a life-cycle 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arket share is not a 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 buyers with hi switch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divergent interests of multiple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C1C1-E578-4403-81CD-3663A0041A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2120"/>
            <a:ext cx="9144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 Customer Entren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value-add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oyalty programs and cumulative 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rage Your Installe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 complementar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 access to your installe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differential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te searc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1st move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yc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er’s Lock-in  Strategies (Con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2C14-E472-4AA7-8A1B-AA76268DFC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D9D8-6B43-4236-9CE0-0DF7A7365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Network Externaliti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51EF-867A-490C-B0A3-E7896ADCD7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xtern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a product is affected by the number of 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Externalities: Telephone, Email, File sharing,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externalities: over-crowding, congestion, 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4720" y="571500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819520" y="2819520"/>
            <a:ext cx="0" cy="291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191120"/>
            <a:ext cx="4853160" cy="1295280"/>
          </a:xfrm>
          <a:custGeom>
            <a:avLst/>
            <a:gdLst/>
            <a:ahLst/>
            <a:rect l="l" t="t" r="r" b="b"/>
            <a:pathLst>
              <a:path w="2293" h="1089">
                <a:moveTo>
                  <a:pt x="0" y="65"/>
                </a:moveTo>
                <a:cubicBezTo>
                  <a:pt x="189" y="0"/>
                  <a:pt x="278" y="48"/>
                  <a:pt x="554" y="54"/>
                </a:cubicBezTo>
                <a:cubicBezTo>
                  <a:pt x="632" y="67"/>
                  <a:pt x="720" y="87"/>
                  <a:pt x="789" y="129"/>
                </a:cubicBezTo>
                <a:cubicBezTo>
                  <a:pt x="923" y="209"/>
                  <a:pt x="1034" y="327"/>
                  <a:pt x="1173" y="395"/>
                </a:cubicBezTo>
                <a:cubicBezTo>
                  <a:pt x="1195" y="429"/>
                  <a:pt x="1224" y="440"/>
                  <a:pt x="1248" y="470"/>
                </a:cubicBezTo>
                <a:cubicBezTo>
                  <a:pt x="1290" y="522"/>
                  <a:pt x="1244" y="486"/>
                  <a:pt x="1301" y="523"/>
                </a:cubicBezTo>
                <a:cubicBezTo>
                  <a:pt x="1322" y="555"/>
                  <a:pt x="1355" y="577"/>
                  <a:pt x="1376" y="609"/>
                </a:cubicBezTo>
                <a:cubicBezTo>
                  <a:pt x="1401" y="647"/>
                  <a:pt x="1428" y="665"/>
                  <a:pt x="1461" y="694"/>
                </a:cubicBezTo>
                <a:cubicBezTo>
                  <a:pt x="1484" y="714"/>
                  <a:pt x="1500" y="741"/>
                  <a:pt x="1525" y="758"/>
                </a:cubicBezTo>
                <a:cubicBezTo>
                  <a:pt x="1582" y="796"/>
                  <a:pt x="1638" y="830"/>
                  <a:pt x="1696" y="865"/>
                </a:cubicBezTo>
                <a:cubicBezTo>
                  <a:pt x="1718" y="878"/>
                  <a:pt x="1742" y="889"/>
                  <a:pt x="1760" y="907"/>
                </a:cubicBezTo>
                <a:cubicBezTo>
                  <a:pt x="1767" y="914"/>
                  <a:pt x="1772" y="924"/>
                  <a:pt x="1781" y="929"/>
                </a:cubicBezTo>
                <a:cubicBezTo>
                  <a:pt x="1804" y="943"/>
                  <a:pt x="1832" y="947"/>
                  <a:pt x="1856" y="961"/>
                </a:cubicBezTo>
                <a:cubicBezTo>
                  <a:pt x="1867" y="967"/>
                  <a:pt x="1876" y="977"/>
                  <a:pt x="1888" y="982"/>
                </a:cubicBezTo>
                <a:cubicBezTo>
                  <a:pt x="1909" y="991"/>
                  <a:pt x="1952" y="1003"/>
                  <a:pt x="1952" y="1003"/>
                </a:cubicBezTo>
                <a:cubicBezTo>
                  <a:pt x="1989" y="1041"/>
                  <a:pt x="1963" y="1021"/>
                  <a:pt x="2037" y="1046"/>
                </a:cubicBezTo>
                <a:cubicBezTo>
                  <a:pt x="2128" y="1076"/>
                  <a:pt x="2194" y="1089"/>
                  <a:pt x="2293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895480"/>
            <a:ext cx="4718160" cy="1282680"/>
          </a:xfrm>
          <a:custGeom>
            <a:avLst/>
            <a:gdLst/>
            <a:ahLst/>
            <a:rect l="l" t="t" r="r" b="b"/>
            <a:pathLst>
              <a:path w="2229" h="1077">
                <a:moveTo>
                  <a:pt x="0" y="1077"/>
                </a:moveTo>
                <a:cubicBezTo>
                  <a:pt x="104" y="1045"/>
                  <a:pt x="271" y="1045"/>
                  <a:pt x="384" y="1035"/>
                </a:cubicBezTo>
                <a:cubicBezTo>
                  <a:pt x="468" y="1006"/>
                  <a:pt x="556" y="989"/>
                  <a:pt x="640" y="960"/>
                </a:cubicBezTo>
                <a:cubicBezTo>
                  <a:pt x="668" y="950"/>
                  <a:pt x="712" y="944"/>
                  <a:pt x="736" y="928"/>
                </a:cubicBezTo>
                <a:cubicBezTo>
                  <a:pt x="809" y="879"/>
                  <a:pt x="775" y="893"/>
                  <a:pt x="832" y="875"/>
                </a:cubicBezTo>
                <a:cubicBezTo>
                  <a:pt x="879" y="826"/>
                  <a:pt x="823" y="877"/>
                  <a:pt x="885" y="843"/>
                </a:cubicBezTo>
                <a:cubicBezTo>
                  <a:pt x="938" y="814"/>
                  <a:pt x="993" y="768"/>
                  <a:pt x="1034" y="725"/>
                </a:cubicBezTo>
                <a:cubicBezTo>
                  <a:pt x="1053" y="670"/>
                  <a:pt x="1093" y="618"/>
                  <a:pt x="1141" y="587"/>
                </a:cubicBezTo>
                <a:cubicBezTo>
                  <a:pt x="1161" y="557"/>
                  <a:pt x="1189" y="533"/>
                  <a:pt x="1205" y="501"/>
                </a:cubicBezTo>
                <a:cubicBezTo>
                  <a:pt x="1210" y="491"/>
                  <a:pt x="1209" y="478"/>
                  <a:pt x="1216" y="469"/>
                </a:cubicBezTo>
                <a:cubicBezTo>
                  <a:pt x="1224" y="459"/>
                  <a:pt x="1238" y="456"/>
                  <a:pt x="1248" y="448"/>
                </a:cubicBezTo>
                <a:cubicBezTo>
                  <a:pt x="1271" y="428"/>
                  <a:pt x="1287" y="401"/>
                  <a:pt x="1312" y="384"/>
                </a:cubicBezTo>
                <a:cubicBezTo>
                  <a:pt x="1323" y="377"/>
                  <a:pt x="1334" y="371"/>
                  <a:pt x="1344" y="363"/>
                </a:cubicBezTo>
                <a:cubicBezTo>
                  <a:pt x="1416" y="299"/>
                  <a:pt x="1487" y="235"/>
                  <a:pt x="1568" y="181"/>
                </a:cubicBezTo>
                <a:cubicBezTo>
                  <a:pt x="1622" y="145"/>
                  <a:pt x="1666" y="127"/>
                  <a:pt x="1728" y="107"/>
                </a:cubicBezTo>
                <a:cubicBezTo>
                  <a:pt x="1749" y="100"/>
                  <a:pt x="1771" y="92"/>
                  <a:pt x="1792" y="85"/>
                </a:cubicBezTo>
                <a:cubicBezTo>
                  <a:pt x="1803" y="82"/>
                  <a:pt x="1824" y="75"/>
                  <a:pt x="1824" y="75"/>
                </a:cubicBezTo>
                <a:cubicBezTo>
                  <a:pt x="1933" y="0"/>
                  <a:pt x="2104" y="0"/>
                  <a:pt x="222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18240" y="29718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23160" y="497196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5791320"/>
            <a:ext cx="28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27672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A453-5D85-40FC-9F21-866128D2B2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Feedback is potent in network economy [Nintendo, VH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side economy of scale: Mark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side economy of scale: Cost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5029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io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594360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819520" y="3200040"/>
            <a:ext cx="0" cy="268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943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505320"/>
            <a:ext cx="5259240" cy="2425680"/>
          </a:xfrm>
          <a:custGeom>
            <a:avLst/>
            <a:gdLst/>
            <a:ahLst/>
            <a:rect l="l" t="t" r="r" b="b"/>
            <a:pathLst>
              <a:path w="2485" h="2037">
                <a:moveTo>
                  <a:pt x="0" y="2037"/>
                </a:moveTo>
                <a:cubicBezTo>
                  <a:pt x="53" y="2029"/>
                  <a:pt x="60" y="2030"/>
                  <a:pt x="106" y="2016"/>
                </a:cubicBezTo>
                <a:cubicBezTo>
                  <a:pt x="127" y="2010"/>
                  <a:pt x="170" y="1995"/>
                  <a:pt x="170" y="1995"/>
                </a:cubicBezTo>
                <a:cubicBezTo>
                  <a:pt x="221" y="1960"/>
                  <a:pt x="189" y="1978"/>
                  <a:pt x="266" y="1952"/>
                </a:cubicBezTo>
                <a:cubicBezTo>
                  <a:pt x="277" y="1948"/>
                  <a:pt x="298" y="1941"/>
                  <a:pt x="298" y="1941"/>
                </a:cubicBezTo>
                <a:cubicBezTo>
                  <a:pt x="343" y="1898"/>
                  <a:pt x="411" y="1905"/>
                  <a:pt x="469" y="1888"/>
                </a:cubicBezTo>
                <a:cubicBezTo>
                  <a:pt x="491" y="1882"/>
                  <a:pt x="533" y="1867"/>
                  <a:pt x="533" y="1867"/>
                </a:cubicBezTo>
                <a:cubicBezTo>
                  <a:pt x="584" y="1832"/>
                  <a:pt x="552" y="1850"/>
                  <a:pt x="629" y="1824"/>
                </a:cubicBezTo>
                <a:cubicBezTo>
                  <a:pt x="640" y="1820"/>
                  <a:pt x="650" y="1817"/>
                  <a:pt x="661" y="1813"/>
                </a:cubicBezTo>
                <a:cubicBezTo>
                  <a:pt x="672" y="1810"/>
                  <a:pt x="693" y="1803"/>
                  <a:pt x="693" y="1803"/>
                </a:cubicBezTo>
                <a:cubicBezTo>
                  <a:pt x="744" y="1752"/>
                  <a:pt x="717" y="1767"/>
                  <a:pt x="768" y="1749"/>
                </a:cubicBezTo>
                <a:cubicBezTo>
                  <a:pt x="854" y="1663"/>
                  <a:pt x="751" y="1756"/>
                  <a:pt x="832" y="1707"/>
                </a:cubicBezTo>
                <a:cubicBezTo>
                  <a:pt x="841" y="1702"/>
                  <a:pt x="845" y="1691"/>
                  <a:pt x="853" y="1685"/>
                </a:cubicBezTo>
                <a:cubicBezTo>
                  <a:pt x="873" y="1670"/>
                  <a:pt x="917" y="1643"/>
                  <a:pt x="917" y="1643"/>
                </a:cubicBezTo>
                <a:cubicBezTo>
                  <a:pt x="931" y="1622"/>
                  <a:pt x="942" y="1598"/>
                  <a:pt x="960" y="1579"/>
                </a:cubicBezTo>
                <a:cubicBezTo>
                  <a:pt x="967" y="1572"/>
                  <a:pt x="975" y="1565"/>
                  <a:pt x="981" y="1557"/>
                </a:cubicBezTo>
                <a:cubicBezTo>
                  <a:pt x="996" y="1536"/>
                  <a:pt x="1024" y="1493"/>
                  <a:pt x="1024" y="1493"/>
                </a:cubicBezTo>
                <a:cubicBezTo>
                  <a:pt x="1045" y="1427"/>
                  <a:pt x="1107" y="1378"/>
                  <a:pt x="1130" y="1312"/>
                </a:cubicBezTo>
                <a:cubicBezTo>
                  <a:pt x="1158" y="1231"/>
                  <a:pt x="1121" y="1331"/>
                  <a:pt x="1162" y="1248"/>
                </a:cubicBezTo>
                <a:cubicBezTo>
                  <a:pt x="1191" y="1189"/>
                  <a:pt x="1211" y="1121"/>
                  <a:pt x="1248" y="1067"/>
                </a:cubicBezTo>
                <a:cubicBezTo>
                  <a:pt x="1271" y="996"/>
                  <a:pt x="1302" y="926"/>
                  <a:pt x="1344" y="864"/>
                </a:cubicBezTo>
                <a:cubicBezTo>
                  <a:pt x="1403" y="684"/>
                  <a:pt x="1518" y="533"/>
                  <a:pt x="1632" y="384"/>
                </a:cubicBezTo>
                <a:cubicBezTo>
                  <a:pt x="1694" y="304"/>
                  <a:pt x="1752" y="219"/>
                  <a:pt x="1856" y="192"/>
                </a:cubicBezTo>
                <a:cubicBezTo>
                  <a:pt x="1972" y="114"/>
                  <a:pt x="2073" y="97"/>
                  <a:pt x="2208" y="64"/>
                </a:cubicBezTo>
                <a:cubicBezTo>
                  <a:pt x="2301" y="41"/>
                  <a:pt x="2389" y="17"/>
                  <a:pt x="248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05320"/>
            <a:ext cx="16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6556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9280" y="31431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2DE7-29FC-4E34-83D0-C0253D36E8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T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calfe: The value of a network is proportional to the square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supply-side and demand-side economies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182880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82880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y of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096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demand for var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demand for var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75248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08760" y="175248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294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ike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3840" y="2286000"/>
            <a:ext cx="254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44720" y="601992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819520" y="3352680"/>
            <a:ext cx="0" cy="268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19520" y="3886200"/>
            <a:ext cx="10362240" cy="422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ompatibl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80988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to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3733920"/>
            <a:ext cx="1930320" cy="17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048120" y="449568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35268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ou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4720" y="400068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iou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9987-2E7C-4E22-8CA4-D0126713F9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35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Positiv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y 1.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: Backward (One-way) Compatibility: MS Office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: Incumbent’s Intellectual Property Rights: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y 2.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 performance by ten times (Andy Gr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l to Early Ad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y unless a growing mar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44720" y="377172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4720" y="5829480"/>
            <a:ext cx="5486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422360" y="4114800"/>
            <a:ext cx="8534160" cy="342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791320" y="4000320"/>
            <a:ext cx="812520" cy="57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64040" y="5829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267080"/>
            <a:ext cx="23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486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82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97760" y="377208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2544-9DC0-4A2E-B47B-4B8D91A2DC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ness versu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base with switching costs (Int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er apprehension (Be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= Total industry value * Your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Openness: Int’l Telecom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: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: MS + 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: AT&amp;T before break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685800"/>
            <a:ext cx="71136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990720"/>
            <a:ext cx="71136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44720" y="377172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4720" y="5829480"/>
            <a:ext cx="5486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1422360" y="4114800"/>
            <a:ext cx="8534160" cy="342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4720" y="4629240"/>
            <a:ext cx="3048120" cy="1200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6240" y="5886360"/>
            <a:ext cx="47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value added to th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4724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502920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572000"/>
            <a:ext cx="203040" cy="171360"/>
          </a:xfrm>
          <a:prstGeom prst="smileyFace">
            <a:avLst>
              <a:gd name="adj" fmla="val 92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94360" y="440064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3657600"/>
            <a:ext cx="26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12160" y="5543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CA69-0C29-49DA-803D-DCA7B78D14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ic Network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82760" y="2292480"/>
          <a:ext cx="8388360" cy="48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292480"/>
                    <a:ext cx="838836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49D5-389B-4A2F-BB9D-52180929BE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Assets in Network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5560" y="3714840"/>
            <a:ext cx="609480" cy="342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75040" y="388620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828800"/>
            <a:ext cx="11174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23160" y="2000160"/>
            <a:ext cx="914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200" y="1428840"/>
            <a:ext cx="3149640" cy="1028520"/>
          </a:xfrm>
          <a:prstGeom prst="hexagon">
            <a:avLst>
              <a:gd name="adj" fmla="val 7655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base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84800" y="3371760"/>
            <a:ext cx="2641680" cy="1028880"/>
          </a:xfrm>
          <a:prstGeom prst="hexagon">
            <a:avLst>
              <a:gd name="adj" fmla="val 6418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3657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895480" y="3885840"/>
            <a:ext cx="127008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94000"/>
            <a:ext cx="2909880" cy="1211400"/>
          </a:xfrm>
          <a:prstGeom prst="hexagon">
            <a:avLst>
              <a:gd name="adj" fmla="val 6005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294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inno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48400" y="1428840"/>
            <a:ext cx="3147840" cy="1028520"/>
          </a:xfrm>
          <a:prstGeom prst="hexagon">
            <a:avLst>
              <a:gd name="adj" fmla="val 7651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144792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5200560"/>
            <a:ext cx="3406680" cy="1028880"/>
          </a:xfrm>
          <a:prstGeom prst="hexagon">
            <a:avLst>
              <a:gd name="adj" fmla="val 82776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245200"/>
            <a:ext cx="26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over 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8400" y="5200560"/>
            <a:ext cx="3352680" cy="1028880"/>
          </a:xfrm>
          <a:prstGeom prst="hexagon">
            <a:avLst>
              <a:gd name="adj" fmla="val 8146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5257800"/>
            <a:ext cx="223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tation + Brand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572000" y="2457000"/>
            <a:ext cx="3048120" cy="125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3520" y="2457000"/>
            <a:ext cx="2845080" cy="125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703160" y="4057560"/>
            <a:ext cx="265428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4057560"/>
            <a:ext cx="277956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044E-9E23-49B6-BCDE-0A8CB5675C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 cos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ndle and Lock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5EEB-8AB8-4781-A5BB-C4155219B4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Extern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EB15-F900-4415-8B9A-0E50BFFDE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/ Information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"/>
            <a:ext cx="86360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igi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, music, movies, data, software, g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tainment value, business valu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ly to produce, cheap to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unk cost of producing the 1st 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each additional copy is small +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unlimited capacity to repl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&gt; Production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Price =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6149-CC81-4E8B-B0D9-5F13E77193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27280" y="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3520"/>
            <a:ext cx="8737560" cy="57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formation commodity market pushes price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D Phone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:  Transcribe phone books, price  &gt; 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on: Copies idea, price ~ $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: Free on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dd value to raw information in to differen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ize: Learn about customers through registration, billing and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Reduce average cost by increasing volume through reuse and resale in dominant firm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Protect 1st move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greed, Play t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4AFE-16DF-4022-A97D-E60D0D79B4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3676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480"/>
            <a:ext cx="914400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different prices to different groups (seniors, stu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 on a single product (MS O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 customers early (newspapers in edu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ransaction costs favor rentals (movi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5EF5-0FFD-4A55-A281-449BA6D6C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85480"/>
            <a:ext cx="853416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ing Information Produc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714680"/>
          <a:ext cx="9143640" cy="413676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imens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s/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impat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ice/Experien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ily/Weekly r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 re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sletter/Glos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ed of op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/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78BD-D0C6-4746-8389-85D914EB81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ing Information Produc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486080"/>
          <a:ext cx="9143640" cy="411480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im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s/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w/Organiz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/Special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al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hensive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 of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oyan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 price, no 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/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EF1A-3F29-4939-8305-0D26300F17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0920" y="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vs.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end version: Keep price reasonable to make it attr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end version: Reduce quality so users would migrate to high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rs turn low end version to high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on-line version help or deter off-line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ver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07E0-16F3-4EE2-B1CE-E55BD4257B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02:13:02Z</dcterms:created>
  <dc:creator>Tridas Mukopadhyay</dc:creator>
  <dc:description/>
  <dc:language>en-US</dc:language>
  <cp:lastModifiedBy>Tridas Mukopadhyay</cp:lastModifiedBy>
  <cp:lastPrinted>1999-05-28T12:57:21Z</cp:lastPrinted>
  <dcterms:modified xsi:type="dcterms:W3CDTF">2000-08-24T13:01:11Z</dcterms:modified>
  <cp:revision>92</cp:revision>
  <dc:subject/>
  <dc:title>Information Goods</dc:title>
</cp:coreProperties>
</file>