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36A-BF06-406C-A550-BFD41E4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FDD-4E16-4914-8C44-A63C037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803-8CF8-484C-B744-515BD1DB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539-FA65-4B20-B9C2-DE8050E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9EB-7B0D-4F34-8506-939DEA9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190-AB08-4C23-BBFD-002E7E8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BDD-CD47-41EE-B74B-F48C2DE5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5F7-374C-46E0-9EEA-AE6D3DB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F08-50DD-4006-8FAF-3FD8CF6F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827-09EA-48DC-AE4A-6AEEA06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094-5666-450D-8F8B-1D56CB9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437-378A-44B9-96F2-57D9298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D59-BCE5-4BE2-AF34-FA27F83C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A3E-83D2-401F-82B0-5F16EC32DA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arty e-Requisition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914400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ccess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/Fa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perating Resource Mgt System from A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3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4876560" cy="34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842-F67E-4A58-8DE7-098D37ED9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quirements of e-Procur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0028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86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29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172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37228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8580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43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86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114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6080" y="1028880"/>
            <a:ext cx="558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Mgt, Quotations, Negot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 Received, Sour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5684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200400"/>
            <a:ext cx="52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, Price,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343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Contracts, 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55436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, Overheads, Co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44720" y="1143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2228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3371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4720" y="4514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5715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9B0-DA3A-432A-A4D3-75D8B5F327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Meta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ion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12B-F228-4EC3-BAA9-AAA42E631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Key Drivers of B2B Ad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28880"/>
            <a:ext cx="833112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and 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and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FAB-C66F-4A5B-818B-7ECDED90A5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2B Revenue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 (Buying and sel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tion Com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c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B95-DAB4-42CD-B019-2495D0A630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1676520"/>
            <a:ext cx="3657600" cy="302868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57200"/>
            <a:ext cx="28447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ark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73520" y="102888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ed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09680"/>
            <a:ext cx="172728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2928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27280" y="3943440"/>
            <a:ext cx="142236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334120"/>
            <a:ext cx="2133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97760" y="4172040"/>
            <a:ext cx="25398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mparison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7760" y="3886200"/>
            <a:ext cx="132048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2320" y="1371600"/>
            <a:ext cx="26416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workflow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95520" y="2209680"/>
            <a:ext cx="1295640" cy="24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36232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rkets ready for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098-52C9-42EF-BDCD-138193AD3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ample: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6 trillion, fragmented, High search costs, out dated high cost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Conn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for bulk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at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for pet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de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etplace &amp; procurement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Chemic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verification, delivery 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9E5-3465-4D3A-8F4C-ADB26538F7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9680" y="1949400"/>
            <a:ext cx="4572000" cy="214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286000"/>
            <a:ext cx="3047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0"/>
            <a:ext cx="7315200" cy="19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0"/>
            <a:ext cx="7823160" cy="18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lti-vendor catalo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posted,  Product comparison,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er/ Seller: Lower transaction costs, more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Buy: Catalogs of over 60 electronic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02200"/>
            <a:ext cx="44956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102200"/>
            <a:ext cx="4343400" cy="194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4114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led / open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a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962520"/>
            <a:ext cx="43689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y negotiations,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Connect, Che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DA2-45A2-4A56-81D5-E7FF72D37D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termediary vs. Metamedi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t3" descr=""/>
          <p:cNvPicPr/>
          <p:nvPr/>
        </p:nvPicPr>
        <p:blipFill>
          <a:blip r:embed="rId1"/>
          <a:stretch/>
        </p:blipFill>
        <p:spPr>
          <a:xfrm>
            <a:off x="0" y="1257480"/>
            <a:ext cx="9144000" cy="473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287-4F5B-478F-A449-88189D723A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9520" y="2057400"/>
            <a:ext cx="3352680" cy="3048120"/>
          </a:xfrm>
          <a:prstGeom prst="pentag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890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rigins of Inter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480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941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36232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43828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90860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95288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554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5110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484-738D-4830-9F3A-D67ACB0618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BA2-9FE2-4549-A2D7-273A75CDF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s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3809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atalog, transac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product information and transaction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eller to multi-vendor cat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am Micro &amp; its resellers fo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ite by three steel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5331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or reverse a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ransaction costs, product information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upplier participation, multi-buyer marke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IS TPN procurement to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Three automakers’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8AB-669B-4C20-9972-B42F00F722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s of Inter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73980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80028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ftwar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fo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762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et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5280"/>
            <a:ext cx="91440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internal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 ex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inertia in external work-flow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arke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ed name, no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Virtual community, no      Speed,  neutrality, market experienc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curement experience    but accep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ba, Commerc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sian Sources: pub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-Steel on its own One: Procureme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Electronic Components                           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 Exchange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eaFax: Credit rating to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eafood ex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AF9-B974-46BE-9B36-BA877AF41E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mediation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500-3E16-4098-82F7-E38644083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38280" y="1612800"/>
            <a:ext cx="3581640" cy="3125880"/>
          </a:xfrm>
          <a:custGeom>
            <a:avLst/>
            <a:gdLst>
              <a:gd name="textAreaLeft" fmla="*/ 895320 w 3581640"/>
              <a:gd name="textAreaRight" fmla="*/ 2686320 w 3581640"/>
              <a:gd name="textAreaTop" fmla="*/ 781560 h 3125880"/>
              <a:gd name="textAreaBottom" fmla="*/ 2344680 h 31258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487600"/>
            <a:ext cx="193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2B Buy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01600"/>
            <a:ext cx="39625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032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rch Costs due to large number of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4360" y="2590920"/>
            <a:ext cx="3149640" cy="15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5909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flow and  transaction costs from many orders &amp; dependent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4908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enish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ed reliance on old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19520"/>
            <a:ext cx="24382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90800"/>
            <a:ext cx="2438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costs to avoid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AE8-5A80-4953-BD8A-8F761985CE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formation Ineffici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(error, labor, time), multi-pa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ng Partn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loc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Inform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, features, availabilit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s, legac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95A-AA86-4D33-BA50-E2A54A8526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057400" y="1657440"/>
            <a:ext cx="4724280" cy="3124080"/>
          </a:xfrm>
          <a:custGeom>
            <a:avLst/>
            <a:gdLst>
              <a:gd name="textAreaLeft" fmla="*/ 1181160 w 4724280"/>
              <a:gd name="textAreaRight" fmla="*/ 3543480 w 472428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487600"/>
            <a:ext cx="254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lue Creation by Intermedi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4720" y="228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628560"/>
            <a:ext cx="31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Inform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590920"/>
            <a:ext cx="23623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2890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ice /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800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iq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85960"/>
            <a:ext cx="20574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6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B1C-7CE0-4EE4-ADD6-8C04486B19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66880" y="2457360"/>
            <a:ext cx="3657600" cy="2584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352680"/>
            <a:ext cx="253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 Information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0764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114800"/>
            <a:ext cx="27432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114800"/>
            <a:ext cx="26668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209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unication channe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35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 buyer-seller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038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the number of communication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150-97D6-49FB-8C4E-2743B59BF4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01600"/>
            <a:ext cx="2361960" cy="541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duc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8380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5238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1510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7558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3526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68200"/>
            <a:ext cx="2361960" cy="5410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8380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4479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1337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8862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4197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478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82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447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819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81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886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267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800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648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5715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038-1E70-4D20-B5D8-7B53C218E0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 Price /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29528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518148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371600"/>
            <a:ext cx="14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/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334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133360" y="-1524600"/>
            <a:ext cx="70092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-2513520" y="-153000"/>
            <a:ext cx="975240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-303840" y="-1829160"/>
            <a:ext cx="533304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14479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from more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371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cost of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st of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ACB-0BB0-4F2E-BF18-DFA6C4ABF8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uild Liqui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41400"/>
            <a:ext cx="3124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1076400"/>
            <a:ext cx="2971800" cy="106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73600"/>
            <a:ext cx="3429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4840200"/>
            <a:ext cx="3505320" cy="106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941400"/>
            <a:ext cx="31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automation leads to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18040" y="1008000"/>
            <a:ext cx="3225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marketplace leads to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R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2895480"/>
            <a:ext cx="2946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Reach + Improved Velocity = Liquid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975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liqu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ngs more buyers and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5029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liqu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 sell goods /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647960" y="2209680"/>
            <a:ext cx="2895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2209680"/>
            <a:ext cx="2819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52480" y="4114800"/>
            <a:ext cx="2819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4114800"/>
            <a:ext cx="2819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598-7742-4182-B08F-DE98197D95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-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ion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227-6394-4925-870D-A437C97DF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06668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71800"/>
            <a:ext cx="20318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80060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19720"/>
            <a:ext cx="1752480" cy="99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06668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2971800"/>
            <a:ext cx="2133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800600"/>
            <a:ext cx="17528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42900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057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962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7" idx="3"/>
            <a:endCxn id="229" idx="0"/>
          </p:cNvCxnSpPr>
          <p:nvPr/>
        </p:nvCxnSpPr>
        <p:spPr>
          <a:xfrm>
            <a:off x="2045880" y="3467160"/>
            <a:ext cx="1345320" cy="9388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29" idx="2"/>
            <a:endCxn id="228" idx="3"/>
          </p:cNvCxnSpPr>
          <p:nvPr/>
        </p:nvCxnSpPr>
        <p:spPr>
          <a:xfrm flipV="1" rot="16200000">
            <a:off x="2513880" y="4547520"/>
            <a:ext cx="129240" cy="1624680"/>
          </a:xfrm>
          <a:prstGeom prst="bentConnector4">
            <a:avLst>
              <a:gd name="adj1" fmla="val -166480"/>
              <a:gd name="adj2" fmla="val 7741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0" idx="3"/>
            <a:endCxn id="233" idx="0"/>
          </p:cNvCxnSpPr>
          <p:nvPr/>
        </p:nvCxnSpPr>
        <p:spPr>
          <a:xfrm>
            <a:off x="6872400" y="1562040"/>
            <a:ext cx="1319760" cy="18532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2"/>
            <a:endCxn id="232" idx="3"/>
          </p:cNvCxnSpPr>
          <p:nvPr/>
        </p:nvCxnSpPr>
        <p:spPr>
          <a:xfrm rot="5400000">
            <a:off x="7138080" y="4242960"/>
            <a:ext cx="862920" cy="1243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447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0258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025800"/>
            <a:ext cx="238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0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4197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nnel Facilit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Facilitator   vs.   Channel Compe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13680" y="350532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nnel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5F2-5C4D-4590-84A2-3775A3B90F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arket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523880"/>
            <a:ext cx="91440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onnection proportional to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market proportional to buyer-sell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ncreases if each participant can be either buyer or se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ccelerates if multiple transactions occur before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96-F4AA-4EEC-B16F-DEFA4BF759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Procurement is a mu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intermedia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onium to contin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7A5-0435-44F0-A74C-D5F9C3DF71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06668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es FreeMarkets OnLine create value for its customers? How is it different from existing/traditional mode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es the Internet and information technologies play in its value cha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w would you assess the company's business model? What are its strengths and weaknes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alternatives the company should choose in order to go forward to sca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 market expansion or vertical market domin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and user support subscription licen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ed purchasing information system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Market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7BF-8934-4AAD-AC22-441E6719C7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99960"/>
            <a:ext cx="914400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o Business exchange of standardized documents in electronic form (e.g., Invoice, Purchase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veloped in the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arriers: lack of standards, telecom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e of  industry, national, internati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heavily by large companies (e.g., Fortune 1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re-structuring  busine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CB4-D631-4CA6-9094-2266697B1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280"/>
            <a:ext cx="914400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on EDI Applications in B2B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Response (QR): POS data to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tock Replenishment: Supplier manage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Management: JI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ustomer Response (ECR): Grocery industr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Receipt Settlement: No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Forecasting and Replenishment: Sharing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05F-8F6C-4B12-B207-C31665BD8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lue Added Networks (V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Translation, security, auditability,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High price, Connect time + mailbox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324480" cy="37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4E5-364A-4878-99A3-A642E621D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338880"/>
            <a:ext cx="78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-Procurement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curem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and error p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search for trading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information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in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om task to proces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1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791320" cy="31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82C-D543-49D0-9857-431701ABE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7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duction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 and  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by production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buyer init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prova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gree of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-spec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91120" y="-36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n-Production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&amp; computer suppli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O supplies;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, not schedu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init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813-4047-473B-A7DB-B185490A4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curement at Microsoft: MS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57160"/>
            <a:ext cx="91440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ume, low $ operating resource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nd validations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racking with direct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 $3 billion annual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2" descr=""/>
          <p:cNvPicPr/>
          <p:nvPr/>
        </p:nvPicPr>
        <p:blipFill>
          <a:blip r:embed="rId1"/>
          <a:stretch/>
        </p:blipFill>
        <p:spPr>
          <a:xfrm>
            <a:off x="1523880" y="3075120"/>
            <a:ext cx="6477120" cy="36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294-9A7E-4125-AD45-65CA91D88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15:43:59Z</dcterms:created>
  <dc:creator>Tridas Mukopadhyay</dc:creator>
  <dc:description/>
  <dc:language>en-US</dc:language>
  <cp:lastModifiedBy>Tridas Mukopadhyay</cp:lastModifiedBy>
  <dcterms:modified xsi:type="dcterms:W3CDTF">2000-08-24T12:55:24Z</dcterms:modified>
  <cp:revision>52</cp:revision>
  <dc:subject/>
  <dc:title>Characteristics of B2B Markets</dc:title>
</cp:coreProperties>
</file>