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1F0-A2A2-4947-BABA-8A145775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638-40E2-4AEA-B21B-DE5353B8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528-3E2A-4D6A-90A2-27EE4E2B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25E-54FB-4F31-8C3C-93CDCC25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748-543A-41D7-8ADC-51DF6A6B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05B-8B2E-49B0-B62C-A0861DB2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60D-0D46-4EC7-925C-01A2B4BB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287-6E88-4AAE-8436-B059C33A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114-F687-43DA-9D70-FD2D8F5F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777-A495-4F89-9AC6-F2869532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29D-0FB6-407E-BA7E-0672E490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1A6-584C-4A6B-B1C8-B68B92E5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 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0507-F19B-41B2-B53A-5C241871F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716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89548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B3C-F6E6-44C2-8F35-9A3B1F92F1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B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On-line Publ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Face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67F-0871-4418-AF11-6353AF8A06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-Line Publ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08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ritical Success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lling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, timely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78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customer for 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property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98108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1600200"/>
            <a:ext cx="0" cy="441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CA3-D6A2-466B-849E-D9E48A9A4D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400800" y="628560"/>
            <a:ext cx="1828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1981080"/>
            <a:ext cx="3962520" cy="2971800"/>
          </a:xfrm>
          <a:custGeom>
            <a:avLst/>
            <a:gdLst>
              <a:gd name="textAreaLeft" fmla="*/ 990720 w 3962520"/>
              <a:gd name="textAreaRight" fmla="*/ 2972160 w 3962520"/>
              <a:gd name="textAreaTop" fmla="*/ 743040 h 2971800"/>
              <a:gd name="textAreaBottom" fmla="*/ 2229120 h 29718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666880"/>
            <a:ext cx="21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rivers of on-line publ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314880"/>
            <a:ext cx="142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114300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143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s in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02320" y="308628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6440" y="308628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4952880"/>
            <a:ext cx="21337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30481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targ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495288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atekee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12408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812-1475-40CF-B2FC-3BD6C4752D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400800" y="628560"/>
            <a:ext cx="1828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4343400" cy="2895480"/>
          </a:xfrm>
          <a:custGeom>
            <a:avLst/>
            <a:gdLst>
              <a:gd name="textAreaLeft" fmla="*/ 1085760 w 4343400"/>
              <a:gd name="textAreaRight" fmla="*/ 3257640 w 4343400"/>
              <a:gd name="textAreaTop" fmla="*/ 723960 h 2895480"/>
              <a:gd name="textAreaBottom" fmla="*/ 2171880 h 2895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743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n-line publishing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3314880"/>
            <a:ext cx="142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1295280"/>
            <a:ext cx="21337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523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3124080"/>
            <a:ext cx="213336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04812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510552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3124080"/>
            <a:ext cx="23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ing inter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10552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&amp; Just-i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3276720"/>
            <a:ext cx="20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DE4-79F4-48B2-9CC7-CABEFA48E2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41680" y="2400480"/>
            <a:ext cx="3657600" cy="20952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743200"/>
            <a:ext cx="254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igital Copyright Pro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800440"/>
            <a:ext cx="26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Web Serv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82120" y="2690640"/>
            <a:ext cx="30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1523880"/>
            <a:ext cx="253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Use of th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4343400"/>
            <a:ext cx="253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43434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Infrin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475-D01A-4EF9-B88C-DB04393426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B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Publ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On-line Adverti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Face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AB5-037F-4CEE-8853-C78CFE48FF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Why On-line Advertis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ive demo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update and targ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reach (glob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, inte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heaper (e.g., distrib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D47-17EA-44B9-9392-623524B543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57600" y="2743200"/>
            <a:ext cx="1905120" cy="1752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3276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295280"/>
            <a:ext cx="160020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1295280"/>
            <a:ext cx="175284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1295280"/>
            <a:ext cx="160020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048120"/>
            <a:ext cx="1600200" cy="99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3124080"/>
            <a:ext cx="160020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952880"/>
            <a:ext cx="160020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4952880"/>
            <a:ext cx="160020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4952880"/>
            <a:ext cx="160020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2952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ner Sw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3716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ner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1371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Ban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1240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t L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1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5249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31240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 Ro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274320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581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57400" y="4266720"/>
            <a:ext cx="1828800" cy="114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648320" y="4495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333760" y="4266720"/>
            <a:ext cx="1904760" cy="114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562720" y="3581280"/>
            <a:ext cx="16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257800" y="2286000"/>
            <a:ext cx="274320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22860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D37-70DB-4AF8-A151-B5635B5FBC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35240" y="1447920"/>
            <a:ext cx="4775040" cy="2895480"/>
          </a:xfrm>
          <a:prstGeom prst="hexagon">
            <a:avLst>
              <a:gd name="adj" fmla="val 41228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92840" y="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362320"/>
            <a:ext cx="195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451476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Cl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3623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4400640"/>
            <a:ext cx="23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46240" y="2743200"/>
            <a:ext cx="335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990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s/Vi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160020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n-line Advertising Effectiveness 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0E4-AD92-421A-B34C-0441BB90A2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nline Catalo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2520" y="1542960"/>
            <a:ext cx="817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erchants, catalogs are for ad &amp; 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ustomers, catalogs are for information and price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product database, directory and search capability and presentatio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with business processes cru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Catalogs versus Dynamic Cata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-made versus Customized Cata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C0B-31A9-4021-81FB-54FF5457F0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914400"/>
            <a:ext cx="863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430-E735-438B-A6EC-27270DEEC4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ustomized Catalo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44892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interesting parts out of the whole cat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 for aiding customers to concentrate on their nee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catalogs with branded, value-added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 th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 their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ized prices, products, and display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 the system automatically identify the characteristics of customers based on the transaction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B55-A2CA-4601-8103-2128E222E2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447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raditional 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er decides on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er to 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 one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73520" y="456840"/>
            <a:ext cx="447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b 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lects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just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may 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639-1439-4987-B97F-47D18AB89C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B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Publ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Changing Face of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598-60C3-4432-A122-1B3D386C8B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52280"/>
            <a:ext cx="91440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mpact of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eb creates a level playing fie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ccess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elbow out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barrier to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no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create a mountain in a flat wor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ive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, not just visual app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dumping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BFE-5B2A-4C82-B25B-EBF560B65A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43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Type of Attr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00200"/>
            <a:ext cx="2666880" cy="857160"/>
          </a:xfrm>
          <a:prstGeom prst="hexagon">
            <a:avLst>
              <a:gd name="adj" fmla="val 7778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1771560"/>
            <a:ext cx="1727280" cy="685800"/>
          </a:xfrm>
          <a:prstGeom prst="hexagon">
            <a:avLst>
              <a:gd name="adj" fmla="val 6296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1676520"/>
            <a:ext cx="2590920" cy="780840"/>
          </a:xfrm>
          <a:prstGeom prst="hexagon">
            <a:avLst>
              <a:gd name="adj" fmla="val 8295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543480"/>
            <a:ext cx="1727280" cy="685800"/>
          </a:xfrm>
          <a:prstGeom prst="hexagon">
            <a:avLst>
              <a:gd name="adj" fmla="val 6296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257800"/>
            <a:ext cx="2667240" cy="838080"/>
          </a:xfrm>
          <a:prstGeom prst="hexagon">
            <a:avLst>
              <a:gd name="adj" fmla="val 7956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16720" y="3543480"/>
            <a:ext cx="1727280" cy="685800"/>
          </a:xfrm>
          <a:prstGeom prst="hexagon">
            <a:avLst>
              <a:gd name="adj" fmla="val 6296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257800"/>
            <a:ext cx="1727280" cy="685800"/>
          </a:xfrm>
          <a:prstGeom prst="hexagon">
            <a:avLst>
              <a:gd name="adj" fmla="val 6296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5257800"/>
            <a:ext cx="1981080" cy="685800"/>
          </a:xfrm>
          <a:prstGeom prst="hexagon">
            <a:avLst>
              <a:gd name="adj" fmla="val 72218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2880" y="2457360"/>
            <a:ext cx="7416720" cy="280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12880" y="2457000"/>
            <a:ext cx="7416720" cy="280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65560" y="3714840"/>
            <a:ext cx="609480" cy="3427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7269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75040" y="388620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70480" y="245700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70480" y="4057560"/>
            <a:ext cx="0" cy="12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828800"/>
            <a:ext cx="111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6765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tainment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190512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23160" y="200016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16002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 Sponso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429000"/>
            <a:ext cx="111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6080" y="3657600"/>
            <a:ext cx="11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33412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52578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way Inter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51814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E3B-935C-443A-AD59-7919AB001F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540160" y="457200"/>
            <a:ext cx="66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rvice Process Matr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1752480"/>
            <a:ext cx="6324480" cy="358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17524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358128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19810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Sh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4572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Fac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Mass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90920" y="55627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bor Int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22096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action &amp; 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9832400">
            <a:off x="4191120" y="3124080"/>
            <a:ext cx="2819160" cy="1143000"/>
          </a:xfrm>
          <a:prstGeom prst="leftArrow">
            <a:avLst>
              <a:gd name="adj1" fmla="val 50000"/>
              <a:gd name="adj2" fmla="val 6166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E9D-C238-478D-93BE-AAA62791C2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40160" y="457200"/>
            <a:ext cx="66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ractor’s Gr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1752480"/>
            <a:ext cx="6324480" cy="358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17524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358128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2362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43434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Ma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55627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981080"/>
            <a:ext cx="220968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9539000">
            <a:off x="4343400" y="3124080"/>
            <a:ext cx="2819520" cy="990720"/>
          </a:xfrm>
          <a:prstGeom prst="rightArrow">
            <a:avLst>
              <a:gd name="adj1" fmla="val 50000"/>
              <a:gd name="adj2" fmla="val 7114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CBA-C11B-4F1C-90A3-5FA6E5A671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17440" y="588636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for Attr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28600"/>
            <a:ext cx="9144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inable Attra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ase of Imitatio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broch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ff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ut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so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ss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(exclusive feat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 / corporate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3657600"/>
            <a:ext cx="457200" cy="1905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3581280"/>
            <a:ext cx="2362320" cy="198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96252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962520"/>
            <a:ext cx="7621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44956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41972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64832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95288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505320" y="3962160"/>
            <a:ext cx="99036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809880" y="39625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657600" y="3962160"/>
            <a:ext cx="8380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495680" y="3733560"/>
            <a:ext cx="2590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33412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4952520"/>
            <a:ext cx="18288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4952880"/>
            <a:ext cx="19047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81480" y="4876560"/>
            <a:ext cx="19051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952880"/>
            <a:ext cx="19047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8098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1911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181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800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486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3505320"/>
            <a:ext cx="1600200" cy="19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peci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ustom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5627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luence Fil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Refr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Web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36A-655E-409A-A700-22C5EFC554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400800" y="628560"/>
            <a:ext cx="1828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2133720"/>
            <a:ext cx="4419720" cy="2971800"/>
          </a:xfrm>
          <a:custGeom>
            <a:avLst/>
            <a:gdLst>
              <a:gd name="textAreaLeft" fmla="*/ 1104840 w 4419720"/>
              <a:gd name="textAreaRight" fmla="*/ 3314880 w 4419720"/>
              <a:gd name="textAreaTop" fmla="*/ 743040 h 2971800"/>
              <a:gd name="textAreaBottom" fmla="*/ 2229120 h 29718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81952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nique Properties of 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3314880"/>
            <a:ext cx="142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1219320"/>
            <a:ext cx="259056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13716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3048120"/>
            <a:ext cx="213336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124080"/>
            <a:ext cx="19555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510552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3276720"/>
            <a:ext cx="22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25780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sh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3276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ng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77B-3006-4E6F-ADE0-DD014B69880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68200" y="0"/>
            <a:ext cx="7010640" cy="2971800"/>
          </a:xfrm>
          <a:custGeom>
            <a:avLst/>
            <a:gdLst>
              <a:gd name="textAreaLeft" fmla="*/ 0 w 7010640"/>
              <a:gd name="textAreaRight" fmla="*/ 7011000 w 701064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7120" y="285840"/>
            <a:ext cx="6604200" cy="27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eb to provide e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eb to tangibilize the intan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in the cyber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ing mem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8200" y="3086280"/>
            <a:ext cx="7010640" cy="3028680"/>
          </a:xfrm>
          <a:custGeom>
            <a:avLst/>
            <a:gdLst>
              <a:gd name="textAreaLeft" fmla="*/ 0 w 7010640"/>
              <a:gd name="textAreaRight" fmla="*/ 7011000 w 7010640"/>
              <a:gd name="textAreaTop" fmla="*/ 0 h 3028680"/>
              <a:gd name="textAreaBottom" fmla="*/ 3029040 h 302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3276720"/>
            <a:ext cx="660384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as a part-time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through customer 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industr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customer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38880" y="609480"/>
            <a:ext cx="23400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ang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imultane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345-7C81-4CD1-AA91-3DC93D8834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On-line Ba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Publ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Face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AA2-5A9E-499C-A58E-2F82A1CE7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7010280" cy="3029040"/>
          </a:xfrm>
          <a:custGeom>
            <a:avLst/>
            <a:gdLst>
              <a:gd name="textAreaLeft" fmla="*/ 0 w 7010280"/>
              <a:gd name="textAreaRight" fmla="*/ 7010640 w 7010280"/>
              <a:gd name="textAreaTop" fmla="*/ 0 h 3029040"/>
              <a:gd name="textAreaBottom" fmla="*/ 3029400 h 302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200400"/>
            <a:ext cx="7010280" cy="2571840"/>
          </a:xfrm>
          <a:custGeom>
            <a:avLst/>
            <a:gdLst>
              <a:gd name="textAreaLeft" fmla="*/ 0 w 7010280"/>
              <a:gd name="textAreaRight" fmla="*/ 7010640 w 7010280"/>
              <a:gd name="textAreaTop" fmla="*/ 0 h 2571840"/>
              <a:gd name="textAreaBottom" fmla="*/ 2572200 h 25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7120" y="343080"/>
            <a:ext cx="5286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standardization on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eavesdro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280" y="3772080"/>
            <a:ext cx="5384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supply on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ng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07240" y="1143000"/>
            <a:ext cx="233676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terogene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erish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51F-FE97-4B34-AC15-7E2CFC80D8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migration to on-line media is re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models are b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velocities in different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C5F-1443-4824-B74F-05C4C6422C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9144000" cy="61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ends in Retail B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bank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19E-26E9-4429-A990-C603C81256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6440" y="3029040"/>
            <a:ext cx="1727280" cy="7999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0320" y="3029040"/>
            <a:ext cx="1727280" cy="7999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54560" y="3029040"/>
            <a:ext cx="1726920" cy="79992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78440" y="3029040"/>
            <a:ext cx="1727280" cy="7999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02320" y="3029040"/>
            <a:ext cx="1727280" cy="7999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343240"/>
            <a:ext cx="8331120" cy="211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52280"/>
            <a:ext cx="8128080" cy="16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Evolution of Distribution Channel Cha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200400"/>
            <a:ext cx="932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3143160"/>
            <a:ext cx="812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25764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n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83360" y="3200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 Ban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07240" y="3200400"/>
            <a:ext cx="111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W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6440" y="4057560"/>
            <a:ext cx="782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2880" y="4114800"/>
            <a:ext cx="69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d cost per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5784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B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95E-5493-4527-97C6-F624E4A738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400800" y="628560"/>
            <a:ext cx="1828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0160" y="2133720"/>
            <a:ext cx="3962160" cy="281916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704880 h 2819160"/>
              <a:gd name="textAreaBottom" fmla="*/ 2114640 h 2819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2743200"/>
            <a:ext cx="198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me Banking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314880"/>
            <a:ext cx="142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295280"/>
            <a:ext cx="21337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1295280"/>
            <a:ext cx="203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bank dial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02320" y="308628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6440" y="308628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4952880"/>
            <a:ext cx="21337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124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based b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95288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-the-shelf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12408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lin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F43-4872-4BF2-A448-2E0CB3A364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85800" y="533520"/>
          <a:ext cx="8143920" cy="75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8143920" cy="75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Traditional Banks vs. Cyber b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ED3-A4C3-4AA6-BFEB-F6B3567F96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Value Cre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838080"/>
          <a:ext cx="7927920" cy="55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92792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0AA-BC37-4F81-9990-90F958B8B7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inancial Supply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PIRAL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858000" cy="54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EF8-0B57-4B97-AEA2-ED83E52B86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0T14:41:43Z</dcterms:created>
  <dc:creator>Tridas Mukopadhyay</dc:creator>
  <dc:description/>
  <dc:language>en-US</dc:language>
  <cp:lastModifiedBy>Tridas Mukopadhyay</cp:lastModifiedBy>
  <cp:lastPrinted>1999-06-21T13:49:53Z</cp:lastPrinted>
  <dcterms:modified xsi:type="dcterms:W3CDTF">2000-08-24T13:00:36Z</dcterms:modified>
  <cp:revision>62</cp:revision>
  <dc:subject/>
  <dc:title>No Slide Title</dc:title>
</cp:coreProperties>
</file>