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ED7-47F1-485B-95AF-3BE89BCB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890-0381-4772-9DF4-D3F94B1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212-76A9-4D7E-A09B-8FD35D18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633-1A04-43E1-AA3B-C8DE620C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DCA-D80F-4123-B665-2FFD254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2C3-5AE3-46CC-A730-ABC5727F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FEC-0BDD-4D54-9422-DD446BAA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17A-0D0D-42E2-865D-60A45C7B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A04-DBF6-4F62-B551-9A72C1E4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1ED-8330-4974-A8A0-35F6B3D1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FEE-3CCB-4426-8705-2938583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E3B-38CF-4135-B90B-8E3C4F5A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D259-1F83-4FE7-9374-229497030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ligent Agents – Lectur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a Sy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ics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: katia@cs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cs.cmu.edu/~soft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5638680"/>
            <a:ext cx="3333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Trigger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News Corpus: 140M words, Distance between S and T is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1: product &lt;&lt; {maker,company, corporation, industry, incorporate, sale, computer, market, business,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car &lt;&lt;{motor, auto, model, maker, vehicle, for, buick, honda, inventory, assembly, chevrolet, sale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3: fare &lt;&lt; {airline, maxsaver, carrier, discount, air, coach, flight, traveler, continental, unrestrict, ticket,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4: music &lt;&lt; {symphony, orchestra, composer, song, concert, tune, concerto, sound, musician, album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Search Refi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chooses the domain, and the system automatically expands the query using domain specific triggers or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chooses the intended definition of the ambiguous words, and the system according to the definition expands th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earch with only one keyword, the top several triggers to the keyword are used to expand th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earch with more than 2 keywords, the intersection of the triggers to the keywords are used to expand th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ce Feedback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xt of the search keywords in the “relevant” pages is used to refine the 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relevant page, the system looks for the context of the keywords, and calculates the frequency in order to use the top several frequent words to expand th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t-aided Aircraft Maintenan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RETSINA agents for decision support of mechanics and engineers during aircraft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llaboration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earable Computers Project (Dan Siewiorek, Dick Martin, Jane Sieg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arner Robbins Air Force Base, Geo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90880" y="5257800"/>
            <a:ext cx="7383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ehory, Sycara, Sukthankar, Mukherjee, “Agent aided aircraft maintenance”, Submitt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International Conference on Autonomous Agents, Seattle, Washington, May 1-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-Force Aircraft Maintenance - Current Sit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craft (e.g. F-15) arrive at maintenance air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ical maintenance must be completed in 60 days (varies for different aircraft ty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s inspect aircraft. For a discrepan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repair method is unknown to mechan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lts: experienced mechanics, manuals. Els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202a form is filled (by hand). Sent to exp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y (202b) includes repair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 repairs and files a report (and the 2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lems with Current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ity of information in hardcopy, some hand-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s spend precious time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ing man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ng and consulting other mecha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ing for replies from remote exp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, valuable repair information un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ed in remote bases - in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locally, difficult to browse through, especially during diagnosis and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comprehen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pt for a short time (2 years), then disp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, effort spent on paper work, f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of consistent informatio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321160" cy="57913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/text discrepancy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-written repair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8394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-supporte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s carry wearable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support aircraft mechanic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 fills discrepancy form 202 on wea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-ag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s form 2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s out relevant information from ag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ry agents locate historical relevant 202 forms Manuals agents locate relevant aircraft manua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t agents integrate, filter info., send 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lays the processed info./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 202 form for future u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craft Maintena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t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ircraft_maintenance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3738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Information Management Applications of RETS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eb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ersonal Agent for World-Wide Web Browsing and Sear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gent-Aided Aircraft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t Agents for Financial Portfolio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mosaf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 Collaboration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Gath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fil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hot &amp; Persistent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apidly chang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ren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sup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igent an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&amp; suggests based on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s for news/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ren 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ser has a 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user wants to buy (or sell) a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price agent is invo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new stock is added to 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allocation critic is invo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 a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information about finances of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arren_grandvision2" descr=""/>
          <p:cNvPicPr/>
          <p:nvPr/>
        </p:nvPicPr>
        <p:blipFill>
          <a:blip r:embed="rId1"/>
          <a:stretch/>
        </p:blipFill>
        <p:spPr>
          <a:xfrm>
            <a:off x="914400" y="0"/>
            <a:ext cx="716292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warren_newsarticles" descr=""/>
          <p:cNvPicPr/>
          <p:nvPr/>
        </p:nvPicPr>
        <p:blipFill>
          <a:blip r:embed="rId1"/>
          <a:stretch/>
        </p:blipFill>
        <p:spPr>
          <a:xfrm>
            <a:off x="1447920" y="0"/>
            <a:ext cx="555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ys to Fin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ing: Following hyper-links that seem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: Sending a query to a search engine such as Ly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es: Following existing categories such as Yah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t a lot of time and effort to navigate. Can search be made more effic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but it is difficult to accurately express the user’s inten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ngines are not person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Mate Function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s and tracks user’s interests in multiple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TF-IDF vectors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mental and adaptive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 personal news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efficiently finding relevan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search word refinement using Trigger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ine relevance feedback to adjust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assistance: Alias, Download, Pre-fetch,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ity of Web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rning user’s interests for information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TF-IDF vectors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and adaptiv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 personal 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rt for efficiently find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refinement using Trigger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c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1000" y="4952880"/>
            <a:ext cx="85503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n, Sycara, “WebMate: A Personal Agent for Browsing and Searching”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edings of the Second International Conference on Autonomous Agents, Minneapolis, MN, May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file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TF-IDF vectors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vectors are used? (Settable parameters; depends on # User’s interests, Computational complex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dimensions are used in a vector? (Computational complexity, typical lexicons in a 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: Parse HTML page, delete stop words, ste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TF-IDF vector of the current interesting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of vectors in the profile is less than predefined number, add the vector to the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calculate the cosine similarity between every two TF-IDF vectors in the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two vectors with the greatest simi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the weights in the new vector in decreasing order and keep the highest severa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 Personal News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 spider a list of URLs or Construct a query from the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similarity and check whether the similarity is greater than some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: Accuracy in top 10 is between 50% and 60%; Accuracy in top 20 is about 50%; Accuracy in the whole is about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Refi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 Pairs Based Automated 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word S is significantly¹ correlated with another word T, then (S, T) is considered a “trigger pair”, with S being the trigger and T the triggered wo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c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xt of the search keywords in the “relevant” pages is used to automatically refine th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Search and Re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ity-based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562720" y="6019920"/>
                <a:ext cx="23619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2720" y="5562720"/>
            <a:ext cx="497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ificance is measured by mutual information (MI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5:08:20Z</dcterms:created>
  <dc:creator>onn shehory</dc:creator>
  <dc:description/>
  <dc:language>en-US</dc:language>
  <cp:lastModifiedBy>John T Grasso</cp:lastModifiedBy>
  <cp:lastPrinted>1999-10-05T14:11:58Z</cp:lastPrinted>
  <dcterms:modified xsi:type="dcterms:W3CDTF">2000-04-17T03:02:03Z</dcterms:modified>
  <cp:revision>19</cp:revision>
  <dc:subject/>
  <dc:title>Information Search</dc:title>
</cp:coreProperties>
</file>