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EBE-BE9B-4D9C-8B96-B916DBE3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365-6A69-45FA-A3DA-90B41FF3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126-DF95-447B-9631-707EA125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C22-123D-4F87-9F1F-3FEB0E60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500-3FC0-46DD-93D4-E77FA93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7C4-C2B3-4A71-9902-11EE1563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5A8-12FA-4A72-B1E3-A5DB7C30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789-D431-4203-A742-90DA6A66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E28-1122-4012-9ECB-74F58B8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B26-7A43-4503-B75D-449A719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4CF-3188-4182-8D89-F85C76F1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AAA-F744-47D6-8D2E-FF6432E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11C5-648B-494D-AA52-15432822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yer Coalitions for Volume Dis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ligent Agents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ia Sy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searchbook" descr=""/>
          <p:cNvPicPr/>
          <p:nvPr/>
        </p:nvPicPr>
        <p:blipFill>
          <a:blip r:embed="rId2"/>
          <a:stretch/>
        </p:blipFill>
        <p:spPr>
          <a:xfrm>
            <a:off x="1898640" y="555480"/>
            <a:ext cx="5346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0" name="booklist" descr=""/>
          <p:cNvPicPr/>
          <p:nvPr/>
        </p:nvPicPr>
        <p:blipFill>
          <a:blip r:embed="rId2"/>
          <a:stretch/>
        </p:blipFill>
        <p:spPr>
          <a:xfrm>
            <a:off x="1898640" y="555480"/>
            <a:ext cx="5346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2" name="creategroup" descr=""/>
          <p:cNvPicPr/>
          <p:nvPr/>
        </p:nvPicPr>
        <p:blipFill>
          <a:blip r:embed="rId2"/>
          <a:stretch/>
        </p:blipFill>
        <p:spPr>
          <a:xfrm>
            <a:off x="1898640" y="520560"/>
            <a:ext cx="53467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sendRFB" descr=""/>
          <p:cNvPicPr/>
          <p:nvPr/>
        </p:nvPicPr>
        <p:blipFill>
          <a:blip r:embed="rId2"/>
          <a:stretch/>
        </p:blipFill>
        <p:spPr>
          <a:xfrm>
            <a:off x="1898640" y="520560"/>
            <a:ext cx="53467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6" name="showbids" descr=""/>
          <p:cNvPicPr/>
          <p:nvPr/>
        </p:nvPicPr>
        <p:blipFill>
          <a:blip r:embed="rId2"/>
          <a:stretch/>
        </p:blipFill>
        <p:spPr>
          <a:xfrm>
            <a:off x="1898640" y="520560"/>
            <a:ext cx="53467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1844640"/>
            <a:ext cx="4572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Find a book &amp; start a new buyers’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book suppliers for b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offers and countero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an agreement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9" name="searchbook" descr=""/>
          <p:cNvPicPr/>
          <p:nvPr/>
        </p:nvPicPr>
        <p:blipFill>
          <a:blip r:embed="rId2"/>
          <a:stretch/>
        </p:blipFill>
        <p:spPr>
          <a:xfrm>
            <a:off x="1898640" y="555480"/>
            <a:ext cx="5346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booklist" descr=""/>
          <p:cNvPicPr/>
          <p:nvPr/>
        </p:nvPicPr>
        <p:blipFill>
          <a:blip r:embed="rId2"/>
          <a:stretch/>
        </p:blipFill>
        <p:spPr>
          <a:xfrm>
            <a:off x="1898640" y="555480"/>
            <a:ext cx="5346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creategroup" descr=""/>
          <p:cNvPicPr/>
          <p:nvPr/>
        </p:nvPicPr>
        <p:blipFill>
          <a:blip r:embed="rId2"/>
          <a:stretch/>
        </p:blipFill>
        <p:spPr>
          <a:xfrm>
            <a:off x="1898640" y="520560"/>
            <a:ext cx="53467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5" name="sendRFB" descr=""/>
          <p:cNvPicPr/>
          <p:nvPr/>
        </p:nvPicPr>
        <p:blipFill>
          <a:blip r:embed="rId2"/>
          <a:stretch/>
        </p:blipFill>
        <p:spPr>
          <a:xfrm>
            <a:off x="1898640" y="520560"/>
            <a:ext cx="53467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book &amp; join an existing buyers’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book &amp; start a new buyers’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book suppliers for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book &amp; start a new buyers’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book suppliers for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offers and counter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an agreement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7" name="showbids" descr=""/>
          <p:cNvPicPr/>
          <p:nvPr/>
        </p:nvPicPr>
        <p:blipFill>
          <a:blip r:embed="rId2"/>
          <a:stretch/>
        </p:blipFill>
        <p:spPr>
          <a:xfrm>
            <a:off x="1898640" y="520560"/>
            <a:ext cx="53467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counteroffer" descr=""/>
          <p:cNvPicPr/>
          <p:nvPr/>
        </p:nvPicPr>
        <p:blipFill>
          <a:blip r:embed="rId2"/>
          <a:stretch/>
        </p:blipFill>
        <p:spPr>
          <a:xfrm>
            <a:off x="1898640" y="520560"/>
            <a:ext cx="53467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Find a book &amp; join an existing buyers’ grou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titlepage" descr=""/>
          <p:cNvPicPr/>
          <p:nvPr/>
        </p:nvPicPr>
        <p:blipFill>
          <a:blip r:embed="rId2"/>
          <a:stretch/>
        </p:blipFill>
        <p:spPr>
          <a:xfrm>
            <a:off x="1898640" y="555480"/>
            <a:ext cx="5346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searchbook" descr=""/>
          <p:cNvPicPr/>
          <p:nvPr/>
        </p:nvPicPr>
        <p:blipFill>
          <a:blip r:embed="rId2"/>
          <a:stretch/>
        </p:blipFill>
        <p:spPr>
          <a:xfrm>
            <a:off x="1898640" y="555480"/>
            <a:ext cx="5346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booklist" descr=""/>
          <p:cNvPicPr/>
          <p:nvPr/>
        </p:nvPicPr>
        <p:blipFill>
          <a:blip r:embed="rId2"/>
          <a:stretch/>
        </p:blipFill>
        <p:spPr>
          <a:xfrm>
            <a:off x="1898640" y="555480"/>
            <a:ext cx="5346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3" name="joingroup" descr=""/>
          <p:cNvPicPr/>
          <p:nvPr/>
        </p:nvPicPr>
        <p:blipFill>
          <a:blip r:embed="rId2"/>
          <a:stretch/>
        </p:blipFill>
        <p:spPr>
          <a:xfrm>
            <a:off x="1873080" y="1028880"/>
            <a:ext cx="5397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groupstatus2" descr=""/>
          <p:cNvPicPr/>
          <p:nvPr/>
        </p:nvPicPr>
        <p:blipFill>
          <a:blip r:embed="rId2"/>
          <a:stretch/>
        </p:blipFill>
        <p:spPr>
          <a:xfrm>
            <a:off x="1866960" y="492120"/>
            <a:ext cx="541008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1523880"/>
            <a:ext cx="5257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book &amp; start a new buyers’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book suppliers for b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b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2:15:18Z</dcterms:created>
  <dc:creator>Katia Sycara</dc:creator>
  <dc:description/>
  <dc:language>en-US</dc:language>
  <cp:lastModifiedBy>Katia Sycara</cp:lastModifiedBy>
  <dcterms:modified xsi:type="dcterms:W3CDTF">2000-07-27T02:21:33Z</dcterms:modified>
  <cp:revision>4</cp:revision>
  <dc:subject/>
  <dc:title>Coalition for volume discounts</dc:title>
</cp:coreProperties>
</file>