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BC7-6E82-4A5C-9035-9F791B18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823-8181-453A-87B6-CFD3487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270-47BB-4D3C-B097-C64C782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DA2-394E-47BF-9E75-B8316E19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0F3-01F5-419F-A74E-91DF774B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443-30C1-4ED9-A05F-B308427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D6D-3A88-43CE-9250-2471F9F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33D-2991-4DA4-8CE6-8C09F286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60D-0305-452F-A25E-A710B8E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8A8-C544-4CE0-824B-75E857C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368-CB26-42A0-9D32-C1751CB0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E10-958B-48A8-8114-17BBADD6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8A34-DC4A-4F80-A0EC-88A64553F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ligent Ag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botics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katia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s.cmu.edu/~soft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5638680"/>
            <a:ext cx="3333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romotes Agent Prolif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expertise/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inter-operation between pre-existing isola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personalization and cust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Intern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ormous amount of availab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ill Necess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secur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-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commun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d-upon interaction protocols for trading, negotiation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bility: standard agent d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enda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alendar will become an age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collaborate with other: acquire relevant information from them, negotiate your meetings with them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learn your preference and adapt to them: e.g., avoid meeting with Joe in the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its action subject to info. on events: e.g., cancel outdoor class on a rainy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you of selected events it finds on b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an Agent i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utonomous, (preferably) intelligent, collaborative and adaptive computational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so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ectives/go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agent attempts to  achieve them, without explicit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, intelligence is expressed in the ability to infer and execute the needed actions, and seek and incorporate relevant information, given th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 vs.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, too, are autonomous computational entities. What is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ve, like objects, but als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elf-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ve sole control over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no say regarding the use and execution of its public methods. An agent may refuse or ask for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 vs. Expe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t systems, common in the ‘80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vice to professionals in information intensive environments,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ce for physicians in analyzing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ce for car mechanics in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“intelligent”, somewhat similar to agents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eactive and not pro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utonomous - need instructions and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interact with the environment or with other entities except for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t adap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219320"/>
            <a:ext cx="2819160" cy="1066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: Expert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, expert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-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219320"/>
            <a:ext cx="2819520" cy="1066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-’90: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,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2971800"/>
            <a:ext cx="4343400" cy="1676520"/>
          </a:xfrm>
          <a:prstGeom prst="ellipse">
            <a:avLst/>
          </a:prstGeom>
          <a:solidFill>
            <a:srgbClr val="ffe4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: Agents: perso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y, intelligence, experti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use, interaction, adap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ce, pro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3623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23623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48769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67080" y="5715000"/>
            <a:ext cx="2764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191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191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16600" y="2984760"/>
            <a:ext cx="21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ap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080" y="3350520"/>
            <a:ext cx="168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 is an autonomous computational entity, whi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eactive and pro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oal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tellig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le to reason, plan and sometimes 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domain specific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s with humans, other agents, and the environment via sensors and effectors in a high level language/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s user needs and reacts based o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sh list: friendly, understands natural lang.,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Agent Systems (M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gent is more useful in the context of ot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centrate on tasks of its expert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legate other tasks to other exp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advantage of its ability to intelligently communicate, coordinate,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, a MAS is not just a collection of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needs meaningful ways for agents to inte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needs some system design and performance evalu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ale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alendars interact with each o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 load scheduling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 with information agents that monitor for and filter information about event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with other calend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 - Two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system that is comprised of agents - should provide goo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may arise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y to develop each agent as an exp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ion of non-local expert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simple to have multiple developers working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 system within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3960" y="152388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 Centralized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 - Two Approa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, the system has no prior static design, only single agents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seek others to provide services, without knowing in advance who they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need for agent finding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gent may be non-cooperative or untrusted or mali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arkets,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200" y="106668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 Open 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ly Designed 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loads and expert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 and predictability,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language and protocols are agreed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can be (and usually are)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share architecture - software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ly maintenance (adding new agents may necessitate system re-desig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less fault tolerant. Rig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inter-operate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reflecting real-world requirements (not realist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760" y="68580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400" y="3809880"/>
            <a:ext cx="26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agent or groups are designed separately (mod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, fault tole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ary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mai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, ope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behavior of the system not predi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tocols, languages, ontologies may vary across agent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interest and malicious behavior difficult to av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more careful agent and interaction protocols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3840" y="53352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3840" y="3505320"/>
            <a:ext cx="26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Design Philosoph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e vs. delibe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e agents: upon input from the environment, they react with action exec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tive agents: upon input, a reasoning process is invoked. Action is based on the results of the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may populate the whole spectrum between purely reactive and maximally deliberative (ration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d Agent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both reactive and deliberativ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provided via sensor or any other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ecessary for reactiv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berative agents need to maintain information regarding past activity to allow for delib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ing: performed mainly by deliberative agents, but may be useful for reactive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: only in deliberativ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- Environment Inte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676520"/>
            <a:ext cx="32004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648320"/>
            <a:ext cx="472428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8840" y="2362320"/>
            <a:ext cx="2006640" cy="2971800"/>
          </a:xfrm>
          <a:custGeom>
            <a:avLst/>
            <a:gdLst/>
            <a:ahLst/>
            <a:rect l="l" t="t" r="r" b="b"/>
            <a:pathLst>
              <a:path w="1264" h="1872">
                <a:moveTo>
                  <a:pt x="736" y="1872"/>
                </a:moveTo>
                <a:cubicBezTo>
                  <a:pt x="432" y="1604"/>
                  <a:pt x="128" y="1336"/>
                  <a:pt x="64" y="1056"/>
                </a:cubicBezTo>
                <a:cubicBezTo>
                  <a:pt x="0" y="776"/>
                  <a:pt x="152" y="368"/>
                  <a:pt x="352" y="192"/>
                </a:cubicBezTo>
                <a:cubicBezTo>
                  <a:pt x="552" y="16"/>
                  <a:pt x="908" y="8"/>
                  <a:pt x="126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362320"/>
            <a:ext cx="1800360" cy="2971800"/>
          </a:xfrm>
          <a:custGeom>
            <a:avLst/>
            <a:gdLst/>
            <a:ahLst/>
            <a:rect l="l" t="t" r="r" b="b"/>
            <a:pathLst>
              <a:path w="1134" h="1872">
                <a:moveTo>
                  <a:pt x="0" y="0"/>
                </a:moveTo>
                <a:cubicBezTo>
                  <a:pt x="160" y="54"/>
                  <a:pt x="788" y="129"/>
                  <a:pt x="961" y="323"/>
                </a:cubicBezTo>
                <a:cubicBezTo>
                  <a:pt x="1134" y="517"/>
                  <a:pt x="1126" y="909"/>
                  <a:pt x="1038" y="1167"/>
                </a:cubicBezTo>
                <a:cubicBezTo>
                  <a:pt x="950" y="1425"/>
                  <a:pt x="558" y="1725"/>
                  <a:pt x="432" y="1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2160" y="335124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2760" y="327528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Processing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e agents only need to map between world states an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ive agents need to reason for action. Ma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into account historical states of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maintaining an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about world a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, re-planning for current/futur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Processing Nee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(social) agents need, in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models of other agents and th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 about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collaborativ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 about interaction: communication, coordination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ve vs. Deliberativ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e agents: upon input from the environment, they react with action exec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berative agents: upon input, a reasoning process is invoked. Action is based on the results of the rea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may populate the whole spectrum between purely reactive and maximally deliberative (ration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ag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multi-agent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design an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in web-based info.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 inter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ystems and midd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in the marketpl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: negotiation, markets, auc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v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76520"/>
            <a:ext cx="32004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648320"/>
            <a:ext cx="472428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198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981080"/>
            <a:ext cx="1218960" cy="7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8840" y="2362320"/>
            <a:ext cx="2006640" cy="2971800"/>
          </a:xfrm>
          <a:custGeom>
            <a:avLst/>
            <a:gdLst/>
            <a:ahLst/>
            <a:rect l="l" t="t" r="r" b="b"/>
            <a:pathLst>
              <a:path w="1264" h="1872">
                <a:moveTo>
                  <a:pt x="736" y="1872"/>
                </a:moveTo>
                <a:cubicBezTo>
                  <a:pt x="432" y="1604"/>
                  <a:pt x="128" y="1336"/>
                  <a:pt x="64" y="1056"/>
                </a:cubicBezTo>
                <a:cubicBezTo>
                  <a:pt x="0" y="776"/>
                  <a:pt x="152" y="368"/>
                  <a:pt x="352" y="192"/>
                </a:cubicBezTo>
                <a:cubicBezTo>
                  <a:pt x="552" y="16"/>
                  <a:pt x="908" y="8"/>
                  <a:pt x="126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362320"/>
            <a:ext cx="1800360" cy="2971800"/>
          </a:xfrm>
          <a:custGeom>
            <a:avLst/>
            <a:gdLst/>
            <a:ahLst/>
            <a:rect l="l" t="t" r="r" b="b"/>
            <a:pathLst>
              <a:path w="1134" h="1872">
                <a:moveTo>
                  <a:pt x="0" y="0"/>
                </a:moveTo>
                <a:cubicBezTo>
                  <a:pt x="160" y="54"/>
                  <a:pt x="788" y="129"/>
                  <a:pt x="961" y="323"/>
                </a:cubicBezTo>
                <a:cubicBezTo>
                  <a:pt x="1134" y="517"/>
                  <a:pt x="1126" y="909"/>
                  <a:pt x="1038" y="1167"/>
                </a:cubicBezTo>
                <a:cubicBezTo>
                  <a:pt x="950" y="1425"/>
                  <a:pt x="558" y="1725"/>
                  <a:pt x="432" y="1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ve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,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al tra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behavior emerges from componen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a model of the environment, agents need sufficient info. to determin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are “short-sighted”, may limit decis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components not cle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s with State = Delibe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1219320"/>
            <a:ext cx="449604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648320"/>
            <a:ext cx="4724280" cy="144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1447920"/>
            <a:ext cx="129564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1447920"/>
            <a:ext cx="121932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4320" y="1816200"/>
            <a:ext cx="1390680" cy="3527280"/>
          </a:xfrm>
          <a:custGeom>
            <a:avLst/>
            <a:gdLst/>
            <a:ahLst/>
            <a:rect l="l" t="t" r="r" b="b"/>
            <a:pathLst>
              <a:path w="876" h="2222">
                <a:moveTo>
                  <a:pt x="798" y="2222"/>
                </a:moveTo>
                <a:cubicBezTo>
                  <a:pt x="681" y="2089"/>
                  <a:pt x="196" y="1707"/>
                  <a:pt x="98" y="1422"/>
                </a:cubicBezTo>
                <a:cubicBezTo>
                  <a:pt x="0" y="1137"/>
                  <a:pt x="79" y="748"/>
                  <a:pt x="209" y="511"/>
                </a:cubicBezTo>
                <a:cubicBezTo>
                  <a:pt x="339" y="274"/>
                  <a:pt x="737" y="106"/>
                  <a:pt x="87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828800"/>
            <a:ext cx="1231920" cy="3497400"/>
          </a:xfrm>
          <a:custGeom>
            <a:avLst/>
            <a:gdLst/>
            <a:ahLst/>
            <a:rect l="l" t="t" r="r" b="b"/>
            <a:pathLst>
              <a:path w="776" h="2203">
                <a:moveTo>
                  <a:pt x="0" y="0"/>
                </a:moveTo>
                <a:cubicBezTo>
                  <a:pt x="96" y="86"/>
                  <a:pt x="463" y="291"/>
                  <a:pt x="577" y="515"/>
                </a:cubicBezTo>
                <a:cubicBezTo>
                  <a:pt x="691" y="739"/>
                  <a:pt x="776" y="1066"/>
                  <a:pt x="687" y="1347"/>
                </a:cubicBezTo>
                <a:cubicBezTo>
                  <a:pt x="598" y="1628"/>
                  <a:pt x="177" y="2025"/>
                  <a:pt x="43" y="220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590920"/>
            <a:ext cx="121932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590920"/>
            <a:ext cx="10666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150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22640" y="2463840"/>
            <a:ext cx="881280" cy="182520"/>
          </a:xfrm>
          <a:custGeom>
            <a:avLst/>
            <a:gdLst/>
            <a:ahLst/>
            <a:rect l="l" t="t" r="r" b="b"/>
            <a:pathLst>
              <a:path w="555" h="115">
                <a:moveTo>
                  <a:pt x="555" y="92"/>
                </a:moveTo>
                <a:cubicBezTo>
                  <a:pt x="503" y="79"/>
                  <a:pt x="335" y="0"/>
                  <a:pt x="243" y="4"/>
                </a:cubicBezTo>
                <a:lnTo>
                  <a:pt x="0" y="11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ultiple functional and knowledge modules that work concurr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rence between the functional modules is achieved via shar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functional sepa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schedu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an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RETSINA Agen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retsina-arch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0958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or: handles incoming and outgoing messages in an ACL. Converts requests into goals/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er: takes objectives and devises detailed plans to achieve them. Creates tasks, actions and new objectives. Uses plan fragments from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r: schedules actions for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monitor: executes actions and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on/collaboration: reasons for such activities, may be internal to planner or to commun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awareness: maintains self model: load, stat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ledg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DB: holds the agent’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DB: holds the agent’s tasks and actions, before they are scheduled for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: holds schedule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reduction library: includes a set of possible task decom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schema library: includes plan fragments, each provides details on how to perform a t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s DB: holds the beliefs of the agent regarding information relevant to it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components do not directly interface or synchronize with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components do not directly interface or synchronize with each o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components work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rovi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ability and substitutability of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utilization of computation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y task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development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cremental instantiation of plan fra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planning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ing planning, information gathering, and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ve description of information flow and control flow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by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33520" y="990720"/>
            <a:ext cx="8305200" cy="5542560"/>
            <a:chOff x="533520" y="990720"/>
            <a:chExt cx="8305200" cy="5542560"/>
          </a:xfrm>
        </p:grpSpPr>
        <p:sp>
          <p:nvSpPr>
            <p:cNvPr id="161" name=""/>
            <p:cNvSpPr/>
            <p:nvPr/>
          </p:nvSpPr>
          <p:spPr>
            <a:xfrm>
              <a:off x="2155680" y="990720"/>
              <a:ext cx="1158840" cy="54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040" y="2243880"/>
              <a:ext cx="1158840" cy="54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5240" y="2243880"/>
              <a:ext cx="1158840" cy="54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90160" y="1852560"/>
              <a:ext cx="30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35640" y="1852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3360" y="1852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51640" y="185256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640" y="15390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60240" y="990720"/>
              <a:ext cx="212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Reduce T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0240" y="1695600"/>
              <a:ext cx="212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Reduce T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94040" y="990720"/>
              <a:ext cx="0" cy="548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040" y="3262320"/>
              <a:ext cx="82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17160" y="3634200"/>
              <a:ext cx="1158840" cy="54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2040" y="4907520"/>
              <a:ext cx="1158840" cy="5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5240" y="4887720"/>
              <a:ext cx="1158840" cy="54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0160" y="4496040"/>
              <a:ext cx="30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6760" y="449604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3360" y="451548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51640" y="449604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6760" y="418284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51640" y="551448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4840" y="549468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117160" y="2128320"/>
              <a:ext cx="1235880" cy="764280"/>
              <a:chOff x="2117160" y="2128320"/>
              <a:chExt cx="1235880" cy="764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117160" y="2243880"/>
                <a:ext cx="1235880" cy="548280"/>
              </a:xfrm>
              <a:prstGeom prst="flowChartPunchedCar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8640" y="212832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040120" y="4907520"/>
              <a:ext cx="1235880" cy="54792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1600" y="47523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520" y="5886720"/>
              <a:ext cx="1236240" cy="54792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5000" y="57690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7840" y="5886720"/>
              <a:ext cx="1236240" cy="54792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9320" y="57690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are found in multiple 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gents collect info. on behalf of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agents monitor assets, perform transactions, help users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bots help finding best prices and d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rs help with selecting shows/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agents provide support in time-critical mission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agent systems allow integration of previously stand-alone legac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 Agent Functi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 with humans and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and satisfy human information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 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 and disseminate timely and relevan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to user, task and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 information management and 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Agent Organ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ly designed/close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pen organization: RETS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arch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umed/compos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sable Task-based System of Intelligent Network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daptive, self-organizing collection of autonomous agents that interact with humans and each o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decision support and informa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and satisfy human information processing and problem solving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real-time synchronization of doma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users and each other about significant changes 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 to user, task an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istributed collection of intelligent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collaborative and asynchro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, ope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may enter and leave at any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neous agent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ng user goals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informa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: System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hare same basic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The RETSINA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Multi-Agent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12240" y="1676520"/>
            <a:ext cx="6429240" cy="5140080"/>
            <a:chOff x="2712240" y="1676520"/>
            <a:chExt cx="6429240" cy="5140080"/>
          </a:xfrm>
        </p:grpSpPr>
        <p:sp>
          <p:nvSpPr>
            <p:cNvPr id="218" name=""/>
            <p:cNvSpPr/>
            <p:nvPr/>
          </p:nvSpPr>
          <p:spPr>
            <a:xfrm rot="12537600">
              <a:off x="6355440" y="4655880"/>
              <a:ext cx="1219320" cy="30456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9779400">
              <a:off x="6290640" y="3809160"/>
              <a:ext cx="1143000" cy="30492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07400">
              <a:off x="4766760" y="3809880"/>
              <a:ext cx="1143000" cy="2286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4636200">
              <a:off x="6868800" y="2317680"/>
              <a:ext cx="136440" cy="1597320"/>
            </a:xfrm>
            <a:prstGeom prst="upDownArrow">
              <a:avLst>
                <a:gd name="adj1" fmla="val 50000"/>
                <a:gd name="adj2" fmla="val 23305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81320" y="1676520"/>
              <a:ext cx="943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05560" y="1676520"/>
              <a:ext cx="94284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05760" y="1676520"/>
              <a:ext cx="94284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62560" y="6095880"/>
              <a:ext cx="990360" cy="609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67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769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77160" y="2514600"/>
              <a:ext cx="1447560" cy="380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rface Agent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67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69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77160" y="3352680"/>
              <a:ext cx="1447560" cy="381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ask Agent 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0640" y="4876920"/>
              <a:ext cx="1447920" cy="3808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iddleAg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29440" y="5105520"/>
              <a:ext cx="1219320" cy="3808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fo Agent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81520" y="6172200"/>
              <a:ext cx="99072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81720" y="5943600"/>
              <a:ext cx="99072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ource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12240" y="1981080"/>
              <a:ext cx="136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al and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22320" y="2133720"/>
              <a:ext cx="7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20160" y="2971800"/>
              <a:ext cx="96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09920" y="289548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4636200">
              <a:off x="5268600" y="2317680"/>
              <a:ext cx="136440" cy="1597320"/>
            </a:xfrm>
            <a:prstGeom prst="upDownArrow">
              <a:avLst>
                <a:gd name="adj1" fmla="val 50000"/>
                <a:gd name="adj2" fmla="val 23305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92760" y="2971800"/>
              <a:ext cx="654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s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38920" y="2895480"/>
              <a:ext cx="228600" cy="381240"/>
            </a:xfrm>
            <a:prstGeom prst="upDownArrow">
              <a:avLst>
                <a:gd name="adj1" fmla="val 50000"/>
                <a:gd name="adj2" fmla="val 332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86440" y="297180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0040" y="4038480"/>
              <a:ext cx="138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 &amp;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3809880"/>
              <a:ext cx="228600" cy="1676520"/>
            </a:xfrm>
            <a:prstGeom prst="upDownArrow">
              <a:avLst>
                <a:gd name="adj1" fmla="val 50000"/>
                <a:gd name="adj2" fmla="val 14599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43840" y="3809880"/>
              <a:ext cx="228600" cy="1219320"/>
            </a:xfrm>
            <a:prstGeom prst="upDownArrow">
              <a:avLst>
                <a:gd name="adj1" fmla="val 50000"/>
                <a:gd name="adj2" fmla="val 1061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54840" y="4038480"/>
              <a:ext cx="209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rmation 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flict Re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51280" y="42670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8644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52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86640" y="2133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0400">
              <a:off x="4385880" y="5105160"/>
              <a:ext cx="1067040" cy="304920"/>
            </a:xfrm>
            <a:custGeom>
              <a:avLst/>
              <a:gdLst>
                <a:gd name="textAreaLeft" fmla="*/ 186480 w 1067040"/>
                <a:gd name="textAreaRight" fmla="*/ 773640 w 106704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24080" y="5257800"/>
              <a:ext cx="145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vertis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3060600">
              <a:off x="6639480" y="5290200"/>
              <a:ext cx="137880" cy="1140120"/>
            </a:xfrm>
            <a:prstGeom prst="upDownArrow">
              <a:avLst>
                <a:gd name="adj1" fmla="val 50000"/>
                <a:gd name="adj2" fmla="val 16461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62960" y="5562720"/>
              <a:ext cx="228600" cy="380880"/>
            </a:xfrm>
            <a:prstGeom prst="upDownArrow">
              <a:avLst>
                <a:gd name="adj1" fmla="val 50000"/>
                <a:gd name="adj2" fmla="val 3316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3246600">
              <a:off x="3547800" y="6172200"/>
              <a:ext cx="1143000" cy="2286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2720" y="5562720"/>
              <a:ext cx="1143000" cy="3808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fo Ag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7903400">
              <a:off x="5343840" y="5442480"/>
              <a:ext cx="138240" cy="1139760"/>
            </a:xfrm>
            <a:prstGeom prst="upDownArrow">
              <a:avLst>
                <a:gd name="adj1" fmla="val 50000"/>
                <a:gd name="adj2" fmla="val 16413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9800" y="61722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31880" y="55627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860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adaptive collections of information agents that coordinate to retrieve, filter and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levant to the user, task and situation, as well as anticipate user's information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: Desig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nts and the system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her information from distributed, multi-modal sources, provide decis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, filter, integrate info. and mak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cross different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odels of users, tasks, agents to deal with tasks (decompose, pas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code reusability and mod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lexible and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SINA -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TSINA multi-ag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ynamic, open,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 actively seek ou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agents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eaving planning and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able infrastructure and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omain specific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g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utational entity - but any program running on a machine is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t - how exactly do we measure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gram that can solve complex equations intellig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gram that can find a good deal intellig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ous - the most agreed-upon attribute of agents, but not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: decides for itself what it need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gen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- interacts with humans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able-  works on behalf of a human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Electronic Calend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cal" descr=""/>
          <p:cNvPicPr/>
          <p:nvPr/>
        </p:nvPicPr>
        <p:blipFill>
          <a:blip r:embed="rId1"/>
          <a:stretch/>
        </p:blipFill>
        <p:spPr>
          <a:xfrm>
            <a:off x="380880" y="714240"/>
            <a:ext cx="8463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Electronic Calendar an Ag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erves a user, it works on its behal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roactive: when a meeting is approaching, it alerts the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autonomous? No. Its decisions on actions are user programmed, it does not reason and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an intelligent agent, it need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when the user does not need/want its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lookup vacation file, ask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with calendars to workout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 to/learn user prefer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9T13:19:40Z</dcterms:created>
  <dc:creator>Anandeep S Pannu</dc:creator>
  <dc:description/>
  <dc:language>en-US</dc:language>
  <cp:lastModifiedBy>John T Grasso</cp:lastModifiedBy>
  <cp:lastPrinted>1999-08-31T03:47:09Z</cp:lastPrinted>
  <dcterms:modified xsi:type="dcterms:W3CDTF">2000-04-17T02:59:38Z</dcterms:modified>
  <cp:revision>26</cp:revision>
  <dc:subject/>
  <dc:title>Intelligent agents </dc:title>
</cp:coreProperties>
</file>