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6C5F-778F-4D19-819A-2D6003C9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899-5EAF-4334-BF33-8EFCFF80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A0D-6F19-4A7E-83B1-FF262A2C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1882-1597-41EF-8E58-7BFE9915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3CF-36B4-4407-952B-942DC694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8EF-1267-4FA2-B183-F9314A68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833-2F13-40C3-B60D-328250B7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190-6B7F-4A17-9DD3-51BF4B4E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DEE-631F-431D-B5F2-1A9BBEBB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AF5-CD29-4790-BE8A-36470DDF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DD1-79DB-41DD-B948-2F010BC0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F576-3FEF-4772-A926-B33BB2B3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4C11-B9DC-4D46-92AA-78F94BBED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5440" y="2133720"/>
            <a:ext cx="702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ABS TIE-3 Demon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67840" y="64771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04/15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6640" y="3200400"/>
            <a:ext cx="7642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operability of Multiagent Systems to Support an Escalating N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080" y="4038480"/>
            <a:ext cx="28810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rticipa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BBN, CMU RETSINA Group, S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124080" y="2057400"/>
            <a:ext cx="8384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124080" y="121932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62520" y="1752480"/>
            <a:ext cx="121896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38280" y="304920"/>
            <a:ext cx="1371600" cy="9144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0200" y="5257800"/>
            <a:ext cx="65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WebMate reconsults the Web and displays the results in a browser wind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1066680"/>
            <a:ext cx="3352680" cy="335304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ffffff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0" y="281952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572000" y="243792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217960" cy="226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09680" y="5257800"/>
            <a:ext cx="701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Yes, better be safe than sorry.  We shall need information regarding which flights are available out of Kuwait ... and we should keep the weather in consideration,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58672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I Messenger                    UI Messe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752480" y="2438280"/>
            <a:ext cx="914400" cy="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666880" y="533160"/>
            <a:ext cx="0" cy="190476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752480" y="533520"/>
            <a:ext cx="914400" cy="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29000" y="6019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248520" y="175248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3352680"/>
            <a:ext cx="8380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67480" y="14479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67480" y="3581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67480" y="6858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67480" y="28195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62560" y="487692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erchangeable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14800" y="2895480"/>
            <a:ext cx="1066680" cy="914400"/>
          </a:xfrm>
          <a:prstGeom prst="rect">
            <a:avLst/>
          </a:prstGeom>
          <a:solidFill>
            <a:srgbClr val="99cc00"/>
          </a:solidFill>
          <a:ln w="2844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52480" y="533520"/>
            <a:ext cx="44960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5335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81480" y="3352680"/>
            <a:ext cx="10670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248520" y="175248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315200" y="609120"/>
            <a:ext cx="144792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91520" y="609480"/>
            <a:ext cx="137160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48520" y="99072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77640" y="5867280"/>
            <a:ext cx="33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UI Messenger                 Inter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86600" y="6019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48520" y="5335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040000" y="609480"/>
            <a:ext cx="1110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67440" y="2209680"/>
            <a:ext cx="1154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96000" y="58672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UI Messenger                  Flight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05320" y="6019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276720" y="3352680"/>
            <a:ext cx="8380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14479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467480" y="3581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67480" y="6858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67480" y="28195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62560" y="487692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erchangeable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2895480"/>
            <a:ext cx="1066680" cy="914400"/>
          </a:xfrm>
          <a:prstGeom prst="rect">
            <a:avLst/>
          </a:prstGeom>
          <a:solidFill>
            <a:srgbClr val="99cc00"/>
          </a:solidFill>
          <a:ln w="2844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76720" y="5335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81480" y="3352680"/>
            <a:ext cx="10670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248520" y="175248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7315200" y="609120"/>
            <a:ext cx="144792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391520" y="609480"/>
            <a:ext cx="137160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1752480" y="533520"/>
            <a:ext cx="15242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17524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90600" y="5867280"/>
            <a:ext cx="47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light Agent                  UI Messenger via Inter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429000" y="6019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467480" y="14479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467480" y="3581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467480" y="6858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67480" y="28195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162560" y="487692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erchangeable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2895480"/>
            <a:ext cx="1066680" cy="914400"/>
          </a:xfrm>
          <a:prstGeom prst="rect">
            <a:avLst/>
          </a:prstGeom>
          <a:solidFill>
            <a:srgbClr val="99cc00"/>
          </a:solidFill>
          <a:ln w="2844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553080" y="3124080"/>
            <a:ext cx="8384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257800" y="3352680"/>
            <a:ext cx="914400" cy="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72200" y="3352680"/>
            <a:ext cx="0" cy="53352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828800" y="609480"/>
            <a:ext cx="47242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00400" y="609480"/>
            <a:ext cx="0" cy="27432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200400" y="3352680"/>
            <a:ext cx="8380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7315200" y="3505320"/>
            <a:ext cx="1447920" cy="761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91520" y="3505320"/>
            <a:ext cx="1371600" cy="761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172200" y="3886200"/>
            <a:ext cx="1219320" cy="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6553080" y="609120"/>
            <a:ext cx="0" cy="25146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95640" y="5867280"/>
            <a:ext cx="33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UI Messenger                  Inter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505320" y="6019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271680" y="1941480"/>
            <a:ext cx="1110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272560" y="623880"/>
            <a:ext cx="1154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ff33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49400" y="5867280"/>
            <a:ext cx="349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UI Messenger                  Weather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0" y="6019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467480" y="14479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67480" y="3581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67480" y="6858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467480" y="28195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162560" y="487692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erchangeable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7315200" y="3505320"/>
            <a:ext cx="1447920" cy="761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391520" y="3505320"/>
            <a:ext cx="1371600" cy="761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971800" y="1066680"/>
            <a:ext cx="3352680" cy="335304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ffffff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2236680" cy="228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44" name=""/>
          <p:cNvSpPr/>
          <p:nvPr/>
        </p:nvSpPr>
        <p:spPr>
          <a:xfrm>
            <a:off x="3352680" y="60948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752480" y="60948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1752120" y="380880"/>
            <a:ext cx="49532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05720" y="380880"/>
            <a:ext cx="0" cy="27432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05720" y="312408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196720" y="5867280"/>
            <a:ext cx="349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Weather Agent                 UI Messeng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81280" y="6019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189520" y="5257800"/>
            <a:ext cx="667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UI Messenger extracts the URL from the weather report and displays it in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mbassador’s brows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194200" y="5257800"/>
            <a:ext cx="44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I will begin reviewing our safe route to the airpo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676160" y="533520"/>
            <a:ext cx="1066680" cy="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743200" y="533520"/>
            <a:ext cx="0" cy="190476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1676160" y="2438280"/>
            <a:ext cx="1066680" cy="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0" y="58672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I Messenger                    UI Messe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3428640" y="6019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486400" y="2514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197440" y="5867280"/>
            <a:ext cx="335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UI Messenger                 RoutePl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429000" y="28195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28800" y="243828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429000" y="243828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505320" y="6019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92040" y="5268960"/>
            <a:ext cx="65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cting on the JFC’s message, the UI Messenger invokes the RoutePlann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486400" y="2514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185200" y="5867280"/>
            <a:ext cx="66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RoutePlanner                  UI Messenger to MultiModal Maps via InterOpera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505320" y="6019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1828440" y="236232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971800" y="18288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114800" y="2895480"/>
            <a:ext cx="1066680" cy="914400"/>
          </a:xfrm>
          <a:prstGeom prst="rect">
            <a:avLst/>
          </a:prstGeom>
          <a:solidFill>
            <a:srgbClr val="99cc00"/>
          </a:solidFill>
          <a:ln w="2844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971800" y="1828800"/>
            <a:ext cx="31240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095880" y="182880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971800" y="312408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971800" y="251424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1828440" y="251460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1828800" y="312408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2666880" y="342900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666880" y="312408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2666880" y="1218960"/>
            <a:ext cx="0" cy="1904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1752480" y="12193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1828800" y="502920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666880" y="34286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 flipV="1">
            <a:off x="3124080" y="1218960"/>
            <a:ext cx="0" cy="24382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362320" y="3962520"/>
            <a:ext cx="1522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514600" y="36576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1752480" y="312408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362320" y="3124080"/>
            <a:ext cx="0" cy="8384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1752480" y="1219320"/>
            <a:ext cx="13716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124080" y="426708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1752480" y="5029200"/>
            <a:ext cx="13716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70800" y="5878440"/>
            <a:ext cx="63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 Agent</a:t>
            </a: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                 MultiModal Map, MultiModal Map, MultiModal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29000" y="6019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192400" y="5257800"/>
            <a:ext cx="687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n ESP agent in the field reports of a roadblock via the Phone Agent.  The roadblock is displayed on all MultiModal ma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80720" y="1676520"/>
            <a:ext cx="5334120" cy="25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e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B:  US Ambassador to Kuw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FC:   Joint Forces Comma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P:   a member of the Evacuation Site Pa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O: Non-combative Evacuation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76320"/>
            <a:ext cx="8991360" cy="617220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3124080" y="3048120"/>
            <a:ext cx="99072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4648320" y="533160"/>
            <a:ext cx="0" cy="23619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124080" y="327672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514600" y="36576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1752480" y="2438280"/>
            <a:ext cx="13716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1752480" y="533520"/>
            <a:ext cx="28958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752480" y="4343400"/>
            <a:ext cx="28958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176200" y="5878440"/>
            <a:ext cx="487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 Agent</a:t>
            </a: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                 UI Messengers via Inter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29000" y="6019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170080" y="5257800"/>
            <a:ext cx="645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The InterOperator detects this event as well and forwards it to the three 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Messeng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4800" y="2895480"/>
            <a:ext cx="1066680" cy="914400"/>
          </a:xfrm>
          <a:prstGeom prst="rect">
            <a:avLst/>
          </a:prstGeom>
          <a:solidFill>
            <a:srgbClr val="99cc00"/>
          </a:solidFill>
          <a:ln w="2844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327672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2438280"/>
            <a:ext cx="0" cy="6098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4648320" y="38862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200680" y="5257800"/>
            <a:ext cx="40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mbassador Born, we have a roadblock he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1676160" y="533520"/>
            <a:ext cx="1066680" cy="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743200" y="533520"/>
            <a:ext cx="0" cy="380988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1676160" y="4343400"/>
            <a:ext cx="1066680" cy="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09680" y="58672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I Messenger                    UI Messe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352680" y="6019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209680" y="525780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Commander, the situation is worsening, I just got a report of a roadblock along our rout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209680" y="58672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I Messenger                    UI Messe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1752480" y="2438280"/>
            <a:ext cx="914400" cy="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2666880" y="533160"/>
            <a:ext cx="0" cy="190476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1752480" y="533520"/>
            <a:ext cx="914400" cy="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352680" y="6019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197080" y="5257800"/>
            <a:ext cx="371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OK, I will find another route to the airpo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09680" y="58672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I Messenger                    UI Messe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3352320" y="6019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1676160" y="533520"/>
            <a:ext cx="1066680" cy="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743200" y="533520"/>
            <a:ext cx="0" cy="190476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1676160" y="2438280"/>
            <a:ext cx="1066680" cy="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486400" y="2514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196720" y="5867280"/>
            <a:ext cx="34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UI Messenger                  RoutePl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429000" y="28195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828800" y="243828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429000" y="243828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505320" y="6019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193840" y="5257800"/>
            <a:ext cx="512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The RoutePlanner is reactivated to plan an alternate rou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188800" y="5257800"/>
            <a:ext cx="697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RP constructs a route from US Embassy to Airport that avoids the roadblock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The route is sent to the Ambassador's UI Messenger and to all maps for displ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486400" y="2514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1828440" y="236232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971800" y="18288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114800" y="2895480"/>
            <a:ext cx="1066680" cy="914400"/>
          </a:xfrm>
          <a:prstGeom prst="rect">
            <a:avLst/>
          </a:prstGeom>
          <a:solidFill>
            <a:srgbClr val="99cc00"/>
          </a:solidFill>
          <a:ln w="2844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971800" y="1828800"/>
            <a:ext cx="31240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095880" y="182880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971800" y="312408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971800" y="251424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1828440" y="251460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1828800" y="312408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2666880" y="342900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666880" y="312408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2666880" y="1218960"/>
            <a:ext cx="0" cy="1904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1752480" y="12193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1828800" y="502920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2666880" y="34286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185200" y="5867280"/>
            <a:ext cx="66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RoutePlanner                  UI Messenger to MultiModal Maps via InterOpera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505320" y="6019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5562720" y="152280"/>
            <a:ext cx="1295280" cy="1295640"/>
          </a:xfrm>
          <a:prstGeom prst="rect">
            <a:avLst/>
          </a:prstGeom>
          <a:solidFill>
            <a:srgbClr val="ff0000">
              <a:alpha val="50000"/>
            </a:srgbClr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6" name="recretina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1130400" cy="113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117" name=""/>
          <p:cNvSpPr/>
          <p:nvPr/>
        </p:nvSpPr>
        <p:spPr>
          <a:xfrm>
            <a:off x="2209680" y="525780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Terrorist agent "puts" an explosion at the airport, and possibly at other locations, to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38480" y="2819520"/>
            <a:ext cx="1143000" cy="761760"/>
          </a:xfrm>
          <a:prstGeom prst="ellipse">
            <a:avLst/>
          </a:prstGeom>
          <a:solidFill>
            <a:srgbClr val="ff0000"/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rror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6172200" y="1371600"/>
            <a:ext cx="0" cy="1828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257800" y="32004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 flipH="1">
            <a:off x="3581280" y="3962520"/>
            <a:ext cx="190512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562720" y="152280"/>
            <a:ext cx="1295280" cy="1295640"/>
          </a:xfrm>
          <a:prstGeom prst="rect">
            <a:avLst/>
          </a:prstGeom>
          <a:solidFill>
            <a:srgbClr val="ff0000">
              <a:alpha val="50000"/>
            </a:srgbClr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486400" y="3657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7" name="recretina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1130400" cy="113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158" name=""/>
          <p:cNvSpPr/>
          <p:nvPr/>
        </p:nvSpPr>
        <p:spPr>
          <a:xfrm>
            <a:off x="6095880" y="2514600"/>
            <a:ext cx="0" cy="10666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48520" y="1447920"/>
            <a:ext cx="0" cy="10666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6095880" y="2514600"/>
            <a:ext cx="1526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1752480" y="533520"/>
            <a:ext cx="18288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3581280" y="533160"/>
            <a:ext cx="0" cy="34290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209680" y="525780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Visual Agent is activated and begins to scan.  It finds the explosion, estimates the affected area around the blast, and reports findings to the Ambassa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09680" y="5867280"/>
            <a:ext cx="40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UI Messenger                 Visual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3504960" y="6019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09680" y="525780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I just got the news of an explosion at the airport.  It is too dangerous out ther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209680" y="58672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I Messenger                    UI Messe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752480" y="2438280"/>
            <a:ext cx="914400" cy="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2666880" y="533160"/>
            <a:ext cx="0" cy="190476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1752480" y="533520"/>
            <a:ext cx="914400" cy="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352680" y="6019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194200" y="5257800"/>
            <a:ext cx="49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It might be safer if we go some other way, like to OK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1676160" y="533520"/>
            <a:ext cx="1066680" cy="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743200" y="533520"/>
            <a:ext cx="0" cy="190476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1676160" y="2438280"/>
            <a:ext cx="1066680" cy="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09680" y="58672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I Messenger                    UI Messe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3352320" y="6019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62720" y="152280"/>
            <a:ext cx="1295280" cy="1295640"/>
          </a:xfrm>
          <a:prstGeom prst="rect">
            <a:avLst/>
          </a:prstGeom>
          <a:solidFill>
            <a:srgbClr val="ff0000">
              <a:alpha val="50000"/>
            </a:srgbClr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25146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es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14479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3581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2514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3657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1752480"/>
            <a:ext cx="121896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6858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28195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304920"/>
            <a:ext cx="1371600" cy="9144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4419720"/>
            <a:ext cx="12189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6576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152280"/>
            <a:ext cx="1295280" cy="1246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8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560" y="487692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erchangeable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2895480"/>
            <a:ext cx="1066680" cy="914400"/>
          </a:xfrm>
          <a:prstGeom prst="rect">
            <a:avLst/>
          </a:prstGeom>
          <a:solidFill>
            <a:srgbClr val="99cc00"/>
          </a:solidFill>
          <a:ln w="2844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recretina" descr=""/>
          <p:cNvPicPr/>
          <p:nvPr/>
        </p:nvPicPr>
        <p:blipFill>
          <a:blip r:embed="rId2"/>
          <a:stretch/>
        </p:blipFill>
        <p:spPr>
          <a:xfrm>
            <a:off x="5638680" y="228600"/>
            <a:ext cx="1130400" cy="113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86400" y="2514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197440" y="5867280"/>
            <a:ext cx="335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UI Messenger                 RoutePl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29000" y="28195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828800" y="243828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429000" y="243828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505320" y="6019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192040" y="5268960"/>
            <a:ext cx="65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cting on the JFC’s message, the UI Messenger invokes the RoutePlann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486400" y="2514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185200" y="5867280"/>
            <a:ext cx="66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RoutePlanner                  UI Messenger to MultiModal Maps via InterOpera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05320" y="6019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828440" y="236232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971800" y="18288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114800" y="2895480"/>
            <a:ext cx="1066680" cy="914400"/>
          </a:xfrm>
          <a:prstGeom prst="rect">
            <a:avLst/>
          </a:prstGeom>
          <a:solidFill>
            <a:srgbClr val="99cc00"/>
          </a:solidFill>
          <a:ln w="2844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971800" y="1828800"/>
            <a:ext cx="31240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095880" y="182880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971800" y="312408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2971800" y="251424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1828440" y="251460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1828800" y="312408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2666880" y="342900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666880" y="312408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2666880" y="1218960"/>
            <a:ext cx="0" cy="1904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1752480" y="12193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1828800" y="502920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2666880" y="34286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200320" y="5257800"/>
            <a:ext cx="30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That area seems safe to me, too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209680" y="58672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I Messenger                    UI Messe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352680" y="6019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752480" y="2438280"/>
            <a:ext cx="914400" cy="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2666880" y="533160"/>
            <a:ext cx="0" cy="190476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1752480" y="533520"/>
            <a:ext cx="914400" cy="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196720" y="5257800"/>
            <a:ext cx="37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I will schedule an airlift from there pronto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209680" y="58672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I Messenger                    UI Messe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1676160" y="533520"/>
            <a:ext cx="1066680" cy="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743200" y="533520"/>
            <a:ext cx="0" cy="190476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H="1">
            <a:off x="1676160" y="2438280"/>
            <a:ext cx="1066680" cy="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3352320" y="6019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3048120" y="472428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4419720"/>
            <a:ext cx="12189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199600" y="58672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UI Messenger                  CA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05320" y="6019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3048120" y="2438280"/>
            <a:ext cx="0" cy="22860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1676520" y="2438280"/>
            <a:ext cx="13716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4419720"/>
            <a:ext cx="12189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200320" y="5867280"/>
            <a:ext cx="28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UI Messenger                 CA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3048120" y="2438280"/>
            <a:ext cx="0" cy="22860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1752120" y="2438280"/>
            <a:ext cx="12956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048120" y="472428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3504960" y="6019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5562720" y="152280"/>
            <a:ext cx="1295280" cy="1295640"/>
          </a:xfrm>
          <a:prstGeom prst="rect">
            <a:avLst/>
          </a:prstGeom>
          <a:solidFill>
            <a:srgbClr val="ff0000">
              <a:alpha val="50000"/>
            </a:srgbClr>
          </a:solidFill>
          <a:ln w="324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514600" y="25146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es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467480" y="14479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467480" y="3581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486400" y="2514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486400" y="3657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962520" y="1752480"/>
            <a:ext cx="121896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467480" y="6858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467480" y="28195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438280" y="304920"/>
            <a:ext cx="1371600" cy="9144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962520" y="4419720"/>
            <a:ext cx="121896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514600" y="36576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" descr=""/>
          <p:cNvPicPr/>
          <p:nvPr/>
        </p:nvPicPr>
        <p:blipFill>
          <a:blip r:embed="rId1"/>
          <a:stretch/>
        </p:blipFill>
        <p:spPr>
          <a:xfrm>
            <a:off x="3962520" y="152280"/>
            <a:ext cx="1295280" cy="1246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533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162560" y="487692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erchangeable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114800" y="2895480"/>
            <a:ext cx="1066680" cy="914400"/>
          </a:xfrm>
          <a:prstGeom prst="rect">
            <a:avLst/>
          </a:prstGeom>
          <a:solidFill>
            <a:srgbClr val="99cc00"/>
          </a:solidFill>
          <a:ln w="2844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recretina" descr=""/>
          <p:cNvPicPr/>
          <p:nvPr/>
        </p:nvPicPr>
        <p:blipFill>
          <a:blip r:embed="rId2"/>
          <a:stretch/>
        </p:blipFill>
        <p:spPr>
          <a:xfrm>
            <a:off x="5638680" y="228600"/>
            <a:ext cx="1130400" cy="113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58672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I Messenger                    UI Messe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6019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5257800"/>
            <a:ext cx="510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Good morning Ambassador Born.  I understand we have a potential NEO situation brewing in Kuwait City.  Can I be of help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676160" y="533520"/>
            <a:ext cx="1066680" cy="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533520"/>
            <a:ext cx="0" cy="190476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676160" y="2438280"/>
            <a:ext cx="1066680" cy="0"/>
          </a:xfrm>
          <a:prstGeom prst="line">
            <a:avLst/>
          </a:prstGeom>
          <a:ln w="2844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0" y="58672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I Messenger                    UI Messe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525780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Good morning.  I am still trying to assess the situation after the bombs last night at the international conference and reports of riots near the conference 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752480" y="2438280"/>
            <a:ext cx="914400" cy="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666880" y="533160"/>
            <a:ext cx="0" cy="190476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752480" y="533520"/>
            <a:ext cx="914400" cy="0"/>
          </a:xfrm>
          <a:prstGeom prst="line">
            <a:avLst/>
          </a:prstGeom>
          <a:ln w="28440">
            <a:solidFill>
              <a:srgbClr val="cc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428640" y="6019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es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752480"/>
            <a:ext cx="121896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68580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457200"/>
            <a:ext cx="0" cy="12193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905120" y="45720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2480" y="5867280"/>
            <a:ext cx="38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OMBS+CONFERENCE</a:t>
            </a: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                 WebM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91440" y="5867280"/>
            <a:ext cx="22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OTS</a:t>
            </a: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                 Mae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6019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6019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2895480"/>
            <a:ext cx="1066680" cy="914400"/>
          </a:xfrm>
          <a:prstGeom prst="rect">
            <a:avLst/>
          </a:prstGeom>
          <a:solidFill>
            <a:srgbClr val="99cc00"/>
          </a:solidFill>
          <a:ln w="2844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685800"/>
            <a:ext cx="0" cy="37339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4419720"/>
            <a:ext cx="22860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648320" y="38862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124080" y="32000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342900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92400" y="5268960"/>
            <a:ext cx="689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cting on the Ambassador’s message, the UI Messenger invokes WebMat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Maestro with the following keyword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971800" y="1219320"/>
            <a:ext cx="0" cy="12189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05740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276720" y="121932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25146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es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1752480"/>
            <a:ext cx="121896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304920"/>
            <a:ext cx="1371600" cy="9144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962520" y="152280"/>
            <a:ext cx="1295280" cy="1246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72" name=""/>
          <p:cNvSpPr/>
          <p:nvPr/>
        </p:nvSpPr>
        <p:spPr>
          <a:xfrm>
            <a:off x="2178720" y="5268960"/>
            <a:ext cx="55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WebMate and Maestro consult information sources on the web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25146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es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1752480"/>
            <a:ext cx="121896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94200" y="5257800"/>
            <a:ext cx="59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Maestro and WebMate display their information to the Ambassa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1066680"/>
            <a:ext cx="3352680" cy="335304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ffffff"/>
            </a:solidFill>
            <a:prstDash val="sysDot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638680" y="2030400"/>
            <a:ext cx="1295640" cy="1246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11" name=""/>
          <p:cNvSpPr/>
          <p:nvPr/>
        </p:nvSpPr>
        <p:spPr>
          <a:xfrm>
            <a:off x="4572000" y="266688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124080" y="3809880"/>
            <a:ext cx="47246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124080" y="320004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572000" y="243792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010280" y="1828800"/>
            <a:ext cx="1687680" cy="1700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16" name=""/>
          <p:cNvSpPr/>
          <p:nvPr/>
        </p:nvSpPr>
        <p:spPr>
          <a:xfrm flipV="1">
            <a:off x="7848720" y="35053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6320" y="76320"/>
            <a:ext cx="2057400" cy="60958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62920" y="76320"/>
            <a:ext cx="1904760" cy="4724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5867280"/>
            <a:ext cx="6858000" cy="3049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541008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2280" y="3962520"/>
            <a:ext cx="190512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280" y="2057400"/>
            <a:ext cx="1905120" cy="14479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152280"/>
            <a:ext cx="190512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280" y="3505320"/>
            <a:ext cx="1905120" cy="30456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1600200"/>
            <a:ext cx="1905120" cy="304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22860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914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2133720"/>
            <a:ext cx="1219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28195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4038480"/>
            <a:ext cx="1219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4724280"/>
            <a:ext cx="12193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320" y="6324480"/>
            <a:ext cx="8991360" cy="4572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6400800"/>
            <a:ext cx="9907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6400800"/>
            <a:ext cx="9907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6400800"/>
            <a:ext cx="99072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46960" y="64008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sin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61200" y="640080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AA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11200" y="640080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B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2920" y="6400800"/>
            <a:ext cx="7617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926480" y="64008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160" y="16002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mbas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9520" y="3505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9160" y="5410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09680" y="5257800"/>
            <a:ext cx="6858000" cy="533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76320"/>
            <a:ext cx="4876920" cy="1447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09680" y="1600200"/>
            <a:ext cx="4876920" cy="35812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62920" y="4876920"/>
            <a:ext cx="190476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280" y="5791320"/>
            <a:ext cx="1905120" cy="3045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640" y="5821200"/>
            <a:ext cx="1977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uman-Agent Team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11120" y="5257800"/>
            <a:ext cx="629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I am monitoring reports for information about the alleged perpetrators, the GAZ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In the meantime, should we start planning the evacuation of American civili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160" y="53352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533520"/>
            <a:ext cx="0" cy="18288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676160" y="236232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0" y="58672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I Messenger                    UI Messe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62520" y="1752480"/>
            <a:ext cx="121896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2057400"/>
            <a:ext cx="76212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75280" y="5867280"/>
            <a:ext cx="233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ZERS                    Web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81680" y="6019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6520" y="2590920"/>
            <a:ext cx="144756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124080" y="20574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428640" y="6019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5T16:01:50Z</dcterms:created>
  <dc:creator>Martin van Velsen</dc:creator>
  <dc:description/>
  <dc:language>en-US</dc:language>
  <cp:lastModifiedBy>Katia Sycara</cp:lastModifiedBy>
  <cp:lastPrinted>1999-04-17T00:06:32Z</cp:lastPrinted>
  <dcterms:modified xsi:type="dcterms:W3CDTF">2000-03-10T01:52:22Z</dcterms:modified>
  <cp:revision>105</cp:revision>
  <dc:subject/>
  <dc:title>No Slide Title</dc:title>
</cp:coreProperties>
</file>