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6E63-CFA3-4CF3-B6CC-B258FDE4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8EC-9D66-4B42-8549-5E1C2F7D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CA3-13EF-4E75-BC2A-3715946A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A8B-8E1F-441E-8A62-8E8EB1DF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A4D5-E150-4F59-B3E2-84E6140C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4CF-D5A3-4E18-89E7-E7242C6A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E70-87B6-4A32-AF55-9E4DDC4A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1E8-0892-4A52-A4E7-2CDECAE5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FA2-F7C9-4384-A407-27A25645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ADEB-1973-4DAB-9C34-2CC7A482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66A-A1E1-4D48-8EAB-C487F54C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2DA-9911-4168-B689-705D010A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1DB5-0219-4224-8B85-392BD3D44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lligent Agents – Lectur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ia Syc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botics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ail: katia@cs.cmu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cs.cmu.edu/~soft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95480" y="5638680"/>
            <a:ext cx="3333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level: specifies method of inter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dle level: specifies format,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level: specifies meaning, semantics (substance and ty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specification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 in the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ing and decod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 to be taken by the receiver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ch 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pects of a speech 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ution, the physical utterance by the sp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ocution, the intended meaning of the utterance by the sp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locution, the action that results from the lo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communication among agents, we want to insure there is no doubt about the message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ch act theory u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form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identify the illocutionary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define the type of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owledge Query and Manipulation Language (KQM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protocol semantics from content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f the information for understanding a message is included in the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ssage structure (lisp like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6600" y="4210200"/>
            <a:ext cx="563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QML-perform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sender &lt;wor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receiver &lt;wor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language &lt;wor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ontology &lt;wor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content &lt;express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Q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6080" y="2666880"/>
            <a:ext cx="446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sender Age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receiver Age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language K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ontology St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content (AND (ibm) (intl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tive Categ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query performatives (ask-one, ask-all,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response query performatives (stream-in,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e (reply, sorry,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informational (tell, untell, achieve,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or (standby, ready, next, rest,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bility definition (advertise, monitor,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ing (register, broadcast, forward,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gents Transacting in Open Enviro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2666880"/>
            <a:ext cx="5257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ph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ng appropriat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 different kinds of middl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the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or without middl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sues with Locating Agent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bust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he matching is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requester (preserving the privacy of reques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sues with Locating Agent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needed to feed the “matching engi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er can provide request for service, with or without service-related preferences (e.g., cost, qua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orted list of contact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ed list of contact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kept at middle agent to be fed into transaction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ansaction 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rs and requesters interact with each other di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gotiation phase to find out service parameters and preferences (if not taken into account in the locating ph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gation 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rs and requesters interact through midd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dle agent finds provider and deleg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brid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interacting through midd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 issues (anonymization of requesters and provid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st issues (enforcement of honesty; not necessarily keep anonymity of principals); e.g. NetB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to talk to: principals inv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cont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a LARKS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proces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implied by KQML performatives (service-request, request-for-service-provid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 Dis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dle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ching Engine for Service Providers &amp; Reque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7520" y="4114800"/>
            <a:ext cx="3039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ching capabilities with requ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9160" y="480060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pability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9240" y="480060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ice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828800" y="4495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09680" y="4495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590920"/>
            <a:ext cx="419112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31520" y="411480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LA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37240" y="4114800"/>
            <a:ext cx="3039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ching capabilities with requ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36240" y="480060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pability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2640" y="4724280"/>
            <a:ext cx="13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ice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95880" y="4495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477120" y="4495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590920"/>
            <a:ext cx="434340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27200" y="411480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LA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81080" y="3428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400" y="2971800"/>
            <a:ext cx="30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sorted list of agent contact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3244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95760" y="3276720"/>
            <a:ext cx="1698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ision algori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32448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7120" y="266688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rted list of agent contact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roadc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2209680"/>
            <a:ext cx="16765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09680"/>
            <a:ext cx="144792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4572000"/>
            <a:ext cx="114300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8880" y="4572000"/>
            <a:ext cx="114300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781680" y="3124080"/>
            <a:ext cx="914400" cy="144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095880" y="3124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160" y="205632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fo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6720" y="3275640"/>
            <a:ext cx="170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adc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3048120"/>
            <a:ext cx="3352680" cy="1917720"/>
          </a:xfrm>
          <a:custGeom>
            <a:avLst/>
            <a:gdLst/>
            <a:ahLst/>
            <a:rect l="l" t="t" r="r" b="b"/>
            <a:pathLst>
              <a:path w="2112" h="1208">
                <a:moveTo>
                  <a:pt x="0" y="0"/>
                </a:moveTo>
                <a:cubicBezTo>
                  <a:pt x="136" y="404"/>
                  <a:pt x="272" y="808"/>
                  <a:pt x="624" y="1008"/>
                </a:cubicBezTo>
                <a:cubicBezTo>
                  <a:pt x="976" y="1208"/>
                  <a:pt x="1864" y="1168"/>
                  <a:pt x="2112" y="1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3124080"/>
            <a:ext cx="3879720" cy="2224080"/>
          </a:xfrm>
          <a:custGeom>
            <a:avLst/>
            <a:gdLst/>
            <a:ahLst/>
            <a:rect l="l" t="t" r="r" b="b"/>
            <a:pathLst>
              <a:path w="2444" h="1401">
                <a:moveTo>
                  <a:pt x="0" y="0"/>
                </a:moveTo>
                <a:cubicBezTo>
                  <a:pt x="115" y="198"/>
                  <a:pt x="282" y="973"/>
                  <a:pt x="689" y="1187"/>
                </a:cubicBezTo>
                <a:cubicBezTo>
                  <a:pt x="1096" y="1401"/>
                  <a:pt x="2079" y="1266"/>
                  <a:pt x="2444" y="12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34680" y="419004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gation 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2240" y="4494600"/>
            <a:ext cx="170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4952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4952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952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437920" y="2971800"/>
            <a:ext cx="3124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26640" y="331776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llow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2209680"/>
            <a:ext cx="16765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llow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2209680"/>
            <a:ext cx="144792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4572000"/>
            <a:ext cx="114300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572000"/>
            <a:ext cx="114300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781680" y="3124080"/>
            <a:ext cx="9144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095880" y="3124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514240" y="28195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160" y="205632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fo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2797560"/>
            <a:ext cx="3124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orted list of contact inf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7080" y="3427920"/>
            <a:ext cx="168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ert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3048120"/>
            <a:ext cx="3352680" cy="1917720"/>
          </a:xfrm>
          <a:custGeom>
            <a:avLst/>
            <a:gdLst/>
            <a:ahLst/>
            <a:rect l="l" t="t" r="r" b="b"/>
            <a:pathLst>
              <a:path w="2112" h="1208">
                <a:moveTo>
                  <a:pt x="0" y="0"/>
                </a:moveTo>
                <a:cubicBezTo>
                  <a:pt x="136" y="404"/>
                  <a:pt x="272" y="808"/>
                  <a:pt x="624" y="1008"/>
                </a:cubicBezTo>
                <a:cubicBezTo>
                  <a:pt x="976" y="1208"/>
                  <a:pt x="1864" y="1168"/>
                  <a:pt x="2112" y="1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3124080"/>
            <a:ext cx="3879720" cy="2224080"/>
          </a:xfrm>
          <a:custGeom>
            <a:avLst/>
            <a:gdLst/>
            <a:ahLst/>
            <a:rect l="l" t="t" r="r" b="b"/>
            <a:pathLst>
              <a:path w="2444" h="1401">
                <a:moveTo>
                  <a:pt x="0" y="0"/>
                </a:moveTo>
                <a:cubicBezTo>
                  <a:pt x="115" y="198"/>
                  <a:pt x="282" y="973"/>
                  <a:pt x="689" y="1187"/>
                </a:cubicBezTo>
                <a:cubicBezTo>
                  <a:pt x="1096" y="1401"/>
                  <a:pt x="2079" y="1266"/>
                  <a:pt x="2444" y="12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5920" y="403776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gation 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2240" y="4494600"/>
            <a:ext cx="170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4952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4952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4952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chm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209680"/>
            <a:ext cx="16765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209680"/>
            <a:ext cx="144792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4572000"/>
            <a:ext cx="114300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38880" y="4572000"/>
            <a:ext cx="114300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6781680" y="3124080"/>
            <a:ext cx="9144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095880" y="3124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514240" y="28195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0960" y="205632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fo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2797560"/>
            <a:ext cx="28191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orted full descri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0760" y="3275640"/>
            <a:ext cx="168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ert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p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3048120"/>
            <a:ext cx="3352680" cy="1917720"/>
          </a:xfrm>
          <a:custGeom>
            <a:avLst/>
            <a:gdLst/>
            <a:ahLst/>
            <a:rect l="l" t="t" r="r" b="b"/>
            <a:pathLst>
              <a:path w="2112" h="1208">
                <a:moveTo>
                  <a:pt x="0" y="0"/>
                </a:moveTo>
                <a:cubicBezTo>
                  <a:pt x="136" y="404"/>
                  <a:pt x="272" y="808"/>
                  <a:pt x="624" y="1008"/>
                </a:cubicBezTo>
                <a:cubicBezTo>
                  <a:pt x="976" y="1208"/>
                  <a:pt x="1864" y="1168"/>
                  <a:pt x="2112" y="1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3124080"/>
            <a:ext cx="3879720" cy="2224080"/>
          </a:xfrm>
          <a:custGeom>
            <a:avLst/>
            <a:gdLst/>
            <a:ahLst/>
            <a:rect l="l" t="t" r="r" b="b"/>
            <a:pathLst>
              <a:path w="2444" h="1401">
                <a:moveTo>
                  <a:pt x="0" y="0"/>
                </a:moveTo>
                <a:cubicBezTo>
                  <a:pt x="115" y="198"/>
                  <a:pt x="282" y="973"/>
                  <a:pt x="689" y="1187"/>
                </a:cubicBezTo>
                <a:cubicBezTo>
                  <a:pt x="1096" y="1401"/>
                  <a:pt x="2079" y="1266"/>
                  <a:pt x="2444" y="12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5920" y="403776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gation 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2240" y="4494600"/>
            <a:ext cx="170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4952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4952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4952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assified 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2209680"/>
            <a:ext cx="19814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ed 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2133720"/>
            <a:ext cx="121932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4572000"/>
            <a:ext cx="114300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095880" y="3124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2440080"/>
            <a:ext cx="3276360" cy="150840"/>
          </a:xfrm>
          <a:custGeom>
            <a:avLst/>
            <a:gdLst/>
            <a:ahLst/>
            <a:rect l="l" t="t" r="r" b="b"/>
            <a:pathLst>
              <a:path w="2074" h="74">
                <a:moveTo>
                  <a:pt x="0" y="74"/>
                </a:moveTo>
                <a:lnTo>
                  <a:pt x="207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21451200">
            <a:off x="2434680" y="2132640"/>
            <a:ext cx="27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for service+pre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3483360"/>
            <a:ext cx="174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ct inf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99000" y="3275640"/>
            <a:ext cx="168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ert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4343400"/>
            <a:ext cx="3429000" cy="622440"/>
          </a:xfrm>
          <a:custGeom>
            <a:avLst/>
            <a:gdLst/>
            <a:ahLst/>
            <a:rect l="l" t="t" r="r" b="b"/>
            <a:pathLst>
              <a:path w="2112" h="1208">
                <a:moveTo>
                  <a:pt x="0" y="0"/>
                </a:moveTo>
                <a:cubicBezTo>
                  <a:pt x="136" y="404"/>
                  <a:pt x="272" y="808"/>
                  <a:pt x="624" y="1008"/>
                </a:cubicBezTo>
                <a:cubicBezTo>
                  <a:pt x="976" y="1208"/>
                  <a:pt x="1864" y="1168"/>
                  <a:pt x="2112" y="1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4495680"/>
            <a:ext cx="3581280" cy="685800"/>
          </a:xfrm>
          <a:custGeom>
            <a:avLst/>
            <a:gdLst/>
            <a:ahLst/>
            <a:rect l="l" t="t" r="r" b="b"/>
            <a:pathLst>
              <a:path w="2444" h="1401">
                <a:moveTo>
                  <a:pt x="0" y="0"/>
                </a:moveTo>
                <a:cubicBezTo>
                  <a:pt x="115" y="198"/>
                  <a:pt x="282" y="973"/>
                  <a:pt x="689" y="1187"/>
                </a:cubicBezTo>
                <a:cubicBezTo>
                  <a:pt x="1096" y="1401"/>
                  <a:pt x="2079" y="1266"/>
                  <a:pt x="2444" y="12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1720" y="426636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er 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560" y="5104440"/>
            <a:ext cx="16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3352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733920"/>
            <a:ext cx="121932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e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2666880"/>
            <a:ext cx="3276360" cy="1447920"/>
          </a:xfrm>
          <a:custGeom>
            <a:avLst/>
            <a:gdLst/>
            <a:ahLst/>
            <a:rect l="l" t="t" r="r" b="b"/>
            <a:pathLst>
              <a:path w="2074" h="74">
                <a:moveTo>
                  <a:pt x="0" y="74"/>
                </a:moveTo>
                <a:lnTo>
                  <a:pt x="207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0217600">
            <a:off x="2053440" y="3197520"/>
            <a:ext cx="27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for service+pre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4267080"/>
            <a:ext cx="3504960" cy="381240"/>
          </a:xfrm>
          <a:custGeom>
            <a:avLst/>
            <a:gdLst/>
            <a:ahLst/>
            <a:rect l="l" t="t" r="r" b="b"/>
            <a:pathLst>
              <a:path w="2444" h="1401">
                <a:moveTo>
                  <a:pt x="0" y="0"/>
                </a:moveTo>
                <a:cubicBezTo>
                  <a:pt x="115" y="198"/>
                  <a:pt x="282" y="973"/>
                  <a:pt x="689" y="1187"/>
                </a:cubicBezTo>
                <a:cubicBezTo>
                  <a:pt x="1096" y="1401"/>
                  <a:pt x="2079" y="1266"/>
                  <a:pt x="2444" y="12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96800" y="457092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gation 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2360" y="4418640"/>
            <a:ext cx="111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400800" y="3124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comme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209680"/>
            <a:ext cx="19814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209680"/>
            <a:ext cx="144792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4572000"/>
            <a:ext cx="114300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38880" y="4572000"/>
            <a:ext cx="114300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680" y="3124080"/>
            <a:ext cx="9144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095880" y="3124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514240" y="28195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12440" y="2056320"/>
            <a:ext cx="27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for service+pre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90920" y="2797560"/>
            <a:ext cx="28191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ed full descri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0760" y="3275640"/>
            <a:ext cx="168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ert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p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3048120"/>
            <a:ext cx="3352680" cy="1917720"/>
          </a:xfrm>
          <a:custGeom>
            <a:avLst/>
            <a:gdLst/>
            <a:ahLst/>
            <a:rect l="l" t="t" r="r" b="b"/>
            <a:pathLst>
              <a:path w="2112" h="1208">
                <a:moveTo>
                  <a:pt x="0" y="0"/>
                </a:moveTo>
                <a:cubicBezTo>
                  <a:pt x="136" y="404"/>
                  <a:pt x="272" y="808"/>
                  <a:pt x="624" y="1008"/>
                </a:cubicBezTo>
                <a:cubicBezTo>
                  <a:pt x="976" y="1208"/>
                  <a:pt x="1864" y="1168"/>
                  <a:pt x="2112" y="1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3124080"/>
            <a:ext cx="3879720" cy="2224080"/>
          </a:xfrm>
          <a:custGeom>
            <a:avLst/>
            <a:gdLst/>
            <a:ahLst/>
            <a:rect l="l" t="t" r="r" b="b"/>
            <a:pathLst>
              <a:path w="2444" h="1401">
                <a:moveTo>
                  <a:pt x="0" y="0"/>
                </a:moveTo>
                <a:cubicBezTo>
                  <a:pt x="115" y="198"/>
                  <a:pt x="282" y="973"/>
                  <a:pt x="689" y="1187"/>
                </a:cubicBezTo>
                <a:cubicBezTo>
                  <a:pt x="1096" y="1401"/>
                  <a:pt x="2079" y="1266"/>
                  <a:pt x="2444" y="12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12840" y="3885120"/>
            <a:ext cx="12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2240" y="4494600"/>
            <a:ext cx="170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4952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4952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10280" y="4952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cilitator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s Agent Location and Transaction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29200" y="2438280"/>
            <a:ext cx="16765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438280"/>
            <a:ext cx="144792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4800600"/>
            <a:ext cx="114300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4800600"/>
            <a:ext cx="114300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6400800" y="3352680"/>
            <a:ext cx="9144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715000" y="3352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2666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13336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28320" y="2284920"/>
            <a:ext cx="27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for service+pre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79880" y="3504240"/>
            <a:ext cx="168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ert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p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80480" y="319932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5181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5181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181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962520"/>
            <a:ext cx="94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3352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5840" y="4038480"/>
            <a:ext cx="12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rok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48280" y="2438280"/>
            <a:ext cx="16765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4880" y="2438280"/>
            <a:ext cx="144792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24600" y="4800600"/>
            <a:ext cx="114300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77080" y="4800600"/>
            <a:ext cx="114300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6419880" y="3352680"/>
            <a:ext cx="9144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734080" y="3352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76480" y="2666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15244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58720" y="1904040"/>
            <a:ext cx="236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gation 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p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98960" y="3504240"/>
            <a:ext cx="168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ert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p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5840" y="4037400"/>
            <a:ext cx="12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21520" y="304704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43560" y="5181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96200" y="5181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48480" y="5181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68880" y="3352680"/>
            <a:ext cx="336600" cy="1447920"/>
          </a:xfrm>
          <a:custGeom>
            <a:avLst/>
            <a:gdLst/>
            <a:ahLst/>
            <a:rect l="l" t="t" r="r" b="b"/>
            <a:pathLst>
              <a:path w="212" h="912">
                <a:moveTo>
                  <a:pt x="116" y="0"/>
                </a:moveTo>
                <a:cubicBezTo>
                  <a:pt x="99" y="81"/>
                  <a:pt x="0" y="335"/>
                  <a:pt x="16" y="487"/>
                </a:cubicBezTo>
                <a:cubicBezTo>
                  <a:pt x="32" y="639"/>
                  <a:pt x="171" y="824"/>
                  <a:pt x="212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13920" y="4037400"/>
            <a:ext cx="117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tract Net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gent coordination and distributed task allocation mechanism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heterogeneous agents can perform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can play two roles: managers, contrac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s receive tasks, select prospective contractees and ask for b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bid wins task, performs it, manager mon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 and 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to implement, base for many other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y distrib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quality not che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manipulate (free riders), may cause lo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act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63960" y="2438280"/>
            <a:ext cx="16765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0560" y="2438280"/>
            <a:ext cx="144792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4800600"/>
            <a:ext cx="114300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4800600"/>
            <a:ext cx="114300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6477120" y="3352680"/>
            <a:ext cx="9144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943600" y="3352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92160" y="2666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96812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2760" y="190404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fo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p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6920" y="3808800"/>
            <a:ext cx="149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adcast servi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est + pr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4600" y="365652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59800" y="266616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5181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5181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5181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57800" y="3352680"/>
            <a:ext cx="336600" cy="1447920"/>
          </a:xfrm>
          <a:custGeom>
            <a:avLst/>
            <a:gdLst/>
            <a:ahLst/>
            <a:rect l="l" t="t" r="r" b="b"/>
            <a:pathLst>
              <a:path w="212" h="912">
                <a:moveTo>
                  <a:pt x="116" y="0"/>
                </a:moveTo>
                <a:cubicBezTo>
                  <a:pt x="99" y="81"/>
                  <a:pt x="0" y="335"/>
                  <a:pt x="16" y="487"/>
                </a:cubicBezTo>
                <a:cubicBezTo>
                  <a:pt x="32" y="639"/>
                  <a:pt x="171" y="824"/>
                  <a:pt x="212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4113720"/>
            <a:ext cx="8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f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4800600"/>
            <a:ext cx="1143000" cy="7621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29200" y="39625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648320" y="3352320"/>
            <a:ext cx="6094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1911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1640" y="4342320"/>
            <a:ext cx="8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f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495680" y="3352680"/>
            <a:ext cx="5335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/>
          <p:nvPr/>
        </p:nvCxnSpPr>
        <p:spPr>
          <a:xfrm flipH="1" rot="10800000">
            <a:off x="3580920" y="3351960"/>
            <a:ext cx="1372320" cy="1829520"/>
          </a:xfrm>
          <a:prstGeom prst="curvedConnector5">
            <a:avLst>
              <a:gd name="adj1" fmla="val -16085"/>
              <a:gd name="adj2" fmla="val 49813"/>
              <a:gd name="adj3" fmla="val -16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endCxn id="260" idx="1"/>
          </p:cNvCxnSpPr>
          <p:nvPr/>
        </p:nvCxnSpPr>
        <p:spPr>
          <a:xfrm rot="5400000">
            <a:off x="3442320" y="3504960"/>
            <a:ext cx="1712160" cy="1102680"/>
          </a:xfrm>
          <a:prstGeom prst="bentConnector3">
            <a:avLst>
              <a:gd name="adj1" fmla="val -6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2437560" y="4114800"/>
            <a:ext cx="90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ult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lectronic Soc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ciety of electronic autonomous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gents have means to communicate with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gents do not necessarily know others. Means for finding others exist (may be cost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s may be heterogeneous by mean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philoso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tise/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y/access to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ligence: the algorithms used for 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result: different performance - efficiency,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49600" y="152280"/>
            <a:ext cx="32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LARKS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0160" y="2819520"/>
            <a:ext cx="4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4760" y="685800"/>
            <a:ext cx="85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nguage for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vertisement and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quests for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wledg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65000" y="4191120"/>
            <a:ext cx="503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in heterogeneous and dynamic agent societ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13720" y="373392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‘match’ reque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lev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vider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02400" y="4648320"/>
            <a:ext cx="691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Enables automated interoperability among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in the Internet/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3400" y="533412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http://www.cs.cmu.edu/~softagents/interop/matchmaking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meadowlark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1644480" cy="22096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750320" y="1752480"/>
            <a:ext cx="738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cc99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-based specification of ads and requests of agent capabilit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99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 use of a domain ontolo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99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processing of LARKS specif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01160" y="3352680"/>
            <a:ext cx="73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atchmaking Services via Matchmaker Agents using LAR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26480" y="1295280"/>
            <a:ext cx="26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hat is LARKS ab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5486400"/>
            <a:ext cx="7504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cara, Lu, Klusch, “Interoperability Among Heterogeneous Software Agents on the Internet”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U-RI-TR-98-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iagent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343400" y="4800600"/>
            <a:ext cx="1135080" cy="1295280"/>
          </a:xfrm>
          <a:prstGeom prst="rect">
            <a:avLst/>
          </a:prstGeom>
          <a:ln w="0">
            <a:noFill/>
          </a:ln>
        </p:spPr>
      </p:pic>
      <p:pic>
        <p:nvPicPr>
          <p:cNvPr id="282" name="iagent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914400" y="3124080"/>
            <a:ext cx="1135080" cy="1295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52480" y="4114800"/>
            <a:ext cx="2286000" cy="1143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0" y="3886200"/>
            <a:ext cx="1295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50680" y="4343400"/>
            <a:ext cx="213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KS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providing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16960" y="5076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tchmaking Using L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1219320"/>
            <a:ext cx="1295640" cy="609480"/>
          </a:xfrm>
          <a:prstGeom prst="can">
            <a:avLst>
              <a:gd name="adj" fmla="val 14745"/>
            </a:avLst>
          </a:prstGeom>
          <a:gradFill rotWithShape="0">
            <a:gsLst>
              <a:gs pos="0">
                <a:srgbClr val="ccccff"/>
              </a:gs>
              <a:gs pos="100000">
                <a:srgbClr val="afaf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iagent" descr="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3733920" y="838080"/>
            <a:ext cx="1135080" cy="1295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806640" y="609480"/>
            <a:ext cx="234648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maker Agent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52000" y="1143000"/>
            <a:ext cx="213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ertisement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tology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xiliary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5760" y="2895480"/>
            <a:ext cx="188604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er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iagent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6705720" y="3429000"/>
            <a:ext cx="1135080" cy="1295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320880" y="3200400"/>
            <a:ext cx="193932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Agen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82600" y="4572000"/>
            <a:ext cx="193932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r Agent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05520" y="1447920"/>
            <a:ext cx="1295280" cy="609480"/>
          </a:xfrm>
          <a:prstGeom prst="can">
            <a:avLst>
              <a:gd name="adj" fmla="val 14745"/>
            </a:avLst>
          </a:prstGeom>
          <a:gradFill rotWithShape="0">
            <a:gsLst>
              <a:gs pos="0">
                <a:srgbClr val="ccccff"/>
              </a:gs>
              <a:gs pos="100000">
                <a:srgbClr val="afaf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1600200"/>
            <a:ext cx="1295280" cy="609480"/>
          </a:xfrm>
          <a:prstGeom prst="can">
            <a:avLst>
              <a:gd name="adj" fmla="val 14745"/>
            </a:avLst>
          </a:prstGeom>
          <a:gradFill rotWithShape="0">
            <a:gsLst>
              <a:gs pos="0">
                <a:srgbClr val="ccccff"/>
              </a:gs>
              <a:gs pos="100000">
                <a:srgbClr val="afaf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48720" y="4114800"/>
            <a:ext cx="838080" cy="457200"/>
          </a:xfrm>
          <a:prstGeom prst="can">
            <a:avLst>
              <a:gd name="adj" fmla="val 14745"/>
            </a:avLst>
          </a:prstGeom>
          <a:gradFill rotWithShape="0">
            <a:gsLst>
              <a:gs pos="0">
                <a:srgbClr val="ccccff"/>
              </a:gs>
              <a:gs pos="100000">
                <a:srgbClr val="afaf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18320" y="4572000"/>
            <a:ext cx="133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59840" y="609588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Ontology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4419720" y="1980720"/>
            <a:ext cx="380880" cy="2514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572000" y="1980720"/>
            <a:ext cx="1752480" cy="1752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057400" y="2133720"/>
            <a:ext cx="1676520" cy="1676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71800" y="1066680"/>
            <a:ext cx="609480" cy="838440"/>
          </a:xfrm>
          <a:custGeom>
            <a:avLst/>
            <a:gdLst>
              <a:gd name="textAreaLeft" fmla="*/ 81360 w 609480"/>
              <a:gd name="textAreaRight" fmla="*/ 528120 w 609480"/>
              <a:gd name="textAreaTop" fmla="*/ 129240 h 838440"/>
              <a:gd name="textAreaBottom" fmla="*/ 6253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361960" y="2057400"/>
            <a:ext cx="1066680" cy="1066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121932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librian" descr=""/>
          <p:cNvPicPr/>
          <p:nvPr/>
        </p:nvPicPr>
        <p:blipFill>
          <a:blip r:embed="rId5"/>
          <a:stretch/>
        </p:blipFill>
        <p:spPr>
          <a:xfrm>
            <a:off x="152280" y="5181480"/>
            <a:ext cx="900360" cy="12286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361240" y="3352680"/>
            <a:ext cx="182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LA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4840" y="213372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-of-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79640" y="571500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cess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 Local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67080" y="5867280"/>
            <a:ext cx="1295640" cy="609840"/>
          </a:xfrm>
          <a:prstGeom prst="can">
            <a:avLst>
              <a:gd name="adj" fmla="val 1474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9880" y="5486400"/>
            <a:ext cx="381240" cy="762120"/>
          </a:xfrm>
          <a:custGeom>
            <a:avLst/>
            <a:gdLst>
              <a:gd name="textAreaLeft" fmla="*/ 51120 w 381240"/>
              <a:gd name="textAreaRight" fmla="*/ 330120 w 38124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77640" y="60199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91320" y="5715000"/>
            <a:ext cx="914400" cy="457200"/>
          </a:xfrm>
          <a:prstGeom prst="can">
            <a:avLst>
              <a:gd name="adj" fmla="val 14745"/>
            </a:avLst>
          </a:prstGeom>
          <a:gradFill rotWithShape="0">
            <a:gsLst>
              <a:gs pos="0">
                <a:srgbClr val="ccccff"/>
              </a:gs>
              <a:gs pos="100000">
                <a:srgbClr val="afaf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82400" y="46483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graph09" descr=""/>
          <p:cNvPicPr/>
          <p:nvPr/>
        </p:nvPicPr>
        <p:blipFill>
          <a:blip r:embed="rId6"/>
          <a:stretch/>
        </p:blipFill>
        <p:spPr>
          <a:xfrm>
            <a:off x="6324480" y="4038480"/>
            <a:ext cx="381240" cy="370080"/>
          </a:xfrm>
          <a:prstGeom prst="rect">
            <a:avLst/>
          </a:prstGeom>
          <a:ln w="0">
            <a:noFill/>
          </a:ln>
        </p:spPr>
      </p:pic>
      <p:pic>
        <p:nvPicPr>
          <p:cNvPr id="316" name="pc03" descr=""/>
          <p:cNvPicPr/>
          <p:nvPr/>
        </p:nvPicPr>
        <p:blipFill>
          <a:blip r:embed="rId7"/>
          <a:stretch/>
        </p:blipFill>
        <p:spPr>
          <a:xfrm>
            <a:off x="4419720" y="6019920"/>
            <a:ext cx="380880" cy="3697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400800" y="4572000"/>
            <a:ext cx="990720" cy="531720"/>
          </a:xfrm>
          <a:prstGeom prst="can">
            <a:avLst>
              <a:gd name="adj" fmla="val 1474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cdmus01" descr=""/>
          <p:cNvPicPr/>
          <p:nvPr/>
        </p:nvPicPr>
        <p:blipFill>
          <a:blip r:embed="rId8"/>
          <a:stretch/>
        </p:blipFill>
        <p:spPr>
          <a:xfrm>
            <a:off x="6477120" y="464832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935040" y="46483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c05" descr=""/>
          <p:cNvPicPr/>
          <p:nvPr/>
        </p:nvPicPr>
        <p:blipFill>
          <a:blip r:embed="rId9"/>
          <a:stretch/>
        </p:blipFill>
        <p:spPr>
          <a:xfrm>
            <a:off x="990720" y="4724280"/>
            <a:ext cx="761760" cy="6858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524960" y="464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7080" y="2590920"/>
            <a:ext cx="1676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10840" y="2514600"/>
            <a:ext cx="265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bility Descrip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LA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14400" y="4572000"/>
            <a:ext cx="914400" cy="914400"/>
          </a:xfrm>
          <a:prstGeom prst="wedgeRoundRectCallout">
            <a:avLst>
              <a:gd name="adj1" fmla="val -43518"/>
              <a:gd name="adj2" fmla="val 949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091400" y="1143000"/>
            <a:ext cx="301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xt of Specif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128600"/>
            <a:ext cx="3276720" cy="397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3720" y="167652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8800" y="22096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0960" y="28954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9920" y="3505320"/>
            <a:ext cx="213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In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Out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88880" y="2514600"/>
            <a:ext cx="413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/Output Variable Decla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89960" y="3809880"/>
            <a:ext cx="38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Constraints on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18520" y="4114800"/>
            <a:ext cx="24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re-/Post-Condi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7240" y="1143000"/>
            <a:ext cx="12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onte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16002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20574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27432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3429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88880" y="1676520"/>
            <a:ext cx="48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ypes Used in Variable Decla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14960" y="30492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pecification in L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3440" y="5257800"/>
            <a:ext cx="58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imes New Roman"/>
              </a:rPr>
              <a:t>Service Matching Paramet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, Cost, Quality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4572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86800" y="464832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oncDe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86360" y="4648320"/>
            <a:ext cx="45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ical Description of Used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8240" y="5715000"/>
            <a:ext cx="742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et of definite program clauses/goals (Horn clau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ncep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ontological description of words in concept language I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0880" y="1981080"/>
            <a:ext cx="8458200" cy="4114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0200" y="2057400"/>
            <a:ext cx="12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ontext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2840" y="281952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" y="327672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3600" y="50292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Out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1800" y="457200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In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2120" y="2057400"/>
            <a:ext cx="44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ack, Air, Combat, Mission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*Air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2040" y="160020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irCombat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94560" y="3276720"/>
            <a:ext cx="569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onTypes: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tOf(String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onAirplanes: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etOf(String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ons: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ListOf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ype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ing|Int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tart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, mEnd: Date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15480" y="0"/>
            <a:ext cx="51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xamples for Specification in L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480" y="541008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oncDe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74200" y="54100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irMissio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9480" y="243828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ypes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59000" y="2514600"/>
            <a:ext cx="38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= (mm: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d: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yy: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 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6200" y="762120"/>
            <a:ext cx="68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Agent Advertisemen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n provide information about air combat missions in general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80880" y="1600200"/>
            <a:ext cx="8458200" cy="4952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0200" y="1676520"/>
            <a:ext cx="12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ontext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92840" y="3429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5000" y="388620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7640" y="495288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Out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5480" y="441972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In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70240" y="1676520"/>
            <a:ext cx="40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at, Mission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*AWAC-Air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2040" y="1219320"/>
            <a:ext cx="276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WAC-Combat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70960" y="3886200"/>
            <a:ext cx="308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ons: DeployedMis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73640" y="5029200"/>
            <a:ext cx="62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loyed(mID), mType = AWA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unched_after(mID,mStart), launched_before(mID,mEn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4520" y="601992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oncDe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3480" y="601992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WAC-AirMissio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9480" y="20574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ypes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97800" y="2133720"/>
            <a:ext cx="4674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= (mm: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d: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yy: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 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loyedMission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ListOf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ype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ing|Int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tart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, mEnd: Date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920" y="228600"/>
            <a:ext cx="914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Agent Advertisemen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n provide information about deployed and launched AWAC air combat missions. 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-56160" y="1981080"/>
            <a:ext cx="917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AC-AirMiss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Mission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le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 has-airplane)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m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 has-air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-airpla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-2))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16200" y="1295280"/>
            <a:ext cx="88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Miss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ission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le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 had-airplane)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-airplane Airplan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-MissionTyp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WAC,BARCAP,CAP,DCA,HVAA))…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-30600" y="2666880"/>
            <a:ext cx="865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A-AirMiss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irMission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-MissionType aset(DCA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-F14 plane-F14D)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-F18 plane-F1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le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 has-F14)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m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 has-F14)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le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 has-F1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m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 has-F18)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le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 has-E2)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m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 has-E2)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365760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17640" y="685800"/>
            <a:ext cx="79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1)  An Ontology written in the Concept Language ITL (Terminology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-8640" y="4419720"/>
            <a:ext cx="428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2)  Concept Subsumption Hierarch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5120" y="487692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3000" y="5715000"/>
            <a:ext cx="43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AC-AirMission     DCA-Air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563868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981080" y="5257800"/>
            <a:ext cx="198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5257800" y="525780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200" y="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xample for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70040" y="5715000"/>
            <a:ext cx="21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VAA-Air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3962520" y="525780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80880" y="1752480"/>
            <a:ext cx="8458200" cy="4953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0200" y="1828800"/>
            <a:ext cx="12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ontext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92840" y="33526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5000" y="388620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7640" y="48006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Out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5480" y="434340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In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1680" y="1828800"/>
            <a:ext cx="30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ack, Mission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*Air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1320" y="1371600"/>
            <a:ext cx="274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eq-AirCombat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3120" y="3886200"/>
            <a:ext cx="20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ons: Mis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18680" y="4800600"/>
            <a:ext cx="561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loyed(mID), launched_after(mID,sd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unched_before(mID,ed), (mType = AWA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ype = CAP; mType = BARCAP; mType = DC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ype = HVA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520" y="617220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oncDe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98240" y="61722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irMissio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9480" y="220968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ypes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95280" y="2286000"/>
            <a:ext cx="576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= (mm: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d: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yy: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 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on =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ListOf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ype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ing|Int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tart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, mEnd: Date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2400" y="228600"/>
            <a:ext cx="695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Reques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n agent who can provide information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loy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ir combat miss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unch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 a giv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me interv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74920" y="335268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: Date, ed: Da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76000" y="434340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 &lt;= 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80880" y="1752480"/>
            <a:ext cx="8458200" cy="4191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0200" y="1828800"/>
            <a:ext cx="12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ontext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2840" y="327672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5000" y="373392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7640" y="472428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Out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5480" y="419112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In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70240" y="182880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at, Mission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*F14-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98440" y="137160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eq-DeployedF14Combat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73120" y="3733920"/>
            <a:ext cx="20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ons: Mis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63760" y="4724280"/>
            <a:ext cx="484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loyed(mID), launched_after(mID,mStart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unched_before(mID,mEn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4520" y="533412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ConcDe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31360" y="5410080"/>
            <a:ext cx="553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F14-Mission </a:t>
            </a:r>
            <a:r>
              <a:rPr b="0" lang="en-US" sz="2000" spc="-1" strike="noStrike">
                <a:solidFill>
                  <a:srgbClr val="ff99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 (and AirMission (atleast 1 has-F14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9480" y="220968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Types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95280" y="2286000"/>
            <a:ext cx="576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= (mm: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d: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yy: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 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on =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ListOf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ype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D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vantGarde"/>
              </a:rPr>
              <a:t>String|Int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tart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, mEnd: Date</a:t>
            </a:r>
            <a:r>
              <a:rPr b="0" lang="en-US" sz="2000" spc="-1" strike="noStrike">
                <a:solidFill>
                  <a:srgbClr val="000000"/>
                </a:solidFill>
                <a:latin typeface="AvantGarde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7360" y="228600"/>
            <a:ext cx="784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Reques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n agent who can provide information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loy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d launched air combat missions that contain F-14 airpla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724120" y="5076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tchmaking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424880" y="25146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yntactical Match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425960" y="129528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ontext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733760" y="2749680"/>
            <a:ext cx="40302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mparison of Profi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F-I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036160" y="3657600"/>
            <a:ext cx="664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d Dista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es in the Ontology (Weighted Associative Networ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730880" y="3276720"/>
            <a:ext cx="60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imilarity Matching of Declarations and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25960" y="5334120"/>
            <a:ext cx="285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emantical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34480" y="5715000"/>
            <a:ext cx="418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ogical Implication of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8280" y="76212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33760" y="1676520"/>
            <a:ext cx="52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d Dista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umption or Equality of attached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06440" y="838080"/>
            <a:ext cx="46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airwise matching of specifications in LAR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43360" y="4800600"/>
            <a:ext cx="34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umption of Data Typ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734480" y="4267080"/>
            <a:ext cx="48668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ull Signature Matching of Decla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120760" y="1143000"/>
            <a:ext cx="538992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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“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omplete Matching”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fil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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“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laxed Matching”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signature matc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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rofile Matching”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rison of profiles (TF-IDF) on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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“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lug-In Matching”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gnature and semantical matching on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93080" y="152280"/>
            <a:ext cx="42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fferent Matching M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Protoco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tocol (aka mechanism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 set of rules and behaviors to be followed by agents who participate i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the rules of a protocol is to an agent’s discretion, though deviation may leave it “out of the game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auctions, negotiation, vo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red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payof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anipulable/enforc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to implement and exe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-Match on the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Match is a web version of the Matchmak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cs.cmu.edu/~softagents/a-match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a graphical user interface for the Match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human users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ertise and unadvertise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agents with desired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w all agents currently registered with th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wse matching taxonom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Enough” Behav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the bounded rationality ration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linear payoff functions to incorporate computational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a cap on pay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 small-amounts’ indifferenc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yoff of an option is good enough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additional computation to find other good options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options do not provide a significant payoff increas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gent is indifferent w.r.t. the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pects of commun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: the structure of communicated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s: what the symbols de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gmatics: the interpretation of the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en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vs. conventional m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ive vs. objective m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s vs prag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 and message ident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 roles in a dialogue: active, passive,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llows it to be master, slave, peer, respec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asic message types: assertion and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an agent that takes the passive role c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pt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external sourc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ser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s a reply (make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ser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ve, Active, Pe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95160" y="1981080"/>
          <a:ext cx="786636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981080"/>
                    <a:ext cx="786636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19280" y="1981080"/>
          <a:ext cx="936288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1981080"/>
                    <a:ext cx="93628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0:10:54Z</dcterms:created>
  <dc:creator>Onn M Shehory</dc:creator>
  <dc:description/>
  <dc:language>en-US</dc:language>
  <cp:lastModifiedBy>John T Grasso</cp:lastModifiedBy>
  <cp:lastPrinted>1999-09-27T16:28:09Z</cp:lastPrinted>
  <dcterms:modified xsi:type="dcterms:W3CDTF">2000-04-17T03:00:11Z</dcterms:modified>
  <cp:revision>12</cp:revision>
  <dc:subject/>
  <dc:title>Intelligent Agents - Lecture 9 </dc:title>
</cp:coreProperties>
</file>