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C9D-C5D3-42F7-851A-D14ADBA8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E95-9BE0-4CB8-8E0D-9B2311AB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945-1498-4B15-9938-BF158B51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5CB-41F1-4B34-88E2-7A2D6C55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564-4BDD-4416-9088-C3CB3A0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99C-7CE1-4572-8A5D-671F46C0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DE8-F722-42D9-A8A8-6205C0AC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E8B-02F4-44ED-BD2E-F7AC41DE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392-922B-425B-AA26-47DF37F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A21-53EB-41C9-805A-948AD10D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5AC-FB68-4D8E-A099-EB95168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2E0-97C4-40D7-86F5-23E4F63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A31E-7623-4DBF-86E7-4A4E288F9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s.cmu.edu/~softagents/mas_interop.html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s.cmu.edu/~softagents/webmate.ht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cs.cmu.edu/~softagents/visrec.html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speech.cs.cmu.edu/sphinx/Sphinx.html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../../Onn/CoABS/TIE-GITI.ppt" TargetMode="Externa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ligent Agents – Lectur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ic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katia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s.cmu.edu/~soft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333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sable Task-based System of Intelligent Network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daptive, self-organizing collection of autonomous agents that interact with humans and each o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decision support and informa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and satisfy human information processing and problem solving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real-time synchronization of domai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users and each other about significant changes i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 to user, task an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The RETSINA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Multi-Agent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12240" y="1676520"/>
            <a:ext cx="6429240" cy="5140080"/>
            <a:chOff x="2712240" y="1676520"/>
            <a:chExt cx="6429240" cy="5140080"/>
          </a:xfrm>
        </p:grpSpPr>
        <p:sp>
          <p:nvSpPr>
            <p:cNvPr id="65" name=""/>
            <p:cNvSpPr/>
            <p:nvPr/>
          </p:nvSpPr>
          <p:spPr>
            <a:xfrm rot="12537600">
              <a:off x="6355440" y="4655880"/>
              <a:ext cx="1219320" cy="30456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9779400">
              <a:off x="6290640" y="3809160"/>
              <a:ext cx="1143000" cy="30492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07400">
              <a:off x="4766760" y="3809880"/>
              <a:ext cx="1143000" cy="22860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4636200">
              <a:off x="6868800" y="2317680"/>
              <a:ext cx="136440" cy="1597320"/>
            </a:xfrm>
            <a:prstGeom prst="upDownArrow">
              <a:avLst>
                <a:gd name="adj1" fmla="val 50000"/>
                <a:gd name="adj2" fmla="val 23305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81320" y="1676520"/>
              <a:ext cx="943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05560" y="1676520"/>
              <a:ext cx="94284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05760" y="1676520"/>
              <a:ext cx="94284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2560" y="6095880"/>
              <a:ext cx="99036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our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76760" y="2514600"/>
              <a:ext cx="144756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rface Ag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76960" y="2514600"/>
              <a:ext cx="144756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rface Ag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77160" y="2514600"/>
              <a:ext cx="144756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rface Agent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76760" y="3352680"/>
              <a:ext cx="1447560" cy="381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ask Ag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76960" y="3352680"/>
              <a:ext cx="1447560" cy="381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ask Ag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7160" y="3352680"/>
              <a:ext cx="1447560" cy="381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ask Agent 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00640" y="4876920"/>
              <a:ext cx="144792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iddleAg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9440" y="5105520"/>
              <a:ext cx="1219320" cy="3808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fo Agent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1520" y="6172200"/>
              <a:ext cx="99072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ourc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81720" y="5943600"/>
              <a:ext cx="99072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ource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12240" y="1981080"/>
              <a:ext cx="136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oal and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22320" y="213372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20160" y="2971800"/>
              <a:ext cx="96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09920" y="289548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4636200">
              <a:off x="5268600" y="2317680"/>
              <a:ext cx="136440" cy="1597320"/>
            </a:xfrm>
            <a:prstGeom prst="upDownArrow">
              <a:avLst>
                <a:gd name="adj1" fmla="val 50000"/>
                <a:gd name="adj2" fmla="val 23305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92760" y="2971800"/>
              <a:ext cx="654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s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8920" y="289548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86440" y="297180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20040" y="4038480"/>
              <a:ext cx="138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o &amp;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09920" y="3809880"/>
              <a:ext cx="228600" cy="1676520"/>
            </a:xfrm>
            <a:prstGeom prst="upDownArrow">
              <a:avLst>
                <a:gd name="adj1" fmla="val 50000"/>
                <a:gd name="adj2" fmla="val 14599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43840" y="3809880"/>
              <a:ext cx="228600" cy="1219320"/>
            </a:xfrm>
            <a:prstGeom prst="upDownArrow">
              <a:avLst>
                <a:gd name="adj1" fmla="val 50000"/>
                <a:gd name="adj2" fmla="val 1061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54840" y="4038480"/>
              <a:ext cx="209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ormation 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flict 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51280" y="42670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6440" y="2133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38520" y="2133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6640" y="2133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470400">
              <a:off x="4385880" y="5105160"/>
              <a:ext cx="1067040" cy="304920"/>
            </a:xfrm>
            <a:custGeom>
              <a:avLst/>
              <a:gdLst>
                <a:gd name="textAreaLeft" fmla="*/ 186480 w 1067040"/>
                <a:gd name="textAreaRight" fmla="*/ 773640 w 106704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24080" y="5257800"/>
              <a:ext cx="145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vertis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3060600">
              <a:off x="6639480" y="5290200"/>
              <a:ext cx="137880" cy="1140120"/>
            </a:xfrm>
            <a:prstGeom prst="upDownArrow">
              <a:avLst>
                <a:gd name="adj1" fmla="val 50000"/>
                <a:gd name="adj2" fmla="val 16461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62960" y="5562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3246600">
              <a:off x="3547800" y="6172200"/>
              <a:ext cx="1143000" cy="22860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52720" y="5562720"/>
              <a:ext cx="1143000" cy="3808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fo Ag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903400">
              <a:off x="5343840" y="5442480"/>
              <a:ext cx="138240" cy="1139760"/>
            </a:xfrm>
            <a:prstGeom prst="upDownArrow">
              <a:avLst>
                <a:gd name="adj1" fmla="val 50000"/>
                <a:gd name="adj2" fmla="val 16413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69800" y="61722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31880" y="55627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2860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adaptive collections of information agents that coordinate to retrieve, filter and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levant to the user, task and situation, as well as anticipate user's information n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AS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S comprised of RETSINA agents, OAA agents and agentified application are 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emonstr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/agent, agent/agent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collaborate to solve a real-world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information gathering and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 interoperability via midd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/fault-tolerance of the system via service/agent substitu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on of information-rich and time-critical  planning, decision making and execution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O 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mbatant Evacuation Ope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information from multiple, multi-modal sources, may change dynamically,  be 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ime-critical (re-) planning under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 among distributed humans,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execution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Technology Integration Experi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ng agent support for NEO activity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iting agent technology for information gathering, user interfacing and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ng and speeding up critical planning and monito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tion with legacy components (e.g. air lift planner such as CAMPS) for 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O Problem Dom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Kuwait city. Time: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aq not a threat, reduced military presence in mid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ress in Kuwait city on ecology &amp; oil con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explosion at the conference center - no casu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orist group issues threat against attendees, America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bassador orders evacuations (smaller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Mobility Commander plans large evac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Force Commander involved (plan, secure evacuation ro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assador, JFC discuss evacuation via RETSINA UI Messenger (UIM) and OAA M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FC’s UIM monitors content, requests relevant inf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Mate provides text news, Maestro -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SINA flights agent begins providing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A flights agent takes over when RETSINA’s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M receives flights’ schedule and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A weather agent begins providing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SINA weather agent takes over when OAA’s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SINA route planner plans evacuation  to K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 Scenari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A phone agent provides info. about road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 planner re-plans to KWI air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C rep. uses a UIM to request CAMPS to provide airlift plan from K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SINA Visual Sensor Agent (VSA) reports an explosion near KWI, displays it on M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FC designates alternative abandoned air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 planner re-plans to new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C via UIM requests a new plan from C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S returns a plan, presented by UI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00200" y="1523880"/>
            <a:ext cx="60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isplay Visualization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sResAgent (Flight Reservation Ag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enger Agents (3, one per 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kSAF_RPA (Route Planning Ag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Inter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CNN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Recognition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Agent (3, one per 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720" y="457200"/>
            <a:ext cx="76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RETSINA Agents were used in the NEO 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oss-registration4" descr=""/>
          <p:cNvPicPr/>
          <p:nvPr/>
        </p:nvPicPr>
        <p:blipFill>
          <a:blip r:embed="rId1"/>
          <a:stretch/>
        </p:blipFill>
        <p:spPr>
          <a:xfrm>
            <a:off x="1371600" y="1428840"/>
            <a:ext cx="6324480" cy="474336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00000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22096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Display Visualization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28600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SINA DemoDisplay is a multi-agent visualization tool. A desktop metaphor is used to create a vie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ulti-agent system which is both accessible and easy to navigate. Each agent is displayed as an icon on this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 connect to the DemoDisplay when they start up and tell the agent about their activity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other agents. This activity is displayed by showing messages being passed around the desktop as well a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earance of the icons. The DemoDisplay provides the following basic function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d1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361960" cy="1714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9" name="dd2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2724120" cy="171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30" name="dd3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24120" cy="17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457200" y="46483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gures  above show some activity from NEO TIE dem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2680" y="20574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240" y="20574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9080" y="20574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505320"/>
            <a:ext cx="7391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efined agent grouping for layout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animation to show agent activity and state chan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ization of agent to agent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9480" y="5029200"/>
            <a:ext cx="804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The VoiceAgent communicates with a Messenger Agent, which in turn initiates interactions with other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The Messenger Agent of the “JFC_Ops_Officer” queries several other agents and informs the two other messen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 of its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The RETSINA “FlightsResAgent” advertises its capabilities with the “RETSINA_Matchmaker” which in turn in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InterOperator” so that the OAA based agents can locate the RETSINA “FlightsResAgent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280"/>
            <a:ext cx="8305920" cy="6324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Distributed Collab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communication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ogeneity of situations &amp;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cultural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vs. glob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s to know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76520" y="60948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DemoDisplay in a Grid based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362320"/>
            <a:ext cx="703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id, even in its infancy, already contains around 50 agents. Understanding what happens in a complex system like that is difficult. The DemoDisplay agent was used to see what went on behind the scenes and to obtain a better understanding of its dynam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670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gent technology becomes commonplace, certain tools will be in demand. The DemoDisplay represents a first version of an agent that tries to make a multi-agent system more accessible and understand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447920"/>
            <a:ext cx="81532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BOUT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799080" cy="21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iAgeKWILON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038480" cy="340992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145" name=""/>
          <p:cNvSpPr/>
          <p:nvPr/>
        </p:nvSpPr>
        <p:spPr>
          <a:xfrm>
            <a:off x="2744640" y="457200"/>
            <a:ext cx="35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FlightsRes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20" y="3479760"/>
            <a:ext cx="523440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 FlightsRes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RETSINA Informat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presents airline flight availability information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t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iberately disabled for the NEO TIE to illust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agent substitutability of RETSINA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A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he NEO 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vertises with the RETSINA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ross-registers with the OAA Facilitator via the RETSINA-OAA_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osen by the RETSINA Messenger, fails to reply to query, and thus prom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SINA Messenger to query the OAA Flight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63400" y="457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SINA Messeng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AOOSplasha" descr=""/>
          <p:cNvPicPr/>
          <p:nvPr/>
        </p:nvPicPr>
        <p:blipFill>
          <a:blip r:embed="rId1"/>
          <a:stretch/>
        </p:blipFill>
        <p:spPr>
          <a:xfrm>
            <a:off x="682560" y="1447920"/>
            <a:ext cx="2441520" cy="373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1" name="AMBWeaKuw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373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2" name="JFCSplashb" descr=""/>
          <p:cNvPicPr/>
          <p:nvPr/>
        </p:nvPicPr>
        <p:blipFill>
          <a:blip r:embed="rId3"/>
          <a:stretch/>
        </p:blipFill>
        <p:spPr>
          <a:xfrm>
            <a:off x="6008760" y="1447920"/>
            <a:ext cx="2525760" cy="3733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3" name=""/>
          <p:cNvSpPr/>
          <p:nvPr/>
        </p:nvSpPr>
        <p:spPr>
          <a:xfrm>
            <a:off x="995040" y="5257800"/>
            <a:ext cx="172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enger Agent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Operations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8080" y="5364000"/>
            <a:ext cx="24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enger Agent for the 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3720" y="5181480"/>
            <a:ext cx="168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enger Agent 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C Operations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1752480"/>
            <a:ext cx="647676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uman-to-Human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ser interface helps users send, receive and prioritize text-based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ffers one-to-one or one-to-many human-to-human collaboration m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epts speech input via plug-n-play RETSINA Voice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uman-to-Agent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Unobtrusively eavesdrops on human conver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tivates agents on behalf of 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ows human user to specify non-agent 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ffers human user control of when items will be disp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cks situational context to improve agent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-to-Agent 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ocates agents based on their advertised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vokes agents whose results may be relevant to the conver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inds alternate agents when first choice agents do not resp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 this mode the Messenger functions as a RETSINA Task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-to-Human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termines how to present agent results to the human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vokes non-agent helpers (e.g. web browsers) when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hares agent results with requesting RETSINA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5880" y="304920"/>
            <a:ext cx="55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SINA Messenger Interface Ag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and Agen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04920"/>
            <a:ext cx="81532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153280" cy="480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1523880"/>
            <a:ext cx="71629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uman-to-Human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EO Officials work remotely but communicate naturally with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EO Officials exchange news stories, weather reports, air lift evacuation plans and route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uman-to-Agent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 agent coordination for the escalating NEO crisis was derived by the RETSINA Messenger ag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vesdropping on the conver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-to-Agent Coord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 Messenger consults RETSINA Matchmaker for both OAA and RETSINA Flight and Weath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 Messenger chooses alternate Flight and Weather agents when first choice does not respond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 Messenger agents track OAA Phone and RETSINA Visual Recognition agent messages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ts for route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 Messenger agents manage the display of data on the OAA Multimodal Map for the 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ent-to-Human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EO Officials set their RETSINA Messengers to share news, flight, airlift, weather and evacuation ro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EO Officials can selectively choose when and what information to see via popup windows and ag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ia the RETSINA Messengers, NEO Officials use voice or text message interfaces, web browsers and O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odal Map interfaces for communicating the best way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8480" y="457200"/>
            <a:ext cx="50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Messenger in the NEO 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2120" y="539424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"JFC_Ops_Officer" [Joint Forces Commander Operations Officer] is an instance of the RETSINA Messenger that eavesdrops on the human JFC Operations Officer's conversation.  Here we see the RETSINA Messeng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receive speech input converted to text via the RETSINA Voice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consult the RETSINA Matchmaker for a route plan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) contact the RETSINA MokSAF_RPA [Route Planning Agent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040" y="228600"/>
            <a:ext cx="82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RETSINA Messenger Agent Coordination in the NEO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creenshot6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791320" cy="434340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2744280" y="1447920"/>
            <a:ext cx="29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99"/>
                </a:solidFill>
                <a:latin typeface="Times New Roman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2590920"/>
            <a:ext cx="29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99"/>
                </a:solidFill>
                <a:latin typeface="Times New Roman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18120" y="3747960"/>
            <a:ext cx="37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99"/>
                </a:solidFill>
                <a:latin typeface="Times New Roman"/>
              </a:rPr>
              <a:t>(3,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9400" y="3048120"/>
            <a:ext cx="29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99"/>
                </a:solidFill>
                <a:latin typeface="Times New Roman"/>
              </a:rPr>
              <a:t>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04920"/>
            <a:ext cx="815328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762120"/>
            <a:ext cx="815328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1640" y="5867280"/>
            <a:ext cx="396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) receive a route from the RETSINA MokSAF_RPA;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) request the display of the route on the OAA Multimodal Map, "mmap"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934320" y="5099040"/>
            <a:ext cx="106668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922480"/>
            <a:ext cx="2362320" cy="1849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kSAF_RPA (Route Planning Ag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7696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ute Planning Agent (MokSAF_RPA) is a basic path planning agent that performs cross country path pla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440080"/>
            <a:ext cx="4572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the lowest cost route between start and end points for a given terrain m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s with other agents using KQ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registered with either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MC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characteristics can be varied though a terrain cost 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 rot="1015800">
            <a:off x="7772040" y="4389840"/>
            <a:ext cx="685800" cy="990360"/>
          </a:xfrm>
          <a:custGeom>
            <a:avLst/>
            <a:gdLst>
              <a:gd name="textAreaLeft" fmla="*/ 91800 w 685800"/>
              <a:gd name="textAreaRight" fmla="*/ 594000 w 685800"/>
              <a:gd name="textAreaTop" fmla="*/ 182160 h 990360"/>
              <a:gd name="textAreaBottom" fmla="*/ 69048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73" stAng="-5400000" swAng="-5400000"/>
                <a:lnTo>
                  <a:pt x="0" y="11077"/>
                </a:lnTo>
                <a:arcTo wR="21600" hR="7973" stAng="10800000" swAng="-2376306"/>
                <a:lnTo>
                  <a:pt x="12800" y="20908"/>
                </a:lnTo>
                <a:lnTo>
                  <a:pt x="21600" y="17498"/>
                </a:lnTo>
                <a:lnTo>
                  <a:pt x="12800" y="12704"/>
                </a:lnTo>
                <a:lnTo>
                  <a:pt x="12800" y="15254"/>
                </a:lnTo>
                <a:arcTo wR="21600" hR="7973" stAng="8423694" swAng="2124930"/>
                <a:lnTo>
                  <a:pt x="413" y="9525"/>
                </a:lnTo>
                <a:arcTo wR="21600" hR="7973" stAng="-10548623" swAng="5148623"/>
                <a:close/>
              </a:path>
              <a:path fill="darkenLess" w="21600" h="21600">
                <a:moveTo>
                  <a:pt x="21600" y="0"/>
                </a:moveTo>
                <a:arcTo wR="21600" hR="7973" stAng="-5400000" swAng="-5400000"/>
                <a:lnTo>
                  <a:pt x="0" y="7973"/>
                </a:lnTo>
                <a:arcTo wR="21600" hR="7973" stAng="10800000" swAng="-251377"/>
                <a:lnTo>
                  <a:pt x="413" y="9525"/>
                </a:lnTo>
                <a:arcTo wR="21600" hR="7973" stAng="-10548623" swAng="5148623"/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9981200">
            <a:off x="5943600" y="4543560"/>
            <a:ext cx="685800" cy="990360"/>
          </a:xfrm>
          <a:custGeom>
            <a:avLst/>
            <a:gdLst>
              <a:gd name="textAreaLeft" fmla="*/ 91800 w 685800"/>
              <a:gd name="textAreaRight" fmla="*/ 594000 w 685800"/>
              <a:gd name="textAreaTop" fmla="*/ 182520 h 990360"/>
              <a:gd name="textAreaBottom" fmla="*/ 69084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73" stAng="-5400000" swAng="-5400000"/>
                <a:lnTo>
                  <a:pt x="0" y="11077"/>
                </a:lnTo>
                <a:arcTo wR="21600" hR="7973" stAng="10800000" swAng="-2376306"/>
                <a:lnTo>
                  <a:pt x="12800" y="20908"/>
                </a:lnTo>
                <a:lnTo>
                  <a:pt x="21600" y="17498"/>
                </a:lnTo>
                <a:lnTo>
                  <a:pt x="12800" y="12704"/>
                </a:lnTo>
                <a:lnTo>
                  <a:pt x="12800" y="15254"/>
                </a:lnTo>
                <a:arcTo wR="21600" hR="7973" stAng="8423694" swAng="2124930"/>
                <a:lnTo>
                  <a:pt x="413" y="9525"/>
                </a:lnTo>
                <a:arcTo wR="21600" hR="7973" stAng="-10548623" swAng="5148623"/>
                <a:close/>
              </a:path>
              <a:path fill="darkenLess" w="21600" h="21600">
                <a:moveTo>
                  <a:pt x="21600" y="0"/>
                </a:moveTo>
                <a:arcTo wR="21600" hR="7973" stAng="-5400000" swAng="-5400000"/>
                <a:lnTo>
                  <a:pt x="0" y="7973"/>
                </a:lnTo>
                <a:arcTo wR="21600" hR="7973" stAng="10800000" swAng="-251377"/>
                <a:lnTo>
                  <a:pt x="413" y="9525"/>
                </a:lnTo>
                <a:arcTo wR="21600" hR="7973" stAng="-10548623" swAng="5148623"/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RPA" descr=""/>
          <p:cNvPicPr/>
          <p:nvPr/>
        </p:nvPicPr>
        <p:blipFill>
          <a:blip r:embed="rId1"/>
          <a:stretch/>
        </p:blipFill>
        <p:spPr>
          <a:xfrm>
            <a:off x="6781680" y="4924440"/>
            <a:ext cx="1071720" cy="1012680"/>
          </a:xfrm>
          <a:prstGeom prst="rect">
            <a:avLst/>
          </a:prstGeom>
          <a:ln w="0">
            <a:noFill/>
          </a:ln>
        </p:spPr>
      </p:pic>
      <p:pic>
        <p:nvPicPr>
          <p:cNvPr id="184" name="moksaf2" descr=""/>
          <p:cNvPicPr/>
          <p:nvPr/>
        </p:nvPicPr>
        <p:blipFill>
          <a:blip r:embed="rId2"/>
          <a:stretch/>
        </p:blipFill>
        <p:spPr>
          <a:xfrm>
            <a:off x="5334120" y="2790720"/>
            <a:ext cx="2361960" cy="1833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05520" y="54864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oute-Planning Agent (MokSAF_R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16040" y="248616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kSAF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kSAF_RPA within the NE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9480" y="3200400"/>
          <a:ext cx="48769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4876920" cy="3024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pic>
        <p:nvPicPr>
          <p:cNvPr id="192" name="moksaf7" descr=""/>
          <p:cNvPicPr/>
          <p:nvPr/>
        </p:nvPicPr>
        <p:blipFill>
          <a:blip r:embed="rId3"/>
          <a:stretch/>
        </p:blipFill>
        <p:spPr>
          <a:xfrm>
            <a:off x="3581280" y="1523880"/>
            <a:ext cx="4876920" cy="3565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93" name=""/>
          <p:cNvSpPr/>
          <p:nvPr/>
        </p:nvSpPr>
        <p:spPr>
          <a:xfrm>
            <a:off x="5638680" y="533412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used to determine both airsp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s for helicopters and urban routes for evacuation veh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9051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 Planning Agent (MokSAF_RP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lays t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s within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kSAF_RPA: Playing Different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icopter navigation through Kuwait Airsp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kSAF_RPA was wrapped within a TEAMCORE ag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ible for identifying routes that avoid no-fly z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cuation route planning / replanning  through downtown Kuwa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62120" y="2971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kSAF_RPA registered within the RETSINA agent commun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ies initial route from the US Embassy to the airp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an explosion is detected, a new route is determ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ly, JFC selects an alternative rendezvous and a third route is fou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01600" y="4589640"/>
          <a:ext cx="182880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4589640"/>
                    <a:ext cx="1828800" cy="1280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873000" y="59626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rom the US Embassy to the Air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73400" y="59626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 road block was re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114800" y="4648320"/>
          <a:ext cx="198108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648320"/>
                    <a:ext cx="1981080" cy="1222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86600" y="59594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hange of Rendezv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238880" y="3657600"/>
          <a:ext cx="112572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3657600"/>
                    <a:ext cx="1125720" cy="22096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462720" y="1219320"/>
          <a:ext cx="1919160" cy="10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2720" y="1219320"/>
                    <a:ext cx="1919160" cy="1098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546960" y="2362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uwait Air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181480"/>
            <a:ext cx="152640" cy="152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495680" y="5181480"/>
            <a:ext cx="152640" cy="152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47920" y="1523880"/>
            <a:ext cx="647676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 InterOperator Agents are Middle 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wo RETSINA InterOperators for three different Multi-Agent Systems [MAS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Ss:  RETSINA, Grid, O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-Grid_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-OAA_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ort Multi-Agent System Interop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 advertisement and unadvertisement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 agent communication languages [ACL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 agent query and message sending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 and represent agent state in foreign MAS until transactions have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 InterOperators Facilitate MASs as Open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gents of different MASs can discover each others'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gents of different MASs locate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gents can coordinate service requests across MAS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gents can share information across MAS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ort Multi-Agent System Scal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e-Many: One InterOperator can access all the capabilities of a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ultiple InterOperators can obviate message traffic bottlene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terOperator functions at Middle Agent level for maximum gene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55920" y="45720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InterOperato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oing obsolet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ng a shared understanding of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ng consensus &amp;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/lockin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594360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RETSINA-OAA_InterOperator, both the RETSINA Multi-Agent System (left) and the OAA MAS (right) have access to each others'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6400" y="45720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-OAA_Inter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screenshot2" descr=""/>
          <p:cNvPicPr/>
          <p:nvPr/>
        </p:nvPicPr>
        <p:blipFill>
          <a:blip r:embed="rId1"/>
          <a:stretch/>
        </p:blipFill>
        <p:spPr>
          <a:xfrm>
            <a:off x="1295280" y="1409760"/>
            <a:ext cx="6324840" cy="445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1523880"/>
            <a:ext cx="647712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-Grid_Inter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ocates OAA Facilitator via the Grid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vides location service for the RETSINA-OAA_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s and transmits RETSINA log messages to the Grid Logging Fac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-OAA_Inter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nitors RETSINA Matchmaker for Un/Advertisement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nitors OAA Facilitator for Un/Advertisement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s and Registers RETSINA Advertisements with OAA Facili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s and Registers OAA Solvables with RETSINA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s RETSINA Messenger queries to OAA 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s RETSINA Messenger messages to OAA I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lates OAA Flight, Phone, Weather Agent replies to RETSINA Messenger 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 Giampapa, M. Paolucci, and K. Sycara. Agent Interoperation Across Multiagent System Boundaries.  Proceedings of The Fourth International Conference on Autonomous Agents, Barcelona, Spain, June 3-7, 2000. Forthcom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87120" y="45720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InterOperators in the NEO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"/>
          </p:cNvPr>
          <p:cNvSpPr/>
          <p:nvPr/>
        </p:nvSpPr>
        <p:spPr>
          <a:xfrm>
            <a:off x="1296000" y="5181480"/>
            <a:ext cx="291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cmu.edu/~softagents/mas_interop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WeaAgeKuw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114800" cy="369252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231" name=""/>
          <p:cNvSpPr/>
          <p:nvPr/>
        </p:nvSpPr>
        <p:spPr>
          <a:xfrm>
            <a:off x="2516400" y="45720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WeatherCNN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3809880"/>
            <a:ext cx="723924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 WeatherCNN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RETSINA Informat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presents CNN weather information t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he NEO 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vertises with the RETSINA Match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ross-registers with the OAA Facilitator via the RETSINA-OAA_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osen by the RETSINA Messenger after the OAA Intellicast Weather Agent fails to reply to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ts results are displayed in the RETSINA Messenger and by a 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WebMatB+C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201480" y="45720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Web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3880" y="1380960"/>
            <a:ext cx="6553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vides URL recommendations based on a continuously updated user 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ers ever more relevant web documents based on the "Trigger Pairs Model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ach to keyword refi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ponds to user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s features from documents the user finds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corporates selected features into the context of new 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iles a daily personal newspaper with links to documents of interes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77640" y="457200"/>
            <a:ext cx="28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Web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33600" y="3962520"/>
            <a:ext cx="64047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he NEO 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voked by the RETSINA Messengers to display news articles on GAZERS and civil unrest 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5760" y="4648320"/>
            <a:ext cx="65437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. Chen, and K. Sycara. WebMate: A Personal Agent for Browsing and Searching, In Proceeding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nd International Conference on Autonomous Agents and Multi Agent Systems, Minneapolis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, May 10-13,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1607040" y="5410080"/>
            <a:ext cx="33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cmu.edu/~softagents/webmat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3Bom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343400" cy="34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7" name=""/>
          <p:cNvSpPr/>
          <p:nvPr/>
        </p:nvSpPr>
        <p:spPr>
          <a:xfrm>
            <a:off x="2133360" y="45720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SINA Visual Recognition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1120" y="4952880"/>
            <a:ext cx="5109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the NEO 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Visual Recognition Agent communicates "explosion location" and "estim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zone" information to the RETSINA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 Messengers forward the "explosion location" information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A Multimodal Map via the RETSINA 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TSINA Messengers use "explosion location" and "estimated damage zon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s constraints for the RETSINA MokSAF_RPA route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143000"/>
            <a:ext cx="8153280" cy="533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7800" y="3809880"/>
            <a:ext cx="32774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SINA Visual Recognition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RETSINA Informat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presents reconnaissance satellite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gent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2"/>
          </p:cNvPr>
          <p:cNvSpPr/>
          <p:nvPr/>
        </p:nvSpPr>
        <p:spPr>
          <a:xfrm>
            <a:off x="920880" y="4525920"/>
            <a:ext cx="31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cmu.edu/~softagents/visrec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voiceagent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787480" cy="31100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sp>
        <p:nvSpPr>
          <p:cNvPr id="254" name=""/>
          <p:cNvSpPr/>
          <p:nvPr/>
        </p:nvSpPr>
        <p:spPr>
          <a:xfrm>
            <a:off x="2286000" y="685800"/>
            <a:ext cx="45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SINA Voice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304920"/>
            <a:ext cx="81532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752480"/>
            <a:ext cx="8153280" cy="4648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33920" y="3886200"/>
            <a:ext cx="838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20004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200400"/>
            <a:ext cx="152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2954160"/>
            <a:ext cx="34354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uses the CMU Sphinx engine for its speech recognition. More info is available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"/>
          </p:cNvPr>
          <p:cNvSpPr/>
          <p:nvPr/>
        </p:nvSpPr>
        <p:spPr>
          <a:xfrm>
            <a:off x="4800600" y="3487680"/>
            <a:ext cx="3429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speech.cs.cmu.edu/sphinx/Sphin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5280" y="3944880"/>
            <a:ext cx="3424320" cy="11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iceAgent is a plug and play interface agent that can be added to any of our current agent configurations. The agent is triggered by pre-determined combinations of keywords. When it finds one such sequence it sends it to any agent that has indicated interest in speech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2590920"/>
            <a:ext cx="3429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iceAgent is a RETSINA Interface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35440" y="609480"/>
            <a:ext cx="70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VoiceAgent in a NEO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90844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00200"/>
            <a:ext cx="8153280" cy="480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90512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vacuation operation where commanders have to make rapid decisions based on a multitude of information sources it is desirable to know which information is relevant. The VoiceAgent assists a commander by providing speech input during an action. The role of the VoiceAgent during the scenario i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2819520"/>
            <a:ext cx="772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the dialog between commanders and select any keyword sequences that it knows are of special interest for thi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sce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 a keyword sequence in such a way that it can be parsed by any generic agent. This makes the information us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ifferent kinds of agents that do not necessarily have linguistic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05440" y="2133720"/>
            <a:ext cx="621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ABS TIE Demon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67840" y="64771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04/15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6640" y="3200400"/>
            <a:ext cx="7642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operability of Multiagent Systems to Support an Escalating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080" y="4038480"/>
            <a:ext cx="28810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rticipa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BN, CMU RETSINA Group, S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 TIE: the con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O 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existing agents, MAS, services, legac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them inter-operate: resolve conflicts, build interoperability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human/MAS collaboration/inter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agent and legacy (re-)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robustness via agent substitu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nts in the NEO TIE do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the critical decisions (but may advi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cuate (but may plan for, monitor and display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a Large Buy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brokers must coordinat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 proportion of order remaining to be f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s on own and partners’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/adjust for others’ not yet registered transa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consensus/default li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Coherent communication of meaningful content between two heterogeneous 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Functional substitutability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“Agentification” of legac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daptation at different levels: interfaces, MAS organization, singl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Collaboration:human-human, human-agent, 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tific and Technical Con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s Lear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and MAS may be a promising technology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information and pace of change are  overwhel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, information and resour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tise and activity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centr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need for flexibility and robustness in face of uncertainty and partial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ion of pre-existing systems is advantage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Agent-based Te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id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individual team members in completion of their own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a subtask(s) to the agent as if it was another team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the team as a 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Design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 planning, replanning, execution monitoring and information gathering in a multiagent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oordina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appropriat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-to-agent task deleg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through agent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t Coordination and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209680"/>
            <a:ext cx="457200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System 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ability of System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Performanc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 in Agent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7040" y="5105520"/>
            <a:ext cx="603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cara, Pannu, Williamson, Zeng, Decker, “Distributed Intelligent Agents”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Expert Intelligent Systems &amp; Their Applications, December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gent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information both proactively and rea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al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event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other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ng/filter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Suppor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plans on behalf of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 to changes i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, predict, and provide other enhanced information about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to situations &amp;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dvice &amp; resolve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9:55:15Z</dcterms:created>
  <dc:creator>Anandeep S Pannu</dc:creator>
  <dc:description/>
  <dc:language>en-US</dc:language>
  <cp:lastModifiedBy>John T Grasso</cp:lastModifiedBy>
  <cp:lastPrinted>1999-09-06T03:46:27Z</cp:lastPrinted>
  <dcterms:modified xsi:type="dcterms:W3CDTF">2000-04-17T03:02:33Z</dcterms:modified>
  <cp:revision>18</cp:revision>
  <dc:subject/>
  <dc:title>Demonstration of Open Multi-Agent Systems</dc:title>
</cp:coreProperties>
</file>