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F3D-6843-4E9E-B7C9-E0187741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85B-BEB4-430C-9827-6CBDADFC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5E5-A050-4B19-AB79-41EA7AD1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92B-572E-430D-8142-7D642507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D71-0705-4C19-BD4F-EB95F07D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20A-8B5E-4207-B211-0C558EDF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914-5CFC-496C-898A-15637B0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457-FFF7-4D3E-9665-65D5843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ED7-4F31-4DAF-BA96-B9BB5BB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F69-B4C5-4809-B8CB-08AE290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B08-7F56-431D-A23D-BD0BA10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7C1-464D-4746-BDE7-F90A99C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70E-AB25-49FC-BABF-81AD5B27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Chain Dynamics &amp;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 katia@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Chai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ier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ourcing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 supply to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ion capacity planning &amp; 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ation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Ch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y chain management is a multi agent-multi organization coordin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resource allocation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a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uncertain and 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promis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supply chain management by providing a universal format for exchang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 the activities across departments and systems within th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 the organization’s activities with its customers and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t all in real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lready talked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ing supply &amp; demand through auction and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alk will focus on dynamic resource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 &amp;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1:31:57Z</dcterms:created>
  <dc:creator>Katia Sycara</dc:creator>
  <dc:description/>
  <dc:language>en-US</dc:language>
  <cp:lastModifiedBy>John T Grasso</cp:lastModifiedBy>
  <dcterms:modified xsi:type="dcterms:W3CDTF">2000-04-17T03:02:53Z</dcterms:modified>
  <cp:revision>1</cp:revision>
  <dc:subject/>
  <dc:title>Supply Chain Dynamics &amp; Scheduling</dc:title>
</cp:coreProperties>
</file>