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860E-7F60-4C3A-8C70-1A4523FF8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18BD-312D-416E-BC50-F684E0EBC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C7CF-0B71-4862-99F2-AAE74C72E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A3F7-C75E-45A9-BE19-3C366EEEC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A892-FB69-4167-9CC1-138EF7514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34D6-7C3D-403C-A069-9DD3C8E53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AC84-4B0E-45C7-B89E-89843AB06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ECA8-0F25-4E83-9C23-4DCD81F6A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C55C-D10A-42BB-94CA-F1F7037C7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A5DA-8CBD-4A69-B943-5C692FDBD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0172-C68D-4A6E-84BF-467DCAB4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1E36-2139-4EC9-93F5-74334AA4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117A6-4B0C-4380-BD3E-3EBE294B6D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lligent Agents – Lecture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ia Syca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obotics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ail: katia@cs.cmu.ed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ww.cs.cmu.edu/~softag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895480" y="5638680"/>
            <a:ext cx="33339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48120" y="4572000"/>
            <a:ext cx="1295280" cy="9907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c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8120" y="4572000"/>
            <a:ext cx="1295280" cy="990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N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962520" y="2362320"/>
            <a:ext cx="1218960" cy="990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257800" y="4495680"/>
            <a:ext cx="1295280" cy="9907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c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2362320"/>
            <a:ext cx="1295280" cy="9903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c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0" y="3733920"/>
            <a:ext cx="1295280" cy="9903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c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0" y="2209680"/>
            <a:ext cx="1295280" cy="9907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c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86200" y="2362320"/>
            <a:ext cx="1295280" cy="9903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c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5181480" y="2666880"/>
            <a:ext cx="175284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181480" y="2971800"/>
            <a:ext cx="175284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876920" y="3276720"/>
            <a:ext cx="76176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3886200" y="3276720"/>
            <a:ext cx="3808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2666880" y="3276720"/>
            <a:ext cx="60984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343400" y="4952880"/>
            <a:ext cx="9144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962520" y="3352320"/>
            <a:ext cx="3808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it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ntractee should commit to task performance and a manager, not to terminate contract, bu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ring execution, contractee may receive a more profitable task, or manager - a better b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f-interest will result in de-commitm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prevent losses - need for enforc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-commitment penalties, leveled commit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dging against risk: pricing a contract like an option, taking into account future via probabilities of eve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a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Contingency contrac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when probability of future events is known, similar to mixed Na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this is, in general, exponentially compl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Leveled commitment contrac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allow unilateral de-commitment at any time, penalties set in adv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f-interested agents may avoid beneficial de-commitment based on chance that the other party do 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optimal, but better than non-level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Option pric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(complete knowledge, infinite marke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y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ality analysis of previous contracts assumes that agents are sincere: reveal their real marginal cost when they bid, their tas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it is beneficial to lie about costs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about tasks: hide, phantom, gene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munity to ly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e deals (disjoint tasks): not immu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xed deals (probability distribution): phantom immu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-or-nothing (mixed, one agent handles): immu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u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entralized protocol, includes one auctioneer and multiple bid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uctioneer puts a good for sale. In some cases, the good may be a combination of other goods, or a good with multiple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idders make offers. This may be repeated for several times, depending on the auction t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uctioneer determines the win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uctions: 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ually easier to prevent bidder ly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e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alized: a single point of  fail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-attribute exponentially compl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s collusion “behind the scen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favor the auctione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uction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Private val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the value of a good to a bidder agent depends only on its private preferences. Assumed to be known exac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Common val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the good’s value depends entirely on other agents’ val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Correlated val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the good’s value depends on internal and external valu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uction Protoc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glish auction (aka first-price open-cry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dders free to raise their b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d: no more raises, winner: highest bidder at bi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ent strategy: a series of bids, based on private value, estimates of others’ valuations, their past b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minant strategy: bid a small amount more than current highest bid, stop when private value reac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correlated valu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ctioneer increases price by constant or other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-exit allows to quit without re-entry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Protoc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-price sealed-bid au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bidder submits one bid, not knowing other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est wins, pays his b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ent strategy: function  of private value and beliefs about others’ valu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dominant strategy. Best: bid less than true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much less? Nash is computable if probability distribution of agents’ values is kn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n agents, uniform value distribution, agent i has value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is Nash if each agent i bids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-1)/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et More Au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tch auction (decending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eller lowers the price until a bidder takes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ategically, equivalent to first-price sealed-b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antage: auctioneer can accelerate a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-pay au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bidder pays its bid to the auctione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types of such auctions are used for resource (re-)al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me The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got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al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Commerce D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ckrey (second-price sealed-bi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bidder submits one bid, not knowing other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ighest bid wins, but bidder pays second-highest b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ent strategy: base bid on private value and beliefs about others’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minant strategy: bid true 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it bids more and this increment made him win, the agent ends up with a loss, since it may pay more that its tru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it bids less, there is a smaller chance of winning (but winning price is no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ning: bid true value regardless of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, Which Auction is Bett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ation: auctions with dominant strategies (Vickrey and English) are more efficient - no need to speculate regarding other bid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ctioneer’s revenu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-price is less than the true price, however first-price bidders under-bid. Which effect is strong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risk-neutral bidders with private independent values, the effects are equival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risk-averse bidders, Dutch and first-price sealed-bid auctions maximize auctioneer’s reven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are revenues equival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l Au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real auctions, values are not priv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a result, for 3 or more bidders, English auctions provides auctioneer revenue higher than Vickrey do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anation: when it observes other bidders increasing their bid, a bidder increases its own valuation of the g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 English and Vickrey are better for the auctioneer than Dutch and first-price sealed-b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dder can coordinate their bids to lower th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English and Vickrey auctions, collusion is a dominant Strategy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ents a,b,c values of the good are 10,10,12, respectivel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can agree to bid 5,5,6 respectiv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one defects, all observe that, and can increase to real value, so there is no benefit from defec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oiding Coll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first-price sealed-bid and Dutch auctions, bidder collusion is not dominant, but possib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 previous example, after a,b,c decided on bidding 5,5,6, it is beneficial for a,b to bid more than 5. For any bid of c below 10 they can bid and w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first-price sealed-bid, Vickrey and Dutch auctions, all bidders must identify each other and collude jointly. External bidder can w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English auction identifying is through bidding. Computerize anonymization can prevent identification and coll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incere Auctione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8380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vate value auc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ckrey: auctioneer can overstate the second highest bid to the win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ution: electronic sign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auctions do not motivate auctioneer lying, since the winner pays its b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-private valu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glish: auctioneer can use shills that bid in the auction to increase real bidders 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auction: auctioneer may bid, to guarantee a minimum pr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Auctioneer Bi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Vickrey auction, auctioneer is motivated to bid over its true reservation pr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case his bid is second, it determines the good’s price higher than the reservation pr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the other hand, auctioneer may win although others value the good at more than reservation pr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sincere Bidd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-private valu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ner’s curse: an agent that bids its true value and wins knows that it was too hi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means the a win is a loss (of mone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, agents should bid less than true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the best strategy even in Vickrey (unlike private value Vickre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vate value, Vickre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minant truthful bidding reveals true valu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may be disadvantageou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79840" indent="-1756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subcontracting, subcontractors may re-negoti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uctions of Interrelated Go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e homogeneous goods: truth revelation of Vickrey ho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terogeneous goods, one at a time, interdependent valu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optimal bidding, agents need full lookah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then agents don’t bid true values per g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ocol modifications to overcome th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ol of goods at a single a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 decommitemt, with penalt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: lookahead requires spec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got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cess by which two or more agents reach a joint decision, each trying to achieve an individual goal/objective. Includ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nversation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ecision process (by which an agent decides upon its position, concessions, criteria for agre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performed 1:1, 1:N, N: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include a single shot message by each party or conversation with several messages going back and for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tocols and Strateg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tocol (aka mechanism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a set of rules and behaviors to be followed by agents who participate in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llowing the rules of a protocol is to an agent’s discretion, though deviation may leave it “out of the game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trateg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one of the possible actions an agent can select given the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not dictated (or provided) by the protoco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usually the result of the agent’s reasoning and decisions, based on local algorithms and inf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gotiation Desired Proper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Efficienc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little time spent on arriving at agre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Stabil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once an agreement is reached, agents should stick to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Simplic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computation and communication overheads should be sm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Distribu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there should not be a central decision mak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Symmet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the mechanism should not be bi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 on One Negot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00400" y="205740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05520" y="205740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07120" y="198108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819520" y="609588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800600" y="609588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523880" y="1981080"/>
            <a:ext cx="1333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gent 1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791320" y="1981080"/>
            <a:ext cx="1333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gent 2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" name=""/>
          <p:cNvSpPr/>
          <p:nvPr/>
        </p:nvSpPr>
        <p:spPr>
          <a:xfrm>
            <a:off x="3200400" y="2666880"/>
            <a:ext cx="1905120" cy="457200"/>
          </a:xfrm>
          <a:prstGeom prst="rightArrow">
            <a:avLst>
              <a:gd name="adj1" fmla="val 50000"/>
              <a:gd name="adj2" fmla="val 10417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ropo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00400" y="5257800"/>
            <a:ext cx="1905120" cy="457200"/>
          </a:xfrm>
          <a:prstGeom prst="rightArrow">
            <a:avLst>
              <a:gd name="adj1" fmla="val 50000"/>
              <a:gd name="adj2" fmla="val 10417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ppr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00400" y="3352680"/>
            <a:ext cx="1905120" cy="457200"/>
          </a:xfrm>
          <a:prstGeom prst="leftArrow">
            <a:avLst>
              <a:gd name="adj1" fmla="val 50000"/>
              <a:gd name="adj2" fmla="val 104173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unter-prop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00400" y="3886200"/>
            <a:ext cx="1905120" cy="457200"/>
          </a:xfrm>
          <a:prstGeom prst="rightArrow">
            <a:avLst>
              <a:gd name="adj1" fmla="val 50000"/>
              <a:gd name="adj2" fmla="val 10417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revised-pro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00400" y="4800600"/>
            <a:ext cx="1905120" cy="457200"/>
          </a:xfrm>
          <a:prstGeom prst="leftArrow">
            <a:avLst>
              <a:gd name="adj1" fmla="val 50000"/>
              <a:gd name="adj2" fmla="val 104173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cept/re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685800" y="3467160"/>
            <a:ext cx="2133360" cy="1126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714" y="734"/>
                </a:moveTo>
                <a:arcTo wR="10800" hR="10800" stAng="-4124942" swAng="18967296"/>
                <a:lnTo>
                  <a:pt x="10800" y="10800"/>
                </a:lnTo>
                <a:close/>
              </a:path>
              <a:path fill="none" w="21600" h="21600">
                <a:moveTo>
                  <a:pt x="14714" y="734"/>
                </a:moveTo>
                <a:arcTo wR="10800" hR="10800" stAng="-4124942" swAng="18967296"/>
              </a:path>
            </a:pathLst>
          </a:custGeom>
          <a:noFill/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s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5486400" y="3467160"/>
            <a:ext cx="2133360" cy="1126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714" y="734"/>
                </a:moveTo>
                <a:arcTo wR="10800" hR="10800" stAng="-4124942" swAng="18967296"/>
                <a:lnTo>
                  <a:pt x="10800" y="10800"/>
                </a:lnTo>
                <a:close/>
              </a:path>
              <a:path fill="none" w="21600" h="21600">
                <a:moveTo>
                  <a:pt x="14714" y="734"/>
                </a:moveTo>
                <a:arcTo wR="10800" hR="10800" stAng="-4124942" swAng="18967296"/>
              </a:path>
            </a:pathLst>
          </a:custGeom>
          <a:noFill/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s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895480"/>
            <a:ext cx="7617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2362320" y="289548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819520" y="35812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19520" y="4114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2590560" y="44193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362320" y="46483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5105520" y="358092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4114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5105160" y="44956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5105520" y="457200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44956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Deta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of negotiation: arrive at an agreement beneficial to all pa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ly, parties may have different belief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, a proposal and a counter-proposal are not merely an offer for an agreement - they are an attempt to change the beliefs of the other pa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liefs are based on facts and justif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MAS, Truth Maintenance Systems (TMS), utilizing logic, serve for belief maintenance and rev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only includes: internal, external,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re Auctions a Negotiation Protocol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uctions, the protocol does not assume, and attempts to prevent, inter-agent co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ctions centralize the comme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number of buyer-bidders is small, the final price may be far lower than reservation pri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nable maximal exploitation of cooperation opportunities, thus payoff maximization, there is a need for free, elaborate, one on one, and many to many negot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operation via Coal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alition: a set of agents that agree to cooperate to execute a task/achieve a go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ents have different expertise and capac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sks require cooperation of different agents for their execution (in terms of reasoning/performa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sk have values, depend on coalition me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perform tasks and increase benefits agents may need to cooperate via coalition 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portation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ransportation company needs to mobilize 10 passen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has access to cars, vans, buses and helicopters, all are possibly self-interested service provi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ar can take 3 passengers, a van can take 7, a bus can take 50 and an helicopter can take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vehicle is priced differently and has different speed and comf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engers are willing to pay a fixed amou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mpany needs to find the best, or at least a good, combination of vehicles for the ta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sues in Coalition 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the tasks and the other agents, which coalitions should an agent attempt to for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mechanism can an agent use for coalition forma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guarantees regarding efficienc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quality of task performance can the mechanism provi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ce a coalition has formed, how should its members go about distribution of work/payoff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alition Formation: Sol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f-interest vs. benevolence: the mechanisms for benevolent agents are usually much simpler, as such agents do not need means to maintain their own payoff max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ntralization vs. distribution: central design of coalitions is usually much simpler to execute and enforce than a distributed one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vironment super-additivity: in super-additive environments any unification of two coalitions increases overall payoff. Strongly influences the mechanis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597040" y="1301760"/>
            <a:ext cx="1206720" cy="8254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54240" y="3892680"/>
            <a:ext cx="1206720" cy="8254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25440" y="2673360"/>
            <a:ext cx="1206720" cy="8254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15960" y="4425840"/>
            <a:ext cx="1206360" cy="8254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21480" y="2978280"/>
            <a:ext cx="1206360" cy="8254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254640" y="4807080"/>
            <a:ext cx="1206720" cy="8254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92680" y="4959360"/>
            <a:ext cx="1206360" cy="8254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550280" y="2825640"/>
            <a:ext cx="1206360" cy="8254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64480" y="996840"/>
            <a:ext cx="1206360" cy="8254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654440" y="692280"/>
            <a:ext cx="1206720" cy="8254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44560" y="1073160"/>
            <a:ext cx="1206360" cy="8254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68640" y="2749680"/>
            <a:ext cx="1206720" cy="8254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492880" y="1835280"/>
            <a:ext cx="1206360" cy="8254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25440" y="1987560"/>
            <a:ext cx="1435320" cy="520560"/>
          </a:xfrm>
          <a:prstGeom prst="rect">
            <a:avLst/>
          </a:prstGeom>
          <a:solidFill>
            <a:srgbClr val="c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24080" y="2039760"/>
            <a:ext cx="1238040" cy="4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1(b1,b2,b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3680" y="463680"/>
            <a:ext cx="3492360" cy="3187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rot="18060000">
            <a:off x="-212400" y="2022120"/>
            <a:ext cx="5054760" cy="2784600"/>
          </a:xfrm>
          <a:prstGeom prst="ellipse">
            <a:avLst/>
          </a:prstGeom>
          <a:noFill/>
          <a:ln w="5076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-1676520" y="432000"/>
            <a:ext cx="6098760" cy="5590440"/>
            <a:chOff x="-1676520" y="432000"/>
            <a:chExt cx="6098760" cy="5590440"/>
          </a:xfrm>
        </p:grpSpPr>
        <p:sp>
          <p:nvSpPr>
            <p:cNvPr id="174" name=""/>
            <p:cNvSpPr/>
            <p:nvPr/>
          </p:nvSpPr>
          <p:spPr>
            <a:xfrm>
              <a:off x="384120" y="689040"/>
              <a:ext cx="4038120" cy="533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8" y="0"/>
                  </a:moveTo>
                  <a:arcTo wR="10800" hR="10800" stAng="-5397297" swAng="1468408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8" y="0"/>
                  </a:moveTo>
                  <a:arcTo wR="10800" hR="10800" stAng="-5397297" swAng="14684087"/>
                </a:path>
              </a:pathLst>
            </a:custGeom>
            <a:noFill/>
            <a:ln cap="rnd" w="5076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-1676520" y="432000"/>
              <a:ext cx="4267080" cy="3660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439" y="4318"/>
                  </a:moveTo>
                  <a:arcTo wR="10800" hR="10800" stAng="-2212978" swAng="63235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9439" y="4318"/>
                  </a:moveTo>
                  <a:arcTo wR="10800" hR="10800" stAng="-2212978" swAng="6323510"/>
                </a:path>
              </a:pathLst>
            </a:custGeom>
            <a:noFill/>
            <a:ln cap="rnd" w="5076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212920" y="685800"/>
              <a:ext cx="456840" cy="1067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0" y="11729"/>
                  </a:moveTo>
                  <a:arcTo wR="10800" hR="10800" stAng="10504023" swAng="5672104"/>
                  <a:lnTo>
                    <a:pt x="10800" y="10800"/>
                  </a:lnTo>
                  <a:close/>
                </a:path>
                <a:path fill="none" w="21600" h="21600">
                  <a:moveTo>
                    <a:pt x="40" y="11729"/>
                  </a:moveTo>
                  <a:arcTo wR="10800" hR="10800" stAng="10504023" swAng="5672104"/>
                </a:path>
              </a:pathLst>
            </a:custGeom>
            <a:noFill/>
            <a:ln cap="rnd" w="5076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12720" y="3965400"/>
              <a:ext cx="1523880" cy="1067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68"/>
                  </a:moveTo>
                  <a:arcTo wR="10800" hR="10800" stAng="-10789769" swAng="526806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68"/>
                  </a:moveTo>
                  <a:arcTo wR="10800" hR="10800" stAng="-10789769" swAng="5268066"/>
                </a:path>
              </a:pathLst>
            </a:custGeom>
            <a:noFill/>
            <a:ln cap="rnd" w="5076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3587760" y="2139840"/>
            <a:ext cx="1130400" cy="520920"/>
          </a:xfrm>
          <a:prstGeom prst="rect">
            <a:avLst/>
          </a:prstGeom>
          <a:solidFill>
            <a:srgbClr val="c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686040" y="2192400"/>
            <a:ext cx="93348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2(b2,b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18840000">
            <a:off x="2934360" y="694080"/>
            <a:ext cx="1946520" cy="3411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11240" y="5111640"/>
            <a:ext cx="1587600" cy="520920"/>
          </a:xfrm>
          <a:prstGeom prst="rect">
            <a:avLst/>
          </a:prstGeom>
          <a:solidFill>
            <a:srgbClr val="c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09880" y="5164200"/>
            <a:ext cx="139068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4(b1,b3,b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5080" y="3740040"/>
            <a:ext cx="5092560" cy="2578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02360" y="844560"/>
            <a:ext cx="520560" cy="673200"/>
          </a:xfrm>
          <a:prstGeom prst="rect">
            <a:avLst/>
          </a:prstGeom>
          <a:solidFill>
            <a:srgbClr val="c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200640" y="896760"/>
            <a:ext cx="32400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25840" y="311040"/>
            <a:ext cx="3797280" cy="2425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02560" y="4121280"/>
            <a:ext cx="596880" cy="672840"/>
          </a:xfrm>
          <a:prstGeom prst="rect">
            <a:avLst/>
          </a:prstGeom>
          <a:solidFill>
            <a:srgbClr val="c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800840" y="4173480"/>
            <a:ext cx="40032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92504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={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...,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set of 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dynami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= {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...,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set of 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ask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dynami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ent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pabil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its ability to perform a specific task type j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ccess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 (dynamic) - affects i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pac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performing ta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ource amounts in the system are limi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task requires capabilities and capac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sks have duration and deadl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ion of ti by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has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,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m2</a:t>
            </a:r>
            <a:r>
              <a:rPr b="0" lang="en-US" sz="2800" spc="-1" strike="noStrike" baseline="50000">
                <a:solidFill>
                  <a:srgbClr val="000000"/>
                </a:solidFill>
                <a:latin typeface="Times New Roman"/>
              </a:rPr>
              <a:t>n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sible values (static ca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bility and Equilib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multiple stability concepts. In game theory, the notion of equilibrium is us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dominant strateg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the agents have some strategies that, regardless of what others do, maximize payo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Nash equilibriu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the agents have strategies that, as long as other stick to their’s, maximize payo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Mixed N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the agents each have a set of strategies from among which they select one with some prob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Bayes-N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dds history to the previous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earch in Coalition 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me theory - elegant mathematical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Aumann94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alized, expon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 computational  mech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I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Ketchpel94, Zlotkin&amp;Rosenschein94, Shehory&amp;Kraus95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entralized, reduced complex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 coalition formation mechanis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c solutions, restrictive assump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ic sets of agents, tasks,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tion broadcast to all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f-Interested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game theory: coalition ga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solutions exist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rnel (bilater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e (multilateral), may be emp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s includ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alition configuration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yment vector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ions of stability/optim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me Theoretic Proper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of agents is kn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s of agents kn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terogeneity: not of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e equilibria points in a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equilibria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ation usually hyper-exponenti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strategic form, transformation comple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alized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mita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alition Form Games (CFG) assume unique, independent coalition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values depend on task, on resources, on performance quality, and on other gro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s do not provide an algorithm for an agent to arrive at it, are not distribu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onentially compl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-valued, have no selection crite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bility/optimality - assumption depend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Relief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some environments (e.g. super-additive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ion is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ation can be polynom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may be a unique 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environments are not super-add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lue dependency is not resol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unique solution still requires agreement on solution con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an be done 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 a solution concept an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une the solution search space (how?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an algorithm for the single agent to maximize its utility given the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gn mechanism to motivate agents to fol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sure that algorithm+mechanism arrive at stability and near optimum (which are?) given the modif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 a mechanism from scratch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good luc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553080" y="1905120"/>
            <a:ext cx="1219320" cy="335268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657600" y="1905120"/>
            <a:ext cx="1219320" cy="3352680"/>
          </a:xfrm>
          <a:prstGeom prst="rect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90720" y="1905120"/>
            <a:ext cx="1218960" cy="33526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rtual Market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248520" y="2286000"/>
            <a:ext cx="1849320" cy="3020040"/>
          </a:xfrm>
          <a:prstGeom prst="rect">
            <a:avLst/>
          </a:prstGeom>
          <a:noFill/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uy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" y="2514600"/>
            <a:ext cx="1752480" cy="265428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81280" y="1447920"/>
            <a:ext cx="1360440" cy="44838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rk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666880" y="3276720"/>
            <a:ext cx="762120" cy="761760"/>
          </a:xfrm>
          <a:prstGeom prst="leftRightArrow">
            <a:avLst>
              <a:gd name="adj1" fmla="val 50000"/>
              <a:gd name="adj2" fmla="val 19917"/>
            </a:avLst>
          </a:prstGeom>
          <a:solidFill>
            <a:srgbClr val="000000"/>
          </a:solidFill>
          <a:ln w="9360">
            <a:solidFill>
              <a:srgbClr val="ffff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105520" y="3276720"/>
            <a:ext cx="761760" cy="76176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000000"/>
          </a:solidFill>
          <a:ln w="9360">
            <a:solidFill>
              <a:srgbClr val="ffff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Coalitions for E-Commer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wholesale markets, purchasing more of the same product reduces price per un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lers benefit from selling more and spending less on marketing/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yers usually do not need large quant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orm coalitions of buyers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icult to find other buy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agreement on profit and product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ution is simpler via buyers’ ag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others, form coalitions, negotiate with sell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alitions in the Virtual Mark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0880" y="1600200"/>
            <a:ext cx="5943600" cy="39625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6834240" y="1752480"/>
            <a:ext cx="1852560" cy="10954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6781680" y="3886200"/>
            <a:ext cx="1847880" cy="114156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762120" y="1752480"/>
            <a:ext cx="1523880" cy="762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843520" y="2133720"/>
            <a:ext cx="990720" cy="457200"/>
          </a:xfrm>
          <a:prstGeom prst="leftArrow">
            <a:avLst>
              <a:gd name="adj1" fmla="val 50000"/>
              <a:gd name="adj2" fmla="val 54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791320" y="4267080"/>
            <a:ext cx="990360" cy="457200"/>
          </a:xfrm>
          <a:prstGeom prst="leftArrow">
            <a:avLst>
              <a:gd name="adj1" fmla="val 50000"/>
              <a:gd name="adj2" fmla="val 5415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62120" y="2743200"/>
            <a:ext cx="1523880" cy="762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al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tch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62120" y="3733920"/>
            <a:ext cx="1523880" cy="76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goti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tch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971800" y="4419720"/>
            <a:ext cx="914400" cy="838080"/>
          </a:xfrm>
          <a:prstGeom prst="ellipse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ll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0" y="4419720"/>
            <a:ext cx="914400" cy="838080"/>
          </a:xfrm>
          <a:prstGeom prst="ellipse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ll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62120" y="4648320"/>
            <a:ext cx="1523880" cy="76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talo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rot="10800000">
            <a:off x="3200040" y="2133360"/>
            <a:ext cx="1981080" cy="990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al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800600" y="1905120"/>
            <a:ext cx="914400" cy="8380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uy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666880" y="1905120"/>
            <a:ext cx="914400" cy="8380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uy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09880" y="2819520"/>
            <a:ext cx="914400" cy="8380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uy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rot="2700000">
            <a:off x="3619080" y="3467160"/>
            <a:ext cx="381240" cy="1066680"/>
          </a:xfrm>
          <a:prstGeom prst="upDownArrow">
            <a:avLst>
              <a:gd name="adj1" fmla="val 50000"/>
              <a:gd name="adj2" fmla="val 556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8900000">
            <a:off x="4495680" y="3504960"/>
            <a:ext cx="381240" cy="1066680"/>
          </a:xfrm>
          <a:prstGeom prst="upDownArrow">
            <a:avLst>
              <a:gd name="adj1" fmla="val 50000"/>
              <a:gd name="adj2" fmla="val 556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ign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eak up into teams of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nk of an intelligent agent solution to a problem in your company invol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chmaking, auctions, negotiation, or coal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are a 15 minute presentation detail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gent-based 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vantages &amp; disadvantages of agent-based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isoner’s Dilem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09480" y="1832040"/>
          <a:ext cx="7886880" cy="4278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832040"/>
                    <a:ext cx="7886880" cy="42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 Pure Nash Equilibri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609480" y="1828800"/>
          <a:ext cx="7886880" cy="4229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828800"/>
                    <a:ext cx="788688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xed Na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yer 1 will cooperate with probability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defect with probability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yer 2 will cooperate with probability 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defect with probability 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ected utility of an agent is the utility from a strategy times the probability of this strategy being sel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re are multiple possibilities, the expected utility is a sum over these possibilities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gedy of Common Go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tion on the web is (mostly) f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ents that seek up to date information may query web site as frequently as des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all agents will do so, the network will be overly congested, and some servers will cra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is it undesirable to behave this w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all (or most) of the agents prevent congestion, it is in the best interest of each individual agent to increase network use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ontract Net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gent coordination and distributed task allocation mechanism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 heterogeneous agents can perform ta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ents can play two roles: managers, contract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gers receive tasks, select prospective contractees and ask for b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st bid wins task, performs it, manager moni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s and c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 to implement, base for many other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y distribu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ormance quality not chec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y to manipulate (free riders), may cause lo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4T17:04:27Z</dcterms:created>
  <dc:creator>Onn M Shehory</dc:creator>
  <dc:description/>
  <dc:language>en-US</dc:language>
  <cp:lastModifiedBy>John T Grasso</cp:lastModifiedBy>
  <cp:lastPrinted>1999-09-16T17:03:31Z</cp:lastPrinted>
  <dcterms:modified xsi:type="dcterms:W3CDTF">2000-04-17T03:00:41Z</dcterms:modified>
  <cp:revision>20</cp:revision>
  <dc:subject/>
  <dc:title>Intelligent Agents - Lecture 6 </dc:title>
</cp:coreProperties>
</file>